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wmf" ContentType="image/x-wmf"/>
  <Override PartName="/ppt/media/image28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3.jpeg" ContentType="image/jpeg"/>
  <Override PartName="/ppt/media/image2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2_3">
  <dgm:title val=""/>
  <dgm:desc val=""/>
  <dgm:catLst>
    <dgm:cat type="accent2" pri="11300"/>
  </dgm:catLst>
  <dgm:styleLbl name="node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shade val="80000"/>
      </a:schemeClr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shade val="80000"/>
      </a:schemeClr>
      <a:schemeClr val="accent2">
        <a:tint val="7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/>
    <dgm:txEffectClrLst/>
  </dgm:styleLbl>
  <dgm:styleLbl name="lnNode1">
    <dgm:fillClrLst>
      <a:schemeClr val="accent2">
        <a:shade val="80000"/>
      </a:schemeClr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tint val="7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sibTrans1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9000"/>
      </a:schemeClr>
    </dgm:fillClrLst>
    <dgm:linClrLst meth="repeat">
      <a:schemeClr val="accent2">
        <a:tint val="99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80000"/>
      </a:schemeClr>
    </dgm:fillClrLst>
    <dgm:linClrLst meth="repeat">
      <a:schemeClr val="accent2">
        <a:tint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9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8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7FE3983-71C1-4DA9-8C37-574D56EFBA0C}" type="doc">
      <dgm:prSet loTypeId="urn:microsoft.com/office/officeart/2005/8/layout/cycle7" loCatId="cycle" qsTypeId="urn:microsoft.com/office/officeart/2005/8/quickstyle/simple3" qsCatId="simple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D91CEF1A-7104-429F-89DD-68DD81FD0C40}">
      <dgm:prSet phldrT="[Текст]"/>
      <dgm:spPr>
        <a:effectLst>
          <a:glow rad="228600">
            <a:schemeClr val="accent1">
              <a:satMod val="175000"/>
              <a:alpha val="40000"/>
            </a:schemeClr>
          </a:glow>
        </a:effectLst>
      </dgm:spPr>
      <dgm:t>
        <a:bodyPr/>
        <a:lstStyle/>
        <a:p>
          <a:r>
            <a:rPr lang="ru-RU" dirty="0" smtClean="0"/>
            <a:t>помощь воспитанникам адаптироваться в быстроменяющихся условиях современности</a:t>
          </a:r>
          <a:endParaRPr lang="ru-RU" dirty="0"/>
        </a:p>
      </dgm:t>
    </dgm:pt>
    <dgm:pt modelId="{6BF7590C-C8DB-462E-8E90-F649D11460A6}" type="parTrans" cxnId="{C7590A82-F238-4ECC-983E-CBB38B1062BC}">
      <dgm:prSet/>
      <dgm:spPr/>
      <dgm:t>
        <a:bodyPr/>
        <a:lstStyle/>
        <a:p>
          <a:endParaRPr lang="ru-RU"/>
        </a:p>
      </dgm:t>
    </dgm:pt>
    <dgm:pt modelId="{28A9F752-7FAE-41FA-8DF8-7B8DF6FD3F45}" type="sibTrans" cxnId="{C7590A82-F238-4ECC-983E-CBB38B1062BC}">
      <dgm:prSet/>
      <dgm:spPr/>
      <dgm:t>
        <a:bodyPr/>
        <a:lstStyle/>
        <a:p>
          <a:endParaRPr lang="ru-RU"/>
        </a:p>
      </dgm:t>
    </dgm:pt>
    <dgm:pt modelId="{464FBFAE-EEF4-445E-8C05-2E61071ABDDB}">
      <dgm:prSet phldrT="[Текст]"/>
      <dgm:spPr>
        <a:effectLst>
          <a:glow rad="228600">
            <a:schemeClr val="accent1">
              <a:satMod val="175000"/>
              <a:alpha val="40000"/>
            </a:schemeClr>
          </a:glow>
        </a:effectLst>
      </dgm:spPr>
      <dgm:t>
        <a:bodyPr/>
        <a:lstStyle/>
        <a:p>
          <a:r>
            <a:rPr lang="ru-RU" dirty="0" smtClean="0"/>
            <a:t>проблема развития творческих способностей младших школьников средствами аппликации</a:t>
          </a:r>
          <a:endParaRPr lang="ru-RU" dirty="0"/>
        </a:p>
      </dgm:t>
    </dgm:pt>
    <dgm:pt modelId="{C0046C32-30C0-4875-A012-7CF869C3C4AE}" type="parTrans" cxnId="{11CE5BF3-EF3B-4569-9B10-8926B4D60455}">
      <dgm:prSet/>
      <dgm:spPr/>
      <dgm:t>
        <a:bodyPr/>
        <a:lstStyle/>
        <a:p>
          <a:endParaRPr lang="ru-RU"/>
        </a:p>
      </dgm:t>
    </dgm:pt>
    <dgm:pt modelId="{A17F239F-CD38-4895-B4F6-D3D7F6730E89}" type="sibTrans" cxnId="{11CE5BF3-EF3B-4569-9B10-8926B4D60455}">
      <dgm:prSet/>
      <dgm:spPr/>
      <dgm:t>
        <a:bodyPr/>
        <a:lstStyle/>
        <a:p>
          <a:endParaRPr lang="ru-RU"/>
        </a:p>
      </dgm:t>
    </dgm:pt>
    <dgm:pt modelId="{04199BA5-0298-43E9-BCDB-6F7844CA0A85}">
      <dgm:prSet phldrT="[Текст]"/>
      <dgm:spPr>
        <a:effectLst>
          <a:glow rad="228600">
            <a:schemeClr val="accent1">
              <a:satMod val="175000"/>
              <a:alpha val="40000"/>
            </a:schemeClr>
          </a:glow>
        </a:effectLst>
      </dgm:spPr>
      <dgm:t>
        <a:bodyPr/>
        <a:lstStyle/>
        <a:p>
          <a:r>
            <a:rPr lang="ru-RU" dirty="0" smtClean="0"/>
            <a:t>социальный заказ родителей воспитанников</a:t>
          </a:r>
          <a:endParaRPr lang="ru-RU" dirty="0"/>
        </a:p>
      </dgm:t>
    </dgm:pt>
    <dgm:pt modelId="{58AC14F4-846F-410A-AA22-D48B9355DBEB}" type="parTrans" cxnId="{92A2D904-A62F-4D7E-A3C0-7FF9DA0575CE}">
      <dgm:prSet/>
      <dgm:spPr/>
      <dgm:t>
        <a:bodyPr/>
        <a:lstStyle/>
        <a:p>
          <a:endParaRPr lang="ru-RU"/>
        </a:p>
      </dgm:t>
    </dgm:pt>
    <dgm:pt modelId="{1E354A7E-28CE-4776-9D2A-B957D186760C}" type="sibTrans" cxnId="{92A2D904-A62F-4D7E-A3C0-7FF9DA0575CE}">
      <dgm:prSet/>
      <dgm:spPr/>
      <dgm:t>
        <a:bodyPr/>
        <a:lstStyle/>
        <a:p>
          <a:endParaRPr lang="ru-RU"/>
        </a:p>
      </dgm:t>
    </dgm:pt>
    <dgm:pt modelId="{80537958-DE91-4D0F-9C41-41193268A43D}" type="pres">
      <dgm:prSet presAssocID="{67FE3983-71C1-4DA9-8C37-574D56EFBA0C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B2F53CF-0997-4115-BBFE-ED754096EF26}" type="pres">
      <dgm:prSet presAssocID="{D91CEF1A-7104-429F-89DD-68DD81FD0C40}" presName="node" presStyleLbl="node1" presStyleIdx="0" presStyleCnt="3" custRadScaleRad="87148" custRadScaleInc="-29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5C05F4-DCB5-4B4B-944F-D9878412E540}" type="pres">
      <dgm:prSet presAssocID="{28A9F752-7FAE-41FA-8DF8-7B8DF6FD3F45}" presName="sibTrans" presStyleLbl="sibTrans2D1" presStyleIdx="0" presStyleCnt="3"/>
      <dgm:spPr/>
      <dgm:t>
        <a:bodyPr/>
        <a:lstStyle/>
        <a:p>
          <a:endParaRPr lang="ru-RU"/>
        </a:p>
      </dgm:t>
    </dgm:pt>
    <dgm:pt modelId="{B17CB575-D3D1-4951-BF84-5F9E6C1DBCCF}" type="pres">
      <dgm:prSet presAssocID="{28A9F752-7FAE-41FA-8DF8-7B8DF6FD3F45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821928C9-4058-4AE9-A5F8-817795E4B956}" type="pres">
      <dgm:prSet presAssocID="{464FBFAE-EEF4-445E-8C05-2E61071ABDDB}" presName="node" presStyleLbl="node1" presStyleIdx="1" presStyleCnt="3" custRadScaleRad="95328" custRadScaleInc="-882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F96829B-F59B-4565-9399-FF8414D68E49}" type="pres">
      <dgm:prSet presAssocID="{A17F239F-CD38-4895-B4F6-D3D7F6730E89}" presName="sibTrans" presStyleLbl="sibTrans2D1" presStyleIdx="1" presStyleCnt="3"/>
      <dgm:spPr/>
      <dgm:t>
        <a:bodyPr/>
        <a:lstStyle/>
        <a:p>
          <a:endParaRPr lang="ru-RU"/>
        </a:p>
      </dgm:t>
    </dgm:pt>
    <dgm:pt modelId="{57B8F12D-24CA-4AED-A827-1089CA363836}" type="pres">
      <dgm:prSet presAssocID="{A17F239F-CD38-4895-B4F6-D3D7F6730E89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CB106939-B0C5-4400-A4EE-1888BAC1034B}" type="pres">
      <dgm:prSet presAssocID="{04199BA5-0298-43E9-BCDB-6F7844CA0A85}" presName="node" presStyleLbl="node1" presStyleIdx="2" presStyleCnt="3" custRadScaleRad="95328" custRadScaleInc="882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8099EFB-4BE6-4F94-933C-DB82E28B7D6F}" type="pres">
      <dgm:prSet presAssocID="{1E354A7E-28CE-4776-9D2A-B957D186760C}" presName="sibTrans" presStyleLbl="sibTrans2D1" presStyleIdx="2" presStyleCnt="3"/>
      <dgm:spPr/>
      <dgm:t>
        <a:bodyPr/>
        <a:lstStyle/>
        <a:p>
          <a:endParaRPr lang="ru-RU"/>
        </a:p>
      </dgm:t>
    </dgm:pt>
    <dgm:pt modelId="{6C5E491C-1131-4D33-B7D1-4CD304521B54}" type="pres">
      <dgm:prSet presAssocID="{1E354A7E-28CE-4776-9D2A-B957D186760C}" presName="connectorText" presStyleLbl="sibTrans2D1" presStyleIdx="2" presStyleCnt="3"/>
      <dgm:spPr/>
      <dgm:t>
        <a:bodyPr/>
        <a:lstStyle/>
        <a:p>
          <a:endParaRPr lang="ru-RU"/>
        </a:p>
      </dgm:t>
    </dgm:pt>
  </dgm:ptLst>
  <dgm:cxnLst>
    <dgm:cxn modelId="{11CE5BF3-EF3B-4569-9B10-8926B4D60455}" srcId="{67FE3983-71C1-4DA9-8C37-574D56EFBA0C}" destId="{464FBFAE-EEF4-445E-8C05-2E61071ABDDB}" srcOrd="1" destOrd="0" parTransId="{C0046C32-30C0-4875-A012-7CF869C3C4AE}" sibTransId="{A17F239F-CD38-4895-B4F6-D3D7F6730E89}"/>
    <dgm:cxn modelId="{4B936BC4-2985-4958-8337-598F955B8D34}" type="presOf" srcId="{A17F239F-CD38-4895-B4F6-D3D7F6730E89}" destId="{57B8F12D-24CA-4AED-A827-1089CA363836}" srcOrd="1" destOrd="0" presId="urn:microsoft.com/office/officeart/2005/8/layout/cycle7"/>
    <dgm:cxn modelId="{2C632D9D-AB06-421D-81D0-B87FD1FEDCAD}" type="presOf" srcId="{28A9F752-7FAE-41FA-8DF8-7B8DF6FD3F45}" destId="{9F5C05F4-DCB5-4B4B-944F-D9878412E540}" srcOrd="0" destOrd="0" presId="urn:microsoft.com/office/officeart/2005/8/layout/cycle7"/>
    <dgm:cxn modelId="{0424B9EC-238C-42C6-861A-F4CBD1F726CD}" type="presOf" srcId="{28A9F752-7FAE-41FA-8DF8-7B8DF6FD3F45}" destId="{B17CB575-D3D1-4951-BF84-5F9E6C1DBCCF}" srcOrd="1" destOrd="0" presId="urn:microsoft.com/office/officeart/2005/8/layout/cycle7"/>
    <dgm:cxn modelId="{7D71EE79-83D4-4D30-BFB0-07999D8E8340}" type="presOf" srcId="{67FE3983-71C1-4DA9-8C37-574D56EFBA0C}" destId="{80537958-DE91-4D0F-9C41-41193268A43D}" srcOrd="0" destOrd="0" presId="urn:microsoft.com/office/officeart/2005/8/layout/cycle7"/>
    <dgm:cxn modelId="{92A2D904-A62F-4D7E-A3C0-7FF9DA0575CE}" srcId="{67FE3983-71C1-4DA9-8C37-574D56EFBA0C}" destId="{04199BA5-0298-43E9-BCDB-6F7844CA0A85}" srcOrd="2" destOrd="0" parTransId="{58AC14F4-846F-410A-AA22-D48B9355DBEB}" sibTransId="{1E354A7E-28CE-4776-9D2A-B957D186760C}"/>
    <dgm:cxn modelId="{C7590A82-F238-4ECC-983E-CBB38B1062BC}" srcId="{67FE3983-71C1-4DA9-8C37-574D56EFBA0C}" destId="{D91CEF1A-7104-429F-89DD-68DD81FD0C40}" srcOrd="0" destOrd="0" parTransId="{6BF7590C-C8DB-462E-8E90-F649D11460A6}" sibTransId="{28A9F752-7FAE-41FA-8DF8-7B8DF6FD3F45}"/>
    <dgm:cxn modelId="{9FDE50D9-E792-4DF0-86BB-9E90F580129A}" type="presOf" srcId="{A17F239F-CD38-4895-B4F6-D3D7F6730E89}" destId="{6F96829B-F59B-4565-9399-FF8414D68E49}" srcOrd="0" destOrd="0" presId="urn:microsoft.com/office/officeart/2005/8/layout/cycle7"/>
    <dgm:cxn modelId="{0A555941-BF52-485E-B3B6-382712E17195}" type="presOf" srcId="{D91CEF1A-7104-429F-89DD-68DD81FD0C40}" destId="{4B2F53CF-0997-4115-BBFE-ED754096EF26}" srcOrd="0" destOrd="0" presId="urn:microsoft.com/office/officeart/2005/8/layout/cycle7"/>
    <dgm:cxn modelId="{9E278E4A-083E-4810-AF1D-B8755BDFB01C}" type="presOf" srcId="{464FBFAE-EEF4-445E-8C05-2E61071ABDDB}" destId="{821928C9-4058-4AE9-A5F8-817795E4B956}" srcOrd="0" destOrd="0" presId="urn:microsoft.com/office/officeart/2005/8/layout/cycle7"/>
    <dgm:cxn modelId="{773556A1-13EF-4578-81EA-026BC1016FD6}" type="presOf" srcId="{1E354A7E-28CE-4776-9D2A-B957D186760C}" destId="{6C5E491C-1131-4D33-B7D1-4CD304521B54}" srcOrd="1" destOrd="0" presId="urn:microsoft.com/office/officeart/2005/8/layout/cycle7"/>
    <dgm:cxn modelId="{0B01EA71-286F-41EB-B242-17D16D2814F4}" type="presOf" srcId="{1E354A7E-28CE-4776-9D2A-B957D186760C}" destId="{88099EFB-4BE6-4F94-933C-DB82E28B7D6F}" srcOrd="0" destOrd="0" presId="urn:microsoft.com/office/officeart/2005/8/layout/cycle7"/>
    <dgm:cxn modelId="{8BBDFE27-FDFA-4116-9B33-4C95F184FCF0}" type="presOf" srcId="{04199BA5-0298-43E9-BCDB-6F7844CA0A85}" destId="{CB106939-B0C5-4400-A4EE-1888BAC1034B}" srcOrd="0" destOrd="0" presId="urn:microsoft.com/office/officeart/2005/8/layout/cycle7"/>
    <dgm:cxn modelId="{69C8A1BD-3E00-48BC-BB55-9511AE13D4FF}" type="presParOf" srcId="{80537958-DE91-4D0F-9C41-41193268A43D}" destId="{4B2F53CF-0997-4115-BBFE-ED754096EF26}" srcOrd="0" destOrd="0" presId="urn:microsoft.com/office/officeart/2005/8/layout/cycle7"/>
    <dgm:cxn modelId="{0F183E70-B4BB-4A10-9BF0-D01CB14C4247}" type="presParOf" srcId="{80537958-DE91-4D0F-9C41-41193268A43D}" destId="{9F5C05F4-DCB5-4B4B-944F-D9878412E540}" srcOrd="1" destOrd="0" presId="urn:microsoft.com/office/officeart/2005/8/layout/cycle7"/>
    <dgm:cxn modelId="{DF01C63A-B206-4D15-ABEF-C51A8A2C5A6D}" type="presParOf" srcId="{9F5C05F4-DCB5-4B4B-944F-D9878412E540}" destId="{B17CB575-D3D1-4951-BF84-5F9E6C1DBCCF}" srcOrd="0" destOrd="0" presId="urn:microsoft.com/office/officeart/2005/8/layout/cycle7"/>
    <dgm:cxn modelId="{A27AD3B0-15E2-4E6F-9F00-B4BDC0FB2196}" type="presParOf" srcId="{80537958-DE91-4D0F-9C41-41193268A43D}" destId="{821928C9-4058-4AE9-A5F8-817795E4B956}" srcOrd="2" destOrd="0" presId="urn:microsoft.com/office/officeart/2005/8/layout/cycle7"/>
    <dgm:cxn modelId="{5B45C25F-5351-4A50-8573-C79E4E4849EB}" type="presParOf" srcId="{80537958-DE91-4D0F-9C41-41193268A43D}" destId="{6F96829B-F59B-4565-9399-FF8414D68E49}" srcOrd="3" destOrd="0" presId="urn:microsoft.com/office/officeart/2005/8/layout/cycle7"/>
    <dgm:cxn modelId="{30839D44-1FB3-4086-97ED-036B7547C142}" type="presParOf" srcId="{6F96829B-F59B-4565-9399-FF8414D68E49}" destId="{57B8F12D-24CA-4AED-A827-1089CA363836}" srcOrd="0" destOrd="0" presId="urn:microsoft.com/office/officeart/2005/8/layout/cycle7"/>
    <dgm:cxn modelId="{EFD8BF7D-44D4-41D9-8664-9F7FD366BE98}" type="presParOf" srcId="{80537958-DE91-4D0F-9C41-41193268A43D}" destId="{CB106939-B0C5-4400-A4EE-1888BAC1034B}" srcOrd="4" destOrd="0" presId="urn:microsoft.com/office/officeart/2005/8/layout/cycle7"/>
    <dgm:cxn modelId="{3250B746-296D-41BA-8D27-A5C8C70E5E97}" type="presParOf" srcId="{80537958-DE91-4D0F-9C41-41193268A43D}" destId="{88099EFB-4BE6-4F94-933C-DB82E28B7D6F}" srcOrd="5" destOrd="0" presId="urn:microsoft.com/office/officeart/2005/8/layout/cycle7"/>
    <dgm:cxn modelId="{A2E11AEB-2175-4838-BA61-CC9D89109CF5}" type="presParOf" srcId="{88099EFB-4BE6-4F94-933C-DB82E28B7D6F}" destId="{6C5E491C-1131-4D33-B7D1-4CD304521B54}" srcOrd="0" destOrd="0" presId="urn:microsoft.com/office/officeart/2005/8/layout/cycle7"/>
  </dgm:cxnLst>
  <dgm:bg>
    <a:noFill/>
  </dgm:bg>
  <dgm:whole>
    <a:ln>
      <a:noFill/>
    </a:ln>
  </dgm:whole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6B2A2A5C-997C-45B3-B270-13F284B2B4BB}" type="doc">
      <dgm:prSet loTypeId="urn:microsoft.com/office/officeart/2005/8/layout/hList6" loCatId="list" qsTypeId="urn:microsoft.com/office/officeart/2005/8/quickstyle/simple4" qsCatId="simple" csTypeId="urn:microsoft.com/office/officeart/2005/8/colors/accent2_3" csCatId="accent2" phldr="1"/>
      <dgm:spPr/>
      <dgm:t>
        <a:bodyPr/>
        <a:lstStyle/>
        <a:p>
          <a:endParaRPr lang="ru-RU"/>
        </a:p>
      </dgm:t>
    </dgm:pt>
    <dgm:pt modelId="{4AADAACC-0DF2-4485-88EF-32111ADCBD10}">
      <dgm:prSet phldrT="[Текст]"/>
      <dgm:spPr/>
      <dgm:t>
        <a:bodyPr/>
        <a:lstStyle/>
        <a:p>
          <a:r>
            <a:rPr lang="ru-RU" dirty="0" smtClean="0"/>
            <a:t>знания</a:t>
          </a:r>
          <a:endParaRPr lang="ru-RU" dirty="0"/>
        </a:p>
      </dgm:t>
    </dgm:pt>
    <dgm:pt modelId="{57383793-7490-4231-88E5-72A511F2E5E0}" type="parTrans" cxnId="{031EF91E-10F9-455C-B70E-C0E8B8F4AF82}">
      <dgm:prSet/>
      <dgm:spPr/>
      <dgm:t>
        <a:bodyPr/>
        <a:lstStyle/>
        <a:p>
          <a:endParaRPr lang="ru-RU"/>
        </a:p>
      </dgm:t>
    </dgm:pt>
    <dgm:pt modelId="{80733E50-DF45-41F2-B17E-30E8EB0B77F4}" type="sibTrans" cxnId="{031EF91E-10F9-455C-B70E-C0E8B8F4AF82}">
      <dgm:prSet/>
      <dgm:spPr/>
      <dgm:t>
        <a:bodyPr/>
        <a:lstStyle/>
        <a:p>
          <a:endParaRPr lang="ru-RU"/>
        </a:p>
      </dgm:t>
    </dgm:pt>
    <dgm:pt modelId="{AC63B483-A139-4449-AF4A-9FC4D779C435}">
      <dgm:prSet phldrT="[Текст]"/>
      <dgm:spPr/>
      <dgm:t>
        <a:bodyPr/>
        <a:lstStyle/>
        <a:p>
          <a:r>
            <a:rPr lang="ru-RU" dirty="0" smtClean="0"/>
            <a:t>умения</a:t>
          </a:r>
          <a:endParaRPr lang="ru-RU" dirty="0"/>
        </a:p>
      </dgm:t>
    </dgm:pt>
    <dgm:pt modelId="{E08FF2AF-B29E-466D-862C-79A996BC9B7E}" type="parTrans" cxnId="{0C8B88FE-F297-454A-9A05-727BAF526C56}">
      <dgm:prSet/>
      <dgm:spPr/>
      <dgm:t>
        <a:bodyPr/>
        <a:lstStyle/>
        <a:p>
          <a:endParaRPr lang="ru-RU"/>
        </a:p>
      </dgm:t>
    </dgm:pt>
    <dgm:pt modelId="{B0A9AD8E-3AB7-4B80-A163-CB6ED95991FB}" type="sibTrans" cxnId="{0C8B88FE-F297-454A-9A05-727BAF526C56}">
      <dgm:prSet/>
      <dgm:spPr/>
      <dgm:t>
        <a:bodyPr/>
        <a:lstStyle/>
        <a:p>
          <a:endParaRPr lang="ru-RU"/>
        </a:p>
      </dgm:t>
    </dgm:pt>
    <dgm:pt modelId="{77FA864D-B4E4-4F61-88BF-1BD1C3192109}">
      <dgm:prSet phldrT="[Текст]"/>
      <dgm:spPr/>
      <dgm:t>
        <a:bodyPr/>
        <a:lstStyle/>
        <a:p>
          <a:r>
            <a:rPr lang="ru-RU" dirty="0" smtClean="0"/>
            <a:t>навыки</a:t>
          </a:r>
          <a:endParaRPr lang="ru-RU" dirty="0"/>
        </a:p>
      </dgm:t>
    </dgm:pt>
    <dgm:pt modelId="{E12366B9-B90C-45D0-90AE-A9C406F1DC55}" type="parTrans" cxnId="{9D564E1F-C38C-4768-8820-8423C8D49805}">
      <dgm:prSet/>
      <dgm:spPr/>
      <dgm:t>
        <a:bodyPr/>
        <a:lstStyle/>
        <a:p>
          <a:endParaRPr lang="ru-RU"/>
        </a:p>
      </dgm:t>
    </dgm:pt>
    <dgm:pt modelId="{95945CBE-9CF6-4F5B-881C-B9E43C13F831}" type="sibTrans" cxnId="{9D564E1F-C38C-4768-8820-8423C8D49805}">
      <dgm:prSet/>
      <dgm:spPr/>
      <dgm:t>
        <a:bodyPr/>
        <a:lstStyle/>
        <a:p>
          <a:endParaRPr lang="ru-RU"/>
        </a:p>
      </dgm:t>
    </dgm:pt>
    <dgm:pt modelId="{44EC5076-C5DC-411C-839D-7305C622D06D}" type="pres">
      <dgm:prSet presAssocID="{6B2A2A5C-997C-45B3-B270-13F284B2B4BB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7AFE2CD-0463-42A1-B610-C6F0C63E84DC}" type="pres">
      <dgm:prSet presAssocID="{4AADAACC-0DF2-4485-88EF-32111ADCBD10}" presName="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617BABA-CDB6-472B-A260-0C698512B50C}" type="pres">
      <dgm:prSet presAssocID="{80733E50-DF45-41F2-B17E-30E8EB0B77F4}" presName="sibTrans" presStyleCnt="0"/>
      <dgm:spPr/>
    </dgm:pt>
    <dgm:pt modelId="{48E8EB10-3BB9-40DA-A273-68DEB7CBB529}" type="pres">
      <dgm:prSet presAssocID="{AC63B483-A139-4449-AF4A-9FC4D779C435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73B7A1B-10EB-4BFB-8236-82D7FCE3EA06}" type="pres">
      <dgm:prSet presAssocID="{B0A9AD8E-3AB7-4B80-A163-CB6ED95991FB}" presName="sibTrans" presStyleCnt="0"/>
      <dgm:spPr/>
    </dgm:pt>
    <dgm:pt modelId="{ADBC4968-F58C-4EA8-BB12-453796A2145D}" type="pres">
      <dgm:prSet presAssocID="{77FA864D-B4E4-4F61-88BF-1BD1C3192109}" presName="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031EF91E-10F9-455C-B70E-C0E8B8F4AF82}" srcId="{6B2A2A5C-997C-45B3-B270-13F284B2B4BB}" destId="{4AADAACC-0DF2-4485-88EF-32111ADCBD10}" srcOrd="0" destOrd="0" parTransId="{57383793-7490-4231-88E5-72A511F2E5E0}" sibTransId="{80733E50-DF45-41F2-B17E-30E8EB0B77F4}"/>
    <dgm:cxn modelId="{AD4BAC63-F664-4C56-AEC1-D3E135C4A6B5}" type="presOf" srcId="{4AADAACC-0DF2-4485-88EF-32111ADCBD10}" destId="{F7AFE2CD-0463-42A1-B610-C6F0C63E84DC}" srcOrd="0" destOrd="0" presId="urn:microsoft.com/office/officeart/2005/8/layout/hList6"/>
    <dgm:cxn modelId="{8FBC0DA2-26BB-427D-8026-9735FD229D17}" type="presOf" srcId="{6B2A2A5C-997C-45B3-B270-13F284B2B4BB}" destId="{44EC5076-C5DC-411C-839D-7305C622D06D}" srcOrd="0" destOrd="0" presId="urn:microsoft.com/office/officeart/2005/8/layout/hList6"/>
    <dgm:cxn modelId="{0C8B88FE-F297-454A-9A05-727BAF526C56}" srcId="{6B2A2A5C-997C-45B3-B270-13F284B2B4BB}" destId="{AC63B483-A139-4449-AF4A-9FC4D779C435}" srcOrd="1" destOrd="0" parTransId="{E08FF2AF-B29E-466D-862C-79A996BC9B7E}" sibTransId="{B0A9AD8E-3AB7-4B80-A163-CB6ED95991FB}"/>
    <dgm:cxn modelId="{9D564E1F-C38C-4768-8820-8423C8D49805}" srcId="{6B2A2A5C-997C-45B3-B270-13F284B2B4BB}" destId="{77FA864D-B4E4-4F61-88BF-1BD1C3192109}" srcOrd="2" destOrd="0" parTransId="{E12366B9-B90C-45D0-90AE-A9C406F1DC55}" sibTransId="{95945CBE-9CF6-4F5B-881C-B9E43C13F831}"/>
    <dgm:cxn modelId="{72620826-EF59-4381-B6E6-5AB76B988900}" type="presOf" srcId="{AC63B483-A139-4449-AF4A-9FC4D779C435}" destId="{48E8EB10-3BB9-40DA-A273-68DEB7CBB529}" srcOrd="0" destOrd="0" presId="urn:microsoft.com/office/officeart/2005/8/layout/hList6"/>
    <dgm:cxn modelId="{45150FF7-6AED-4878-A510-DF2B7BE1279C}" type="presOf" srcId="{77FA864D-B4E4-4F61-88BF-1BD1C3192109}" destId="{ADBC4968-F58C-4EA8-BB12-453796A2145D}" srcOrd="0" destOrd="0" presId="urn:microsoft.com/office/officeart/2005/8/layout/hList6"/>
    <dgm:cxn modelId="{CD70FD61-5401-4BE2-8BA3-446E979D27BE}" type="presParOf" srcId="{44EC5076-C5DC-411C-839D-7305C622D06D}" destId="{F7AFE2CD-0463-42A1-B610-C6F0C63E84DC}" srcOrd="0" destOrd="0" presId="urn:microsoft.com/office/officeart/2005/8/layout/hList6"/>
    <dgm:cxn modelId="{427AF863-EAB4-4513-BEA8-ECB936578563}" type="presParOf" srcId="{44EC5076-C5DC-411C-839D-7305C622D06D}" destId="{3617BABA-CDB6-472B-A260-0C698512B50C}" srcOrd="1" destOrd="0" presId="urn:microsoft.com/office/officeart/2005/8/layout/hList6"/>
    <dgm:cxn modelId="{F8FDA533-53C5-4BE6-A82F-B53B3F2AE29A}" type="presParOf" srcId="{44EC5076-C5DC-411C-839D-7305C622D06D}" destId="{48E8EB10-3BB9-40DA-A273-68DEB7CBB529}" srcOrd="2" destOrd="0" presId="urn:microsoft.com/office/officeart/2005/8/layout/hList6"/>
    <dgm:cxn modelId="{1401B376-52EC-46BA-876E-9B0335368270}" type="presParOf" srcId="{44EC5076-C5DC-411C-839D-7305C622D06D}" destId="{773B7A1B-10EB-4BFB-8236-82D7FCE3EA06}" srcOrd="3" destOrd="0" presId="urn:microsoft.com/office/officeart/2005/8/layout/hList6"/>
    <dgm:cxn modelId="{4BD20547-16F1-4871-B2F2-7CD1FDD7DD6F}" type="presParOf" srcId="{44EC5076-C5DC-411C-839D-7305C622D06D}" destId="{ADBC4968-F58C-4EA8-BB12-453796A2145D}" srcOrd="4" destOrd="0" presId="urn:microsoft.com/office/officeart/2005/8/layout/hList6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3DF9D06D-E00B-4C9B-AE28-9A538C643B6D}" type="doc">
      <dgm:prSet loTypeId="urn:microsoft.com/office/officeart/2005/8/layout/pyramid4" loCatId="relationship" qsTypeId="urn:microsoft.com/office/officeart/2005/8/quickstyle/simple3" qsCatId="simple" csTypeId="urn:microsoft.com/office/officeart/2005/8/colors/colorful2" csCatId="colorful" phldr="1"/>
      <dgm:spPr/>
      <dgm:t>
        <a:bodyPr/>
        <a:lstStyle/>
        <a:p>
          <a:endParaRPr lang="ru-RU"/>
        </a:p>
      </dgm:t>
    </dgm:pt>
    <dgm:pt modelId="{39455205-A7D4-41D5-A7D2-14B61DCF010F}">
      <dgm:prSet phldrT="[Текст]" custT="1"/>
      <dgm:spPr/>
      <dgm:t>
        <a:bodyPr/>
        <a:lstStyle/>
        <a:p>
          <a:r>
            <a:rPr lang="ru-RU" sz="2000" dirty="0" smtClean="0"/>
            <a:t>Познавательные действия</a:t>
          </a:r>
          <a:endParaRPr lang="ru-RU" sz="2000" dirty="0"/>
        </a:p>
      </dgm:t>
    </dgm:pt>
    <dgm:pt modelId="{5AB9BBB1-9D25-4F88-9BF3-3725C4A66DDD}" type="parTrans" cxnId="{A779B5B2-B2F0-466F-92E8-FDAE4EBE3D0D}">
      <dgm:prSet/>
      <dgm:spPr/>
      <dgm:t>
        <a:bodyPr/>
        <a:lstStyle/>
        <a:p>
          <a:endParaRPr lang="ru-RU"/>
        </a:p>
      </dgm:t>
    </dgm:pt>
    <dgm:pt modelId="{4184F0BC-E6A9-4274-83AE-686A35F5AAC8}" type="sibTrans" cxnId="{A779B5B2-B2F0-466F-92E8-FDAE4EBE3D0D}">
      <dgm:prSet/>
      <dgm:spPr/>
      <dgm:t>
        <a:bodyPr/>
        <a:lstStyle/>
        <a:p>
          <a:endParaRPr lang="ru-RU"/>
        </a:p>
      </dgm:t>
    </dgm:pt>
    <dgm:pt modelId="{6B02BCDA-E178-45ED-8117-20A9D83E940B}">
      <dgm:prSet phldrT="[Текст]" custT="1"/>
      <dgm:spPr/>
      <dgm:t>
        <a:bodyPr/>
        <a:lstStyle/>
        <a:p>
          <a:r>
            <a:rPr lang="ru-RU" sz="2000" dirty="0" smtClean="0"/>
            <a:t>Регулятивные действия</a:t>
          </a:r>
          <a:endParaRPr lang="ru-RU" sz="2000" dirty="0"/>
        </a:p>
      </dgm:t>
    </dgm:pt>
    <dgm:pt modelId="{8C3871A9-2E8F-415B-AFF8-311DDBD54339}" type="parTrans" cxnId="{F50CE169-34D9-43F9-8852-7005B3834660}">
      <dgm:prSet/>
      <dgm:spPr/>
      <dgm:t>
        <a:bodyPr/>
        <a:lstStyle/>
        <a:p>
          <a:endParaRPr lang="ru-RU"/>
        </a:p>
      </dgm:t>
    </dgm:pt>
    <dgm:pt modelId="{050F59B7-22FC-4400-B0E6-D981CD6F8AF3}" type="sibTrans" cxnId="{F50CE169-34D9-43F9-8852-7005B3834660}">
      <dgm:prSet/>
      <dgm:spPr/>
      <dgm:t>
        <a:bodyPr/>
        <a:lstStyle/>
        <a:p>
          <a:endParaRPr lang="ru-RU"/>
        </a:p>
      </dgm:t>
    </dgm:pt>
    <dgm:pt modelId="{04012B6B-685B-4A91-A11F-C7A616B5E688}">
      <dgm:prSet phldrT="[Текст]" custT="1"/>
      <dgm:spPr/>
      <dgm:t>
        <a:bodyPr/>
        <a:lstStyle/>
        <a:p>
          <a:r>
            <a:rPr lang="ru-RU" sz="2000" dirty="0" smtClean="0"/>
            <a:t>Личностные действия</a:t>
          </a:r>
          <a:endParaRPr lang="ru-RU" sz="2000" dirty="0"/>
        </a:p>
      </dgm:t>
    </dgm:pt>
    <dgm:pt modelId="{3563B306-D692-4F63-8E86-F052D5C20758}" type="parTrans" cxnId="{3762B8B0-01CA-43C9-A571-3BD2950F5BED}">
      <dgm:prSet/>
      <dgm:spPr/>
      <dgm:t>
        <a:bodyPr/>
        <a:lstStyle/>
        <a:p>
          <a:endParaRPr lang="ru-RU"/>
        </a:p>
      </dgm:t>
    </dgm:pt>
    <dgm:pt modelId="{C514B6C5-DEAA-4B60-833A-6EFF8CF944AA}" type="sibTrans" cxnId="{3762B8B0-01CA-43C9-A571-3BD2950F5BED}">
      <dgm:prSet/>
      <dgm:spPr/>
      <dgm:t>
        <a:bodyPr/>
        <a:lstStyle/>
        <a:p>
          <a:endParaRPr lang="ru-RU"/>
        </a:p>
      </dgm:t>
    </dgm:pt>
    <dgm:pt modelId="{6DB1DFC6-040A-487E-8FC6-9BF4CD558C21}">
      <dgm:prSet phldrT="[Текст]" custT="1"/>
      <dgm:spPr/>
      <dgm:t>
        <a:bodyPr/>
        <a:lstStyle/>
        <a:p>
          <a:r>
            <a:rPr lang="ru-RU" sz="2000" dirty="0" smtClean="0"/>
            <a:t>Коммуникативные действия</a:t>
          </a:r>
          <a:endParaRPr lang="ru-RU" sz="2000" dirty="0"/>
        </a:p>
      </dgm:t>
    </dgm:pt>
    <dgm:pt modelId="{BC814BD8-2098-4091-8AC1-7BAA58B88B7A}" type="parTrans" cxnId="{30CCB23B-3A4B-495D-9C80-BE86200AD48D}">
      <dgm:prSet/>
      <dgm:spPr/>
      <dgm:t>
        <a:bodyPr/>
        <a:lstStyle/>
        <a:p>
          <a:endParaRPr lang="ru-RU"/>
        </a:p>
      </dgm:t>
    </dgm:pt>
    <dgm:pt modelId="{20BCC1BB-46A5-449D-938B-7F739E6CDF41}" type="sibTrans" cxnId="{30CCB23B-3A4B-495D-9C80-BE86200AD48D}">
      <dgm:prSet/>
      <dgm:spPr/>
      <dgm:t>
        <a:bodyPr/>
        <a:lstStyle/>
        <a:p>
          <a:endParaRPr lang="ru-RU"/>
        </a:p>
      </dgm:t>
    </dgm:pt>
    <dgm:pt modelId="{E13BFA91-9392-4F5C-A090-58908D361494}" type="pres">
      <dgm:prSet presAssocID="{3DF9D06D-E00B-4C9B-AE28-9A538C643B6D}" presName="compositeShape" presStyleCnt="0">
        <dgm:presLayoutVars>
          <dgm:chMax val="9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C2929F3-27B9-479A-B1C2-56B9923AEB45}" type="pres">
      <dgm:prSet presAssocID="{3DF9D06D-E00B-4C9B-AE28-9A538C643B6D}" presName="triangle1" presStyleLbl="node1" presStyleIdx="0" presStyleCnt="4" custAng="0" custScaleX="281270" custScaleY="57114" custLinFactNeighborX="-33366" custLinFactNeighborY="-568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8B9336-6C68-467E-995F-926AC78BECDF}" type="pres">
      <dgm:prSet presAssocID="{3DF9D06D-E00B-4C9B-AE28-9A538C643B6D}" presName="triangle2" presStyleLbl="node1" presStyleIdx="1" presStyleCnt="4" custScaleX="220996" custScaleY="71303" custLinFactNeighborX="-24899" custLinFactNeighborY="-1863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EB1CBB3-C6D0-453E-8D2B-8B881B26B7E6}" type="pres">
      <dgm:prSet presAssocID="{3DF9D06D-E00B-4C9B-AE28-9A538C643B6D}" presName="triangle3" presStyleLbl="node1" presStyleIdx="2" presStyleCnt="4" custScaleX="241190" custScaleY="69839" custLinFactNeighborX="31206" custLinFactNeighborY="-3416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1649186-A402-4739-8FBA-36CCAEA8ECBE}" type="pres">
      <dgm:prSet presAssocID="{3DF9D06D-E00B-4C9B-AE28-9A538C643B6D}" presName="triangle4" presStyleLbl="node1" presStyleIdx="3" presStyleCnt="4" custScaleX="280336" custScaleY="78428" custLinFactNeighborX="24899" custLinFactNeighborY="92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C48DF9D5-E38E-478A-94CF-39B924F0041E}" type="presOf" srcId="{39455205-A7D4-41D5-A7D2-14B61DCF010F}" destId="{9C2929F3-27B9-479A-B1C2-56B9923AEB45}" srcOrd="0" destOrd="0" presId="urn:microsoft.com/office/officeart/2005/8/layout/pyramid4"/>
    <dgm:cxn modelId="{F50CE169-34D9-43F9-8852-7005B3834660}" srcId="{3DF9D06D-E00B-4C9B-AE28-9A538C643B6D}" destId="{6B02BCDA-E178-45ED-8117-20A9D83E940B}" srcOrd="1" destOrd="0" parTransId="{8C3871A9-2E8F-415B-AFF8-311DDBD54339}" sibTransId="{050F59B7-22FC-4400-B0E6-D981CD6F8AF3}"/>
    <dgm:cxn modelId="{3762B8B0-01CA-43C9-A571-3BD2950F5BED}" srcId="{3DF9D06D-E00B-4C9B-AE28-9A538C643B6D}" destId="{04012B6B-685B-4A91-A11F-C7A616B5E688}" srcOrd="2" destOrd="0" parTransId="{3563B306-D692-4F63-8E86-F052D5C20758}" sibTransId="{C514B6C5-DEAA-4B60-833A-6EFF8CF944AA}"/>
    <dgm:cxn modelId="{CD058A74-4207-48C3-8C74-9300CDA8700A}" type="presOf" srcId="{6B02BCDA-E178-45ED-8117-20A9D83E940B}" destId="{3C8B9336-6C68-467E-995F-926AC78BECDF}" srcOrd="0" destOrd="0" presId="urn:microsoft.com/office/officeart/2005/8/layout/pyramid4"/>
    <dgm:cxn modelId="{A779B5B2-B2F0-466F-92E8-FDAE4EBE3D0D}" srcId="{3DF9D06D-E00B-4C9B-AE28-9A538C643B6D}" destId="{39455205-A7D4-41D5-A7D2-14B61DCF010F}" srcOrd="0" destOrd="0" parTransId="{5AB9BBB1-9D25-4F88-9BF3-3725C4A66DDD}" sibTransId="{4184F0BC-E6A9-4274-83AE-686A35F5AAC8}"/>
    <dgm:cxn modelId="{92042670-3F88-4FDB-8F46-DE0389373094}" type="presOf" srcId="{04012B6B-685B-4A91-A11F-C7A616B5E688}" destId="{3EB1CBB3-C6D0-453E-8D2B-8B881B26B7E6}" srcOrd="0" destOrd="0" presId="urn:microsoft.com/office/officeart/2005/8/layout/pyramid4"/>
    <dgm:cxn modelId="{329AC505-85FA-413C-826F-D116F58C034F}" type="presOf" srcId="{3DF9D06D-E00B-4C9B-AE28-9A538C643B6D}" destId="{E13BFA91-9392-4F5C-A090-58908D361494}" srcOrd="0" destOrd="0" presId="urn:microsoft.com/office/officeart/2005/8/layout/pyramid4"/>
    <dgm:cxn modelId="{5EB73266-901D-4346-A7E4-FB2214FE807E}" type="presOf" srcId="{6DB1DFC6-040A-487E-8FC6-9BF4CD558C21}" destId="{01649186-A402-4739-8FBA-36CCAEA8ECBE}" srcOrd="0" destOrd="0" presId="urn:microsoft.com/office/officeart/2005/8/layout/pyramid4"/>
    <dgm:cxn modelId="{30CCB23B-3A4B-495D-9C80-BE86200AD48D}" srcId="{3DF9D06D-E00B-4C9B-AE28-9A538C643B6D}" destId="{6DB1DFC6-040A-487E-8FC6-9BF4CD558C21}" srcOrd="3" destOrd="0" parTransId="{BC814BD8-2098-4091-8AC1-7BAA58B88B7A}" sibTransId="{20BCC1BB-46A5-449D-938B-7F739E6CDF41}"/>
    <dgm:cxn modelId="{DA1E3C63-AD29-4A4F-9D53-2D602BAEF2A9}" type="presParOf" srcId="{E13BFA91-9392-4F5C-A090-58908D361494}" destId="{9C2929F3-27B9-479A-B1C2-56B9923AEB45}" srcOrd="0" destOrd="0" presId="urn:microsoft.com/office/officeart/2005/8/layout/pyramid4"/>
    <dgm:cxn modelId="{B4DDCD89-4910-4F39-BD0D-B38CCF14ADCA}" type="presParOf" srcId="{E13BFA91-9392-4F5C-A090-58908D361494}" destId="{3C8B9336-6C68-467E-995F-926AC78BECDF}" srcOrd="1" destOrd="0" presId="urn:microsoft.com/office/officeart/2005/8/layout/pyramid4"/>
    <dgm:cxn modelId="{A21FA664-CFD7-4563-98F5-1EA4DEE66633}" type="presParOf" srcId="{E13BFA91-9392-4F5C-A090-58908D361494}" destId="{3EB1CBB3-C6D0-453E-8D2B-8B881B26B7E6}" srcOrd="2" destOrd="0" presId="urn:microsoft.com/office/officeart/2005/8/layout/pyramid4"/>
    <dgm:cxn modelId="{C552DE81-E75D-42C1-A9AE-CA5CE0E73151}" type="presParOf" srcId="{E13BFA91-9392-4F5C-A090-58908D361494}" destId="{01649186-A402-4739-8FBA-36CCAEA8ECBE}" srcOrd="3" destOrd="0" presId="urn:microsoft.com/office/officeart/2005/8/layout/pyramid4"/>
  </dgm:cxnLst>
  <dgm:bg>
    <a:solidFill>
      <a:schemeClr val="accent2">
        <a:lumMod val="40000"/>
        <a:lumOff val="60000"/>
      </a:schemeClr>
    </a:solidFill>
    <a:effectLst>
      <a:glow rad="228600">
        <a:schemeClr val="accent1">
          <a:satMod val="175000"/>
          <a:alpha val="40000"/>
        </a:schemeClr>
      </a:glow>
    </a:effectLst>
  </dgm:bg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4B2F53CF-0997-4115-BBFE-ED754096EF26}">
      <dsp:nvSpPr>
        <dsp:cNvPr id="0" name=""/>
        <dsp:cNvSpPr/>
      </dsp:nvSpPr>
      <dsp:spPr>
        <a:xfrm>
          <a:off x="2971809" y="279401"/>
          <a:ext cx="2274391" cy="1137195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2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2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glow rad="228600">
            <a:schemeClr val="accent1">
              <a:satMod val="175000"/>
              <a:alpha val="40000"/>
            </a:schemeClr>
          </a:glo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49530" tIns="49530" rIns="49530" bIns="4953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300" kern="1200" dirty="0" smtClean="0"/>
            <a:t>помощь воспитанникам адаптироваться в быстроменяющихся условиях современности</a:t>
          </a:r>
          <a:endParaRPr lang="ru-RU" sz="1300" kern="1200" dirty="0"/>
        </a:p>
      </dsp:txBody>
      <dsp:txXfrm>
        <a:off x="2971809" y="279401"/>
        <a:ext cx="2274391" cy="1137195"/>
      </dsp:txXfrm>
    </dsp:sp>
    <dsp:sp modelId="{9F5C05F4-DCB5-4B4B-944F-D9878412E540}">
      <dsp:nvSpPr>
        <dsp:cNvPr id="0" name=""/>
        <dsp:cNvSpPr/>
      </dsp:nvSpPr>
      <dsp:spPr>
        <a:xfrm rot="3337501">
          <a:off x="4458662" y="2024902"/>
          <a:ext cx="1183135" cy="398018"/>
        </a:xfrm>
        <a:prstGeom prst="leftRigh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2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2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000" kern="1200"/>
        </a:p>
      </dsp:txBody>
      <dsp:txXfrm rot="3337501">
        <a:off x="4458662" y="2024902"/>
        <a:ext cx="1183135" cy="398018"/>
      </dsp:txXfrm>
    </dsp:sp>
    <dsp:sp modelId="{821928C9-4058-4AE9-A5F8-817795E4B956}">
      <dsp:nvSpPr>
        <dsp:cNvPr id="0" name=""/>
        <dsp:cNvSpPr/>
      </dsp:nvSpPr>
      <dsp:spPr>
        <a:xfrm>
          <a:off x="4854259" y="3031226"/>
          <a:ext cx="2274391" cy="1137195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3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3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glow rad="228600">
            <a:schemeClr val="accent1">
              <a:satMod val="175000"/>
              <a:alpha val="40000"/>
            </a:schemeClr>
          </a:glo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49530" tIns="49530" rIns="49530" bIns="4953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300" kern="1200" dirty="0" smtClean="0"/>
            <a:t>проблема развития творческих способностей младших школьников средствами аппликации</a:t>
          </a:r>
          <a:endParaRPr lang="ru-RU" sz="1300" kern="1200" dirty="0"/>
        </a:p>
      </dsp:txBody>
      <dsp:txXfrm>
        <a:off x="4854259" y="3031226"/>
        <a:ext cx="2274391" cy="1137195"/>
      </dsp:txXfrm>
    </dsp:sp>
    <dsp:sp modelId="{6F96829B-F59B-4565-9399-FF8414D68E49}">
      <dsp:nvSpPr>
        <dsp:cNvPr id="0" name=""/>
        <dsp:cNvSpPr/>
      </dsp:nvSpPr>
      <dsp:spPr>
        <a:xfrm rot="10800000">
          <a:off x="3523232" y="3400814"/>
          <a:ext cx="1183135" cy="398018"/>
        </a:xfrm>
        <a:prstGeom prst="leftRigh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3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3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3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000" kern="1200"/>
        </a:p>
      </dsp:txBody>
      <dsp:txXfrm rot="10800000">
        <a:off x="3523232" y="3400814"/>
        <a:ext cx="1183135" cy="398018"/>
      </dsp:txXfrm>
    </dsp:sp>
    <dsp:sp modelId="{CB106939-B0C5-4400-A4EE-1888BAC1034B}">
      <dsp:nvSpPr>
        <dsp:cNvPr id="0" name=""/>
        <dsp:cNvSpPr/>
      </dsp:nvSpPr>
      <dsp:spPr>
        <a:xfrm>
          <a:off x="1100948" y="3031226"/>
          <a:ext cx="2274391" cy="1137195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4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4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glow rad="228600">
            <a:schemeClr val="accent1">
              <a:satMod val="175000"/>
              <a:alpha val="40000"/>
            </a:schemeClr>
          </a:glo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49530" tIns="49530" rIns="49530" bIns="4953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300" kern="1200" dirty="0" smtClean="0"/>
            <a:t>социальный заказ родителей воспитанников</a:t>
          </a:r>
          <a:endParaRPr lang="ru-RU" sz="1300" kern="1200" dirty="0"/>
        </a:p>
      </dsp:txBody>
      <dsp:txXfrm>
        <a:off x="1100948" y="3031226"/>
        <a:ext cx="2274391" cy="1137195"/>
      </dsp:txXfrm>
    </dsp:sp>
    <dsp:sp modelId="{88099EFB-4BE6-4F94-933C-DB82E28B7D6F}">
      <dsp:nvSpPr>
        <dsp:cNvPr id="0" name=""/>
        <dsp:cNvSpPr/>
      </dsp:nvSpPr>
      <dsp:spPr>
        <a:xfrm rot="18252618">
          <a:off x="2582007" y="2024902"/>
          <a:ext cx="1183135" cy="398018"/>
        </a:xfrm>
        <a:prstGeom prst="leftRigh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4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4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4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000" kern="1200"/>
        </a:p>
      </dsp:txBody>
      <dsp:txXfrm rot="18252618">
        <a:off x="2582007" y="2024902"/>
        <a:ext cx="1183135" cy="398018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F7AFE2CD-0463-42A1-B610-C6F0C63E84DC}">
      <dsp:nvSpPr>
        <dsp:cNvPr id="0" name=""/>
        <dsp:cNvSpPr/>
      </dsp:nvSpPr>
      <dsp:spPr>
        <a:xfrm rot="16200000">
          <a:off x="-819489" y="820494"/>
          <a:ext cx="4252922" cy="2611933"/>
        </a:xfrm>
        <a:prstGeom prst="flowChartManualOperation">
          <a:avLst/>
        </a:prstGeom>
        <a:gradFill rotWithShape="0">
          <a:gsLst>
            <a:gs pos="0">
              <a:schemeClr val="accent2">
                <a:shade val="80000"/>
                <a:hueOff val="0"/>
                <a:satOff val="0"/>
                <a:lumOff val="0"/>
                <a:alphaOff val="0"/>
                <a:tint val="98000"/>
                <a:shade val="25000"/>
                <a:satMod val="250000"/>
              </a:schemeClr>
            </a:gs>
            <a:gs pos="68000">
              <a:schemeClr val="accent2">
                <a:shade val="80000"/>
                <a:hueOff val="0"/>
                <a:satOff val="0"/>
                <a:lumOff val="0"/>
                <a:alphaOff val="0"/>
                <a:tint val="86000"/>
                <a:satMod val="115000"/>
              </a:schemeClr>
            </a:gs>
            <a:gs pos="100000">
              <a:schemeClr val="accent2">
                <a:shade val="80000"/>
                <a:hueOff val="0"/>
                <a:satOff val="0"/>
                <a:lumOff val="0"/>
                <a:alphaOff val="0"/>
                <a:tint val="50000"/>
                <a:satMod val="1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shade val="80000"/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66700" tIns="0" rIns="266398" bIns="0" numCol="1" spcCol="1270" anchor="ctr" anchorCtr="0">
          <a:noAutofit/>
        </a:bodyPr>
        <a:lstStyle/>
        <a:p>
          <a:pPr lvl="0" algn="ctr" defTabSz="1866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200" kern="1200" dirty="0" smtClean="0"/>
            <a:t>знания</a:t>
          </a:r>
          <a:endParaRPr lang="ru-RU" sz="4200" kern="1200" dirty="0"/>
        </a:p>
      </dsp:txBody>
      <dsp:txXfrm rot="16200000">
        <a:off x="-819489" y="820494"/>
        <a:ext cx="4252922" cy="2611933"/>
      </dsp:txXfrm>
    </dsp:sp>
    <dsp:sp modelId="{48E8EB10-3BB9-40DA-A273-68DEB7CBB529}">
      <dsp:nvSpPr>
        <dsp:cNvPr id="0" name=""/>
        <dsp:cNvSpPr/>
      </dsp:nvSpPr>
      <dsp:spPr>
        <a:xfrm rot="16200000">
          <a:off x="1988338" y="820494"/>
          <a:ext cx="4252922" cy="2611933"/>
        </a:xfrm>
        <a:prstGeom prst="flowChartManualOperation">
          <a:avLst/>
        </a:prstGeom>
        <a:gradFill rotWithShape="0">
          <a:gsLst>
            <a:gs pos="0">
              <a:schemeClr val="accent2">
                <a:shade val="80000"/>
                <a:hueOff val="174100"/>
                <a:satOff val="6001"/>
                <a:lumOff val="14593"/>
                <a:alphaOff val="0"/>
                <a:tint val="98000"/>
                <a:shade val="25000"/>
                <a:satMod val="250000"/>
              </a:schemeClr>
            </a:gs>
            <a:gs pos="68000">
              <a:schemeClr val="accent2">
                <a:shade val="80000"/>
                <a:hueOff val="174100"/>
                <a:satOff val="6001"/>
                <a:lumOff val="14593"/>
                <a:alphaOff val="0"/>
                <a:tint val="86000"/>
                <a:satMod val="115000"/>
              </a:schemeClr>
            </a:gs>
            <a:gs pos="100000">
              <a:schemeClr val="accent2">
                <a:shade val="80000"/>
                <a:hueOff val="174100"/>
                <a:satOff val="6001"/>
                <a:lumOff val="14593"/>
                <a:alphaOff val="0"/>
                <a:tint val="50000"/>
                <a:satMod val="1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shade val="80000"/>
              <a:hueOff val="174100"/>
              <a:satOff val="6001"/>
              <a:lumOff val="14593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66700" tIns="0" rIns="266398" bIns="0" numCol="1" spcCol="1270" anchor="ctr" anchorCtr="0">
          <a:noAutofit/>
        </a:bodyPr>
        <a:lstStyle/>
        <a:p>
          <a:pPr lvl="0" algn="ctr" defTabSz="1866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200" kern="1200" dirty="0" smtClean="0"/>
            <a:t>умения</a:t>
          </a:r>
          <a:endParaRPr lang="ru-RU" sz="4200" kern="1200" dirty="0"/>
        </a:p>
      </dsp:txBody>
      <dsp:txXfrm rot="16200000">
        <a:off x="1988338" y="820494"/>
        <a:ext cx="4252922" cy="2611933"/>
      </dsp:txXfrm>
    </dsp:sp>
    <dsp:sp modelId="{ADBC4968-F58C-4EA8-BB12-453796A2145D}">
      <dsp:nvSpPr>
        <dsp:cNvPr id="0" name=""/>
        <dsp:cNvSpPr/>
      </dsp:nvSpPr>
      <dsp:spPr>
        <a:xfrm rot="16200000">
          <a:off x="4796167" y="820494"/>
          <a:ext cx="4252922" cy="2611933"/>
        </a:xfrm>
        <a:prstGeom prst="flowChartManualOperation">
          <a:avLst/>
        </a:prstGeom>
        <a:gradFill rotWithShape="0">
          <a:gsLst>
            <a:gs pos="0">
              <a:schemeClr val="accent2">
                <a:shade val="80000"/>
                <a:hueOff val="348200"/>
                <a:satOff val="12001"/>
                <a:lumOff val="29186"/>
                <a:alphaOff val="0"/>
                <a:tint val="98000"/>
                <a:shade val="25000"/>
                <a:satMod val="250000"/>
              </a:schemeClr>
            </a:gs>
            <a:gs pos="68000">
              <a:schemeClr val="accent2">
                <a:shade val="80000"/>
                <a:hueOff val="348200"/>
                <a:satOff val="12001"/>
                <a:lumOff val="29186"/>
                <a:alphaOff val="0"/>
                <a:tint val="86000"/>
                <a:satMod val="115000"/>
              </a:schemeClr>
            </a:gs>
            <a:gs pos="100000">
              <a:schemeClr val="accent2">
                <a:shade val="80000"/>
                <a:hueOff val="348200"/>
                <a:satOff val="12001"/>
                <a:lumOff val="29186"/>
                <a:alphaOff val="0"/>
                <a:tint val="50000"/>
                <a:satMod val="1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shade val="80000"/>
              <a:hueOff val="348200"/>
              <a:satOff val="12001"/>
              <a:lumOff val="29186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66700" tIns="0" rIns="266398" bIns="0" numCol="1" spcCol="1270" anchor="ctr" anchorCtr="0">
          <a:noAutofit/>
        </a:bodyPr>
        <a:lstStyle/>
        <a:p>
          <a:pPr lvl="0" algn="ctr" defTabSz="1866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200" kern="1200" dirty="0" smtClean="0"/>
            <a:t>навыки</a:t>
          </a:r>
          <a:endParaRPr lang="ru-RU" sz="4200" kern="1200" dirty="0"/>
        </a:p>
      </dsp:txBody>
      <dsp:txXfrm rot="16200000">
        <a:off x="4796167" y="820494"/>
        <a:ext cx="4252922" cy="2611933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C2929F3-27B9-479A-B1C2-56B9923AEB45}">
      <dsp:nvSpPr>
        <dsp:cNvPr id="0" name=""/>
        <dsp:cNvSpPr/>
      </dsp:nvSpPr>
      <dsp:spPr>
        <a:xfrm>
          <a:off x="234185" y="214307"/>
          <a:ext cx="5780150" cy="1173703"/>
        </a:xfrm>
        <a:prstGeom prst="triangle">
          <a:avLst/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2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2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Познавательные действия</a:t>
          </a:r>
          <a:endParaRPr lang="ru-RU" sz="2000" kern="1200" dirty="0"/>
        </a:p>
      </dsp:txBody>
      <dsp:txXfrm>
        <a:off x="234185" y="214307"/>
        <a:ext cx="5780150" cy="1173703"/>
      </dsp:txXfrm>
    </dsp:sp>
    <dsp:sp modelId="{3C8B9336-6C68-467E-995F-926AC78BECDF}">
      <dsp:nvSpPr>
        <dsp:cNvPr id="0" name=""/>
        <dsp:cNvSpPr/>
      </dsp:nvSpPr>
      <dsp:spPr>
        <a:xfrm>
          <a:off x="0" y="1857387"/>
          <a:ext cx="4541508" cy="1465289"/>
        </a:xfrm>
        <a:prstGeom prst="triangle">
          <a:avLst/>
        </a:prstGeom>
        <a:gradFill rotWithShape="0">
          <a:gsLst>
            <a:gs pos="0">
              <a:schemeClr val="accent2">
                <a:hueOff val="-209893"/>
                <a:satOff val="-911"/>
                <a:lumOff val="-3332"/>
                <a:alphaOff val="0"/>
                <a:tint val="70000"/>
                <a:satMod val="130000"/>
              </a:schemeClr>
            </a:gs>
            <a:gs pos="43000">
              <a:schemeClr val="accent2">
                <a:hueOff val="-209893"/>
                <a:satOff val="-911"/>
                <a:lumOff val="-3332"/>
                <a:alphaOff val="0"/>
                <a:tint val="44000"/>
                <a:satMod val="165000"/>
              </a:schemeClr>
            </a:gs>
            <a:gs pos="93000">
              <a:schemeClr val="accent2">
                <a:hueOff val="-209893"/>
                <a:satOff val="-911"/>
                <a:lumOff val="-3332"/>
                <a:alphaOff val="0"/>
                <a:tint val="15000"/>
                <a:satMod val="165000"/>
              </a:schemeClr>
            </a:gs>
            <a:gs pos="100000">
              <a:schemeClr val="accent2">
                <a:hueOff val="-209893"/>
                <a:satOff val="-911"/>
                <a:lumOff val="-3332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hueOff val="-209893"/>
              <a:satOff val="-911"/>
              <a:lumOff val="-3332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егулятивные действия</a:t>
          </a:r>
          <a:endParaRPr lang="ru-RU" sz="2000" kern="1200" dirty="0"/>
        </a:p>
      </dsp:txBody>
      <dsp:txXfrm>
        <a:off x="0" y="1857387"/>
        <a:ext cx="4541508" cy="1465289"/>
      </dsp:txXfrm>
    </dsp:sp>
    <dsp:sp modelId="{3EB1CBB3-C6D0-453E-8D2B-8B881B26B7E6}">
      <dsp:nvSpPr>
        <dsp:cNvPr id="0" name=""/>
        <dsp:cNvSpPr/>
      </dsp:nvSpPr>
      <dsp:spPr>
        <a:xfrm rot="10800000">
          <a:off x="1972977" y="1553388"/>
          <a:ext cx="4956499" cy="1435204"/>
        </a:xfrm>
        <a:prstGeom prst="triangle">
          <a:avLst/>
        </a:prstGeom>
        <a:gradFill rotWithShape="0">
          <a:gsLst>
            <a:gs pos="0">
              <a:schemeClr val="accent2">
                <a:hueOff val="-419786"/>
                <a:satOff val="-1821"/>
                <a:lumOff val="-6665"/>
                <a:alphaOff val="0"/>
                <a:tint val="70000"/>
                <a:satMod val="130000"/>
              </a:schemeClr>
            </a:gs>
            <a:gs pos="43000">
              <a:schemeClr val="accent2">
                <a:hueOff val="-419786"/>
                <a:satOff val="-1821"/>
                <a:lumOff val="-6665"/>
                <a:alphaOff val="0"/>
                <a:tint val="44000"/>
                <a:satMod val="165000"/>
              </a:schemeClr>
            </a:gs>
            <a:gs pos="93000">
              <a:schemeClr val="accent2">
                <a:hueOff val="-419786"/>
                <a:satOff val="-1821"/>
                <a:lumOff val="-6665"/>
                <a:alphaOff val="0"/>
                <a:tint val="15000"/>
                <a:satMod val="165000"/>
              </a:schemeClr>
            </a:gs>
            <a:gs pos="100000">
              <a:schemeClr val="accent2">
                <a:hueOff val="-419786"/>
                <a:satOff val="-1821"/>
                <a:lumOff val="-6665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hueOff val="-419786"/>
              <a:satOff val="-1821"/>
              <a:lumOff val="-6665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Личностные действия</a:t>
          </a:r>
          <a:endParaRPr lang="ru-RU" sz="2000" kern="1200" dirty="0"/>
        </a:p>
      </dsp:txBody>
      <dsp:txXfrm rot="10800000">
        <a:off x="1972977" y="1553388"/>
        <a:ext cx="4956499" cy="1435204"/>
      </dsp:txXfrm>
    </dsp:sp>
    <dsp:sp modelId="{01649186-A402-4739-8FBA-36CCAEA8ECBE}">
      <dsp:nvSpPr>
        <dsp:cNvPr id="0" name=""/>
        <dsp:cNvSpPr/>
      </dsp:nvSpPr>
      <dsp:spPr>
        <a:xfrm>
          <a:off x="2468643" y="2357445"/>
          <a:ext cx="5760956" cy="1611709"/>
        </a:xfrm>
        <a:prstGeom prst="triangle">
          <a:avLst/>
        </a:prstGeom>
        <a:gradFill rotWithShape="0">
          <a:gsLst>
            <a:gs pos="0">
              <a:schemeClr val="accent2">
                <a:hueOff val="-629680"/>
                <a:satOff val="-2732"/>
                <a:lumOff val="-9997"/>
                <a:alphaOff val="0"/>
                <a:tint val="70000"/>
                <a:satMod val="130000"/>
              </a:schemeClr>
            </a:gs>
            <a:gs pos="43000">
              <a:schemeClr val="accent2">
                <a:hueOff val="-629680"/>
                <a:satOff val="-2732"/>
                <a:lumOff val="-9997"/>
                <a:alphaOff val="0"/>
                <a:tint val="44000"/>
                <a:satMod val="165000"/>
              </a:schemeClr>
            </a:gs>
            <a:gs pos="93000">
              <a:schemeClr val="accent2">
                <a:hueOff val="-629680"/>
                <a:satOff val="-2732"/>
                <a:lumOff val="-9997"/>
                <a:alphaOff val="0"/>
                <a:tint val="15000"/>
                <a:satMod val="165000"/>
              </a:schemeClr>
            </a:gs>
            <a:gs pos="100000">
              <a:schemeClr val="accent2">
                <a:hueOff val="-629680"/>
                <a:satOff val="-2732"/>
                <a:lumOff val="-9997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hueOff val="-629680"/>
              <a:satOff val="-2732"/>
              <a:lumOff val="-9997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ммуникативные действия</a:t>
          </a:r>
          <a:endParaRPr lang="ru-RU" sz="2000" kern="1200" dirty="0"/>
        </a:p>
      </dsp:txBody>
      <dsp:txXfrm>
        <a:off x="2468643" y="2357445"/>
        <a:ext cx="5760956" cy="161170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7">
  <dgm:title val=""/>
  <dgm:desc val=""/>
  <dgm:catLst>
    <dgm:cat type="cycle" pri="6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cycle">
          <dgm:param type="stAng" val="0"/>
          <dgm:param type="spanAng" val="360"/>
        </dgm:alg>
      </dgm:if>
      <dgm:else name="Name3">
        <dgm:alg type="cycle">
          <dgm:param type="stAng" val="0"/>
          <dgm:param type="spanAng" val="-360"/>
        </dgm:alg>
      </dgm:else>
    </dgm:choose>
    <dgm:shape xmlns:r="http://schemas.openxmlformats.org/officeDocument/2006/relationships" r:blip="">
      <dgm:adjLst/>
    </dgm:shape>
    <dgm:presOf/>
    <dgm:constrLst>
      <dgm:constr type="diam" refType="w"/>
      <dgm:constr type="w" for="ch" ptType="node" refType="w"/>
      <dgm:constr type="primFontSz" for="ch" ptType="node" op="equ" val="65"/>
      <dgm:constr type="w" for="ch" forName="sibTrans" refType="w" refFor="ch" refPtType="node" op="equ" fact="0.35"/>
      <dgm:constr type="connDist" for="ch" forName="sibTrans" op="equ"/>
      <dgm:constr type="primFontSz" for="des" forName="connectorText" op="equ" val="55"/>
      <dgm:constr type="primFontSz" for="des" forName="connectorText" refType="primFontSz" refFor="ch" refPtType="node" op="lte" fact="0.8"/>
      <dgm:constr type="sibSp" refType="w" refFor="ch" refPtType="node" op="equ" fact="0.65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4">
        <dgm:if name="Name5" axis="par ch" ptType="doc node" func="cnt" op="gt" val="1">
          <dgm:forEach name="sibTransForEach" axis="followSib" ptType="sibTrans" hideLastTrans="0" cnt="1">
            <dgm:layoutNode name="sibTrans">
              <dgm:choose name="Name6">
                <dgm:if name="Name7" axis="par ch" ptType="doc node" func="posEven" op="equ" val="1">
                  <dgm:alg type="conn">
                    <dgm:param type="begPts" val="radial"/>
                    <dgm:param type="endPts" val="radial"/>
                    <dgm:param type="begSty" val="arr"/>
                    <dgm:param type="endSty" val="arr"/>
                  </dgm:alg>
                </dgm:if>
                <dgm:else name="Name8">
                  <dgm:alg type="conn">
                    <dgm:param type="begPts" val="auto"/>
                    <dgm:param type="endPts" val="auto"/>
                    <dgm:param type="begSty" val="arr"/>
                    <dgm:param type="endSty" val="arr"/>
                  </dgm:alg>
                </dgm:else>
              </dgm:choose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5"/>
                <dgm:constr type="connDist"/>
                <dgm:constr type="begPad" refType="connDist" fact="0.1"/>
                <dgm:constr type="endPad" refType="connDist" fact="0.1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forEach>
        </dgm:if>
        <dgm:else name="Name9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List6">
  <dgm:title val=""/>
  <dgm:desc val=""/>
  <dgm:catLst>
    <dgm:cat type="list" pri="1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h" for="ch" ptType="node" refType="h"/>
      <dgm:constr type="w" for="ch" ptType="node" refType="w"/>
      <dgm:constr type="primFontSz" for="ch" ptType="node" op="equ"/>
      <dgm:constr type="w" for="ch" forName="sibTrans" refType="w" fact="0.075"/>
    </dgm:constrLst>
    <dgm:ruleLst/>
    <dgm:forEach name="nodesForEach" axis="ch" ptType="node">
      <dgm:layoutNode name="node">
        <dgm:varLst>
          <dgm:bulletEnabled val="1"/>
        </dgm:varLst>
        <dgm:alg type="tx"/>
        <dgm:choose name="Name4">
          <dgm:if name="Name5" func="var" arg="dir" op="equ" val="norm">
            <dgm:shape xmlns:r="http://schemas.openxmlformats.org/officeDocument/2006/relationships" rot="-90" type="flowChartManualOperation" r:blip="">
              <dgm:adjLst/>
            </dgm:shape>
          </dgm:if>
          <dgm:else name="Name6">
            <dgm:shape xmlns:r="http://schemas.openxmlformats.org/officeDocument/2006/relationships" rot="90" type="flowChartManualOperation" r:blip="">
              <dgm:adjLst/>
            </dgm:shape>
          </dgm:else>
        </dgm:choose>
        <dgm:presOf axis="desOrSelf" ptType="node"/>
        <dgm:constrLst>
          <dgm:constr type="primFontSz" val="65"/>
          <dgm:constr type="tMarg"/>
          <dgm:constr type="bMarg"/>
          <dgm:constr type="lMarg" refType="primFontSz" fact="0.5"/>
          <dgm:constr type="rMarg" refType="lMarg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yramid4">
  <dgm:title val=""/>
  <dgm:desc val=""/>
  <dgm:catLst>
    <dgm:cat type="pyramid" pri="4000"/>
    <dgm:cat type="relationship" pri="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varLst>
      <dgm:chMax val="9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4">
        <dgm:choose name="Name2">
          <dgm:if name="Name3" axis="ch" ptType="node" func="cnt" op="equ" val="1">
            <dgm:constrLst>
              <dgm:constr type="primFontSz" for="ch" ptType="node" op="equ" val="65"/>
              <dgm:constr type="t" for="ch" forName="triangle1"/>
              <dgm:constr type="l" for="ch" forName="triangle1"/>
              <dgm:constr type="h" for="ch" forName="triangle1" refType="h"/>
              <dgm:constr type="w" for="ch" forName="triangle1" refType="h"/>
            </dgm:constrLst>
          </dgm:if>
          <dgm:else name="Name4">
            <dgm:constrLst>
              <dgm:constr type="primFontSz" for="ch" ptType="node" op="equ" val="65"/>
              <dgm:constr type="t" for="ch" forName="triangle1"/>
              <dgm:constr type="l" for="ch" forName="triangle1" refType="h" fact="0.25"/>
              <dgm:constr type="h" for="ch" forName="triangle1" refType="h" fact="0.5"/>
              <dgm:constr type="w" for="ch" forName="triangle1" refType="h" fact="0.5"/>
              <dgm:constr type="t" for="ch" forName="triangle2" refType="h" fact="0.5"/>
              <dgm:constr type="l" for="ch" forName="triangle2"/>
              <dgm:constr type="h" for="ch" forName="triangle2" refType="h" fact="0.5"/>
              <dgm:constr type="w" for="ch" forName="triangle2" refType="h" fact="0.5"/>
              <dgm:constr type="t" for="ch" forName="triangle3" refType="h" fact="0.5"/>
              <dgm:constr type="l" for="ch" forName="triangle3" refType="h" fact="0.25"/>
              <dgm:constr type="h" for="ch" forName="triangle3" refType="h" fact="0.5"/>
              <dgm:constr type="w" for="ch" forName="triangle3" refType="h" fact="0.5"/>
              <dgm:constr type="t" for="ch" forName="triangle4" refType="h" fact="0.5"/>
              <dgm:constr type="l" for="ch" forName="triangle4" refType="h" fact="0.5"/>
              <dgm:constr type="h" for="ch" forName="triangle4" refType="h" fact="0.5"/>
              <dgm:constr type="w" for="ch" forName="triangle4" refType="h" fact="0.5"/>
            </dgm:constrLst>
          </dgm:else>
        </dgm:choose>
      </dgm:if>
      <dgm:else name="Name5">
        <dgm:constrLst>
          <dgm:constr type="primFontSz" for="ch" ptType="node" op="equ" val="65"/>
          <dgm:constr type="t" for="ch" forName="triangle1"/>
          <dgm:constr type="l" for="ch" forName="triangle1" refType="h" fact="0.33"/>
          <dgm:constr type="h" for="ch" forName="triangle1" refType="h" fact="0.33"/>
          <dgm:constr type="w" for="ch" forName="triangle1" refType="h" fact="0.33"/>
          <dgm:constr type="t" for="ch" forName="triangle2" refType="h" fact="0.33"/>
          <dgm:constr type="l" for="ch" forName="triangle2" refType="h" fact="0.165"/>
          <dgm:constr type="h" for="ch" forName="triangle2" refType="h" fact="0.33"/>
          <dgm:constr type="w" for="ch" forName="triangle2" refType="h" fact="0.33"/>
          <dgm:constr type="t" for="ch" forName="triangle3" refType="h" fact="0.33"/>
          <dgm:constr type="l" for="ch" forName="triangle3" refType="h" fact="0.33"/>
          <dgm:constr type="h" for="ch" forName="triangle3" refType="h" fact="0.33"/>
          <dgm:constr type="w" for="ch" forName="triangle3" refType="h" fact="0.33"/>
          <dgm:constr type="t" for="ch" forName="triangle4" refType="h" fact="0.33"/>
          <dgm:constr type="l" for="ch" forName="triangle4" refType="h" fact="0.495"/>
          <dgm:constr type="h" for="ch" forName="triangle4" refType="h" fact="0.33"/>
          <dgm:constr type="w" for="ch" forName="triangle4" refType="h" fact="0.33"/>
          <dgm:constr type="t" for="ch" forName="triangle5" refType="h" fact="0.66"/>
          <dgm:constr type="l" for="ch" forName="triangle5"/>
          <dgm:constr type="h" for="ch" forName="triangle5" refType="h" fact="0.33"/>
          <dgm:constr type="w" for="ch" forName="triangle5" refType="h" fact="0.33"/>
          <dgm:constr type="t" for="ch" forName="triangle6" refType="h" fact="0.66"/>
          <dgm:constr type="l" for="ch" forName="triangle6" refType="h" fact="0.165"/>
          <dgm:constr type="h" for="ch" forName="triangle6" refType="h" fact="0.33"/>
          <dgm:constr type="w" for="ch" forName="triangle6" refType="h" fact="0.33"/>
          <dgm:constr type="t" for="ch" forName="triangle7" refType="h" fact="0.66"/>
          <dgm:constr type="l" for="ch" forName="triangle7" refType="h" fact="0.33"/>
          <dgm:constr type="h" for="ch" forName="triangle7" refType="h" fact="0.33"/>
          <dgm:constr type="w" for="ch" forName="triangle7" refType="h" fact="0.33"/>
          <dgm:constr type="t" for="ch" forName="triangle8" refType="h" fact="0.66"/>
          <dgm:constr type="l" for="ch" forName="triangle8" refType="h" fact="0.495"/>
          <dgm:constr type="h" for="ch" forName="triangle8" refType="h" fact="0.33"/>
          <dgm:constr type="w" for="ch" forName="triangle8" refType="h" fact="0.33"/>
          <dgm:constr type="t" for="ch" forName="triangle9" refType="h" fact="0.66"/>
          <dgm:constr type="l" for="ch" forName="triangle9" refType="h" fact="0.66"/>
          <dgm:constr type="h" for="ch" forName="triangle9" refType="h" fact="0.33"/>
          <dgm:constr type="w" for="ch" forName="triangle9" refType="h" fact="0.33"/>
        </dgm:constrLst>
      </dgm:else>
    </dgm:choose>
    <dgm:ruleLst/>
    <dgm:choose name="Name6">
      <dgm:if name="Name7" axis="ch" ptType="node" func="cnt" op="gte" val="1">
        <dgm:layoutNode name="triangle1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1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8"/>
    </dgm:choose>
    <dgm:choose name="Name9">
      <dgm:if name="Name10" axis="ch" ptType="node" func="cnt" op="gte" val="2">
        <dgm:layoutNode name="triangle2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1">
            <dgm:if name="Name12" func="var" arg="dir" op="equ" val="norm">
              <dgm:presOf axis="ch desOrSelf" ptType="node node" st="2 1" cnt="1 0"/>
            </dgm:if>
            <dgm:else name="Name13">
              <dgm:presOf axis="ch desOrSelf" ptType="node node" st="4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3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presOf axis="ch desOrSelf" ptType="node node" st="3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4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4">
            <dgm:if name="Name15" func="var" arg="dir" op="equ" val="norm">
              <dgm:presOf axis="ch desOrSelf" ptType="node node" st="4 1" cnt="1 0"/>
            </dgm:if>
            <dgm:else name="Name16">
              <dgm:presOf axis="ch desOrSelf" ptType="node node" st="2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17"/>
    </dgm:choose>
    <dgm:choose name="Name18">
      <dgm:if name="Name19" axis="ch" ptType="node" func="cnt" op="gte" val="5">
        <dgm:layoutNode name="triangle5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0">
            <dgm:if name="Name21" func="var" arg="dir" op="equ" val="norm">
              <dgm:presOf axis="ch desOrSelf" ptType="node node" st="5 1" cnt="1 0"/>
            </dgm:if>
            <dgm:else name="Name22">
              <dgm:presOf axis="ch desOrSelf" ptType="node node" st="9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6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3">
            <dgm:if name="Name24" func="var" arg="dir" op="equ" val="norm">
              <dgm:presOf axis="ch desOrSelf" ptType="node node" st="6 1" cnt="1 0"/>
            </dgm:if>
            <dgm:else name="Name25">
              <dgm:presOf axis="ch desOrSelf" ptType="node node" st="8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7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7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8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6">
            <dgm:if name="Name27" func="var" arg="dir" op="equ" val="norm">
              <dgm:presOf axis="ch desOrSelf" ptType="node node" st="8 1" cnt="1 0"/>
            </dgm:if>
            <dgm:else name="Name28">
              <dgm:presOf axis="ch desOrSelf" ptType="node node" st="6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9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9">
            <dgm:if name="Name30" func="var" arg="dir" op="equ" val="norm">
              <dgm:presOf axis="ch desOrSelf" ptType="node node" st="9 1" cnt="1 0"/>
            </dgm:if>
            <dgm:else name="Name31">
              <dgm:presOf axis="ch desOrSelf" ptType="node node" st="5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32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197-5561-4022-9342-E0143DC5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477-E9A8-4B47-AEB9-AFD18DCB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887-5CBC-45CA-8726-B5780B46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0C0-68C3-40A5-97E4-09F1AB46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8D1E-E40E-4DF8-A328-B6BA5175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04F4-288F-4775-9E57-0B645031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FB7B-569A-41D8-9192-2D30F25F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97FC-527B-4AF1-86EE-A0D6042E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B19D-E106-4CF7-866B-C3C9BC22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40C6-0065-4F47-8076-DF477379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D1D6-FA05-430A-8B89-79D84204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743-1E36-4618-A98D-1DC05178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5E65-B9AA-4ADD-A4C7-80CE3446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59BA-F3CE-4F27-9671-B9A8F3D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7B6D-7972-4CCC-8F38-C80FD561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3238-B311-40A6-BC3D-96BF1F3C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BBBD-74BA-4A30-A18C-D85BD261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0602-514C-478A-B8E4-535162DE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8C44-65B5-4E14-866C-B2C8AC55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1C6D-452A-48AF-8BC1-8EB15F30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E246E-26F2-4C5D-AF45-BE2C4DE2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2ABA-E6EA-43DB-8C5B-B9CA2820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61F-E4C4-498C-864A-EEF93BFB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6661B-E721-458A-AC01-7C4A9CBC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48A52-EC3A-484C-B3A2-1D05084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813D-30EC-4431-8599-58674B43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4B20-9670-4187-A411-6E1CB406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03748-75F7-4F5E-9B2C-859DD538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6A98-939F-4E79-B597-B0710F3B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40E54-F319-4EC0-A6AD-CE806E14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D69DB-B3D6-4EFC-A62B-9E36FCD7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BAC2-1216-4D95-99D0-7A1E1037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7694-EF87-41E2-A5AB-B69C1C93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C5B-1141-42A2-A2F9-9A0C9DA1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A1B41-8F1E-4D46-B1CF-57756063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FCB0E-475C-4724-A8C2-FBC93E4C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8A8F9-65BE-4C4C-B54D-603066A8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2812-3954-488D-AA63-2515262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FB5D5-8F1C-43AD-9C18-F8255ECA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7AB4C-0125-4C77-87A9-26951F39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12C5-BC9E-42E7-8659-C7087AE6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C458F-67E1-4323-A7D3-4CF8456C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339E-BBD6-4A83-8844-D4B79100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5F8-9833-40C7-B871-96A3E6FA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5E9-5618-4EF4-A429-FA53B827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B86-7015-40B5-855B-B5656606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053-5EC4-463F-B6C7-9D10206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C88-101C-4BFB-A75D-D7415EE3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79cc6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c0f5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Verdana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04616D-E861-4945-A82E-29714B9472A4}" type="slidenum">
              <a:rPr b="0" lang="ru-RU" sz="1200" spc="-1" strike="noStrike">
                <a:solidFill>
                  <a:srgbClr val="d1eae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79cc6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c0f5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20c8f7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525D46-4DCD-4194-99C7-D9A114A01E82}" type="slidenum">
              <a:rPr b="0" lang="ru-RU" sz="1200" spc="-1" strike="noStrike">
                <a:solidFill>
                  <a:srgbClr val="03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79cc6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c0f5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14E03E-5C53-4459-AB71-AEB5AB90FD80}" type="slidenum">
              <a:rPr b="0" lang="ru-RU" sz="1200" spc="-1" strike="noStrike">
                <a:solidFill>
                  <a:srgbClr val="03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79cc6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c0f5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1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72633F-B00E-4B65-9D6A-DBD554594DBC}" type="slidenum">
              <a:rPr b="0" lang="ru-RU" sz="1200" spc="-1" strike="noStrike">
                <a:solidFill>
                  <a:srgbClr val="03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76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300" spc="-1" strike="noStrike">
                <a:solidFill>
                  <a:srgbClr val="ffffff"/>
                </a:solidFill>
                <a:latin typeface="Verdana"/>
              </a:rPr>
              <a:t>Дополнительная образовательная программа</a:t>
            </a:r>
            <a:br>
              <a:rPr sz="3300"/>
            </a:br>
            <a:r>
              <a:rPr b="1" lang="ru-RU" sz="5000" spc="-1" strike="noStrike">
                <a:solidFill>
                  <a:srgbClr val="92d050"/>
                </a:solidFill>
                <a:latin typeface="Verdana"/>
              </a:rPr>
              <a:t>«Цветная карусель»</a:t>
            </a:r>
            <a:br>
              <a:rPr sz="5600"/>
            </a:br>
            <a:endParaRPr b="0" lang="ru-RU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33520" y="2714760"/>
            <a:ext cx="7854480" cy="24285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73000"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Возраст воспитанников: 6 -10 л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Срок реализации: 3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92d050"/>
                </a:solidFill>
                <a:latin typeface="Verdana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92d050"/>
                </a:solidFill>
                <a:latin typeface="Verdana"/>
              </a:rPr>
              <a:t>педагог дополнительн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92d050"/>
                </a:solidFill>
                <a:latin typeface="Verdana"/>
              </a:rPr>
              <a:t>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92d050"/>
                </a:solidFill>
                <a:latin typeface="Verdana"/>
              </a:rPr>
              <a:t>Соломина Юлия Никола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Рисунок 4"/>
          <p:cNvSpPr/>
          <p:nvPr/>
        </p:nvSpPr>
        <p:spPr>
          <a:xfrm>
            <a:off x="5286240" y="3357720"/>
            <a:ext cx="3642840" cy="32144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428760" y="642960"/>
          <a:ext cx="8357760" cy="5785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642960"/>
                    <a:ext cx="8357760" cy="57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 rot="10800000">
            <a:off x="8384400" y="1000800"/>
            <a:ext cx="45360" cy="70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1000"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642960" y="801360"/>
            <a:ext cx="8214840" cy="548460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952560" y="696600"/>
            <a:ext cx="7262640" cy="544680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555408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429400" cy="521460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429400" cy="571464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428760" y="700920"/>
            <a:ext cx="8357760" cy="514332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57120" y="696600"/>
            <a:ext cx="8357760" cy="566100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SAM_0571.JPG"/>
          <p:cNvPicPr/>
          <p:nvPr/>
        </p:nvPicPr>
        <p:blipFill>
          <a:blip r:embed="rId1"/>
          <a:stretch/>
        </p:blipFill>
        <p:spPr>
          <a:xfrm>
            <a:off x="5715000" y="4143240"/>
            <a:ext cx="2714400" cy="23126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SAM_0573.JPG"/>
          <p:cNvPicPr/>
          <p:nvPr/>
        </p:nvPicPr>
        <p:blipFill>
          <a:blip r:embed="rId2"/>
          <a:stretch/>
        </p:blipFill>
        <p:spPr>
          <a:xfrm rot="5400000">
            <a:off x="451080" y="3940920"/>
            <a:ext cx="2934000" cy="22640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6" descr="SAM_0572.JPG"/>
          <p:cNvPicPr/>
          <p:nvPr/>
        </p:nvPicPr>
        <p:blipFill>
          <a:blip r:embed="rId3"/>
          <a:stretch/>
        </p:blipFill>
        <p:spPr>
          <a:xfrm>
            <a:off x="835560" y="1714320"/>
            <a:ext cx="2142720" cy="1785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7" descr="SAM_0574.JPG"/>
          <p:cNvPicPr/>
          <p:nvPr/>
        </p:nvPicPr>
        <p:blipFill>
          <a:blip r:embed="rId4"/>
          <a:stretch/>
        </p:blipFill>
        <p:spPr>
          <a:xfrm>
            <a:off x="3481920" y="5143680"/>
            <a:ext cx="1785600" cy="14112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8" descr="SAM_0556.JPG"/>
          <p:cNvPicPr/>
          <p:nvPr/>
        </p:nvPicPr>
        <p:blipFill>
          <a:blip r:embed="rId5"/>
          <a:stretch/>
        </p:blipFill>
        <p:spPr>
          <a:xfrm>
            <a:off x="3571920" y="3875400"/>
            <a:ext cx="1595160" cy="11962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SAM_0558.JPG"/>
          <p:cNvPicPr/>
          <p:nvPr/>
        </p:nvPicPr>
        <p:blipFill>
          <a:blip r:embed="rId6"/>
          <a:stretch/>
        </p:blipFill>
        <p:spPr>
          <a:xfrm>
            <a:off x="5786280" y="1714320"/>
            <a:ext cx="2476080" cy="18568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0" descr="SAM_0323.JPG"/>
          <p:cNvPicPr/>
          <p:nvPr/>
        </p:nvPicPr>
        <p:blipFill>
          <a:blip r:embed="rId7"/>
          <a:srcRect l="13899" t="0" r="0" b="0"/>
          <a:stretch/>
        </p:blipFill>
        <p:spPr>
          <a:xfrm rot="5400000">
            <a:off x="3254040" y="1746720"/>
            <a:ext cx="2214360" cy="18640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305560" cy="71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Работы воспитанников 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5" descr="SAM_1142.JPG"/>
          <p:cNvPicPr/>
          <p:nvPr/>
        </p:nvPicPr>
        <p:blipFill>
          <a:blip r:embed="rId1">
            <a:lum bright="20000"/>
          </a:blip>
          <a:stretch/>
        </p:blipFill>
        <p:spPr>
          <a:xfrm rot="5400000">
            <a:off x="1239480" y="1618200"/>
            <a:ext cx="2658600" cy="19936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" descr="SAM_1139.JPG"/>
          <p:cNvPicPr/>
          <p:nvPr/>
        </p:nvPicPr>
        <p:blipFill>
          <a:blip r:embed="rId2">
            <a:lum bright="20000"/>
          </a:blip>
          <a:stretch/>
        </p:blipFill>
        <p:spPr>
          <a:xfrm rot="5400000">
            <a:off x="3179160" y="1750320"/>
            <a:ext cx="2571480" cy="19285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" descr="SAM_1133.JPG"/>
          <p:cNvPicPr/>
          <p:nvPr/>
        </p:nvPicPr>
        <p:blipFill>
          <a:blip r:embed="rId3"/>
          <a:stretch/>
        </p:blipFill>
        <p:spPr>
          <a:xfrm rot="5400000">
            <a:off x="5098320" y="1545120"/>
            <a:ext cx="2647440" cy="19854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SAM_1140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3357720" y="3071880"/>
            <a:ext cx="2261880" cy="16963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SAM_1141.JPG"/>
          <p:cNvPicPr/>
          <p:nvPr/>
        </p:nvPicPr>
        <p:blipFill>
          <a:blip r:embed="rId5">
            <a:lum bright="20000"/>
          </a:blip>
          <a:stretch/>
        </p:blipFill>
        <p:spPr>
          <a:xfrm rot="4305600">
            <a:off x="2030040" y="4367160"/>
            <a:ext cx="2345040" cy="1758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6" descr="SAM_1145.JPG"/>
          <p:cNvPicPr/>
          <p:nvPr/>
        </p:nvPicPr>
        <p:blipFill>
          <a:blip r:embed="rId6">
            <a:lum bright="20000"/>
          </a:blip>
          <a:stretch/>
        </p:blipFill>
        <p:spPr>
          <a:xfrm rot="6654600">
            <a:off x="4568400" y="4389840"/>
            <a:ext cx="2356920" cy="17676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7" descr="SAM_1144.JPG"/>
          <p:cNvPicPr/>
          <p:nvPr/>
        </p:nvPicPr>
        <p:blipFill>
          <a:blip r:embed="rId7">
            <a:lum bright="20000"/>
          </a:blip>
          <a:stretch/>
        </p:blipFill>
        <p:spPr>
          <a:xfrm rot="6629400">
            <a:off x="6350040" y="4257720"/>
            <a:ext cx="2416680" cy="18122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8" descr="SAM_1143.JPG"/>
          <p:cNvPicPr/>
          <p:nvPr/>
        </p:nvPicPr>
        <p:blipFill>
          <a:blip r:embed="rId8">
            <a:lum bright="20000"/>
          </a:blip>
          <a:stretch/>
        </p:blipFill>
        <p:spPr>
          <a:xfrm rot="5692200">
            <a:off x="7029360" y="2150640"/>
            <a:ext cx="2214360" cy="16606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9" descr="SAM_1143.JPG"/>
          <p:cNvPicPr/>
          <p:nvPr/>
        </p:nvPicPr>
        <p:blipFill>
          <a:blip r:embed="rId9">
            <a:lum bright="20000"/>
          </a:blip>
          <a:stretch/>
        </p:blipFill>
        <p:spPr>
          <a:xfrm rot="4124400">
            <a:off x="288720" y="4496400"/>
            <a:ext cx="2416680" cy="18122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0" descr="SAM_1146.JPG"/>
          <p:cNvPicPr/>
          <p:nvPr/>
        </p:nvPicPr>
        <p:blipFill>
          <a:blip r:embed="rId10">
            <a:lum bright="20000"/>
          </a:blip>
          <a:stretch/>
        </p:blipFill>
        <p:spPr>
          <a:xfrm rot="5213400">
            <a:off x="-174240" y="2145600"/>
            <a:ext cx="2285640" cy="1713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30556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Дипломы воспитанников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Актуальность программы: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139537490"/>
              </p:ext>
            </p:extLst>
          </p:nvPr>
        </p:nvGraphicFramePr>
        <p:xfrm>
          <a:off x="457200" y="1935000"/>
          <a:ext cx="8229240" cy="4389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Спасибо за внимание !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Рисунок 3" descr="SAM_0312.JPG"/>
          <p:cNvPicPr/>
          <p:nvPr/>
        </p:nvPicPr>
        <p:blipFill>
          <a:blip r:embed="rId1"/>
          <a:stretch/>
        </p:blipFill>
        <p:spPr>
          <a:xfrm>
            <a:off x="1643040" y="1928880"/>
            <a:ext cx="571464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9722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04617b"/>
                </a:solidFill>
                <a:latin typeface="Verdana"/>
              </a:rPr>
              <a:t>Цель программы: </a:t>
            </a:r>
            <a:br>
              <a:rPr sz="5000"/>
            </a:br>
            <a:r>
              <a:rPr b="0" lang="ru-RU" sz="3000" spc="-1" strike="noStrike">
                <a:solidFill>
                  <a:srgbClr val="04617b"/>
                </a:solidFill>
                <a:latin typeface="Verdana"/>
              </a:rPr>
              <a:t>развитие творческих способностей </a:t>
            </a:r>
            <a:br>
              <a:rPr sz="3000"/>
            </a:br>
            <a:r>
              <a:rPr b="0" lang="ru-RU" sz="3000" spc="-1" strike="noStrike">
                <a:solidFill>
                  <a:srgbClr val="04617b"/>
                </a:solidFill>
                <a:latin typeface="Verdana"/>
              </a:rPr>
              <a:t> детей младшего школьного возраста средствами аппликации.</a:t>
            </a: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Содержимое 5"/>
          <p:cNvSpPr/>
          <p:nvPr/>
        </p:nvSpPr>
        <p:spPr>
          <a:xfrm>
            <a:off x="4143240" y="3143160"/>
            <a:ext cx="4718880" cy="3357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glow rad="228600">
              <a:srgbClr val="00dfa2">
                <a:alpha val="40000"/>
              </a:srgbClr>
            </a:glow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69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Verdana"/>
              </a:rPr>
              <a:t>Задачи программы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в области обучения:</a:t>
            </a: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4109760"/>
          </a:xfrm>
          <a:prstGeom prst="rect">
            <a:avLst/>
          </a:prstGeom>
          <a:gradFill rotWithShape="0">
            <a:gsLst>
              <a:gs pos="0">
                <a:srgbClr val="92dcff"/>
              </a:gs>
              <a:gs pos="100000">
                <a:srgbClr val="f8fcff"/>
              </a:gs>
            </a:gsLst>
            <a:path path="circle">
              <a:fillToRect l="50000" t="100000" r="50000" b="0"/>
            </a:path>
          </a:gradFill>
          <a:ln w="9360">
            <a:solidFill>
              <a:srgbClr val="1594b8"/>
            </a:solidFill>
            <a:round/>
          </a:ln>
          <a:effectLst>
            <a:outerShdw dist="38160" dir="5400000" blurRad="57240" rotWithShape="0">
              <a:srgbClr val="ffffff">
                <a:alpha val="48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Формировать универсальные учебные действия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Формировать представление об основах цветоведения и композици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Сформировать знания , умения и навыки в области технологии выполнения  работ средствами  аппликаци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Verdana"/>
              </a:rPr>
              <a:t>Задачи программы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в области развития: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4109760"/>
          </a:xfrm>
          <a:prstGeom prst="rect">
            <a:avLst/>
          </a:prstGeom>
          <a:gradFill rotWithShape="0">
            <a:gsLst>
              <a:gs pos="0">
                <a:srgbClr val="92dcff"/>
              </a:gs>
              <a:gs pos="100000">
                <a:srgbClr val="f8fcff"/>
              </a:gs>
            </a:gsLst>
            <a:path path="circle">
              <a:fillToRect l="50000" t="100000" r="50000" b="0"/>
            </a:path>
          </a:gradFill>
          <a:ln w="9360">
            <a:solidFill>
              <a:srgbClr val="1594b8"/>
            </a:solidFill>
            <a:round/>
          </a:ln>
          <a:effectLst>
            <a:outerShdw dist="38160" dir="5400000" blurRad="57240" rotWithShape="0">
              <a:srgbClr val="ffffff">
                <a:alpha val="48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Развивать и</a:t>
            </a:r>
            <a:r>
              <a:rPr b="1" lang="ru-RU" sz="2600" spc="-1" strike="noStrike">
                <a:solidFill>
                  <a:schemeClr val="dk1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совершенствовать ручную умелость, мелкую моторику рук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Расширять сенсорный опыт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Развивать познавательные способност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Способствовать развитию творчества, творческой самостоятельност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Verdana"/>
              </a:rPr>
              <a:t>Задачи программы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в области воспитания: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4109760"/>
          </a:xfrm>
          <a:prstGeom prst="rect">
            <a:avLst/>
          </a:prstGeom>
          <a:gradFill rotWithShape="0">
            <a:gsLst>
              <a:gs pos="0">
                <a:srgbClr val="92dcff"/>
              </a:gs>
              <a:gs pos="100000">
                <a:srgbClr val="f8fcff"/>
              </a:gs>
            </a:gsLst>
            <a:path path="circle">
              <a:fillToRect l="50000" t="100000" r="50000" b="0"/>
            </a:path>
          </a:gradFill>
          <a:ln w="9360">
            <a:solidFill>
              <a:srgbClr val="1594b8"/>
            </a:solidFill>
            <a:round/>
          </a:ln>
          <a:effectLst>
            <a:outerShdw dist="38160" dir="5400000" blurRad="57240" rotWithShape="0">
              <a:srgbClr val="ffffff">
                <a:alpha val="48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Воспитать умение работать в коллективе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Воспитывать бережное отношение к природе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Воспитывать трудолюбие, аккуратность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Формировать необходимые знания, умения, навыки по ведению здорового образа жизн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500" spc="-1" strike="noStrike">
                <a:solidFill>
                  <a:srgbClr val="04617b"/>
                </a:solidFill>
                <a:latin typeface="Verdana"/>
              </a:rPr>
              <a:t>Идеи программы: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учение 18 видов аппликации из бумаг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2520" indent="-272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учение 5 видов аппликации из природного материала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2520" indent="-272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учение материала на основе принципа концентричности и спиралевидност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2520" indent="-272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троение образовательного процесса на основе столкновения с новым и интересным материалом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2520" indent="-272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троение образовательного процесса при условии оптимистического осознания каждым воспитанником своих больших возможностей в достижении успеха  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Ожидаемые результаты: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блок № 1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034483523"/>
              </p:ext>
            </p:extLst>
          </p:nvPr>
        </p:nvGraphicFramePr>
        <p:xfrm>
          <a:off x="457200" y="2071800"/>
          <a:ext cx="8229240" cy="4252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3672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Ожидаемые результаты: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блок № 2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723752067"/>
              </p:ext>
            </p:extLst>
          </p:nvPr>
        </p:nvGraphicFramePr>
        <p:xfrm>
          <a:off x="428760" y="2214720"/>
          <a:ext cx="8229240" cy="4109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Поток">
  <a:themeElements>
    <a:clrScheme name="Другая 6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20c8f7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Другая 6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20c8f7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Другая 6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20c8f7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Другая 6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20c8f7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8</TotalTime>
  <Application>LibreOffice/7.4.7.2$Linux_X86_64 LibreOffice_project/40$Build-2</Application>
  <AppVersion>15.0000</AppVersion>
  <Words>200</Words>
  <Paragraphs>48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30:25Z</dcterms:created>
  <dc:creator>user</dc:creator>
  <dc:description/>
  <dc:language>en-US</dc:language>
  <cp:lastModifiedBy>user</cp:lastModifiedBy>
  <dcterms:modified xsi:type="dcterms:W3CDTF">2011-10-27T10:33:06Z</dcterms:modified>
  <cp:revision>48</cp:revision>
  <dc:subject/>
  <dc:title>Дополнительная образовательная программа  «Цветная карусель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