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png" ContentType="image/png"/>
  <Override PartName="/ppt/media/image8.wmf" ContentType="image/x-wmf"/>
  <Override PartName="/ppt/media/image12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34DBD3-2C0F-4731-994A-22A69F6DC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2E59C3-D751-4C46-BEEA-9465C0C347F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223B6-AAAD-48C1-983A-1D152869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09B75-A502-4220-83F0-7781CC8E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08B5F-B73F-4DD0-89BD-7AC9F5D8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00C19-6BAC-480E-8DCF-E60391C23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70EE9-7095-4630-A506-2E1D76AC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D1C17-E435-48B1-BB3A-E4FF3E92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A19AC-4237-40A6-B30E-71D25D01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993C4-0D96-48A3-A046-D27C6E22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FC503-36E0-4F0F-B0D8-05DAB07C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CB6EF-B0CF-4994-B85A-E7150C86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F3A8E-BA2F-45D8-B4C2-B47B1B34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C849F-F27B-4B02-B534-13DDCEBE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63EAB-F016-4308-AF63-86AA30BC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F71B4-E1BC-482A-A53C-D2D81565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382D8-DF6C-484B-A7D0-7BFBB5F8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7DCE0-E449-4BDC-9014-15B3FBA8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8FCCB-DFD9-4EAB-BEA8-ABAA086C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5ADC7-D975-4A3F-9D6B-A54A2E67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D04C1-60C6-479E-AB8D-C3BFCEC4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210B1-BA48-47A5-B1B0-2129ADE6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97EC3-9FA1-41FF-ADD6-F5354C2C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7A2E4-AB91-4B2B-B6D1-65F65354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59482-74C8-4350-8A31-C8DB31F2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0C891-F139-4833-B4B8-6BB4E4DD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33880"/>
            <a:ext cx="8305560" cy="198072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1" name="Прямая соединительная линия 7"/>
          <p:cNvCxnSpPr/>
          <p:nvPr/>
        </p:nvCxnSpPr>
        <p:spPr>
          <a:xfrm>
            <a:off x="1463400" y="3549960"/>
            <a:ext cx="2972160" cy="1800"/>
          </a:xfrm>
          <a:prstGeom prst="straightConnector1">
            <a:avLst/>
          </a:prstGeom>
          <a:ln w="9525">
            <a:solidFill>
              <a:srgbClr val="444d26">
                <a:tint val="20000"/>
              </a:srgbClr>
            </a:solidFill>
            <a:round/>
          </a:ln>
        </p:spPr>
      </p:cxnSp>
      <p:cxnSp>
        <p:nvCxnSpPr>
          <p:cNvPr id="2" name="Прямая соединительная линия 12"/>
          <p:cNvCxnSpPr/>
          <p:nvPr/>
        </p:nvCxnSpPr>
        <p:spPr>
          <a:xfrm>
            <a:off x="4708440" y="3549960"/>
            <a:ext cx="2972160" cy="1800"/>
          </a:xfrm>
          <a:prstGeom prst="straightConnector1">
            <a:avLst/>
          </a:prstGeom>
          <a:ln w="9525">
            <a:solidFill>
              <a:srgbClr val="444d26">
                <a:tint val="20000"/>
              </a:srgbClr>
            </a:solidFill>
            <a:round/>
          </a:ln>
        </p:spPr>
      </p:cxnSp>
      <p:sp>
        <p:nvSpPr>
          <p:cNvPr id="3" name="Овал 13"/>
          <p:cNvSpPr/>
          <p:nvPr/>
        </p:nvSpPr>
        <p:spPr>
          <a:xfrm>
            <a:off x="4540320" y="3526200"/>
            <a:ext cx="45360" cy="45360"/>
          </a:xfrm>
          <a:prstGeom prst="ellipse">
            <a:avLst/>
          </a:prstGeom>
          <a:solidFill>
            <a:srgbClr val="f3a447"/>
          </a:solidFill>
          <a:ln>
            <a:solidFill>
              <a:srgbClr val="f3a447"/>
            </a:solidFill>
            <a:round/>
          </a:ln>
          <a:effectLst>
            <a:outerShdw algn="tl" blurRad="31680" dir="0" rotWithShape="0">
              <a:srgbClr val="000000">
                <a:alpha val="55000"/>
              </a:srgbClr>
            </a:outerShdw>
          </a:effectLst>
        </p:spPr>
        <p:style>
          <a:lnRef idx="2">
            <a:schemeClr val="accent2"/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-12600" bIns="-12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BB1DDF0-ECBF-400C-84CB-4F48464CC53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3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5F26C0D-FFC7-4587-92F7-2DAAFDE6C6E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6480" y="476640"/>
            <a:ext cx="8712720" cy="146952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00" strike="noStrike">
                <a:solidFill>
                  <a:srgbClr val="f9f9f9"/>
                </a:solidFill>
                <a:latin typeface="Constantia"/>
              </a:rPr>
              <a:t>Опухолевидные образования придатков матки</a:t>
            </a: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2" name="Рисунок 8" descr="follikulyarnaya-kista.jpg"/>
          <p:cNvPicPr/>
          <p:nvPr/>
        </p:nvPicPr>
        <p:blipFill>
          <a:blip r:embed="rId1"/>
          <a:stretch/>
        </p:blipFill>
        <p:spPr>
          <a:xfrm>
            <a:off x="4192920" y="2379600"/>
            <a:ext cx="4739040" cy="36831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0" y="2174760"/>
            <a:ext cx="4211640" cy="46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Киста яичника – это ретенционное образование, возникшее вследствие накопления секрета в предсуществующей полости яич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е способные  к пролиферации, образуются в результате задержки избыточной жидкости в преформированных полостях и обусловливают значительное увеличение яич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731520"/>
            <a:ext cx="4852800" cy="63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меют округлую или овальную форму, тугоэластическую консистенцию с прозрачным жидкостным содержимым. Однокамерные, располагаются в основном сбоку и выше матки.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тенка состоит из соединительной ткани и мышечных пучков, изнутри киста выстлана цилиндрическим мерцательным, кубическим и плоским однорядным или многорядным эпителием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Если киста небольших размеров – не имеет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ожки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но при её росте происходит выпячивание одного из листков широкой связки матки и формируется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ожка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кисты. В состав такой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ожки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может входить маточная труба, иногда и собственная связка яичника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2" name="Рисунок 6" descr="foto-paraovarialnaya-kista-yaichnika.jpg"/>
          <p:cNvPicPr/>
          <p:nvPr/>
        </p:nvPicPr>
        <p:blipFill>
          <a:blip r:embed="rId1"/>
          <a:stretch/>
        </p:blipFill>
        <p:spPr>
          <a:xfrm>
            <a:off x="4860000" y="2421000"/>
            <a:ext cx="4217040" cy="340776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7"/>
          <p:cNvSpPr/>
          <p:nvPr/>
        </p:nvSpPr>
        <p:spPr>
          <a:xfrm>
            <a:off x="5033520" y="404640"/>
            <a:ext cx="38880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араовариальные ки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7640" y="1989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254880" indent="-254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линические симптомы чаще всего отсутствуют (обнаруживаются либо случайно либо при нарушении цикла, остром воспалении)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54880" indent="-254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явление болей и других жалоб имеет место вследствие развития осложнений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54880" indent="-254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1" lang="ru-RU" sz="2600" spc="-1" strike="noStrike" u="sng">
                <a:solidFill>
                  <a:srgbClr val="ffffff"/>
                </a:solidFill>
                <a:uFillTx/>
                <a:latin typeface="Constantia"/>
              </a:rPr>
              <a:t>Осложнения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линического течения кист: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5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- перекрут,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5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- кровоизлияние в стенку или просвет кисты,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5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- разрыв кисты,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5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- нагноение кисты.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5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5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67640" y="476640"/>
            <a:ext cx="8229240" cy="1425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 </a:t>
            </a: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Клиническая картина </a:t>
            </a:r>
            <a:r>
              <a:rPr b="0" lang="ru-RU" sz="3200" spc="-100" strike="noStrike">
                <a:solidFill>
                  <a:srgbClr val="f9f9f9"/>
                </a:solidFill>
                <a:latin typeface="Constantia"/>
              </a:rPr>
              <a:t>(фолликулярная </a:t>
            </a:r>
            <a:r>
              <a:rPr b="0" lang="ru-RU" sz="2800" spc="-100" strike="noStrike">
                <a:solidFill>
                  <a:srgbClr val="f9f9f9"/>
                </a:solidFill>
                <a:latin typeface="Constantia"/>
              </a:rPr>
              <a:t>киста</a:t>
            </a:r>
            <a:r>
              <a:rPr b="0" lang="ru-RU" sz="3200" spc="-100" strike="noStrike">
                <a:solidFill>
                  <a:srgbClr val="f9f9f9"/>
                </a:solidFill>
                <a:latin typeface="Constantia"/>
              </a:rPr>
              <a:t>, киста желтого тела, параовариальная)</a:t>
            </a: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1640" y="1484640"/>
            <a:ext cx="8568720" cy="51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новным и практическим единственным УЗ признаком параовариальных кист является 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визуализация отдельно расположенного яичника.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иста круглая или овальная, однокамерная. Её стенка тонкая (около 1мм). Содержимое кист в основном анэхогенное, однородное. Иногда встречается пристеночный компонент губчатой структуры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параовариальных кистах может определяться мелкодисперсная взвесь, смещаемая при перкуссии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ЦДК – аваскулярны. При динамическом наблюдении не подвергаются регрессии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Эхо-графическая картин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8" name="Picture 4" descr="https://pptcloud3.ams3.digitaloceanspaces.com/slides/pics/002/601/197/original/Slide26.jpg?1488858355"/>
          <p:cNvPicPr/>
          <p:nvPr/>
        </p:nvPicPr>
        <p:blipFill>
          <a:blip r:embed="rId1"/>
          <a:stretch/>
        </p:blipFill>
        <p:spPr>
          <a:xfrm>
            <a:off x="0" y="1836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7640" y="206100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перативное лечение в плановом порядке в объеме вылущивания кисты . Доступ – лапароскопия, лапаротомия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67640" y="54864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Тактика при параовариальной кисте яични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7640" y="1556640"/>
            <a:ext cx="8229240" cy="52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витие тека-лютеиновых кист яичников всегда обусловлено воздействием высокой концентрации хорионического гонадотропина (ХГ), вызывающего 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гиперстимуляцию фолликулов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ысокий уровень ХГ встречается при трофобластической болезни (пузырном заносе или хорионэпителиоме), поэтому у пациенток с заболеваниями трофобласта диагностируются текалютеиновые кисты яичников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Тека-лютеиновые кисты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5640" y="1090800"/>
            <a:ext cx="8280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marL="254520" indent="-2545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ногокамерные образования округлой или овальной формы, поверхность имеет дольчатое строение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54520" indent="-2545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вусторонняя локализация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54520" indent="-2545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тенка тонкая, гладкая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54520" indent="-2545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держимое -  прозрачная, янтарная или кровянистая жидкость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54520" indent="-2545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личные размеры, до 30 см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60640"/>
            <a:ext cx="8229240" cy="85464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Тека-лютеиновые кисты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5" name="Picture 5" descr="C:\Users\Admin\Desktop\Артур\tekalyuteinovaya_kista.jpg"/>
          <p:cNvPicPr/>
          <p:nvPr/>
        </p:nvPicPr>
        <p:blipFill>
          <a:blip r:embed="rId1"/>
          <a:stretch/>
        </p:blipFill>
        <p:spPr>
          <a:xfrm>
            <a:off x="611640" y="3429000"/>
            <a:ext cx="8064360" cy="3364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http://diagnoster.ru/wp-content/uploads/2016/09/Tekalyuteinovyie-kistyi.jpg"/>
          <p:cNvPicPr/>
          <p:nvPr/>
        </p:nvPicPr>
        <p:blipFill>
          <a:blip r:embed="rId2"/>
          <a:stretch/>
        </p:blipFill>
        <p:spPr>
          <a:xfrm>
            <a:off x="0" y="3383280"/>
            <a:ext cx="91436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514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2000"/>
          </a:bodyPr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линическая картина тека-лютеиновой кисты не выражена ввиду медленного роста новообразования. Перекруты и разрывы кист этого типа случаются крайне редко, поэтому и критические состояния пациенток отмечаются нечасто. Когда наблюдается сильная боль в животе, резкое снижение артериального давления, бледность, нарушение сердечного ритма, требуется неотложная госпитализация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зредка женщины жалуются на боль в области таза и сильный дискомфорт. В большинстве случаев это случается при больших размерах новообразований. Киста сдавливает соседние органы, провоцирует чувство распирания и давления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Если киста развивается одновременно с беременностью, пузырным заносом, хорионкарциномой или трофобластической опухолью, наблюдается размягчение и увеличение размеров матки. Течение беременности при тека-лютеиновой кисте не осложняется, размер матки и развитие плода соответствует срокам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Клинические проявления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7640" y="1700640"/>
            <a:ext cx="8229240" cy="492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ычно врачи выбирают тактику наблюдения. Часто кисты рассасываются сами после родов или излечения заболеваний, ставших их причиной — когда уровень ХГЧ приходит в норму. При этом пациентку всегда берут под особое наблюдение, возможно назначение консервативной терапии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перативное вмешательство назначается только при: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ложнениях, таких как перекрут или разрыв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одолжении заболевания после нормализации уровня ХГЧ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аще всего делают пункцию — прокол с вытягиванием жидкого наполнителя кисты с помощью длинной иглы. После этого полость кисты промывают и обрабатывают антибактериальными препаратами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Тактика ведения пациенток </a:t>
            </a:r>
            <a:br>
              <a:rPr sz="4200"/>
            </a:br>
            <a:r>
              <a:rPr b="0" lang="ru-RU" sz="2800" spc="-100" strike="noStrike">
                <a:solidFill>
                  <a:srgbClr val="f9f9f9"/>
                </a:solidFill>
                <a:latin typeface="Constantia"/>
              </a:rPr>
              <a:t>с тека-лютеиновыми кистами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7640" y="1412640"/>
            <a:ext cx="8218800" cy="218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254880" indent="-254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пухолевидное образование, с плотной белесоватой или синеватой капсулой, сквозь нее просвечивают участки сине-багрового цвета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54880" indent="-254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асто выявляются спайки эндометриоидной кисты с задней поверхностью матки, маточными трубами, брюшиной малого таза.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67640" y="332640"/>
            <a:ext cx="8229240" cy="96660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Эндометриоидная кист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3" name="Рисунок 5" descr="kista_en2.jpg"/>
          <p:cNvPicPr/>
          <p:nvPr/>
        </p:nvPicPr>
        <p:blipFill>
          <a:blip r:embed="rId1"/>
          <a:stretch/>
        </p:blipFill>
        <p:spPr>
          <a:xfrm>
            <a:off x="611640" y="3845160"/>
            <a:ext cx="3240000" cy="279288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5"/>
          <p:cNvSpPr/>
          <p:nvPr/>
        </p:nvSpPr>
        <p:spPr>
          <a:xfrm>
            <a:off x="4018320" y="3687840"/>
            <a:ext cx="5040360" cy="34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о мере скопления менструальной крови очаги превращаются в кистозные полости, наполненные густой жидкостью темно-коричневого («шоколадного») цв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Кисты как правило сращены с передней стенкой прямой кишки, задней поверхностью матки, тонким кишечником (выраженный спаечный процес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Содержимое 5" descr="Endometrioma-1.jpg"/>
          <p:cNvPicPr/>
          <p:nvPr/>
        </p:nvPicPr>
        <p:blipFill>
          <a:blip r:embed="rId1"/>
          <a:stretch/>
        </p:blipFill>
        <p:spPr>
          <a:xfrm>
            <a:off x="360" y="0"/>
            <a:ext cx="7236000" cy="48934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146" name="Рисунок 4" descr="FEM071.jpg"/>
          <p:cNvPicPr/>
          <p:nvPr/>
        </p:nvPicPr>
        <p:blipFill>
          <a:blip r:embed="rId2"/>
          <a:stretch/>
        </p:blipFill>
        <p:spPr>
          <a:xfrm>
            <a:off x="2709360" y="2637000"/>
            <a:ext cx="6408360" cy="42206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7640" y="1917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urier New"/>
              <a:buChar char="o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Фолликулярные (73%)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urier New"/>
              <a:buChar char="o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Жёлтого тела (5%)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urier New"/>
              <a:buChar char="o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араовариальные (10%)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urier New"/>
              <a:buChar char="o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Эндометриоидные (10%)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urier New"/>
              <a:buChar char="o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ека-лютеиновые (2%)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67640" y="548640"/>
            <a:ext cx="8229240" cy="114264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Классификация кист яичников</a:t>
            </a:r>
            <a:r>
              <a:rPr b="0" lang="en-US" sz="4200" spc="-100" strike="noStrike">
                <a:solidFill>
                  <a:srgbClr val="f9f9f9"/>
                </a:solidFill>
                <a:latin typeface="Constantia"/>
              </a:rPr>
              <a:t>: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Правая фигурная скобка 4"/>
          <p:cNvSpPr/>
          <p:nvPr/>
        </p:nvSpPr>
        <p:spPr>
          <a:xfrm>
            <a:off x="4644000" y="2059200"/>
            <a:ext cx="575640" cy="865440"/>
          </a:xfrm>
          <a:prstGeom prst="rightBrace">
            <a:avLst>
              <a:gd name="adj1" fmla="val 8333"/>
              <a:gd name="adj2" fmla="val 52160"/>
            </a:avLst>
          </a:prstGeom>
          <a:noFill/>
          <a:ln>
            <a:solidFill>
              <a:srgbClr val="fffff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5436000" y="2378520"/>
            <a:ext cx="3312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ФУНКЦИОН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7640" y="162864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257760" indent="-25776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т. — мелкие точечные очаги эндометриоза на поверхности яичников и на брюшине маточно-прямокишечного углубления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57760" indent="-25776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т. — односторонняя эндометриоидная киста диаметром не более 5-6 см, мелкие очаги эндометриоза на брюшине малого таза, спаечный процесс в области придатков матки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57760" indent="-25776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т. — эндометриоидные кисты обоих яичников (диаметр более 5-6 см), очаги эндометриоза на серозном покрове матки, маточных труб, брюшине малого таза, выраженный спаечный процесс;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57760" indent="-25776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4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т. — двусторонние кисты больших размеров с переходом процесса на соседние органы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Классификация эндометриоза</a:t>
            </a:r>
            <a:br>
              <a:rPr sz="4200"/>
            </a:b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яичников.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9640" y="1556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До определенного времени может не проявляться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о время менструаций в эндометриоидных кистах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/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гетеротопиях могут происходить микроперфорации. При попадании содержимого в брюшную полость в пат. процесс вовлекается брюшина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Болевой синдром (иррадиация в прямую кишку, поясницу, усиливаются накануне, при нагрузках и половых контактах и во время менструации) – ноющие, тупые.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Клиническая картин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Стрелка вниз 6"/>
          <p:cNvSpPr/>
          <p:nvPr/>
        </p:nvSpPr>
        <p:spPr>
          <a:xfrm>
            <a:off x="4213800" y="2062440"/>
            <a:ext cx="28764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tx1">
              <a:lumMod val="95000"/>
            </a:schemeClr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52" name="Стрелка вниз 7"/>
          <p:cNvSpPr/>
          <p:nvPr/>
        </p:nvSpPr>
        <p:spPr>
          <a:xfrm>
            <a:off x="4213800" y="4050360"/>
            <a:ext cx="28764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solidFill>
              <a:srgbClr val="7a856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39680" y="1340640"/>
            <a:ext cx="4752000" cy="52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 полости кисты определяется неоднородная жидкость с множественными гиперэхогенными включениями.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Часто выявляется двусторонность поражения и многокамерность.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 стенке при ЦДК регистрируется высокорезистентный кровоток.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Размер может достигать 15 см в  диаметре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пределяются неровные контуры и внутренние перегородки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67640" y="188640"/>
            <a:ext cx="8229240" cy="89460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Эхографическая картин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4885920" y="2061000"/>
            <a:ext cx="4038120" cy="32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07640" y="764640"/>
            <a:ext cx="9036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1" lang="ru-RU" sz="1900" spc="-1" strike="noStrike">
                <a:solidFill>
                  <a:srgbClr val="ffffff"/>
                </a:solidFill>
                <a:latin typeface="Constantia"/>
              </a:rPr>
              <a:t>Агонисты гонадотропин-рилизинг гормона </a:t>
            </a: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(Диферелин, Бусерелин, Люкрин и др.). Препараты из этой группы вводят женщину в состояние искусственной менопаузы. Месячные прекращаются, отмечаются приливы жара и иные признаки климакса. Курс лечения длится 3-6 . На фоне приема аГн-РГ отмечается уменьшение размера кисты до 50-70% или ее полный регресс;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1" lang="ru-RU" sz="1900" spc="-1" strike="noStrike">
                <a:solidFill>
                  <a:srgbClr val="ffffff"/>
                </a:solidFill>
                <a:latin typeface="Constantia"/>
              </a:rPr>
              <a:t>КОК</a:t>
            </a: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. Применяются средства на основе сильных гестагенов (Жанин, Марвелон, Регулон, Силуэт и др.). Курс лечения длится от 3 месяцев, может продолжаться длительное время в том случае, если женщина не планирует беременность. Схема терапии: 21+7 или в непрерывном режиме на 3 месяца. На фоне приема КОК идет уменьшение очагов в размерах и предупреждается появление новых кист;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1" lang="ru-RU" sz="1900" spc="-1" strike="noStrike">
                <a:solidFill>
                  <a:srgbClr val="ffffff"/>
                </a:solidFill>
                <a:latin typeface="Constantia"/>
              </a:rPr>
              <a:t>Гестагены. </a:t>
            </a: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Препараты на основе прогестерона (Дюфастон, Утрожестан) или иных гестагенов (Визанна, Норколут) назначаются курсом на 3-6 месяцев с 5-го по 25-й день цикла или непрерывно. Средства из этой группы снижают выработку эстрогена и способствуют уменьшению кисты в размерах;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1" lang="ru-RU" sz="1900" spc="-1" strike="noStrike">
                <a:solidFill>
                  <a:srgbClr val="ffffff"/>
                </a:solidFill>
                <a:latin typeface="Constantia"/>
              </a:rPr>
              <a:t>Модуляторы прогестероновых рецепторов</a:t>
            </a: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 (Эсмия). 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1" lang="ru-RU" sz="1900" spc="-1" strike="noStrike">
                <a:solidFill>
                  <a:srgbClr val="ffffff"/>
                </a:solidFill>
                <a:latin typeface="Constantia"/>
              </a:rPr>
              <a:t>Внутриматочная гормональная система </a:t>
            </a: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(Мирена). ВМС уменьшает пролиферацию тканей и способствует уменьшению очагов эндометриоза. Вводится в полость матки на 5 лет. 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200" spc="-100" strike="noStrike">
                <a:solidFill>
                  <a:srgbClr val="f9f9f9"/>
                </a:solidFill>
                <a:latin typeface="Constantia"/>
              </a:rPr>
              <a:t>Гормональные препараты</a:t>
            </a:r>
            <a:br>
              <a:rPr sz="4200"/>
            </a:b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7640" y="162864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вухэтапное ведение пациентки: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66040" indent="-2660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I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этап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– плановое оперативное лечение в объеме органосохраняющей операции (разделения спаек, вылущивания кисты, коагуляции капсулы кисты, редко резекции яичника)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66040" indent="-2660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II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этап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– медикаментозная гормональная терапия в непрерывном режиме до 6 мес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66040" indent="-2660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наличии осложнений (разрыв кисты) – оперативное лечение в экстренном порядке в объеме органосохраняющей операции. 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Тактика ведения пациентки с эндометриоидной кистой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79640" y="1340640"/>
            <a:ext cx="4187160" cy="316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Жидкость накапливается в полости в результате транссудации из кровеносных сосудов либо вследствие продолжающейся секреции её гранулёзным эпителием.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12760" y="116640"/>
            <a:ext cx="8229240" cy="89460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Фолликулярная кист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0" name="Рисунок 6" descr="follikulyarnaya-kista-yaichnika-risunok.jpg"/>
          <p:cNvPicPr/>
          <p:nvPr/>
        </p:nvPicPr>
        <p:blipFill>
          <a:blip r:embed="rId1"/>
          <a:stretch/>
        </p:blipFill>
        <p:spPr>
          <a:xfrm>
            <a:off x="4317840" y="1527480"/>
            <a:ext cx="4795560" cy="27360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5"/>
          <p:cNvSpPr/>
          <p:nvPr/>
        </p:nvSpPr>
        <p:spPr>
          <a:xfrm>
            <a:off x="179640" y="4565520"/>
            <a:ext cx="8712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озникают у женщин с эндокринно-обменными нарушениями, способствующими развитию гиперэстрогении и хронической анову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Фолликулярные кисты являются следствием не произошедшей овуляции и продолжающегося роста фоллику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7640" y="260640"/>
            <a:ext cx="4752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300" spc="-1" strike="noStrike" u="sng">
                <a:solidFill>
                  <a:srgbClr val="ffffff"/>
                </a:solidFill>
                <a:uFillTx/>
                <a:latin typeface="Constantia"/>
              </a:rPr>
              <a:t>Морфологически</a:t>
            </a:r>
            <a:r>
              <a:rPr b="1" lang="en-US" sz="2300" spc="-1" strike="noStrike" u="sng">
                <a:solidFill>
                  <a:srgbClr val="ffffff"/>
                </a:solidFill>
                <a:uFillTx/>
                <a:latin typeface="Constantia"/>
              </a:rPr>
              <a:t>:</a:t>
            </a:r>
            <a:r>
              <a:rPr b="1" lang="ru-RU" sz="2300" spc="-1" strike="noStrike" u="sng">
                <a:solidFill>
                  <a:srgbClr val="ffffff"/>
                </a:solidFill>
                <a:uFillTx/>
                <a:latin typeface="Constantia"/>
              </a:rPr>
              <a:t> </a:t>
            </a:r>
            <a:endParaRPr b="0" lang="ru-RU" sz="23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nstantia"/>
              </a:rPr>
              <a:t>Гладко- и тонкостенное образование, выстланное несколькими слоями фолликулярного эпителия. Кнаружи от которого располагается фиброзная соединительная ткань. Формируется в результате скопления жидкости в кистозно – атрезирующем фолликуле в результате гормональных нарушений.</a:t>
            </a:r>
            <a:endParaRPr b="0" lang="ru-RU" sz="23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3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4749480" y="764640"/>
            <a:ext cx="4336560" cy="35280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4"/>
          <p:cNvSpPr/>
          <p:nvPr/>
        </p:nvSpPr>
        <p:spPr>
          <a:xfrm>
            <a:off x="179640" y="4941000"/>
            <a:ext cx="91447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При гинекологическом исследовании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фолликулярная киста пальпируется сбоку или кпереди от матки, эластической консистенции, чаще односторонняя, округлая, с гладкой поверхностью, диаметром 5-6 см, подвижная, малоболезнен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48840" y="1444680"/>
            <a:ext cx="85032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0"/>
          </a:bodyPr>
          <a:p>
            <a:pPr marL="247680" indent="-2476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круглое, реже овальное, образование в структуре яичника, на фоне его неизмененной ткани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47680" indent="-2476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нутренняя поверхность гладкая, ровная, содержимое однородное. Содержимое анэхогенно, с высоким уровнем звукопроводимости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47680" indent="-2476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степенное уменьшение размеров при динамическом наблюдении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67640" y="32040"/>
            <a:ext cx="8229240" cy="114264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Эхографическая картин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7" name="Picture 2" descr="http://healthierworld.ru/img/ehonegativnoe-obrazovanie-v-yaichnike_1.jpg"/>
          <p:cNvPicPr/>
          <p:nvPr/>
        </p:nvPicPr>
        <p:blipFill>
          <a:blip r:embed="rId1"/>
          <a:stretch/>
        </p:blipFill>
        <p:spPr>
          <a:xfrm>
            <a:off x="496080" y="3285000"/>
            <a:ext cx="8208720" cy="34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51640" y="980640"/>
            <a:ext cx="8712720" cy="316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Являются результатом избыточного накопления жидкости в желтом теле, образующемся после овуляции.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Это образование округлой формы с более толстыми стенками, одностороннее, однокамерное. 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ри двуручном влагалищно-абдоминальном исследовании киста жёлтого тела располагается в основном сбоку или кзади от матки. Она округлой формы, подвижная, с гладкой поверхностью, эластической консистенции, диаметром от 3 до 8 см, может быть чувствительной при пальпации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Кисты желтого тела в 86,2% регрессируют в течение первых двух менструальных циклов.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67640" y="188640"/>
            <a:ext cx="8229240" cy="77760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Киста желтого тел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0" name="Рисунок 5" descr="удаление-кисты-желтого-тела.png"/>
          <p:cNvPicPr/>
          <p:nvPr/>
        </p:nvPicPr>
        <p:blipFill>
          <a:blip r:embed="rId1"/>
          <a:stretch/>
        </p:blipFill>
        <p:spPr>
          <a:xfrm>
            <a:off x="611640" y="4071600"/>
            <a:ext cx="3528000" cy="27633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6" descr="kista_zheltogo_tela_lechenie.png"/>
          <p:cNvPicPr/>
          <p:nvPr/>
        </p:nvPicPr>
        <p:blipFill>
          <a:blip r:embed="rId2"/>
          <a:stretch/>
        </p:blipFill>
        <p:spPr>
          <a:xfrm>
            <a:off x="4860000" y="4005000"/>
            <a:ext cx="3168000" cy="27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7640" y="1340640"/>
            <a:ext cx="4104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34000"/>
          </a:bodyPr>
          <a:p>
            <a:pPr marL="232920" indent="-2329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5000" spc="-1" strike="noStrike">
                <a:solidFill>
                  <a:srgbClr val="ffffff"/>
                </a:solidFill>
                <a:latin typeface="Constantia"/>
              </a:rPr>
              <a:t>Характеризуется большим разнообразием. Структура может быть полностью однородной и анэхогенной или иметь мелко- или среднеячеестое строение средней эхогенности.</a:t>
            </a:r>
            <a:endParaRPr b="0" lang="ru-RU" sz="5000" spc="-1" strike="noStrike">
              <a:solidFill>
                <a:srgbClr val="ffffff"/>
              </a:solidFill>
              <a:latin typeface="Constantia"/>
            </a:endParaRPr>
          </a:p>
          <a:p>
            <a:pPr marL="232920" indent="-2329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5000" spc="-1" strike="noStrike">
                <a:solidFill>
                  <a:srgbClr val="ffffff"/>
                </a:solidFill>
                <a:latin typeface="Constantia"/>
              </a:rPr>
              <a:t>В полости кисты определяются множественные перегородки неправильной формы, смещаемые при перкуссии ультразвуковым датчиком образования. </a:t>
            </a:r>
            <a:endParaRPr b="0" lang="ru-RU" sz="5000" spc="-1" strike="noStrike">
              <a:solidFill>
                <a:srgbClr val="ffffff"/>
              </a:solidFill>
              <a:latin typeface="Constantia"/>
            </a:endParaRPr>
          </a:p>
          <a:p>
            <a:pPr marL="232920" indent="-2329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5000" spc="-1" strike="noStrike">
                <a:solidFill>
                  <a:srgbClr val="ffffff"/>
                </a:solidFill>
                <a:latin typeface="Constantia"/>
              </a:rPr>
              <a:t>Могут визуализироваться плотные включения повышенной эхогенности – сгустки крови</a:t>
            </a:r>
            <a:endParaRPr b="0" lang="ru-RU" sz="5000" spc="-1" strike="noStrike">
              <a:solidFill>
                <a:srgbClr val="ffffff"/>
              </a:solidFill>
              <a:latin typeface="Constantia"/>
            </a:endParaRPr>
          </a:p>
          <a:p>
            <a:pPr marL="232920" indent="-2329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5000" spc="-1" strike="noStrike">
                <a:solidFill>
                  <a:srgbClr val="ffffff"/>
                </a:solidFill>
                <a:latin typeface="Constantia"/>
              </a:rPr>
              <a:t>В кисте имеется интенсивный кровоток по периферии с низким сосудистым сопротивлением</a:t>
            </a:r>
            <a:endParaRPr b="0" lang="ru-RU" sz="5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5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827640" y="260640"/>
            <a:ext cx="8019720" cy="92664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Эхографическая картин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tretch/>
        </p:blipFill>
        <p:spPr>
          <a:xfrm>
            <a:off x="4212000" y="2133000"/>
            <a:ext cx="47455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9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269280" indent="-2692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отсутствии осложнений – активно-выжидательная тактика (онконастороженность) в течение 3 менструальных циклов (на фоне гормональной терапии -Комбинированные оральные контрацептивы., противовоспалительной терапии и др.) – УЗИ ежемесячно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69280" indent="-2692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сохранении образования более 3 месяцев– оперативное лечение в плановом порядке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69280" indent="-2692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наличии осложнений – экстренное оперативное лечение в объеме на придатках в максимально консервативном объеме;  доступ предпочтительней лапароскопический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79640" y="274680"/>
            <a:ext cx="8964000" cy="114264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00" strike="noStrike">
                <a:solidFill>
                  <a:srgbClr val="f9f9f9"/>
                </a:solidFill>
                <a:latin typeface="Constantia"/>
              </a:rPr>
              <a:t>Тактика ведения пациенток с</a:t>
            </a:r>
            <a:br>
              <a:rPr sz="3000"/>
            </a:br>
            <a:r>
              <a:rPr b="0" lang="ru-RU" sz="3000" spc="-100" strike="noStrike">
                <a:solidFill>
                  <a:srgbClr val="f9f9f9"/>
                </a:solidFill>
                <a:latin typeface="Constantia"/>
              </a:rPr>
              <a:t>фолликулярными кистами и кистами желтых тел</a:t>
            </a:r>
            <a:endParaRPr b="0" lang="ru-RU" sz="3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79640" y="1340640"/>
            <a:ext cx="4176000" cy="30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Располагаются между листками широкой связки матки. Они возникают из зачатков мезонефрального протока (Вольфов проток), из надъяичникового придатка – эпиоофорона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Эпиоофорон представляет собой      эмбриональный остаток первичной почки, который обычно располагается в широкой маточной связке, между трубой и яичником.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21200" y="4464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Параовариальные кисты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9" name="Рисунок 5" descr="paraovarialnaya_kista_yaichnika.jpg"/>
          <p:cNvPicPr/>
          <p:nvPr/>
        </p:nvPicPr>
        <p:blipFill>
          <a:blip r:embed="rId1"/>
          <a:srcRect l="4070" t="0" r="7693" b="0"/>
          <a:stretch/>
        </p:blipFill>
        <p:spPr>
          <a:xfrm>
            <a:off x="4356000" y="1556640"/>
            <a:ext cx="4680360" cy="244800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5"/>
          <p:cNvSpPr/>
          <p:nvPr/>
        </p:nvSpPr>
        <p:spPr>
          <a:xfrm>
            <a:off x="251640" y="4861440"/>
            <a:ext cx="856872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араовариальная киста развивается в результате задержки секрета в просвете канальцев надъяичникового придат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Диагностируются в возрасте от 20 до 40 лет, но могут встречаться у девочек, а также в пуберта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aper</Template>
  <TotalTime>302</TotalTime>
  <Application>LibreOffice/7.4.7.2$Linux_X86_64 LibreOffice_project/40$Build-2</Application>
  <AppVersion>15.0000</AppVersion>
  <Words>1362</Words>
  <Paragraphs>115</Paragraphs>
  <Company>*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17T11:30:08Z</dcterms:created>
  <dc:creator>Admin</dc:creator>
  <dc:description/>
  <dc:language>en-US</dc:language>
  <cp:lastModifiedBy>Admin</cp:lastModifiedBy>
  <dcterms:modified xsi:type="dcterms:W3CDTF">2019-02-17T20:57:11Z</dcterms:modified>
  <cp:revision>29</cp:revision>
  <dc:subject/>
  <dc:title>Опухолевидные образования придатков мат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24</vt:r8>
  </property>
</Properties>
</file>