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8.wmf" ContentType="image/x-wmf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B1B871-5E64-4B26-B656-82CF3750D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474386-364D-42F9-A0B8-1467DE8EC0B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58CC-9E47-4EA0-89A2-B3657F88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F5C1-123C-434D-A3B9-672C858E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C30A-4461-4804-8BFE-FF94DA53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7C31-B228-40E5-B849-155246B7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5DC7F-4FF1-405B-A663-5DC428B4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D5C38-21F4-4140-96A4-A3E64032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2F2D0-1082-44A4-8C9A-2B19223A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7F179-93EB-4F99-B1A9-B63F933F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69A72-47FD-4B99-ACAF-0E865F3C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3EB95-4D79-4D92-BF71-78FAB7A7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BDAF9-8ABA-489C-95DF-81AD8CE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E4AF-3F3B-4DA0-BF41-272B50E3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611C9-9998-4B42-9202-0DF1AFF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0D6EF-6CD8-40C6-BB76-1A326E01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5FC09-5792-469B-A69F-2BE891CE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918F8-5B64-405C-9EA2-0AD8EF81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ACAC0-5F8A-44AD-8C0E-6A848524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6E9E-D39E-458B-ADB8-130BB840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F12A-C810-4E9D-BF99-6CBCF9D0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B99E-34BA-4BA5-A554-142E13E8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A5AB-98BB-416A-BBC7-E4A5FE0C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16A2-460A-4C91-A308-56F4D08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0506-8999-4B76-93C4-7502CD2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0A26-6431-460B-BA22-F28E50E5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8A3B506-3ABC-4ABC-B5BB-472224485A2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170189-A6D5-4F58-B502-67C52583FD7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6480" y="476640"/>
            <a:ext cx="8712720" cy="1469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00" strike="noStrike">
                <a:solidFill>
                  <a:srgbClr val="f9f9f9"/>
                </a:solidFill>
                <a:latin typeface="Constantia"/>
              </a:rPr>
              <a:t>Опухолевидные образования придатков матки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2" name="Рисунок 8" descr="follikulyarnaya-kista.jpg"/>
          <p:cNvPicPr/>
          <p:nvPr/>
        </p:nvPicPr>
        <p:blipFill>
          <a:blip r:embed="rId1"/>
          <a:stretch/>
        </p:blipFill>
        <p:spPr>
          <a:xfrm>
            <a:off x="4192920" y="2379600"/>
            <a:ext cx="4739040" cy="3683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0" y="2174760"/>
            <a:ext cx="421164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иста яичника – это ретенционное образование, возникшее вследствие накопления секрета в предсуществующей полости яи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способные  к пролиферации, образуются в результате задержки избыточной жидкости в преформированных полостях и обусловливают значительное увеличение яи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731520"/>
            <a:ext cx="4852800" cy="63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меют округлую или овальную форму, тугоэластическую консистенцию с прозрачным жидкостным содержимым. Однокамерные, располагаются в основном сбоку и выше матк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енка состоит из соединительной ткани и мышечных пучков, изнутри киста выстлана цилиндрическим мерцательным, кубическим и плоским однорядным или многорядным эпителием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сли киста небольших размеров – не имеет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жки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но при её росте происходит выпячивание одного из листков широкой связки матки и формируется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жк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кисты. В состав такой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жки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может входить маточная труба, иногда и собственная связка яичника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Рисунок 6" descr="foto-paraovarialnaya-kista-yaichnika.jpg"/>
          <p:cNvPicPr/>
          <p:nvPr/>
        </p:nvPicPr>
        <p:blipFill>
          <a:blip r:embed="rId1"/>
          <a:stretch/>
        </p:blipFill>
        <p:spPr>
          <a:xfrm>
            <a:off x="4860000" y="2421000"/>
            <a:ext cx="4217040" cy="34077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7"/>
          <p:cNvSpPr/>
          <p:nvPr/>
        </p:nvSpPr>
        <p:spPr>
          <a:xfrm>
            <a:off x="5033520" y="404640"/>
            <a:ext cx="3888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араовариальные к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инические симптомы чаще всего отсутствуют (обнаруживаются либо случайно либо при нарушении цикла, остром воспалении)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явление болей и других жалоб имеет место вследствие развития осложнений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Осложнени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инического течения кист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перекрут,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кровоизлияние в стенку или просвет кисты,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разрыв кисты,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нагноение кисты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425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 </a:t>
            </a: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иническая картина </a:t>
            </a:r>
            <a:r>
              <a:rPr b="0" lang="ru-RU" sz="3200" spc="-100" strike="noStrike">
                <a:solidFill>
                  <a:srgbClr val="f9f9f9"/>
                </a:solidFill>
                <a:latin typeface="Constantia"/>
              </a:rPr>
              <a:t>(фолликулярная </a:t>
            </a:r>
            <a:r>
              <a:rPr b="0" lang="ru-RU" sz="2800" spc="-100" strike="noStrike">
                <a:solidFill>
                  <a:srgbClr val="f9f9f9"/>
                </a:solidFill>
                <a:latin typeface="Constantia"/>
              </a:rPr>
              <a:t>киста</a:t>
            </a:r>
            <a:r>
              <a:rPr b="0" lang="ru-RU" sz="3200" spc="-100" strike="noStrike">
                <a:solidFill>
                  <a:srgbClr val="f9f9f9"/>
                </a:solidFill>
                <a:latin typeface="Constantia"/>
              </a:rPr>
              <a:t>, киста желтого тела, параовариальная)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1640" y="1484640"/>
            <a:ext cx="856872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новным и практическим единственным УЗ признаком параовариальных кист является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изуализация отдельно расположенного яичника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иста круглая или овальная, однокамерная. Её стенка тонкая (около 1мм). Содержимое кист в основном анэхогенное, однородное. Иногда встречается пристеночный компонент губчатой структуры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араовариальных кистах может определяться мелкодисперсная взвесь, смещаемая при перкуссии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ЦДК – аваскулярны. При динамическом наблюдении не подвергаются регресси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хо-граф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4" descr="https://pptcloud3.ams3.digitaloceanspaces.com/slides/pics/002/601/197/original/Slide26.jpg?1488858355"/>
          <p:cNvPicPr/>
          <p:nvPr/>
        </p:nvPicPr>
        <p:blipFill>
          <a:blip r:embed="rId1"/>
          <a:stretch/>
        </p:blipFill>
        <p:spPr>
          <a:xfrm>
            <a:off x="0" y="1836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7640" y="20610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еративное лечение в плановом порядке в объеме вылущивания кисты . Доступ – лапароскопия, лапаротом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актика при параовариальной кисте яични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7640" y="1556640"/>
            <a:ext cx="8229240" cy="52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витие тека-лютеиновых кист яичников всегда обусловлено воздействием высокой концентрации хорионического гонадотропина (ХГ), вызывающего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иперстимуляцию фолликулов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сокий уровень ХГ встречается при трофобластической болезни (пузырном заносе или хорионэпителиоме), поэтому у пациенток с заболеваниями трофобласта диагностируются текалютеиновые кисты яичников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ека-лютеиновые кисты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640" y="1090800"/>
            <a:ext cx="8280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ногокамерные образования округлой или овальной формы, поверхность имеет дольчатое строени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вусторонняя локализац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енка тонкая, гладка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держимое -  прозрачная, янтарная или кровянистая жидкость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ные размеры, до 30 см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854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ека-лютеиновые кисты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5" descr="C:\Users\Admin\Desktop\Артур\tekalyuteinovaya_kista.jpg"/>
          <p:cNvPicPr/>
          <p:nvPr/>
        </p:nvPicPr>
        <p:blipFill>
          <a:blip r:embed="rId1"/>
          <a:stretch/>
        </p:blipFill>
        <p:spPr>
          <a:xfrm>
            <a:off x="611640" y="3429000"/>
            <a:ext cx="8064360" cy="336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ttp://diagnoster.ru/wp-content/uploads/2016/09/Tekalyuteinovyie-kistyi.jpg"/>
          <p:cNvPicPr/>
          <p:nvPr/>
        </p:nvPicPr>
        <p:blipFill>
          <a:blip r:embed="rId2"/>
          <a:stretch/>
        </p:blipFill>
        <p:spPr>
          <a:xfrm>
            <a:off x="0" y="3383280"/>
            <a:ext cx="9143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14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иническая картина тека-лютеиновой кисты не выражена ввиду медленного роста новообразования. Перекруты и разрывы кист этого типа случаются крайне редко, поэтому и критические состояния пациенток отмечаются нечасто. Когда наблюдается сильная боль в животе, резкое снижение артериального давления, бледность, нарушение сердечного ритма, требуется неотложная госпитализац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редка женщины жалуются на боль в области таза и сильный дискомфорт. В большинстве случаев это случается при больших размерах новообразований. Киста сдавливает соседние органы, провоцирует чувство распирания и давлен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сли киста развивается одновременно с беременностью, пузырным заносом, хорионкарциномой или трофобластической опухолью, наблюдается размягчение и увеличение размеров матки. Течение беременности при тека-лютеиновой кисте не осложняется, размер матки и развитие плода соответствует срокам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инические проявления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700640"/>
            <a:ext cx="8229240" cy="492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ычно врачи выбирают тактику наблюдения. Часто кисты рассасываются сами после родов или излечения заболеваний, ставших их причиной — когда уровень ХГЧ приходит в норму. При этом пациентку всегда берут под особое наблюдение, возможно назначение консервативной терапи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еративное вмешательство назначается только при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ложнениях, таких как перекрут или разрыв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должении заболевания после нормализации уровня ХГЧ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ще всего делают пункцию — прокол с вытягиванием жидкого наполнителя кисты с помощью длинной иглы. После этого полость кисты промывают и обрабатывают антибактериальными препаратам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актика ведения пациенток </a:t>
            </a:r>
            <a:br>
              <a:rPr sz="4200"/>
            </a:br>
            <a:r>
              <a:rPr b="0" lang="ru-RU" sz="2800" spc="-100" strike="noStrike">
                <a:solidFill>
                  <a:srgbClr val="f9f9f9"/>
                </a:solidFill>
                <a:latin typeface="Constantia"/>
              </a:rPr>
              <a:t>с тека-лютеиновыми кистами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1412640"/>
            <a:ext cx="8218800" cy="218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ухолевидное образование, с плотной белесоватой или синеватой капсулой, сквозь нее просвечивают участки сине-багрового цвета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-254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о выявляются спайки эндометриоидной кисты с задней поверхностью матки, маточными трубами, брюшиной малого таза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966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ндометриоидная кист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3" name="Рисунок 5" descr="kista_en2.jpg"/>
          <p:cNvPicPr/>
          <p:nvPr/>
        </p:nvPicPr>
        <p:blipFill>
          <a:blip r:embed="rId1"/>
          <a:stretch/>
        </p:blipFill>
        <p:spPr>
          <a:xfrm>
            <a:off x="611640" y="3845160"/>
            <a:ext cx="3240000" cy="27928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4018320" y="3687840"/>
            <a:ext cx="504036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 мере скопления менструальной крови очаги превращаются в кистозные полости, наполненные густой жидкостью темно-коричневого («шоколадного») 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исты как правило сращены с передней стенкой прямой кишки, задней поверхностью матки, тонким кишечником (выраженный спаечный процес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одержимое 5" descr="Endometrioma-1.jpg"/>
          <p:cNvPicPr/>
          <p:nvPr/>
        </p:nvPicPr>
        <p:blipFill>
          <a:blip r:embed="rId1"/>
          <a:stretch/>
        </p:blipFill>
        <p:spPr>
          <a:xfrm>
            <a:off x="360" y="0"/>
            <a:ext cx="7236000" cy="4893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46" name="Рисунок 4" descr="FEM071.jpg"/>
          <p:cNvPicPr/>
          <p:nvPr/>
        </p:nvPicPr>
        <p:blipFill>
          <a:blip r:embed="rId2"/>
          <a:stretch/>
        </p:blipFill>
        <p:spPr>
          <a:xfrm>
            <a:off x="2709360" y="2637000"/>
            <a:ext cx="6408360" cy="4220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7640" y="1917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олликулярные (73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ёлтого тела (5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араовариальные (10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ндометриоидные (10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ка-лютеиновые (2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ассификация кист яичников</a:t>
            </a:r>
            <a:r>
              <a:rPr b="0" lang="en-US" sz="4200" spc="-100" strike="noStrike">
                <a:solidFill>
                  <a:srgbClr val="f9f9f9"/>
                </a:solidFill>
                <a:latin typeface="Constantia"/>
              </a:rPr>
              <a:t>: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Правая фигурная скобка 4"/>
          <p:cNvSpPr/>
          <p:nvPr/>
        </p:nvSpPr>
        <p:spPr>
          <a:xfrm>
            <a:off x="4644000" y="2059200"/>
            <a:ext cx="575640" cy="865440"/>
          </a:xfrm>
          <a:prstGeom prst="rightBrace">
            <a:avLst>
              <a:gd name="adj1" fmla="val 8333"/>
              <a:gd name="adj2" fmla="val 52160"/>
            </a:avLst>
          </a:prstGeom>
          <a:noFill/>
          <a:ln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5436000" y="2378520"/>
            <a:ext cx="3312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ФУНКЦИОН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7640" y="162864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. — мелкие точечные очаги эндометриоза на поверхности яичников и на брюшине маточно-прямокишечного углубления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7760" indent="-2577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. — односторонняя эндометриоидная киста диаметром не более 5-6 см, мелкие очаги эндометриоза на брюшине малого таза, спаечный процесс в области придатков матки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7760" indent="-2577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. — эндометриоидные кисты обоих яичников (диаметр более 5-6 см), очаги эндометриоза на серозном покрове матки, маточных труб, брюшине малого таза, выраженный спаечный процесс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7760" indent="-2577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. — двусторонние кисты больших размеров с переходом процесса на соседние органы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ассификация эндометриоза</a:t>
            </a:r>
            <a:br>
              <a:rPr sz="4200"/>
            </a:b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яичников.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о определенного времени может не проявляться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 время менструаций в эндометриоидных кистах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етеротопиях могут происходить микроперфорации. При попадании содержимого в брюшную полость в пат. процесс вовлекается брюшина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олевой синдром (иррадиация в прямую кишку, поясницу, усиливаются накануне, при нагрузках и половых контактах и во время менструации) – ноющие, тупые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ин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Стрелка вниз 6"/>
          <p:cNvSpPr/>
          <p:nvPr/>
        </p:nvSpPr>
        <p:spPr>
          <a:xfrm>
            <a:off x="4213800" y="2062440"/>
            <a:ext cx="287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1">
              <a:lumMod val="95000"/>
            </a:schemeClr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2" name="Стрелка вниз 7"/>
          <p:cNvSpPr/>
          <p:nvPr/>
        </p:nvSpPr>
        <p:spPr>
          <a:xfrm>
            <a:off x="4213800" y="4050360"/>
            <a:ext cx="287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9680" y="1340640"/>
            <a:ext cx="4752000" cy="52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полости кисты определяется неоднородная жидкость с множественными гиперэхогенными включениями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асто выявляется двусторонность поражения и многокамерность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стенке при ЦДК регистрируется высокорезистентный кровоток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азмер может достигать 15 см в  диаметре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пределяются неровные контуры и внутренние перегородки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894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хограф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4885920" y="2061000"/>
            <a:ext cx="403812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7640" y="764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Агонисты гонадотропин-рилизинг гормона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(Диферелин, Бусерелин, Люкрин и др.). Препараты из этой группы вводят женщину в состояние искусственной менопаузы. Месячные прекращаются, отмечаются приливы жара и иные признаки климакса. Курс лечения длится 3-6 . На фоне приема аГн-РГ отмечается уменьшение размера кисты до 50-70% или ее полный регресс;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КОК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. Применяются средства на основе сильных гестагенов (Жанин, Марвелон, Регулон, Силуэт и др.). Курс лечения длится от 3 месяцев, может продолжаться длительное время в том случае, если женщина не планирует беременность. Схема терапии: 21+7 или в непрерывном режиме на 3 месяца. На фоне приема КОК идет уменьшение очагов в размерах и предупреждается появление новых кист;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Гестагены.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Препараты на основе прогестерона (Дюфастон, Утрожестан) или иных гестагенов (Визанна, Норколут) назначаются курсом на 3-6 месяцев с 5-го по 25-й день цикла или непрерывно. Средства из этой группы снижают выработку эстрогена и способствуют уменьшению кисты в размерах;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Модуляторы прогестероновых рецепторов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(Эсмия). 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Внутриматочная гормональная система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(Мирена). ВМС уменьшает пролиферацию тканей и способствует уменьшению очагов эндометриоза. Вводится в полость матки на 5 лет. 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f9f9f9"/>
                </a:solidFill>
                <a:latin typeface="Constantia"/>
              </a:rPr>
              <a:t>Гормональные препараты</a:t>
            </a:r>
            <a:br>
              <a:rPr sz="4200"/>
            </a:b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7640" y="162864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вухэтапное ведение пациентки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этап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– плановое оперативное лечение в объеме органосохраняющей операции (разделения спаек, вылущивания кисты, коагуляции капсулы кисты, редко резекции яичника)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I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этап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медикаментозная гормональная терапия в непрерывном режиме до 6 мес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наличии осложнений (разрыв кисты) – оперативное лечение в экстренном порядке в объеме органосохраняющей операци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актика ведения пациентки с эндометриоидной кистой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640" y="1340640"/>
            <a:ext cx="4187160" cy="31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Жидкость накапливается в полости в результате транссудации из кровеносных сосудов либо вследствие продолжающейся секреции её гранулёзным эпителием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12760" y="116640"/>
            <a:ext cx="8229240" cy="894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Фолликулярная кист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0" name="Рисунок 6" descr="follikulyarnaya-kista-yaichnika-risunok.jpg"/>
          <p:cNvPicPr/>
          <p:nvPr/>
        </p:nvPicPr>
        <p:blipFill>
          <a:blip r:embed="rId1"/>
          <a:stretch/>
        </p:blipFill>
        <p:spPr>
          <a:xfrm>
            <a:off x="4317840" y="1527480"/>
            <a:ext cx="4795560" cy="2736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179640" y="4565520"/>
            <a:ext cx="871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никают у женщин с эндокринно-обменными нарушениями, способствующими развитию гиперэстрогении и хронической анов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Фолликулярные кисты являются следствием не произошедшей овуляции и продолжающегося роста фоллик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7640" y="260640"/>
            <a:ext cx="4752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300" spc="-1" strike="noStrike" u="sng">
                <a:solidFill>
                  <a:srgbClr val="ffffff"/>
                </a:solidFill>
                <a:uFillTx/>
                <a:latin typeface="Constantia"/>
              </a:rPr>
              <a:t>Морфологически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Constantia"/>
              </a:rPr>
              <a:t>: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endParaRPr b="0" lang="ru-RU" sz="23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Гладко- и тонкостенное образование, выстланное несколькими слоями фолликулярного эпителия. Кнаружи от которого располагается фиброзная соединительная ткань. Формируется в результате скопления жидкости в кистозно – атрезирующем фолликуле в результате гормональных нарушений.</a:t>
            </a:r>
            <a:endParaRPr b="0" lang="ru-RU" sz="23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749480" y="764640"/>
            <a:ext cx="4336560" cy="352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179640" y="4941000"/>
            <a:ext cx="9144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и гинекологическом исследовании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фолликулярная киста пальпируется сбоку или кпереди от матки, эластической консистенции, чаще односторонняя, округлая, с гладкой поверхностью, диаметром 5-6 см, подвижная, малоболезн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48840" y="1444680"/>
            <a:ext cx="85032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круглое, реже овальное, образование в структуре яичника, на фоне его неизмененной ткан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енняя поверхность гладкая, ровная, содержимое однородное. Содержимое анэхогенно, с высоким уровнем звукопроводимост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епенное уменьшение размеров при динамическом наблюдени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67640" y="32040"/>
            <a:ext cx="822924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хограф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7" name="Picture 2" descr="http://healthierworld.ru/img/ehonegativnoe-obrazovanie-v-yaichnike_1.jpg"/>
          <p:cNvPicPr/>
          <p:nvPr/>
        </p:nvPicPr>
        <p:blipFill>
          <a:blip r:embed="rId1"/>
          <a:stretch/>
        </p:blipFill>
        <p:spPr>
          <a:xfrm>
            <a:off x="496080" y="3285000"/>
            <a:ext cx="820872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1640" y="980640"/>
            <a:ext cx="8712720" cy="31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Являются результатом избыточного накопления жидкости в желтом теле, образующемся после овуляции.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Это образование округлой формы с более толстыми стенками, одностороннее, однокамерное.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 двуручном влагалищно-абдоминальном исследовании киста жёлтого тела располагается в основном сбоку или кзади от матки. Она округлой формы, подвижная, с гладкой поверхностью, эластической консистенции, диаметром от 3 до 8 см, может быть чувствительной при пальпации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исты желтого тела в 86,2% регрессируют в течение первых двух менструальных циклов.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777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иста желтого тел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Рисунок 5" descr="удаление-кисты-желтого-тела.png"/>
          <p:cNvPicPr/>
          <p:nvPr/>
        </p:nvPicPr>
        <p:blipFill>
          <a:blip r:embed="rId1"/>
          <a:stretch/>
        </p:blipFill>
        <p:spPr>
          <a:xfrm>
            <a:off x="611640" y="4071600"/>
            <a:ext cx="3528000" cy="27633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kista_zheltogo_tela_lechenie.png"/>
          <p:cNvPicPr/>
          <p:nvPr/>
        </p:nvPicPr>
        <p:blipFill>
          <a:blip r:embed="rId2"/>
          <a:stretch/>
        </p:blipFill>
        <p:spPr>
          <a:xfrm>
            <a:off x="4860000" y="4005000"/>
            <a:ext cx="3168000" cy="27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7640" y="1340640"/>
            <a:ext cx="410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4000"/>
          </a:bodyPr>
          <a:p>
            <a:pPr marL="232920" indent="-232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5000" spc="-1" strike="noStrike">
                <a:solidFill>
                  <a:srgbClr val="ffffff"/>
                </a:solidFill>
                <a:latin typeface="Constantia"/>
              </a:rPr>
              <a:t>Характеризуется большим разнообразием. Структура может быть полностью однородной и анэхогенной или иметь мелко- или среднеячеестое строение средней эхогенности.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marL="232920" indent="-232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5000" spc="-1" strike="noStrike">
                <a:solidFill>
                  <a:srgbClr val="ffffff"/>
                </a:solidFill>
                <a:latin typeface="Constantia"/>
              </a:rPr>
              <a:t>В полости кисты определяются множественные перегородки неправильной формы, смещаемые при перкуссии ультразвуковым датчиком образования. 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marL="232920" indent="-232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5000" spc="-1" strike="noStrike">
                <a:solidFill>
                  <a:srgbClr val="ffffff"/>
                </a:solidFill>
                <a:latin typeface="Constantia"/>
              </a:rPr>
              <a:t>Могут визуализироваться плотные включения повышенной эхогенности – сгустки крови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marL="232920" indent="-232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5000" spc="-1" strike="noStrike">
                <a:solidFill>
                  <a:srgbClr val="ffffff"/>
                </a:solidFill>
                <a:latin typeface="Constantia"/>
              </a:rPr>
              <a:t>В кисте имеется интенсивный кровоток по периферии с низким сосудистым сопротивлением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27640" y="260640"/>
            <a:ext cx="8019720" cy="926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хограф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4212000" y="2133000"/>
            <a:ext cx="47455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отсутствии осложнений – активно-выжидательная тактика (онконастороженность) в течение 3 менструальных циклов (на фоне гормональной терапии -Комбинированные оральные контрацептивы., противовоспалительной терапии и др.) – УЗИ ежемесячно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сохранении образования более 3 месяцев– оперативное лечение в плановом порядк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наличии осложнений – экстренное оперативное лечение в объеме на придатках в максимально консервативном объеме;  доступ предпочтительней лапароскопический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79640" y="274680"/>
            <a:ext cx="896400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00" strike="noStrike">
                <a:solidFill>
                  <a:srgbClr val="f9f9f9"/>
                </a:solidFill>
                <a:latin typeface="Constantia"/>
              </a:rPr>
              <a:t>Тактика ведения пациенток с</a:t>
            </a:r>
            <a:br>
              <a:rPr sz="3000"/>
            </a:br>
            <a:r>
              <a:rPr b="0" lang="ru-RU" sz="3000" spc="-100" strike="noStrike">
                <a:solidFill>
                  <a:srgbClr val="f9f9f9"/>
                </a:solidFill>
                <a:latin typeface="Constantia"/>
              </a:rPr>
              <a:t>фолликулярными кистами и кистами желтых тел</a:t>
            </a:r>
            <a:endParaRPr b="0" lang="ru-RU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640" y="1340640"/>
            <a:ext cx="4176000" cy="30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сполагаются между листками широкой связки матки. Они возникают из зачатков мезонефрального протока (Вольфов проток), из надъяичникового придатка – эпиоофорон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пиоофорон представляет собой      эмбриональный остаток первичной почки, который обычно располагается в широкой маточной связке, между трубой и яичником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21200" y="44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Параовариальные кисты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Рисунок 5" descr="paraovarialnaya_kista_yaichnika.jpg"/>
          <p:cNvPicPr/>
          <p:nvPr/>
        </p:nvPicPr>
        <p:blipFill>
          <a:blip r:embed="rId1"/>
          <a:srcRect l="4070" t="0" r="7693" b="0"/>
          <a:stretch/>
        </p:blipFill>
        <p:spPr>
          <a:xfrm>
            <a:off x="4356000" y="1556640"/>
            <a:ext cx="4680360" cy="244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251640" y="4861440"/>
            <a:ext cx="8568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раовариальная киста развивается в результате задержки секрета в просвете канальцев надъяичникового придат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иагностируются в возрасте от 20 до 40 лет, но могут встречаться у девочек, а также в пуберт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302</TotalTime>
  <Application>LibreOffice/7.4.7.2$Linux_X86_64 LibreOffice_project/40$Build-2</Application>
  <AppVersion>15.0000</AppVersion>
  <Words>1362</Words>
  <Paragraphs>115</Paragraphs>
  <Company>*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7T11:30:08Z</dcterms:created>
  <dc:creator>Admin</dc:creator>
  <dc:description/>
  <dc:language>en-US</dc:language>
  <cp:lastModifiedBy>Admin</cp:lastModifiedBy>
  <dcterms:modified xsi:type="dcterms:W3CDTF">2019-02-17T20:57:11Z</dcterms:modified>
  <cp:revision>29</cp:revision>
  <dc:subject/>
  <dc:title>Опухолевидные образования придатков ма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