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157-159D-4526-A03F-2C9DE9FB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A4C-F107-4E0F-90F1-53652CBC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EB9-F9FA-4CC5-AB64-5F35EE9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B02-0090-4F25-91C2-6CC4D72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E1F-32F3-4E5F-8423-F114FDCF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52C4-55AA-45AB-BAB0-240A0610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CB0A-B114-48DB-BD8F-AAF5473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2B63-1A8C-455B-A27B-5B3E581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259-F854-4BBB-989F-6EB1776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4E23-472D-46D0-A5E6-A5A847F1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E16-B565-49B1-9BE1-3BC1A4B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561-0D11-486D-BAD8-E235A822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395-BAC7-4096-A165-BE115DD4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CC71-7787-4199-9783-3A1549E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4A0-6533-41D2-A3C9-E568665B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865C-245F-4AC2-9EB2-C90B9EB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F2BC-1341-464E-AB80-2D4BAEB3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3BC4-C924-4CC4-8E22-4317D0F9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C4D2-54D2-4FE4-8A5F-04B6A8A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F26E-8D0D-4F2A-A7C8-3DDEDE3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01A2-5926-4705-B32D-121BBB2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9D0F-A40F-474D-8E7C-D4B62845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2AD-07D0-48C8-94C0-297EC94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F338-D659-49D1-A8D5-273A2235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3471-17C9-4590-B299-720EC4B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277E-2E0B-47F0-B2AE-8A7C1230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83D2-424C-46CF-8652-BCC8B70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E0DD-3A91-41D3-BEFB-6D91631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B82B-604F-4EE7-837C-C90E6236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B4E3-281B-4812-AE24-68E4FC3C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00D-41D4-458C-848B-2CE718D5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F98-2127-4D40-B995-6DCF130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AED-E4F9-40F2-85FF-385F417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F2-0B1D-4A29-8A80-A7BE6BCD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A82-B563-4CE3-BB00-99EDD27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D63-37AE-4FE2-81CF-CC64AA7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557160" y="631080"/>
            <a:ext cx="5235120" cy="5229000"/>
          </a:xfrm>
          <a:custGeom>
            <a:avLst/>
            <a:gdLst>
              <a:gd name="textAreaLeft" fmla="*/ 0 w 5235120"/>
              <a:gd name="textAreaRight" fmla="*/ 5235480 w 5235120"/>
              <a:gd name="textAreaTop" fmla="*/ 0 h 5229000"/>
              <a:gd name="textAreaBottom" fmla="*/ 5229360 h 5229000"/>
            </a:gdLst>
            <a:ahLst/>
            <a:rect l="textAreaLeft" t="textAreaTop" r="textAreaRight" b="textAreaBottom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2a1a00"/>
                </a:solidFill>
                <a:latin typeface="Impact"/>
              </a:rPr>
              <a:t>Образец заголовка</a:t>
            </a:r>
            <a:endParaRPr b="0" lang="ru-RU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7856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8032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67320" y="6375600"/>
            <a:ext cx="23292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4C6BE6-E9D7-41C5-99F5-E884E044EC2D}" type="slidenum">
              <a: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20A29C-6C0E-4371-9AA5-37D7E6802A74}" type="slidenum"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Образец заголовка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57480" y="2286000"/>
            <a:ext cx="4800240" cy="36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ru-RU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647760" y="2286000"/>
            <a:ext cx="4800240" cy="36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ru-RU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46B4BC-60C7-4931-B367-3F4B669B34CD}" type="slidenum"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&#1042;.&#1057;.&#1051;&#1103;&#1096;&#1077;&#1085;&#1082;&#1086;.docx" TargetMode="External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&#1057;.&#1055;.&#1050;&#1086;&#1088;&#1086;&#1083;&#1105;&#1074;.docx" TargetMode="External"/><Relationship Id="rId2" Type="http://schemas.openxmlformats.org/officeDocument/2006/relationships/image" Target="../media/image14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&#1040;.&#1048;.&#1051;&#1077;&#1081;&#1087;&#1091;&#1085;&#1089;&#1082;&#1080;&#1081;.docx" TargetMode="Externa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in/&#1060;.&#1046;&#1086;&#1083;&#1080;&#1086;-&#1050;&#1102;&#1088;&#1080;.docx" TargetMode="External"/><Relationship Id="rId2" Type="http://schemas.openxmlformats.org/officeDocument/2006/relationships/image" Target="../media/image16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" Target="slide13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7.png"/><Relationship Id="rId11" Type="http://schemas.openxmlformats.org/officeDocument/2006/relationships/slide" Target="slide11.xml"/><Relationship Id="rId12" Type="http://schemas.openxmlformats.org/officeDocument/2006/relationships/image" Target="../media/image7.png"/><Relationship Id="rId13" Type="http://schemas.openxmlformats.org/officeDocument/2006/relationships/slide" Target="slide10.xml"/><Relationship Id="rId14" Type="http://schemas.openxmlformats.org/officeDocument/2006/relationships/image" Target="../media/image7.png"/><Relationship Id="rId15" Type="http://schemas.openxmlformats.org/officeDocument/2006/relationships/slide" Target="slide6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8;.&#1048;.&#1041;&#1086;&#1085;&#1076;&#1072;&#1088;&#1077;&#1085;&#1082;&#1086;.docx" TargetMode="External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4;.&#1048;.&#1041;&#1083;&#1086;&#1093;&#1080;&#1085;&#1094;&#1077;&#1074;.docx" TargetMode="External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57;.&#1058;.&#1064;&#1072;&#1094;&#1082;&#1080;&#1081;.docx" TargetMode="External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8;.&#1042;.&#1050;&#1091;&#1088;&#1095;&#1072;&#1090;&#1086;&#1074;.docx" TargetMode="External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ВИРТУАЛЬНОЕ ПУТЕШЕСТВИЕ ПО УЛИЦАМ Г.ОБНИНСКА,</a:t>
            </a:r>
            <a:br>
              <a:rPr sz="4400"/>
            </a:b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связанных с именами учёных-физиков и</a:t>
            </a:r>
            <a:br>
              <a:rPr sz="4400"/>
            </a:b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педагогов-новаторов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816680" y="5134680"/>
            <a:ext cx="4258080" cy="154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2a1a00"/>
                </a:solidFill>
                <a:latin typeface="Gill Sans MT"/>
              </a:rPr>
              <a:t>Подготовила Ученица ШКОЛЫ №16 г. Обнинска 6 «И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2a1a00"/>
                </a:solidFill>
                <a:latin typeface="Gill Sans MT"/>
              </a:rPr>
              <a:t>Литицкая Ева ден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Василий сав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Ляшенко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167840"/>
            <a:ext cx="61419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595959"/>
                </a:solidFill>
                <a:latin typeface="Gill Sans MT"/>
              </a:rPr>
              <a:t>В 1950-1961 годах был начальником материаловедческого отделения Физико-Энергетического института. Его потомки до сих пор живут в Обнинске.</a:t>
            </a:r>
            <a:endParaRPr b="0" lang="ru-RU" sz="4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9" name="Объект 4" descr=""/>
          <p:cNvPicPr/>
          <p:nvPr/>
        </p:nvPicPr>
        <p:blipFill>
          <a:blip r:embed="rId2"/>
          <a:stretch/>
        </p:blipFill>
        <p:spPr>
          <a:xfrm>
            <a:off x="7118280" y="1322640"/>
            <a:ext cx="3806640" cy="5133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2528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Сергей Павл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Королё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1720" y="1213200"/>
            <a:ext cx="5613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Сергей Королёв является одним из основных создателей советской ракетно-космической техники, обеспечившей стратегический паритет и сделавшей СССР передовой ракетно-космической державой, и ключевой фигурой в освоении человеком космоса, создателем практической космонавтики. Под его руководством был осуществлён запуск первого искусственного спутника Земли и первого космонавта планеты Юрия Гагарина. </a:t>
            </a:r>
            <a:endParaRPr b="0" lang="ru-RU" sz="24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2"/>
          <a:stretch/>
        </p:blipFill>
        <p:spPr>
          <a:xfrm>
            <a:off x="6865200" y="1213200"/>
            <a:ext cx="3530520" cy="5229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Александр Иль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лейпунский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7120" y="1505160"/>
            <a:ext cx="5973120" cy="48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300" spc="-1" strike="noStrike">
                <a:solidFill>
                  <a:srgbClr val="595959"/>
                </a:solidFill>
                <a:latin typeface="Gill Sans MT"/>
              </a:rPr>
              <a:t>В августе 1949 года Лейпунский перешёл в Физико-энергетический институт. В 1959 году Александр Ильич был назначен научным руководителем ФЭИ. Он пользовался исключительно высоким авторитетом.</a:t>
            </a:r>
            <a:endParaRPr b="0" lang="ru-RU" sz="33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77" name="Объект 4" descr=""/>
          <p:cNvPicPr/>
          <p:nvPr/>
        </p:nvPicPr>
        <p:blipFill>
          <a:blip r:embed="rId2"/>
          <a:stretch/>
        </p:blipFill>
        <p:spPr>
          <a:xfrm>
            <a:off x="7230960" y="1505160"/>
            <a:ext cx="3418200" cy="4870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Фредерик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жолио-кюри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1720" y="1603800"/>
            <a:ext cx="5650200" cy="48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595959"/>
                </a:solidFill>
                <a:latin typeface="Gill Sans MT"/>
              </a:rPr>
              <a:t>Нобелевский лауреат по химии (1935). Муж Ирен Кюри, дочери Марии Склодовской Кюри. Один из первых иностранных гостей посетил Обнинск.</a:t>
            </a:r>
            <a:endParaRPr b="0" lang="ru-RU" sz="4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81" name="Объект 4" descr=""/>
          <p:cNvPicPr/>
          <p:nvPr/>
        </p:nvPicPr>
        <p:blipFill>
          <a:blip r:embed="rId2"/>
          <a:stretch/>
        </p:blipFill>
        <p:spPr>
          <a:xfrm>
            <a:off x="6902280" y="1603800"/>
            <a:ext cx="4168440" cy="48398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2484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2a1a00"/>
                </a:solidFill>
                <a:latin typeface="Impact"/>
              </a:rPr>
              <a:t>Спасибо за внимание!</a:t>
            </a:r>
            <a:endParaRPr b="0" lang="ru-RU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15080" y="5979240"/>
            <a:ext cx="8044920" cy="7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000" spc="398" strike="noStrike" cap="all">
              <a:solidFill>
                <a:srgbClr val="2a1a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9120" y="3628800"/>
            <a:ext cx="10318320" cy="30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199" strike="noStrike" cap="all">
                <a:solidFill>
                  <a:srgbClr val="2a1a00"/>
                </a:solidFill>
                <a:latin typeface="Impact"/>
              </a:rPr>
              <a:t>в 2000 году Обнинск получил статус Наукограда</a:t>
            </a:r>
            <a:r>
              <a:rPr b="0" lang="ru-RU" sz="4900" spc="199" strike="noStrike" cap="all">
                <a:solidFill>
                  <a:srgbClr val="2a1a00"/>
                </a:solidFill>
                <a:latin typeface="Impact"/>
              </a:rPr>
              <a:t>. </a:t>
            </a:r>
            <a:br>
              <a:rPr sz="4900"/>
            </a:br>
            <a:r>
              <a:rPr b="0" lang="ru-RU" sz="6000" spc="199" strike="noStrike" cap="all">
                <a:solidFill>
                  <a:srgbClr val="2a1a00"/>
                </a:solidFill>
                <a:latin typeface="Impact"/>
              </a:rPr>
              <a:t>В названиях его улиц скрыта научная история страны.</a:t>
            </a:r>
            <a:br>
              <a:rPr sz="5100"/>
            </a:b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4" descr="https://allpolus.com/uploads/posts/2014-07/1404286257_wqkvgsadhfpczj9.jpeg"/>
          <p:cNvPicPr/>
          <p:nvPr/>
        </p:nvPicPr>
        <p:blipFill>
          <a:blip r:embed="rId1"/>
          <a:stretch/>
        </p:blipFill>
        <p:spPr>
          <a:xfrm>
            <a:off x="4750200" y="105480"/>
            <a:ext cx="300708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884880" y="3811320"/>
            <a:ext cx="110610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ород науки Обнинск начинался с секретного Объекта 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Лаборатория "В" - Физико-Энергетический Институт,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в настоящее время носит имя А. Лейпунского и является одним из крупнейших научных центров изучения использования ядерной энергии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, возникшего в 1946 г. в системе Министерства внутренних дел СССР для проведения исследований в области ядерной физ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работы были приглашены на контрактной основе немецкие специалисты из лабораторий Кайзера-Вильгельма и Лейпцигского университета и советские специалисты из лучших ВУЗов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"/>
          <p:cNvPicPr/>
          <p:nvPr/>
        </p:nvPicPr>
        <p:blipFill>
          <a:blip r:embed="rId1"/>
          <a:srcRect l="5225" t="-107" r="8839" b="26942"/>
          <a:stretch/>
        </p:blipFill>
        <p:spPr>
          <a:xfrm>
            <a:off x="3215160" y="0"/>
            <a:ext cx="5958000" cy="38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58800" y="3922920"/>
            <a:ext cx="115329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27 июня 1954 г. в Обнинске была пущена Первая в мире атомная электроста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 1956 г. поселок получил статус города и Обнинск появился на картах стра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ейчас в Обнинске продолжают работать 11 научно-исследовательских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 Обнинском связана деятельность известных миру ученых: А.Лейпунского, Д. Блохинцева, И. Лучника, Н. Тимофеева-Ресовского, Е. Федоров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ы предлагаем совершить виртуальное путешествие по улицам гор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вязанным с именами учёных-физ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windoftravel.com/uploads/media/objects/photos/Pervaya_v_mire_atomnaya_elektrostanciya_0.jpg"/>
          <p:cNvPicPr/>
          <p:nvPr/>
        </p:nvPicPr>
        <p:blipFill>
          <a:blip r:embed="rId1"/>
          <a:stretch/>
        </p:blipFill>
        <p:spPr>
          <a:xfrm>
            <a:off x="992160" y="136080"/>
            <a:ext cx="4262400" cy="3196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"/>
          <p:cNvPicPr/>
          <p:nvPr/>
        </p:nvPicPr>
        <p:blipFill>
          <a:blip r:embed="rId2"/>
          <a:stretch/>
        </p:blipFill>
        <p:spPr>
          <a:xfrm>
            <a:off x="7756200" y="246960"/>
            <a:ext cx="4051440" cy="3196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"/>
          <p:cNvPicPr/>
          <p:nvPr/>
        </p:nvPicPr>
        <p:blipFill>
          <a:blip r:embed="rId3"/>
          <a:stretch/>
        </p:blipFill>
        <p:spPr>
          <a:xfrm>
            <a:off x="4831920" y="1632600"/>
            <a:ext cx="3347280" cy="22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2368800" y="295560"/>
            <a:ext cx="7624800" cy="620352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2">
            <a:hlinkClick r:id="rId2" action="ppaction://hlinksldjump"/>
          </p:cNvPr>
          <p:cNvSpPr/>
          <p:nvPr/>
        </p:nvSpPr>
        <p:spPr>
          <a:xfrm>
            <a:off x="4839120" y="4867560"/>
            <a:ext cx="224640" cy="252720"/>
          </a:xfrm>
          <a:prstGeom prst="ellipse">
            <a:avLst/>
          </a:prstGeom>
          <a:solidFill>
            <a:srgbClr val="f8b323"/>
          </a:solidFill>
          <a:ln>
            <a:solidFill>
              <a:srgbClr val="b784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144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71920" y="43077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17480" y="38433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90720" y="36345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718680" y="117072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52080" y="78984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933160" y="155268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54440" y="4725720"/>
            <a:ext cx="23724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Игорь Иль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бондаренко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120" y="1294200"/>
            <a:ext cx="5734080" cy="461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595959"/>
                </a:solidFill>
                <a:latin typeface="Gill Sans MT"/>
              </a:rPr>
              <a:t>Игорь Ильич стоял у истоков Физико-Энергетического института и первой в мире атомной электростанции. Научно-технические идеи учёного всегда отличались сочетанием оригинальности, ясности, простоты и близкой осуществимости.</a:t>
            </a:r>
            <a:endParaRPr b="0" lang="ru-RU" sz="32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53" name="Объект 4" descr=""/>
          <p:cNvPicPr/>
          <p:nvPr/>
        </p:nvPicPr>
        <p:blipFill>
          <a:blip r:embed="rId2"/>
          <a:stretch/>
        </p:blipFill>
        <p:spPr>
          <a:xfrm>
            <a:off x="7259040" y="1294200"/>
            <a:ext cx="3609720" cy="4948560"/>
          </a:xfrm>
          <a:prstGeom prst="rect">
            <a:avLst/>
          </a:prstGeom>
          <a:ln w="0">
            <a:noFill/>
          </a:ln>
        </p:spPr>
      </p:pic>
      <p:sp>
        <p:nvSpPr>
          <p:cNvPr id="154" name="Овал 3">
            <a:hlinkClick r:id="rId3" action="ppaction://hlinksldjump"/>
          </p:cNvPr>
          <p:cNvSpPr/>
          <p:nvPr/>
        </p:nvSpPr>
        <p:spPr>
          <a:xfrm>
            <a:off x="10798560" y="382320"/>
            <a:ext cx="878760" cy="911520"/>
          </a:xfrm>
          <a:prstGeom prst="ellipse">
            <a:avLst/>
          </a:prstGeom>
          <a:solidFill>
            <a:srgbClr val="f8b323"/>
          </a:solidFill>
          <a:ln>
            <a:solidFill>
              <a:srgbClr val="b784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Gill Sans MT"/>
              </a:rPr>
              <a:t>К ка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Дмитрий Иван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Блохинце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602000"/>
            <a:ext cx="56919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595959"/>
                </a:solidFill>
                <a:latin typeface="Gill Sans MT"/>
              </a:rPr>
              <a:t>Блохинцев был директором научно-исследовательской лаборатории в Обнинске, на базе которой под его руководством был создан Физико-Энергетический институт. Кроме того, Блохинцев был назначен  научным руководителем работ по созданию АЭС. </a:t>
            </a:r>
            <a:endParaRPr b="0" lang="ru-RU" sz="3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57" name="Объект 6" descr=""/>
          <p:cNvPicPr/>
          <p:nvPr/>
        </p:nvPicPr>
        <p:blipFill>
          <a:blip r:embed="rId2"/>
          <a:stretch/>
        </p:blipFill>
        <p:spPr>
          <a:xfrm>
            <a:off x="6949440" y="1602000"/>
            <a:ext cx="3727440" cy="47988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8640" y="382320"/>
            <a:ext cx="1043100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Станислав Теофил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шацкий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120" y="1350360"/>
            <a:ext cx="5086800" cy="49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В 1911 году на территории современного Обнинска возникла на тот момент летняя колония «Бодрая жизнь». Шацкий писал: «Наша колония - это место, где мы устраиваем вокруг себя хорошую жизнь, и чем дальше, тем лучше. Это – место, где мы работаем, один на всех и все на одного, где дети могут стать хозяевами, с достоинством отвечая за все, что ими сделано». </a:t>
            </a:r>
            <a:endParaRPr b="0" lang="ru-RU" sz="24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1" name="Объект 4" descr=""/>
          <p:cNvPicPr/>
          <p:nvPr/>
        </p:nvPicPr>
        <p:blipFill>
          <a:blip r:embed="rId2"/>
          <a:stretch/>
        </p:blipFill>
        <p:spPr>
          <a:xfrm>
            <a:off x="6303600" y="1350360"/>
            <a:ext cx="4950360" cy="4950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0204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Игорь Василье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Курчато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984600"/>
            <a:ext cx="5858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595959"/>
                </a:solidFill>
                <a:latin typeface="Gill Sans MT"/>
              </a:rPr>
              <a:t>При участии Курчатова был создан первый в Европе циклотрон, первый в Европе атомный реактор созданы первая советская атомная бомба, первая в мире промышленная атомная электростанция, первый в мире атомный реактор для подводных лодок и атомных ледоколов.</a:t>
            </a:r>
            <a:endParaRPr b="0" lang="ru-RU" sz="3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5" name="Объект 4" descr=""/>
          <p:cNvPicPr/>
          <p:nvPr/>
        </p:nvPicPr>
        <p:blipFill>
          <a:blip r:embed="rId2"/>
          <a:stretch/>
        </p:blipFill>
        <p:spPr>
          <a:xfrm>
            <a:off x="7115760" y="1392840"/>
            <a:ext cx="3673800" cy="51375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789920" y="34416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6[[fn=Эмблема]]</Template>
  <TotalTime>379</TotalTime>
  <Application>LibreOffice/7.4.7.2$Linux_X86_64 LibreOffice_project/40$Build-2</Application>
  <AppVersion>15.0000</AppVersion>
  <Words>468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13:32Z</dcterms:created>
  <dc:creator>Пользователь Windows</dc:creator>
  <dc:description/>
  <dc:language>en-US</dc:language>
  <cp:lastModifiedBy>user</cp:lastModifiedBy>
  <dcterms:modified xsi:type="dcterms:W3CDTF">2019-02-20T05:42:53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