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BE5-DD5F-4B3C-A1FB-0CC9610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929-8A86-4DC2-95DB-49107ECA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5EC-06C7-4DAB-B138-A846B55F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8EA-FAB4-42BF-9C86-8CBB1300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EAC7-3A56-47F3-B9DD-75C1222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65D9-7A9B-403F-998F-D4F2A43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4866-13F7-4169-B4FA-1AEEDA85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3982-B766-4AEF-8101-BA7385A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DE3B-851F-44D2-94BE-AB1C0157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011-7247-4F17-96CC-E370449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9DB-2A5C-4B12-A9AD-3A3E53F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625-F459-4D2B-9563-A9DB80E7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D4E9-182E-4835-AB90-B039EFD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3F8-4B6F-48D5-83D7-3BF3B22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F7FC-7375-42B4-A305-BDAF0A3A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9DF4-9D28-464F-B3F8-AC559D4D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1B4A-7DEB-4911-A367-AF74BDF9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EEFA-A33F-4582-AF48-69A92777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189A-E271-48DB-B669-E48538B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9128-D5DE-4063-82D6-4D47FAC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5F5E-A641-4EF9-8BF2-C5FDC7B3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9606-464D-463A-B79A-3FE4135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0A7-140D-499B-8231-A928E1E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294C-3E97-4FE8-81AA-B1897A7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A057-3F79-4281-8080-DB20702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C734-BEBA-4744-888F-5F0BC53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5956-A2B4-46AF-A25C-75FA00E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A3E2-E973-4650-B834-AFBDDA1A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30F6-2387-4E66-829F-2EAF4C16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6BDE-4645-4512-BD27-268AAF2B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7D1-4BC6-486D-B07A-6716B11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3AA-7C33-4EAF-9B28-379C60A7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8560" y="4426200"/>
            <a:ext cx="10317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997-1509-4143-BBDE-EA1D027C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42C-D05A-4C2C-8C69-C6FEDE7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17E-50D0-4A92-8720-1D98826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CEF-AB09-40B4-B92C-AEC9728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557160" y="631080"/>
            <a:ext cx="5235120" cy="5229000"/>
          </a:xfrm>
          <a:custGeom>
            <a:avLst/>
            <a:gdLst>
              <a:gd name="textAreaLeft" fmla="*/ 0 w 5235120"/>
              <a:gd name="textAreaRight" fmla="*/ 5235480 w 5235120"/>
              <a:gd name="textAreaTop" fmla="*/ 0 h 5229000"/>
              <a:gd name="textAreaBottom" fmla="*/ 5229360 h 5229000"/>
            </a:gdLst>
            <a:ahLst/>
            <a:rect l="textAreaLeft" t="textAreaTop" r="textAreaRight" b="textAreaBottom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2a1a00"/>
                </a:solidFill>
                <a:latin typeface="Impact"/>
              </a:rPr>
              <a:t>Образец заголовка</a:t>
            </a:r>
            <a:endParaRPr b="0" lang="ru-RU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7856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8032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67320" y="6375600"/>
            <a:ext cx="23292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443FB-73F0-4B7B-BA55-33F208A003E0}" type="slidenum">
              <a:rPr b="0" lang="ru-RU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E0FFF3-1618-4673-94EB-476796BBA012}" type="slidenum"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Образец заголовка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57480" y="2286000"/>
            <a:ext cx="4800240" cy="36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ru-RU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647760" y="2286000"/>
            <a:ext cx="4800240" cy="36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ru-RU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ru-RU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ru-RU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18A4E7-C2A7-4BD2-8F70-8810B9136DE3}" type="slidenum">
              <a:rPr b="0" lang="ru-RU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&#1042;.&#1057;.&#1051;&#1103;&#1096;&#1077;&#1085;&#1082;&#1086;.docx" TargetMode="External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&#1057;.&#1055;.&#1050;&#1086;&#1088;&#1086;&#1083;&#1105;&#1074;.docx" TargetMode="External"/><Relationship Id="rId2" Type="http://schemas.openxmlformats.org/officeDocument/2006/relationships/image" Target="../media/image14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&#1040;.&#1048;.&#1051;&#1077;&#1081;&#1087;&#1091;&#1085;&#1089;&#1082;&#1080;&#1081;.docx" TargetMode="Externa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in/&#1060;.&#1046;&#1086;&#1083;&#1080;&#1086;-&#1050;&#1102;&#1088;&#1080;.docx" TargetMode="External"/><Relationship Id="rId2" Type="http://schemas.openxmlformats.org/officeDocument/2006/relationships/image" Target="../media/image16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" Target="slide13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7.png"/><Relationship Id="rId11" Type="http://schemas.openxmlformats.org/officeDocument/2006/relationships/slide" Target="slide11.xml"/><Relationship Id="rId12" Type="http://schemas.openxmlformats.org/officeDocument/2006/relationships/image" Target="../media/image7.png"/><Relationship Id="rId13" Type="http://schemas.openxmlformats.org/officeDocument/2006/relationships/slide" Target="slide10.xml"/><Relationship Id="rId14" Type="http://schemas.openxmlformats.org/officeDocument/2006/relationships/image" Target="../media/image7.png"/><Relationship Id="rId15" Type="http://schemas.openxmlformats.org/officeDocument/2006/relationships/slide" Target="slide6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8;.&#1048;.&#1041;&#1086;&#1085;&#1076;&#1072;&#1088;&#1077;&#1085;&#1082;&#1086;.docx" TargetMode="External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4;.&#1048;.&#1041;&#1083;&#1086;&#1093;&#1080;&#1085;&#1094;&#1077;&#1074;.docx" TargetMode="External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57;.&#1058;.&#1064;&#1072;&#1094;&#1082;&#1080;&#1081;.docx" TargetMode="External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Users/User/Desktop/&#1087;&#1088;&#1086;&#1075;&#1091;&#1083;&#1082;&#1072;/&#1048;.&#1042;.&#1050;&#1091;&#1088;&#1095;&#1072;&#1090;&#1086;&#1074;.docx" TargetMode="External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ВИРТУАЛЬНОЕ ПУТЕШЕСТВИЕ ПО УЛИЦАМ Г.ОБНИНСКА,</a:t>
            </a:r>
            <a:br>
              <a:rPr sz="4400"/>
            </a:b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связанных с именами учёных-физиков и</a:t>
            </a:r>
            <a:br>
              <a:rPr sz="4400"/>
            </a:br>
            <a:r>
              <a:rPr b="0" lang="ru-RU" sz="4400" spc="797" strike="noStrike" cap="all">
                <a:solidFill>
                  <a:srgbClr val="2a1a00"/>
                </a:solidFill>
                <a:latin typeface="Impact"/>
              </a:rPr>
              <a:t>педагогов-новаторов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816680" y="5134680"/>
            <a:ext cx="4258080" cy="154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2a1a00"/>
                </a:solidFill>
                <a:latin typeface="Gill Sans MT"/>
              </a:rPr>
              <a:t>Подготовила Ученица ШКОЛЫ №16 г. Обнинска 6 «И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2000" spc="398" strike="noStrike" cap="all">
                <a:solidFill>
                  <a:srgbClr val="2a1a00"/>
                </a:solidFill>
                <a:latin typeface="Gill Sans MT"/>
              </a:rPr>
              <a:t>Литицкая Ева ден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Василий сав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Ляшенко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167840"/>
            <a:ext cx="61419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595959"/>
                </a:solidFill>
                <a:latin typeface="Gill Sans MT"/>
              </a:rPr>
              <a:t>В 1950-1961 годах был начальником материаловедческого отделения Физико-Энергетического института. Его потомки до сих пор живут в Обнинске.</a:t>
            </a:r>
            <a:endParaRPr b="0" lang="ru-RU" sz="4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9" name="Объект 4" descr=""/>
          <p:cNvPicPr/>
          <p:nvPr/>
        </p:nvPicPr>
        <p:blipFill>
          <a:blip r:embed="rId2"/>
          <a:stretch/>
        </p:blipFill>
        <p:spPr>
          <a:xfrm>
            <a:off x="7118280" y="1322640"/>
            <a:ext cx="3806640" cy="5133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2528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Сергей Павл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Королё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1720" y="1213200"/>
            <a:ext cx="5613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Сергей Королёв является одним из основных создателей советской ракетно-космической техники, обеспечившей стратегический паритет и сделавшей СССР передовой ракетно-космической державой, и ключевой фигурой в освоении человеком космоса, создателем практической космонавтики. Под его руководством был осуществлён запуск первого искусственного спутника Земли и первого космонавта планеты Юрия Гагарина. </a:t>
            </a:r>
            <a:endParaRPr b="0" lang="ru-RU" sz="24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2"/>
          <a:stretch/>
        </p:blipFill>
        <p:spPr>
          <a:xfrm>
            <a:off x="6865200" y="1213200"/>
            <a:ext cx="3530520" cy="5229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Александр Иль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лейпунский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7120" y="1505160"/>
            <a:ext cx="5973120" cy="487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300" spc="-1" strike="noStrike">
                <a:solidFill>
                  <a:srgbClr val="595959"/>
                </a:solidFill>
                <a:latin typeface="Gill Sans MT"/>
              </a:rPr>
              <a:t>В августе 1949 года Лейпунский перешёл в Физико-энергетический институт. В 1959 году Александр Ильич был назначен научным руководителем ФЭИ. Он пользовался исключительно высоким авторитетом.</a:t>
            </a:r>
            <a:endParaRPr b="0" lang="ru-RU" sz="33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77" name="Объект 4" descr=""/>
          <p:cNvPicPr/>
          <p:nvPr/>
        </p:nvPicPr>
        <p:blipFill>
          <a:blip r:embed="rId2"/>
          <a:stretch/>
        </p:blipFill>
        <p:spPr>
          <a:xfrm>
            <a:off x="7230960" y="1505160"/>
            <a:ext cx="3418200" cy="4870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Фредерик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жолио-кюри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1720" y="1603800"/>
            <a:ext cx="5650200" cy="48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595959"/>
                </a:solidFill>
                <a:latin typeface="Gill Sans MT"/>
              </a:rPr>
              <a:t>Нобелевский лауреат по химии (1935). Муж Ирен Кюри, дочери Марии Склодовской Кюри. Один из первых иностранных гостей посетил Обнинск.</a:t>
            </a:r>
            <a:endParaRPr b="0" lang="ru-RU" sz="4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81" name="Объект 4" descr=""/>
          <p:cNvPicPr/>
          <p:nvPr/>
        </p:nvPicPr>
        <p:blipFill>
          <a:blip r:embed="rId2"/>
          <a:stretch/>
        </p:blipFill>
        <p:spPr>
          <a:xfrm>
            <a:off x="6902280" y="1603800"/>
            <a:ext cx="4168440" cy="48398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2484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2a1a00"/>
                </a:solidFill>
                <a:latin typeface="Impact"/>
              </a:rPr>
              <a:t>Спасибо за внимание!</a:t>
            </a:r>
            <a:endParaRPr b="0" lang="ru-RU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15080" y="5979240"/>
            <a:ext cx="8044920" cy="7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1" lang="en-US" sz="2000" spc="398" strike="noStrike" cap="all">
              <a:solidFill>
                <a:srgbClr val="2a1a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9120" y="3628800"/>
            <a:ext cx="10318320" cy="30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199" strike="noStrike" cap="all">
                <a:solidFill>
                  <a:srgbClr val="2a1a00"/>
                </a:solidFill>
                <a:latin typeface="Impact"/>
              </a:rPr>
              <a:t>в 2000 году Обнинск получил статус Наукограда</a:t>
            </a:r>
            <a:r>
              <a:rPr b="0" lang="ru-RU" sz="4900" spc="199" strike="noStrike" cap="all">
                <a:solidFill>
                  <a:srgbClr val="2a1a00"/>
                </a:solidFill>
                <a:latin typeface="Impact"/>
              </a:rPr>
              <a:t>. </a:t>
            </a:r>
            <a:br>
              <a:rPr sz="4900"/>
            </a:br>
            <a:r>
              <a:rPr b="0" lang="ru-RU" sz="6000" spc="199" strike="noStrike" cap="all">
                <a:solidFill>
                  <a:srgbClr val="2a1a00"/>
                </a:solidFill>
                <a:latin typeface="Impact"/>
              </a:rPr>
              <a:t>В названиях его улиц скрыта научная история страны.</a:t>
            </a:r>
            <a:br>
              <a:rPr sz="5100"/>
            </a:b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4" descr="https://allpolus.com/uploads/posts/2014-07/1404286257_wqkvgsadhfpczj9.jpeg"/>
          <p:cNvPicPr/>
          <p:nvPr/>
        </p:nvPicPr>
        <p:blipFill>
          <a:blip r:embed="rId1"/>
          <a:stretch/>
        </p:blipFill>
        <p:spPr>
          <a:xfrm>
            <a:off x="4750200" y="105480"/>
            <a:ext cx="300708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884880" y="3811320"/>
            <a:ext cx="110610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ород науки Обнинск начинался с секретного Объекта «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Лаборатория "В" - Физико-Энергетический Институт,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в настоящее время носит имя А. Лейпунского и является одним из крупнейших научных центров изучения использования ядерной энергии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, возникшего в 1946 г. в системе Министерства внутренних дел СССР для проведения исследований в области ядерной физ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работы были приглашены на контрактной основе немецкие специалисты из лабораторий Кайзера-Вильгельма и Лейпцигского университета и советские специалисты из лучших ВУЗов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"/>
          <p:cNvPicPr/>
          <p:nvPr/>
        </p:nvPicPr>
        <p:blipFill>
          <a:blip r:embed="rId1"/>
          <a:srcRect l="5225" t="-107" r="8839" b="26942"/>
          <a:stretch/>
        </p:blipFill>
        <p:spPr>
          <a:xfrm>
            <a:off x="3215160" y="0"/>
            <a:ext cx="5958000" cy="38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658800" y="3922920"/>
            <a:ext cx="115329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27 июня 1954 г. в Обнинске была пущена Первая в мире атомная электроста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 1956 г. поселок получил статус города и Обнинск появился на картах стра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ейчас в Обнинске продолжают работать 11 научно-исследовательских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 Обнинском связана деятельность известных миру ученых: А.Лейпунского, Д. Блохинцева, И. Лучника, Н. Тимофеева-Ресовского, Е. Федорова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Мы предлагаем совершить виртуальное путешествие по улицам гор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вязанным с именами учёных-физ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windoftravel.com/uploads/media/objects/photos/Pervaya_v_mire_atomnaya_elektrostanciya_0.jpg"/>
          <p:cNvPicPr/>
          <p:nvPr/>
        </p:nvPicPr>
        <p:blipFill>
          <a:blip r:embed="rId1"/>
          <a:stretch/>
        </p:blipFill>
        <p:spPr>
          <a:xfrm>
            <a:off x="992160" y="136080"/>
            <a:ext cx="4262400" cy="3196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"/>
          <p:cNvPicPr/>
          <p:nvPr/>
        </p:nvPicPr>
        <p:blipFill>
          <a:blip r:embed="rId2"/>
          <a:stretch/>
        </p:blipFill>
        <p:spPr>
          <a:xfrm>
            <a:off x="7756200" y="246960"/>
            <a:ext cx="4051440" cy="3196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"/>
          <p:cNvPicPr/>
          <p:nvPr/>
        </p:nvPicPr>
        <p:blipFill>
          <a:blip r:embed="rId3"/>
          <a:stretch/>
        </p:blipFill>
        <p:spPr>
          <a:xfrm>
            <a:off x="4831920" y="1632600"/>
            <a:ext cx="3347280" cy="22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2368800" y="295560"/>
            <a:ext cx="7624800" cy="620352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2">
            <a:hlinkClick r:id="rId2" action="ppaction://hlinksldjump"/>
          </p:cNvPr>
          <p:cNvSpPr/>
          <p:nvPr/>
        </p:nvSpPr>
        <p:spPr>
          <a:xfrm>
            <a:off x="4839120" y="4867560"/>
            <a:ext cx="224640" cy="252720"/>
          </a:xfrm>
          <a:prstGeom prst="ellipse">
            <a:avLst/>
          </a:prstGeom>
          <a:solidFill>
            <a:srgbClr val="f8b323"/>
          </a:solidFill>
          <a:ln>
            <a:solidFill>
              <a:srgbClr val="b784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pic>
        <p:nvPicPr>
          <p:cNvPr id="144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71920" y="43077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17480" y="38433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90720" y="363456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718680" y="117072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752080" y="78984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933160" y="1552680"/>
            <a:ext cx="237240" cy="2678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54440" y="4725720"/>
            <a:ext cx="23724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Игорь Иль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бондаренко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120" y="1294200"/>
            <a:ext cx="5734080" cy="461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595959"/>
                </a:solidFill>
                <a:latin typeface="Gill Sans MT"/>
              </a:rPr>
              <a:t>Игорь Ильич стоял у истоков Физико-Энергетического института и первой в мире атомной электростанции. Научно-технические идеи учёного всегда отличались сочетанием оригинальности, ясности, простоты и близкой осуществимости.</a:t>
            </a:r>
            <a:endParaRPr b="0" lang="ru-RU" sz="32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53" name="Объект 4" descr=""/>
          <p:cNvPicPr/>
          <p:nvPr/>
        </p:nvPicPr>
        <p:blipFill>
          <a:blip r:embed="rId2"/>
          <a:stretch/>
        </p:blipFill>
        <p:spPr>
          <a:xfrm>
            <a:off x="7259040" y="1294200"/>
            <a:ext cx="3609720" cy="4948560"/>
          </a:xfrm>
          <a:prstGeom prst="rect">
            <a:avLst/>
          </a:prstGeom>
          <a:ln w="0">
            <a:noFill/>
          </a:ln>
        </p:spPr>
      </p:pic>
      <p:sp>
        <p:nvSpPr>
          <p:cNvPr id="154" name="Овал 3">
            <a:hlinkClick r:id="rId3" action="ppaction://hlinksldjump"/>
          </p:cNvPr>
          <p:cNvSpPr/>
          <p:nvPr/>
        </p:nvSpPr>
        <p:spPr>
          <a:xfrm>
            <a:off x="10798560" y="382320"/>
            <a:ext cx="878760" cy="911520"/>
          </a:xfrm>
          <a:prstGeom prst="ellipse">
            <a:avLst/>
          </a:prstGeom>
          <a:solidFill>
            <a:srgbClr val="f8b323"/>
          </a:solidFill>
          <a:ln>
            <a:solidFill>
              <a:srgbClr val="b784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Gill Sans MT"/>
              </a:rPr>
              <a:t>К ка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Дмитрий Иван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Блохинце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602000"/>
            <a:ext cx="56919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595959"/>
                </a:solidFill>
                <a:latin typeface="Gill Sans MT"/>
              </a:rPr>
              <a:t>Блохинцев был директором научно-исследовательской лаборатории в Обнинске, на базе которой под его руководством был создан Физико-Энергетический институт. Кроме того, Блохинцев был назначен  научным руководителем работ по созданию АЭС. </a:t>
            </a:r>
            <a:endParaRPr b="0" lang="ru-RU" sz="3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57" name="Объект 6" descr=""/>
          <p:cNvPicPr/>
          <p:nvPr/>
        </p:nvPicPr>
        <p:blipFill>
          <a:blip r:embed="rId2"/>
          <a:stretch/>
        </p:blipFill>
        <p:spPr>
          <a:xfrm>
            <a:off x="6949440" y="1602000"/>
            <a:ext cx="3727440" cy="47988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8232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8640" y="382320"/>
            <a:ext cx="1043100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Станислав Теофило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шацкий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120" y="1350360"/>
            <a:ext cx="5086800" cy="49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В 1911 году на территории современного Обнинска возникла на тот момент летняя колония «Бодрая жизнь». Шацкий писал: «Наша колония - это место, где мы устраиваем вокруг себя хорошую жизнь, и чем дальше, тем лучше. Это – место, где мы работаем, один на всех и все на одного, где дети могут стать хозяевами, с достоинством отвечая за все, что ими сделано». </a:t>
            </a:r>
            <a:endParaRPr b="0" lang="ru-RU" sz="24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1" name="Объект 4" descr=""/>
          <p:cNvPicPr/>
          <p:nvPr/>
        </p:nvPicPr>
        <p:blipFill>
          <a:blip r:embed="rId2"/>
          <a:stretch/>
        </p:blipFill>
        <p:spPr>
          <a:xfrm>
            <a:off x="6303600" y="1350360"/>
            <a:ext cx="4950360" cy="4950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981800" y="30204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2a1a00"/>
                </a:solidFill>
                <a:latin typeface="Impact"/>
              </a:rPr>
              <a:t>Игорь Васильевич </a:t>
            </a:r>
            <a:r>
              <a:rPr b="0" lang="ru-RU" sz="5100" spc="199" strike="noStrike" u="sng" cap="all">
                <a:solidFill>
                  <a:srgbClr val="46b2b5"/>
                </a:solidFill>
                <a:uFillTx/>
                <a:latin typeface="Impact"/>
                <a:hlinkClick r:id="rId1"/>
              </a:rPr>
              <a:t>Курчатов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984600"/>
            <a:ext cx="5858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595959"/>
                </a:solidFill>
                <a:latin typeface="Gill Sans MT"/>
              </a:rPr>
              <a:t>При участии Курчатова был создан первый в Европе циклотрон, первый в Европе атомный реактор созданы первая советская атомная бомба, первая в мире промышленная атомная электростанция, первый в мире атомный реактор для подводных лодок и атомных ледоколов.</a:t>
            </a:r>
            <a:endParaRPr b="0" lang="ru-RU" sz="3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165" name="Объект 4" descr=""/>
          <p:cNvPicPr/>
          <p:nvPr/>
        </p:nvPicPr>
        <p:blipFill>
          <a:blip r:embed="rId2"/>
          <a:stretch/>
        </p:blipFill>
        <p:spPr>
          <a:xfrm>
            <a:off x="7115760" y="1392840"/>
            <a:ext cx="3673800" cy="51375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789920" y="344160"/>
            <a:ext cx="895680" cy="10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2a1a00"/>
      </a:dk2>
      <a:lt2>
        <a:srgbClr val="f3f3f2"/>
      </a:lt2>
      <a:accent1>
        <a:srgbClr val="f8b323"/>
      </a:accent1>
      <a:accent2>
        <a:srgbClr val="656a59"/>
      </a:accent2>
      <a:accent3>
        <a:srgbClr val="46b2b5"/>
      </a:accent3>
      <a:accent4>
        <a:srgbClr val="8caa7e"/>
      </a:accent4>
      <a:accent5>
        <a:srgbClr val="d36f68"/>
      </a:accent5>
      <a:accent6>
        <a:srgbClr val="826276"/>
      </a:accent6>
      <a:hlink>
        <a:srgbClr val="46b2b5"/>
      </a:hlink>
      <a:folHlink>
        <a:srgbClr val="a466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6[[fn=Эмблема]]</Template>
  <TotalTime>379</TotalTime>
  <Application>LibreOffice/7.4.7.2$Linux_X86_64 LibreOffice_project/40$Build-2</Application>
  <AppVersion>15.0000</AppVersion>
  <Words>468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13:32Z</dcterms:created>
  <dc:creator>Пользователь Windows</dc:creator>
  <dc:description/>
  <dc:language>en-US</dc:language>
  <cp:lastModifiedBy>user</cp:lastModifiedBy>
  <dcterms:modified xsi:type="dcterms:W3CDTF">2019-02-20T05:42:53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