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F713-6335-4D17-9D07-C29DEA480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BE3A-D15C-48E0-BD0F-7D716C86B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2F3D-3C71-461A-9C7C-9E497E240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10428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34240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86616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10428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34240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B67-57D9-4328-B919-CF7C7BB3C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AAD3E-21F9-4E78-8A2B-B47613CB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880B0-DA59-429B-B659-F38DEA367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21F5A-9B61-4BB8-B708-C32E5DBD1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E5154-4EDD-4E6B-A700-9FA529613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1619E-8F0E-4D8B-86F0-AB639F9EB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866160" y="730080"/>
            <a:ext cx="657072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6169A-222D-4092-AAA7-B9074BEF6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8BBD0-1712-4271-81BB-26806298A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F623-F8C7-484E-A229-877E9A77E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EABE4-DD19-4F93-B4FF-FF873445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D6FE-BE3D-41EC-A359-FADAEA699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4BC1A-BACC-4D78-BA14-1C4571C9B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AD9EE-6DF9-4F6B-B3CF-C315B3503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310428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342400" y="195264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86616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/>
          </p:nvPr>
        </p:nvSpPr>
        <p:spPr>
          <a:xfrm>
            <a:off x="310428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7"/>
          <p:cNvSpPr>
            <a:spLocks noGrp="1"/>
          </p:cNvSpPr>
          <p:nvPr>
            <p:ph/>
          </p:nvPr>
        </p:nvSpPr>
        <p:spPr>
          <a:xfrm>
            <a:off x="5342400" y="3291120"/>
            <a:ext cx="213120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F52D-8510-4738-8481-AC3FA448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906E-5390-48B9-ACFC-2800E4449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9DB0A-5570-47C3-A3BF-2F978BB3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4FF5-83B6-404F-B8ED-E01FC566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866160" y="730080"/>
            <a:ext cx="6570720" cy="24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A4D2-FD57-4F3C-A0A3-62B9C703B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573AB-3E4C-48E1-AA37-6DA25F4E4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25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258080" y="329112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8312-58A3-468C-9502-587CE718B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258080" y="1952640"/>
            <a:ext cx="322992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66160" y="3291120"/>
            <a:ext cx="6618960" cy="122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AD22-E145-4A7C-8090-6C55A6BD9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oogle Shape;6;p1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" name="Google Shape;7;p1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Google Shape;8;p1"/>
            <p:cNvSpPr/>
            <p:nvPr/>
          </p:nvSpPr>
          <p:spPr>
            <a:xfrm>
              <a:off x="0" y="2000160"/>
              <a:ext cx="3142800" cy="31428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75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Google Shape;9;p1"/>
            <p:cNvSpPr/>
            <p:nvPr/>
          </p:nvSpPr>
          <p:spPr>
            <a:xfrm>
              <a:off x="0" y="2171880"/>
              <a:ext cx="1771200" cy="17712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72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Google Shape;10;p1"/>
            <p:cNvSpPr/>
            <p:nvPr/>
          </p:nvSpPr>
          <p:spPr>
            <a:xfrm>
              <a:off x="6456600" y="4400640"/>
              <a:ext cx="742680" cy="7426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66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Google Shape;11;p1"/>
            <p:cNvSpPr/>
            <p:nvPr/>
          </p:nvSpPr>
          <p:spPr>
            <a:xfrm>
              <a:off x="6456600" y="1257480"/>
              <a:ext cx="2114280" cy="21142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6274"/>
                  </a:srgbClr>
                </a:gs>
                <a:gs pos="69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Google Shape;12;p1"/>
            <p:cNvSpPr/>
            <p:nvPr/>
          </p:nvSpPr>
          <p:spPr>
            <a:xfrm>
              <a:off x="5999400" y="6480"/>
              <a:ext cx="1199880" cy="11998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73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Google Shape;13;p1"/>
            <p:cNvSpPr/>
            <p:nvPr/>
          </p:nvSpPr>
          <p:spPr>
            <a:xfrm rot="21010200">
              <a:off x="6368040" y="1347840"/>
              <a:ext cx="2474280" cy="33048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lt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Google Shape;14;p1"/>
            <p:cNvSpPr/>
            <p:nvPr/>
          </p:nvSpPr>
          <p:spPr>
            <a:xfrm>
              <a:off x="344520" y="1399680"/>
              <a:ext cx="8457840" cy="340020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3400200"/>
                <a:gd name="textAreaBottom" fmla="*/ 3400560 h 340020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Google Shape;15;p1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Google Shape;20;p1" hidden="1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" name="Google Shape;23;p2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12" name="Google Shape;24;p2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Google Shape;25;p2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66160" y="1574640"/>
            <a:ext cx="6618960" cy="20077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p>
            <a:pPr indent="0">
              <a:buNone/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 rot="5400000">
            <a:off x="7619760" y="1343880"/>
            <a:ext cx="74232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 rot="5400000">
            <a:off x="6714360" y="2421000"/>
            <a:ext cx="289440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Google Shape;30;p2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sldNum" idx="3"/>
          </p:nvPr>
        </p:nvSpPr>
        <p:spPr>
          <a:xfrm>
            <a:off x="7764480" y="221760"/>
            <a:ext cx="628200" cy="57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A4A45A28-2292-44C6-829B-72AF4F11AA4E}" type="slidenum">
              <a: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chemeClr val="lt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Google Shape;6;p1"/>
          <p:cNvGrpSpPr/>
          <p:nvPr/>
        </p:nvGrpSpPr>
        <p:grpSpPr>
          <a:xfrm>
            <a:off x="0" y="0"/>
            <a:ext cx="9143640" cy="5143320"/>
            <a:chOff x="0" y="0"/>
            <a:chExt cx="9143640" cy="5143320"/>
          </a:xfrm>
        </p:grpSpPr>
        <p:sp>
          <p:nvSpPr>
            <p:cNvPr id="57" name="Google Shape;7;p1"/>
            <p:cNvSpPr/>
            <p:nvPr/>
          </p:nvSpPr>
          <p:spPr>
            <a:xfrm>
              <a:off x="0" y="0"/>
              <a:ext cx="9143640" cy="5143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Google Shape;8;p1"/>
            <p:cNvSpPr/>
            <p:nvPr/>
          </p:nvSpPr>
          <p:spPr>
            <a:xfrm>
              <a:off x="0" y="2000160"/>
              <a:ext cx="3142800" cy="31428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1372"/>
                  </a:srgbClr>
                </a:gs>
                <a:gs pos="75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Google Shape;9;p1"/>
            <p:cNvSpPr/>
            <p:nvPr/>
          </p:nvSpPr>
          <p:spPr>
            <a:xfrm>
              <a:off x="0" y="2171880"/>
              <a:ext cx="1771200" cy="177120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7058"/>
                  </a:srgbClr>
                </a:gs>
                <a:gs pos="72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Google Shape;10;p1"/>
            <p:cNvSpPr/>
            <p:nvPr/>
          </p:nvSpPr>
          <p:spPr>
            <a:xfrm>
              <a:off x="6456600" y="4400640"/>
              <a:ext cx="742680" cy="7426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66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Google Shape;11;p1"/>
            <p:cNvSpPr/>
            <p:nvPr/>
          </p:nvSpPr>
          <p:spPr>
            <a:xfrm>
              <a:off x="6456600" y="1257480"/>
              <a:ext cx="2114280" cy="21142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6274"/>
                  </a:srgbClr>
                </a:gs>
                <a:gs pos="69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Google Shape;12;p1"/>
            <p:cNvSpPr/>
            <p:nvPr/>
          </p:nvSpPr>
          <p:spPr>
            <a:xfrm>
              <a:off x="5999400" y="6480"/>
              <a:ext cx="1199880" cy="1199880"/>
            </a:xfrm>
            <a:prstGeom prst="ellipse">
              <a:avLst/>
            </a:prstGeom>
            <a:gradFill rotWithShape="0">
              <a:gsLst>
                <a:gs pos="0">
                  <a:srgbClr val="9b6bf2">
                    <a:alpha val="13333"/>
                  </a:srgbClr>
                </a:gs>
                <a:gs pos="73000">
                  <a:srgbClr val="9b6bf2">
                    <a:alpha val="0"/>
                  </a:srgbClr>
                </a:gs>
                <a:gs pos="100000">
                  <a:srgbClr val="9b6bf2">
                    <a:alpha val="0"/>
                  </a:srgbClr>
                </a:gs>
              </a:gsLst>
              <a:path path="circle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Google Shape;13;p1"/>
            <p:cNvSpPr/>
            <p:nvPr/>
          </p:nvSpPr>
          <p:spPr>
            <a:xfrm rot="21010200">
              <a:off x="6368040" y="1347840"/>
              <a:ext cx="2474280" cy="330480"/>
            </a:xfrm>
            <a:custGeom>
              <a:avLst/>
              <a:gdLst>
                <a:gd name="textAreaLeft" fmla="*/ 0 w 2474280"/>
                <a:gd name="textAreaRight" fmla="*/ 2474640 w 247428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0000" h="5291">
                  <a:moveTo>
                    <a:pt x="85" y="2532"/>
                  </a:moveTo>
                  <a:cubicBezTo>
                    <a:pt x="1736" y="3911"/>
                    <a:pt x="7524" y="5298"/>
                    <a:pt x="9958" y="5291"/>
                  </a:cubicBezTo>
                  <a:cubicBezTo>
                    <a:pt x="9989" y="1958"/>
                    <a:pt x="9969" y="3333"/>
                    <a:pt x="10000" y="0"/>
                  </a:cubicBezTo>
                  <a:lnTo>
                    <a:pt x="10000" y="0"/>
                  </a:lnTo>
                  <a:lnTo>
                    <a:pt x="9667" y="204"/>
                  </a:lnTo>
                  <a:lnTo>
                    <a:pt x="9334" y="400"/>
                  </a:lnTo>
                  <a:lnTo>
                    <a:pt x="9001" y="590"/>
                  </a:lnTo>
                  <a:lnTo>
                    <a:pt x="8667" y="753"/>
                  </a:lnTo>
                  <a:lnTo>
                    <a:pt x="8333" y="917"/>
                  </a:lnTo>
                  <a:lnTo>
                    <a:pt x="7999" y="1071"/>
                  </a:lnTo>
                  <a:lnTo>
                    <a:pt x="7669" y="1202"/>
                  </a:lnTo>
                  <a:lnTo>
                    <a:pt x="7333" y="1325"/>
                  </a:lnTo>
                  <a:lnTo>
                    <a:pt x="7000" y="1440"/>
                  </a:lnTo>
                  <a:lnTo>
                    <a:pt x="6673" y="1538"/>
                  </a:lnTo>
                  <a:lnTo>
                    <a:pt x="6340" y="1636"/>
                  </a:lnTo>
                  <a:lnTo>
                    <a:pt x="6013" y="1719"/>
                  </a:lnTo>
                  <a:lnTo>
                    <a:pt x="5686" y="1784"/>
                  </a:lnTo>
                  <a:lnTo>
                    <a:pt x="5359" y="1850"/>
                  </a:lnTo>
                  <a:lnTo>
                    <a:pt x="5036" y="1906"/>
                  </a:lnTo>
                  <a:lnTo>
                    <a:pt x="4717" y="1948"/>
                  </a:lnTo>
                  <a:lnTo>
                    <a:pt x="4396" y="1980"/>
                  </a:lnTo>
                  <a:lnTo>
                    <a:pt x="4079" y="2013"/>
                  </a:lnTo>
                  <a:lnTo>
                    <a:pt x="3766" y="2029"/>
                  </a:lnTo>
                  <a:lnTo>
                    <a:pt x="3454" y="2046"/>
                  </a:lnTo>
                  <a:lnTo>
                    <a:pt x="3145" y="2053"/>
                  </a:lnTo>
                  <a:lnTo>
                    <a:pt x="2839" y="2046"/>
                  </a:lnTo>
                  <a:lnTo>
                    <a:pt x="2537" y="2046"/>
                  </a:lnTo>
                  <a:lnTo>
                    <a:pt x="2238" y="2029"/>
                  </a:lnTo>
                  <a:lnTo>
                    <a:pt x="1943" y="2004"/>
                  </a:lnTo>
                  <a:lnTo>
                    <a:pt x="1653" y="1980"/>
                  </a:lnTo>
                  <a:lnTo>
                    <a:pt x="1368" y="1955"/>
                  </a:lnTo>
                  <a:lnTo>
                    <a:pt x="1085" y="1915"/>
                  </a:lnTo>
                  <a:lnTo>
                    <a:pt x="806" y="1873"/>
                  </a:lnTo>
                  <a:lnTo>
                    <a:pt x="533" y="1833"/>
                  </a:lnTo>
                  <a:lnTo>
                    <a:pt x="0" y="1726"/>
                  </a:lnTo>
                  <a:cubicBezTo>
                    <a:pt x="28" y="1995"/>
                    <a:pt x="57" y="2263"/>
                    <a:pt x="85" y="2532"/>
                  </a:cubicBezTo>
                  <a:close/>
                </a:path>
              </a:pathLst>
            </a:custGeom>
            <a:solidFill>
              <a:schemeClr val="lt1">
                <a:alpha val="20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400" rIns="68400" tIns="68400" bIns="684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Google Shape;14;p1"/>
            <p:cNvSpPr/>
            <p:nvPr/>
          </p:nvSpPr>
          <p:spPr>
            <a:xfrm>
              <a:off x="344520" y="1399680"/>
              <a:ext cx="8457840" cy="3400200"/>
            </a:xfrm>
            <a:custGeom>
              <a:avLst/>
              <a:gdLst>
                <a:gd name="textAreaLeft" fmla="*/ 0 w 8457840"/>
                <a:gd name="textAreaRight" fmla="*/ 8458200 w 8457840"/>
                <a:gd name="textAreaTop" fmla="*/ 0 h 3400200"/>
                <a:gd name="textAreaBottom" fmla="*/ 3400560 h 3400200"/>
              </a:gdLst>
              <a:ahLst/>
              <a:rect l="textAreaLeft" t="textAreaTop" r="textAreaRight" b="textAreaBottom"/>
              <a:pathLst>
                <a:path w="7104" h="2856">
                  <a:moveTo>
                    <a:pt x="0" y="0"/>
                  </a:moveTo>
                  <a:lnTo>
                    <a:pt x="0" y="2856"/>
                  </a:lnTo>
                  <a:lnTo>
                    <a:pt x="7104" y="2856"/>
                  </a:lnTo>
                  <a:lnTo>
                    <a:pt x="7104" y="1"/>
                  </a:lnTo>
                  <a:lnTo>
                    <a:pt x="7104" y="1"/>
                  </a:lnTo>
                  <a:lnTo>
                    <a:pt x="6943" y="26"/>
                  </a:lnTo>
                  <a:lnTo>
                    <a:pt x="6782" y="50"/>
                  </a:lnTo>
                  <a:lnTo>
                    <a:pt x="6621" y="73"/>
                  </a:lnTo>
                  <a:lnTo>
                    <a:pt x="6459" y="93"/>
                  </a:lnTo>
                  <a:lnTo>
                    <a:pt x="6298" y="113"/>
                  </a:lnTo>
                  <a:lnTo>
                    <a:pt x="6136" y="132"/>
                  </a:lnTo>
                  <a:lnTo>
                    <a:pt x="5976" y="148"/>
                  </a:lnTo>
                  <a:lnTo>
                    <a:pt x="5814" y="163"/>
                  </a:lnTo>
                  <a:lnTo>
                    <a:pt x="5653" y="177"/>
                  </a:lnTo>
                  <a:lnTo>
                    <a:pt x="5494" y="189"/>
                  </a:lnTo>
                  <a:lnTo>
                    <a:pt x="5334" y="201"/>
                  </a:lnTo>
                  <a:lnTo>
                    <a:pt x="5175" y="211"/>
                  </a:lnTo>
                  <a:lnTo>
                    <a:pt x="5017" y="219"/>
                  </a:lnTo>
                  <a:lnTo>
                    <a:pt x="4859" y="227"/>
                  </a:lnTo>
                  <a:lnTo>
                    <a:pt x="4703" y="234"/>
                  </a:lnTo>
                  <a:lnTo>
                    <a:pt x="4548" y="239"/>
                  </a:lnTo>
                  <a:lnTo>
                    <a:pt x="4393" y="243"/>
                  </a:lnTo>
                  <a:lnTo>
                    <a:pt x="4240" y="247"/>
                  </a:lnTo>
                  <a:lnTo>
                    <a:pt x="4088" y="249"/>
                  </a:lnTo>
                  <a:lnTo>
                    <a:pt x="3937" y="251"/>
                  </a:lnTo>
                  <a:lnTo>
                    <a:pt x="3788" y="252"/>
                  </a:lnTo>
                  <a:lnTo>
                    <a:pt x="3640" y="251"/>
                  </a:lnTo>
                  <a:lnTo>
                    <a:pt x="3494" y="251"/>
                  </a:lnTo>
                  <a:lnTo>
                    <a:pt x="3349" y="249"/>
                  </a:lnTo>
                  <a:lnTo>
                    <a:pt x="3207" y="246"/>
                  </a:lnTo>
                  <a:lnTo>
                    <a:pt x="3066" y="243"/>
                  </a:lnTo>
                  <a:lnTo>
                    <a:pt x="2928" y="240"/>
                  </a:lnTo>
                  <a:lnTo>
                    <a:pt x="2791" y="235"/>
                  </a:lnTo>
                  <a:lnTo>
                    <a:pt x="2656" y="230"/>
                  </a:lnTo>
                  <a:lnTo>
                    <a:pt x="2524" y="225"/>
                  </a:lnTo>
                  <a:lnTo>
                    <a:pt x="2266" y="212"/>
                  </a:lnTo>
                  <a:lnTo>
                    <a:pt x="2019" y="198"/>
                  </a:lnTo>
                  <a:lnTo>
                    <a:pt x="1782" y="183"/>
                  </a:lnTo>
                  <a:lnTo>
                    <a:pt x="1557" y="167"/>
                  </a:lnTo>
                  <a:lnTo>
                    <a:pt x="1343" y="150"/>
                  </a:lnTo>
                  <a:lnTo>
                    <a:pt x="1144" y="132"/>
                  </a:lnTo>
                  <a:lnTo>
                    <a:pt x="957" y="114"/>
                  </a:lnTo>
                  <a:lnTo>
                    <a:pt x="785" y="96"/>
                  </a:lnTo>
                  <a:lnTo>
                    <a:pt x="627" y="79"/>
                  </a:lnTo>
                  <a:lnTo>
                    <a:pt x="487" y="63"/>
                  </a:lnTo>
                  <a:lnTo>
                    <a:pt x="361" y="48"/>
                  </a:lnTo>
                  <a:lnTo>
                    <a:pt x="254" y="35"/>
                  </a:lnTo>
                  <a:lnTo>
                    <a:pt x="165" y="23"/>
                  </a:lnTo>
                  <a:lnTo>
                    <a:pt x="4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Google Shape;15;p1"/>
            <p:cNvSpPr/>
            <p:nvPr/>
          </p:nvSpPr>
          <p:spPr>
            <a:xfrm>
              <a:off x="0" y="1080"/>
              <a:ext cx="9143640" cy="5141880"/>
            </a:xfrm>
            <a:custGeom>
              <a:avLst/>
              <a:gdLst>
                <a:gd name="textAreaLeft" fmla="*/ 0 w 9143640"/>
                <a:gd name="textAreaRight" fmla="*/ 9144000 w 9143640"/>
                <a:gd name="textAreaTop" fmla="*/ 0 h 5141880"/>
                <a:gd name="textAreaBottom" fmla="*/ 5142240 h 5141880"/>
              </a:gdLst>
              <a:ahLst/>
              <a:rect l="textAreaLeft" t="textAreaTop" r="textAreaRight" b="textAreaBottom"/>
              <a:pathLst>
                <a:path w="15356" h="8638">
                  <a:moveTo>
                    <a:pt x="0" y="0"/>
                  </a:moveTo>
                  <a:lnTo>
                    <a:pt x="0" y="8638"/>
                  </a:lnTo>
                  <a:lnTo>
                    <a:pt x="15356" y="8638"/>
                  </a:lnTo>
                  <a:lnTo>
                    <a:pt x="15356" y="0"/>
                  </a:lnTo>
                  <a:lnTo>
                    <a:pt x="0" y="0"/>
                  </a:lnTo>
                  <a:close/>
                  <a:moveTo>
                    <a:pt x="14748" y="8038"/>
                  </a:moveTo>
                  <a:lnTo>
                    <a:pt x="600" y="8038"/>
                  </a:lnTo>
                  <a:lnTo>
                    <a:pt x="600" y="592"/>
                  </a:lnTo>
                  <a:lnTo>
                    <a:pt x="14748" y="592"/>
                  </a:lnTo>
                  <a:lnTo>
                    <a:pt x="14748" y="8038"/>
                  </a:lnTo>
                  <a:close/>
                </a:path>
              </a:pathLst>
            </a:custGeom>
            <a:solidFill>
              <a:schemeClr val="l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Google Shape;20;p1"/>
          <p:cNvSpPr/>
          <p:nvPr/>
        </p:nvSpPr>
        <p:spPr>
          <a:xfrm>
            <a:off x="7828200" y="0"/>
            <a:ext cx="513720" cy="857160"/>
          </a:xfrm>
          <a:prstGeom prst="rect">
            <a:avLst/>
          </a:prstGeom>
          <a:solidFill>
            <a:schemeClr val="accent1"/>
          </a:solidFill>
          <a:ln w="0">
            <a:noFill/>
          </a:ln>
          <a:effectLst>
            <a:outerShdw blurRad="38160" dir="5400000" dist="2556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68400" rIns="68400" tIns="68400" bIns="68400" anchor="ctr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buNone/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866160" y="1952640"/>
            <a:ext cx="6618960" cy="25621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dt" idx="4"/>
          </p:nvPr>
        </p:nvSpPr>
        <p:spPr>
          <a:xfrm>
            <a:off x="7989840" y="4793760"/>
            <a:ext cx="74232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ftr" idx="5"/>
          </p:nvPr>
        </p:nvSpPr>
        <p:spPr>
          <a:xfrm>
            <a:off x="420840" y="4793760"/>
            <a:ext cx="2894400" cy="2282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 type="sldNum" idx="6"/>
          </p:nvPr>
        </p:nvSpPr>
        <p:spPr>
          <a:xfrm>
            <a:off x="7764480" y="221760"/>
            <a:ext cx="628200" cy="57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</a:tabLst>
              <a:def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fld id="{C342AD6C-CF08-48E0-9496-0513B7A9F970}" type="slidenum">
              <a:rPr b="0" lang="ru" sz="2100" spc="-1" strike="noStrike">
                <a:solidFill>
                  <a:schemeClr val="lt1"/>
                </a:solidFill>
                <a:latin typeface="Century Gothic"/>
                <a:ea typeface="Century Gothic"/>
              </a:rPr>
              <a:t>&lt;number&gt;</a:t>
            </a:fld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11760" y="0"/>
            <a:ext cx="8520120" cy="2796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b">
            <a:noAutofit/>
          </a:bodyPr>
          <a:p>
            <a:pPr marL="457200" indent="-457200" algn="ctr">
              <a:lnSpc>
                <a:spcPct val="100000"/>
              </a:lnSpc>
              <a:buClr>
                <a:srgbClr val="ebebeb"/>
              </a:buClr>
              <a:buFont typeface="Century Gothic"/>
              <a:buChar char="●"/>
            </a:pP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ОРЕНБУРГСКИЙ ИНСТИТУТ ПУТЕЙ СООБЩЕНИЯ 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СТРУКТУРНОЕ ПОДРАЗДЕЛЕНИЕ 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ОРЕНБУРГСКИЙ ТЕХНИКУМ ЖЕЛЕЗНОДОРОЖНОГО ТРАНСПОРТА</a:t>
            </a:r>
            <a:br>
              <a:rPr sz="900"/>
            </a:br>
            <a:r>
              <a:rPr b="0" lang="ru" sz="900" spc="-1" strike="noStrike">
                <a:solidFill>
                  <a:srgbClr val="ebebeb"/>
                </a:solidFill>
                <a:latin typeface="Century Gothic"/>
                <a:ea typeface="Century Gothic"/>
              </a:rPr>
              <a:t>(ОТЖТ – структурное подразделение ОрИПС – филиала СамГУПС)</a:t>
            </a:r>
            <a:br>
              <a:rPr sz="2700"/>
            </a:br>
            <a:br>
              <a:rPr sz="2700"/>
            </a:br>
            <a:r>
              <a:rPr b="0" lang="ru" sz="1500" spc="-1" strike="noStrike">
                <a:solidFill>
                  <a:srgbClr val="ebebeb"/>
                </a:solidFill>
                <a:latin typeface="Times New Roman"/>
                <a:ea typeface="Times New Roman"/>
              </a:rPr>
              <a:t>Презентация по дисциплине: «Охрана труда»</a:t>
            </a:r>
            <a:br>
              <a:rPr sz="1500"/>
            </a:br>
            <a:r>
              <a:rPr b="0" lang="ru" sz="1500" spc="-1" strike="noStrike">
                <a:solidFill>
                  <a:srgbClr val="ebebeb"/>
                </a:solidFill>
                <a:latin typeface="Times New Roman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6186600" y="3755520"/>
            <a:ext cx="2077200" cy="6458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Выполнил: Мельников А.Е.</a:t>
            </a:r>
            <a:br>
              <a:rPr sz="1100"/>
            </a:b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                                                                                                                         Проверила: Яночкина С.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66160" y="969120"/>
            <a:ext cx="7399440" cy="35452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нашей стране используется иной подход к оценке вибрационных нару­шений. Разработанная впервые в мире Е.Ц. Андреевой-Галаниной и соавт. (1956) классификация вибрационных нарушений – вибрационной болезни как самостоятельной нозологической формы, позволяющая выделить комп­лекс наиболее часто встречающихся синдромов, в настоящее время сущест­венно развит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твержденная в 1985 г. Минздравом СССР «Классификация вибрационной бо­лезни от воздействия локальной вибрации» устанавливает 3 степени выражен­ности заболевания:</a:t>
            </a:r>
            <a:br>
              <a:rPr sz="1100"/>
            </a:b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начальные проявления (I степень);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умеренно выраженные проявления (II степень);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– выраженные (III степень) проявлени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Google Shape;310;p29" descr=""/>
          <p:cNvPicPr/>
          <p:nvPr/>
        </p:nvPicPr>
        <p:blipFill>
          <a:blip r:embed="rId1"/>
          <a:stretch/>
        </p:blipFill>
        <p:spPr>
          <a:xfrm>
            <a:off x="483480" y="599400"/>
            <a:ext cx="2789640" cy="2262240"/>
          </a:xfrm>
          <a:prstGeom prst="rect">
            <a:avLst/>
          </a:prstGeom>
          <a:ln w="0">
            <a:noFill/>
          </a:ln>
        </p:spPr>
      </p:pic>
      <p:sp>
        <p:nvSpPr>
          <p:cNvPr id="130" name="Google Shape;311;p29"/>
          <p:cNvSpPr/>
          <p:nvPr/>
        </p:nvSpPr>
        <p:spPr>
          <a:xfrm>
            <a:off x="3273480" y="664920"/>
            <a:ext cx="5477040" cy="23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Каждая степень характеризуется определенными синдромами (периферический ангиодистонический, вегетативно-сенсорной полинейропатии и т.п.), причем при I степени отмечаются лишь нарушения в руках (сосудистые и сенсорные), при II и III степенях нарушения носят более генерализованный характер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Помимо перифериче­ских сосудистых и сенсорных расстройств, рассматриваются дистрофические нарушения опорно-двигательного аппарата рук и плечевого пояса, нарушения мозгового кровообращения и синдром энцефалополинейропатии. Классификация позволяет оценить трудоспособность в зависимости от характера наблюдаемых синдромов.</a:t>
            </a:r>
            <a:br>
              <a:rPr sz="1200"/>
            </a:br>
            <a:r>
              <a:rPr b="0" lang="ru" sz="1400" spc="-1" strike="noStrike">
                <a:solidFill>
                  <a:srgbClr val="58585a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Google Shape;312;p29"/>
          <p:cNvSpPr/>
          <p:nvPr/>
        </p:nvSpPr>
        <p:spPr>
          <a:xfrm>
            <a:off x="274320" y="3089160"/>
            <a:ext cx="8329680" cy="15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1982 г. отечественными учеными разработана классификация вибраци­онной болезни от воздействия общей вибрации, в основу которой положен синдромный принцип, при этом учтен низкочастотный характер вибрации, хорошо распространяющейся по телу человека и вовлекающий в процесс вестибулярный анализатор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классификации выделяются начальные (I сте­пень), умеренно выраженные (II степень) и выраженные (III степень) про­явления вибрационной болезни от общих вибраций. В клинической картине вибрационной болезни ведущими являются церебрально-периферический ангиодистонический синдром и синдром вегетативно-сенсорной полинейропатии в сочетании с синдромом полирадикулонейропатии, вторичным пояснично-крестцовым синдромом (вследствие остеохондроза поясничного от­дела позвоночника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Google Shape;317;p30" descr=""/>
          <p:cNvPicPr/>
          <p:nvPr/>
        </p:nvPicPr>
        <p:blipFill>
          <a:blip r:embed="rId1"/>
          <a:stretch/>
        </p:blipFill>
        <p:spPr>
          <a:xfrm>
            <a:off x="532800" y="174240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33" name="Google Shape;318;p30"/>
          <p:cNvSpPr/>
          <p:nvPr/>
        </p:nvSpPr>
        <p:spPr>
          <a:xfrm>
            <a:off x="3785760" y="1490400"/>
            <a:ext cx="4571640" cy="30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rgbClr val="58585a"/>
                </a:solidFill>
                <a:latin typeface="Open Sans"/>
                <a:ea typeface="Open Sans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500" spc="-1" strike="noStrike">
                <a:solidFill>
                  <a:srgbClr val="000000"/>
                </a:solidFill>
                <a:latin typeface="arial"/>
                <a:ea typeface="arial"/>
              </a:rPr>
              <a:t>Вибрационная болезнь, вызванная воздействием общей вибрации и толчков, наблюдаемая у операторов транспортных и транспортно-технологических средств, характеризуется синдромом вестибулопатии, который проявляется главным образом вестибуловегетативными расстройст­вами – головокружением, головной болью, тошнотой, рвотой, адинамией, брадикардией и др. Весьма характерны также дегенеративно-дистрофиче­ские изменения со стороны опорно-двигательного аппарат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3080" y="539640"/>
            <a:ext cx="8686440" cy="39751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собое место в клинике вибрационной болезни занимает патология со стороны опорнодвигательного аппарата. Воздействие общей вибрации при­водит к прямому микротравмирующему действию на позвоночник вслед­ствие значительных аксиальных нагрузок на межпозвоночные диски, кото­рые ведут себя как фильтры низких частот, являясь линейными даже в слу­чае локальных перегрузок в позвоночно-двигательном сегменте в результате перенапряжения познотонических мышц. Воздействие внешних и внутрен­них нагрузок на позвоночник приводит к дегенерации диск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Локализация дегенеративных изменений в одном и том же отделе позво­ночника и значительная частота поясничных остеохондрозов у лиц вибро-опасных профессий позволяет предложить прямую связь данных изменений с патологией вибрационного генеза. Отмечено, что отчетливо выраженные остеофиты, как правило, локализуются на нижних краях I и II грудного и поясничного позвонков, а также на верхних краях II, III и IV поясничных позвонков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ледует признать, что дегенеративные изменения позвоночного столба наряду с изменениями такого же порядка других отделов скелета у работаю­щих обнаруживаются нередко вне связи с неврологической симптоматикой. При этом диагностируемые на рентгенограммах патологические изменения костной структуры подчас являются единственными и сравнительно ранни­ми признаками вибрационной болезни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ругим важным моментом является акселерирующее влияние вибрации на темпы естественных инволютивных процессов, поэтому обнаружение де­генеративных изменений, степень выраженности которых больше, чем сле­дует ожидать для возраста обследуемых, может свидетельствовать о наличии остеопатии, обусловленной вибрационным фактором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основе патогенеза вибрационной болезни лежит сложный механизм нервно-рефлекторных и нейрогуморальных нарушений, которые приводят к развитию застойного возбуждения с последующим стойким изменением как в рецепторном аппарате, так и в различных отделах нервной системы. Не­благоприятное влияние вибрации на организм человека характеризуется ло­кальным действием на ткани и заложенные в них многочисленные экстеро- и интерорецепторы (прямой микротравмирующий эффект) и опосредованно через центральную нервную систему на различные системы и органы. Важ­ную роль играют вторичные расстройства в результате нарушения трофики, вызванного сосудистой дисфункцией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Google Shape;328;p32" descr=""/>
          <p:cNvPicPr/>
          <p:nvPr/>
        </p:nvPicPr>
        <p:blipFill>
          <a:blip r:embed="rId1"/>
          <a:stretch/>
        </p:blipFill>
        <p:spPr>
          <a:xfrm>
            <a:off x="6455520" y="444600"/>
            <a:ext cx="2257920" cy="1425960"/>
          </a:xfrm>
          <a:prstGeom prst="rect">
            <a:avLst/>
          </a:prstGeom>
          <a:ln w="0">
            <a:noFill/>
          </a:ln>
        </p:spPr>
      </p:pic>
      <p:sp>
        <p:nvSpPr>
          <p:cNvPr id="136" name="Google Shape;329;p32"/>
          <p:cNvSpPr/>
          <p:nvPr/>
        </p:nvSpPr>
        <p:spPr>
          <a:xfrm>
            <a:off x="382680" y="555120"/>
            <a:ext cx="6272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Клиническая симптоматика вибрационной болезни, обусловленная ло­кальной или общей вибрацией, складывается из нейрососудистых наруше­ний, поражений нервно-мышечной системы, опорно-двигательного аппара­та, изменений обмена веществ и др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ущественное значение для патогенеза вибрационной болезни имеют как специфические, так и неспецифические реакции общего типа, отражающие адаптационно-компенсаторные реакции организма. Многолетнее изучение данной патологии позволило установить различные варианты ее течения с преимущественным проявлением нейрососудистых расстройств или патоло­гии опорно-двигательного аппара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Google Shape;330;p32"/>
          <p:cNvSpPr/>
          <p:nvPr/>
        </p:nvSpPr>
        <p:spPr>
          <a:xfrm>
            <a:off x="246960" y="2240280"/>
            <a:ext cx="877788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ыраженность клинической симптоматики определяется в первую оче­редь спектральными и амплитудными параметрами вибрации и тем, в каких условиях это воздействие происходит. Так, воздействие низкочастотной виб­рации приводит к развитию вибрационной патологии с превалированием поражений нервно-мышечной системы, опорно-двигательного аппарата и менее выраженным сосудистым компонентом. Например, такая форма на­блюдается у формовщиков, бурильщиков и др. Средне- и высокочастотная вибрация вызывает различные по степени выраженности сосудистые, нерв- но-мышечные, костно-суставные и другие нарушения. При работе со шли­фовальными машинами и другими источниками высокочастотной вибрации возникают в основном сосудистые нарушения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 результате влияния интенсивной локальной вибрации вначале возника­ют функциональные, а затем дистрофические изменения в рецепторном ап­парате и переваскулярных нервных сплетениях мелких сосудов в области верхних конечностей. Постепенно в процесс вовлекаются и другие отделы периферической и центральной нервной системы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вреждающее действие вибрации вызывает снижение функции гомеостатического регулирования тканевого метаболизма. Наступает также мест­ное повреждение интимы сосудов. Повышается активность щелочной фосфатазы крови, изменяется соотношение содержания нуклеиновых кислот – РНК и ДНК, снижается активность сукцинатдегидрогеназы.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900"/>
            </a:br>
            <a:r>
              <a:rPr b="0" lang="ru" sz="9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ажную роль в инициировании приступа побеления пальцев играет воз­действие холода, вызывающее рефлекторное, опосредованное симпатиче­ской системой сужение сосудов. В пользу этой гипотезы свидетельствуют результаты гистологического изучения тканей пальцев рук, показавшие, что наряду с другими нарушениями в этих случаях имеет место выраженная ги­пертрофия мышц сосудистой стенки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Google Shape;335;p33" descr=""/>
          <p:cNvPicPr/>
          <p:nvPr/>
        </p:nvPicPr>
        <p:blipFill>
          <a:blip r:embed="rId1"/>
          <a:stretch/>
        </p:blipFill>
        <p:spPr>
          <a:xfrm>
            <a:off x="451800" y="513000"/>
            <a:ext cx="2613960" cy="1470960"/>
          </a:xfrm>
          <a:prstGeom prst="rect">
            <a:avLst/>
          </a:prstGeom>
          <a:ln w="0">
            <a:noFill/>
          </a:ln>
        </p:spPr>
      </p:pic>
      <p:sp>
        <p:nvSpPr>
          <p:cNvPr id="139" name="Google Shape;336;p33"/>
          <p:cNvSpPr/>
          <p:nvPr/>
        </p:nvSpPr>
        <p:spPr>
          <a:xfrm>
            <a:off x="3130200" y="567720"/>
            <a:ext cx="5693400" cy="136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угубляет нарушение микроциркуляции и проницаемости сосудов кис­лородный дисбаланс. Исследование различных звеньев патогенеза вибраци­онной болезни (нейрогуморальных, микроциркуляторных, гормональных, фер­ментативных) позволяет предположить, что изменение тканевого метаболиз­ма и развитие дистрофических процессов связаны с наличием нарушений как местных ферментных систем, так и центральных рефлекторных влияний на тканевый обмен</a:t>
            </a: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Google Shape;337;p33"/>
          <p:cNvSpPr/>
          <p:nvPr/>
        </p:nvSpPr>
        <p:spPr>
          <a:xfrm>
            <a:off x="182880" y="2066400"/>
            <a:ext cx="85766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ефицит кислорода способствует также развитию трофических наруше­ний в дистальных отделах верхних конечностей, в частности возникновению миофиброзов, артрозов и периатрозов, образованию кист, эностозов, сниже­нию минерального компонента костной ткани. Страдает капиллярное и прекапиллярное кровообращение в пальцах рук, а в последующем изменяется тонус крупных сосудов (артерий и вен) на предплечьях и плече, что клини­чески проявляется в виде ангиодистонического (или ангиоспастического) синдром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пределенное значение в патогенезе вибрационной болезни имеют изме­нения в свертывающей системе крови, способствующие нарушению микро­циркуляции и прогрессированию процесса. Наряду с указанным большое влияние на развитие периферических гемодинамических нарушений оказы­вает изменение механизмов вегетативно-сосудистой регуляции, связанное с измененным функционированием высших вегетативных центров и ретику­лярной формации ствола головного мозга, а также периферических вегета­тивных ганглиев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Сосудистые нарушения при вибрационной болезни имеют тенденцию к генерализации, что в выраженных случаях может привести к постепенному развитию хронической недостаточности мозгового кровообращения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тмечаются также изменения функции гипоталамо-гипофизарно-надпочечниковой системы; нарушается соотношение вазоактивных веществ ренин-ангиотензинальдостероновой системы, появляются сдвиги в соотношении гормонов гипофизарно-тиреоидного комплекса, изменения в содержании циклических нуклеотидов и повышение в крови уровня простагландинов, сдвиги в кальций-магниевом обмене и т.д. В отдельных случаях вибрацион­ной болезни наблюдается изменение иммунологических показателей; при тя­желых формах вибрационной патологии отмечено нарушение функциональ­ной активности Т- и В-лимфоцитов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Google Shape;342;p34" descr=""/>
          <p:cNvPicPr/>
          <p:nvPr/>
        </p:nvPicPr>
        <p:blipFill>
          <a:blip r:embed="rId1"/>
          <a:stretch/>
        </p:blipFill>
        <p:spPr>
          <a:xfrm>
            <a:off x="5788080" y="343440"/>
            <a:ext cx="2990520" cy="1933200"/>
          </a:xfrm>
          <a:prstGeom prst="rect">
            <a:avLst/>
          </a:prstGeom>
          <a:ln w="0">
            <a:noFill/>
          </a:ln>
        </p:spPr>
      </p:pic>
      <p:sp>
        <p:nvSpPr>
          <p:cNvPr id="142" name="Google Shape;343;p34"/>
          <p:cNvSpPr/>
          <p:nvPr/>
        </p:nvSpPr>
        <p:spPr>
          <a:xfrm>
            <a:off x="466200" y="498600"/>
            <a:ext cx="5239080" cy="20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тановлено, что развитие периферической полинейропатии сопровож­дается изменением активности холинэстеразы в мышцах. Расстройства дви­гательной функции, возникающие под воздействием локальной вибрации, обусловлены как нарушением координирующих влияний коркового отдела анализатора на периферию, так и непосредственным поражением мышц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работе с тяжелым пневматическим инструментом, когда имеет место значительное напряжение верхних конечностей, часто наблюдаются миофасцикулиты, миозиты мышц плечевого пояса, тендомиозит предплечья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Нередко обнаруживаются деструктивно-дистрофические процессы в костно-сус­тавном аппарат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Google Shape;344;p34"/>
          <p:cNvSpPr/>
          <p:nvPr/>
        </p:nvSpPr>
        <p:spPr>
          <a:xfrm>
            <a:off x="347400" y="2506680"/>
            <a:ext cx="8431200" cy="24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аким образом, в генезе вибрационной болезни от воздействия локальной вибрации играют роль как местное повреждение тканевых структур, обеспе­чивающих гомеостатическое регулирование тканевого метаболизма, так и на­рушение центральных (гуморальных и нейрорефлекторных) механизмов ре­гуляции периферического кровообращения, способствующее усугублению патологического процесс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Что касается патогенеза вибрационной болезни от воздействия общих вибраций, то он остается до настоящего времени недостаточно изученным. Обобщенная клинико-физиологическая картина действия общей вибрации позволяет высказать гипотезу о механизме прямого микротравмирующего дей­ствия вибрации на опорно-двигательный аппарат, вестибулообусловленные и экстравестибулярные реакции. Частота и степень выраженности нарушений зависят от физических характеристик вибрации, эргономических параметров рабочего места, медико-биологических параметров человека-оператор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Как известно, вибрационная болезнь отличается от общей вибрации полиморфностью, а наблюдаемые ранние периферические и церебральные ве­гетативно-сосудистые нарушения при этом нередко носят неспецифический функциональный характер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47360" y="562320"/>
            <a:ext cx="7454520" cy="413280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 современным представлениям, патогенетический механизм формиро­вания вибрационных нарушений от воздействия общей вибрации является сложным процессом, состоящим из трех основных взаимосвязанных этапов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ервый этап – рецепторные изменения, характеризующиеся дисфункцией вестибулярного аппарата, и связанные с ними функциональные нарушения вестибулосоматических, вестибуловегетативных, вестибулосенсорных реакций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торой этап – дегенеративно-дистрофические нарушения позвоночника (остеохондроз), возникающие при наличии экзогенных и эндогенных фак­торов, и связанные с ними явления декомпенсации трофической системы.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 </a:t>
            </a:r>
            <a:br>
              <a:rPr sz="1500"/>
            </a:br>
            <a:r>
              <a:rPr b="1" lang="ru" sz="15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ретий этап – потеря адаптационных способностей органами равновесия и связанные с этим нарушения функционального состояния оптовестибуло- спинального комплекса вследствие патологической вестибулоафферентации</a:t>
            </a:r>
            <a:r>
              <a:rPr b="1" lang="ru" sz="15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Google Shape;354;p36" descr=""/>
          <p:cNvPicPr/>
          <p:nvPr/>
        </p:nvPicPr>
        <p:blipFill>
          <a:blip r:embed="rId1"/>
          <a:stretch/>
        </p:blipFill>
        <p:spPr>
          <a:xfrm>
            <a:off x="624240" y="188856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46" name="Google Shape;355;p36"/>
          <p:cNvSpPr/>
          <p:nvPr/>
        </p:nvSpPr>
        <p:spPr>
          <a:xfrm>
            <a:off x="3895200" y="1814400"/>
            <a:ext cx="4571640" cy="297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400" spc="-1" strike="noStrike">
                <a:solidFill>
                  <a:srgbClr val="000000"/>
                </a:solidFill>
                <a:latin typeface="Century Gothic"/>
                <a:ea typeface="Century Gothic"/>
              </a:rPr>
              <a:t>На основании клинических, функциональных и экспериментальных ис­следований установлено, что одним из патогенетических механизмов вибра­ционной болезни наряду с нервно-рефлекторными нарушениями являются повышение венозного сопротивления, изменение венозного оттока, приво­дящего к венозному полнокровию, увеличение фильтрации жидкости и сни­жение питания тканей с развитием в дальнейшем периферического ангио- дистонического синдрома. Низкочастотная вибрация ведет к изменению морфологического состава крови: эритроцитопении, лейкоцитозу; имеет место снижение уровня гемо­глобин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Google Shape;360;p37" descr=""/>
          <p:cNvPicPr/>
          <p:nvPr/>
        </p:nvPicPr>
        <p:blipFill>
          <a:blip r:embed="rId1"/>
          <a:stretch/>
        </p:blipFill>
        <p:spPr>
          <a:xfrm>
            <a:off x="5307840" y="1011600"/>
            <a:ext cx="3478680" cy="1956960"/>
          </a:xfrm>
          <a:prstGeom prst="rect">
            <a:avLst/>
          </a:prstGeom>
          <a:ln w="0">
            <a:noFill/>
          </a:ln>
        </p:spPr>
      </p:pic>
      <p:sp>
        <p:nvSpPr>
          <p:cNvPr id="148" name="Google Shape;361;p37"/>
          <p:cNvSpPr/>
          <p:nvPr/>
        </p:nvSpPr>
        <p:spPr>
          <a:xfrm>
            <a:off x="667440" y="794160"/>
            <a:ext cx="457164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тмечено влияние общей вибрации на обменные процессы, проявляю­щиеся в изменении углеводного обмена; биохимических показателей крови, характеризующих нарушения белкового и ферментативного, а также витамин­ного и холестеринового обмена. Наблюдаются нарушения окислительно-вос­становительных процессов, проявляющиеся в снижении активности цитохромоксидазы, креатинкиназы, в повышении концентрации молочной кислоты крови, изменении показателей азотистого обмена, в снижении альбумин- глобулинового коэффициента, в изменении активности коагулирующих и антисвертывающих факторов кров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Google Shape;362;p37"/>
          <p:cNvSpPr/>
          <p:nvPr/>
        </p:nvSpPr>
        <p:spPr>
          <a:xfrm>
            <a:off x="457200" y="3558960"/>
            <a:ext cx="8046360" cy="13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4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 </a:t>
            </a:r>
            <a:r>
              <a:rPr b="0" lang="ru" sz="14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Установлено изменение минералкортикоидной функции: понижение концентрации ионов натрия в крови, повышение экскреции солей натрия и снижение солей колия. Имеет место нарушение деятельности эндокринной системы: нарушает­ся нейрогуморальная и гормональная регуляция функций, проявляющаяся в изменениях показателей гистамин-серотонина, содержания гидрокортизона, 17-оксикортикостероидов, катехоламин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Содерж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66160" y="1952640"/>
            <a:ext cx="6618960" cy="256176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Что такое вибрация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Основные виды вибрац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1" lang="ru" sz="1100" spc="-1" strike="noStrike">
                <a:solidFill>
                  <a:srgbClr val="3f3f3f"/>
                </a:solidFill>
                <a:latin typeface="Century Gothic"/>
                <a:ea typeface="Century Gothic"/>
              </a:rPr>
              <a:t>Биологическое воздействие вибрации на орга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Google Shape;367;p38" descr=""/>
          <p:cNvPicPr/>
          <p:nvPr/>
        </p:nvPicPr>
        <p:blipFill>
          <a:blip r:embed="rId1"/>
          <a:stretch/>
        </p:blipFill>
        <p:spPr>
          <a:xfrm>
            <a:off x="433800" y="508320"/>
            <a:ext cx="3479040" cy="1957320"/>
          </a:xfrm>
          <a:prstGeom prst="rect">
            <a:avLst/>
          </a:prstGeom>
          <a:ln w="0">
            <a:noFill/>
          </a:ln>
        </p:spPr>
      </p:pic>
      <p:sp>
        <p:nvSpPr>
          <p:cNvPr id="151" name="Google Shape;368;p38"/>
          <p:cNvSpPr/>
          <p:nvPr/>
        </p:nvSpPr>
        <p:spPr>
          <a:xfrm>
            <a:off x="4032360" y="621720"/>
            <a:ext cx="4571640" cy="15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ая вибрация оказывает также отрицательное влияние на женскую по­ловую сферу, что выражается в расстройствах менструального цикла, альгодисменорее и меноррагии; у мужчин нередко наблюдается импотенция; эти нарушения наиболее характерны для операторов транспортных и транспорт­но-технологических средств, подвергающихся действию толчкообразной виб­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Google Shape;369;p38"/>
          <p:cNvSpPr/>
          <p:nvPr/>
        </p:nvSpPr>
        <p:spPr>
          <a:xfrm>
            <a:off x="356760" y="2569320"/>
            <a:ext cx="833904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всех видах вибрационной болезни нередко наблюдаются изменения со стороны центральной нервной системы в виде вегетодисфункции на не­врастеническом фоне, которые могут быть связаны с комбинированным дей­ствием вибрации и интенсивного шума, постоянно сопутствующего вибра­ционным процессам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о той же причине у работников виброопасных профессий с большим стажем возникают невриты слуховых нервов, при выраженных стадиях забо­левания наблюдается понижение слуха не только на высокие, но и на низкие тоны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Таким образом, многочисленными исследованиями отечественных и за­рубежных специалистов показано, что вибрационная болезнь от локальных и общих вибраций отличается полиморфностью симптоматики, своеобрази­ем клинического течения и нередко может приводить к нарушению трудо­способности больны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86616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	</a:t>
            </a: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Что такое вибрация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66160" y="1675440"/>
            <a:ext cx="7701120" cy="30236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ru" sz="2400" spc="-1" strike="noStrike">
                <a:solidFill>
                  <a:srgbClr val="000000"/>
                </a:solidFill>
                <a:latin typeface="Verdana"/>
                <a:ea typeface="Verdana"/>
              </a:rPr>
              <a:t>Вибрация — это физический фактор, действие которого определяется передачей человеку механической энергии от источника колебаний; основными характеристиками вибрации являются амплитуда смещения, скорость и ускор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66160" y="502920"/>
            <a:ext cx="6570720" cy="75708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Основные виды вибрации: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3200" y="1764720"/>
            <a:ext cx="6534000" cy="2768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10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епринятым является деление вибраций на общие и местные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Общая вибрация — это колебание всего тела, передающееся с рабочего мест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Локальная вибрация (местная вибрация) — это приложение колебаний только к ограниченному участку поверхности организма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10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На производстве распространены оба вида вибрации: локальная — через руки (чаще всего при работе с ручными машинами), общая (по всему телу) — при положении сидя или стоя на рабочем месте (у машины и технологического оборудования). Все виды вибрации, действующие на производстве, объединяются термином «производственная вибрация»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951120" y="795600"/>
            <a:ext cx="6985800" cy="377604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t">
            <a:noAutofit/>
          </a:bodyPr>
          <a:p>
            <a:pPr marL="254160" indent="-254160">
              <a:lnSpc>
                <a:spcPct val="90000"/>
              </a:lnSpc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ибрация автомобилей, средств транспорта и самоходной техники, рабочих мест водителей имеет преимущественно низкочастотный характер, отличается высокими уровнями интенсивности в октавах 1—8 Гц. Вибрация автомобиля и автомобильной техники зависит от скорости передвижения, типа сиденья, амортизирующих систем, степени изношенности машины и покрытия доро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Вибрация рабочих мест технологического оборудования имеет средне- и высокочастотный характер спектров с максимумом интенсивности в октавах 20—63 Г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-254160">
              <a:lnSpc>
                <a:spcPct val="90000"/>
              </a:lnSpc>
              <a:spcBef>
                <a:spcPts val="799"/>
              </a:spcBef>
              <a:buClr>
                <a:srgbClr val="b31166"/>
              </a:buClr>
              <a:buFont typeface="Noto Sans Symbols"/>
              <a:buChar char="▶"/>
            </a:pPr>
            <a:r>
              <a:rPr b="0" lang="ru" sz="12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Ручные машины, особенно ударного, ударно-поворотного и ударно-вращательного действия, получили широкое распространение в различных отраслях народного хозяйства (строительстве, машиностроении, авиации, лесной и горнорудной промышленности). Изучение условий труда работающих на этих машинах показало, что выполнение многообразных трудовых операций сопровождается наряду с воздействием вибрации значительным физическим напряжением. Рабочие удерживают в руках машины весом до 15 кг, прикладывая при этом дополнительные усилия нажима на рукоятку инструмента в 10—40 кг. Неудобные рабочие позы, различные усилия нажима на инструмент создают значительное статическое напряжение мышц плеча и плечевого пояса, что усугубляет неблагоприятное воздействие вибр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541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87000" y="730080"/>
            <a:ext cx="6570720" cy="529920"/>
          </a:xfrm>
          <a:prstGeom prst="rect">
            <a:avLst/>
          </a:prstGeom>
          <a:noFill/>
          <a:ln w="0">
            <a:noFill/>
          </a:ln>
        </p:spPr>
        <p:txBody>
          <a:bodyPr lIns="68400" rIns="68400" tIns="34200" bIns="342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" sz="1100" spc="-1" strike="noStrike">
                <a:solidFill>
                  <a:schemeClr val="lt2"/>
                </a:solidFill>
                <a:latin typeface="Century Gothic"/>
                <a:ea typeface="Century Gothic"/>
              </a:rPr>
              <a:t>БИОЛОГИЧЕСКОЕ ВОЗДЕЙСТВИЕ ВИБРАЦИИ НА ОРГАН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Google Shape;279;p24"/>
          <p:cNvSpPr/>
          <p:nvPr/>
        </p:nvSpPr>
        <p:spPr>
          <a:xfrm>
            <a:off x="274320" y="1753560"/>
            <a:ext cx="5723640" cy="31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Для стоящего на вибрирующей поверхности человека имеются два резо­нансных пика на частотах 5 – 12 Гц и 17 – 25 Гц, для сидящего – на частотах 4 – 6 Гц. Для головы резонансные частоты лежат в области 20 – 30 Гц. В этом диапазоне частот амплитуда колебаний головы может превышать амплитуду колебаний плеч в три раза. Для лежащего человека область резонансных час­тот находится в интервале 3 – 3,5 Гц. Одной из наиболее важных колебатель­ных систем является совокупность грудной клетки и брюшной полости. Колебания в этой системе возникают в положении стоя. Колебания внутренних органов этих полостей обнаруживают резонанс на частотах 3 – 3,5 Гц. Мак­симальная амплитуда колебаний брюшной стенки наблюдается на частотах от 7 до 8 Гц, а передней стенки грудной клетки – от 7 до 11 Гц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Century Gothic"/>
                <a:ea typeface="Century Gothic"/>
              </a:rPr>
              <a:t>При увеличении частоты колебаний происходит ослабление ее передачи по телу человека. В положении стоя и сидя величина ослабления в костях таза увеличивается на 9 дБ на октаву изменения частоты, на груди и на голове – 12 дБ, на плече – 12 – 14 дБ. Эти данные не распространяются на резонансные частоты, при воздействии которых происходит не ослабление, а увеличение колебательной скорости. В условиях передачи через руку при силе нажима 10 кг ослабление вибрации на тыле кисти происходит с накло­ном 2,5 дБ на октаву, а на голове – с наклоном 16 дБ на октаву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Google Shape;280;p24" descr=""/>
          <p:cNvPicPr/>
          <p:nvPr/>
        </p:nvPicPr>
        <p:blipFill>
          <a:blip r:embed="rId1"/>
          <a:stretch/>
        </p:blipFill>
        <p:spPr>
          <a:xfrm>
            <a:off x="6119640" y="2379240"/>
            <a:ext cx="2634480" cy="14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Google Shape;285;p25" descr=""/>
          <p:cNvPicPr/>
          <p:nvPr/>
        </p:nvPicPr>
        <p:blipFill>
          <a:blip r:embed="rId1"/>
          <a:stretch/>
        </p:blipFill>
        <p:spPr>
          <a:xfrm>
            <a:off x="450000" y="755640"/>
            <a:ext cx="2497320" cy="1588320"/>
          </a:xfrm>
          <a:prstGeom prst="rect">
            <a:avLst/>
          </a:prstGeom>
          <a:ln w="0">
            <a:noFill/>
          </a:ln>
        </p:spPr>
      </p:pic>
      <p:sp>
        <p:nvSpPr>
          <p:cNvPr id="121" name="Google Shape;286;p25"/>
          <p:cNvSpPr/>
          <p:nvPr/>
        </p:nvSpPr>
        <p:spPr>
          <a:xfrm>
            <a:off x="3063240" y="684360"/>
            <a:ext cx="5677920" cy="173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Рука человека может быть представлена эквивалентной системой, состоя­щей из сосредоточенных масс упругостей и сопротивлений. Коэффициенты, характеризующие упругость массы и колебательные потери руки, зависят главным образом от степени напряженности мышц руки и позы работающего. На рукоятке ручной машины в условиях работы с ней имеется один мак­симум – в области ниже 5 Гц и второй интенсивный максимум – в области частот 30 – 40 Гц, что соответствует резонансу системы «эффективная масса руки» (примерно 1 кг) и упругости мягких тканей внутренней стороны ки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Google Shape;287;p25"/>
          <p:cNvSpPr/>
          <p:nvPr/>
        </p:nvSpPr>
        <p:spPr>
          <a:xfrm>
            <a:off x="274320" y="2768400"/>
            <a:ext cx="8814600" cy="21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Механическая система прямой руки человека имеет резонанс в области частот 30 – 60 Гц. При передаче колебаний от ладони к тыльной стороне кисти амплитуда колебаний при неизменной частоте 40 – 50 Гц уменьшается на 35 – 65 %. На участках между кистью и локтем, локтем и плечом проис­ходит дальнейшее ослабление колебаний. Наибольшее затухание наблюдает­ся в плечевом суставе и на голове. С увеличением силы нажима на рукоятку наблюдается пропорциональное возрастание проводимости вибрации на плече, составляющее 1,2 дБ на удвоение силы нажима для частоты 8 Гц, около 3 дБ – для частоты 16 Гц и 4 – 5 дБ – для частот 32 – 125 Гц. При увеличении силы нажима на инструмент человеком не только будет получе­но большое количество колебательной энергии в связи с увеличением вход­ного механического импеданса, но воздействие вибрации распространится на большую рецептивную зону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Особенности воздействия производственной вибрации определяются час­тотным спектром и распределением в его пределах максимальных уровней энергии колебания</a:t>
            </a: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Google Shape;292;p26" descr=""/>
          <p:cNvPicPr/>
          <p:nvPr/>
        </p:nvPicPr>
        <p:blipFill>
          <a:blip r:embed="rId1"/>
          <a:stretch/>
        </p:blipFill>
        <p:spPr>
          <a:xfrm>
            <a:off x="551160" y="1687320"/>
            <a:ext cx="2970360" cy="2561760"/>
          </a:xfrm>
          <a:prstGeom prst="rect">
            <a:avLst/>
          </a:prstGeom>
          <a:ln w="0">
            <a:noFill/>
          </a:ln>
        </p:spPr>
      </p:pic>
      <p:sp>
        <p:nvSpPr>
          <p:cNvPr id="124" name="Google Shape;293;p26"/>
          <p:cNvSpPr/>
          <p:nvPr/>
        </p:nvSpPr>
        <p:spPr>
          <a:xfrm>
            <a:off x="3940920" y="576720"/>
            <a:ext cx="4854960" cy="24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" sz="1200" spc="-1" strike="noStrike">
                <a:solidFill>
                  <a:srgbClr val="000000"/>
                </a:solidFill>
                <a:latin typeface="arial"/>
                <a:ea typeface="arial"/>
              </a:rPr>
              <a:t>Локальная вибрация малой интенсивности может оказывать благоприятное воздействие на организм человека, восстанавливая трофические изменения, улучшая функциональное состояние центральной нервной системы, ускоряя заживление ран и т.п. При увеличении интенсивности колебаний и длитель­ности их воздействия возникают изменения, приводящие в ряде случаев к развитию профессиональной патологии – вибрационной болезни. Наиболь­ший удельный вес (распространение) имеет патология, в этиопатогенезе ко­торой существенную роль играет местная (локальная) вибр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Google Shape;294;p26"/>
          <p:cNvSpPr/>
          <p:nvPr/>
        </p:nvSpPr>
        <p:spPr>
          <a:xfrm>
            <a:off x="3940920" y="2650680"/>
            <a:ext cx="4854960" cy="23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Согласно разработанной в нашей стране концепции, признанной в ряде стран Восточной Европы и Японии, вибрационная болезнь считается про­фессиональным заболеванием всего организма.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100"/>
            </a:br>
            <a:r>
              <a:rPr b="0" lang="ru" sz="1100" spc="-1" strike="noStrike">
                <a:solidFill>
                  <a:schemeClr val="dk1"/>
                </a:solidFill>
                <a:latin typeface="arial"/>
                <a:ea typeface="arial"/>
              </a:rPr>
              <a:t>В Западной Европе и США в качестве профессионального заболевания, вызванного воздействием локальной вибрации, рассматривают главным об­разом синдром, связанный с побелением пальцев рук. Эти сосудистые нару­шения имеют различные названия, например феномен «мертвых», белых пальцев или синдром Рейно профессионального происхождения, травмати­ческая вазоспастическая болезнь; более позднее название – вызванные виб­рацией белые пальцы (VWF). Однако клиническая симптоматика вибраци­онных нарушений не исчерпывается сосудистыми поражениями, она вклю­чает и невротические расстройства, что постепенно начинают признавать и за рубежом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Google Shape;299;p27" descr=""/>
          <p:cNvPicPr/>
          <p:nvPr/>
        </p:nvPicPr>
        <p:blipFill>
          <a:blip r:embed="rId1"/>
          <a:stretch/>
        </p:blipFill>
        <p:spPr>
          <a:xfrm>
            <a:off x="6278400" y="1751400"/>
            <a:ext cx="2561760" cy="2561760"/>
          </a:xfrm>
          <a:prstGeom prst="rect">
            <a:avLst/>
          </a:prstGeom>
          <a:ln w="0">
            <a:noFill/>
          </a:ln>
        </p:spPr>
      </p:pic>
      <p:sp>
        <p:nvSpPr>
          <p:cNvPr id="127" name="Google Shape;300;p27"/>
          <p:cNvSpPr/>
          <p:nvPr/>
        </p:nvSpPr>
        <p:spPr>
          <a:xfrm>
            <a:off x="489960" y="697680"/>
            <a:ext cx="5787720" cy="43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Во многих странах широко применяется классификация вибрационного синдрома, разработанная W. Taylor и P. Pelmear (1974). Согласно этой клас­сификации, выраженность вибрационных нарушений – побеление пальцев (IV стадии) оценивается в зависимости от числа вовлеченных в патологиче­ский процесс фаланг, частоты приступов побеления с учетом того, насколь­ко они мешают трудовой деятельности и отдыху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В 1983 г. Rigby и Cornish предложили более полную систему оценки нару­шений от локальной вибрации. Авторы выделили 4 категории: к I категории отнесено чувство онемения и (или) покалывания (не поддающееся объекти­визации), ко II категории – эпизодическое побеление пальцев рук, степень которого оценивается по специальной цифровой шкале, к III категории – акроцианоз, постоянная циркуляторная недостаточность с ухудшением чувствительности, к IV категории – некроз тканей каких-либо фаланг пальцев. Кроме стадии и количественной оценки степени побеления пальцев, указы­вается одна из пяти категорий нарушения трудоспособности.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 </a:t>
            </a:r>
            <a:br>
              <a:rPr sz="1200"/>
            </a:br>
            <a:r>
              <a:rPr b="0" lang="ru" sz="1200" spc="-1" strike="noStrike">
                <a:solidFill>
                  <a:schemeClr val="dk1"/>
                </a:solidFill>
                <a:latin typeface="arial"/>
                <a:ea typeface="arial"/>
              </a:rPr>
              <a:t>На IV Международном симпозиуме по локальной вибрации (1986 г.) была представлена модификация классификации W. Taylor – P. Pelmear, где па­раллельно с сосудистыми выделены и неврологические стадии, в основу ус­тановления которых заложено снижение тактильной чувствительности и тактильной пространственной разрешающей способности. Мышечные и ко­стно-суставные нарушения в зарубежных классификациях не учитываю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Ион (конференц-зал)">
  <a:themeElements>
    <a:clrScheme name="Ion Boardroom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Ион (конференц-зал)">
  <a:themeElements>
    <a:clrScheme name="Ion Boardroom">
      <a:dk1>
        <a:srgbClr val="000000"/>
      </a:dk1>
      <a:lt1>
        <a:srgbClr val="ffffff"/>
      </a:lt1>
      <a:dk2>
        <a:srgbClr val="3b3059"/>
      </a:dk2>
      <a:lt2>
        <a:srgbClr val="ebebeb"/>
      </a:lt2>
      <a:accent1>
        <a:srgbClr val="b31166"/>
      </a:accent1>
      <a:accent2>
        <a:srgbClr val="e33d6f"/>
      </a:accent2>
      <a:accent3>
        <a:srgbClr val="e45f3c"/>
      </a:accent3>
      <a:accent4>
        <a:srgbClr val="e9943a"/>
      </a:accent4>
      <a:accent5>
        <a:srgbClr val="9b6bf2"/>
      </a:accent5>
      <a:accent6>
        <a:srgbClr val="d53dd0"/>
      </a:accent6>
      <a:hlink>
        <a:srgbClr val="8f8f8f"/>
      </a:hlink>
      <a:folHlink>
        <a:srgbClr val="a5a5a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