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403-684D-4586-9F51-E6227F67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D65-BF11-463E-BEA9-2FED1070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0B1-10CA-4C28-B109-CB97F19C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EC6-CA14-41CD-B81F-0F8C56B3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6741-A0C5-4464-B634-EC3EBED0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2BCA-13F7-4D19-A19E-32BBCFC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AF6A-58F7-435B-87D4-A56F41E7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F79C-C093-4B1A-A4A1-7D7AFAE5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1A0-50FE-4AD2-A465-F0BC9C77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97A6-93F8-4F27-A821-2792BD0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5EAA-D671-458D-AABB-419EF528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F60-E427-4B05-8201-4F0E640A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7148-5635-4CCA-BE78-B5FA6935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148C-A732-4A5B-8DAB-A5F6663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5F65-5358-4E51-B305-B586FE03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A402-EA7E-4888-8B68-94511DD4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300C-ED84-4D38-A864-09B50C21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C555-4B90-4BBB-A966-60EF32E9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9832-C2B0-42CA-9E2B-8A852B3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8CFC-FACF-460D-9285-4E7CEE94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6E91-E034-4023-A50B-A720E1D7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76DC-0EF8-41C3-B7B1-C09AFE6C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3D1-E2C9-4C11-B44D-A9BB5AA9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6EDD-7BCE-421A-8318-1E260F0E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412C-4F62-4E3C-9859-799198C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A083-052D-4FA4-9D98-DE137B1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E864-4502-4BA5-A519-EA67C9C2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D247-2898-4FB7-8586-6CC10D84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6B41-250C-44A4-8D81-C34A4A33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B98A-03ED-4FC7-B12A-A3064C53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4327-0E51-46A5-AB96-91A5EAFB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5247-CC6B-4A65-A666-BA08F9B4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D340-7402-4B92-BE75-A689858E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6E2-07D3-4768-9D5E-9D236C63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6644-F5C6-46DA-94DF-F1707B1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74FC0-3952-4E9C-9DE7-822F534C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149D-9019-4DEE-8FA0-AEB7B063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55658-F1C8-4CE6-ABDC-BFAB00C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308F-F9FB-4174-A1C2-585C044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6AA7-7480-4036-B3CF-10266BE5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F60C7-1831-4D97-B0DD-E14B7BC3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F4F0-FDA1-4E4D-8D50-C561E735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63D7E-3712-442F-8B02-8BFE1D3B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0E49-46E3-418B-95B9-145409CA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607-8246-4AD3-9042-619C34F2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0D24E-0578-44D9-A990-BA78E504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DDD66-9883-446A-AB9D-620AEFF4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8CDE-71E8-440E-B812-F982B3C8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95AC6-23BC-4B03-AA08-75DE493A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49367-5467-4BE3-BD9C-5B4C4324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1A5A-C362-43BF-9844-EADD3FD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20539-D223-4112-98F3-BCEC5447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8023A-10A9-4A62-AA98-657E809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8D4D4-449A-40B4-9A6F-B4AF9186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93553-92F3-46D7-8F48-D2E4471E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01F-C190-4869-923A-81F2EFEF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4572-D8F2-4026-BBEF-583D9FD5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FCB-438D-4E30-B7DB-FFC3F93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C81-FFCC-469B-8FAD-6F7E9341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1AB-3212-4E93-B5B4-23A0206B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3E1CD1-85DD-49B9-B599-43871F382FC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b4"/>
            </a:gs>
            <a:gs pos="100000">
              <a:srgbClr val="000000"/>
            </a:gs>
          </a:gsLst>
          <a:path path="circle">
            <a:fillToRect l="95000" t="0" r="5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95A681-E7F4-42BC-948E-B9391B04918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def5fa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99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5D8AF8-FFF5-4E85-A0C9-A26079E4D62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3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14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5410080"/>
            <a:ext cx="4039920" cy="761760"/>
          </a:xfrm>
          <a:prstGeom prst="rect">
            <a:avLst/>
          </a:prstGeom>
          <a:solidFill>
            <a:schemeClr val="accent1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body"/>
          </p:nvPr>
        </p:nvSpPr>
        <p:spPr>
          <a:xfrm>
            <a:off x="4645080" y="5410080"/>
            <a:ext cx="4041360" cy="761760"/>
          </a:xfrm>
          <a:prstGeom prst="rect">
            <a:avLst/>
          </a:prstGeom>
          <a:solidFill>
            <a:schemeClr val="accent1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44432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645080" y="144432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dt" idx="10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 type="ftr" idx="11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8"/>
          <p:cNvSpPr>
            <a:spLocks noGrp="1"/>
          </p:cNvSpPr>
          <p:nvPr>
            <p:ph type="sldNum" idx="12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D028AD-354A-4B9B-A8FE-CB6FAF500B5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192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4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5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AA62E1-5A59-4D89-B164-FA6CFB23D6A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kakzarabativat.ru/servisy-i-uslugi/v-kakom-banke-otkryt-raschetnyj-schet-dlya-ip-ili-ooo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9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Arial Black"/>
              </a:rPr>
              <a:t>БИЗНЕС-ПЛАН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Arial Black"/>
              </a:rPr>
              <a:t>ДЕТСКИЙ РАЗВИВАЮЩИЙ ЦЕНТР</a:t>
            </a:r>
            <a:br>
              <a:rPr sz="4800"/>
            </a:br>
            <a:r>
              <a:rPr b="1" lang="ru-RU" sz="6700" spc="-1" strike="noStrike">
                <a:solidFill>
                  <a:srgbClr val="464646"/>
                </a:solidFill>
                <a:latin typeface="Arial Black"/>
              </a:rPr>
              <a:t>«БАЛАМ»</a:t>
            </a:r>
            <a:endParaRPr b="0" lang="ru-RU" sz="6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924000" y="3501000"/>
            <a:ext cx="4491000" cy="162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68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ФЭП-Ф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пиридонова 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Айтакын 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Тин 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аитов 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7"/>
          <p:cNvSpPr/>
          <p:nvPr/>
        </p:nvSpPr>
        <p:spPr>
          <a:xfrm>
            <a:off x="286920" y="980640"/>
            <a:ext cx="885672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5766"/>
                </a:solidFill>
                <a:latin typeface="Lucida Sans Unicode"/>
              </a:rPr>
              <a:t>6) Не забываем позаботиться о наличии небольшого офиса для нахождения там администратора. Он может быть совсем маленьким и в любом из районов города. Ведь главной задачей будет прием звонков, оформление документации. При необходимости он будет выезжать в учебное за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7) Не забываем о наличии медицинских книжек у всех работников и своевременном прохождении медосмо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7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1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0000"/>
                </a:solidFill>
                <a:latin typeface="Lucida Sans Unicode"/>
              </a:rPr>
              <a:t>Маркетинг-план</a:t>
            </a:r>
            <a:br>
              <a:rPr sz="4100"/>
            </a:b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сле того, как с правовой стороной мы определились, нужно подумать о способах продвижения собственного центра. К наиболее эффективным можно отнести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074800" cy="47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оздание и раскрутка собственного сайта с параллельным ведением собственной группы в социальной сети. При этом для продвижения можно пользоваться контекстной рекламой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ещение информации в стенах школы. Причем, как правило, делать это можно совершенно бесплатно. Стоит заглянуть и в соседние учреждения – школы, садики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склейка объявлений на близлежащих домах. Ведь родителям важно, чтобы место проведения занятий располагалось не очень далеко от дома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ещение информации в местных газетах. Причем можно размещать не только рекламу, но и информацию о работающих педагогах, используемых методиках, результатах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ещение информации на всевозможных тематических форумах города, досках объявлений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260640"/>
            <a:ext cx="7772040" cy="455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)Дорогостоящая реклама на телевидении и радио не понадоб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)Нужно отметить, что огромную роль будет играть «сарафанное радио», ведь мамочки так любят делиться информацией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)Не стоит пренебрегать походами по близлежащим детским садам – лучше узнать о планирующихся собраниях заранее и прийти в нужный момент в нужн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асчет прогнозируемых доходов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66" name="Объект 7"/>
          <p:cNvGraphicFramePr/>
          <p:nvPr/>
        </p:nvGraphicFramePr>
        <p:xfrm>
          <a:off x="457200" y="1444680"/>
          <a:ext cx="7930800" cy="5077800"/>
        </p:xfrm>
        <a:graphic>
          <a:graphicData uri="http://schemas.openxmlformats.org/drawingml/2006/table">
            <a:tbl>
              <a:tblPr/>
              <a:tblGrid>
                <a:gridCol w="3965400"/>
                <a:gridCol w="3965400"/>
              </a:tblGrid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Количество рабочих часов в        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120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Количество помещ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Средняя наполняемость группы (60% посещаем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             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9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Средняя стоимость одного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5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Ежемесячная выруч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20*2*9*1200 = 2 592 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9720" y="188640"/>
            <a:ext cx="822924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46"/>
                </a:solidFill>
                <a:latin typeface="Lucida Sans Unicode"/>
              </a:rPr>
              <a:t>Производственный план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08400"/>
            <a:ext cx="822924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Итак, ремонт делать предпринимателю не придется, равно как и закупать мебель. Остается лишь зарегистрироваться в качестве частного предпринимателя, нанять работников и закупить необходимый методический материал. Сюда можно включить различные тетради, прописи. Если речь идет о занятиях рисованием, то понадобится расходный материал для преподавателей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то касается заработной платы. Педагогам лучше устанавливать сдельную заработную плату, чтобы мотивировать их к привлечению детей в центр и проведению качественных занятий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дминистратору можно тоже установить заработную плату в виде % от общего дохода, чтобы он активно работал с группой и сайтами детского центра. Проведение собраний тоже можно поручить ему или этим может заняться и сам предприниматель. Работать он будет 5 дней в неделю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Заработная плата будет следующей: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едагоги (10 человек) – 50% от выручки проводимых занятий, включая налоги. Итого: 1 296 000 тг на всех. Получается по 129 600 тг на человека, при том, что они ведут по 12 часов в неделю каждый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дминистратор: 60000 тг + 3% от общей выручки. Итого: 50000+ 2 592 000*0,03 =127 760  тг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Объект 3"/>
          <p:cNvGraphicFramePr/>
          <p:nvPr/>
        </p:nvGraphicFramePr>
        <p:xfrm>
          <a:off x="457200" y="1481040"/>
          <a:ext cx="8229240" cy="381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Создание сай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7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екл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20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Покупка необходимых методологических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20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асходный материал для уч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5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Первоначальные за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52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рганизационный план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Объект 3"/>
          <p:cNvGraphicFramePr/>
          <p:nvPr/>
        </p:nvGraphicFramePr>
        <p:xfrm>
          <a:off x="457200" y="1481040"/>
          <a:ext cx="8229240" cy="446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Аренда помещени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20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 296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екла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5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асходные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3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Постоянные за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 576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Финансовый план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быль до налогообложения = 2 592 000 – 1 576 000 = 1 016 000 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ог ИП(упрощенный) = 1 016 000  * 0.03 = 30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480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истая прибыль = 1 016 000  - 30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480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= 985 520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нтабельность = 985 520/ 2 592 000 * 100% =38%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рок окупаемости = 520 000/ 985 520 = 0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52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ИДЕАЛЕ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8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нечно, не всегда оказывается так радужно, как хотелось бы. Поэтому очень важно перед началом работы изучить возможные риски и постараться максимально обезопасить себя от них. Итак, какие же риски могут ждать в данной сфере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лохой выбор местополож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т фактор может привести к низкой посещаемости, а, следовательно, к низкой доходности или даже убыткам. Мы выбрали работу в школе, что существенно снижает затраты на аренду помещения и помогает в качестве бесплатной рекламной площад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обще, такой вариант сегодня практикуют многие предприимчивые начинающие развивающие центры. Уже потом они задумываются о долгосрочной аренде отдельного помещ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озможные изменения в законодательств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йствительно, это может принести немало забот, в том числе парализовать на неопределенный срок работу центра. Избежать риска довольно сложно, хотя вероятность его наступления сегодня не так высока. Но можно подумать о развитии направлений, которые подлежат лицензированию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ИСК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озможное отсутствие кадров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т фактор является самым главным. Нет педагога – нет процесса. Поэтому очень важно поиском персонала заняться заранее. Необходимо подумать и о разработке мотивационной политики. В нашем случае решить проблему намного легче, ведь большая часть персонала будут являться работника школы. Для них это и родные стены, и возможность получить очень весомый дополнительный заработок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Ответственность за здоровье дете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икакие несчастные случаи тут неприемлемы. Поэтому, важно проводить инструктаж с персоналом, с родителями и детьм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ffff"/>
                </a:solidFill>
                <a:latin typeface="Arial Black"/>
              </a:rPr>
              <a:t>Описание услуг</a:t>
            </a:r>
            <a:endParaRPr b="0" lang="ru-RU" sz="41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357120" y="928800"/>
            <a:ext cx="85006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В данном бизнес-плане представлена информация, касающаяся открытия собственного развивающего центра для детей. В нем проводятся занятия для детей дошкольного и школьного возраста. При этом центр имеет не одну направленность, а несколько, что помогает охватить большую часть населения. Предприниматель является одновременно еще и директором (управляющим) своего центра. Организация не позиционирует себя как детский сад, то есть дети не находятся в стенах организации без родителей дольше 3 часов, что позволяет не вводить в штат поваров и няне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285920" y="357120"/>
            <a:ext cx="700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НАЛИЗ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71320" y="1357200"/>
            <a:ext cx="80722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годня в данной сфере работают 3 типа игро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Крупные франчайзинговые сети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которые имеют большое количество точек, а, следовательно, и широкую извес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Сети среднего размер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 Таким игрокам принадлежит 5-10 небольших клубов, находящихся в одном регионе, как правило. Они тоже пользуются положительной репутацией и спросом в конкретно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Мелкие локальные игроки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которые имеют 1-2 объекта. Им тяжелее всех остальных конкурировать на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000080" y="428760"/>
            <a:ext cx="7572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Бизнес зависит от 3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право 8"/>
          <p:cNvSpPr/>
          <p:nvPr/>
        </p:nvSpPr>
        <p:spPr>
          <a:xfrm>
            <a:off x="857160" y="1357200"/>
            <a:ext cx="17856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2" name="Стрелка вправо 11"/>
          <p:cNvSpPr/>
          <p:nvPr/>
        </p:nvSpPr>
        <p:spPr>
          <a:xfrm>
            <a:off x="857160" y="1785960"/>
            <a:ext cx="17856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3" name="Стрелка вправо 12"/>
          <p:cNvSpPr/>
          <p:nvPr/>
        </p:nvSpPr>
        <p:spPr>
          <a:xfrm>
            <a:off x="857160" y="2143080"/>
            <a:ext cx="1785600" cy="21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2857320" y="1285920"/>
            <a:ext cx="6286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тоимости арен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работной платы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тоимости предоставляемых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1714320" y="428760"/>
            <a:ext cx="6214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WOT-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214200" y="1071720"/>
            <a:ext cx="42145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 внешним факторам можно отне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 Narrow"/>
              </a:rPr>
              <a:t>Возможности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Предоставление широкого спектра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Возможности расширения собственного бизн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Работа в «полезном» секторе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Возможности привлечения инвесторов для развития собственного бизн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Широкие возможности привлечения кл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Поддержка со стороны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Возможность получения субсидий для открытия и развития соб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Отсутствие бюрократизации в данной сфере экономики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786200" y="1428840"/>
            <a:ext cx="43574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 Narrow"/>
              </a:rPr>
              <a:t>Угро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Высокий уровень конку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Возможны изменения в законодательных -актах, вследствие которых может приостановиться работа цен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Снижение уровня доходов населения и как следствие снижение спроса на предоставляемые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Скругленный прямоугольник 1"/>
          <p:cNvSpPr/>
          <p:nvPr/>
        </p:nvSpPr>
        <p:spPr>
          <a:xfrm>
            <a:off x="285840" y="357120"/>
            <a:ext cx="4142880" cy="5643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9" name="Скругленный прямоугольник 3"/>
          <p:cNvSpPr/>
          <p:nvPr/>
        </p:nvSpPr>
        <p:spPr>
          <a:xfrm>
            <a:off x="4714920" y="428760"/>
            <a:ext cx="4142880" cy="53575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428760" y="428760"/>
            <a:ext cx="3857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ьные стороны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Возможно расширение бизнеса, добавление новых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Расположение центра на территории школы позволяет привлечь многих родителей посредством сарафанного радио и размещением рекламы в стенах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Возможность установления сотрудничества с педагогам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Возможность повышения сто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Наличие опыта работы с детьми у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Наличие курсов, повышающих квалификацию работающих в центре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072040" y="642960"/>
            <a:ext cx="35715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Слабые стороны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-Высокая ответственность з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можно отсутствие мотивации персо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Необходимость искать персо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Отсутствие собственной клиентской б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Отсутствие программ работы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614520" y="-9360"/>
            <a:ext cx="7929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При выборе школы ва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чтобы учреждение не работало во вторую сме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чтобы местоположении было удачным (лучше выбирать центр гор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тенциальные потребители: это активные и независимые родители в возрасте до 35 лет, уделяющие внимание воспитанию собственных детей. Если говорить о социальном статусе, то нужно сказать, что чаще всего это будут люди со средним достатком и выше ср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2"/>
          <p:cNvSpPr/>
          <p:nvPr/>
        </p:nvSpPr>
        <p:spPr>
          <a:xfrm>
            <a:off x="614520" y="2493000"/>
            <a:ext cx="7071840" cy="35679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единительная линия 6"/>
          <p:cNvCxnSpPr>
            <a:endCxn id="253" idx="2"/>
          </p:cNvCxnSpPr>
          <p:nvPr/>
        </p:nvCxnSpPr>
        <p:spPr>
          <a:xfrm>
            <a:off x="4043160" y="1703160"/>
            <a:ext cx="107640" cy="43581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255" name="TextBox 7"/>
          <p:cNvSpPr/>
          <p:nvPr/>
        </p:nvSpPr>
        <p:spPr>
          <a:xfrm>
            <a:off x="1328760" y="2853000"/>
            <a:ext cx="6357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НЕДЕЛЬНИК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ТОРНИК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РЕДА___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ТВЕРГ_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НИЦА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УББОТА____________________________13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СКРЕСЕНЬЕ________________________10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ТОГО: 28 час в неделю,  120 часов в мес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714240" y="357120"/>
            <a:ext cx="7929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Организационно-правовые асп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2"/>
          <p:cNvSpPr/>
          <p:nvPr/>
        </p:nvSpPr>
        <p:spPr>
          <a:xfrm>
            <a:off x="1000080" y="1643040"/>
            <a:ext cx="7071840" cy="4428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единительная линия 6"/>
          <p:cNvCxnSpPr>
            <a:endCxn id="257" idx="2"/>
          </p:cNvCxnSpPr>
          <p:nvPr/>
        </p:nvCxnSpPr>
        <p:spPr>
          <a:xfrm>
            <a:off x="4429080" y="1714320"/>
            <a:ext cx="107280" cy="43581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259" name="TextBox 7"/>
          <p:cNvSpPr/>
          <p:nvPr/>
        </p:nvSpPr>
        <p:spPr>
          <a:xfrm>
            <a:off x="1428840" y="2000160"/>
            <a:ext cx="635760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гистрация 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оды по ГК РК 0100000 -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101000 - дошкольное воспитание и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соответствии с Постановлением Правительства РК от 21.11.2015 N 934 «Об утверждении Положения о лицензировании образовательной деятель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0000"/>
                </a:solidFill>
                <a:latin typeface="Lucida Sans Unicode"/>
              </a:rPr>
              <a:t>«Образовательная деятельность, осуществляемая путем проведения разовых занятий различных видов (в том числе лекций, стажировок, семинаров) и не сопровождающаяся итоговой аттестацией и выдачей документов об образовании, деятельность по содержанию и воспитанию обучающихся и воспитанников, осуществляемая без реализации образовательных программ, а также индивидуальная трудовая педагогическая деятельность </a:t>
            </a:r>
            <a:r>
              <a:rPr b="1" i="1" lang="ru-RU" sz="1400" spc="-1" strike="noStrike">
                <a:solidFill>
                  <a:srgbClr val="000000"/>
                </a:solidFill>
                <a:latin typeface="Lucida Sans Unicode"/>
              </a:rPr>
              <a:t>не подлежат лицензированию</a:t>
            </a:r>
            <a:r>
              <a:rPr b="0" i="1" lang="ru-RU" sz="1400" spc="-1" strike="noStrike">
                <a:solidFill>
                  <a:srgbClr val="000000"/>
                </a:solidFill>
                <a:latin typeface="Lucida Sans Unicode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7"/>
          <p:cNvSpPr/>
          <p:nvPr/>
        </p:nvSpPr>
        <p:spPr>
          <a:xfrm>
            <a:off x="279360" y="116640"/>
            <a:ext cx="885672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ледовательно лицензию нам оформлять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1)Получать разрешительные документы на помещение тоже не придется – школа регулярно проходит подобные проверки. Однако в течение учебного года комиссия может проводить плановые проверки, о которых стоит сообщать руководству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5766"/>
                </a:solidFill>
                <a:latin typeface="Lucida Sans Unicode"/>
              </a:rPr>
              <a:t>2)Что важно, и договоры на вывоз мусора, дератизацию и прочие заключать не придется, ведь все они заключены между школой и организ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3) Стоит позаботиться об аренде помещения и для хранения необходимых принадлежностей дл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5766"/>
                </a:solidFill>
                <a:latin typeface="Lucida Sans Unicode"/>
              </a:rPr>
              <a:t>4) Преподавателей можно принимать не по трудовой книжке (ведь наверняка у них уже есть основное место работы), а по договору. Поэтому стоит заранее позаботиться о составлении такого договора и должностных инстру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5) Необходимо разработать и договора с родителями, дети которых будут посещать заведение. Лучше к ним прикладывать платежные квитанции для перечисления денежных средств. Поэтому лучше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открыть расчетный счет</a:t>
            </a: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. Да и со школой рассчитываться придется посредством 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По сути, ККМ не понадоб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24</TotalTime>
  <Application>LibreOffice/7.4.7.2$Linux_X86_64 LibreOffice_project/40$Build-2</Application>
  <AppVersion>15.0000</AppVersion>
  <Words>1563</Words>
  <Paragraphs>1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5:34:01Z</dcterms:created>
  <dc:creator>pc</dc:creator>
  <dc:description/>
  <dc:language>en-US</dc:language>
  <cp:lastModifiedBy>Аман</cp:lastModifiedBy>
  <dcterms:modified xsi:type="dcterms:W3CDTF">2018-10-17T20:54:23Z</dcterms:modified>
  <cp:revision>13</cp:revision>
  <dc:subject/>
  <dc:title>БИЗНЕС-ПЛАН ДЕТСКИЙ РАЗВИВАЮЩИЙ ЦЕНТР «БАЛАМ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