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2E8-7BDE-4FA5-AACB-F2000BA0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3B3-9388-41A0-A33A-32C922C1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0F9-CA3D-428C-845B-25CCB85B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609-975D-4FE2-BB08-F3CD3433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0581-1A5F-473D-BB05-ACC7BF2B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7151-42DB-4CAE-A77F-25407E73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AA41-B361-4397-B209-C27E921D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1FAB-1791-46D5-9326-7CF15568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BBBF-056A-41CA-9139-429E5384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2E99-EA86-46A4-974F-A6815FC0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35B5-AADB-4FE1-872C-6549869B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CB1A-73A9-406F-B94B-F2B42E0A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73AC-1D3D-4350-8724-AB67985F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DE47-19A1-4BF8-9BB7-8952FDE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2BE1-E11B-4E68-8031-A6C09E9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E2F8-2E25-4817-8F38-2652A8A2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D4C6-E919-420E-AC09-143FEF5E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D2DA-38A6-41E1-BFE7-17D0EF28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B64B-D79B-4F1D-9682-AB7EE784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7949-5251-49B4-8CAC-7C022688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D588-797A-4FF5-A94D-794A297F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874C-4F4F-4E85-9A64-4425FB35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ECFA-9DB0-41BF-A312-31449AFF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02C0-528B-462F-9538-F74DA151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503F-48BD-4A0E-B5F5-CC173A50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0056E-D07C-42AD-8A2E-FADE4D9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7814-B0A3-4CEC-850B-E51C8BD0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2048B-3DC3-4E3D-8C27-CE6C319E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88DE-CDBC-40B1-9EA6-F6206BF4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42E2-4EA9-4AB7-A1B6-009AE78D4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D972A-3236-45B7-A657-37154B28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B3416-E33E-4F69-90F2-8D57ED31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F0285-6DAD-4185-810C-60046938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85E-7026-4A49-8A90-B2508C1F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5D194-6A15-4FEF-8405-48B4DA42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779FF-1E3E-44FD-9DC2-9E855E4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55AD-896F-497A-81AA-29D61254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2658-9E8B-42D8-9502-FF217A3B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EF05-7324-4309-8173-73E74DAB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AAE14-BBDE-4EA0-BB71-62CFE526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7D593-7470-4994-A678-D94D16CC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805E-7004-4BA3-8881-D2DB145D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ADA2F-38EA-4D6F-AC6A-330CC09A7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59797-6128-4F82-A2DF-98D4A0AF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89F-784C-44D0-BDF0-337D63C2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51BB9-391A-4AD6-B86E-D82B81E7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99891-C04B-44A4-82F9-C33B1774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F81CE-459B-4B94-99CD-F4FD363B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F30C-D815-4001-BAAA-2B35C18E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8AE14-1260-4CE4-BC86-75977C5E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1793-A150-48CD-9E0D-CC7020E1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2A5E-CFCD-4DE4-B4B4-F0A417E1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CD68F-5BDB-4CC6-9AC7-B34B03B4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E401B-D221-4AC3-85A8-A698D383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4EAA2-CA82-4FD7-9E55-9B4B56D3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6902-35A6-47F5-81C9-FE935E23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9838-9027-49A5-9998-1C6D7D98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02A6-FFA1-4D1C-9F8B-40EEF732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A86-74A5-4408-A37A-1EB2A22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256-7197-493D-A3F4-435F4483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8C8816-988B-49DD-B72E-D64FDF12F44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b4"/>
            </a:gs>
            <a:gs pos="100000">
              <a:srgbClr val="000000"/>
            </a:gs>
          </a:gsLst>
          <a:path path="circle">
            <a:fillToRect l="95000" t="0" r="5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76A78A-1670-4F40-90BE-0B0402DC6A91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def5fa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99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8AB9FE-0B9F-458F-8775-2A63A71B100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3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14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5410080"/>
            <a:ext cx="4039920" cy="761760"/>
          </a:xfrm>
          <a:prstGeom prst="rect">
            <a:avLst/>
          </a:prstGeom>
          <a:solidFill>
            <a:schemeClr val="accent1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body"/>
          </p:nvPr>
        </p:nvSpPr>
        <p:spPr>
          <a:xfrm>
            <a:off x="4645080" y="5410080"/>
            <a:ext cx="4041360" cy="761760"/>
          </a:xfrm>
          <a:prstGeom prst="rect">
            <a:avLst/>
          </a:prstGeom>
          <a:solidFill>
            <a:schemeClr val="accent1"/>
          </a:solidFill>
          <a:ln w="9720">
            <a:solidFill>
              <a:srgbClr val="2da2bf"/>
            </a:solidFill>
            <a:miter/>
          </a:ln>
        </p:spPr>
        <p:txBody>
          <a:bodyPr lIns="18288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444320"/>
            <a:ext cx="403992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body"/>
          </p:nvPr>
        </p:nvSpPr>
        <p:spPr>
          <a:xfrm>
            <a:off x="4645080" y="1444320"/>
            <a:ext cx="4041360" cy="39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dt" idx="10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 type="ftr" idx="11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8"/>
          <p:cNvSpPr>
            <a:spLocks noGrp="1"/>
          </p:cNvSpPr>
          <p:nvPr>
            <p:ph type="sldNum" idx="12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1DCC73-DE9D-410F-9FEE-A4DE7F1086D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192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4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5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46DB02-5459-4FCC-9EE8-8DA828BDA59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kakzarabativat.ru/servisy-i-uslugi/v-kakom-banke-otkryt-raschetnyj-schet-dlya-ip-ili-ooo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69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Arial Black"/>
              </a:rPr>
              <a:t>БИЗНЕС-ПЛАН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Arial Black"/>
              </a:rPr>
              <a:t>ДЕТСКИЙ РАЗВИВАЮЩИЙ ЦЕНТР</a:t>
            </a:r>
            <a:br>
              <a:rPr sz="4800"/>
            </a:br>
            <a:r>
              <a:rPr b="1" lang="ru-RU" sz="6700" spc="-1" strike="noStrike">
                <a:solidFill>
                  <a:srgbClr val="464646"/>
                </a:solidFill>
                <a:latin typeface="Arial Black"/>
              </a:rPr>
              <a:t>«БАЛАМ»</a:t>
            </a:r>
            <a:endParaRPr b="0" lang="ru-RU" sz="6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924000" y="3501000"/>
            <a:ext cx="4491000" cy="162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 fontScale="68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ФЭП-Ф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пиридонова 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Айтакын 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Тин 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Саитов Д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7"/>
          <p:cNvSpPr/>
          <p:nvPr/>
        </p:nvSpPr>
        <p:spPr>
          <a:xfrm>
            <a:off x="286920" y="980640"/>
            <a:ext cx="885672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5766"/>
                </a:solidFill>
                <a:latin typeface="Lucida Sans Unicode"/>
              </a:rPr>
              <a:t>6) Не забываем позаботиться о наличии небольшого офиса для нахождения там администратора. Он может быть совсем маленьким и в любом из районов города. Ведь главной задачей будет прием звонков, оформление документации. При необходимости он будет выезжать в учебное за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7) Не забываем о наличии медицинских книжек у всех работников и своевременном прохождении медосмо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92640"/>
            <a:ext cx="8229240" cy="7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1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0000"/>
                </a:solidFill>
                <a:latin typeface="Lucida Sans Unicode"/>
              </a:rPr>
              <a:t>Маркетинг-план</a:t>
            </a:r>
            <a:br>
              <a:rPr sz="4100"/>
            </a:b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сле того, как с правовой стороной мы определились, нужно подумать о способах продвижения собственного центра. К наиболее эффективным можно отнести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49320"/>
            <a:ext cx="8074800" cy="47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оздание и раскрутка собственного сайта с параллельным ведением собственной группы в социальной сети. При этом для продвижения можно пользоваться контекстной рекламой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ещение информации в стенах школы. Причем, как правило, делать это можно совершенно бесплатно. Стоит заглянуть и в соседние учреждения – школы, садики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склейка объявлений на близлежащих домах. Ведь родителям важно, чтобы место проведения занятий располагалось не очень далеко от дома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ещение информации в местных газетах. Причем можно размещать не только рекламу, но и информацию о работающих педагогах, используемых методиках, результатах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азмещение информации на всевозможных тематических форумах города, досках объявлений.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1417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260640"/>
            <a:ext cx="7772040" cy="455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)Дорогостоящая реклама на телевидении и радио не понадобя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2)Нужно отметить, что огромную роль будет играть «сарафанное радио», ведь мамочки так любят делиться информацией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3)Не стоит пренебрегать походами по близлежащим детским садам – лучше узнать о планирующихся собраниях заранее и прийти в нужный момент в нужно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асчет прогнозируемых доходов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66" name="Объект 7"/>
          <p:cNvGraphicFramePr/>
          <p:nvPr/>
        </p:nvGraphicFramePr>
        <p:xfrm>
          <a:off x="457200" y="1444680"/>
          <a:ext cx="7930800" cy="5077800"/>
        </p:xfrm>
        <a:graphic>
          <a:graphicData uri="http://schemas.openxmlformats.org/drawingml/2006/table">
            <a:tbl>
              <a:tblPr/>
              <a:tblGrid>
                <a:gridCol w="3965400"/>
                <a:gridCol w="3965400"/>
              </a:tblGrid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Количество рабочих часов в        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120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Количество помещ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                 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Средняя наполняемость группы (60% посещаемо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             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9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Средняя стоимость одного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                   </a:t>
                      </a: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5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100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Ежемесячная выручк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20*2*9*1200 = 2 592 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9720" y="188640"/>
            <a:ext cx="822924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7000"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46"/>
                </a:solidFill>
                <a:latin typeface="Lucida Sans Unicode"/>
              </a:rPr>
              <a:t>Производственный план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608400"/>
            <a:ext cx="822924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Итак, ремонт делать предпринимателю не придется, равно как и закупать мебель. Остается лишь зарегистрироваться в качестве частного предпринимателя, нанять работников и закупить необходимый методический материал. Сюда можно включить различные тетради, прописи. Если речь идет о занятиях рисованием, то понадобится расходный материал для преподавателей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Что касается заработной платы. Педагогам лучше устанавливать сдельную заработную плату, чтобы мотивировать их к привлечению детей в центр и проведению качественных занятий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дминистратору можно тоже установить заработную плату в виде % от общего дохода, чтобы он активно работал с группой и сайтами детского центра. Проведение собраний тоже можно поручить ему или этим может заняться и сам предприниматель. Работать он будет 5 дней в неделю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Заработная плата будет следующей: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едагоги (10 человек) – 50% от выручки проводимых занятий, включая налоги. Итого: 1 296 000 тг на всех. Получается по 129 600 тг на человека, при том, что они ведут по 12 часов в неделю каждый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Администратор: 60000 тг + 3% от общей выручки. Итого: 50000+ 2 592 000*0,03 =127 760  тг.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Объект 3"/>
          <p:cNvGraphicFramePr/>
          <p:nvPr/>
        </p:nvGraphicFramePr>
        <p:xfrm>
          <a:off x="457200" y="1481040"/>
          <a:ext cx="8229240" cy="381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Создание сай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7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екл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20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Покупка необходимых методологических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20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асходный материал для уч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5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76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Первоначальные за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52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рганизационный план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Объект 3"/>
          <p:cNvGraphicFramePr/>
          <p:nvPr/>
        </p:nvGraphicFramePr>
        <p:xfrm>
          <a:off x="457200" y="1481040"/>
          <a:ext cx="8229240" cy="4467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Аренда помещени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Lucida Sans Unicode"/>
                        </a:rPr>
                        <a:t>20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 296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екла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5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Расходные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30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89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Постоянные за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Lucida Sans Unicode"/>
                        </a:rPr>
                        <a:t>1 576 000 т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Финансовый план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быль до налогообложения = 2 592 000 – 1 576 000 = 1 016 000 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Налог ИП(упрощенный) = 1 016 000  * 0.03 = 30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480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Чистая прибыль = 1 016 000  - 30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480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= 985 520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Рентабельность = 985 520/ 2 592 000 * 100% =38%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Срок окупаемости = 520 000/ 985 520 = 0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,52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ИДЕАЛЕ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8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онечно, не всегда оказывается так радужно, как хотелось бы. Поэтому очень важно перед началом работы изучить возможные риски и постараться максимально обезопасить себя от них. Итак, какие же риски могут ждать в данной сфере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Плохой выбор местополож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т фактор может привести к низкой посещаемости, а, следовательно, к низкой доходности или даже убыткам. Мы выбрали работу в школе, что существенно снижает затраты на аренду помещения и помогает в качестве бесплатной рекламной площад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ообще, такой вариант сегодня практикуют многие предприимчивые начинающие развивающие центры. Уже потом они задумываются о долгосрочной аренде отдельного помещ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озможные изменения в законодательств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6760" indent="-24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йствительно, это может принести немало забот, в том числе парализовать на неопределенный срок работу центра. Избежать риска довольно сложно, хотя вероятность его наступления сегодня не так высока. Но можно подумать о развитии направлений, которые подлежат лицензированию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ИСКИ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0"/>
          </a:bodyPr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Возможное отсутствие кадров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Этот фактор является самым главным. Нет педагога – нет процесса. Поэтому очень важно поиском персонала заняться заранее. Необходимо подумать и о разработке мотивационной политики. В нашем случае решить проблему намного легче, ведь большая часть персонала будут являться работника школы. Для них это и родные стены, и возможность получить очень весомый дополнительный заработок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i="1" lang="ru-RU" sz="2700" spc="-1" strike="noStrike">
                <a:solidFill>
                  <a:srgbClr val="000000"/>
                </a:solidFill>
                <a:latin typeface="Lucida Sans Unicode"/>
              </a:rPr>
              <a:t>Ответственность за здоровье дете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416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икакие несчастные случаи тут неприемлемы. Поэтому, важно проводить инструктаж с персоналом, с родителями и детьм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ffffff"/>
                </a:solidFill>
                <a:latin typeface="Arial Black"/>
              </a:rPr>
              <a:t>Описание услуг</a:t>
            </a:r>
            <a:endParaRPr b="0" lang="ru-RU" sz="41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357120" y="928800"/>
            <a:ext cx="85006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В данном бизнес-плане представлена информация, касающаяся открытия собственного развивающего центра для детей. В нем проводятся занятия для детей дошкольного и школьного возраста. При этом центр имеет не одну направленность, а несколько, что помогает охватить большую часть населения. Предприниматель является одновременно еще и директором (управляющим) своего центра. Организация не позиционирует себя как детский сад, то есть дети не находятся в стенах организации без родителей дольше 3 часов, что позволяет не вводить в штат поваров и няне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285920" y="357120"/>
            <a:ext cx="700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АНАЛИЗ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571320" y="1357200"/>
            <a:ext cx="80722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годня в данной сфере работают 3 типа игро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Крупные франчайзинговые сети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которые имеют большое количество точек, а, следовательно, и широкую извес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Сети среднего размера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. Таким игрокам принадлежит 5-10 небольших клубов, находящихся в одном регионе, как правило. Они тоже пользуются положительной репутацией и спросом в конкретной мес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Мелкие локальные игроки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которые имеют 1-2 объекта. Им тяжелее всех остальных конкурировать на ры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1000080" y="428760"/>
            <a:ext cx="7572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Бизнес зависит от 3х фа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право 8"/>
          <p:cNvSpPr/>
          <p:nvPr/>
        </p:nvSpPr>
        <p:spPr>
          <a:xfrm>
            <a:off x="857160" y="1357200"/>
            <a:ext cx="17856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2" name="Стрелка вправо 11"/>
          <p:cNvSpPr/>
          <p:nvPr/>
        </p:nvSpPr>
        <p:spPr>
          <a:xfrm>
            <a:off x="857160" y="1785960"/>
            <a:ext cx="1785600" cy="142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3" name="Стрелка вправо 12"/>
          <p:cNvSpPr/>
          <p:nvPr/>
        </p:nvSpPr>
        <p:spPr>
          <a:xfrm>
            <a:off x="857160" y="2143080"/>
            <a:ext cx="1785600" cy="21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4" name="TextBox 13"/>
          <p:cNvSpPr/>
          <p:nvPr/>
        </p:nvSpPr>
        <p:spPr>
          <a:xfrm>
            <a:off x="2857320" y="1285920"/>
            <a:ext cx="6286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тоимости арен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работной платы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тоимости предоставляемых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1714320" y="428760"/>
            <a:ext cx="6214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WOT-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анал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214200" y="1071720"/>
            <a:ext cx="42145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 внешним факторам можно отне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 Narrow"/>
              </a:rPr>
              <a:t>Возможности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 Narro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Предоставление широкого спектра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Возможности расширения собственного бизн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Работа в «полезном» секторе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Возможности привлечения инвесторов для развития собственного бизн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Широкие возможности привлечения кл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Поддержка со стороны государ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Возможность получения субсидий для открытия и развития собственного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-Отсутствие бюрократизации в данной сфере экономики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786200" y="1428840"/>
            <a:ext cx="43574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 Narrow"/>
              </a:rPr>
              <a:t>Угроз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Высокий уровень конку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Возможны изменения в законодательных -актах, вследствие которых может приостановиться работа цен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-Снижение уровня доходов населения и как следствие снижение спроса на предоставляемые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Скругленный прямоугольник 1"/>
          <p:cNvSpPr/>
          <p:nvPr/>
        </p:nvSpPr>
        <p:spPr>
          <a:xfrm>
            <a:off x="285840" y="357120"/>
            <a:ext cx="4142880" cy="56433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49" name="Скругленный прямоугольник 3"/>
          <p:cNvSpPr/>
          <p:nvPr/>
        </p:nvSpPr>
        <p:spPr>
          <a:xfrm>
            <a:off x="4714920" y="428760"/>
            <a:ext cx="4142880" cy="53575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428760" y="428760"/>
            <a:ext cx="3857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Сильные стороны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Возможно расширение бизнеса, добавление новых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Расположение центра на территории школы позволяет привлечь многих родителей посредством сарафанного радио и размещением рекламы в стенах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Возможность установления сотрудничества с педагогами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Возможность повышения сто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Наличие опыта работы с детьми у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Наличие курсов, повышающих квалификацию работающих в центре педаго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072040" y="642960"/>
            <a:ext cx="35715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Слабые стороны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-Высокая ответственность за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зможно отсутствие мотивации персо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Необходимость искать персон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Отсутствие собственной клиентской ба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Отсутствие программ работы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614520" y="-9360"/>
            <a:ext cx="79293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При выборе школы ва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чтобы учреждение не работало во вторую сме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-чтобы местоположении было удачным (лучше выбирать центр горо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тенциальные потребители: это активные и независимые родители в возрасте до 35 лет, уделяющие внимание воспитанию собственных детей. Если говорить о социальном статусе, то нужно сказать, что чаще всего это будут люди со средним достатком и выше сред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2"/>
          <p:cNvSpPr/>
          <p:nvPr/>
        </p:nvSpPr>
        <p:spPr>
          <a:xfrm>
            <a:off x="614520" y="2493000"/>
            <a:ext cx="7071840" cy="356796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единительная линия 6"/>
          <p:cNvCxnSpPr>
            <a:endCxn id="253" idx="2"/>
          </p:cNvCxnSpPr>
          <p:nvPr/>
        </p:nvCxnSpPr>
        <p:spPr>
          <a:xfrm>
            <a:off x="4043160" y="1703160"/>
            <a:ext cx="107640" cy="43581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255" name="TextBox 7"/>
          <p:cNvSpPr/>
          <p:nvPr/>
        </p:nvSpPr>
        <p:spPr>
          <a:xfrm>
            <a:off x="1328760" y="2853000"/>
            <a:ext cx="63576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НЕДЕЛЬНИК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ТОРНИК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РЕДА___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ТВЕРГ_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НИЦА___________________________15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УББОТА____________________________13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СКРЕСЕНЬЕ________________________10:00-18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ТОГО: 28 час в неделю,  120 часов в мес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1"/>
          <p:cNvSpPr/>
          <p:nvPr/>
        </p:nvSpPr>
        <p:spPr>
          <a:xfrm>
            <a:off x="714240" y="357120"/>
            <a:ext cx="7929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Lucida Sans Unicode"/>
              </a:rPr>
              <a:t>Организационно-правовые аспе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Скругленный прямоугольник 2"/>
          <p:cNvSpPr/>
          <p:nvPr/>
        </p:nvSpPr>
        <p:spPr>
          <a:xfrm>
            <a:off x="1000080" y="1643040"/>
            <a:ext cx="7071840" cy="44287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единительная линия 6"/>
          <p:cNvCxnSpPr>
            <a:endCxn id="257" idx="2"/>
          </p:cNvCxnSpPr>
          <p:nvPr/>
        </p:nvCxnSpPr>
        <p:spPr>
          <a:xfrm>
            <a:off x="4429080" y="1714320"/>
            <a:ext cx="107280" cy="4358160"/>
          </a:xfrm>
          <a:prstGeom prst="straightConnector1">
            <a:avLst/>
          </a:prstGeom>
          <a:ln>
            <a:solidFill>
              <a:srgbClr val="2da2bf"/>
            </a:solidFill>
            <a:round/>
          </a:ln>
        </p:spPr>
      </p:cxnSp>
      <p:sp>
        <p:nvSpPr>
          <p:cNvPr id="259" name="TextBox 7"/>
          <p:cNvSpPr/>
          <p:nvPr/>
        </p:nvSpPr>
        <p:spPr>
          <a:xfrm>
            <a:off x="1428840" y="2000160"/>
            <a:ext cx="635760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Регистрация 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оды по ГК РК 0100000 -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0101000 - дошкольное воспитание и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 соответствии с Постановлением Правительства РК от 21.11.2015 N 934 «Об утверждении Положения о лицензировании образовательной деятель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400" spc="-1" strike="noStrike">
                <a:solidFill>
                  <a:srgbClr val="000000"/>
                </a:solidFill>
                <a:latin typeface="Lucida Sans Unicode"/>
              </a:rPr>
              <a:t>«Образовательная деятельность, осуществляемая путем проведения разовых занятий различных видов (в том числе лекций, стажировок, семинаров) и не сопровождающаяся итоговой аттестацией и выдачей документов об образовании, деятельность по содержанию и воспитанию обучающихся и воспитанников, осуществляемая без реализации образовательных программ, а также индивидуальная трудовая педагогическая деятельность </a:t>
            </a:r>
            <a:r>
              <a:rPr b="1" i="1" lang="ru-RU" sz="1400" spc="-1" strike="noStrike">
                <a:solidFill>
                  <a:srgbClr val="000000"/>
                </a:solidFill>
                <a:latin typeface="Lucida Sans Unicode"/>
              </a:rPr>
              <a:t>не подлежат лицензированию</a:t>
            </a:r>
            <a:r>
              <a:rPr b="0" i="1" lang="ru-RU" sz="1400" spc="-1" strike="noStrike">
                <a:solidFill>
                  <a:srgbClr val="000000"/>
                </a:solidFill>
                <a:latin typeface="Lucida Sans Unicode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7"/>
          <p:cNvSpPr/>
          <p:nvPr/>
        </p:nvSpPr>
        <p:spPr>
          <a:xfrm>
            <a:off x="279360" y="116640"/>
            <a:ext cx="885672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ледовательно лицензию нам оформлять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1)Получать разрешительные документы на помещение тоже не придется – школа регулярно проходит подобные проверки. Однако в течение учебного года комиссия может проводить плановые проверки, о которых стоит сообщать руководству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5766"/>
                </a:solidFill>
                <a:latin typeface="Lucida Sans Unicode"/>
              </a:rPr>
              <a:t>2)Что важно, и договоры на вывоз мусора, дератизацию и прочие заключать не придется, ведь все они заключены между школой и организ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3) Стоит позаботиться об аренде помещения и для хранения необходимых принадлежностей дл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105766"/>
                </a:solidFill>
                <a:latin typeface="Lucida Sans Unicode"/>
              </a:rPr>
              <a:t>4) Преподавателей можно принимать не по трудовой книжке (ведь наверняка у них уже есть основное место работы), а по договору. Поэтому стоит заранее позаботиться о составлении такого договора и должностных инстру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5) Необходимо разработать и договора с родителями, дети которых будут посещать заведение. Лучше к ним прикладывать платежные квитанции для перечисления денежных средств. Поэтому лучше </a:t>
            </a:r>
            <a:r>
              <a:rPr b="0" lang="ru-RU" sz="18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открыть расчетный счет</a:t>
            </a: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. Да и со школой рассчитываться придется посредством н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Lucida Sans Unicode"/>
              </a:rPr>
              <a:t>По сути, ККМ не понадоб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24</TotalTime>
  <Application>LibreOffice/7.4.7.2$Linux_X86_64 LibreOffice_project/40$Build-2</Application>
  <AppVersion>15.0000</AppVersion>
  <Words>1563</Words>
  <Paragraphs>1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5:34:01Z</dcterms:created>
  <dc:creator>pc</dc:creator>
  <dc:description/>
  <dc:language>en-US</dc:language>
  <cp:lastModifiedBy>Аман</cp:lastModifiedBy>
  <dcterms:modified xsi:type="dcterms:W3CDTF">2018-10-17T20:54:23Z</dcterms:modified>
  <cp:revision>13</cp:revision>
  <dc:subject/>
  <dc:title>БИЗНЕС-ПЛАН ДЕТСКИЙ РАЗВИВАЮЩИЙ ЦЕНТР «БАЛАМ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