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D10-282D-4101-BFAA-FA298D29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242-34ED-4B45-ACA1-391B5216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AF3-0C47-4C5F-93F6-84907733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CBE-3C3F-495D-B6E8-E44CCC21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79BC-7FAB-4744-BE57-1FB1BC23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79E7-A969-4DBF-ADAB-9B8DDBC2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F6BF-8499-4DAD-A0EC-8FD06C89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3578-B336-41FB-8BF7-4284E5D2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57D0-5235-48C7-809F-D72A59B6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14EF-747B-4E85-898A-D9935F7D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77FC-4A97-47CF-BC44-EC4AE56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709-DBDB-48D6-9ADF-05B492BA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8D0F-898C-4179-BF84-12FC6406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02ED-94D1-4C01-8FA5-02501A5B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487C-131E-4CB3-817A-D486659D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2ED7-3F0E-453B-9F72-15625D35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A461-7927-473E-9FD2-C7F4E7B1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7FC20-3D9B-4098-9C2C-414DE422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14A0-1C23-4724-84E5-864504C9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87C56-951C-4BE7-8D76-E8D5DC75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B0D2-B570-4154-860D-502421AC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201F-CAF7-48EE-B720-8A656692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566-4B3B-4AA1-8E45-613DA3D6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FAD4E-B37A-4D36-BFBB-55515FE6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AA48-E077-4196-88DF-439F65F3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912B-0706-4026-98D7-75EA6566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848A-A53F-44CD-BC52-16A50FFD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80AF-A781-40D8-88A7-070F99E1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42B5-4237-4E96-B77A-81BF0F77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D65F-0A8B-4B2E-8F4C-194E82FD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9A10-9849-489B-9FB9-D475DFAD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47EB9-8AF5-4A81-908F-2EE91021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8830F-C44F-4D73-A19A-566229CC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6A1-3044-452D-B4E3-503753A5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C9C11-3145-45F7-ABD7-A7376BD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95C8E-83CB-4009-A7F7-7CA88DAC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E7FD3-D552-4B3E-A93E-79F7BD29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6EB3-A415-4F3A-AA1D-28AB04DD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E27D-001E-4B69-A845-7044A41A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A82B-6884-4084-9114-E342F3E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DB02D-7BE0-4231-8978-9DDB0FE5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FD5D-CB26-46D9-B04D-C795938D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F209-14EF-4F14-A13F-93BBAE1A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A99EB-CF56-43F9-9BF3-0EE3C681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0D6-BC22-45C0-9AED-913E84BF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1C614-4134-43D1-9771-4D1EE35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F42CE-8245-430E-945D-F77F119B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F5D34-BC5E-4C1B-BD64-550E49C2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8A80D-14E4-4D03-9D32-C40C1BAB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765B6-3493-466C-AFE0-15CB4131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C4FAE-6563-4BA8-9E90-543F4906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516DE-A949-4E88-BB57-EDB04B00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3E3E8-194D-494D-A7FA-CF7D2997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3F9B-B138-4D2A-9AFB-93379DDF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1ADCC-6128-4483-B8F8-2A192340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428-CA34-48BA-AB69-074D4E59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FFDA5-70A5-417E-8BBB-4905A59E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16E-E0A3-4FE6-A465-F65CFBE0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C0E-0DE6-4B27-A039-7C3643C4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013-A9AB-43C3-9CA6-9E104A50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7E2DB1-38BD-44A3-8C50-07743A9F5F3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b4"/>
            </a:gs>
            <a:gs pos="100000">
              <a:srgbClr val="000000"/>
            </a:gs>
          </a:gsLst>
          <a:path path="circle">
            <a:fillToRect l="95000" t="0" r="5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8FC604-A92D-49CB-9756-E35D67A45D6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def5fa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99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AAC825-EDC5-433F-8731-461791B552A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Полилиния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3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14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5410080"/>
            <a:ext cx="4039920" cy="761760"/>
          </a:xfrm>
          <a:prstGeom prst="rect">
            <a:avLst/>
          </a:prstGeom>
          <a:solidFill>
            <a:schemeClr val="accent1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body"/>
          </p:nvPr>
        </p:nvSpPr>
        <p:spPr>
          <a:xfrm>
            <a:off x="4645080" y="5410080"/>
            <a:ext cx="4041360" cy="761760"/>
          </a:xfrm>
          <a:prstGeom prst="rect">
            <a:avLst/>
          </a:prstGeom>
          <a:solidFill>
            <a:schemeClr val="accent1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457200" y="1444320"/>
            <a:ext cx="403992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4645080" y="1444320"/>
            <a:ext cx="404136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dt" idx="10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 type="ftr" idx="11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8"/>
          <p:cNvSpPr>
            <a:spLocks noGrp="1"/>
          </p:cNvSpPr>
          <p:nvPr>
            <p:ph type="sldNum" idx="12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A78B99-2C35-4EB7-9BC6-A81A8E32FD9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192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4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5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80A0ED-CA62-43DA-A10C-DB3CA171E14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kakzarabativat.ru/servisy-i-uslugi/v-kakom-banke-otkryt-raschetnyj-schet-dlya-ip-ili-ooo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9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Arial Black"/>
              </a:rPr>
              <a:t>БИЗНЕС-ПЛАН</a:t>
            </a:r>
            <a:br>
              <a:rPr sz="4800"/>
            </a:br>
            <a:r>
              <a:rPr b="1" lang="ru-RU" sz="4800" spc="-1" strike="noStrike">
                <a:solidFill>
                  <a:srgbClr val="464646"/>
                </a:solidFill>
                <a:latin typeface="Arial Black"/>
              </a:rPr>
              <a:t>ДЕТСКИЙ РАЗВИВАЮЩИЙ ЦЕНТР</a:t>
            </a:r>
            <a:br>
              <a:rPr sz="4800"/>
            </a:br>
            <a:r>
              <a:rPr b="1" lang="ru-RU" sz="6700" spc="-1" strike="noStrike">
                <a:solidFill>
                  <a:srgbClr val="464646"/>
                </a:solidFill>
                <a:latin typeface="Arial Black"/>
              </a:rPr>
              <a:t>«БАЛАМ»</a:t>
            </a:r>
            <a:endParaRPr b="0" lang="ru-RU" sz="6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924000" y="3501000"/>
            <a:ext cx="4491000" cy="162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 fontScale="68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ФЭП-Ф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Спиридонова 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Айтакын 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Тин 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Саитов 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7"/>
          <p:cNvSpPr/>
          <p:nvPr/>
        </p:nvSpPr>
        <p:spPr>
          <a:xfrm>
            <a:off x="286920" y="980640"/>
            <a:ext cx="885672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5766"/>
                </a:solidFill>
                <a:latin typeface="Lucida Sans Unicode"/>
              </a:rPr>
              <a:t>6) Не забываем позаботиться о наличии небольшого офиса для нахождения там администратора. Он может быть совсем маленьким и в любом из районов города. Ведь главной задачей будет прием звонков, оформление документации. При необходимости он будет выезжать в учебное за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7) Не забываем о наличии медицинских книжек у всех работников и своевременном прохождении медосмо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7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1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ff0000"/>
                </a:solidFill>
                <a:latin typeface="Lucida Sans Unicode"/>
              </a:rPr>
              <a:t>Маркетинг-план</a:t>
            </a:r>
            <a:br>
              <a:rPr sz="4100"/>
            </a:b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сле того, как с правовой стороной мы определились, нужно подумать о способах продвижения собственного центра. К наиболее эффективным можно отнести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49320"/>
            <a:ext cx="8074800" cy="47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оздание и раскрутка собственного сайта с параллельным ведением собственной группы в социальной сети. При этом для продвижения можно пользоваться контекстной рекламой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змещение информации в стенах школы. Причем, как правило, делать это можно совершенно бесплатно. Стоит заглянуть и в соседние учреждения – школы, садики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склейка объявлений на близлежащих домах. Ведь родителям важно, чтобы место проведения занятий располагалось не очень далеко от дома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змещение информации в местных газетах. Причем можно размещать не только рекламу, но и информацию о работающих педагогах, используемых методиках, результатах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змещение информации на всевозможных тематических форумах города, досках объявлений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260640"/>
            <a:ext cx="7772040" cy="455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)Дорогостоящая реклама на телевидении и радио не понадоб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)Нужно отметить, что огромную роль будет играть «сарафанное радио», ведь мамочки так любят делиться информацией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)Не стоит пренебрегать походами по близлежащим детским садам – лучше узнать о планирующихся собраниях заранее и прийти в нужный момент в нужно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асчет прогнозируемых доходов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66" name="Объект 7"/>
          <p:cNvGraphicFramePr/>
          <p:nvPr/>
        </p:nvGraphicFramePr>
        <p:xfrm>
          <a:off x="457200" y="1444680"/>
          <a:ext cx="7930800" cy="5077800"/>
        </p:xfrm>
        <a:graphic>
          <a:graphicData uri="http://schemas.openxmlformats.org/drawingml/2006/table">
            <a:tbl>
              <a:tblPr/>
              <a:tblGrid>
                <a:gridCol w="3965400"/>
                <a:gridCol w="3965400"/>
              </a:tblGrid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Количество рабочих часов в        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120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Количество помещ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Средняя наполняемость группы (60% посещаем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             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9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Средняя стоимость одного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5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Ежемесячная выруч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20*2*9*1200 = 2 592 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9720" y="188640"/>
            <a:ext cx="822924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7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46"/>
                </a:solidFill>
                <a:latin typeface="Lucida Sans Unicode"/>
              </a:rPr>
              <a:t>Производственный план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08400"/>
            <a:ext cx="822924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Итак, ремонт делать предпринимателю не придется, равно как и закупать мебель. Остается лишь зарегистрироваться в качестве частного предпринимателя, нанять работников и закупить необходимый методический материал. Сюда можно включить различные тетради, прописи. Если речь идет о занятиях рисованием, то понадобится расходный материал для преподавателей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Что касается заработной платы. Педагогам лучше устанавливать сдельную заработную плату, чтобы мотивировать их к привлечению детей в центр и проведению качественных занятий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Администратору можно тоже установить заработную плату в виде % от общего дохода, чтобы он активно работал с группой и сайтами детского центра. Проведение собраний тоже можно поручить ему или этим может заняться и сам предприниматель. Работать он будет 5 дней в неделю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Заработная плата будет следующей: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едагоги (10 человек) – 50% от выручки проводимых занятий, включая налоги. Итого: 1 296 000 тг на всех. Получается по 129 600 тг на человека, при том, что они ведут по 12 часов в неделю каждый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Администратор: 60000 тг + 3% от общей выручки. Итого: 50000+ 2 592 000*0,03 =127 760  тг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Объект 3"/>
          <p:cNvGraphicFramePr/>
          <p:nvPr/>
        </p:nvGraphicFramePr>
        <p:xfrm>
          <a:off x="457200" y="1481040"/>
          <a:ext cx="8229240" cy="381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Создание сай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7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екл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20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Покупка необходимых методологических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20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асходный материал для уч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5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Первоначальные за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52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рганизационный план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Объект 3"/>
          <p:cNvGraphicFramePr/>
          <p:nvPr/>
        </p:nvGraphicFramePr>
        <p:xfrm>
          <a:off x="457200" y="1481040"/>
          <a:ext cx="8229240" cy="446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Аренда помещени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20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 296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екла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5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асходные 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3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Постоянные за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 576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Финансовый план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быль до налогообложения = 2 592 000 – 1 576 000 = 1 016 000 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лог ИП(упрощенный) = 1 016 000  * 0.03 = 30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480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истая прибыль = 1 016 000  - 30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480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= 985 520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нтабельность = 985 520/ 2 592 000 * 100% =38%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рок окупаемости = 520 000/ 985 520 = 0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52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 ИДЕАЛЕ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8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нечно, не всегда оказывается так радужно, как хотелось бы. Поэтому очень важно перед началом работы изучить возможные риски и постараться максимально обезопасить себя от них. Итак, какие же риски могут ждать в данной сфере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лохой выбор местоположения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т фактор может привести к низкой посещаемости, а, следовательно, к низкой доходности или даже убыткам. Мы выбрали работу в школе, что существенно снижает затраты на аренду помещения и помогает в качестве бесплатной рекламной площадк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обще, такой вариант сегодня практикуют многие предприимчивые начинающие развивающие центры. Уже потом они задумываются о долгосрочной аренде отдельного помещения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Возможные изменения в законодательств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йствительно, это может принести немало забот, в том числе парализовать на неопределенный срок работу центра. Избежать риска довольно сложно, хотя вероятность его наступления сегодня не так высока. Но можно подумать о развитии направлений, которые подлежат лицензированию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ИСКИ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Возможное отсутствие кадров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т фактор является самым главным. Нет педагога – нет процесса. Поэтому очень важно поиском персонала заняться заранее. Необходимо подумать и о разработке мотивационной политики. В нашем случае решить проблему намного легче, ведь большая часть персонала будут являться работника школы. Для них это и родные стены, и возможность получить очень весомый дополнительный заработок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Ответственность за здоровье детей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икакие несчастные случаи тут неприемлемы. Поэтому, важно проводить инструктаж с персоналом, с родителями и детьм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ffffff"/>
                </a:solidFill>
                <a:latin typeface="Arial Black"/>
              </a:rPr>
              <a:t>Описание услуг</a:t>
            </a:r>
            <a:endParaRPr b="0" lang="ru-RU" sz="41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357120" y="928800"/>
            <a:ext cx="85006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В данном бизнес-плане представлена информация, касающаяся открытия собственного развивающего центра для детей. В нем проводятся занятия для детей дошкольного и школьного возраста. При этом центр имеет не одну направленность, а несколько, что помогает охватить большую часть населения. Предприниматель является одновременно еще и директором (управляющим) своего центра. Организация не позиционирует себя как детский сад, то есть дети не находятся в стенах организации без родителей дольше 3 часов, что позволяет не вводить в штат поваров и няне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285920" y="357120"/>
            <a:ext cx="700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АНАЛИЗ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71320" y="1357200"/>
            <a:ext cx="80722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годня в данной сфере работают 3 типа игро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Крупные франчайзинговые сети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которые имеют большое количество точек, а, следовательно, и широкую извес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Сети среднего размер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 Таким игрокам принадлежит 5-10 небольших клубов, находящихся в одном регионе, как правило. Они тоже пользуются положительной репутацией и спросом в конкретно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Мелкие локальные игроки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которые имеют 1-2 объекта. Им тяжелее всех остальных конкурировать на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1000080" y="428760"/>
            <a:ext cx="7572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Бизнес зависит от 3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право 8"/>
          <p:cNvSpPr/>
          <p:nvPr/>
        </p:nvSpPr>
        <p:spPr>
          <a:xfrm>
            <a:off x="857160" y="1357200"/>
            <a:ext cx="17856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2" name="Стрелка вправо 11"/>
          <p:cNvSpPr/>
          <p:nvPr/>
        </p:nvSpPr>
        <p:spPr>
          <a:xfrm>
            <a:off x="857160" y="1785960"/>
            <a:ext cx="17856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3" name="Стрелка вправо 12"/>
          <p:cNvSpPr/>
          <p:nvPr/>
        </p:nvSpPr>
        <p:spPr>
          <a:xfrm>
            <a:off x="857160" y="2143080"/>
            <a:ext cx="1785600" cy="21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2857320" y="1285920"/>
            <a:ext cx="6286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тоимости арен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аработной платы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тоимости предоставляемых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1714320" y="428760"/>
            <a:ext cx="6214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WOT-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214200" y="1071720"/>
            <a:ext cx="421452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 внешним факторам можно отне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 Narrow"/>
              </a:rPr>
              <a:t>Возможности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Предоставление широкого спектра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Возможности расширения собственного бизн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Работа в «полезном» секторе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Возможности привлечения инвесторов для развития собственного бизн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Широкие возможности привлечения кл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Поддержка со стороны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Возможность получения субсидий для открытия и развития соб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Отсутствие бюрократизации в данной сфере экономики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786200" y="1428840"/>
            <a:ext cx="435744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 Narrow"/>
              </a:rPr>
              <a:t>Угро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Высокий уровень конкур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Возможны изменения в законодательных -актах, вследствие которых может приостановиться работа цен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Снижение уровня доходов населения и как следствие снижение спроса на предоставляемые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Скругленный прямоугольник 1"/>
          <p:cNvSpPr/>
          <p:nvPr/>
        </p:nvSpPr>
        <p:spPr>
          <a:xfrm>
            <a:off x="285840" y="357120"/>
            <a:ext cx="4142880" cy="5643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9" name="Скругленный прямоугольник 3"/>
          <p:cNvSpPr/>
          <p:nvPr/>
        </p:nvSpPr>
        <p:spPr>
          <a:xfrm>
            <a:off x="4714920" y="428760"/>
            <a:ext cx="4142880" cy="53575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428760" y="428760"/>
            <a:ext cx="3857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ьные стороны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Возможно расширение бизнеса, добавление новых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Расположение центра на территории школы позволяет привлечь многих родителей посредством сарафанного радио и размещением рекламы в стенах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Возможность установления сотрудничества с педагогами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Возможность повышения сто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Наличие опыта работы с детьми у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Наличие курсов, повышающих квалификацию работающих в центре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5072040" y="642960"/>
            <a:ext cx="35715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Слабые стороны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-Высокая ответственность з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зможно отсутствие мотивации персо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Необходимость искать персон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Отсутствие собственной клиентской б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Отсутствие программ работы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614520" y="-9360"/>
            <a:ext cx="7929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При выборе школы ва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чтобы учреждение не работало во вторую сме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чтобы местоположении было удачным (лучше выбирать центр гор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тенциальные потребители: это активные и независимые родители в возрасте до 35 лет, уделяющие внимание воспитанию собственных детей. Если говорить о социальном статусе, то нужно сказать, что чаще всего это будут люди со средним достатком и выше ср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2"/>
          <p:cNvSpPr/>
          <p:nvPr/>
        </p:nvSpPr>
        <p:spPr>
          <a:xfrm>
            <a:off x="614520" y="2493000"/>
            <a:ext cx="7071840" cy="35679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единительная линия 6"/>
          <p:cNvCxnSpPr>
            <a:endCxn id="253" idx="2"/>
          </p:cNvCxnSpPr>
          <p:nvPr/>
        </p:nvCxnSpPr>
        <p:spPr>
          <a:xfrm>
            <a:off x="4043160" y="1703160"/>
            <a:ext cx="107640" cy="43581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sp>
        <p:nvSpPr>
          <p:cNvPr id="255" name="TextBox 7"/>
          <p:cNvSpPr/>
          <p:nvPr/>
        </p:nvSpPr>
        <p:spPr>
          <a:xfrm>
            <a:off x="1328760" y="2853000"/>
            <a:ext cx="63576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НЕДЕЛЬНИК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ТОРНИК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РЕДА___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ТВЕРГ_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НИЦА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УББОТА____________________________13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СКРЕСЕНЬЕ________________________10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ТОГО: 28 час в неделю,  120 часов в мес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714240" y="357120"/>
            <a:ext cx="7929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Организационно-правовые асп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2"/>
          <p:cNvSpPr/>
          <p:nvPr/>
        </p:nvSpPr>
        <p:spPr>
          <a:xfrm>
            <a:off x="1000080" y="1643040"/>
            <a:ext cx="7071840" cy="44287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единительная линия 6"/>
          <p:cNvCxnSpPr>
            <a:endCxn id="257" idx="2"/>
          </p:cNvCxnSpPr>
          <p:nvPr/>
        </p:nvCxnSpPr>
        <p:spPr>
          <a:xfrm>
            <a:off x="4429080" y="1714320"/>
            <a:ext cx="107280" cy="43581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sp>
        <p:nvSpPr>
          <p:cNvPr id="259" name="TextBox 7"/>
          <p:cNvSpPr/>
          <p:nvPr/>
        </p:nvSpPr>
        <p:spPr>
          <a:xfrm>
            <a:off x="1428840" y="2000160"/>
            <a:ext cx="635760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гистрация 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оды по ГК РК 0100000 -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101000 - дошкольное воспитание и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соответствии с Постановлением Правительства РК от 21.11.2015 N 934 «Об утверждении Положения о лицензировании образовательной деятель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0000"/>
                </a:solidFill>
                <a:latin typeface="Lucida Sans Unicode"/>
              </a:rPr>
              <a:t>«Образовательная деятельность, осуществляемая путем проведения разовых занятий различных видов (в том числе лекций, стажировок, семинаров) и не сопровождающаяся итоговой аттестацией и выдачей документов об образовании, деятельность по содержанию и воспитанию обучающихся и воспитанников, осуществляемая без реализации образовательных программ, а также индивидуальная трудовая педагогическая деятельность </a:t>
            </a:r>
            <a:r>
              <a:rPr b="1" i="1" lang="ru-RU" sz="1400" spc="-1" strike="noStrike">
                <a:solidFill>
                  <a:srgbClr val="000000"/>
                </a:solidFill>
                <a:latin typeface="Lucida Sans Unicode"/>
              </a:rPr>
              <a:t>не подлежат лицензированию</a:t>
            </a:r>
            <a:r>
              <a:rPr b="0" i="1" lang="ru-RU" sz="1400" spc="-1" strike="noStrike">
                <a:solidFill>
                  <a:srgbClr val="000000"/>
                </a:solidFill>
                <a:latin typeface="Lucida Sans Unicode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7"/>
          <p:cNvSpPr/>
          <p:nvPr/>
        </p:nvSpPr>
        <p:spPr>
          <a:xfrm>
            <a:off x="279360" y="116640"/>
            <a:ext cx="885672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ледовательно лицензию нам оформлять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1)Получать разрешительные документы на помещение тоже не придется – школа регулярно проходит подобные проверки. Однако в течение учебного года комиссия может проводить плановые проверки, о которых стоит сообщать руководству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5766"/>
                </a:solidFill>
                <a:latin typeface="Lucida Sans Unicode"/>
              </a:rPr>
              <a:t>2)Что важно, и договоры на вывоз мусора, дератизацию и прочие заключать не придется, ведь все они заключены между школой и организ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3) Стоит позаботиться об аренде помещения и для хранения необходимых принадлежностей дл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5766"/>
                </a:solidFill>
                <a:latin typeface="Lucida Sans Unicode"/>
              </a:rPr>
              <a:t>4) Преподавателей можно принимать не по трудовой книжке (ведь наверняка у них уже есть основное место работы), а по договору. Поэтому стоит заранее позаботиться о составлении такого договора и должностных инстру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5) Необходимо разработать и договора с родителями, дети которых будут посещать заведение. Лучше к ним прикладывать платежные квитанции для перечисления денежных средств. Поэтому лучше 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открыть расчетный счет</a:t>
            </a: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. Да и со школой рассчитываться придется посредством 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По сути, ККМ не понадоб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24</TotalTime>
  <Application>LibreOffice/7.4.7.2$Linux_X86_64 LibreOffice_project/40$Build-2</Application>
  <AppVersion>15.0000</AppVersion>
  <Words>1563</Words>
  <Paragraphs>1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15:34:01Z</dcterms:created>
  <dc:creator>pc</dc:creator>
  <dc:description/>
  <dc:language>en-US</dc:language>
  <cp:lastModifiedBy>Аман</cp:lastModifiedBy>
  <dcterms:modified xsi:type="dcterms:W3CDTF">2018-10-17T20:54:23Z</dcterms:modified>
  <cp:revision>13</cp:revision>
  <dc:subject/>
  <dc:title>БИЗНЕС-ПЛАН ДЕТСКИЙ РАЗВИВАЮЩИЙ ЦЕНТР «БАЛАМ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