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5.png" ContentType="image/pn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B19409-1C6D-4C45-B700-DFB66F949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B62A17-8940-44B2-BB44-E9B8627DAFE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4F7F21-53D1-4B58-A9DA-AD819B20812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214596-1C5B-47CF-B243-FBBBBED56C8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535930-CF65-4D20-BBB6-D0E86F8B953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3BB5C6-79C7-4376-A248-7FCC8EEA729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2E08A4-2300-4064-9872-D30099CC2C0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34B7CF-B1E3-4B7C-A027-88041744EA7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65F2BA-80F8-49A1-B9EB-7BFE4F9CC00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85A808-63C2-47B9-9F7B-139590D91DF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858DC5-4821-4BFF-8287-A2B716C6C18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88D9F5-B26C-4AB6-A146-C49FE2F07C7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4E1FFA-EA3A-4CCF-A96C-790C0ADD079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527CAE-6AC0-4753-B00A-AE36F672444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FB6D55-76DC-4CAE-966C-EBB51F11C74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4C4AE2-D033-4B6C-A66F-EB71618FD43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5403BF-81A4-4DB6-8FE2-80C1534C786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C8A366-4ADB-46FE-A196-C42EFEB58B5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6FAB8C-7729-4A20-A78C-531544CCEA6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04A124-08DA-44D3-B49E-27CBF1E018E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D19614-B1FE-4FA3-942F-9ABC2654FB7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8635C4-1F13-4586-8080-7468598BEAB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9955BE-EBAB-45EF-8A6B-2BC9751B42B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C078DC-4D42-4E9C-9915-048BD985AF7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50C9-52D4-4583-86EE-414D4A6D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307D-38DA-4909-A050-7CCB2C87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AC4-52C6-4978-A5FA-8FC9AED2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36C7-F88C-44DE-AE8E-6256A3C3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A4B0-1F37-4467-BE18-8900E6BC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EAD1-CD32-4D80-83CB-C8FCCE96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3F0-1DD8-4D89-A84D-29DE3E30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454B-CFF0-460C-B9BD-E033DA66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97680"/>
            <a:ext cx="7772040" cy="51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97ED-298D-42C7-80D2-48807473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BFC-4A94-41CB-B217-D6DDDA34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4AF2-30A0-438E-A332-716D95AC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8C11-8608-4A1A-B8E5-DE9CF310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965882-FD5D-4B50-9D13-16E5F16AD84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gradFill rotWithShape="0">
            <a:gsLst>
              <a:gs pos="0">
                <a:srgbClr val="710000"/>
              </a:gs>
              <a:gs pos="100000">
                <a:srgbClr val="bf0000"/>
              </a:gs>
            </a:gsLst>
            <a:path path="circle">
              <a:fillToRect l="50000" t="50000" r="50000" b="50000"/>
            </a:path>
          </a:gra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Скругленный прямоугольник 2"/>
          <p:cNvSpPr/>
          <p:nvPr/>
        </p:nvSpPr>
        <p:spPr>
          <a:xfrm>
            <a:off x="7380360" y="11520"/>
            <a:ext cx="1643400" cy="12855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  <a:effectLst>
            <a:softEdge rad="63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9" name="Picture 2" descr="http://sch2101.mskobr.ru/images/cms/thumbs/1f1204c38f5d7f50f0ab6bcf597ef97666ee60e8/1435753174ogo_color_400x300_png_250_135.png"/>
          <p:cNvPicPr/>
          <p:nvPr/>
        </p:nvPicPr>
        <p:blipFill>
          <a:blip r:embed="rId1"/>
          <a:srcRect l="15137" t="0" r="15832" b="0"/>
          <a:stretch/>
        </p:blipFill>
        <p:spPr>
          <a:xfrm>
            <a:off x="7452360" y="102240"/>
            <a:ext cx="1499400" cy="1172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39600" y="4011840"/>
            <a:ext cx="347148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ария Дмитриевна Смир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mirnova@sch2101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Vk.com/masha2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0" y="1059480"/>
            <a:ext cx="9143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ХИ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8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Кислоты и классы химических веще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452-4A46-4888-9383-2BBD6F8E31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4"/>
          <p:cNvSpPr/>
          <p:nvPr/>
        </p:nvSpPr>
        <p:spPr>
          <a:xfrm>
            <a:off x="2059920" y="69192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ru-RU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Скругленный прямоугольник 1"/>
          <p:cNvSpPr/>
          <p:nvPr/>
        </p:nvSpPr>
        <p:spPr>
          <a:xfrm>
            <a:off x="3370320" y="681480"/>
            <a:ext cx="232200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Сложные 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ый прямоугольник 17"/>
          <p:cNvSpPr/>
          <p:nvPr/>
        </p:nvSpPr>
        <p:spPr>
          <a:xfrm>
            <a:off x="1233360" y="2193840"/>
            <a:ext cx="14709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Book Antiqua"/>
              </a:rPr>
              <a:t>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18"/>
          <p:cNvSpPr/>
          <p:nvPr/>
        </p:nvSpPr>
        <p:spPr>
          <a:xfrm>
            <a:off x="2920680" y="2193840"/>
            <a:ext cx="1403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Book Antiqua"/>
              </a:rPr>
              <a:t>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19"/>
          <p:cNvSpPr/>
          <p:nvPr/>
        </p:nvSpPr>
        <p:spPr>
          <a:xfrm>
            <a:off x="4703040" y="2193840"/>
            <a:ext cx="1268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20"/>
          <p:cNvSpPr/>
          <p:nvPr/>
        </p:nvSpPr>
        <p:spPr>
          <a:xfrm>
            <a:off x="6314040" y="2193840"/>
            <a:ext cx="1484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Book Antiqua"/>
              </a:rPr>
              <a:t>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Соединительная линия уступом 10"/>
          <p:cNvCxnSpPr>
            <a:stCxn id="233" idx="2"/>
            <a:endCxn id="234" idx="0"/>
          </p:cNvCxnSpPr>
          <p:nvPr/>
        </p:nvCxnSpPr>
        <p:spPr>
          <a:xfrm flipV="1" rot="10800000">
            <a:off x="1968840" y="1653480"/>
            <a:ext cx="2562840" cy="54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239" name="Соединительная линия уступом 21"/>
          <p:cNvCxnSpPr>
            <a:stCxn id="233" idx="2"/>
            <a:endCxn id="235" idx="0"/>
          </p:cNvCxnSpPr>
          <p:nvPr/>
        </p:nvCxnSpPr>
        <p:spPr>
          <a:xfrm flipV="1" rot="10800000">
            <a:off x="3622680" y="1653480"/>
            <a:ext cx="909000" cy="54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240" name="Соединительная линия уступом 25"/>
          <p:cNvCxnSpPr>
            <a:endCxn id="236" idx="0"/>
          </p:cNvCxnSpPr>
          <p:nvPr/>
        </p:nvCxnSpPr>
        <p:spPr>
          <a:xfrm>
            <a:off x="4531320" y="1923480"/>
            <a:ext cx="80640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241" name="Соединительная линия уступом 1023"/>
          <p:cNvCxnSpPr>
            <a:endCxn id="237" idx="0"/>
          </p:cNvCxnSpPr>
          <p:nvPr/>
        </p:nvCxnSpPr>
        <p:spPr>
          <a:xfrm>
            <a:off x="4531320" y="1923480"/>
            <a:ext cx="252504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sp>
        <p:nvSpPr>
          <p:cNvPr id="242" name="TextBox 23"/>
          <p:cNvSpPr/>
          <p:nvPr/>
        </p:nvSpPr>
        <p:spPr>
          <a:xfrm>
            <a:off x="1143000" y="3291840"/>
            <a:ext cx="6857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ova Cond Light"/>
              </a:rPr>
              <a:t>Кислоты </a:t>
            </a:r>
            <a:r>
              <a:rPr b="0" lang="ru-RU" sz="1800" spc="-1" strike="noStrike">
                <a:solidFill>
                  <a:srgbClr val="000000"/>
                </a:solidFill>
                <a:latin typeface="Arial Nova Cond Light"/>
              </a:rPr>
              <a:t> - сложные вещества, состоящие из кислотных остатков и водорода, который может замещаться на атомы метал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Прямая соединительная линия 24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44" name="TextBox 26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лассы неорган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http://sch2101.mskobr.ru/images/cms/thumbs/1f1204c38f5d7f50f0ab6bcf597ef97666ee60e8/1435753174ogo_color_400x300_png_250_135.png"/>
          <p:cNvPicPr/>
          <p:nvPr/>
        </p:nvPicPr>
        <p:blipFill>
          <a:blip r:embed="rId1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globuss24.ru/web/userfiles/image/doc/hello_html_m6226328e.png"/>
          <p:cNvPicPr/>
          <p:nvPr/>
        </p:nvPicPr>
        <p:blipFill>
          <a:blip r:embed="rId1"/>
          <a:stretch/>
        </p:blipFill>
        <p:spPr>
          <a:xfrm>
            <a:off x="1276920" y="3117960"/>
            <a:ext cx="6589800" cy="20422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2"/>
          <p:cNvSpPr/>
          <p:nvPr/>
        </p:nvSpPr>
        <p:spPr>
          <a:xfrm>
            <a:off x="1143000" y="577440"/>
            <a:ext cx="6857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 Nova Cond Light"/>
              </a:rPr>
              <a:t>Для кислот характерно наличие атома водорода, который соединяется с атомом кислорода, такая связь легко «рвёт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http://festival.1september.ru/articles/656276/img1.jpg"/>
          <p:cNvPicPr/>
          <p:nvPr/>
        </p:nvPicPr>
        <p:blipFill>
          <a:blip r:embed="rId2"/>
          <a:srcRect l="0" t="0" r="49996" b="0"/>
          <a:stretch/>
        </p:blipFill>
        <p:spPr>
          <a:xfrm>
            <a:off x="1374120" y="1707480"/>
            <a:ext cx="1521360" cy="756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http://de.academic.ru/pictures/dewiki/67/Carbonic-acid-2D.png"/>
          <p:cNvPicPr/>
          <p:nvPr/>
        </p:nvPicPr>
        <p:blipFill>
          <a:blip r:embed="rId3"/>
          <a:stretch/>
        </p:blipFill>
        <p:spPr>
          <a:xfrm>
            <a:off x="3222000" y="1658880"/>
            <a:ext cx="1465560" cy="805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http://www.bigpo.ru/potrb/%D0%A0%D0%B5%D0%B3%D0%B8%D0%BE%D0%BD%D0%B0%D0%BB%D1%8C%D0%BD%D0%B0%D1%8F+%D0%BE%D0%BB%D0%B8%D0%BC%D0%BF%D0%B8%D0%B0%D0%B4%D0%B0+%D0%BF%D0%BE+%D1%85%D0%B8%D0%BC%D0%B8%D0%B8+2011%3A+%D0%BE%D1%81%D0%BE%D0%B1%D0%B5%D0%BD%D0%BD%D0%BE%D1%81%D1%82%D0%B8+%D0%BF%D1%80%D0%BE%D0%B2%D0%B5%D0%B4%D0%B5%D0%BD%D0%B8%D1%8Fb/33850_html_64815ba2.gif"/>
          <p:cNvPicPr/>
          <p:nvPr/>
        </p:nvPicPr>
        <p:blipFill>
          <a:blip r:embed="rId4"/>
          <a:stretch/>
        </p:blipFill>
        <p:spPr>
          <a:xfrm>
            <a:off x="5301000" y="1344600"/>
            <a:ext cx="2106000" cy="1483200"/>
          </a:xfrm>
          <a:prstGeom prst="rect">
            <a:avLst/>
          </a:prstGeom>
          <a:ln w="0">
            <a:noFill/>
          </a:ln>
        </p:spPr>
      </p:pic>
      <p:cxnSp>
        <p:nvCxnSpPr>
          <p:cNvPr id="251" name="Прямая соединительная линия 16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52" name="TextBox 17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http://sch2101.mskobr.ru/images/cms/thumbs/1f1204c38f5d7f50f0ab6bcf597ef97666ee60e8/1435753174ogo_color_400x300_png_250_135.png"/>
          <p:cNvPicPr/>
          <p:nvPr/>
        </p:nvPicPr>
        <p:blipFill>
          <a:blip r:embed="rId5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7"/>
          <p:cNvSpPr/>
          <p:nvPr/>
        </p:nvSpPr>
        <p:spPr>
          <a:xfrm>
            <a:off x="1143000" y="883800"/>
            <a:ext cx="68576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g + 2HC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Mg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Al + 6HC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2Al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3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Кислотный остаток - это анион, который является второй частью формулы кисл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https://pic.siava.ru/images/2015/11/30/D182D0B0D0B1D0BBD0B8D186D0B0-D0BCD0B5D0BDD0B4D0B5D0BBD0B5D0B5D0B2D0B0-3.jpg"/>
          <p:cNvPicPr/>
          <p:nvPr/>
        </p:nvPicPr>
        <p:blipFill>
          <a:blip r:embed="rId1"/>
          <a:srcRect l="12672" t="19617" r="4913" b="17021"/>
          <a:stretch/>
        </p:blipFill>
        <p:spPr>
          <a:xfrm>
            <a:off x="1709640" y="2065320"/>
            <a:ext cx="5562360" cy="3022920"/>
          </a:xfrm>
          <a:prstGeom prst="rect">
            <a:avLst/>
          </a:prstGeom>
          <a:ln w="0">
            <a:noFill/>
          </a:ln>
        </p:spPr>
      </p:pic>
      <p:sp>
        <p:nvSpPr>
          <p:cNvPr id="256" name="Полилиния 1"/>
          <p:cNvSpPr/>
          <p:nvPr/>
        </p:nvSpPr>
        <p:spPr>
          <a:xfrm>
            <a:off x="2301840" y="2329200"/>
            <a:ext cx="3333960" cy="2246400"/>
          </a:xfrm>
          <a:custGeom>
            <a:avLst/>
            <a:gdLst>
              <a:gd name="textAreaLeft" fmla="*/ 0 w 3333960"/>
              <a:gd name="textAreaRight" fmla="*/ 3334320 w 3333960"/>
              <a:gd name="textAreaTop" fmla="*/ 0 h 2246400"/>
              <a:gd name="textAreaBottom" fmla="*/ 2246760 h 2246400"/>
            </a:gdLst>
            <a:ahLst/>
            <a:rect l="textAreaLeft" t="textAreaTop" r="textAreaRight" b="textAreaBottom"/>
            <a:pathLst>
              <a:path w="4445876" h="2995448">
                <a:moveTo>
                  <a:pt x="4398579" y="0"/>
                </a:moveTo>
                <a:lnTo>
                  <a:pt x="4445876" y="2995448"/>
                </a:lnTo>
                <a:lnTo>
                  <a:pt x="0" y="31531"/>
                </a:lnTo>
                <a:lnTo>
                  <a:pt x="4398579" y="0"/>
                </a:lnTo>
                <a:close/>
              </a:path>
            </a:pathLst>
          </a:custGeom>
          <a:noFill/>
          <a:ln>
            <a:solidFill>
              <a:srgbClr val="ff0000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35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57" name="Прямая соединительная линия 13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58" name="TextBox 17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http://sch2101.mskobr.ru/images/cms/thumbs/1f1204c38f5d7f50f0ab6bcf597ef97666ee60e8/1435753174ogo_color_400x300_png_250_135.png"/>
          <p:cNvPicPr/>
          <p:nvPr/>
        </p:nvPicPr>
        <p:blipFill>
          <a:blip r:embed="rId2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7"/>
          <p:cNvSpPr/>
          <p:nvPr/>
        </p:nvSpPr>
        <p:spPr>
          <a:xfrm>
            <a:off x="0" y="555480"/>
            <a:ext cx="9110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g + 2HC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Mg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Al + 6HC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2Al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3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Кислотные остатки в химических реакциях обычно сохраняются и переходят из одних соединений в друг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алентность кислотных остатков определяется числом атомов водорода, способных замещаться атомами метал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ttps://pic.siava.ru/images/2015/11/30/D182D0B0D0B1D0BBD0B8D186D0B0-D0BCD0B5D0BDD0B4D0B5D0BBD0B5D0B5D0B2D0B0-3.jpg"/>
          <p:cNvPicPr/>
          <p:nvPr/>
        </p:nvPicPr>
        <p:blipFill>
          <a:blip r:embed="rId1"/>
          <a:srcRect l="12672" t="25147" r="4913" b="17021"/>
          <a:stretch/>
        </p:blipFill>
        <p:spPr>
          <a:xfrm>
            <a:off x="1709640" y="2620800"/>
            <a:ext cx="5562360" cy="2759040"/>
          </a:xfrm>
          <a:prstGeom prst="rect">
            <a:avLst/>
          </a:prstGeom>
          <a:ln w="0">
            <a:noFill/>
          </a:ln>
        </p:spPr>
      </p:pic>
      <p:sp>
        <p:nvSpPr>
          <p:cNvPr id="262" name="Полилиния 1"/>
          <p:cNvSpPr/>
          <p:nvPr/>
        </p:nvSpPr>
        <p:spPr>
          <a:xfrm>
            <a:off x="2301840" y="2620800"/>
            <a:ext cx="3333960" cy="2246400"/>
          </a:xfrm>
          <a:custGeom>
            <a:avLst/>
            <a:gdLst>
              <a:gd name="textAreaLeft" fmla="*/ 0 w 3333960"/>
              <a:gd name="textAreaRight" fmla="*/ 3334320 w 3333960"/>
              <a:gd name="textAreaTop" fmla="*/ 0 h 2246400"/>
              <a:gd name="textAreaBottom" fmla="*/ 2246760 h 2246400"/>
            </a:gdLst>
            <a:ahLst/>
            <a:rect l="textAreaLeft" t="textAreaTop" r="textAreaRight" b="textAreaBottom"/>
            <a:pathLst>
              <a:path w="4445876" h="2995448">
                <a:moveTo>
                  <a:pt x="4398579" y="0"/>
                </a:moveTo>
                <a:lnTo>
                  <a:pt x="4445876" y="2995448"/>
                </a:lnTo>
                <a:lnTo>
                  <a:pt x="0" y="31531"/>
                </a:lnTo>
                <a:lnTo>
                  <a:pt x="4398579" y="0"/>
                </a:lnTo>
                <a:close/>
              </a:path>
            </a:pathLst>
          </a:custGeom>
          <a:noFill/>
          <a:ln>
            <a:solidFill>
              <a:srgbClr val="ff0000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35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63" name="Прямая соединительная линия 13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64" name="TextBox 17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http://sch2101.mskobr.ru/images/cms/thumbs/1f1204c38f5d7f50f0ab6bcf597ef97666ee60e8/1435753174ogo_color_400x300_png_250_135.png"/>
          <p:cNvPicPr/>
          <p:nvPr/>
        </p:nvPicPr>
        <p:blipFill>
          <a:blip r:embed="rId2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5"/>
          <p:cNvSpPr/>
          <p:nvPr/>
        </p:nvSpPr>
        <p:spPr>
          <a:xfrm>
            <a:off x="0" y="695520"/>
            <a:ext cx="9252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Физические свой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ногие кислоты – жидкости: серная, азотная 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Некоторые твёрдые: кремниевая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ртофосфорная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, метафосфорная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H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, борная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ногие из них растворимые, кроме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Прямая соединительная линия 17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68" name="TextBox 18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http://sch2101.mskobr.ru/images/cms/thumbs/1f1204c38f5d7f50f0ab6bcf597ef97666ee60e8/1435753174ogo_color_400x300_png_250_135.png"/>
          <p:cNvPicPr/>
          <p:nvPr/>
        </p:nvPicPr>
        <p:blipFill>
          <a:blip r:embed="rId1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5"/>
          <p:cNvSpPr/>
          <p:nvPr/>
        </p:nvSpPr>
        <p:spPr>
          <a:xfrm>
            <a:off x="0" y="634320"/>
            <a:ext cx="9143640" cy="26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Физические свой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ногие кислоты – жидкости: серная, азотная 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Некоторые твёрдые: кремниевая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ртофосфорная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, метафосфорная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H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, борная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ногие из них растворимые, кроме кремниев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споминаем: 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Na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Si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 + 2HCl = H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Si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↓ +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Прямая соединительная линия 12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72" name="TextBox 13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лассы неорган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http://sch2101.mskobr.ru/images/cms/thumbs/1f1204c38f5d7f50f0ab6bcf597ef97666ee60e8/1435753174ogo_color_400x300_png_250_135.png"/>
          <p:cNvPicPr/>
          <p:nvPr/>
        </p:nvPicPr>
        <p:blipFill>
          <a:blip r:embed="rId1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Скругленный прямоугольник 5"/>
          <p:cNvSpPr/>
          <p:nvPr/>
        </p:nvSpPr>
        <p:spPr>
          <a:xfrm>
            <a:off x="163800" y="688320"/>
            <a:ext cx="3148920" cy="1515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Взаимодействие кислотных оксидов с в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ый прямоугольник 18"/>
          <p:cNvSpPr/>
          <p:nvPr/>
        </p:nvSpPr>
        <p:spPr>
          <a:xfrm>
            <a:off x="3313080" y="2646720"/>
            <a:ext cx="3148920" cy="146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Взаимодействие водорода с соответствующим неметал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19"/>
          <p:cNvSpPr/>
          <p:nvPr/>
        </p:nvSpPr>
        <p:spPr>
          <a:xfrm>
            <a:off x="6410880" y="695520"/>
            <a:ext cx="2700000" cy="1598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Взаимодействие кислот с сол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26"/>
          <p:cNvSpPr/>
          <p:nvPr/>
        </p:nvSpPr>
        <p:spPr>
          <a:xfrm>
            <a:off x="341280" y="2464920"/>
            <a:ext cx="277308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2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2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5"/>
          <p:cNvSpPr/>
          <p:nvPr/>
        </p:nvSpPr>
        <p:spPr>
          <a:xfrm>
            <a:off x="3798360" y="4421160"/>
            <a:ext cx="21780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2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6"/>
          <p:cNvSpPr/>
          <p:nvPr/>
        </p:nvSpPr>
        <p:spPr>
          <a:xfrm>
            <a:off x="6672240" y="2581560"/>
            <a:ext cx="21780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NaCl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N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2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Прямая соединительная линия 20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81" name="TextBox 21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пособы получения кисл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http://sch2101.mskobr.ru/images/cms/thumbs/1f1204c38f5d7f50f0ab6bcf597ef97666ee60e8/1435753174ogo_color_400x300_png_250_135.png"/>
          <p:cNvPicPr/>
          <p:nvPr/>
        </p:nvPicPr>
        <p:blipFill>
          <a:blip r:embed="rId1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Таблица 4"/>
          <p:cNvGraphicFramePr/>
          <p:nvPr/>
        </p:nvGraphicFramePr>
        <p:xfrm>
          <a:off x="1212840" y="627480"/>
          <a:ext cx="6718320" cy="4552560"/>
        </p:xfrm>
        <a:graphic>
          <a:graphicData uri="http://schemas.openxmlformats.org/drawingml/2006/table">
            <a:tbl>
              <a:tblPr/>
              <a:tblGrid>
                <a:gridCol w="3359160"/>
                <a:gridCol w="3359160"/>
              </a:tblGrid>
              <a:tr h="40032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е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ри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</a:tr>
              <a:tr h="685800"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 С металлами. Если металл находиться до Н, то выделяется водород и образуется соль. Исключение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N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a + HCl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CaCl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</a:tr>
              <a:tr h="64332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 C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сновными оксидами. Образуется соль и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u +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CuS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4332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. С основаниями. Образуется соль и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NaOH + HCl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NaCl +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</a:tr>
              <a:tr h="89136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. С солями. В соответствии с рядом кислот, кислота левее вытесняет из солей «правых» кислот. Образуется соль и другая кис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ZnCl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ZnS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+ 2HC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09728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. Разлагаются при нагреван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 + S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 + C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i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 + Si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N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4N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+ 2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 + 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</a:tr>
            </a:tbl>
          </a:graphicData>
        </a:graphic>
      </p:graphicFrame>
      <p:cxnSp>
        <p:nvCxnSpPr>
          <p:cNvPr id="284" name="Прямая соединительная линия 13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85" name="TextBox 16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http://sch2101.mskobr.ru/images/cms/thumbs/1f1204c38f5d7f50f0ab6bcf597ef97666ee60e8/1435753174ogo_color_400x300_png_250_135.png"/>
          <p:cNvPicPr/>
          <p:nvPr/>
        </p:nvPicPr>
        <p:blipFill>
          <a:blip r:embed="rId1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1"/>
          <p:cNvSpPr/>
          <p:nvPr/>
        </p:nvSpPr>
        <p:spPr>
          <a:xfrm>
            <a:off x="0" y="577440"/>
            <a:ext cx="911088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Химические свойства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еталлами.  Если металл находится в ряду активности до водорода, то выделяется водород и образуется га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Zn + 2HC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Zn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http://himege.ru/wp-content/uploads/2013/06/%D0%B2%D0%B7%D0%B0%D0%B8%D0%BC%D0%BE%D0%B4%D0%B5%D0%B9%D1%81%D1%82%D0%B2%D0%B8%D0%B5-%D0%BC%D0%B5%D1%82%D0%B0%D0%BB%D0%BB%D0%BE%D0%B2-%D1%81-%D0%BA%D0%B8%D1%81%D0%BB%D0%BE%D1%82%D0%B0%D0%BC%D0%B8-%D0%BE%D0%BA%D0%B8%D1%81%D0%BB%D0%B8%D1%82%D0%B5%D0%BB%D1%8F%D0%BC%D0%B81.jpg"/>
          <p:cNvPicPr/>
          <p:nvPr/>
        </p:nvPicPr>
        <p:blipFill>
          <a:blip r:embed="rId1"/>
          <a:srcRect l="0" t="6375" r="0" b="26468"/>
          <a:stretch/>
        </p:blipFill>
        <p:spPr>
          <a:xfrm>
            <a:off x="1315080" y="2111760"/>
            <a:ext cx="6700320" cy="3031200"/>
          </a:xfrm>
          <a:prstGeom prst="rect">
            <a:avLst/>
          </a:prstGeom>
          <a:ln w="0">
            <a:noFill/>
          </a:ln>
        </p:spPr>
      </p:pic>
      <p:cxnSp>
        <p:nvCxnSpPr>
          <p:cNvPr id="289" name="Прямая соединительная линия 13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90" name="TextBox 16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http://sch2101.mskobr.ru/images/cms/thumbs/1f1204c38f5d7f50f0ab6bcf597ef97666ee60e8/1435753174ogo_color_400x300_png_250_135.png"/>
          <p:cNvPicPr/>
          <p:nvPr/>
        </p:nvPicPr>
        <p:blipFill>
          <a:blip r:embed="rId2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25"/>
          <p:cNvSpPr/>
          <p:nvPr/>
        </p:nvSpPr>
        <p:spPr>
          <a:xfrm>
            <a:off x="1136160" y="465480"/>
            <a:ext cx="68644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"/>
          <p:cNvSpPr/>
          <p:nvPr/>
        </p:nvSpPr>
        <p:spPr>
          <a:xfrm>
            <a:off x="1136160" y="577440"/>
            <a:ext cx="684180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Химические свойства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. C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сновными оксидами. Образуется соль и в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uO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Cu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Прямая соединительная линия 12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95" name="TextBox 13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http://sch2101.mskobr.ru/images/cms/thumbs/1f1204c38f5d7f50f0ab6bcf597ef97666ee60e8/1435753174ogo_color_400x300_png_250_135.png"/>
          <p:cNvPicPr/>
          <p:nvPr/>
        </p:nvPicPr>
        <p:blipFill>
          <a:blip r:embed="rId1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Скругленный прямоугольник 6"/>
          <p:cNvSpPr/>
          <p:nvPr/>
        </p:nvSpPr>
        <p:spPr>
          <a:xfrm>
            <a:off x="4547160" y="1131480"/>
            <a:ext cx="2529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Сложные 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7"/>
          <p:cNvSpPr/>
          <p:nvPr/>
        </p:nvSpPr>
        <p:spPr>
          <a:xfrm>
            <a:off x="2410560" y="264384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8"/>
          <p:cNvSpPr/>
          <p:nvPr/>
        </p:nvSpPr>
        <p:spPr>
          <a:xfrm>
            <a:off x="4213800" y="2653560"/>
            <a:ext cx="1529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9"/>
          <p:cNvSpPr/>
          <p:nvPr/>
        </p:nvSpPr>
        <p:spPr>
          <a:xfrm>
            <a:off x="5879880" y="2643840"/>
            <a:ext cx="13820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10"/>
          <p:cNvSpPr/>
          <p:nvPr/>
        </p:nvSpPr>
        <p:spPr>
          <a:xfrm>
            <a:off x="7490880" y="2643840"/>
            <a:ext cx="16171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Соединительная линия уступом 11"/>
          <p:cNvCxnSpPr>
            <a:stCxn id="52" idx="2"/>
            <a:endCxn id="53" idx="0"/>
          </p:cNvCxnSpPr>
          <p:nvPr/>
        </p:nvCxnSpPr>
        <p:spPr>
          <a:xfrm flipV="1" rot="10800000">
            <a:off x="3211560" y="2103480"/>
            <a:ext cx="2601000" cy="54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58" name="Соединительная линия уступом 13"/>
          <p:cNvCxnSpPr>
            <a:stCxn id="52" idx="2"/>
            <a:endCxn id="54" idx="0"/>
          </p:cNvCxnSpPr>
          <p:nvPr/>
        </p:nvCxnSpPr>
        <p:spPr>
          <a:xfrm flipV="1" rot="10800000">
            <a:off x="4978440" y="2103480"/>
            <a:ext cx="834120" cy="55044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59" name="Соединительная линия уступом 14"/>
          <p:cNvCxnSpPr>
            <a:endCxn id="55" idx="0"/>
          </p:cNvCxnSpPr>
          <p:nvPr/>
        </p:nvCxnSpPr>
        <p:spPr>
          <a:xfrm>
            <a:off x="5708160" y="2373480"/>
            <a:ext cx="86328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60" name="Соединительная линия уступом 15"/>
          <p:cNvCxnSpPr>
            <a:endCxn id="56" idx="0"/>
          </p:cNvCxnSpPr>
          <p:nvPr/>
        </p:nvCxnSpPr>
        <p:spPr>
          <a:xfrm>
            <a:off x="5708160" y="2373480"/>
            <a:ext cx="259164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sp>
        <p:nvSpPr>
          <p:cNvPr id="61" name="Скругленный прямоугольник 17"/>
          <p:cNvSpPr/>
          <p:nvPr/>
        </p:nvSpPr>
        <p:spPr>
          <a:xfrm>
            <a:off x="1955160" y="4163760"/>
            <a:ext cx="1403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сн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21"/>
          <p:cNvSpPr/>
          <p:nvPr/>
        </p:nvSpPr>
        <p:spPr>
          <a:xfrm>
            <a:off x="4290480" y="4173480"/>
            <a:ext cx="17956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Амфоте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22"/>
          <p:cNvSpPr/>
          <p:nvPr/>
        </p:nvSpPr>
        <p:spPr>
          <a:xfrm>
            <a:off x="6996600" y="4163760"/>
            <a:ext cx="1484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Кисл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Соединительная линия уступом 23"/>
          <p:cNvCxnSpPr>
            <a:endCxn id="61" idx="0"/>
          </p:cNvCxnSpPr>
          <p:nvPr/>
        </p:nvCxnSpPr>
        <p:spPr>
          <a:xfrm flipV="1" rot="10800000">
            <a:off x="2656440" y="3291480"/>
            <a:ext cx="555120" cy="87228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65" name="Соединительная линия уступом 24"/>
          <p:cNvCxnSpPr/>
          <p:nvPr/>
        </p:nvCxnSpPr>
        <p:spPr>
          <a:xfrm>
            <a:off x="3400560" y="3717720"/>
            <a:ext cx="1778760" cy="45612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66" name="Соединительная линия уступом 25"/>
          <p:cNvCxnSpPr>
            <a:endCxn id="63" idx="0"/>
          </p:cNvCxnSpPr>
          <p:nvPr/>
        </p:nvCxnSpPr>
        <p:spPr>
          <a:xfrm>
            <a:off x="3211560" y="3291480"/>
            <a:ext cx="4527720" cy="87228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sp>
        <p:nvSpPr>
          <p:cNvPr id="67" name="Скругленный прямоугольник 26"/>
          <p:cNvSpPr/>
          <p:nvPr/>
        </p:nvSpPr>
        <p:spPr>
          <a:xfrm>
            <a:off x="14400" y="1131480"/>
            <a:ext cx="2529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Простые 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27"/>
          <p:cNvSpPr/>
          <p:nvPr/>
        </p:nvSpPr>
        <p:spPr>
          <a:xfrm>
            <a:off x="58320" y="242172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Метал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28"/>
          <p:cNvSpPr/>
          <p:nvPr/>
        </p:nvSpPr>
        <p:spPr>
          <a:xfrm>
            <a:off x="969840" y="331452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Неметал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Соединительная линия уступом 2"/>
          <p:cNvCxnSpPr>
            <a:stCxn id="67" idx="2"/>
            <a:endCxn id="68" idx="0"/>
          </p:cNvCxnSpPr>
          <p:nvPr/>
        </p:nvCxnSpPr>
        <p:spPr>
          <a:xfrm flipV="1" rot="10800000">
            <a:off x="859320" y="2103480"/>
            <a:ext cx="419760" cy="3186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71" name="Соединительная линия уступом 29"/>
          <p:cNvCxnSpPr>
            <a:stCxn id="67" idx="2"/>
            <a:endCxn id="69" idx="0"/>
          </p:cNvCxnSpPr>
          <p:nvPr/>
        </p:nvCxnSpPr>
        <p:spPr>
          <a:xfrm>
            <a:off x="1279080" y="2103480"/>
            <a:ext cx="492120" cy="121104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sp>
        <p:nvSpPr>
          <p:cNvPr id="72" name="Скругленный прямоугольник 31"/>
          <p:cNvSpPr/>
          <p:nvPr/>
        </p:nvSpPr>
        <p:spPr>
          <a:xfrm>
            <a:off x="2532600" y="131760"/>
            <a:ext cx="2529360" cy="60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32"/>
          <p:cNvSpPr/>
          <p:nvPr/>
        </p:nvSpPr>
        <p:spPr>
          <a:xfrm>
            <a:off x="5570640" y="131760"/>
            <a:ext cx="2529360" cy="60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Book Antiqua"/>
              </a:rPr>
              <a:t>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Соединительная линия уступом 34"/>
          <p:cNvCxnSpPr>
            <a:stCxn id="72" idx="2"/>
            <a:endCxn id="67" idx="0"/>
          </p:cNvCxnSpPr>
          <p:nvPr/>
        </p:nvCxnSpPr>
        <p:spPr>
          <a:xfrm flipV="1" rot="10800000">
            <a:off x="1278720" y="735480"/>
            <a:ext cx="2518560" cy="3960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75" name="Соединительная линия уступом 35"/>
          <p:cNvCxnSpPr>
            <a:stCxn id="72" idx="2"/>
            <a:endCxn id="52" idx="0"/>
          </p:cNvCxnSpPr>
          <p:nvPr/>
        </p:nvCxnSpPr>
        <p:spPr>
          <a:xfrm>
            <a:off x="3797280" y="735840"/>
            <a:ext cx="2015280" cy="3960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76" name="Прямая соединительная линия 39"/>
          <p:cNvCxnSpPr>
            <a:stCxn id="72" idx="3"/>
            <a:endCxn id="73" idx="1"/>
          </p:cNvCxnSpPr>
          <p:nvPr/>
        </p:nvCxnSpPr>
        <p:spPr>
          <a:xfrm>
            <a:off x="5062320" y="433800"/>
            <a:ext cx="508320" cy="360"/>
          </a:xfrm>
          <a:prstGeom prst="straightConnector1">
            <a:avLst/>
          </a:prstGeom>
          <a:ln>
            <a:solidFill>
              <a:srgbClr val="be4b48"/>
            </a:solidFill>
            <a:round/>
          </a:ln>
        </p:spPr>
      </p:cxnSp>
      <p:cxnSp>
        <p:nvCxnSpPr>
          <p:cNvPr id="77" name="Соединительная линия уступом 41"/>
          <p:cNvCxnSpPr>
            <a:stCxn id="68" idx="2"/>
            <a:endCxn id="61" idx="2"/>
          </p:cNvCxnSpPr>
          <p:nvPr/>
        </p:nvCxnSpPr>
        <p:spPr>
          <a:xfrm>
            <a:off x="859680" y="3069720"/>
            <a:ext cx="1797480" cy="1742400"/>
          </a:xfrm>
          <a:prstGeom prst="bentConnector2">
            <a:avLst/>
          </a:prstGeom>
          <a:ln w="28575">
            <a:solidFill>
              <a:srgbClr val="b73936"/>
            </a:solidFill>
            <a:prstDash val="lgDash"/>
            <a:round/>
            <a:tailEnd len="med" type="triangle" w="med"/>
          </a:ln>
        </p:spPr>
      </p:cxnSp>
      <p:sp>
        <p:nvSpPr>
          <p:cNvPr id="78" name="TextBox 42"/>
          <p:cNvSpPr/>
          <p:nvPr/>
        </p:nvSpPr>
        <p:spPr>
          <a:xfrm rot="5400000">
            <a:off x="423720" y="4286880"/>
            <a:ext cx="5130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Соединительная линия уступом 43"/>
          <p:cNvCxnSpPr>
            <a:stCxn id="69" idx="3"/>
            <a:endCxn id="63" idx="2"/>
          </p:cNvCxnSpPr>
          <p:nvPr/>
        </p:nvCxnSpPr>
        <p:spPr>
          <a:xfrm>
            <a:off x="2572560" y="3638520"/>
            <a:ext cx="5166720" cy="1173600"/>
          </a:xfrm>
          <a:prstGeom prst="bentConnector2">
            <a:avLst/>
          </a:prstGeom>
          <a:ln w="28575">
            <a:solidFill>
              <a:srgbClr val="b73936"/>
            </a:solidFill>
            <a:prstDash val="lgDash"/>
            <a:round/>
            <a:tailEnd len="med" type="triangle" w="med"/>
          </a:ln>
        </p:spPr>
      </p:cxnSp>
      <p:sp>
        <p:nvSpPr>
          <p:cNvPr id="80" name="TextBox 55"/>
          <p:cNvSpPr/>
          <p:nvPr/>
        </p:nvSpPr>
        <p:spPr>
          <a:xfrm>
            <a:off x="6431040" y="4636800"/>
            <a:ext cx="5133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Соединительная линия уступом 56"/>
          <p:cNvCxnSpPr>
            <a:stCxn id="68" idx="2"/>
            <a:endCxn id="62" idx="2"/>
          </p:cNvCxnSpPr>
          <p:nvPr/>
        </p:nvCxnSpPr>
        <p:spPr>
          <a:xfrm>
            <a:off x="859680" y="3069720"/>
            <a:ext cx="4329360" cy="1752120"/>
          </a:xfrm>
          <a:prstGeom prst="bentConnector2">
            <a:avLst/>
          </a:prstGeom>
          <a:ln w="28575">
            <a:solidFill>
              <a:srgbClr val="b73936"/>
            </a:solidFill>
            <a:prstDash val="lgDash"/>
            <a:round/>
            <a:tailEnd len="med" type="triangle" w="med"/>
          </a:ln>
        </p:spPr>
      </p:cxnSp>
      <p:cxnSp>
        <p:nvCxnSpPr>
          <p:cNvPr id="82" name="Соединительная линия уступом 60"/>
          <p:cNvCxnSpPr>
            <a:stCxn id="61" idx="3"/>
            <a:endCxn id="54" idx="1"/>
          </p:cNvCxnSpPr>
          <p:nvPr/>
        </p:nvCxnSpPr>
        <p:spPr>
          <a:xfrm flipV="1">
            <a:off x="3359160" y="2977560"/>
            <a:ext cx="854640" cy="1510200"/>
          </a:xfrm>
          <a:prstGeom prst="bentConnector2">
            <a:avLst/>
          </a:prstGeom>
          <a:ln w="28575">
            <a:solidFill>
              <a:srgbClr val="b73936"/>
            </a:solidFill>
            <a:prstDash val="lgDash"/>
            <a:round/>
            <a:tailEnd len="med" type="triangle" w="med"/>
          </a:ln>
        </p:spPr>
      </p:cxnSp>
      <p:sp>
        <p:nvSpPr>
          <p:cNvPr id="83" name="TextBox 69"/>
          <p:cNvSpPr/>
          <p:nvPr/>
        </p:nvSpPr>
        <p:spPr>
          <a:xfrm>
            <a:off x="3390840" y="4113360"/>
            <a:ext cx="6548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Соединительная линия уступом 70"/>
          <p:cNvCxnSpPr>
            <a:stCxn id="62" idx="3"/>
            <a:endCxn id="54" idx="2"/>
          </p:cNvCxnSpPr>
          <p:nvPr/>
        </p:nvCxnSpPr>
        <p:spPr>
          <a:xfrm rot="10800000">
            <a:off x="4978440" y="3301560"/>
            <a:ext cx="1108440" cy="1196280"/>
          </a:xfrm>
          <a:prstGeom prst="bentConnector2">
            <a:avLst/>
          </a:prstGeom>
          <a:ln w="28575">
            <a:solidFill>
              <a:srgbClr val="b73936"/>
            </a:solidFill>
            <a:prstDash val="lgDash"/>
            <a:round/>
            <a:tailEnd len="med" type="triangle" w="med"/>
          </a:ln>
        </p:spPr>
      </p:cxnSp>
      <p:cxnSp>
        <p:nvCxnSpPr>
          <p:cNvPr id="85" name="Соединительная линия уступом 74"/>
          <p:cNvCxnSpPr>
            <a:stCxn id="62" idx="3"/>
            <a:endCxn id="55" idx="2"/>
          </p:cNvCxnSpPr>
          <p:nvPr/>
        </p:nvCxnSpPr>
        <p:spPr>
          <a:xfrm flipV="1">
            <a:off x="6086520" y="3291480"/>
            <a:ext cx="484920" cy="1206360"/>
          </a:xfrm>
          <a:prstGeom prst="bentConnector2">
            <a:avLst/>
          </a:prstGeom>
          <a:ln w="28575">
            <a:solidFill>
              <a:srgbClr val="b73936"/>
            </a:solidFill>
            <a:prstDash val="lgDash"/>
            <a:round/>
            <a:tailEnd len="med" type="triangle" w="med"/>
          </a:ln>
        </p:spPr>
      </p:cxnSp>
      <p:sp>
        <p:nvSpPr>
          <p:cNvPr id="86" name="TextBox 77"/>
          <p:cNvSpPr/>
          <p:nvPr/>
        </p:nvSpPr>
        <p:spPr>
          <a:xfrm>
            <a:off x="5697360" y="3846240"/>
            <a:ext cx="6548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Соединительная линия уступом 78"/>
          <p:cNvCxnSpPr>
            <a:stCxn id="63" idx="3"/>
            <a:endCxn id="55" idx="2"/>
          </p:cNvCxnSpPr>
          <p:nvPr/>
        </p:nvCxnSpPr>
        <p:spPr>
          <a:xfrm rot="10800000">
            <a:off x="6571080" y="3291480"/>
            <a:ext cx="1910520" cy="1196280"/>
          </a:xfrm>
          <a:prstGeom prst="bentConnector2">
            <a:avLst/>
          </a:prstGeom>
          <a:ln w="28575">
            <a:solidFill>
              <a:srgbClr val="b73936"/>
            </a:solidFill>
            <a:prstDash val="lgDash"/>
            <a:round/>
            <a:tailEnd len="med" type="triangle" w="med"/>
          </a:ln>
        </p:spPr>
      </p:cxnSp>
      <p:sp>
        <p:nvSpPr>
          <p:cNvPr id="88" name="TextBox 82"/>
          <p:cNvSpPr/>
          <p:nvPr/>
        </p:nvSpPr>
        <p:spPr>
          <a:xfrm rot="5400000">
            <a:off x="8197560" y="3774960"/>
            <a:ext cx="654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25"/>
          <p:cNvSpPr/>
          <p:nvPr/>
        </p:nvSpPr>
        <p:spPr>
          <a:xfrm>
            <a:off x="1136160" y="465480"/>
            <a:ext cx="68644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"/>
          <p:cNvSpPr/>
          <p:nvPr/>
        </p:nvSpPr>
        <p:spPr>
          <a:xfrm>
            <a:off x="1136160" y="577440"/>
            <a:ext cx="684180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Химические свойства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 С основаниями. Образуется соль и 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NaOH + HC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NaCl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Прямая соединительная линия 12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300" name="TextBox 13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http://sch2101.mskobr.ru/images/cms/thumbs/1f1204c38f5d7f50f0ab6bcf597ef97666ee60e8/1435753174ogo_color_400x300_png_250_135.png"/>
          <p:cNvPicPr/>
          <p:nvPr/>
        </p:nvPicPr>
        <p:blipFill>
          <a:blip r:embed="rId1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25"/>
          <p:cNvSpPr/>
          <p:nvPr/>
        </p:nvSpPr>
        <p:spPr>
          <a:xfrm>
            <a:off x="1136160" y="465480"/>
            <a:ext cx="68644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"/>
          <p:cNvSpPr/>
          <p:nvPr/>
        </p:nvSpPr>
        <p:spPr>
          <a:xfrm>
            <a:off x="1136160" y="577440"/>
            <a:ext cx="684180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Химические свойства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С солями. В соответствии с рядом кислот (каждая предыдущая кислота может вытеснить из соли последующую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Zn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Zn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2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https://sites.google.com/site/himulacom/_/rsrc/1315460264224/zvonok-na-urok/9-klass---vtoroj-god-obucenia/urok-no33-soli-azotnoj-kisloty/34-5.jpg"/>
          <p:cNvPicPr/>
          <p:nvPr/>
        </p:nvPicPr>
        <p:blipFill>
          <a:blip r:embed="rId1"/>
          <a:srcRect l="3518" t="7070" r="2357" b="7842"/>
          <a:stretch/>
        </p:blipFill>
        <p:spPr>
          <a:xfrm>
            <a:off x="2040840" y="3647520"/>
            <a:ext cx="4899600" cy="1240560"/>
          </a:xfrm>
          <a:prstGeom prst="rect">
            <a:avLst/>
          </a:prstGeom>
          <a:ln w="0">
            <a:noFill/>
          </a:ln>
        </p:spPr>
      </p:pic>
      <p:cxnSp>
        <p:nvCxnSpPr>
          <p:cNvPr id="305" name="Прямая соединительная линия 13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306" name="TextBox 16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http://sch2101.mskobr.ru/images/cms/thumbs/1f1204c38f5d7f50f0ab6bcf597ef97666ee60e8/1435753174ogo_color_400x300_png_250_135.png"/>
          <p:cNvPicPr/>
          <p:nvPr/>
        </p:nvPicPr>
        <p:blipFill>
          <a:blip r:embed="rId2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25"/>
          <p:cNvSpPr/>
          <p:nvPr/>
        </p:nvSpPr>
        <p:spPr>
          <a:xfrm>
            <a:off x="1136160" y="465480"/>
            <a:ext cx="68644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"/>
          <p:cNvSpPr/>
          <p:nvPr/>
        </p:nvSpPr>
        <p:spPr>
          <a:xfrm>
            <a:off x="1136160" y="577440"/>
            <a:ext cx="684180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Химические свойства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При нагревании некоторые кислоты разлагаю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 + 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Прямая соединительная линия 12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311" name="TextBox 13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http://sch2101.mskobr.ru/images/cms/thumbs/1f1204c38f5d7f50f0ab6bcf597ef97666ee60e8/1435753174ogo_color_400x300_png_250_135.png"/>
          <p:cNvPicPr/>
          <p:nvPr/>
        </p:nvPicPr>
        <p:blipFill>
          <a:blip r:embed="rId1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Таблица 4"/>
          <p:cNvGraphicFramePr/>
          <p:nvPr/>
        </p:nvGraphicFramePr>
        <p:xfrm>
          <a:off x="1212840" y="627480"/>
          <a:ext cx="6718320" cy="4552560"/>
        </p:xfrm>
        <a:graphic>
          <a:graphicData uri="http://schemas.openxmlformats.org/drawingml/2006/table">
            <a:tbl>
              <a:tblPr/>
              <a:tblGrid>
                <a:gridCol w="3359160"/>
                <a:gridCol w="3359160"/>
              </a:tblGrid>
              <a:tr h="40032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е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ри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</a:tr>
              <a:tr h="685800"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 С металлами. Если металл находиться до Н, то выделяется водород и образуется соль. Исключение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N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a + HCl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CaCl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</a:tr>
              <a:tr h="64332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. C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сновными оксидами. Образуется соль и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u +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CuS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4332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. С основаниями. Образуется соль и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NaOH + HCl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NaCl +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</a:tr>
              <a:tr h="89136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. С солями. В соответствии с рядом кислот, кислота левее вытесняет из солей «правых» кислот. Образуется соль и другая кис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ZnCl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+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ZnS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+ 2HC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09728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. Разлагаются при нагреван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 + S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 + C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i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 + Si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N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4N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+ 2H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O + O</a:t>
                      </a:r>
                      <a:r>
                        <a:rPr b="0" lang="en-US" sz="14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</a:tr>
            </a:tbl>
          </a:graphicData>
        </a:graphic>
      </p:graphicFrame>
      <p:cxnSp>
        <p:nvCxnSpPr>
          <p:cNvPr id="314" name="Прямая соединительная линия 13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315" name="TextBox 16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http://sch2101.mskobr.ru/images/cms/thumbs/1f1204c38f5d7f50f0ab6bcf597ef97666ee60e8/1435753174ogo_color_400x300_png_250_135.png"/>
          <p:cNvPicPr/>
          <p:nvPr/>
        </p:nvPicPr>
        <p:blipFill>
          <a:blip r:embed="rId1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25"/>
          <p:cNvSpPr/>
          <p:nvPr/>
        </p:nvSpPr>
        <p:spPr>
          <a:xfrm>
            <a:off x="1136160" y="465480"/>
            <a:ext cx="68644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"/>
          <p:cNvSpPr/>
          <p:nvPr/>
        </p:nvSpPr>
        <p:spPr>
          <a:xfrm>
            <a:off x="0" y="576000"/>
            <a:ext cx="91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Химические свойства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Реакция с индикатор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http://flatik.ru/flax/757/756065/756065_html_34f1813d.jpg"/>
          <p:cNvPicPr/>
          <p:nvPr/>
        </p:nvPicPr>
        <p:blipFill>
          <a:blip r:embed="rId1"/>
          <a:srcRect l="0" t="9048" r="851" b="0"/>
          <a:stretch/>
        </p:blipFill>
        <p:spPr>
          <a:xfrm>
            <a:off x="2904120" y="1361880"/>
            <a:ext cx="5627880" cy="349848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cxnSp>
        <p:nvCxnSpPr>
          <p:cNvPr id="320" name="Прямая соединительная линия 13"/>
          <p:cNvCxnSpPr/>
          <p:nvPr/>
        </p:nvCxnSpPr>
        <p:spPr>
          <a:xfrm>
            <a:off x="5606640" y="1268640"/>
            <a:ext cx="3960" cy="3751560"/>
          </a:xfrm>
          <a:prstGeom prst="straightConnector1">
            <a:avLst/>
          </a:prstGeom>
          <a:ln>
            <a:solidFill>
              <a:srgbClr val="ff0000"/>
            </a:solidFill>
            <a:prstDash val="sysDot"/>
            <a:round/>
          </a:ln>
        </p:spPr>
      </p:cxnSp>
      <p:cxnSp>
        <p:nvCxnSpPr>
          <p:cNvPr id="321" name="Прямая соединительная линия 16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322" name="TextBox 17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http://sch2101.mskobr.ru/images/cms/thumbs/1f1204c38f5d7f50f0ab6bcf597ef97666ee60e8/1435753174ogo_color_400x300_png_250_135.png"/>
          <p:cNvPicPr/>
          <p:nvPr/>
        </p:nvPicPr>
        <p:blipFill>
          <a:blip r:embed="rId2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http://art-medika.com/gallery/product/1067/5286_1.jpg"/>
          <p:cNvPicPr/>
          <p:nvPr/>
        </p:nvPicPr>
        <p:blipFill>
          <a:blip r:embed="rId3"/>
          <a:stretch/>
        </p:blipFill>
        <p:spPr>
          <a:xfrm>
            <a:off x="200880" y="2859840"/>
            <a:ext cx="2483280" cy="82836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325" name="Picture 4" descr="https://prigemorroe.ru/wp-content/uploads/2018/07/fenolftalein.jpg"/>
          <p:cNvPicPr/>
          <p:nvPr/>
        </p:nvPicPr>
        <p:blipFill>
          <a:blip r:embed="rId4"/>
          <a:stretch/>
        </p:blipFill>
        <p:spPr>
          <a:xfrm>
            <a:off x="994320" y="838440"/>
            <a:ext cx="1533240" cy="15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Скругленный прямоугольник 6"/>
          <p:cNvSpPr/>
          <p:nvPr/>
        </p:nvSpPr>
        <p:spPr>
          <a:xfrm>
            <a:off x="4547160" y="1131480"/>
            <a:ext cx="2529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Сложные 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7"/>
          <p:cNvSpPr/>
          <p:nvPr/>
        </p:nvSpPr>
        <p:spPr>
          <a:xfrm>
            <a:off x="2410560" y="264384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8"/>
          <p:cNvSpPr/>
          <p:nvPr/>
        </p:nvSpPr>
        <p:spPr>
          <a:xfrm>
            <a:off x="4213800" y="2653560"/>
            <a:ext cx="1529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9"/>
          <p:cNvSpPr/>
          <p:nvPr/>
        </p:nvSpPr>
        <p:spPr>
          <a:xfrm>
            <a:off x="5879880" y="2643840"/>
            <a:ext cx="13820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10"/>
          <p:cNvSpPr/>
          <p:nvPr/>
        </p:nvSpPr>
        <p:spPr>
          <a:xfrm>
            <a:off x="7490880" y="2643840"/>
            <a:ext cx="16171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Соединительная линия уступом 11"/>
          <p:cNvCxnSpPr>
            <a:stCxn id="89" idx="2"/>
            <a:endCxn id="90" idx="0"/>
          </p:cNvCxnSpPr>
          <p:nvPr/>
        </p:nvCxnSpPr>
        <p:spPr>
          <a:xfrm flipV="1" rot="10800000">
            <a:off x="3211560" y="2103480"/>
            <a:ext cx="2601000" cy="54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95" name="Соединительная линия уступом 13"/>
          <p:cNvCxnSpPr>
            <a:stCxn id="89" idx="2"/>
            <a:endCxn id="91" idx="0"/>
          </p:cNvCxnSpPr>
          <p:nvPr/>
        </p:nvCxnSpPr>
        <p:spPr>
          <a:xfrm flipV="1" rot="10800000">
            <a:off x="4978440" y="2103480"/>
            <a:ext cx="834120" cy="55044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96" name="Соединительная линия уступом 14"/>
          <p:cNvCxnSpPr>
            <a:endCxn id="92" idx="0"/>
          </p:cNvCxnSpPr>
          <p:nvPr/>
        </p:nvCxnSpPr>
        <p:spPr>
          <a:xfrm>
            <a:off x="5708160" y="2373480"/>
            <a:ext cx="86328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97" name="Соединительная линия уступом 15"/>
          <p:cNvCxnSpPr>
            <a:endCxn id="93" idx="0"/>
          </p:cNvCxnSpPr>
          <p:nvPr/>
        </p:nvCxnSpPr>
        <p:spPr>
          <a:xfrm>
            <a:off x="5708160" y="2373480"/>
            <a:ext cx="259164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sp>
        <p:nvSpPr>
          <p:cNvPr id="98" name="Скругленный прямоугольник 17"/>
          <p:cNvSpPr/>
          <p:nvPr/>
        </p:nvSpPr>
        <p:spPr>
          <a:xfrm>
            <a:off x="2219040" y="4163760"/>
            <a:ext cx="1403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сн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21"/>
          <p:cNvSpPr/>
          <p:nvPr/>
        </p:nvSpPr>
        <p:spPr>
          <a:xfrm>
            <a:off x="4290480" y="4173480"/>
            <a:ext cx="17956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Амфоте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22"/>
          <p:cNvSpPr/>
          <p:nvPr/>
        </p:nvSpPr>
        <p:spPr>
          <a:xfrm>
            <a:off x="6996600" y="4163760"/>
            <a:ext cx="1484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Кисл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Соединительная линия уступом 23"/>
          <p:cNvCxnSpPr>
            <a:endCxn id="98" idx="0"/>
          </p:cNvCxnSpPr>
          <p:nvPr/>
        </p:nvCxnSpPr>
        <p:spPr>
          <a:xfrm flipV="1" rot="10800000">
            <a:off x="2920680" y="3291480"/>
            <a:ext cx="290880" cy="87228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02" name="Соединительная линия уступом 24"/>
          <p:cNvCxnSpPr/>
          <p:nvPr/>
        </p:nvCxnSpPr>
        <p:spPr>
          <a:xfrm>
            <a:off x="3400560" y="3717720"/>
            <a:ext cx="1778760" cy="45612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03" name="Соединительная линия уступом 25"/>
          <p:cNvCxnSpPr>
            <a:endCxn id="100" idx="0"/>
          </p:cNvCxnSpPr>
          <p:nvPr/>
        </p:nvCxnSpPr>
        <p:spPr>
          <a:xfrm>
            <a:off x="3211560" y="3291480"/>
            <a:ext cx="4527720" cy="87228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sp>
        <p:nvSpPr>
          <p:cNvPr id="104" name="Скругленный прямоугольник 26"/>
          <p:cNvSpPr/>
          <p:nvPr/>
        </p:nvSpPr>
        <p:spPr>
          <a:xfrm>
            <a:off x="14400" y="1131480"/>
            <a:ext cx="2529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Простые 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27"/>
          <p:cNvSpPr/>
          <p:nvPr/>
        </p:nvSpPr>
        <p:spPr>
          <a:xfrm>
            <a:off x="58320" y="242172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Метал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28"/>
          <p:cNvSpPr/>
          <p:nvPr/>
        </p:nvSpPr>
        <p:spPr>
          <a:xfrm>
            <a:off x="969840" y="331452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Неметал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Соединительная линия уступом 2"/>
          <p:cNvCxnSpPr>
            <a:stCxn id="104" idx="2"/>
            <a:endCxn id="105" idx="0"/>
          </p:cNvCxnSpPr>
          <p:nvPr/>
        </p:nvCxnSpPr>
        <p:spPr>
          <a:xfrm flipV="1" rot="10800000">
            <a:off x="859320" y="2103480"/>
            <a:ext cx="419760" cy="3186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108" name="Соединительная линия уступом 29"/>
          <p:cNvCxnSpPr>
            <a:stCxn id="104" idx="2"/>
            <a:endCxn id="106" idx="0"/>
          </p:cNvCxnSpPr>
          <p:nvPr/>
        </p:nvCxnSpPr>
        <p:spPr>
          <a:xfrm>
            <a:off x="1279080" y="2103480"/>
            <a:ext cx="492120" cy="121104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sp>
        <p:nvSpPr>
          <p:cNvPr id="109" name="Скругленный прямоугольник 31"/>
          <p:cNvSpPr/>
          <p:nvPr/>
        </p:nvSpPr>
        <p:spPr>
          <a:xfrm>
            <a:off x="2532600" y="131760"/>
            <a:ext cx="2529360" cy="60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32"/>
          <p:cNvSpPr/>
          <p:nvPr/>
        </p:nvSpPr>
        <p:spPr>
          <a:xfrm>
            <a:off x="5570640" y="131760"/>
            <a:ext cx="2529360" cy="60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Book Antiqua"/>
              </a:rPr>
              <a:t>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Соединительная линия уступом 34"/>
          <p:cNvCxnSpPr>
            <a:stCxn id="109" idx="2"/>
            <a:endCxn id="104" idx="0"/>
          </p:cNvCxnSpPr>
          <p:nvPr/>
        </p:nvCxnSpPr>
        <p:spPr>
          <a:xfrm flipV="1" rot="10800000">
            <a:off x="1278720" y="735480"/>
            <a:ext cx="2518560" cy="3960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112" name="Соединительная линия уступом 35"/>
          <p:cNvCxnSpPr>
            <a:stCxn id="109" idx="2"/>
            <a:endCxn id="89" idx="0"/>
          </p:cNvCxnSpPr>
          <p:nvPr/>
        </p:nvCxnSpPr>
        <p:spPr>
          <a:xfrm>
            <a:off x="3797280" y="735840"/>
            <a:ext cx="2015280" cy="3960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113" name="Прямая соединительная линия 39"/>
          <p:cNvCxnSpPr>
            <a:stCxn id="109" idx="3"/>
            <a:endCxn id="110" idx="1"/>
          </p:cNvCxnSpPr>
          <p:nvPr/>
        </p:nvCxnSpPr>
        <p:spPr>
          <a:xfrm>
            <a:off x="5062320" y="433800"/>
            <a:ext cx="508320" cy="360"/>
          </a:xfrm>
          <a:prstGeom prst="straightConnector1">
            <a:avLst/>
          </a:prstGeom>
          <a:ln>
            <a:solidFill>
              <a:srgbClr val="be4b48"/>
            </a:solidFill>
            <a:round/>
          </a:ln>
        </p:spPr>
      </p:cxnSp>
      <p:sp>
        <p:nvSpPr>
          <p:cNvPr id="114" name="Полилиния 3"/>
          <p:cNvSpPr/>
          <p:nvPr/>
        </p:nvSpPr>
        <p:spPr>
          <a:xfrm>
            <a:off x="2919960" y="3634560"/>
            <a:ext cx="4840560" cy="529920"/>
          </a:xfrm>
          <a:custGeom>
            <a:avLst/>
            <a:gdLst>
              <a:gd name="textAreaLeft" fmla="*/ 0 w 4840560"/>
              <a:gd name="textAreaRight" fmla="*/ 4840920 w 4840560"/>
              <a:gd name="textAreaTop" fmla="*/ 0 h 529920"/>
              <a:gd name="textAreaBottom" fmla="*/ 530280 h 529920"/>
            </a:gdLst>
            <a:ahLst/>
            <a:rect l="textAreaLeft" t="textAreaTop" r="textAreaRight" b="textAreaBottom"/>
            <a:pathLst>
              <a:path w="4840941" h="530216">
                <a:moveTo>
                  <a:pt x="0" y="514848"/>
                </a:moveTo>
                <a:cubicBezTo>
                  <a:pt x="802981" y="256152"/>
                  <a:pt x="1605963" y="-2543"/>
                  <a:pt x="2412786" y="18"/>
                </a:cubicBezTo>
                <a:cubicBezTo>
                  <a:pt x="3219609" y="2579"/>
                  <a:pt x="4030275" y="266397"/>
                  <a:pt x="4840941" y="530216"/>
                </a:cubicBezTo>
              </a:path>
            </a:pathLst>
          </a:custGeom>
          <a:noFill/>
          <a:ln w="57150">
            <a:solidFill>
              <a:srgbClr val="b73936"/>
            </a:solidFill>
            <a:prstDash val="lg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Стрелка вправо 4"/>
          <p:cNvSpPr/>
          <p:nvPr/>
        </p:nvSpPr>
        <p:spPr>
          <a:xfrm rot="19800000">
            <a:off x="6996240" y="3363480"/>
            <a:ext cx="763920" cy="535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1e1e1"/>
          </a:solidFill>
          <a:ln>
            <a:solidFill>
              <a:srgbClr val="b73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Скругленный прямоугольник 6"/>
          <p:cNvSpPr/>
          <p:nvPr/>
        </p:nvSpPr>
        <p:spPr>
          <a:xfrm>
            <a:off x="4547160" y="1131480"/>
            <a:ext cx="2529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Сложные 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7"/>
          <p:cNvSpPr/>
          <p:nvPr/>
        </p:nvSpPr>
        <p:spPr>
          <a:xfrm>
            <a:off x="2410560" y="264384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8"/>
          <p:cNvSpPr/>
          <p:nvPr/>
        </p:nvSpPr>
        <p:spPr>
          <a:xfrm>
            <a:off x="4213800" y="2653560"/>
            <a:ext cx="1529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9"/>
          <p:cNvSpPr/>
          <p:nvPr/>
        </p:nvSpPr>
        <p:spPr>
          <a:xfrm>
            <a:off x="5879880" y="2643840"/>
            <a:ext cx="13820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10"/>
          <p:cNvSpPr/>
          <p:nvPr/>
        </p:nvSpPr>
        <p:spPr>
          <a:xfrm>
            <a:off x="7490880" y="2643840"/>
            <a:ext cx="16171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Соединительная линия уступом 11"/>
          <p:cNvCxnSpPr>
            <a:stCxn id="116" idx="2"/>
            <a:endCxn id="117" idx="0"/>
          </p:cNvCxnSpPr>
          <p:nvPr/>
        </p:nvCxnSpPr>
        <p:spPr>
          <a:xfrm flipV="1" rot="10800000">
            <a:off x="3211560" y="2103480"/>
            <a:ext cx="2601000" cy="54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22" name="Соединительная линия уступом 13"/>
          <p:cNvCxnSpPr>
            <a:stCxn id="116" idx="2"/>
            <a:endCxn id="118" idx="0"/>
          </p:cNvCxnSpPr>
          <p:nvPr/>
        </p:nvCxnSpPr>
        <p:spPr>
          <a:xfrm flipV="1" rot="10800000">
            <a:off x="4978440" y="2103480"/>
            <a:ext cx="834120" cy="55044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23" name="Соединительная линия уступом 14"/>
          <p:cNvCxnSpPr>
            <a:endCxn id="119" idx="0"/>
          </p:cNvCxnSpPr>
          <p:nvPr/>
        </p:nvCxnSpPr>
        <p:spPr>
          <a:xfrm>
            <a:off x="5708160" y="2373480"/>
            <a:ext cx="86328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24" name="Соединительная линия уступом 15"/>
          <p:cNvCxnSpPr>
            <a:endCxn id="120" idx="0"/>
          </p:cNvCxnSpPr>
          <p:nvPr/>
        </p:nvCxnSpPr>
        <p:spPr>
          <a:xfrm>
            <a:off x="5708160" y="2373480"/>
            <a:ext cx="259164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sp>
        <p:nvSpPr>
          <p:cNvPr id="125" name="Скругленный прямоугольник 17"/>
          <p:cNvSpPr/>
          <p:nvPr/>
        </p:nvSpPr>
        <p:spPr>
          <a:xfrm>
            <a:off x="2219040" y="4163760"/>
            <a:ext cx="1403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сн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21"/>
          <p:cNvSpPr/>
          <p:nvPr/>
        </p:nvSpPr>
        <p:spPr>
          <a:xfrm>
            <a:off x="4290480" y="4173480"/>
            <a:ext cx="17956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Амфоте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22"/>
          <p:cNvSpPr/>
          <p:nvPr/>
        </p:nvSpPr>
        <p:spPr>
          <a:xfrm>
            <a:off x="6996600" y="4163760"/>
            <a:ext cx="1484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Кисл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Соединительная линия уступом 23"/>
          <p:cNvCxnSpPr>
            <a:endCxn id="125" idx="0"/>
          </p:cNvCxnSpPr>
          <p:nvPr/>
        </p:nvCxnSpPr>
        <p:spPr>
          <a:xfrm flipV="1" rot="10800000">
            <a:off x="2920680" y="3291480"/>
            <a:ext cx="290880" cy="87228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29" name="Соединительная линия уступом 24"/>
          <p:cNvCxnSpPr/>
          <p:nvPr/>
        </p:nvCxnSpPr>
        <p:spPr>
          <a:xfrm>
            <a:off x="3400560" y="3717720"/>
            <a:ext cx="1778760" cy="45612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30" name="Соединительная линия уступом 25"/>
          <p:cNvCxnSpPr>
            <a:endCxn id="127" idx="0"/>
          </p:cNvCxnSpPr>
          <p:nvPr/>
        </p:nvCxnSpPr>
        <p:spPr>
          <a:xfrm>
            <a:off x="3211560" y="3291480"/>
            <a:ext cx="4527720" cy="87228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sp>
        <p:nvSpPr>
          <p:cNvPr id="131" name="Скругленный прямоугольник 26"/>
          <p:cNvSpPr/>
          <p:nvPr/>
        </p:nvSpPr>
        <p:spPr>
          <a:xfrm>
            <a:off x="14400" y="1131480"/>
            <a:ext cx="2529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Простые 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27"/>
          <p:cNvSpPr/>
          <p:nvPr/>
        </p:nvSpPr>
        <p:spPr>
          <a:xfrm>
            <a:off x="58320" y="242172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Метал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28"/>
          <p:cNvSpPr/>
          <p:nvPr/>
        </p:nvSpPr>
        <p:spPr>
          <a:xfrm>
            <a:off x="969840" y="331452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Неметал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Соединительная линия уступом 2"/>
          <p:cNvCxnSpPr>
            <a:stCxn id="131" idx="2"/>
            <a:endCxn id="132" idx="0"/>
          </p:cNvCxnSpPr>
          <p:nvPr/>
        </p:nvCxnSpPr>
        <p:spPr>
          <a:xfrm flipV="1" rot="10800000">
            <a:off x="859320" y="2103480"/>
            <a:ext cx="419760" cy="3186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135" name="Соединительная линия уступом 29"/>
          <p:cNvCxnSpPr>
            <a:stCxn id="131" idx="2"/>
            <a:endCxn id="133" idx="0"/>
          </p:cNvCxnSpPr>
          <p:nvPr/>
        </p:nvCxnSpPr>
        <p:spPr>
          <a:xfrm>
            <a:off x="1279080" y="2103480"/>
            <a:ext cx="492120" cy="121104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sp>
        <p:nvSpPr>
          <p:cNvPr id="136" name="Скругленный прямоугольник 31"/>
          <p:cNvSpPr/>
          <p:nvPr/>
        </p:nvSpPr>
        <p:spPr>
          <a:xfrm>
            <a:off x="2532600" y="131760"/>
            <a:ext cx="2529360" cy="60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32"/>
          <p:cNvSpPr/>
          <p:nvPr/>
        </p:nvSpPr>
        <p:spPr>
          <a:xfrm>
            <a:off x="5570640" y="131760"/>
            <a:ext cx="2529360" cy="60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Book Antiqua"/>
              </a:rPr>
              <a:t>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Соединительная линия уступом 34"/>
          <p:cNvCxnSpPr>
            <a:stCxn id="136" idx="2"/>
            <a:endCxn id="131" idx="0"/>
          </p:cNvCxnSpPr>
          <p:nvPr/>
        </p:nvCxnSpPr>
        <p:spPr>
          <a:xfrm flipV="1" rot="10800000">
            <a:off x="1278720" y="735480"/>
            <a:ext cx="2518560" cy="3960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139" name="Соединительная линия уступом 35"/>
          <p:cNvCxnSpPr>
            <a:stCxn id="136" idx="2"/>
            <a:endCxn id="116" idx="0"/>
          </p:cNvCxnSpPr>
          <p:nvPr/>
        </p:nvCxnSpPr>
        <p:spPr>
          <a:xfrm>
            <a:off x="3797280" y="735840"/>
            <a:ext cx="2015280" cy="3960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140" name="Прямая соединительная линия 39"/>
          <p:cNvCxnSpPr>
            <a:stCxn id="136" idx="3"/>
            <a:endCxn id="137" idx="1"/>
          </p:cNvCxnSpPr>
          <p:nvPr/>
        </p:nvCxnSpPr>
        <p:spPr>
          <a:xfrm>
            <a:off x="5062320" y="433800"/>
            <a:ext cx="508320" cy="360"/>
          </a:xfrm>
          <a:prstGeom prst="straightConnector1">
            <a:avLst/>
          </a:prstGeom>
          <a:ln>
            <a:solidFill>
              <a:srgbClr val="be4b48"/>
            </a:solidFill>
            <a:round/>
          </a:ln>
        </p:spPr>
      </p:cxnSp>
      <p:sp>
        <p:nvSpPr>
          <p:cNvPr id="141" name="Стрелка вправо 4"/>
          <p:cNvSpPr/>
          <p:nvPr/>
        </p:nvSpPr>
        <p:spPr>
          <a:xfrm rot="19800000">
            <a:off x="6996240" y="3363480"/>
            <a:ext cx="763920" cy="535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1e1e1"/>
          </a:solidFill>
          <a:ln>
            <a:solidFill>
              <a:srgbClr val="b73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Полилиния 5"/>
          <p:cNvSpPr/>
          <p:nvPr/>
        </p:nvSpPr>
        <p:spPr>
          <a:xfrm>
            <a:off x="5256000" y="3335040"/>
            <a:ext cx="2481480" cy="837360"/>
          </a:xfrm>
          <a:custGeom>
            <a:avLst/>
            <a:gdLst>
              <a:gd name="textAreaLeft" fmla="*/ 0 w 2481480"/>
              <a:gd name="textAreaRight" fmla="*/ 2481840 w 2481480"/>
              <a:gd name="textAreaTop" fmla="*/ 0 h 837360"/>
              <a:gd name="textAreaBottom" fmla="*/ 837720 h 837360"/>
            </a:gdLst>
            <a:ahLst/>
            <a:rect l="textAreaLeft" t="textAreaTop" r="textAreaRight" b="textAreaBottom"/>
            <a:pathLst>
              <a:path w="2481943" h="837559">
                <a:moveTo>
                  <a:pt x="0" y="0"/>
                </a:moveTo>
                <a:lnTo>
                  <a:pt x="1390810" y="499462"/>
                </a:lnTo>
                <a:cubicBezTo>
                  <a:pt x="1804467" y="639055"/>
                  <a:pt x="2143205" y="738307"/>
                  <a:pt x="2481943" y="837559"/>
                </a:cubicBezTo>
              </a:path>
            </a:pathLst>
          </a:custGeom>
          <a:noFill/>
          <a:ln w="57150">
            <a:solidFill>
              <a:srgbClr val="b73936"/>
            </a:solidFill>
            <a:prstDash val="lg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4547160" y="1131480"/>
            <a:ext cx="2529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Сложные 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7"/>
          <p:cNvSpPr/>
          <p:nvPr/>
        </p:nvSpPr>
        <p:spPr>
          <a:xfrm>
            <a:off x="2410560" y="264384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8"/>
          <p:cNvSpPr/>
          <p:nvPr/>
        </p:nvSpPr>
        <p:spPr>
          <a:xfrm>
            <a:off x="4213800" y="2653560"/>
            <a:ext cx="1529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9"/>
          <p:cNvSpPr/>
          <p:nvPr/>
        </p:nvSpPr>
        <p:spPr>
          <a:xfrm>
            <a:off x="5879880" y="2643840"/>
            <a:ext cx="13820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10"/>
          <p:cNvSpPr/>
          <p:nvPr/>
        </p:nvSpPr>
        <p:spPr>
          <a:xfrm>
            <a:off x="7490880" y="2643840"/>
            <a:ext cx="16171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Соединительная линия уступом 11"/>
          <p:cNvCxnSpPr>
            <a:stCxn id="143" idx="2"/>
            <a:endCxn id="144" idx="0"/>
          </p:cNvCxnSpPr>
          <p:nvPr/>
        </p:nvCxnSpPr>
        <p:spPr>
          <a:xfrm flipV="1" rot="10800000">
            <a:off x="3211560" y="2103480"/>
            <a:ext cx="2601000" cy="54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49" name="Соединительная линия уступом 13"/>
          <p:cNvCxnSpPr>
            <a:stCxn id="143" idx="2"/>
            <a:endCxn id="145" idx="0"/>
          </p:cNvCxnSpPr>
          <p:nvPr/>
        </p:nvCxnSpPr>
        <p:spPr>
          <a:xfrm flipV="1" rot="10800000">
            <a:off x="4978440" y="2103480"/>
            <a:ext cx="834120" cy="55044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50" name="Соединительная линия уступом 14"/>
          <p:cNvCxnSpPr>
            <a:endCxn id="146" idx="0"/>
          </p:cNvCxnSpPr>
          <p:nvPr/>
        </p:nvCxnSpPr>
        <p:spPr>
          <a:xfrm>
            <a:off x="5708160" y="2373480"/>
            <a:ext cx="86328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51" name="Соединительная линия уступом 15"/>
          <p:cNvCxnSpPr>
            <a:endCxn id="147" idx="0"/>
          </p:cNvCxnSpPr>
          <p:nvPr/>
        </p:nvCxnSpPr>
        <p:spPr>
          <a:xfrm>
            <a:off x="5708160" y="2373480"/>
            <a:ext cx="259164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sp>
        <p:nvSpPr>
          <p:cNvPr id="152" name="Скругленный прямоугольник 17"/>
          <p:cNvSpPr/>
          <p:nvPr/>
        </p:nvSpPr>
        <p:spPr>
          <a:xfrm>
            <a:off x="2219040" y="4163760"/>
            <a:ext cx="1403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сн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21"/>
          <p:cNvSpPr/>
          <p:nvPr/>
        </p:nvSpPr>
        <p:spPr>
          <a:xfrm>
            <a:off x="4290480" y="4173480"/>
            <a:ext cx="17956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Амфоте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22"/>
          <p:cNvSpPr/>
          <p:nvPr/>
        </p:nvSpPr>
        <p:spPr>
          <a:xfrm>
            <a:off x="6996600" y="4163760"/>
            <a:ext cx="1484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Кисл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Соединительная линия уступом 23"/>
          <p:cNvCxnSpPr>
            <a:endCxn id="152" idx="0"/>
          </p:cNvCxnSpPr>
          <p:nvPr/>
        </p:nvCxnSpPr>
        <p:spPr>
          <a:xfrm flipV="1" rot="10800000">
            <a:off x="2920680" y="3291480"/>
            <a:ext cx="290880" cy="87228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56" name="Соединительная линия уступом 24"/>
          <p:cNvCxnSpPr/>
          <p:nvPr/>
        </p:nvCxnSpPr>
        <p:spPr>
          <a:xfrm>
            <a:off x="3400560" y="3717720"/>
            <a:ext cx="1778760" cy="45612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57" name="Соединительная линия уступом 25"/>
          <p:cNvCxnSpPr>
            <a:endCxn id="154" idx="0"/>
          </p:cNvCxnSpPr>
          <p:nvPr/>
        </p:nvCxnSpPr>
        <p:spPr>
          <a:xfrm>
            <a:off x="3211560" y="3291480"/>
            <a:ext cx="4527720" cy="87228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sp>
        <p:nvSpPr>
          <p:cNvPr id="158" name="Скругленный прямоугольник 26"/>
          <p:cNvSpPr/>
          <p:nvPr/>
        </p:nvSpPr>
        <p:spPr>
          <a:xfrm>
            <a:off x="14400" y="1131480"/>
            <a:ext cx="2529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Простые 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27"/>
          <p:cNvSpPr/>
          <p:nvPr/>
        </p:nvSpPr>
        <p:spPr>
          <a:xfrm>
            <a:off x="58320" y="242172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Метал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кругленный прямоугольник 28"/>
          <p:cNvSpPr/>
          <p:nvPr/>
        </p:nvSpPr>
        <p:spPr>
          <a:xfrm>
            <a:off x="969840" y="331452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Неметал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Соединительная линия уступом 2"/>
          <p:cNvCxnSpPr>
            <a:stCxn id="158" idx="2"/>
            <a:endCxn id="159" idx="0"/>
          </p:cNvCxnSpPr>
          <p:nvPr/>
        </p:nvCxnSpPr>
        <p:spPr>
          <a:xfrm flipV="1" rot="10800000">
            <a:off x="859320" y="2103480"/>
            <a:ext cx="419760" cy="3186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162" name="Соединительная линия уступом 29"/>
          <p:cNvCxnSpPr>
            <a:stCxn id="158" idx="2"/>
            <a:endCxn id="160" idx="0"/>
          </p:cNvCxnSpPr>
          <p:nvPr/>
        </p:nvCxnSpPr>
        <p:spPr>
          <a:xfrm>
            <a:off x="1279080" y="2103480"/>
            <a:ext cx="492120" cy="121104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sp>
        <p:nvSpPr>
          <p:cNvPr id="163" name="Скругленный прямоугольник 31"/>
          <p:cNvSpPr/>
          <p:nvPr/>
        </p:nvSpPr>
        <p:spPr>
          <a:xfrm>
            <a:off x="2532600" y="131760"/>
            <a:ext cx="2529360" cy="60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32"/>
          <p:cNvSpPr/>
          <p:nvPr/>
        </p:nvSpPr>
        <p:spPr>
          <a:xfrm>
            <a:off x="5570640" y="131760"/>
            <a:ext cx="2529360" cy="60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Book Antiqua"/>
              </a:rPr>
              <a:t>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Соединительная линия уступом 34"/>
          <p:cNvCxnSpPr>
            <a:stCxn id="163" idx="2"/>
            <a:endCxn id="158" idx="0"/>
          </p:cNvCxnSpPr>
          <p:nvPr/>
        </p:nvCxnSpPr>
        <p:spPr>
          <a:xfrm flipV="1" rot="10800000">
            <a:off x="1278720" y="735480"/>
            <a:ext cx="2518560" cy="3960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166" name="Соединительная линия уступом 35"/>
          <p:cNvCxnSpPr>
            <a:stCxn id="163" idx="2"/>
            <a:endCxn id="143" idx="0"/>
          </p:cNvCxnSpPr>
          <p:nvPr/>
        </p:nvCxnSpPr>
        <p:spPr>
          <a:xfrm>
            <a:off x="3797280" y="735840"/>
            <a:ext cx="2015280" cy="3960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167" name="Прямая соединительная линия 39"/>
          <p:cNvCxnSpPr>
            <a:stCxn id="163" idx="3"/>
            <a:endCxn id="164" idx="1"/>
          </p:cNvCxnSpPr>
          <p:nvPr/>
        </p:nvCxnSpPr>
        <p:spPr>
          <a:xfrm>
            <a:off x="5062320" y="433800"/>
            <a:ext cx="508320" cy="360"/>
          </a:xfrm>
          <a:prstGeom prst="straightConnector1">
            <a:avLst/>
          </a:prstGeom>
          <a:ln>
            <a:solidFill>
              <a:srgbClr val="be4b48"/>
            </a:solidFill>
            <a:round/>
          </a:ln>
        </p:spPr>
      </p:cxnSp>
      <p:sp>
        <p:nvSpPr>
          <p:cNvPr id="168" name="Стрелка вправо 4"/>
          <p:cNvSpPr/>
          <p:nvPr/>
        </p:nvSpPr>
        <p:spPr>
          <a:xfrm rot="20700000">
            <a:off x="7191720" y="3247560"/>
            <a:ext cx="662760" cy="535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1e1e1"/>
          </a:solidFill>
          <a:ln>
            <a:solidFill>
              <a:srgbClr val="b73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Полилиния 5"/>
          <p:cNvSpPr/>
          <p:nvPr/>
        </p:nvSpPr>
        <p:spPr>
          <a:xfrm>
            <a:off x="9252360" y="712800"/>
            <a:ext cx="2481480" cy="837360"/>
          </a:xfrm>
          <a:custGeom>
            <a:avLst/>
            <a:gdLst>
              <a:gd name="textAreaLeft" fmla="*/ 0 w 2481480"/>
              <a:gd name="textAreaRight" fmla="*/ 2481840 w 2481480"/>
              <a:gd name="textAreaTop" fmla="*/ 0 h 837360"/>
              <a:gd name="textAreaBottom" fmla="*/ 837720 h 837360"/>
            </a:gdLst>
            <a:ahLst/>
            <a:rect l="textAreaLeft" t="textAreaTop" r="textAreaRight" b="textAreaBottom"/>
            <a:pathLst>
              <a:path w="2481943" h="837559">
                <a:moveTo>
                  <a:pt x="0" y="0"/>
                </a:moveTo>
                <a:lnTo>
                  <a:pt x="1390810" y="499462"/>
                </a:lnTo>
                <a:cubicBezTo>
                  <a:pt x="1804467" y="639055"/>
                  <a:pt x="2143205" y="738307"/>
                  <a:pt x="2481943" y="837559"/>
                </a:cubicBezTo>
              </a:path>
            </a:pathLst>
          </a:custGeom>
          <a:noFill/>
          <a:ln w="57150">
            <a:solidFill>
              <a:srgbClr val="b73936"/>
            </a:solidFill>
            <a:prstDash val="lg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Полилиния 1"/>
          <p:cNvSpPr/>
          <p:nvPr/>
        </p:nvSpPr>
        <p:spPr>
          <a:xfrm>
            <a:off x="2912400" y="3279960"/>
            <a:ext cx="4201200" cy="875520"/>
          </a:xfrm>
          <a:custGeom>
            <a:avLst/>
            <a:gdLst>
              <a:gd name="textAreaLeft" fmla="*/ 0 w 4201200"/>
              <a:gd name="textAreaRight" fmla="*/ 4201560 w 4201200"/>
              <a:gd name="textAreaTop" fmla="*/ 0 h 875520"/>
              <a:gd name="textAreaBottom" fmla="*/ 875880 h 875520"/>
            </a:gdLst>
            <a:ahLst/>
            <a:rect l="textAreaLeft" t="textAreaTop" r="textAreaRight" b="textAreaBottom"/>
            <a:pathLst>
              <a:path w="4201487" h="875980">
                <a:moveTo>
                  <a:pt x="3611496" y="0"/>
                </a:moveTo>
                <a:cubicBezTo>
                  <a:pt x="4062292" y="180574"/>
                  <a:pt x="4513089" y="361149"/>
                  <a:pt x="3911173" y="507146"/>
                </a:cubicBezTo>
                <a:cubicBezTo>
                  <a:pt x="3309257" y="653143"/>
                  <a:pt x="1654628" y="764561"/>
                  <a:pt x="0" y="875980"/>
                </a:cubicBezTo>
              </a:path>
            </a:pathLst>
          </a:custGeom>
          <a:noFill/>
          <a:ln w="57150">
            <a:solidFill>
              <a:srgbClr val="b73936"/>
            </a:solidFill>
            <a:prstDash val="lg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Скругленный прямоугольник 6"/>
          <p:cNvSpPr/>
          <p:nvPr/>
        </p:nvSpPr>
        <p:spPr>
          <a:xfrm>
            <a:off x="4547160" y="1131480"/>
            <a:ext cx="2529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Сложные 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кругленный прямоугольник 7"/>
          <p:cNvSpPr/>
          <p:nvPr/>
        </p:nvSpPr>
        <p:spPr>
          <a:xfrm>
            <a:off x="2410560" y="264384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8"/>
          <p:cNvSpPr/>
          <p:nvPr/>
        </p:nvSpPr>
        <p:spPr>
          <a:xfrm>
            <a:off x="4213800" y="2653560"/>
            <a:ext cx="1529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9"/>
          <p:cNvSpPr/>
          <p:nvPr/>
        </p:nvSpPr>
        <p:spPr>
          <a:xfrm>
            <a:off x="5879880" y="2643840"/>
            <a:ext cx="13820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10"/>
          <p:cNvSpPr/>
          <p:nvPr/>
        </p:nvSpPr>
        <p:spPr>
          <a:xfrm>
            <a:off x="7490880" y="2643840"/>
            <a:ext cx="16171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Соединительная линия уступом 11"/>
          <p:cNvCxnSpPr>
            <a:stCxn id="171" idx="2"/>
            <a:endCxn id="172" idx="0"/>
          </p:cNvCxnSpPr>
          <p:nvPr/>
        </p:nvCxnSpPr>
        <p:spPr>
          <a:xfrm flipV="1" rot="10800000">
            <a:off x="3211560" y="2103480"/>
            <a:ext cx="2601000" cy="54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77" name="Соединительная линия уступом 13"/>
          <p:cNvCxnSpPr>
            <a:stCxn id="171" idx="2"/>
            <a:endCxn id="173" idx="0"/>
          </p:cNvCxnSpPr>
          <p:nvPr/>
        </p:nvCxnSpPr>
        <p:spPr>
          <a:xfrm flipV="1" rot="10800000">
            <a:off x="4978440" y="2103480"/>
            <a:ext cx="834120" cy="55044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78" name="Соединительная линия уступом 14"/>
          <p:cNvCxnSpPr>
            <a:endCxn id="174" idx="0"/>
          </p:cNvCxnSpPr>
          <p:nvPr/>
        </p:nvCxnSpPr>
        <p:spPr>
          <a:xfrm>
            <a:off x="5708160" y="2373480"/>
            <a:ext cx="86328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79" name="Соединительная линия уступом 15"/>
          <p:cNvCxnSpPr>
            <a:endCxn id="175" idx="0"/>
          </p:cNvCxnSpPr>
          <p:nvPr/>
        </p:nvCxnSpPr>
        <p:spPr>
          <a:xfrm>
            <a:off x="5708160" y="2373480"/>
            <a:ext cx="259164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sp>
        <p:nvSpPr>
          <p:cNvPr id="180" name="Скругленный прямоугольник 17"/>
          <p:cNvSpPr/>
          <p:nvPr/>
        </p:nvSpPr>
        <p:spPr>
          <a:xfrm>
            <a:off x="2219040" y="4163760"/>
            <a:ext cx="1403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сн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21"/>
          <p:cNvSpPr/>
          <p:nvPr/>
        </p:nvSpPr>
        <p:spPr>
          <a:xfrm>
            <a:off x="4290480" y="4173480"/>
            <a:ext cx="17956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Амфоте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22"/>
          <p:cNvSpPr/>
          <p:nvPr/>
        </p:nvSpPr>
        <p:spPr>
          <a:xfrm>
            <a:off x="6996600" y="4163760"/>
            <a:ext cx="1484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Кисл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Соединительная линия уступом 23"/>
          <p:cNvCxnSpPr>
            <a:endCxn id="180" idx="0"/>
          </p:cNvCxnSpPr>
          <p:nvPr/>
        </p:nvCxnSpPr>
        <p:spPr>
          <a:xfrm flipV="1" rot="10800000">
            <a:off x="2920680" y="3291480"/>
            <a:ext cx="290880" cy="87228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84" name="Соединительная линия уступом 24"/>
          <p:cNvCxnSpPr/>
          <p:nvPr/>
        </p:nvCxnSpPr>
        <p:spPr>
          <a:xfrm>
            <a:off x="3400560" y="3717720"/>
            <a:ext cx="1778760" cy="45612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185" name="Соединительная линия уступом 25"/>
          <p:cNvCxnSpPr>
            <a:endCxn id="182" idx="0"/>
          </p:cNvCxnSpPr>
          <p:nvPr/>
        </p:nvCxnSpPr>
        <p:spPr>
          <a:xfrm>
            <a:off x="3211560" y="3291480"/>
            <a:ext cx="4527720" cy="87228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sp>
        <p:nvSpPr>
          <p:cNvPr id="186" name="Скругленный прямоугольник 26"/>
          <p:cNvSpPr/>
          <p:nvPr/>
        </p:nvSpPr>
        <p:spPr>
          <a:xfrm>
            <a:off x="14400" y="1131480"/>
            <a:ext cx="2529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Простые 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27"/>
          <p:cNvSpPr/>
          <p:nvPr/>
        </p:nvSpPr>
        <p:spPr>
          <a:xfrm>
            <a:off x="58320" y="242172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Метал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28"/>
          <p:cNvSpPr/>
          <p:nvPr/>
        </p:nvSpPr>
        <p:spPr>
          <a:xfrm>
            <a:off x="969840" y="331452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Неметал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Соединительная линия уступом 2"/>
          <p:cNvCxnSpPr>
            <a:stCxn id="186" idx="2"/>
            <a:endCxn id="187" idx="0"/>
          </p:cNvCxnSpPr>
          <p:nvPr/>
        </p:nvCxnSpPr>
        <p:spPr>
          <a:xfrm flipV="1" rot="10800000">
            <a:off x="859320" y="2103480"/>
            <a:ext cx="419760" cy="3186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190" name="Соединительная линия уступом 29"/>
          <p:cNvCxnSpPr>
            <a:stCxn id="186" idx="2"/>
            <a:endCxn id="188" idx="0"/>
          </p:cNvCxnSpPr>
          <p:nvPr/>
        </p:nvCxnSpPr>
        <p:spPr>
          <a:xfrm>
            <a:off x="1279080" y="2103480"/>
            <a:ext cx="492120" cy="121104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sp>
        <p:nvSpPr>
          <p:cNvPr id="191" name="Скругленный прямоугольник 31"/>
          <p:cNvSpPr/>
          <p:nvPr/>
        </p:nvSpPr>
        <p:spPr>
          <a:xfrm>
            <a:off x="2532600" y="131760"/>
            <a:ext cx="2529360" cy="60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32"/>
          <p:cNvSpPr/>
          <p:nvPr/>
        </p:nvSpPr>
        <p:spPr>
          <a:xfrm>
            <a:off x="5570640" y="131760"/>
            <a:ext cx="2529360" cy="60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Book Antiqua"/>
              </a:rPr>
              <a:t>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Соединительная линия уступом 34"/>
          <p:cNvCxnSpPr>
            <a:stCxn id="191" idx="2"/>
            <a:endCxn id="186" idx="0"/>
          </p:cNvCxnSpPr>
          <p:nvPr/>
        </p:nvCxnSpPr>
        <p:spPr>
          <a:xfrm flipV="1" rot="10800000">
            <a:off x="1278720" y="735480"/>
            <a:ext cx="2518560" cy="3960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194" name="Соединительная линия уступом 35"/>
          <p:cNvCxnSpPr>
            <a:stCxn id="191" idx="2"/>
            <a:endCxn id="171" idx="0"/>
          </p:cNvCxnSpPr>
          <p:nvPr/>
        </p:nvCxnSpPr>
        <p:spPr>
          <a:xfrm>
            <a:off x="3797280" y="735840"/>
            <a:ext cx="2015280" cy="39600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triangle" w="med"/>
          </a:ln>
        </p:spPr>
      </p:cxnSp>
      <p:cxnSp>
        <p:nvCxnSpPr>
          <p:cNvPr id="195" name="Прямая соединительная линия 39"/>
          <p:cNvCxnSpPr>
            <a:stCxn id="191" idx="3"/>
            <a:endCxn id="192" idx="1"/>
          </p:cNvCxnSpPr>
          <p:nvPr/>
        </p:nvCxnSpPr>
        <p:spPr>
          <a:xfrm>
            <a:off x="5062320" y="433800"/>
            <a:ext cx="508320" cy="360"/>
          </a:xfrm>
          <a:prstGeom prst="straightConnector1">
            <a:avLst/>
          </a:prstGeom>
          <a:ln>
            <a:solidFill>
              <a:srgbClr val="be4b48"/>
            </a:solidFill>
            <a:round/>
          </a:ln>
        </p:spPr>
      </p:cxnSp>
      <p:sp>
        <p:nvSpPr>
          <p:cNvPr id="196" name="Стрелка вправо 4"/>
          <p:cNvSpPr/>
          <p:nvPr/>
        </p:nvSpPr>
        <p:spPr>
          <a:xfrm rot="20700000">
            <a:off x="7191720" y="3247560"/>
            <a:ext cx="662760" cy="535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1e1e1"/>
          </a:solidFill>
          <a:ln>
            <a:solidFill>
              <a:srgbClr val="b73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7" name="Полилиния 5"/>
          <p:cNvSpPr/>
          <p:nvPr/>
        </p:nvSpPr>
        <p:spPr>
          <a:xfrm>
            <a:off x="9252360" y="712800"/>
            <a:ext cx="2481480" cy="837360"/>
          </a:xfrm>
          <a:custGeom>
            <a:avLst/>
            <a:gdLst>
              <a:gd name="textAreaLeft" fmla="*/ 0 w 2481480"/>
              <a:gd name="textAreaRight" fmla="*/ 2481840 w 2481480"/>
              <a:gd name="textAreaTop" fmla="*/ 0 h 837360"/>
              <a:gd name="textAreaBottom" fmla="*/ 837720 h 837360"/>
            </a:gdLst>
            <a:ahLst/>
            <a:rect l="textAreaLeft" t="textAreaTop" r="textAreaRight" b="textAreaBottom"/>
            <a:pathLst>
              <a:path w="2481943" h="837559">
                <a:moveTo>
                  <a:pt x="0" y="0"/>
                </a:moveTo>
                <a:lnTo>
                  <a:pt x="1390810" y="499462"/>
                </a:lnTo>
                <a:cubicBezTo>
                  <a:pt x="1804467" y="639055"/>
                  <a:pt x="2143205" y="738307"/>
                  <a:pt x="2481943" y="837559"/>
                </a:cubicBezTo>
              </a:path>
            </a:pathLst>
          </a:custGeom>
          <a:noFill/>
          <a:ln w="57150">
            <a:solidFill>
              <a:srgbClr val="b73936"/>
            </a:solidFill>
            <a:prstDash val="lg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8" name="Полилиния 12"/>
          <p:cNvSpPr/>
          <p:nvPr/>
        </p:nvSpPr>
        <p:spPr>
          <a:xfrm>
            <a:off x="4515480" y="3311640"/>
            <a:ext cx="2548440" cy="411840"/>
          </a:xfrm>
          <a:custGeom>
            <a:avLst/>
            <a:gdLst>
              <a:gd name="textAreaLeft" fmla="*/ 0 w 2548440"/>
              <a:gd name="textAreaRight" fmla="*/ 2548800 w 2548440"/>
              <a:gd name="textAreaTop" fmla="*/ 0 h 411840"/>
              <a:gd name="textAreaBottom" fmla="*/ 412200 h 411840"/>
            </a:gdLst>
            <a:ahLst/>
            <a:rect l="textAreaLeft" t="textAreaTop" r="textAreaRight" b="textAreaBottom"/>
            <a:pathLst>
              <a:path w="2548834" h="412029">
                <a:moveTo>
                  <a:pt x="2046594" y="0"/>
                </a:moveTo>
                <a:cubicBezTo>
                  <a:pt x="2394296" y="128708"/>
                  <a:pt x="2741998" y="257416"/>
                  <a:pt x="2423111" y="322730"/>
                </a:cubicBezTo>
                <a:cubicBezTo>
                  <a:pt x="2104224" y="388044"/>
                  <a:pt x="458560" y="443113"/>
                  <a:pt x="133269" y="391886"/>
                </a:cubicBezTo>
                <a:cubicBezTo>
                  <a:pt x="-192022" y="340659"/>
                  <a:pt x="139672" y="178014"/>
                  <a:pt x="471367" y="15369"/>
                </a:cubicBezTo>
              </a:path>
            </a:pathLst>
          </a:custGeom>
          <a:noFill/>
          <a:ln w="57150">
            <a:solidFill>
              <a:srgbClr val="b73936"/>
            </a:solidFill>
            <a:prstDash val="lg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4"/>
          <p:cNvSpPr/>
          <p:nvPr/>
        </p:nvSpPr>
        <p:spPr>
          <a:xfrm>
            <a:off x="2059920" y="69192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ru-RU" sz="13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6"/>
          <p:cNvSpPr/>
          <p:nvPr/>
        </p:nvSpPr>
        <p:spPr>
          <a:xfrm>
            <a:off x="0" y="690120"/>
            <a:ext cx="91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 Nova Cond Light"/>
              </a:rPr>
              <a:t>Существует 4 класса, на которые можно поделить большинство неорганических соеди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Прямая соединительная линия 18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02" name="TextBox 19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лассы неорган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http://sch2101.mskobr.ru/images/cms/thumbs/1f1204c38f5d7f50f0ab6bcf597ef97666ee60e8/1435753174ogo_color_400x300_png_250_135.png"/>
          <p:cNvPicPr/>
          <p:nvPr/>
        </p:nvPicPr>
        <p:blipFill>
          <a:blip r:embed="rId1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  <p:sp>
        <p:nvSpPr>
          <p:cNvPr id="204" name="Скругленный прямоугольник 6"/>
          <p:cNvSpPr/>
          <p:nvPr/>
        </p:nvSpPr>
        <p:spPr>
          <a:xfrm>
            <a:off x="3708000" y="1131480"/>
            <a:ext cx="2529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Book Antiqua"/>
              </a:rPr>
              <a:t>Сложные неорганически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7"/>
          <p:cNvSpPr/>
          <p:nvPr/>
        </p:nvSpPr>
        <p:spPr>
          <a:xfrm>
            <a:off x="1571040" y="2643840"/>
            <a:ext cx="160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8"/>
          <p:cNvSpPr/>
          <p:nvPr/>
        </p:nvSpPr>
        <p:spPr>
          <a:xfrm>
            <a:off x="3258360" y="2643840"/>
            <a:ext cx="1529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Book Antiqua"/>
              </a:rPr>
              <a:t>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9"/>
          <p:cNvSpPr/>
          <p:nvPr/>
        </p:nvSpPr>
        <p:spPr>
          <a:xfrm>
            <a:off x="5040720" y="2643840"/>
            <a:ext cx="13820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Book Antiqua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10"/>
          <p:cNvSpPr/>
          <p:nvPr/>
        </p:nvSpPr>
        <p:spPr>
          <a:xfrm>
            <a:off x="6651720" y="2643840"/>
            <a:ext cx="16171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Book Antiqua"/>
              </a:rPr>
              <a:t>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Соединительная линия уступом 11"/>
          <p:cNvCxnSpPr>
            <a:stCxn id="204" idx="2"/>
            <a:endCxn id="205" idx="0"/>
          </p:cNvCxnSpPr>
          <p:nvPr/>
        </p:nvCxnSpPr>
        <p:spPr>
          <a:xfrm flipV="1" rot="10800000">
            <a:off x="2372040" y="2103480"/>
            <a:ext cx="2600640" cy="54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210" name="Соединительная линия уступом 13"/>
          <p:cNvCxnSpPr>
            <a:stCxn id="204" idx="2"/>
            <a:endCxn id="206" idx="0"/>
          </p:cNvCxnSpPr>
          <p:nvPr/>
        </p:nvCxnSpPr>
        <p:spPr>
          <a:xfrm flipV="1" rot="10800000">
            <a:off x="4023000" y="2103480"/>
            <a:ext cx="950040" cy="54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211" name="Соединительная линия уступом 14"/>
          <p:cNvCxnSpPr>
            <a:endCxn id="207" idx="0"/>
          </p:cNvCxnSpPr>
          <p:nvPr/>
        </p:nvCxnSpPr>
        <p:spPr>
          <a:xfrm>
            <a:off x="4869000" y="2373480"/>
            <a:ext cx="86292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212" name="Соединительная линия уступом 15"/>
          <p:cNvCxnSpPr>
            <a:endCxn id="208" idx="0"/>
          </p:cNvCxnSpPr>
          <p:nvPr/>
        </p:nvCxnSpPr>
        <p:spPr>
          <a:xfrm>
            <a:off x="4869000" y="2373480"/>
            <a:ext cx="2591640" cy="27036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sp>
        <p:nvSpPr>
          <p:cNvPr id="213" name="Скругленный прямоугольник 17"/>
          <p:cNvSpPr/>
          <p:nvPr/>
        </p:nvSpPr>
        <p:spPr>
          <a:xfrm>
            <a:off x="1115640" y="4163760"/>
            <a:ext cx="1403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Осн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21"/>
          <p:cNvSpPr/>
          <p:nvPr/>
        </p:nvSpPr>
        <p:spPr>
          <a:xfrm>
            <a:off x="3451320" y="4173480"/>
            <a:ext cx="17956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Амфоте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22"/>
          <p:cNvSpPr/>
          <p:nvPr/>
        </p:nvSpPr>
        <p:spPr>
          <a:xfrm>
            <a:off x="6157080" y="4163760"/>
            <a:ext cx="1484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Book Antiqua"/>
              </a:rPr>
              <a:t>Кисл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Соединительная линия уступом 23"/>
          <p:cNvCxnSpPr>
            <a:endCxn id="213" idx="0"/>
          </p:cNvCxnSpPr>
          <p:nvPr/>
        </p:nvCxnSpPr>
        <p:spPr>
          <a:xfrm flipV="1" rot="10800000">
            <a:off x="1817280" y="3291480"/>
            <a:ext cx="555120" cy="87228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217" name="Соединительная линия уступом 24"/>
          <p:cNvCxnSpPr/>
          <p:nvPr/>
        </p:nvCxnSpPr>
        <p:spPr>
          <a:xfrm>
            <a:off x="2561040" y="3717720"/>
            <a:ext cx="1778760" cy="45612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  <p:cxnSp>
        <p:nvCxnSpPr>
          <p:cNvPr id="218" name="Соединительная линия уступом 25"/>
          <p:cNvCxnSpPr>
            <a:endCxn id="215" idx="0"/>
          </p:cNvCxnSpPr>
          <p:nvPr/>
        </p:nvCxnSpPr>
        <p:spPr>
          <a:xfrm>
            <a:off x="2372400" y="3291480"/>
            <a:ext cx="4527360" cy="872280"/>
          </a:xfrm>
          <a:prstGeom prst="bentConnector2">
            <a:avLst/>
          </a:prstGeom>
          <a:ln>
            <a:solidFill>
              <a:srgbClr val="be4b48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24" descr="Вырезка экрана"/>
          <p:cNvPicPr/>
          <p:nvPr/>
        </p:nvPicPr>
        <p:blipFill>
          <a:blip r:embed="rId1"/>
          <a:stretch/>
        </p:blipFill>
        <p:spPr>
          <a:xfrm>
            <a:off x="5652000" y="3273840"/>
            <a:ext cx="1710720" cy="1407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https://www.quia.com/files/quia/users/lmcgee/chemistry/Calcium_hydroxide_structure.jpg"/>
          <p:cNvPicPr/>
          <p:nvPr/>
        </p:nvPicPr>
        <p:blipFill>
          <a:blip r:embed="rId2"/>
          <a:stretch/>
        </p:blipFill>
        <p:spPr>
          <a:xfrm>
            <a:off x="3438000" y="1914480"/>
            <a:ext cx="1707120" cy="1506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http://www.aelek.ru/images/MedicalEquipment/ShopbyIndustry/PharmaceuticalIndustryProducts/AGROS23255.jpg"/>
          <p:cNvPicPr/>
          <p:nvPr/>
        </p:nvPicPr>
        <p:blipFill>
          <a:blip r:embed="rId3"/>
          <a:stretch/>
        </p:blipFill>
        <p:spPr>
          <a:xfrm>
            <a:off x="1374120" y="577440"/>
            <a:ext cx="2226240" cy="131292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13"/>
          <p:cNvSpPr/>
          <p:nvPr/>
        </p:nvSpPr>
        <p:spPr>
          <a:xfrm>
            <a:off x="1488240" y="1059480"/>
            <a:ext cx="571320" cy="593640"/>
          </a:xfrm>
          <a:prstGeom prst="rect">
            <a:avLst/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000" spc="-1" strike="noStrike">
                <a:solidFill>
                  <a:schemeClr val="lt1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0"/>
          <p:cNvSpPr/>
          <p:nvPr/>
        </p:nvSpPr>
        <p:spPr>
          <a:xfrm>
            <a:off x="4032000" y="2841840"/>
            <a:ext cx="571320" cy="593640"/>
          </a:xfrm>
          <a:prstGeom prst="rect">
            <a:avLst/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000" spc="-1" strike="noStrike">
                <a:solidFill>
                  <a:schemeClr val="lt1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1"/>
          <p:cNvSpPr/>
          <p:nvPr/>
        </p:nvSpPr>
        <p:spPr>
          <a:xfrm>
            <a:off x="6230520" y="3843000"/>
            <a:ext cx="285480" cy="402480"/>
          </a:xfrm>
          <a:prstGeom prst="rect">
            <a:avLst/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000" spc="-1" strike="noStrike">
                <a:solidFill>
                  <a:schemeClr val="lt1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Прямая соединительная линия 18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26" name="TextBox 19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http://sch2101.mskobr.ru/images/cms/thumbs/1f1204c38f5d7f50f0ab6bcf597ef97666ee60e8/1435753174ogo_color_400x300_png_250_135.png"/>
          <p:cNvPicPr/>
          <p:nvPr/>
        </p:nvPicPr>
        <p:blipFill>
          <a:blip r:embed="rId4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1143000" y="577440"/>
            <a:ext cx="683496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aO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u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NaO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a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u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a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+ KO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Прямая соединительная линия 12"/>
          <p:cNvCxnSpPr/>
          <p:nvPr/>
        </p:nvCxnSpPr>
        <p:spPr>
          <a:xfrm flipH="1">
            <a:off x="-1332360" y="538560"/>
            <a:ext cx="10585080" cy="360"/>
          </a:xfrm>
          <a:prstGeom prst="straightConnector1">
            <a:avLst/>
          </a:prstGeom>
          <a:ln w="28575">
            <a:solidFill>
              <a:srgbClr val="c00000"/>
            </a:solidFill>
            <a:round/>
          </a:ln>
        </p:spPr>
      </p:cxnSp>
      <p:sp>
        <p:nvSpPr>
          <p:cNvPr id="230" name="TextBox 13"/>
          <p:cNvSpPr/>
          <p:nvPr/>
        </p:nvSpPr>
        <p:spPr>
          <a:xfrm>
            <a:off x="0" y="34560"/>
            <a:ext cx="91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http://sch2101.mskobr.ru/images/cms/thumbs/1f1204c38f5d7f50f0ab6bcf597ef97666ee60e8/1435753174ogo_color_400x300_png_250_135.png"/>
          <p:cNvPicPr/>
          <p:nvPr/>
        </p:nvPicPr>
        <p:blipFill>
          <a:blip r:embed="rId1"/>
          <a:srcRect l="32164" t="0" r="42779" b="59647"/>
          <a:stretch/>
        </p:blipFill>
        <p:spPr>
          <a:xfrm>
            <a:off x="8566920" y="-16920"/>
            <a:ext cx="5439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4</TotalTime>
  <Application>LibreOffice/7.4.7.2$Linux_X86_64 LibreOffice_project/40$Build-2</Application>
  <AppVersion>15.0000</AppVersion>
  <Words>823</Words>
  <Paragraphs>2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14:09:31Z</dcterms:created>
  <dc:creator>Masha</dc:creator>
  <dc:description/>
  <dc:language>en-US</dc:language>
  <cp:lastModifiedBy>Смирнова Мария Дмитриевна</cp:lastModifiedBy>
  <dcterms:modified xsi:type="dcterms:W3CDTF">2019-03-06T04:33:22Z</dcterms:modified>
  <cp:revision>33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6</vt:r8>
  </property>
  <property fmtid="{D5CDD505-2E9C-101B-9397-08002B2CF9AE}" pid="3" name="Notes">
    <vt:r8>23</vt:r8>
  </property>
  <property fmtid="{D5CDD505-2E9C-101B-9397-08002B2CF9AE}" pid="4" name="PresentationFormat">
    <vt:lpwstr>Экран (16:9)</vt:lpwstr>
  </property>
  <property fmtid="{D5CDD505-2E9C-101B-9397-08002B2CF9AE}" pid="5" name="Slides">
    <vt:r8>24</vt:r8>
  </property>
</Properties>
</file>