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46D-B185-4F58-83E6-818088B7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54C-7206-4EC8-9828-B99C880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A57-604B-48C9-8CFE-CBABE275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822-B76E-4B12-B48A-53AEF5D1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46BF-4F3E-4723-819E-4133D6F1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2E9-5B74-4C99-8994-6E4CB32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5819-7F75-4CC6-9AE6-61348300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C67F-EF49-4091-A374-AD0A4AC8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A8A9-10E5-4583-938E-DD3970E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F836-1580-4EAB-9F56-6C10AB0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642C-BCE8-4876-95FE-F6775B0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9A1-CC5A-44A2-8FA4-21609654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8E0-A09F-4F29-8A31-26B1979C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C66-AE6A-46EF-AF1E-A38F306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AE25-F74C-4B6E-B3EA-47ADA5A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0C3-643C-4334-AC9C-CD0041F2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7093-1BEB-4C54-A2CA-EC673F18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F79-89D2-4502-B349-85512F61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A67-F703-45B9-814E-75A66FA2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87E-3B16-4748-948D-0F0ACF5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DCD-7013-49A3-897A-59D7443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63C-F9D5-4672-B1C0-4A8EB68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E37-A4F5-4F5D-84BF-6A8B944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C9B-6200-4E4F-BA69-18886CF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9A162C-DE25-4BC3-831F-47097F35576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2FAE85-DB89-4F2D-BB5E-8C4C948501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502920"/>
            <a:ext cx="1204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, науки и молодежной политики  Нижегородской области Государственное бюджетное профессиональное образовательное учреждение «Нижегородский Губер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тему: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исциплине: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сть 38.02.03 Операционная деятельность в логи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ка 31 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К.А Кондра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28480" y="259200"/>
            <a:ext cx="10372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are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The number of jobs in many accounting fields is growing. Increasingly sophisticated management techniques demand information that can be provided most efficiently by accoun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6520" y="5891760"/>
            <a:ext cx="5858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A</a:t>
            </a:r>
            <a:r>
              <a:rPr b="1" lang="en-US" sz="1800" spc="299" strike="noStrike">
                <a:solidFill>
                  <a:srgbClr val="5a86f6"/>
                </a:solidFill>
                <a:latin typeface="Calibri"/>
              </a:rPr>
              <a:t> </a:t>
            </a: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ollege education with a major in accounting is good preparation for an account-ing car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145480" y="1602360"/>
            <a:ext cx="561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Times New Roman"/>
              </a:rPr>
              <a:t>Most accountants work for business companies or government agencies. Some have jobs with foundations, hospitals, labor unions, universities, or other nonprofit organiz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0" y="1790640"/>
            <a:ext cx="50410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5d11"/>
                </a:solidFill>
                <a:latin typeface="Times New Roman"/>
              </a:rPr>
              <a:t>Accounting is the system that measures business activities, processes that infor-mation into reports, and communicates these findings to decision ma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306000" y="262440"/>
            <a:ext cx="666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fbc5d"/>
                </a:solidFill>
                <a:latin typeface="Times New Roman"/>
              </a:rPr>
              <a:t>The basic concepts of accounting as we understand them today were first published in Italy in 1494 by Luca Pacioli (1445 - 1517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324400" y="9720"/>
            <a:ext cx="6610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Times New Roman"/>
              </a:rPr>
              <a:t>Bookkeeping is a small but important part of accounting. It involves recording financial transactions and keeping other financial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 rot="20323200">
            <a:off x="6386040" y="4155120"/>
            <a:ext cx="60508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unting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rmation relating to the financial position of a company, mainly about assets and liabilities, is presented in a balance 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478840" y="372600"/>
            <a:ext cx="3844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5d11"/>
                </a:solidFill>
                <a:latin typeface="Times New Roman"/>
              </a:rPr>
              <a:t>Field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исунок 2"/>
          <p:cNvSpPr/>
          <p:nvPr/>
        </p:nvSpPr>
        <p:spPr>
          <a:xfrm>
            <a:off x="4325040" y="1132200"/>
            <a:ext cx="6150960" cy="77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ed7d31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"/>
          <p:cNvSpPr/>
          <p:nvPr/>
        </p:nvSpPr>
        <p:spPr>
          <a:xfrm>
            <a:off x="2840040" y="833040"/>
            <a:ext cx="5656320" cy="912600"/>
          </a:xfrm>
          <a:prstGeom prst="rect">
            <a:avLst/>
          </a:prstGeom>
          <a:solidFill>
            <a:srgbClr val="ffffff"/>
          </a:solidFill>
          <a:ln>
            <a:solidFill>
              <a:srgbClr val="ed7d31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agement accoun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managers plan and control a company's operations. Accountants prepare budgets to express management's goals in financial te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 rot="20041800">
            <a:off x="2500920" y="2099880"/>
            <a:ext cx="5061240" cy="912600"/>
          </a:xfrm>
          <a:prstGeom prst="rect">
            <a:avLst/>
          </a:prstGeom>
          <a:noFill/>
          <a:ln w="0">
            <a:solidFill>
              <a:srgbClr val="000000">
                <a:lumMod val="95000"/>
                <a:lumOff val="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x accoun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preparing tax returns for organizations or individuals and determining the taxes involved in proposed business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04440" y="33012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diting involves the examination of an organization's financial statements an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  <Words>267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17:48:10Z</dcterms:created>
  <dc:creator>Ксения Кондратьева</dc:creator>
  <dc:description/>
  <dc:language>en-US</dc:language>
  <cp:lastModifiedBy>QWE</cp:lastModifiedBy>
  <dcterms:modified xsi:type="dcterms:W3CDTF">2019-03-16T18:04:0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