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CA6-7AAF-492D-92B8-D408577F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D7D-FE94-4ABA-A03D-FCA946E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D45-1635-4326-9BC0-45476801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934-F605-4743-8C27-4CA90A3C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393A-FAE9-4380-AD28-2FD3E6D7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1824-ED71-46B5-A1A7-135F361F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A3F9-E1A3-4893-BBD3-AF4F171D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1BF0-D1FF-4064-A9E5-17B3FE9D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14ED-811D-48AF-B899-32F7C26C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301D-23C2-4540-A99E-B7465DC0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82B5-9472-498C-A70F-49F9507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572-27B0-437F-B8AF-4FAEAAEA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2DA7-D8E7-46B9-A9E3-F8B6EF96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0531-83CB-4C35-9FB0-B28BC87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9177-9AF4-4E36-A3B6-13CCCAAA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96BD-8CA6-46F1-85C0-FE93D063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B51C-B966-47FD-A8A0-C0974215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E4F-9173-40AE-B5AA-4DB30F7B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DEB-E916-4849-9D20-199D3CB2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54E-9100-4BFC-A5A7-FC7D707A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523-4127-429D-8255-70CAFF89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83F-C8DD-42A5-94D7-AD51A8B2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40C-257C-4C15-B5C2-11B835D1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18A-2BE7-4EE2-A876-B34D482C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951933-BC9B-4C7B-9B57-104568B7B78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DBA290-B14A-4772-9E96-E959F83D8D2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0" y="502920"/>
            <a:ext cx="1204416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, науки и молодежной политики  Нижегородской области Государственное бюджетное профессиональное образовательное учреждение «Нижегородский Губерн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тему: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дисциплине: Иностра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ость 38.02.03 Операционная деятельность в логис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ка 31 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К.А Кондра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528480" y="259200"/>
            <a:ext cx="10372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Care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The number of jobs in many accounting fields is growing. Increasingly sophisticated management techniques demand information that can be provided most efficiently by accounta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56520" y="5891760"/>
            <a:ext cx="5858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A</a:t>
            </a:r>
            <a:r>
              <a:rPr b="1" lang="en-US" sz="1800" spc="299" strike="noStrike">
                <a:solidFill>
                  <a:srgbClr val="5a86f6"/>
                </a:solidFill>
                <a:latin typeface="Calibri"/>
              </a:rPr>
              <a:t> </a:t>
            </a:r>
            <a:r>
              <a:rPr b="1" lang="en-US" sz="1800" spc="299" strike="noStrike">
                <a:solidFill>
                  <a:srgbClr val="5a86f6"/>
                </a:solidFill>
                <a:latin typeface="Times New Roman"/>
              </a:rPr>
              <a:t>college education with a major in accounting is good preparation for an account-ing car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145480" y="1602360"/>
            <a:ext cx="5616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Times New Roman"/>
              </a:rPr>
              <a:t>Most accountants work for business companies or government agencies. Some have jobs with foundations, hospitals, labor unions, universities, or other nonprofit organiz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0" y="1790640"/>
            <a:ext cx="50410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5d11"/>
                </a:solidFill>
                <a:latin typeface="Times New Roman"/>
              </a:rPr>
              <a:t>Accounting is the system that measures business activities, processes that infor-mation into reports, and communicates these findings to decision ma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3"/>
          <p:cNvSpPr/>
          <p:nvPr/>
        </p:nvSpPr>
        <p:spPr>
          <a:xfrm>
            <a:off x="306000" y="262440"/>
            <a:ext cx="666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7fbc5d"/>
                </a:solidFill>
                <a:latin typeface="Times New Roman"/>
              </a:rPr>
              <a:t>The basic concepts of accounting as we understand them today were first published in Italy in 1494 by Luca Pacioli (1445 - 1517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324400" y="9720"/>
            <a:ext cx="6610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cap="all">
                <a:solidFill>
                  <a:schemeClr val="accent4"/>
                </a:solidFill>
                <a:latin typeface="Times New Roman"/>
              </a:rPr>
              <a:t>Bookkeeping is a small but important part of accounting. It involves recording financial transactions and keeping other financial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 rot="20323200">
            <a:off x="6386040" y="4155120"/>
            <a:ext cx="60508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unting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ormation relating to the financial position of a company, mainly about assets and liabilities, is presented in a balance 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478840" y="372600"/>
            <a:ext cx="3844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5d11"/>
                </a:solidFill>
                <a:latin typeface="Times New Roman"/>
              </a:rPr>
              <a:t>Field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Рисунок 2"/>
          <p:cNvSpPr/>
          <p:nvPr/>
        </p:nvSpPr>
        <p:spPr>
          <a:xfrm>
            <a:off x="4325040" y="1132200"/>
            <a:ext cx="6150960" cy="774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ed7d31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5"/>
          <p:cNvSpPr/>
          <p:nvPr/>
        </p:nvSpPr>
        <p:spPr>
          <a:xfrm>
            <a:off x="2840040" y="833040"/>
            <a:ext cx="5656320" cy="912600"/>
          </a:xfrm>
          <a:prstGeom prst="rect">
            <a:avLst/>
          </a:prstGeom>
          <a:solidFill>
            <a:srgbClr val="ffffff"/>
          </a:solidFill>
          <a:ln>
            <a:solidFill>
              <a:srgbClr val="ed7d31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nagement account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s managers plan and control a company's operations. Accountants prepare budgets to express management's goals in financial te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 rot="20041800">
            <a:off x="2500920" y="2099880"/>
            <a:ext cx="5061240" cy="912600"/>
          </a:xfrm>
          <a:prstGeom prst="rect">
            <a:avLst/>
          </a:prstGeom>
          <a:noFill/>
          <a:ln w="0">
            <a:solidFill>
              <a:srgbClr val="000000">
                <a:lumMod val="95000"/>
                <a:lumOff val="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x account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s of preparing tax returns for organizations or individuals and determining the taxes involved in proposed business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604440" y="33012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diting involves the examination of an organization's financial statements and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  <Words>267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17:48:10Z</dcterms:created>
  <dc:creator>Ксения Кондратьева</dc:creator>
  <dc:description/>
  <dc:language>en-US</dc:language>
  <cp:lastModifiedBy>QWE</cp:lastModifiedBy>
  <dcterms:modified xsi:type="dcterms:W3CDTF">2019-03-16T18:04:09Z</dcterms:modified>
  <cp:revision>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1</vt:r8>
  </property>
</Properties>
</file>