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157-B9C1-471D-A0A6-BF7E4D7C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C8D-B1B8-4B9C-BEFE-8746A33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994-ADFB-4330-9A89-E20A2F5B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A5E-AC5C-40E4-A705-23E825B1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EF6D-B75A-4B4C-ADF3-6AC956C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F86-8DB2-4308-A4B7-FDEEFC25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246F-A86B-4236-BF78-F9DBC86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B97-B577-46B8-A0C6-B9E1E4C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E5CA-9279-4C44-B2D8-F255064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8AE-990C-4ED4-BAB5-586C877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0DA5-0E94-4FBD-B686-C25D731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266-FF73-49F1-B5A5-9BFFC6CD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761E-4E82-4958-805C-1AD0FE89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B432-3007-4D02-8A9D-9B4F171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73D6-0C1C-412B-9DA2-B87D8A2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273-CE7D-49F4-B762-1C87223E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157-E4F1-4DAE-ACAA-0D714E07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609-FA05-42F3-A8BF-D380CA1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64E-D6E8-448A-8057-A773316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59C-25DA-44D9-8520-F204FD63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822-06F1-469D-B62E-7A94E17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2BD-C7C5-4BEF-AFD5-FC1B8A6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A6E-C180-4F7B-B75C-EFE02DA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D1A-227F-49A6-8002-0AF31A1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941064-45D1-46A2-845C-E6706E6E07B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E55C6-9EB3-41D2-A8E7-2F63A0A3AA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502920"/>
            <a:ext cx="1204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, науки и молодежной политики  Нижегородской области Государственное бюджетное профессиональное образовательное учреждение «Нижегородский Губер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тему: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исциплине: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сть 38.02.03 Операционная деятельность в логи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ка 31 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К.А Кондра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28480" y="259200"/>
            <a:ext cx="10372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are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The number of jobs in many accounting fields is growing. Increasingly sophisticated management techniques demand information that can be provided most efficiently by accoun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6520" y="5891760"/>
            <a:ext cx="5858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A</a:t>
            </a:r>
            <a:r>
              <a:rPr b="1" lang="en-US" sz="1800" spc="299" strike="noStrike">
                <a:solidFill>
                  <a:srgbClr val="5a86f6"/>
                </a:solidFill>
                <a:latin typeface="Calibri"/>
              </a:rPr>
              <a:t> </a:t>
            </a: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ollege education with a major in accounting is good preparation for an account-ing car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145480" y="1602360"/>
            <a:ext cx="561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Times New Roman"/>
              </a:rPr>
              <a:t>Most accountants work for business companies or government agencies. Some have jobs with foundations, hospitals, labor unions, universities, or other nonprofit organiz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0" y="1790640"/>
            <a:ext cx="50410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5d11"/>
                </a:solidFill>
                <a:latin typeface="Times New Roman"/>
              </a:rPr>
              <a:t>Accounting is the system that measures business activities, processes that infor-mation into reports, and communicates these findings to decision ma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306000" y="262440"/>
            <a:ext cx="666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fbc5d"/>
                </a:solidFill>
                <a:latin typeface="Times New Roman"/>
              </a:rPr>
              <a:t>The basic concepts of accounting as we understand them today were first published in Italy in 1494 by Luca Pacioli (1445 - 1517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324400" y="9720"/>
            <a:ext cx="6610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Times New Roman"/>
              </a:rPr>
              <a:t>Bookkeeping is a small but important part of accounting. It involves recording financial transactions and keeping other financial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 rot="20323200">
            <a:off x="6386040" y="4155120"/>
            <a:ext cx="60508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unting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rmation relating to the financial position of a company, mainly about assets and liabilities, is presented in a balance 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478840" y="372600"/>
            <a:ext cx="3844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5d11"/>
                </a:solidFill>
                <a:latin typeface="Times New Roman"/>
              </a:rPr>
              <a:t>Field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исунок 2"/>
          <p:cNvSpPr/>
          <p:nvPr/>
        </p:nvSpPr>
        <p:spPr>
          <a:xfrm>
            <a:off x="4325040" y="1132200"/>
            <a:ext cx="6150960" cy="77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ed7d31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"/>
          <p:cNvSpPr/>
          <p:nvPr/>
        </p:nvSpPr>
        <p:spPr>
          <a:xfrm>
            <a:off x="2840040" y="833040"/>
            <a:ext cx="5656320" cy="912600"/>
          </a:xfrm>
          <a:prstGeom prst="rect">
            <a:avLst/>
          </a:prstGeom>
          <a:solidFill>
            <a:srgbClr val="ffffff"/>
          </a:solidFill>
          <a:ln>
            <a:solidFill>
              <a:srgbClr val="ed7d31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agement accoun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managers plan and control a company's operations. Accountants prepare budgets to express management's goals in financial te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 rot="20041800">
            <a:off x="2500920" y="2099880"/>
            <a:ext cx="5061240" cy="912600"/>
          </a:xfrm>
          <a:prstGeom prst="rect">
            <a:avLst/>
          </a:prstGeom>
          <a:noFill/>
          <a:ln w="0">
            <a:solidFill>
              <a:srgbClr val="000000">
                <a:lumMod val="95000"/>
                <a:lumOff val="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x accoun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preparing tax returns for organizations or individuals and determining the taxes involved in proposed business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04440" y="33012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diting involves the examination of an organization's financial statements an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  <Words>267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17:48:10Z</dcterms:created>
  <dc:creator>Ксения Кондратьева</dc:creator>
  <dc:description/>
  <dc:language>en-US</dc:language>
  <cp:lastModifiedBy>QWE</cp:lastModifiedBy>
  <dcterms:modified xsi:type="dcterms:W3CDTF">2019-03-16T18:04:0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