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9D9-E5B9-45DB-9512-69B55E37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B24-B0DD-4A00-8E01-68A5F7B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083-0179-48E5-9EEE-BFDA62D0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BEF-1664-4649-9984-F929B0F5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9FF72-F84E-4302-88D1-6203C20F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D749-FDD6-4E7E-A694-8E1C782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5C63F-86E2-480B-B99C-8A77C0BC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F534-8D26-49C4-A39E-929320C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8BE4A-4F78-470C-9E3A-5B19407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E3D44-E025-41E7-9B8C-5049678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ED048-4FC2-474F-B69D-B6950B4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A87-BDE7-4400-93E2-1BE3A78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A761-950B-40AA-8296-39E19D79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99380-125D-46CD-B73A-E524C59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3B92E-EF02-4FE8-B347-BCDDD6F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0A4C-52FE-497B-876A-2AF01F12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1D94-0093-4DEF-8E2D-A5CC32C5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7D0-FD59-4020-B8BE-6CFB2BB4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FBC-24D3-4686-8034-C9199A32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290-193F-44BD-9130-E63AD25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897-76AD-4A90-8942-C0F8548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727-466D-4378-A362-60A8A7D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B12-E75E-4093-A65B-FE18727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429-85D0-4462-988D-A15FFCC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B96F5A-EB8B-4FB7-AAB5-66AF4CAB4D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FE15D2-B729-485D-B716-929C5315895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ирование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а Ягудина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680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риоритезация задач в спис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002800" cy="52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того, как результато-ориентированный список задач составлен, необходимо разметить его по приоритетно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анирование «жестких» встреч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никуда не опаздывать, при планировании встреч обязательно закладывайте резервы времени на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рогу, нужен дополнительный резерв на пробки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помогательные дела — вошел, подготовился, сложил ноутбук в портфель, оделся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ационные нестыковки — контрольно-пропускной режим (т.е. бабушка на вахте, вдумчиво и основательно вписывающая ваши паспортные данные), путаница в переулках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Разумная пунктуальность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002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встреч, а главное, при осуществлении плана дня, обязательно возникнет вопрос пунктуальност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Вовремя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вы приходите на 5-10 минут раньше начала встречи. Имеете время спокойно раздеться, выпить чаю в переговорной или приемной, «причесать» мысли к встреч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Академическое опоздани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до 15 минут. Обычно вполне нормально при встрече с хорошо знакомыми, коллегами. Но только если встречаются 2–3 человека, если больше — такое опоздание будет уже некорректным, слишком дорого стоит время большой группы людей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Гибкое начало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идет некий коллективный творческий процесс, кто-то может подключаться, кто-то на время отключаться, «регламент» предельно гибкий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680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575f6d"/>
                </a:solidFill>
                <a:latin typeface="Century Schoolbook"/>
              </a:rPr>
              <a:t>Принцип «информационной избыточности»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074800" cy="52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цип «информационной избыточности»: запасайтесь не только информацией, необходимой для осуществления планов, но и избыточной дополнительной информацией, которая поможет, если что-то пойдет не по план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одготовке встреч рекомендую не только запастись избыточной информацией к встрече, но и обязательно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вонить за несколько часов до начала и подтвердить встречу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лучае форс-мажора позвонить и сообщить, что вы можете задержаться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ты времени на такую перестраховку — 2–3 минуты, а вам и вашему контрагенту в форс-мажорных случаях они могут сэкономить много сил и времени. Кроме того, такими простыми шагами вы подкрепляете свой имидж человека ответственного, пунктуального и внимательно относящегося ко всем договоренностям и взятым на себя обязательства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ехника планирования «День — Неделя»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того чтобы держать все эти задачи под контролем, нужны всего три основных раздела в вашей системе планирования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НЬ: задачи на сегодня — план дня в ежедневнике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ДЕЛЯ: среднесрочные задачи — выполнение которых прогнозируется в ближайшие неделю-месяц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Д: долгосрочные задачи — все прочи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пределение бюджета времени на задачу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48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ший пилотаж среднесрочного планирования — точно определять еженедельный бюджет времени на крупную задачу, чтобы гарантированно уложиться в срок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вам нужно написать большую статью, книгу, диссертацию, положение о подразделении, бизнес-план развития региона… Сколько времени нужно еженедельно или ежедневно выделять на задачу, чтобы не превратить ее из важной, но не срочной в горящую и авральную? Вспомним простой подход, многим хорошо известный по подготовке к экзаменам. Примерно так: «На подготовку у меня есть 10 дней, нужно подготовить 40 билетов. На каждый билет нужно потратить минимум час. Таким образом, каждый день мне нужно выделять на подготовку 4 часа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80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ример годового план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9" name="Объект 3"/>
          <p:cNvGraphicFramePr/>
          <p:nvPr/>
        </p:nvGraphicFramePr>
        <p:xfrm>
          <a:off x="611640" y="908640"/>
          <a:ext cx="7920360" cy="5472360"/>
        </p:xfrm>
        <a:graphic>
          <a:graphicData uri="http://schemas.openxmlformats.org/drawingml/2006/table">
            <a:tbl>
              <a:tblPr/>
              <a:tblGrid>
                <a:gridCol w="750240"/>
                <a:gridCol w="5564520"/>
                <a:gridCol w="1605960"/>
              </a:tblGrid>
              <a:tr h="3376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задач на 2017-2018 г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вы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ффективность по конкурсам 40% и боле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жа 165 000 00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енка 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у Бузук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жение К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З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ДИ З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З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6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К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П З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7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ламент по Ц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8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З ДО + 1С конверсия заявок на непрай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8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в 1С автоза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0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ция + резервирование усовершенствовать (привязка к датам: поступление, отгрузка, прих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0.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пасибо за внимание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38504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ировани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18800" cy="56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целями и результатами лежит большое количество рутинной работы. Как ее организовать, как проложить верный путь к достижению результатов, укладываясь при этом в плановые сроки? Необходимо начать планировать, грамотно и вдумчив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752904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small">
                <a:solidFill>
                  <a:srgbClr val="575f6d"/>
                </a:solidFill>
                <a:latin typeface="Century Schoolbook"/>
              </a:rPr>
              <a:t>Характеристики качественно составленного плана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ть цел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тко выделить этапы работ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результат каждого этап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читать время, необходимое для реализации каждого из выделенных этап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анализировать параллельные и последовательные рабочие процессы. Если часть процессов может реализовываться параллельно, следует составить сетевой графи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необходимые ресурсы для каждого из этапов и составить их полный списо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ть план обеспечения недостающими ресурса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ать всех вовлеченных лиц и предусмотреть, сколько времени им следует удели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анализировать потенциальные барьеры и наметить способы их преодол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усмотреть альтернативные элементы плана в неясных и проблемных точках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280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Какими бывают планы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7" name="Объект 3"/>
          <p:cNvGraphicFramePr/>
          <p:nvPr/>
        </p:nvGraphicFramePr>
        <p:xfrm>
          <a:off x="683640" y="980640"/>
          <a:ext cx="7704360" cy="5112360"/>
        </p:xfrm>
        <a:graphic>
          <a:graphicData uri="http://schemas.openxmlformats.org/drawingml/2006/table">
            <a:tbl>
              <a:tblPr/>
              <a:tblGrid>
                <a:gridCol w="4827600"/>
                <a:gridCol w="2876760"/>
              </a:tblGrid>
              <a:tr h="567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р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цел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и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тег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точ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изиров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упн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38504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План на день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002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сять электронных писем во «Входящих», пять стикеров на мониторе, пятнадцать «не забыть» в голове и два крестика, нарисованных ручкой на руке», — планом дня не являются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дня должен быть в одном месте, и обязательно в письменном виде. При этом план может быть в Outlook или в Excel, на бумажном бланке или в ежедневнике — это не принципиально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80643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575f6d"/>
                </a:solidFill>
                <a:latin typeface="Century Schoolbook"/>
              </a:rPr>
              <a:t>«Самая острая память тупее самого тупого карандаша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146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ва человека не способна держать слишком много информации одновременно. Обязательно записывайте все задачи на день и регулярно просматривайте этот список в течение дня. Это потребует всего несколько минут, но даст вам управляемость и подконтрольность ваших задач, возможность ничего не забывать и правильно расставлять приоритет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4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Когда лучше планировать рабочий день?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48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анировать день с вече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хорошо закрывается прошлый рабочий день, легче переключиться в режим нерабочего времени и отдыха, новый день начинается с достаточно ясной и определенной картины предстоящих дел, а не с хаоса. Удобно в более стабильной и предсказуемой деятельно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анировать день с ут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хорошо сочетается с решением «уточняющих задач», т.е. согласованием (или подтверждением) времени встреч с контрагентами, раздачей поручений и уточняющей информации подчиненным и т.п. Удобно в менее предсказуемой деятельности, когда выше значимость «уточняющих задач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должен постоянно корректироваться при изменении обстоятельств. Времени на это потребуется максимум 5–7 минут в совокупности в течение дня. А сэкономит грамотное планирование — часы, а иногда и недели, освобожденные от лишней работы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2800" cy="4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Алгоритм планирования дня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002800" cy="54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дня мы имеем дело с тремя типами задач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Жестк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» встречи — привязанные к конкретному моменту времени («презентация в 12.00»)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Гибки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— не привязанные к жесткому времени(«узнать время презентации»). «Гибкие» не означает «не обязательные» и не означает «не имеющие срока исполнения» — у этой задачи может быть срок, но нет конкретного момента времени, в который вы должны эту задачу реша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Бюджетируемы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» задачи — крупные приоритетные задачи, у которых нет жесткого времени исполнения, но которые требуют достаточно большого ресурса времени («подготовиться к презентации — 2 часа»)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ая классификация помогает оптимально сочетать жесткое и гибкое планирование. Встречи планируются жестко, а «гибкие» задачи — более мягк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 cap="small">
                <a:solidFill>
                  <a:srgbClr val="575f6d"/>
                </a:solidFill>
                <a:latin typeface="Century Schoolbook"/>
              </a:rPr>
              <a:t>Результато-ориентированный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 список задач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146800" cy="53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«гибких» задач, не привязанные к жесткому времени исполнения, рекомендую использовать простую технику — результато-ориентированный список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ычно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вониться с Ивановы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говорить с Петровы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 совещание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ффективнее: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жать Иванова до заказ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ыть у Петрова информацию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ть толчок проекту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йте сильные, действенные глаголы и ясную формулировку результат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13</TotalTime>
  <Application>LibreOffice/7.4.7.2$Linux_X86_64 LibreOffice_project/40$Build-2</Application>
  <AppVersion>15.0000</AppVersion>
  <Words>128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4:46:47Z</dcterms:created>
  <dc:creator>Лилия</dc:creator>
  <dc:description/>
  <dc:language>en-US</dc:language>
  <cp:lastModifiedBy>Лилия</cp:lastModifiedBy>
  <dcterms:modified xsi:type="dcterms:W3CDTF">2017-10-05T16:51:08Z</dcterms:modified>
  <cp:revision>12</cp:revision>
  <dc:subject/>
  <dc:title>Планирова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