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5F946-34E2-4352-9F97-617C03B06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4146120"/>
            <a:ext cx="74671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E484A-275D-4F33-BC51-1E83F3CCA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2836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1CBEC-D258-45BF-8B17-C75C3D52B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506560" y="160020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414612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5506560" y="414612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F5D23-90E3-4260-8008-16641C4FA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4C8DDB-494F-4622-B1E0-D287D4448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74671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D6A27C-7117-4000-88DC-89278059D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4D3D24-CD0A-4AD7-BA7C-40ADFE31E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5CD091-C304-488E-A28C-B83835FC5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991451-CCCF-40BC-BC39-5981EE774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746712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A18663-3D87-498C-9F98-2FD0A219D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968D0F-1A8E-4415-93D6-271E095F9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74671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B25E3-447F-4BCA-98AE-005ACB345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2836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DB0C5D-7759-4482-B99A-181D102DB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4146120"/>
            <a:ext cx="74671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A81D82-AAE8-42AB-B562-AE27C7F94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57200" y="4146120"/>
            <a:ext cx="74671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EA9EA5-0CF3-4782-A022-CEA35E42C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2836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299329-1622-429D-AAB6-52ADA77B8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506560" y="160020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57200" y="414612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5506560" y="414612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102810-4E19-4156-A99A-A36C4D715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239E0-8E49-40AA-86EF-6A1AABC7A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31BD9-B787-4518-BA57-5AA0416D5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24E28-D992-43EA-8241-E92A69FCA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746712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E5860-384C-4510-A946-26C07E4EE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D4A4F-E620-46B2-88BE-0B8270A10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2836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59EA0-1A0C-4EBD-AE29-8223F62BB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4146120"/>
            <a:ext cx="74671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46F11-41E5-49A7-A9EA-01C68C7DB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2760" y="0"/>
            <a:ext cx="360" cy="6858000"/>
          </a:xfrm>
          <a:prstGeom prst="line">
            <a:avLst/>
          </a:prstGeom>
          <a:ln w="38100">
            <a:solidFill>
              <a:srgbClr val="fe8637">
                <a:tint val="60000"/>
                <a:alpha val="9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Прямая соединительная линия 6"/>
          <p:cNvSpPr/>
          <p:nvPr/>
        </p:nvSpPr>
        <p:spPr>
          <a:xfrm>
            <a:off x="75960" y="0"/>
            <a:ext cx="360" cy="6858000"/>
          </a:xfrm>
          <a:prstGeom prst="line">
            <a:avLst/>
          </a:prstGeom>
          <a:ln w="57150">
            <a:solidFill>
              <a:srgbClr val="fe8637">
                <a:tint val="6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" name="Прямая соединительная линия 8"/>
          <p:cNvSpPr/>
          <p:nvPr/>
        </p:nvSpPr>
        <p:spPr>
          <a:xfrm>
            <a:off x="8991360" y="0"/>
            <a:ext cx="360" cy="6858000"/>
          </a:xfrm>
          <a:prstGeom prst="line">
            <a:avLst/>
          </a:prstGeom>
          <a:ln w="19050">
            <a:solidFill>
              <a:srgbClr val="fe863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Прямоугольник 9" hidden="1"/>
          <p:cNvSpPr/>
          <p:nvPr/>
        </p:nvSpPr>
        <p:spPr>
          <a:xfrm>
            <a:off x="8839080" y="0"/>
            <a:ext cx="304560" cy="6857640"/>
          </a:xfrm>
          <a:prstGeom prst="rect">
            <a:avLst/>
          </a:prstGeom>
          <a:solidFill>
            <a:schemeClr val="accent1">
              <a:tint val="60000"/>
              <a:alpha val="87000"/>
            </a:schemeClr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4" name="Прямая соединительная линия 10"/>
          <p:cNvSpPr/>
          <p:nvPr/>
        </p:nvSpPr>
        <p:spPr>
          <a:xfrm>
            <a:off x="8915400" y="0"/>
            <a:ext cx="360" cy="6858000"/>
          </a:xfrm>
          <a:prstGeom prst="line">
            <a:avLst/>
          </a:prstGeom>
          <a:ln w="9525">
            <a:solidFill>
              <a:srgbClr val="fe863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Овал 11" hidden="1"/>
          <p:cNvSpPr/>
          <p:nvPr/>
        </p:nvSpPr>
        <p:spPr>
          <a:xfrm>
            <a:off x="8156520" y="5715000"/>
            <a:ext cx="548280" cy="548280"/>
          </a:xfrm>
          <a:prstGeom prst="ellipse">
            <a:avLst/>
          </a:prstGeom>
          <a:solidFill>
            <a:srgbClr val="fe8637"/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0" y="3124080"/>
            <a:ext cx="617184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3000" spc="-1" strike="noStrike" cap="small">
                <a:solidFill>
                  <a:srgbClr val="575f6d"/>
                </a:solidFill>
                <a:latin typeface="Century Schoolbook"/>
              </a:rPr>
              <a:t>Образец заголовка</a:t>
            </a:r>
            <a:endParaRPr b="0" lang="ru-RU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 rot="5400000">
            <a:off x="7765200" y="1174320"/>
            <a:ext cx="2285640" cy="3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 rot="5400000">
            <a:off x="7077240" y="4181400"/>
            <a:ext cx="3657240" cy="38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Прямоугольник 9"/>
          <p:cNvSpPr/>
          <p:nvPr/>
        </p:nvSpPr>
        <p:spPr>
          <a:xfrm>
            <a:off x="380880" y="0"/>
            <a:ext cx="609120" cy="6857640"/>
          </a:xfrm>
          <a:prstGeom prst="rect">
            <a:avLst/>
          </a:prstGeom>
          <a:solidFill>
            <a:schemeClr val="accent1">
              <a:tint val="60000"/>
              <a:alpha val="54000"/>
            </a:schemeClr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10" name="Прямоугольник 11"/>
          <p:cNvSpPr/>
          <p:nvPr/>
        </p:nvSpPr>
        <p:spPr>
          <a:xfrm>
            <a:off x="276480" y="0"/>
            <a:ext cx="104400" cy="6857640"/>
          </a:xfrm>
          <a:prstGeom prst="rect">
            <a:avLst/>
          </a:prstGeom>
          <a:solidFill>
            <a:schemeClr val="accent1">
              <a:tint val="40000"/>
              <a:alpha val="36000"/>
            </a:schemeClr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11" name="Прямоугольник 13"/>
          <p:cNvSpPr/>
          <p:nvPr/>
        </p:nvSpPr>
        <p:spPr>
          <a:xfrm>
            <a:off x="990720" y="0"/>
            <a:ext cx="181440" cy="6857640"/>
          </a:xfrm>
          <a:prstGeom prst="rect">
            <a:avLst/>
          </a:prstGeom>
          <a:solidFill>
            <a:schemeClr val="accent1">
              <a:tint val="40000"/>
              <a:alpha val="70000"/>
            </a:schemeClr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12" name="Прямоугольник 18"/>
          <p:cNvSpPr/>
          <p:nvPr/>
        </p:nvSpPr>
        <p:spPr>
          <a:xfrm>
            <a:off x="1141200" y="0"/>
            <a:ext cx="230040" cy="6857640"/>
          </a:xfrm>
          <a:prstGeom prst="rect">
            <a:avLst/>
          </a:prstGeom>
          <a:solidFill>
            <a:schemeClr val="accent1">
              <a:tint val="20000"/>
              <a:alpha val="71000"/>
            </a:schemeClr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13" name="Прямая соединительная линия 10"/>
          <p:cNvSpPr/>
          <p:nvPr/>
        </p:nvSpPr>
        <p:spPr>
          <a:xfrm>
            <a:off x="106200" y="0"/>
            <a:ext cx="360" cy="6858000"/>
          </a:xfrm>
          <a:prstGeom prst="line">
            <a:avLst/>
          </a:prstGeom>
          <a:ln w="57150">
            <a:solidFill>
              <a:srgbClr val="fe8637">
                <a:tint val="60000"/>
                <a:alpha val="7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" name="Прямая соединительная линия 17"/>
          <p:cNvSpPr/>
          <p:nvPr/>
        </p:nvSpPr>
        <p:spPr>
          <a:xfrm>
            <a:off x="914400" y="0"/>
            <a:ext cx="360" cy="6858000"/>
          </a:xfrm>
          <a:prstGeom prst="line">
            <a:avLst/>
          </a:prstGeom>
          <a:ln w="57150">
            <a:solidFill>
              <a:srgbClr val="fe8637">
                <a:tint val="20000"/>
                <a:alpha val="8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" name="Прямая соединительная линия 19"/>
          <p:cNvSpPr/>
          <p:nvPr/>
        </p:nvSpPr>
        <p:spPr>
          <a:xfrm>
            <a:off x="853920" y="0"/>
            <a:ext cx="360" cy="6858000"/>
          </a:xfrm>
          <a:prstGeom prst="line">
            <a:avLst/>
          </a:prstGeom>
          <a:ln w="57150">
            <a:solidFill>
              <a:srgbClr val="fe8637">
                <a:tint val="6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" name="Прямая соединительная линия 15"/>
          <p:cNvSpPr/>
          <p:nvPr/>
        </p:nvSpPr>
        <p:spPr>
          <a:xfrm>
            <a:off x="1726560" y="0"/>
            <a:ext cx="360" cy="6858000"/>
          </a:xfrm>
          <a:prstGeom prst="line">
            <a:avLst/>
          </a:prstGeom>
          <a:ln w="28575">
            <a:solidFill>
              <a:srgbClr val="fe8637">
                <a:tint val="60000"/>
                <a:alpha val="82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Прямая соединительная линия 14"/>
          <p:cNvSpPr/>
          <p:nvPr/>
        </p:nvSpPr>
        <p:spPr>
          <a:xfrm>
            <a:off x="1066680" y="0"/>
            <a:ext cx="360" cy="6858000"/>
          </a:xfrm>
          <a:prstGeom prst="line">
            <a:avLst/>
          </a:prstGeom>
          <a:ln w="9525">
            <a:solidFill>
              <a:srgbClr val="fe8637">
                <a:tint val="6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" name="Прямая соединительная линия 21"/>
          <p:cNvSpPr/>
          <p:nvPr/>
        </p:nvSpPr>
        <p:spPr>
          <a:xfrm>
            <a:off x="9113760" y="0"/>
            <a:ext cx="360" cy="6858000"/>
          </a:xfrm>
          <a:prstGeom prst="line">
            <a:avLst/>
          </a:prstGeom>
          <a:ln w="57150">
            <a:solidFill>
              <a:srgbClr val="fe8637">
                <a:tint val="6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" name="Прямоугольник 26"/>
          <p:cNvSpPr/>
          <p:nvPr/>
        </p:nvSpPr>
        <p:spPr>
          <a:xfrm>
            <a:off x="1219320" y="0"/>
            <a:ext cx="75960" cy="6857640"/>
          </a:xfrm>
          <a:prstGeom prst="rect">
            <a:avLst/>
          </a:prstGeom>
          <a:solidFill>
            <a:schemeClr val="accent1">
              <a:tint val="60000"/>
              <a:alpha val="51000"/>
            </a:schemeClr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20" name="Овал 20"/>
          <p:cNvSpPr/>
          <p:nvPr/>
        </p:nvSpPr>
        <p:spPr>
          <a:xfrm>
            <a:off x="609480" y="3429000"/>
            <a:ext cx="1294920" cy="1294920"/>
          </a:xfrm>
          <a:prstGeom prst="ellipse">
            <a:avLst/>
          </a:prstGeom>
          <a:solidFill>
            <a:schemeClr val="accent1"/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21" name="Овал 22"/>
          <p:cNvSpPr/>
          <p:nvPr/>
        </p:nvSpPr>
        <p:spPr>
          <a:xfrm>
            <a:off x="1309680" y="4866840"/>
            <a:ext cx="641160" cy="641160"/>
          </a:xfrm>
          <a:prstGeom prst="ellipse">
            <a:avLst/>
          </a:prstGeom>
          <a:solidFill>
            <a:srgbClr val="fe8637"/>
          </a:solidFill>
          <a:ln w="28575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22" name="Овал 23"/>
          <p:cNvSpPr/>
          <p:nvPr/>
        </p:nvSpPr>
        <p:spPr>
          <a:xfrm>
            <a:off x="1091160" y="5500800"/>
            <a:ext cx="136800" cy="136800"/>
          </a:xfrm>
          <a:prstGeom prst="ellipse">
            <a:avLst/>
          </a:prstGeom>
          <a:solidFill>
            <a:srgbClr val="fe8637"/>
          </a:solidFill>
          <a:ln w="127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23" name="Овал 25"/>
          <p:cNvSpPr/>
          <p:nvPr/>
        </p:nvSpPr>
        <p:spPr>
          <a:xfrm>
            <a:off x="1664280" y="5788080"/>
            <a:ext cx="273960" cy="273960"/>
          </a:xfrm>
          <a:prstGeom prst="ellipse">
            <a:avLst/>
          </a:prstGeom>
          <a:solidFill>
            <a:srgbClr val="fe8637"/>
          </a:solidFill>
          <a:ln w="127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24" name="Овал 24"/>
          <p:cNvSpPr/>
          <p:nvPr/>
        </p:nvSpPr>
        <p:spPr>
          <a:xfrm>
            <a:off x="1905120" y="4495680"/>
            <a:ext cx="365400" cy="365400"/>
          </a:xfrm>
          <a:prstGeom prst="ellipse">
            <a:avLst/>
          </a:prstGeom>
          <a:solidFill>
            <a:srgbClr val="fe8637"/>
          </a:solidFill>
          <a:ln w="28575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3"/>
          </p:nvPr>
        </p:nvSpPr>
        <p:spPr>
          <a:xfrm>
            <a:off x="1325520" y="4928760"/>
            <a:ext cx="609120" cy="5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73C80B5C-1636-4DDD-A289-8B5FCC40E9B0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ru-RU" sz="16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Прямая соединительная линия 15"/>
          <p:cNvSpPr/>
          <p:nvPr/>
        </p:nvSpPr>
        <p:spPr>
          <a:xfrm>
            <a:off x="8762760" y="0"/>
            <a:ext cx="360" cy="6858000"/>
          </a:xfrm>
          <a:prstGeom prst="line">
            <a:avLst/>
          </a:prstGeom>
          <a:ln w="38100">
            <a:solidFill>
              <a:srgbClr val="fe8637">
                <a:tint val="60000"/>
                <a:alpha val="9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4" name="Прямая соединительная линия 6"/>
          <p:cNvSpPr/>
          <p:nvPr/>
        </p:nvSpPr>
        <p:spPr>
          <a:xfrm>
            <a:off x="75960" y="0"/>
            <a:ext cx="360" cy="6858000"/>
          </a:xfrm>
          <a:prstGeom prst="line">
            <a:avLst/>
          </a:prstGeom>
          <a:ln w="57150">
            <a:solidFill>
              <a:srgbClr val="fe8637">
                <a:tint val="6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Прямая соединительная линия 8"/>
          <p:cNvSpPr/>
          <p:nvPr/>
        </p:nvSpPr>
        <p:spPr>
          <a:xfrm>
            <a:off x="8991360" y="0"/>
            <a:ext cx="360" cy="6858000"/>
          </a:xfrm>
          <a:prstGeom prst="line">
            <a:avLst/>
          </a:prstGeom>
          <a:ln w="19050">
            <a:solidFill>
              <a:srgbClr val="fe863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6" name="Прямоугольник 9"/>
          <p:cNvSpPr/>
          <p:nvPr/>
        </p:nvSpPr>
        <p:spPr>
          <a:xfrm>
            <a:off x="8839080" y="0"/>
            <a:ext cx="304560" cy="6857640"/>
          </a:xfrm>
          <a:prstGeom prst="rect">
            <a:avLst/>
          </a:prstGeom>
          <a:solidFill>
            <a:schemeClr val="accent1">
              <a:tint val="60000"/>
              <a:alpha val="87000"/>
            </a:schemeClr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67" name="Прямая соединительная линия 10"/>
          <p:cNvSpPr/>
          <p:nvPr/>
        </p:nvSpPr>
        <p:spPr>
          <a:xfrm>
            <a:off x="8915400" y="0"/>
            <a:ext cx="360" cy="6858000"/>
          </a:xfrm>
          <a:prstGeom prst="line">
            <a:avLst/>
          </a:prstGeom>
          <a:ln w="9525">
            <a:solidFill>
              <a:srgbClr val="fe863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8" name="Овал 11"/>
          <p:cNvSpPr/>
          <p:nvPr/>
        </p:nvSpPr>
        <p:spPr>
          <a:xfrm>
            <a:off x="8156520" y="5715000"/>
            <a:ext cx="548280" cy="548280"/>
          </a:xfrm>
          <a:prstGeom prst="ellipse">
            <a:avLst/>
          </a:prstGeom>
          <a:solidFill>
            <a:srgbClr val="fe8637"/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000" spc="-1" strike="noStrike" cap="small">
                <a:solidFill>
                  <a:srgbClr val="575f6d"/>
                </a:solidFill>
                <a:latin typeface="Century Schoolbook"/>
              </a:rPr>
              <a:t>Образец заголовка</a:t>
            </a:r>
            <a:endParaRPr b="0" lang="ru-RU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7467120" cy="48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Образец текста</a:t>
            </a: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40080" indent="-274320">
              <a:lnSpc>
                <a:spcPct val="100000"/>
              </a:lnSpc>
              <a:spcBef>
                <a:spcPts val="420"/>
              </a:spcBef>
              <a:buClr>
                <a:srgbClr val="fe8637"/>
              </a:buClr>
              <a:buSzPct val="80000"/>
              <a:buFont typeface="Wingdings 2" charset="2"/>
              <a:buChar char=""/>
            </a:pPr>
            <a:r>
              <a:rPr b="0" lang="ru-RU" sz="2100" spc="-1" strike="noStrike">
                <a:solidFill>
                  <a:srgbClr val="000000"/>
                </a:solidFill>
                <a:latin typeface="Century Schoolbook"/>
              </a:rPr>
              <a:t>Второй уровень</a:t>
            </a:r>
            <a:endParaRPr b="0" lang="ru-RU" sz="21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880">
              <a:lnSpc>
                <a:spcPct val="100000"/>
              </a:lnSpc>
              <a:spcBef>
                <a:spcPts val="360"/>
              </a:spcBef>
              <a:buClr>
                <a:srgbClr val="e07630"/>
              </a:buClr>
              <a:buSzPct val="60000"/>
              <a:buFont typeface="Wingdings" charset="2"/>
              <a:buChar char=""/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Третий уровень</a:t>
            </a: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8720" indent="-182880">
              <a:lnSpc>
                <a:spcPct val="100000"/>
              </a:lnSpc>
              <a:spcBef>
                <a:spcPts val="360"/>
              </a:spcBef>
              <a:buClr>
                <a:srgbClr val="fec2ae"/>
              </a:buClr>
              <a:buSzPct val="60000"/>
              <a:buFont typeface="Wingdings" charset="2"/>
              <a:buChar char=""/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Четвертый уровень</a:t>
            </a: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3040" indent="-182880">
              <a:lnSpc>
                <a:spcPct val="100000"/>
              </a:lnSpc>
              <a:spcBef>
                <a:spcPts val="320"/>
              </a:spcBef>
              <a:buClr>
                <a:srgbClr val="bcc9e9"/>
              </a:buClr>
              <a:buSzPct val="68000"/>
              <a:buFont typeface="Wingdings 2" charset="2"/>
              <a:buChar char=""/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Пятый уровень</a:t>
            </a:r>
            <a:endParaRPr b="0" lang="ru-RU" sz="1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dt" idx="4"/>
          </p:nvPr>
        </p:nvSpPr>
        <p:spPr>
          <a:xfrm rot="5400000">
            <a:off x="7589520" y="1081800"/>
            <a:ext cx="2011320" cy="38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sldNum" idx="5"/>
          </p:nvPr>
        </p:nvSpPr>
        <p:spPr>
          <a:xfrm>
            <a:off x="8129160" y="5734080"/>
            <a:ext cx="609120" cy="5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B3794FCC-B301-4AB2-AD1F-88481EB8B6EB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ftr" idx="6"/>
          </p:nvPr>
        </p:nvSpPr>
        <p:spPr>
          <a:xfrm rot="5400000">
            <a:off x="6990480" y="3737160"/>
            <a:ext cx="32000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0" y="3124080"/>
            <a:ext cx="617184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3000" spc="-1" strike="noStrike" cap="small">
                <a:solidFill>
                  <a:srgbClr val="575f6d"/>
                </a:solidFill>
                <a:latin typeface="Century Schoolbook"/>
              </a:rPr>
              <a:t>Планирование </a:t>
            </a:r>
            <a:endParaRPr b="0" lang="ru-RU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2286000" y="5003280"/>
            <a:ext cx="6171840" cy="13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ru-RU" sz="1800" spc="-1" strike="noStrike">
                <a:solidFill>
                  <a:srgbClr val="575f6d"/>
                </a:solidFill>
                <a:latin typeface="Century Schoolbook"/>
              </a:rPr>
              <a:t>Подготовила Ягудина Лил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146800" cy="5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000" spc="-1" strike="noStrike" cap="small">
                <a:solidFill>
                  <a:srgbClr val="575f6d"/>
                </a:solidFill>
                <a:latin typeface="Century Schoolbook"/>
              </a:rPr>
              <a:t>Приоритезация задач в списке</a:t>
            </a:r>
            <a:endParaRPr b="0" lang="ru-RU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268640"/>
            <a:ext cx="8002800" cy="52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2000"/>
          </a:bodyPr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осле того, как результато-ориентированный список задач составлен, необходимо разметить его по приоритетности.</a:t>
            </a: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Планирование «жестких» встреч </a:t>
            </a:r>
            <a:endParaRPr b="0" lang="ru-RU" sz="2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Чтобы никуда не опаздывать, при планировании встреч обязательно закладывайте резервы времени на: </a:t>
            </a: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—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дорогу, нужен дополнительный резерв на пробки; </a:t>
            </a: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—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спомогательные дела — вошел, подготовился, сложил ноутбук в портфель, оделся;</a:t>
            </a: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—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организационные нестыковки — контрольно-пропускной режим (т.е. бабушка на вахте, вдумчиво и основательно вписывающая ваши паспортные данные), путаница в переулках.</a:t>
            </a: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074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000" spc="-1" strike="noStrike" cap="small">
                <a:solidFill>
                  <a:srgbClr val="575f6d"/>
                </a:solidFill>
                <a:latin typeface="Century Schoolbook"/>
              </a:rPr>
              <a:t>Разумная пунктуальность</a:t>
            </a:r>
            <a:endParaRPr b="0" lang="ru-RU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124640"/>
            <a:ext cx="8002800" cy="534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8000"/>
          </a:bodyPr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ри планировании встреч, а главное, при осуществлении плана дня, обязательно возникнет вопрос пунктуальности. </a:t>
            </a: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— 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«Вовремя»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— вы приходите на 5-10 минут раньше начала встречи. Имеете время спокойно раздеться, выпить чаю в переговорной или приемной, «причесать» мысли к встрече.</a:t>
            </a: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— 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«Академическое опоздание»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— до 15 минут. Обычно вполне нормально при встрече с хорошо знакомыми, коллегами. Но только если встречаются 2–3 человека, если больше — такое опоздание будет уже некорректным, слишком дорого стоит время большой группы людей. </a:t>
            </a: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— 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«Гибкое начало»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Если идет некий коллективный творческий процесс, кто-то может подключаться, кто-то на время отключаться, «регламент» предельно гибкий. </a:t>
            </a: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146800" cy="7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91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400" spc="-1" strike="noStrike" cap="small">
                <a:solidFill>
                  <a:srgbClr val="575f6d"/>
                </a:solidFill>
                <a:latin typeface="Century Schoolbook"/>
              </a:rPr>
              <a:t>Принцип «информационной избыточности» </a:t>
            </a: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268640"/>
            <a:ext cx="8074800" cy="52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2000"/>
          </a:bodyPr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ринцип «информационной избыточности»: запасайтесь не только информацией, необходимой для осуществления планов, но и избыточной дополнительной информацией, которая поможет, если что-то пойдет не по плану.</a:t>
            </a: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ри подготовке встреч рекомендую не только запастись избыточной информацией к встрече, но и обязательно:</a:t>
            </a: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—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озвонить за несколько часов до начала и подтвердить встречу;</a:t>
            </a: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—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 случае форс-мажора позвонить и сообщить, что вы можете задержаться. </a:t>
            </a: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Затраты времени на такую перестраховку — 2–3 минуты, а вам и вашему контрагенту в форс-мажорных случаях они могут сэкономить много сил и времени. Кроме того, такими простыми шагами вы подкрепляете свой имидж человека ответственного, пунктуального и внимательно относящегося ко всем договоренностям и взятым на себя обязательствам</a:t>
            </a: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074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77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000" spc="-1" strike="noStrike" cap="small">
                <a:solidFill>
                  <a:srgbClr val="575f6d"/>
                </a:solidFill>
                <a:latin typeface="Century Schoolbook"/>
              </a:rPr>
              <a:t>Техника планирования «День — Неделя» </a:t>
            </a:r>
            <a:endParaRPr b="0" lang="ru-RU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002800" cy="542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Для того чтобы держать все эти задачи под контролем, нужны всего три основных раздела в вашей системе планирования: </a:t>
            </a: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AutoNum type="arabicPeriod"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ДЕНЬ: задачи на сегодня — план дня в ежедневнике. </a:t>
            </a: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AutoNum type="arabicPeriod"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НЕДЕЛЯ: среднесрочные задачи — выполнение которых прогнозируется в ближайшие неделю-месяц. </a:t>
            </a: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AutoNum type="arabicPeriod"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ГОД: долгосрочные задачи — все прочие.</a:t>
            </a: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074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77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000" spc="-1" strike="noStrike" cap="small">
                <a:solidFill>
                  <a:srgbClr val="575f6d"/>
                </a:solidFill>
                <a:latin typeface="Century Schoolbook"/>
              </a:rPr>
              <a:t>Определение бюджета времени на задачу</a:t>
            </a:r>
            <a:endParaRPr b="0" lang="ru-RU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074800" cy="527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3000"/>
          </a:bodyPr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ысший пилотаж среднесрочного планирования — точно определять еженедельный бюджет времени на крупную задачу, чтобы гарантированно уложиться в сроки. </a:t>
            </a: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Например: вам нужно написать большую статью, книгу, диссертацию, положение о подразделении, бизнес-план развития региона… Сколько времени нужно еженедельно или ежедневно выделять на задачу, чтобы не превратить ее из важной, но не срочной в горящую и авральную? Вспомним простой подход, многим хорошо известный по подготовке к экзаменам. Примерно так: «На подготовку у меня есть 10 дней, нужно подготовить 40 билетов. На каждый билет нужно потратить минимум час. Таким образом, каждый день мне нужно выделять на подготовку 4 часа»</a:t>
            </a: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18800" cy="4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87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000" spc="-1" strike="noStrike" cap="small">
                <a:solidFill>
                  <a:srgbClr val="575f6d"/>
                </a:solidFill>
                <a:latin typeface="Century Schoolbook"/>
              </a:rPr>
              <a:t>Пример годового плана</a:t>
            </a:r>
            <a:endParaRPr b="0" lang="ru-RU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139" name="Объект 3"/>
          <p:cNvGraphicFramePr/>
          <p:nvPr/>
        </p:nvGraphicFramePr>
        <p:xfrm>
          <a:off x="611640" y="908640"/>
          <a:ext cx="7920360" cy="5472360"/>
        </p:xfrm>
        <a:graphic>
          <a:graphicData uri="http://schemas.openxmlformats.org/drawingml/2006/table">
            <a:tbl>
              <a:tblPr/>
              <a:tblGrid>
                <a:gridCol w="750240"/>
                <a:gridCol w="5564520"/>
                <a:gridCol w="1605960"/>
              </a:tblGrid>
              <a:tr h="337680"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писок задач на 2017-2018 г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000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ва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рок выполн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0000"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Эффективность по конкурсам 40% и боле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12.20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0000"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ржа 165 000 000 ру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12.20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0000"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ценка 3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12.20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0000"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учение у Бузуково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12.20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70000"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ложение КО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.06.20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70000"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ШДИ ЗНК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.06.20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70000"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ШДИ НК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.06.20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70000"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ШДИ К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.06.20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70000"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ШДИ З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.07.20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0000"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П ЗНК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.06.20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70000"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П НК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.07.20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0000"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П КМ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.07.20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0000"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П З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.07.20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0000"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егламент по Ц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.08.20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0000"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З ДО + 1С конверсия заявок на непрай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.08.20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0000"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недрить в 1С автозаказ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.10.20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0360"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пецификация + резервирование усовершенствовать (привязка к датам: поступление, отгрузка, приход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.10.20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000" spc="-1" strike="noStrike" cap="small">
                <a:solidFill>
                  <a:srgbClr val="575f6d"/>
                </a:solidFill>
                <a:latin typeface="Century Schoolbook"/>
              </a:rPr>
              <a:t>Спасибо за внимание </a:t>
            </a:r>
            <a:endParaRPr b="0" lang="ru-RU" sz="3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9640" y="274680"/>
            <a:ext cx="7385040" cy="4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87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000" spc="-1" strike="noStrike" cap="small">
                <a:solidFill>
                  <a:srgbClr val="575f6d"/>
                </a:solidFill>
                <a:latin typeface="Century Schoolbook"/>
              </a:rPr>
              <a:t>Планирование</a:t>
            </a:r>
            <a:endParaRPr b="0" lang="ru-RU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836640"/>
            <a:ext cx="8218800" cy="56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Между целями и результатами лежит большое количество рутинной работы. Как ее организовать, как проложить верный путь к достижению результатов, укладываясь при этом в плановые сроки? Необходимо начать планировать, грамотно и вдумчиво.</a:t>
            </a: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95640" y="274680"/>
            <a:ext cx="7529040" cy="5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2400" spc="-1" strike="noStrike" cap="small">
                <a:solidFill>
                  <a:srgbClr val="575f6d"/>
                </a:solidFill>
                <a:latin typeface="Century Schoolbook"/>
              </a:rPr>
              <a:t>Характеристики качественно составленного плана </a:t>
            </a: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002800" cy="542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6000"/>
          </a:bodyPr>
          <a:p>
            <a:pPr marL="244800" indent="-2448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Задать цель.</a:t>
            </a: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44800" indent="-2448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Четко выделить этапы работы.</a:t>
            </a: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44800" indent="-2448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Определить результат каждого этапа.</a:t>
            </a: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44800" indent="-2448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росчитать время, необходимое для реализации каждого из выделенных этапов.</a:t>
            </a: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44800" indent="-2448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роанализировать параллельные и последовательные рабочие процессы. Если часть процессов может реализовываться параллельно, следует составить сетевой график.</a:t>
            </a: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44800" indent="-2448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Определить необходимые ресурсы для каждого из этапов и составить их полный список.</a:t>
            </a: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44800" indent="-2448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Создать план обеспечения недостающими ресурсами.</a:t>
            </a: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44800" indent="-2448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Указать всех вовлеченных лиц и предусмотреть, сколько времени им следует уделить.</a:t>
            </a: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44800" indent="-2448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роанализировать потенциальные барьеры и наметить способы их преодоления.</a:t>
            </a: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44800" indent="-2448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редусмотреть альтернативные элементы плана в неясных и проблемных точках.</a:t>
            </a: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002800" cy="5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000" spc="-1" strike="noStrike" cap="small">
                <a:solidFill>
                  <a:srgbClr val="575f6d"/>
                </a:solidFill>
                <a:latin typeface="Century Schoolbook"/>
              </a:rPr>
              <a:t>Какими бывают планы</a:t>
            </a:r>
            <a:endParaRPr b="0" lang="ru-RU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117" name="Объект 3"/>
          <p:cNvGraphicFramePr/>
          <p:nvPr/>
        </p:nvGraphicFramePr>
        <p:xfrm>
          <a:off x="683640" y="980640"/>
          <a:ext cx="7704360" cy="5112360"/>
        </p:xfrm>
        <a:graphic>
          <a:graphicData uri="http://schemas.openxmlformats.org/drawingml/2006/table">
            <a:tbl>
              <a:tblPr/>
              <a:tblGrid>
                <a:gridCol w="4827600"/>
                <a:gridCol w="2876760"/>
              </a:tblGrid>
              <a:tr h="56772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изна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ид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7720">
                <a:tc row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 времен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раткосрочны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7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реднесрочны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7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лгосрочны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7720">
                <a:tc row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 целя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актическ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7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перативны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7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ратегическ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772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 точнос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етализированны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7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крупненны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9640" y="274680"/>
            <a:ext cx="7385040" cy="5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000" spc="-1" strike="noStrike" cap="small">
                <a:solidFill>
                  <a:srgbClr val="575f6d"/>
                </a:solidFill>
                <a:latin typeface="Century Schoolbook"/>
              </a:rPr>
              <a:t>План на день </a:t>
            </a:r>
            <a:endParaRPr b="0" lang="ru-RU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124640"/>
            <a:ext cx="8002800" cy="534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«Десять электронных писем во «Входящих», пять стикеров на мониторе, пятнадцать «не забыть» в голове и два крестика, нарисованных ручкой на руке», — планом дня не являются. </a:t>
            </a: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лан дня должен быть в одном месте, и обязательно в письменном виде. При этом план может быть в Outlook или в Excel, на бумажном бланке или в ежедневнике — это не принципиально</a:t>
            </a: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95640" y="274680"/>
            <a:ext cx="8064360" cy="77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400" spc="-1" strike="noStrike" cap="small">
                <a:solidFill>
                  <a:srgbClr val="575f6d"/>
                </a:solidFill>
                <a:latin typeface="Century Schoolbook"/>
              </a:rPr>
              <a:t>«Самая острая память тупее самого тупого карандаша».</a:t>
            </a: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146800" cy="542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Голова человека не способна держать слишком много информации одновременно. Обязательно записывайте все задачи на день и регулярно просматривайте этот список в течение дня. Это потребует всего несколько минут, но даст вам управляемость и подконтрольность ваших задач, возможность ничего не забывать и правильно расставлять приоритеты.</a:t>
            </a: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074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77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000" spc="-1" strike="noStrike" cap="small">
                <a:solidFill>
                  <a:srgbClr val="575f6d"/>
                </a:solidFill>
                <a:latin typeface="Century Schoolbook"/>
              </a:rPr>
              <a:t>Когда лучше планировать рабочий день? </a:t>
            </a:r>
            <a:endParaRPr b="0" lang="ru-RU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074800" cy="527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1000"/>
          </a:bodyPr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— 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Планировать день с вечера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— хорошо закрывается прошлый рабочий день, легче переключиться в режим нерабочего времени и отдыха, новый день начинается с достаточно ясной и определенной картины предстоящих дел, а не с хаоса. Удобно в более стабильной и предсказуемой деятельности.</a:t>
            </a: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— 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Планировать день с утра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— хорошо сочетается с решением «уточняющих задач», т.е. согласованием (или подтверждением) времени встреч с контрагентами, раздачей поручений и уточняющей информации подчиненным и т.п. Удобно в менее предсказуемой деятельности, когда выше значимость «уточняющих задач».</a:t>
            </a: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лан должен постоянно корректироваться при изменении обстоятельств. Времени на это потребуется максимум 5–7 минут в совокупности в течение дня. А сэкономит грамотное планирование — часы, а иногда и недели, освобожденные от лишней работы. </a:t>
            </a: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002800" cy="4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87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000" spc="-1" strike="noStrike" cap="small">
                <a:solidFill>
                  <a:srgbClr val="575f6d"/>
                </a:solidFill>
                <a:latin typeface="Century Schoolbook"/>
              </a:rPr>
              <a:t>Алгоритм планирования дня</a:t>
            </a:r>
            <a:endParaRPr b="0" lang="ru-RU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002800" cy="542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3000"/>
          </a:bodyPr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ри планировании дня мы имеем дело с тремя типами задач:</a:t>
            </a: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— 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«Жесткие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» встречи — привязанные к конкретному моменту времени («презентация в 12.00»).</a:t>
            </a: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— 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«Гибкие»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задачи — не привязанные к жесткому времени(«узнать время презентации»). «Гибкие» не означает «не обязательные» и не означает «не имеющие срока исполнения» — у этой задачи может быть срок, но нет конкретного момента времени, в который вы должны эту задачу решать.</a:t>
            </a: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— 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«Бюджетируемые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» задачи — крупные приоритетные задачи, у которых нет жесткого времени исполнения, но которые требуют достаточно большого ресурса времени («подготовиться к презентации — 2 часа»).</a:t>
            </a: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Такая классификация помогает оптимально сочетать жесткое и гибкое планирование. Встречи планируются жестко, а «гибкие» задачи — более мягко.</a:t>
            </a: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95640" y="116640"/>
            <a:ext cx="82087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83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2700" spc="-1" strike="noStrike" cap="small">
                <a:solidFill>
                  <a:srgbClr val="575f6d"/>
                </a:solidFill>
                <a:latin typeface="Century Schoolbook"/>
              </a:rPr>
              <a:t>Результато-ориентированный</a:t>
            </a:r>
            <a:r>
              <a:rPr b="0" lang="ru-RU" sz="3000" spc="-1" strike="noStrike" cap="small">
                <a:solidFill>
                  <a:srgbClr val="575f6d"/>
                </a:solidFill>
                <a:latin typeface="Century Schoolbook"/>
              </a:rPr>
              <a:t> список задач</a:t>
            </a:r>
            <a:br>
              <a:rPr sz="3000"/>
            </a:br>
            <a:endParaRPr b="0" lang="ru-RU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124640"/>
            <a:ext cx="8146800" cy="534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8000"/>
          </a:bodyPr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ри планировании «гибких» задач, не привязанные к жесткому времени исполнения, рекомендую использовать простую технику — результато-ориентированный список. </a:t>
            </a: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Например: </a:t>
            </a: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Обычно:</a:t>
            </a: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—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Созвониться с Ивановым</a:t>
            </a: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—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ереговорить с Петровым</a:t>
            </a: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—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ровести совещание </a:t>
            </a: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Эффективнее: </a:t>
            </a: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—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Дожать Иванова до заказа</a:t>
            </a: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—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Добыть у Петрова информацию</a:t>
            </a: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—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Дать толчок проекту </a:t>
            </a: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Используйте сильные, действенные глаголы и ясную формулировку результата.</a:t>
            </a: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Эркер">
  <a:themeElements>
    <a:clrScheme name="Эркер">
      <a:dk1>
        <a:srgbClr val="000000"/>
      </a:dk1>
      <a:lt1>
        <a:srgbClr val="ffffff"/>
      </a:lt1>
      <a:dk2>
        <a:srgbClr val="575f6d"/>
      </a:dk2>
      <a:lt2>
        <a:srgbClr val="fff39d"/>
      </a:lt2>
      <a:accent1>
        <a:srgbClr val="fe8637"/>
      </a:accent1>
      <a:accent2>
        <a:srgbClr val="7598d9"/>
      </a:accent2>
      <a:accent3>
        <a:srgbClr val="b32c16"/>
      </a:accent3>
      <a:accent4>
        <a:srgbClr val="f5cd2d"/>
      </a:accent4>
      <a:accent5>
        <a:srgbClr val="aebad5"/>
      </a:accent5>
      <a:accent6>
        <a:srgbClr val="777c84"/>
      </a:accent6>
      <a:hlink>
        <a:srgbClr val="d2611c"/>
      </a:hlink>
      <a:folHlink>
        <a:srgbClr val="3b435b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Эркер">
  <a:themeElements>
    <a:clrScheme name="Эркер">
      <a:dk1>
        <a:srgbClr val="000000"/>
      </a:dk1>
      <a:lt1>
        <a:srgbClr val="ffffff"/>
      </a:lt1>
      <a:dk2>
        <a:srgbClr val="575f6d"/>
      </a:dk2>
      <a:lt2>
        <a:srgbClr val="fff39d"/>
      </a:lt2>
      <a:accent1>
        <a:srgbClr val="fe8637"/>
      </a:accent1>
      <a:accent2>
        <a:srgbClr val="7598d9"/>
      </a:accent2>
      <a:accent3>
        <a:srgbClr val="b32c16"/>
      </a:accent3>
      <a:accent4>
        <a:srgbClr val="f5cd2d"/>
      </a:accent4>
      <a:accent5>
        <a:srgbClr val="aebad5"/>
      </a:accent5>
      <a:accent6>
        <a:srgbClr val="777c84"/>
      </a:accent6>
      <a:hlink>
        <a:srgbClr val="d2611c"/>
      </a:hlink>
      <a:folHlink>
        <a:srgbClr val="3b435b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Oriel</Template>
  <TotalTime>113</TotalTime>
  <Application>LibreOffice/7.4.7.2$Linux_X86_64 LibreOffice_project/40$Build-2</Application>
  <AppVersion>15.0000</AppVersion>
  <Words>1282</Words>
  <Paragraphs>140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0-05T14:46:47Z</dcterms:created>
  <dc:creator>Лилия</dc:creator>
  <dc:description/>
  <dc:language>en-US</dc:language>
  <cp:lastModifiedBy>Лилия</cp:lastModifiedBy>
  <dcterms:modified xsi:type="dcterms:W3CDTF">2017-10-05T16:51:08Z</dcterms:modified>
  <cp:revision>12</cp:revision>
  <dc:subject/>
  <dc:title>Планирование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16</vt:r8>
  </property>
</Properties>
</file>