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814F-041A-4AC2-981C-5085921E8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7440" y="3087720"/>
            <a:ext cx="703872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8963-AD7C-4DD0-9A6A-83DC0312C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7440" y="308772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4280" y="308772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B0BE-46F1-40F9-A97F-778697557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77400" y="156744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7360" y="156744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7440" y="308772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77400" y="308772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7360" y="308772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F246-043F-4FDD-B8A4-5FFB7396B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5110-E326-4BE9-BD6F-8CA484A801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B834-707C-4786-B5D6-BBB2C228D8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7548-D0B3-4E12-BAA3-4642CB7200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915E1-968D-4B60-BAD5-F8CB6A69E0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FE4C-368C-4DB2-A4A9-34B1DAB440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7440" y="393840"/>
            <a:ext cx="7038720" cy="42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5EAD-198C-4677-B0B9-7BDEE8A2E7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97440" y="308772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255E-A93B-49B3-8204-91D44F48C6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2D98-E180-436E-8003-55E2F2130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4280" y="308772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312B3-4A12-430E-AE4A-BC9E179466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97440" y="3087720"/>
            <a:ext cx="703872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A3A7F-A1F9-476E-899B-6F0FA36813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97440" y="3087720"/>
            <a:ext cx="703872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B339-E62A-4C0D-B6DE-E3E9C4DF77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97440" y="308772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4280" y="308772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F2EC-646A-4144-B321-F7D4E108D0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77400" y="156744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57360" y="156744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97440" y="308772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77400" y="308772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57360" y="308772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E8A9-7809-49C1-A040-B494114C72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E244-9F30-4B73-9C40-5CD097850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11E7-40F5-479E-9E01-6AA9B871E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E094-82CE-40CE-BCD6-5D011DA87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7440" y="393840"/>
            <a:ext cx="7038720" cy="42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9958-6420-4D9A-B715-2F5EB7CB0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7440" y="308772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1CC8-48B4-43FB-9C8A-0439FE20D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4280" y="308772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F69D-4FB7-42A9-AF15-80DDF5126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7440" y="3087720"/>
            <a:ext cx="703872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F190-0116-4E69-9392-A66E6E55B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dk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ape 10"/>
          <p:cNvSpPr/>
          <p:nvPr/>
        </p:nvSpPr>
        <p:spPr>
          <a:xfrm rot="5400000">
            <a:off x="7500600" y="0"/>
            <a:ext cx="1643400" cy="1643400"/>
          </a:xfrm>
          <a:prstGeom prst="diagStripe">
            <a:avLst>
              <a:gd name="adj" fmla="val 0"/>
            </a:avLst>
          </a:prstGeom>
          <a:solidFill>
            <a:schemeClr val="lt1">
              <a:alpha val="3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" name="Shape 11"/>
          <p:cNvGrpSpPr/>
          <p:nvPr/>
        </p:nvGrpSpPr>
        <p:grpSpPr>
          <a:xfrm>
            <a:off x="5760" y="-8280"/>
            <a:ext cx="5138280" cy="5152320"/>
            <a:chOff x="5760" y="-8280"/>
            <a:chExt cx="5138280" cy="5152320"/>
          </a:xfrm>
        </p:grpSpPr>
        <p:sp>
          <p:nvSpPr>
            <p:cNvPr id="2" name="Shape 12"/>
            <p:cNvSpPr/>
            <p:nvPr/>
          </p:nvSpPr>
          <p:spPr>
            <a:xfrm rot="16200000">
              <a:off x="360" y="360"/>
              <a:ext cx="5152320" cy="5134680"/>
            </a:xfrm>
            <a:prstGeom prst="diagStripe">
              <a:avLst>
                <a:gd name="adj" fmla="val 50000"/>
              </a:avLst>
            </a:prstGeom>
            <a:solidFill>
              <a:schemeClr val="lt1">
                <a:alpha val="3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" name="Shape 13"/>
            <p:cNvSpPr/>
            <p:nvPr/>
          </p:nvSpPr>
          <p:spPr>
            <a:xfrm rot="16200000">
              <a:off x="0" y="1142280"/>
              <a:ext cx="3996360" cy="3982320"/>
            </a:xfrm>
            <a:prstGeom prst="diagStripe">
              <a:avLst>
                <a:gd name="adj" fmla="val 58774"/>
              </a:avLst>
            </a:prstGeom>
            <a:solidFill>
              <a:schemeClr val="lt1">
                <a:alpha val="3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" name="Shape 14"/>
            <p:cNvSpPr/>
            <p:nvPr/>
          </p:nvSpPr>
          <p:spPr>
            <a:xfrm rot="16200000">
              <a:off x="1800" y="720"/>
              <a:ext cx="2299320" cy="2291400"/>
            </a:xfrm>
            <a:prstGeom prst="diagStripe">
              <a:avLst>
                <a:gd name="adj" fmla="val 50000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" name="Shape 15"/>
            <p:cNvSpPr/>
            <p:nvPr/>
          </p:nvSpPr>
          <p:spPr>
            <a:xfrm flipH="1">
              <a:off x="652680" y="588240"/>
              <a:ext cx="2299680" cy="2291040"/>
            </a:xfrm>
            <a:prstGeom prst="diagStripe">
              <a:avLst>
                <a:gd name="adj" fmla="val 50000"/>
              </a:avLst>
            </a:prstGeom>
            <a:solidFill>
              <a:schemeClr val="l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37000" y="1578240"/>
            <a:ext cx="5017320" cy="1578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" sz="1000" spc="-1" strike="noStrike">
                <a:solidFill>
                  <a:schemeClr val="lt1"/>
                </a:solidFill>
                <a:latin typeface="Lato"/>
                <a:ea typeface="La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488376F-7BD1-44F2-A7F8-F6E7952FADF4}" type="slidenum">
              <a:rPr b="0" lang="ru" sz="1000" spc="-1" strike="noStrike">
                <a:solidFill>
                  <a:schemeClr val="lt1"/>
                </a:solidFill>
                <a:latin typeface="Lato"/>
                <a:ea typeface="Lato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dk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Shape 42"/>
          <p:cNvGrpSpPr/>
          <p:nvPr/>
        </p:nvGrpSpPr>
        <p:grpSpPr>
          <a:xfrm>
            <a:off x="0" y="381240"/>
            <a:ext cx="1037520" cy="1015920"/>
            <a:chOff x="0" y="381240"/>
            <a:chExt cx="1037520" cy="1015920"/>
          </a:xfrm>
        </p:grpSpPr>
        <p:sp>
          <p:nvSpPr>
            <p:cNvPr id="46" name="Shape 43"/>
            <p:cNvSpPr/>
            <p:nvPr/>
          </p:nvSpPr>
          <p:spPr>
            <a:xfrm rot="16200000">
              <a:off x="0" y="381240"/>
              <a:ext cx="808560" cy="808560"/>
            </a:xfrm>
            <a:prstGeom prst="diagStripe">
              <a:avLst>
                <a:gd name="adj" fmla="val 50000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7" name="Shape 44"/>
            <p:cNvSpPr/>
            <p:nvPr/>
          </p:nvSpPr>
          <p:spPr>
            <a:xfrm flipH="1">
              <a:off x="228960" y="588600"/>
              <a:ext cx="808560" cy="808560"/>
            </a:xfrm>
            <a:prstGeom prst="diagStripe">
              <a:avLst>
                <a:gd name="adj" fmla="val 50000"/>
              </a:avLst>
            </a:prstGeom>
            <a:solidFill>
              <a:schemeClr val="l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" sz="1000" spc="-1" strike="noStrike">
                <a:solidFill>
                  <a:schemeClr val="lt1"/>
                </a:solidFill>
                <a:latin typeface="Lato"/>
                <a:ea typeface="La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76B9B27-6110-40C2-9481-31EDD7C6376E}" type="slidenum">
              <a:rPr b="0" lang="ru" sz="1000" spc="-1" strike="noStrike">
                <a:solidFill>
                  <a:schemeClr val="lt1"/>
                </a:solidFill>
                <a:latin typeface="Lato"/>
                <a:ea typeface="Lato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37000" y="1578240"/>
            <a:ext cx="5017320" cy="1578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4000" spc="-1" strike="noStrike">
                <a:solidFill>
                  <a:schemeClr val="lt1"/>
                </a:solidFill>
                <a:latin typeface="Montserrat"/>
                <a:ea typeface="Montserrat"/>
              </a:rPr>
              <a:t>Pyth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83920" y="3253680"/>
            <a:ext cx="3470400" cy="50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chemeClr val="lt1"/>
                </a:solidFill>
                <a:latin typeface="Lato"/>
                <a:ea typeface="Lato"/>
              </a:rPr>
              <a:t>midd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hape 136"/>
          <p:cNvSpPr/>
          <p:nvPr/>
        </p:nvSpPr>
        <p:spPr>
          <a:xfrm>
            <a:off x="5635800" y="4620960"/>
            <a:ext cx="34704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400" spc="-1" strike="noStrike">
                <a:solidFill>
                  <a:srgbClr val="b7b7b7"/>
                </a:solidFill>
                <a:latin typeface="Arial"/>
                <a:ea typeface="Arial"/>
              </a:rPr>
              <a:t>Буженко Александр Александров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52640" y="1984680"/>
            <a:ext cx="7038720" cy="1173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Локальные и глобальные пер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97440" y="1566360"/>
            <a:ext cx="7038720" cy="291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chemeClr val="lt1"/>
                </a:solidFill>
                <a:latin typeface="Lato"/>
                <a:ea typeface="Lato"/>
              </a:rPr>
              <a:t>Локальные переменные - это переменные созданные в пределах одной области и доступны только т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chemeClr val="lt1"/>
                </a:solidFill>
                <a:latin typeface="Lato"/>
                <a:ea typeface="Lato"/>
              </a:rPr>
              <a:t>Глобальные переменные - это переменные созданы в “глобальной” области вашего кода и доступны как там так и в функциях (без передачи по параметр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1447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3f3f3"/>
                </a:solidFill>
                <a:latin typeface="Roboto"/>
                <a:ea typeface="Roboto"/>
              </a:rPr>
              <a:t>Внутри функции можно использовать переменные, объявленные вне этой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Shape 575" descr=""/>
          <p:cNvPicPr/>
          <p:nvPr/>
        </p:nvPicPr>
        <p:blipFill>
          <a:blip r:embed="rId1"/>
          <a:stretch/>
        </p:blipFill>
        <p:spPr>
          <a:xfrm>
            <a:off x="504360" y="2045520"/>
            <a:ext cx="83624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lt1"/>
              </a:solidFill>
              <a:latin typeface="Montserrat"/>
              <a:ea typeface="Montserra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Такие переменные (объявленные вне функции, но доступные внутри функции) называются </a:t>
            </a:r>
            <a:r>
              <a:rPr b="0" i="1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глобальными</a:t>
            </a: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1640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2400" spc="-1" strike="noStrike">
                <a:solidFill>
                  <a:srgbClr val="ffffff"/>
                </a:solidFill>
                <a:latin typeface="Roboto"/>
                <a:ea typeface="Roboto"/>
              </a:rPr>
              <a:t>Но если инициализировать какую-то переменную внутри функции, использовать эту переменную вне функции не удастся. 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7440" y="2351520"/>
            <a:ext cx="7038720" cy="2126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300" spc="-1" strike="noStrike">
              <a:solidFill>
                <a:schemeClr val="lt1"/>
              </a:solidFill>
              <a:latin typeface="Lato"/>
              <a:ea typeface="Lato"/>
            </a:endParaRPr>
          </a:p>
        </p:txBody>
      </p:sp>
      <p:pic>
        <p:nvPicPr>
          <p:cNvPr id="111" name="Shape 588" descr=""/>
          <p:cNvPicPr/>
          <p:nvPr/>
        </p:nvPicPr>
        <p:blipFill>
          <a:blip r:embed="rId1"/>
          <a:stretch/>
        </p:blipFill>
        <p:spPr>
          <a:xfrm>
            <a:off x="455400" y="2457720"/>
            <a:ext cx="8334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2400" spc="-1" strike="noStrike">
                <a:solidFill>
                  <a:schemeClr val="lt1"/>
                </a:solidFill>
                <a:latin typeface="Montserrat"/>
                <a:ea typeface="Montserrat"/>
              </a:rPr>
              <a:t>Что тут буд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300" spc="-1" strike="noStrike">
              <a:solidFill>
                <a:schemeClr val="lt1"/>
              </a:solidFill>
              <a:latin typeface="Lato"/>
              <a:ea typeface="Lato"/>
            </a:endParaRPr>
          </a:p>
        </p:txBody>
      </p:sp>
      <p:pic>
        <p:nvPicPr>
          <p:cNvPr id="114" name="Shape 595" descr=""/>
          <p:cNvPicPr/>
          <p:nvPr/>
        </p:nvPicPr>
        <p:blipFill>
          <a:blip r:embed="rId1"/>
          <a:stretch/>
        </p:blipFill>
        <p:spPr>
          <a:xfrm>
            <a:off x="466560" y="1946520"/>
            <a:ext cx="836244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97440" y="540360"/>
            <a:ext cx="7038720" cy="393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Если нужно, чтобы функция вернула не одно значение, а два или более, то для этого функция может вернуть список из двух или нескольких значени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r>
              <a:rPr b="1" i="1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return [a, b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97440" y="578520"/>
            <a:ext cx="7038720" cy="3899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Тогда результат вызова функции можно будет использовать во множественном присваиван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r>
              <a:rPr b="1" i="1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n, m = f(a, 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4800" spc="-1" strike="noStrike">
                <a:solidFill>
                  <a:schemeClr val="lt1"/>
                </a:solidFill>
                <a:latin typeface="Montserrat"/>
                <a:ea typeface="Montserrat"/>
              </a:rPr>
              <a:t>Фун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Функции — это такие участки кода, которые изолированы от остальный программы и выполняются только тогда, когда вызываю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lt1"/>
              </a:solidFill>
              <a:latin typeface="Montserrat"/>
              <a:ea typeface="Montserra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300" spc="-1" strike="noStrike">
              <a:solidFill>
                <a:schemeClr val="lt1"/>
              </a:solidFill>
              <a:latin typeface="Lato"/>
              <a:ea typeface="Lato"/>
            </a:endParaRPr>
          </a:p>
        </p:txBody>
      </p:sp>
      <p:pic>
        <p:nvPicPr>
          <p:cNvPr id="94" name="Shape 523" descr=""/>
          <p:cNvPicPr/>
          <p:nvPr/>
        </p:nvPicPr>
        <p:blipFill>
          <a:blip r:embed="rId1"/>
          <a:stretch/>
        </p:blipFill>
        <p:spPr>
          <a:xfrm>
            <a:off x="390600" y="1767960"/>
            <a:ext cx="8362440" cy="21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27160" y="388440"/>
            <a:ext cx="7953120" cy="435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chemeClr val="lt1"/>
                </a:solidFill>
                <a:latin typeface="Lato"/>
                <a:ea typeface="Lato"/>
              </a:rPr>
              <a:t>У функции е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15000"/>
              </a:lnSpc>
              <a:spcBef>
                <a:spcPts val="1599"/>
              </a:spcBef>
              <a:buClr>
                <a:srgbClr val="ffffff"/>
              </a:buClr>
              <a:buFont typeface="Lato"/>
              <a:buAutoNum type="arabicPeriod"/>
              <a:tabLst>
                <a:tab algn="l" pos="0"/>
              </a:tabLst>
            </a:pPr>
            <a:r>
              <a:rPr b="0" lang="ru" sz="3000" spc="-1" strike="noStrike">
                <a:solidFill>
                  <a:schemeClr val="lt1"/>
                </a:solidFill>
                <a:latin typeface="Lato"/>
                <a:ea typeface="Lato"/>
              </a:rPr>
              <a:t>Имя(обязатель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15000"/>
              </a:lnSpc>
              <a:buClr>
                <a:srgbClr val="ffffff"/>
              </a:buClr>
              <a:buFont typeface="Lato"/>
              <a:buAutoNum type="arabicPeriod"/>
              <a:tabLst>
                <a:tab algn="l" pos="0"/>
              </a:tabLst>
            </a:pPr>
            <a:r>
              <a:rPr b="0" lang="ru" sz="3000" spc="-1" strike="noStrike">
                <a:solidFill>
                  <a:schemeClr val="lt1"/>
                </a:solidFill>
                <a:latin typeface="Lato"/>
                <a:ea typeface="Lato"/>
              </a:rPr>
              <a:t>Возвращаемое значение (не обязатель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15000"/>
              </a:lnSpc>
              <a:buClr>
                <a:srgbClr val="ffffff"/>
              </a:buClr>
              <a:buFont typeface="Lato"/>
              <a:buAutoNum type="arabicPeriod"/>
              <a:tabLst>
                <a:tab algn="l" pos="0"/>
              </a:tabLst>
            </a:pPr>
            <a:r>
              <a:rPr b="0" lang="ru" sz="3000" spc="-1" strike="noStrike">
                <a:solidFill>
                  <a:schemeClr val="lt1"/>
                </a:solidFill>
                <a:latin typeface="Lato"/>
                <a:ea typeface="Lato"/>
              </a:rPr>
              <a:t>Входящие параметры  (не обязательно)</a:t>
            </a:r>
            <a:br>
              <a:rPr sz="3000"/>
            </a:br>
            <a:r>
              <a:rPr b="0" lang="ru" sz="3000" spc="-1" strike="noStrike">
                <a:solidFill>
                  <a:schemeClr val="lt1"/>
                </a:solidFill>
                <a:latin typeface="Lato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Lato"/>
                <a:ea typeface="Lato"/>
              </a:rPr>
              <a:t>Имя - это </a:t>
            </a: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идентификатор, то есть имя нашей функции по которому мы можем вызывать функц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97440" y="401040"/>
            <a:ext cx="7038720" cy="4077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После идентификатора в круглых скобках идет список параметров, которые получает наша функц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def sum(n1,n2,n3,n4,size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	</a:t>
            </a: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	</a:t>
            </a: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	</a:t>
            </a: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	</a:t>
            </a: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" sz="2400" spc="-1" strike="noStrike">
                <a:solidFill>
                  <a:srgbClr val="ffffff"/>
                </a:solidFill>
                <a:latin typeface="Roboto"/>
                <a:ea typeface="Roboto"/>
              </a:rPr>
              <a:t>Далее идет тело функции, оформленное в виде блока, то есть с отступ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Shape 544" descr=""/>
          <p:cNvPicPr/>
          <p:nvPr/>
        </p:nvPicPr>
        <p:blipFill>
          <a:blip r:embed="rId1"/>
          <a:stretch/>
        </p:blipFill>
        <p:spPr>
          <a:xfrm>
            <a:off x="453960" y="2270880"/>
            <a:ext cx="8372160" cy="12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14560" y="933120"/>
            <a:ext cx="7221600" cy="3545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Инструкция </a:t>
            </a:r>
            <a:r>
              <a:rPr b="0" lang="ru" sz="3000" spc="-1" strike="noStrike">
                <a:solidFill>
                  <a:srgbClr val="6d9eeb"/>
                </a:solidFill>
                <a:latin typeface="Roboto"/>
                <a:ea typeface="Roboto"/>
              </a:rPr>
              <a:t>return </a:t>
            </a: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может встречаться в произвольном месте функции, ее исполнение завершает работу функции и возвращает указанное значение в место вызо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97440" y="768240"/>
            <a:ext cx="7038720" cy="3710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Если функция не возвращает значения, то инструкция return используется без возвращаемого значения. В функциях, которым не нужно возвращать значения, инструкция return может отсутств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ocus">
  <a:themeElements>
    <a:clrScheme name="Focus">
      <a:dk1>
        <a:srgbClr val="1b212c"/>
      </a:dk1>
      <a:lt1>
        <a:srgbClr val="ffffff"/>
      </a:lt1>
      <a:dk2>
        <a:srgbClr val="d9d9d9"/>
      </a:dk2>
      <a:lt2>
        <a:srgbClr val="82c7a5"/>
      </a:lt2>
      <a:accent1>
        <a:srgbClr val="0145ac"/>
      </a:accent1>
      <a:accent2>
        <a:srgbClr val="eece1a"/>
      </a:accent2>
      <a:accent3>
        <a:srgbClr val="4e5567"/>
      </a:accent3>
      <a:accent4>
        <a:srgbClr val="f4d6ad"/>
      </a:accent4>
      <a:accent5>
        <a:srgbClr val="7890cd"/>
      </a:accent5>
      <a:accent6>
        <a:srgbClr val="f15e22"/>
      </a:accent6>
      <a:hlink>
        <a:srgbClr val="7890cd"/>
      </a:hlink>
      <a:folHlink>
        <a:srgbClr val="7890c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ocus">
  <a:themeElements>
    <a:clrScheme name="Focus">
      <a:dk1>
        <a:srgbClr val="1b212c"/>
      </a:dk1>
      <a:lt1>
        <a:srgbClr val="ffffff"/>
      </a:lt1>
      <a:dk2>
        <a:srgbClr val="d9d9d9"/>
      </a:dk2>
      <a:lt2>
        <a:srgbClr val="82c7a5"/>
      </a:lt2>
      <a:accent1>
        <a:srgbClr val="0145ac"/>
      </a:accent1>
      <a:accent2>
        <a:srgbClr val="eece1a"/>
      </a:accent2>
      <a:accent3>
        <a:srgbClr val="4e5567"/>
      </a:accent3>
      <a:accent4>
        <a:srgbClr val="f4d6ad"/>
      </a:accent4>
      <a:accent5>
        <a:srgbClr val="7890cd"/>
      </a:accent5>
      <a:accent6>
        <a:srgbClr val="f15e22"/>
      </a:accent6>
      <a:hlink>
        <a:srgbClr val="7890cd"/>
      </a:hlink>
      <a:folHlink>
        <a:srgbClr val="7890c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  <Words>289</Words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 Буженко</cp:lastModifiedBy>
  <dcterms:modified xsi:type="dcterms:W3CDTF">2019-03-13T07:14:27Z</dcterms:modified>
  <cp:revision>12</cp:revision>
  <dc:subject/>
  <dc:title>Python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Экран (16:9)</vt:lpwstr>
  </property>
  <property fmtid="{D5CDD505-2E9C-101B-9397-08002B2CF9AE}" pid="4" name="Slides">
    <vt:r8>18</vt:r8>
  </property>
</Properties>
</file>