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F451-AFE4-4D4C-BBBB-DF5DDA5A7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8453-3710-4735-BFE9-F7DF7217E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1424-8F8A-4D3A-BBAC-129FE26A7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7740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736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9744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7740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736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ADD9-31D2-4358-938C-77B376867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34A6-911D-41B6-87E5-FC3BFC18F0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25F8-6641-4A50-8C03-7156537D92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48142-7A38-4228-8094-F5D56BA193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DE93-39C2-443D-9FA9-90962F9527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E29D-A84B-45B2-8AC7-AABB0E31E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7440" y="393840"/>
            <a:ext cx="7038720" cy="42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1ACF-F117-4623-AB9A-A18469F19A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972A-0C77-444B-9CAA-45E8DE08E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2222-231C-4B98-94C0-E3D57A679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BBB54-7D5C-4C76-B99F-6EB324AB51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3AE6B-C02B-4F2B-ADC4-8A50D977F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03CB-DD5C-45F4-9C52-68218BA90E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A61C-18A7-4291-94B3-740EAA4EA5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7740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7360" y="156744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9744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7740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7360" y="3087720"/>
            <a:ext cx="226620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B7C7-C829-4B85-9CD9-E51D0EDFB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68BBE-1F51-475E-970E-01A53425C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BAEB-22EF-44EF-93A9-13BD38599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B18A-8FFF-4989-8901-69177F755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7440" y="393840"/>
            <a:ext cx="7038720" cy="423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791DC-2FCD-44A7-B0EC-249B8251B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9AEC-9BD5-4581-83F9-D797B1A88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29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4280" y="308772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5F4B1-A15A-4CFC-86F4-C471638E5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4280" y="1567440"/>
            <a:ext cx="343476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7440" y="3087720"/>
            <a:ext cx="7038720" cy="13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4B00-CBAD-4832-81D5-D7BB8716E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dk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"/>
          <p:cNvSpPr/>
          <p:nvPr/>
        </p:nvSpPr>
        <p:spPr>
          <a:xfrm rot="5400000">
            <a:off x="7500600" y="0"/>
            <a:ext cx="1643400" cy="1643400"/>
          </a:xfrm>
          <a:prstGeom prst="diagStripe">
            <a:avLst>
              <a:gd name="adj" fmla="val 0"/>
            </a:avLst>
          </a:prstGeom>
          <a:solidFill>
            <a:schemeClr val="lt1">
              <a:alpha val="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" name="Shape 11"/>
          <p:cNvGrpSpPr/>
          <p:nvPr/>
        </p:nvGrpSpPr>
        <p:grpSpPr>
          <a:xfrm>
            <a:off x="5760" y="-8280"/>
            <a:ext cx="5138280" cy="5152320"/>
            <a:chOff x="5760" y="-8280"/>
            <a:chExt cx="5138280" cy="5152320"/>
          </a:xfrm>
        </p:grpSpPr>
        <p:sp>
          <p:nvSpPr>
            <p:cNvPr id="2" name="Shape 12"/>
            <p:cNvSpPr/>
            <p:nvPr/>
          </p:nvSpPr>
          <p:spPr>
            <a:xfrm rot="16200000">
              <a:off x="360" y="360"/>
              <a:ext cx="5152320" cy="5134680"/>
            </a:xfrm>
            <a:prstGeom prst="diagStripe">
              <a:avLst>
                <a:gd name="adj" fmla="val 50000"/>
              </a:avLst>
            </a:prstGeom>
            <a:solidFill>
              <a:schemeClr val="lt1">
                <a:alpha val="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" name="Shape 13"/>
            <p:cNvSpPr/>
            <p:nvPr/>
          </p:nvSpPr>
          <p:spPr>
            <a:xfrm rot="16200000">
              <a:off x="0" y="1142280"/>
              <a:ext cx="3996360" cy="3982320"/>
            </a:xfrm>
            <a:prstGeom prst="diagStripe">
              <a:avLst>
                <a:gd name="adj" fmla="val 58774"/>
              </a:avLst>
            </a:prstGeom>
            <a:solidFill>
              <a:schemeClr val="lt1">
                <a:alpha val="3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" name="Shape 14"/>
            <p:cNvSpPr/>
            <p:nvPr/>
          </p:nvSpPr>
          <p:spPr>
            <a:xfrm rot="16200000">
              <a:off x="1800" y="720"/>
              <a:ext cx="2299320" cy="2291400"/>
            </a:xfrm>
            <a:prstGeom prst="diagStripe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5" name="Shape 15"/>
            <p:cNvSpPr/>
            <p:nvPr/>
          </p:nvSpPr>
          <p:spPr>
            <a:xfrm flipH="1">
              <a:off x="652680" y="588240"/>
              <a:ext cx="2299680" cy="2291040"/>
            </a:xfrm>
            <a:prstGeom prst="diagStripe">
              <a:avLst>
                <a:gd name="adj" fmla="val 50000"/>
              </a:avLst>
            </a:prstGeom>
            <a:solidFill>
              <a:schemeClr val="l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37000" y="1578240"/>
            <a:ext cx="5017320" cy="1578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" sz="1000" spc="-1" strike="noStrike">
                <a:solidFill>
                  <a:schemeClr val="lt1"/>
                </a:solidFill>
                <a:latin typeface="Lato"/>
                <a:ea typeface="La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9E833CD-FF55-454F-B25B-CB5C2A071770}" type="slidenum">
              <a:rPr b="0" lang="ru" sz="1000" spc="-1" strike="noStrike">
                <a:solidFill>
                  <a:schemeClr val="lt1"/>
                </a:solidFill>
                <a:latin typeface="Lato"/>
                <a:ea typeface="Lat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dk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Shape 42"/>
          <p:cNvGrpSpPr/>
          <p:nvPr/>
        </p:nvGrpSpPr>
        <p:grpSpPr>
          <a:xfrm>
            <a:off x="0" y="381240"/>
            <a:ext cx="1037520" cy="1015920"/>
            <a:chOff x="0" y="381240"/>
            <a:chExt cx="1037520" cy="1015920"/>
          </a:xfrm>
        </p:grpSpPr>
        <p:sp>
          <p:nvSpPr>
            <p:cNvPr id="46" name="Shape 43"/>
            <p:cNvSpPr/>
            <p:nvPr/>
          </p:nvSpPr>
          <p:spPr>
            <a:xfrm rot="16200000">
              <a:off x="0" y="381240"/>
              <a:ext cx="808560" cy="808560"/>
            </a:xfrm>
            <a:prstGeom prst="diagStripe">
              <a:avLst>
                <a:gd name="adj" fmla="val 50000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47" name="Shape 44"/>
            <p:cNvSpPr/>
            <p:nvPr/>
          </p:nvSpPr>
          <p:spPr>
            <a:xfrm flipH="1">
              <a:off x="228960" y="588600"/>
              <a:ext cx="808560" cy="808560"/>
            </a:xfrm>
            <a:prstGeom prst="diagStripe">
              <a:avLst>
                <a:gd name="adj" fmla="val 50000"/>
              </a:avLst>
            </a:prstGeom>
            <a:solidFill>
              <a:schemeClr val="l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8472600" y="4663080"/>
            <a:ext cx="548280" cy="39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ru" sz="1000" spc="-1" strike="noStrike">
                <a:solidFill>
                  <a:schemeClr val="lt1"/>
                </a:solidFill>
                <a:latin typeface="Lato"/>
                <a:ea typeface="La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87A3904E-474C-4C2F-9193-A1F17CCAE47A}" type="slidenum">
              <a:rPr b="0" lang="ru" sz="1000" spc="-1" strike="noStrike">
                <a:solidFill>
                  <a:schemeClr val="lt1"/>
                </a:solidFill>
                <a:latin typeface="Lato"/>
                <a:ea typeface="Lat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37000" y="1578240"/>
            <a:ext cx="5017320" cy="1578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4000" spc="-1" strike="noStrike">
                <a:solidFill>
                  <a:schemeClr val="lt1"/>
                </a:solidFill>
                <a:latin typeface="Montserrat"/>
                <a:ea typeface="Montserrat"/>
              </a:rPr>
              <a:t>Pyth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83920" y="3253680"/>
            <a:ext cx="3470400" cy="50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midd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hape 136"/>
          <p:cNvSpPr/>
          <p:nvPr/>
        </p:nvSpPr>
        <p:spPr>
          <a:xfrm>
            <a:off x="5635800" y="4620960"/>
            <a:ext cx="347040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rgbClr val="b7b7b7"/>
                </a:solidFill>
                <a:latin typeface="Arial"/>
                <a:ea typeface="Arial"/>
              </a:rPr>
              <a:t>Буженко Александр Александрови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52640" y="1984680"/>
            <a:ext cx="7038720" cy="1173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Локальные и глобальные переменн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97440" y="1566360"/>
            <a:ext cx="7038720" cy="2912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Локальные переменные - это переменные созданные в пределах одной области и доступны только т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Глобальные переменные - это переменные созданы в “глобальной” области вашего кода и доступны как там так и в функциях (без передачи по параметру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1447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3f3f3"/>
                </a:solidFill>
                <a:latin typeface="Roboto"/>
                <a:ea typeface="Roboto"/>
              </a:rPr>
              <a:t>Внутри функции можно использовать переменные, объявленные вне этой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Shape 575" descr=""/>
          <p:cNvPicPr/>
          <p:nvPr/>
        </p:nvPicPr>
        <p:blipFill>
          <a:blip r:embed="rId1"/>
          <a:stretch/>
        </p:blipFill>
        <p:spPr>
          <a:xfrm>
            <a:off x="504360" y="2045520"/>
            <a:ext cx="83624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lt1"/>
              </a:solidFill>
              <a:latin typeface="Montserrat"/>
              <a:ea typeface="Montserra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Такие переменные (объявленные вне функции, но доступные внутри функции) называются </a:t>
            </a:r>
            <a:r>
              <a:rPr b="0" i="1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глобальными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16405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ffffff"/>
                </a:solidFill>
                <a:latin typeface="Roboto"/>
                <a:ea typeface="Roboto"/>
              </a:rPr>
              <a:t>Но если инициализировать какую-то переменную внутри функции, использовать эту переменную вне функции не удастся.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7440" y="2351520"/>
            <a:ext cx="7038720" cy="2126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chemeClr val="lt1"/>
              </a:solidFill>
              <a:latin typeface="Lato"/>
              <a:ea typeface="Lato"/>
            </a:endParaRPr>
          </a:p>
        </p:txBody>
      </p:sp>
      <p:pic>
        <p:nvPicPr>
          <p:cNvPr id="111" name="Shape 588" descr=""/>
          <p:cNvPicPr/>
          <p:nvPr/>
        </p:nvPicPr>
        <p:blipFill>
          <a:blip r:embed="rId1"/>
          <a:stretch/>
        </p:blipFill>
        <p:spPr>
          <a:xfrm>
            <a:off x="455400" y="2457720"/>
            <a:ext cx="8334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chemeClr val="lt1"/>
                </a:solidFill>
                <a:latin typeface="Montserrat"/>
                <a:ea typeface="Montserrat"/>
              </a:rPr>
              <a:t>Что тут буд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chemeClr val="lt1"/>
              </a:solidFill>
              <a:latin typeface="Lato"/>
              <a:ea typeface="Lato"/>
            </a:endParaRPr>
          </a:p>
        </p:txBody>
      </p:sp>
      <p:pic>
        <p:nvPicPr>
          <p:cNvPr id="114" name="Shape 595" descr=""/>
          <p:cNvPicPr/>
          <p:nvPr/>
        </p:nvPicPr>
        <p:blipFill>
          <a:blip r:embed="rId1"/>
          <a:stretch/>
        </p:blipFill>
        <p:spPr>
          <a:xfrm>
            <a:off x="466560" y="1946520"/>
            <a:ext cx="836244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297440" y="540360"/>
            <a:ext cx="7038720" cy="3938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Если нужно, чтобы функция вернула не одно значение, а два или более, то для этого функция может вернуть список из двух или нескольких значени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i="1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return [a, b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97440" y="578520"/>
            <a:ext cx="7038720" cy="38998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Тогда результат вызова функции можно будет использовать во множественном присваивани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r>
              <a:rPr b="1" i="1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n, m = f(a, b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4800" spc="-1" strike="noStrike">
                <a:solidFill>
                  <a:schemeClr val="lt1"/>
                </a:solidFill>
                <a:latin typeface="Montserrat"/>
                <a:ea typeface="Montserrat"/>
              </a:rPr>
              <a:t>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Функции — это такие участки кода, которые изолированы от остальный программы и выполняются только тогда, когда вызываютс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chemeClr val="lt1"/>
              </a:solidFill>
              <a:latin typeface="Montserrat"/>
              <a:ea typeface="Montserra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chemeClr val="lt1"/>
              </a:solidFill>
              <a:latin typeface="Lato"/>
              <a:ea typeface="Lato"/>
            </a:endParaRPr>
          </a:p>
        </p:txBody>
      </p:sp>
      <p:pic>
        <p:nvPicPr>
          <p:cNvPr id="94" name="Shape 523" descr=""/>
          <p:cNvPicPr/>
          <p:nvPr/>
        </p:nvPicPr>
        <p:blipFill>
          <a:blip r:embed="rId1"/>
          <a:stretch/>
        </p:blipFill>
        <p:spPr>
          <a:xfrm>
            <a:off x="390600" y="1767960"/>
            <a:ext cx="8362440" cy="21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27160" y="388440"/>
            <a:ext cx="7953120" cy="4356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У функции ест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spcBef>
                <a:spcPts val="1599"/>
              </a:spcBef>
              <a:buClr>
                <a:srgbClr val="ffffff"/>
              </a:buClr>
              <a:buFont typeface="Lato"/>
              <a:buAutoNum type="arabicPeriod"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Имя(обязатель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buClr>
                <a:srgbClr val="ffffff"/>
              </a:buClr>
              <a:buFont typeface="Lato"/>
              <a:buAutoNum type="arabicPeriod"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Возвращаемое значение (не обязательно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-419040">
              <a:lnSpc>
                <a:spcPct val="115000"/>
              </a:lnSpc>
              <a:buClr>
                <a:srgbClr val="ffffff"/>
              </a:buClr>
              <a:buFont typeface="Lato"/>
              <a:buAutoNum type="arabicPeriod"/>
              <a:tabLst>
                <a:tab algn="l" pos="0"/>
              </a:tabLst>
            </a:pPr>
            <a:r>
              <a:rPr b="0" lang="ru" sz="3000" spc="-1" strike="noStrike">
                <a:solidFill>
                  <a:schemeClr val="lt1"/>
                </a:solidFill>
                <a:latin typeface="Lato"/>
                <a:ea typeface="Lato"/>
              </a:rPr>
              <a:t>Входящие параметры  (не обязательно)</a:t>
            </a:r>
            <a:br>
              <a:rPr sz="3000"/>
            </a:br>
            <a:r>
              <a:rPr b="0" lang="ru" sz="3000" spc="-1" strike="noStrike">
                <a:solidFill>
                  <a:schemeClr val="lt1"/>
                </a:solidFill>
                <a:latin typeface="Lato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97440" y="1567440"/>
            <a:ext cx="7038720" cy="2910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Lato"/>
                <a:ea typeface="Lato"/>
              </a:rPr>
              <a:t>Имя - это 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идентификатор, то есть имя нашей функции по которому мы можем вызывать функц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97440" y="401040"/>
            <a:ext cx="7038720" cy="4077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После идентификатора в круглых скобках идет список параметров, которые получает наша функ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def sum(n1,n2,n3,n4,size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	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7440" y="393840"/>
            <a:ext cx="7038720" cy="9136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ffffff"/>
                </a:solidFill>
                <a:latin typeface="Roboto"/>
                <a:ea typeface="Roboto"/>
              </a:rPr>
              <a:t>Далее идет тело функции, оформленное в виде блока, то есть с отступ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Shape 544" descr=""/>
          <p:cNvPicPr/>
          <p:nvPr/>
        </p:nvPicPr>
        <p:blipFill>
          <a:blip r:embed="rId1"/>
          <a:stretch/>
        </p:blipFill>
        <p:spPr>
          <a:xfrm>
            <a:off x="453960" y="2270880"/>
            <a:ext cx="8372160" cy="12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14560" y="933120"/>
            <a:ext cx="7221600" cy="3545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Инструкция </a:t>
            </a:r>
            <a:r>
              <a:rPr b="0" lang="ru" sz="3000" spc="-1" strike="noStrike">
                <a:solidFill>
                  <a:srgbClr val="6d9eeb"/>
                </a:solidFill>
                <a:latin typeface="Roboto"/>
                <a:ea typeface="Roboto"/>
              </a:rPr>
              <a:t>return </a:t>
            </a: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может встречаться в произвольном месте функции, ее исполнение завершает работу функции и возвращает указанное значение в место вызо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97440" y="768240"/>
            <a:ext cx="7038720" cy="37101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</a:tabLst>
            </a:pPr>
            <a:r>
              <a:rPr b="0" lang="ru" sz="3000" spc="-1" strike="noStrike">
                <a:solidFill>
                  <a:srgbClr val="ffffff"/>
                </a:solidFill>
                <a:latin typeface="Roboto"/>
                <a:ea typeface="Roboto"/>
              </a:rPr>
              <a:t>Если функция не возвращает значения, то инструкция return используется без возвращаемого значения. В функциях, которым не нужно возвращать значения, инструкция return может отсутств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ocus">
  <a:themeElements>
    <a:clrScheme name="Focus">
      <a:dk1>
        <a:srgbClr val="1b212c"/>
      </a:dk1>
      <a:lt1>
        <a:srgbClr val="ffffff"/>
      </a:lt1>
      <a:dk2>
        <a:srgbClr val="d9d9d9"/>
      </a:dk2>
      <a:lt2>
        <a:srgbClr val="82c7a5"/>
      </a:lt2>
      <a:accent1>
        <a:srgbClr val="0145ac"/>
      </a:accent1>
      <a:accent2>
        <a:srgbClr val="eece1a"/>
      </a:accent2>
      <a:accent3>
        <a:srgbClr val="4e5567"/>
      </a:accent3>
      <a:accent4>
        <a:srgbClr val="f4d6ad"/>
      </a:accent4>
      <a:accent5>
        <a:srgbClr val="7890cd"/>
      </a:accent5>
      <a:accent6>
        <a:srgbClr val="f15e22"/>
      </a:accent6>
      <a:hlink>
        <a:srgbClr val="7890cd"/>
      </a:hlink>
      <a:folHlink>
        <a:srgbClr val="7890c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ocus">
  <a:themeElements>
    <a:clrScheme name="Focus">
      <a:dk1>
        <a:srgbClr val="1b212c"/>
      </a:dk1>
      <a:lt1>
        <a:srgbClr val="ffffff"/>
      </a:lt1>
      <a:dk2>
        <a:srgbClr val="d9d9d9"/>
      </a:dk2>
      <a:lt2>
        <a:srgbClr val="82c7a5"/>
      </a:lt2>
      <a:accent1>
        <a:srgbClr val="0145ac"/>
      </a:accent1>
      <a:accent2>
        <a:srgbClr val="eece1a"/>
      </a:accent2>
      <a:accent3>
        <a:srgbClr val="4e5567"/>
      </a:accent3>
      <a:accent4>
        <a:srgbClr val="f4d6ad"/>
      </a:accent4>
      <a:accent5>
        <a:srgbClr val="7890cd"/>
      </a:accent5>
      <a:accent6>
        <a:srgbClr val="f15e22"/>
      </a:accent6>
      <a:hlink>
        <a:srgbClr val="7890cd"/>
      </a:hlink>
      <a:folHlink>
        <a:srgbClr val="7890c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  <Words>289</Words>
  <Paragraphs>2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 Буженко</cp:lastModifiedBy>
  <dcterms:modified xsi:type="dcterms:W3CDTF">2019-03-13T07:14:27Z</dcterms:modified>
  <cp:revision>12</cp:revision>
  <dc:subject/>
  <dc:title>Python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8</vt:r8>
  </property>
  <property fmtid="{D5CDD505-2E9C-101B-9397-08002B2CF9AE}" pid="3" name="PresentationFormat">
    <vt:lpwstr>Экран (16:9)</vt:lpwstr>
  </property>
  <property fmtid="{D5CDD505-2E9C-101B-9397-08002B2CF9AE}" pid="4" name="Slides">
    <vt:r8>18</vt:r8>
  </property>
</Properties>
</file>