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wmf" ContentType="image/x-wmf"/>
  <Override PartName="/ppt/media/image5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901-18C5-4DED-9653-561C9E3B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9B1-1B72-4D68-9E99-6CEC39C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18E-FFFD-444F-BDBF-581CF15E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10B-23D2-4417-908E-8D7B2645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83C-9710-4182-9A51-054CDCB6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C51E-4897-4F3D-B75F-98F3AA84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C7ED-22AD-4259-A286-1974DD7C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DC7-80E6-44EB-9CAD-D9101F1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5EE-64ED-4343-9AED-7921288B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E9A-5819-474E-B596-5C20570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A79B-F10B-4B6E-9F3E-E2A01FFB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6A2-0194-4316-A078-CFAFCF9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7E4-FF3A-42E3-AB63-E6F8D4C8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05F-A94A-4971-8C90-29C5512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3865-1847-4390-A6EF-9E813F2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523A-A96C-442E-B475-638EDDAD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E87E-5EEF-4F83-9D2A-7FCA04A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D6B-8ECB-4208-BEE1-4225FDB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685-B1CB-4D73-9DA3-0481949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C75-721B-419E-BF22-2A7D4C9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7E9-C682-45D9-B3B2-09A2947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621-5AAF-4268-A2CA-DAFE5E5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1C5-F39E-42F3-8F6E-429E7CC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084-9CB1-41A2-9258-D73FE27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27074-8F58-42E4-B304-B9C3302FB7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DDE08-7E20-464C-90DD-EE4AA91009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722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25786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ДГЕЗИВНАЯ ФИКСАЦИЯ цельнокерамических вкладок, виниров и коронок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78080" y="6030000"/>
            <a:ext cx="68022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цов А. 5 стом 1 група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ймер (например, Optibond FL, Kerr Dental) нанести согласно инструкции производителя и «втирать» в течение 2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1374840" y="2969640"/>
            <a:ext cx="4112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5880" y="179640"/>
            <a:ext cx="1176264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темнить обрабатываемую область, отвернув операционный светильник!!! Иначе существует опасность преждевременного отвердения наносимого бонда, что негативно влияет на припасовку работы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наносится бонд (например, Prime&amp;Bond NT, Dentsply; OptiBond Adhesive, Kerr Dental). – Для эффективного проникновения в кондиционированный дентин адгезив должен воздействовать минимум 20 секунд. – На протяжении времени воздействия внутренние поверхности реставрации обрабатываются бондом, как уже ранее описано. Нанесенный на реставрацию и в полость бонд распределяется воздухом тонким слое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нимание: Бонд ни в коем случа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одвергать светополимеризации!!!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573240" y="41608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365040"/>
            <a:ext cx="10515240" cy="58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Цементирова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Двухкомпонентный цемент. – Как только бонд начинает действовать в полости, ассистент готовит смесь двухкомпонентного цемента (например, Calibra, Dentsply; Variolink II, Ivoclar Vivadent; Compolute, 3M Espe) предварительно выбранного цвета. Для вкладок из прессованной керамики рекомендуется жидкотекучая консистенц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4081680" y="3207240"/>
            <a:ext cx="401076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05240"/>
            <a:ext cx="10351800" cy="54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шанный цемент вносится в полость шпателем Хайдеманн или одноразовой кисточкой. Реставрация размещается свободно, излишки цемента удаляются шариком. – Теперь реставрацию необходимо установить в окончательную позицию и зафиксировать при легком давлении (например, шаровидным штопфером). Ассистент удаляет возможные имеющиеся излишки цемента шариком. В аппроксимальной области рекомендуется очистка с помощью суперфлос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6311880" y="357336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еставрации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4186800" y="331812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3040"/>
            <a:ext cx="12052440" cy="66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льтразвуковая техни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иционирования полости и реставрации можно использовать светоотверждаемый пломбировочный материал (например, Variolink Ultra, Ivoclar Vivadent; Sono-Cem, 3M Espe)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таврация размещается в полости свободно, с помощью насадки для ультразвукового цементирования помещается в окончательную позицию и фиксир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ний материал удаляется шпателем Хайдеманн или стоматологическим зондом. – Цементный шов заравнивается с помощью кратковременной активации ультразвуковой насадк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светополимеризацией аппроксимальные участки очищаются с помощью стоматологического зонда и суперфлос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аботы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487800"/>
            <a:ext cx="10578240" cy="56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работка и полиров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работки и придания формы реставрации (выверка окклюзии) хорошо зарекомендовали себя алмазные инструмен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ировки подходят керамические полировальные нас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адгезивного цементирования не следует забывать обработку фтором и обработку слизистой оболочки ротовой полост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838080" y="3708720"/>
            <a:ext cx="396000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6710760" y="3683160"/>
            <a:ext cx="3960000" cy="26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комендации по препарирова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2"/>
          <a:stretch/>
        </p:blipFill>
        <p:spPr>
          <a:xfrm>
            <a:off x="83808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3"/>
          <a:stretch/>
        </p:blipFill>
        <p:spPr>
          <a:xfrm>
            <a:off x="84348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"/>
          <p:cNvPicPr/>
          <p:nvPr/>
        </p:nvPicPr>
        <p:blipFill>
          <a:blip r:embed="rId4"/>
          <a:stretch/>
        </p:blipFill>
        <p:spPr>
          <a:xfrm>
            <a:off x="467424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5"/>
          <a:stretch/>
        </p:blipFill>
        <p:spPr>
          <a:xfrm>
            <a:off x="467424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"/>
          <p:cNvPicPr/>
          <p:nvPr/>
        </p:nvPicPr>
        <p:blipFill>
          <a:blip r:embed="rId6"/>
          <a:stretch/>
        </p:blipFill>
        <p:spPr>
          <a:xfrm>
            <a:off x="474084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"/>
          <p:cNvPicPr/>
          <p:nvPr/>
        </p:nvPicPr>
        <p:blipFill>
          <a:blip r:embed="rId7"/>
          <a:stretch/>
        </p:blipFill>
        <p:spPr>
          <a:xfrm>
            <a:off x="8215560" y="16959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8"/>
          <a:stretch/>
        </p:blipFill>
        <p:spPr>
          <a:xfrm>
            <a:off x="8215920" y="3497400"/>
            <a:ext cx="14212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обходимо учитывать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436760"/>
            <a:ext cx="10621800" cy="48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еспечения стабильности конструкции под реставрацию из Cergo необходимо запланировать достаточное пространство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збежания напряжений необходимо отказаться от острых внутренних краев и угл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избегать поднутрени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убокие полости должны быть скорректированы доктором с помощью пломбировочн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ого внимания требует форма кра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тенок должна быть максимально равномерн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репарировании фронтальных и жевательных зубов следует обратить внимание на то, чтобы соблюдалось процентное соотношение: 50% материал каркаса и 50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вкладок, накладок и виниров должно быть следующее соотношение: 75% – материал каркаса и 25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6440"/>
            <a:ext cx="1069164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Протокол фиксации на примере инверсионного (обратного) протезирования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58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циентка М. 35 лет, обратилась в клинику с жалобами на расцементировку коронки из оксида алюминия на 2.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ьективно: коронка имела подвижное положение на культе зуба 2.1 и без усилий извлеклась. Отмечался откол 1/3 культи зуба ( внутренняя часть коронки была заполнена отделившимся фрагментом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4789800" y="3975840"/>
            <a:ext cx="3431520" cy="25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Этапы адгезивного протокол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ционирование рестав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Helvetica Neue"/>
              </a:rPr>
              <a:t>(Кондиционирование дентина</a:t>
            </a:r>
            <a:r>
              <a:rPr b="0" lang="ru-RU" sz="2800" spc="-1" strike="noStrike">
                <a:solidFill>
                  <a:srgbClr val="333333"/>
                </a:solidFill>
                <a:latin typeface="Helvetica Neue"/>
              </a:rPr>
              <a:t> – это химическое изменение поверхности дентина при помощи кислот, таких как лимонная, полиакриловая, молочная и т.д. При этом смазанный слой удаляется полностью или частично, также полностью или частично раскрываются дентинные канальцы. Кроме этого происходит деминерализация поверхностного слоя дентина, обнажение коллагеновых волокон органической матрицы и активации ионов и апатитов дентина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320" y="1299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2320" y="9579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уб в прошлом подвергался эндолечению с последующим восстановлением с использование полимерного штифта . Отмечалось полное сохранение полимерного штифта на всем протяжении. Откололась только внутренняя поверхность коронки с фрагментом культев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6000120" y="3072600"/>
            <a:ext cx="402300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восстановление культи зуба под коронк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Этап. Подготовка культи зуб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ульти зуба заключается в небольшом  препарировании с целью удаления малонадежных фрагментов композитного культевого материала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по адгезивному протоколу нанесли кислоту на 15 секунд, обильно смыли, оставили поверхость слегка увлажненной и нанесли адгезивную систем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ользовались универсальным адгезивом двойного отверждения, у него изменена структура полимерной матрицы и он максимально стабилен на дентинной субстанции после полимеризации за счет своей гидрофобности. После подготовки и полимеризации поверхность дентина имеет блестящий ви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1818720" y="1992240"/>
            <a:ext cx="5419440" cy="33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62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7920" y="10774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Этап. Подготовка корон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яя поверхность коронки покрывается изоляционным материалом. (Можно воспользоваться и глицерином или водорастворимым гелем-любрикантом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6922080" y="2840400"/>
            <a:ext cx="38826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оронка аккуратно снимается с восстановленной культи зуба. Этот процесс сопровождаться легким усилием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79280" y="3380040"/>
            <a:ext cx="4105800" cy="2776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6429240" y="1888920"/>
            <a:ext cx="5074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960" y="8938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Этап Фиксация коронки на зуб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гезивная фиксация для коронки из оксида алюмини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того внутренняя поверхность коронки из оксида алюминия пескоструится с применение порошка оксида аллюмиия 50 мкр при давлении до 2 атм. под непрямым углом к поверхности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5164200" y="3257640"/>
            <a:ext cx="5210640" cy="34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зжиривается в спирте или ацетоне, просушивается . На внутреннюю поверхность коронки наносится праймер для оксида циркония и алюминия Z-PRIMER PLUS ( BISCO ,IL USA) несколько слоев на 30 секунд. Высушивается . Поверхность коронки гото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4572000" y="3679560"/>
            <a:ext cx="5393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0120" y="11192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овь созданная культя зуба подвергается адгезивному протоколу: протравливается, наносится адгезив All Bond 3, полимериз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ронку вносим композитный цемент светового отвержд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3814200" y="2737440"/>
            <a:ext cx="5494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4200" y="8240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нка адаптируется на культе зуба. Излишки цемента подвергаются 2 секундной полимеризации,. убираются с краев коронки и проводится транскоронковая полимеризации с каждой стороны по 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664200" y="2663280"/>
            <a:ext cx="1112904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Вывод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аленные клинические наблюдения показывают надежность и точность метода повторной адгезивной фиксации коронок. Данная методика может с успехом применяться в сложившихся клинических ситуация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4520" y="1068120"/>
            <a:ext cx="10500120" cy="47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лови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ные коронки зафиксированы цементом, не содержащим эвгено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ность припасовки реставрации проконтролирована (БЕЗ КОНТРОЛЯ ОККЛЮЗИ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ая примерка выполнена во влажной среде для оптимальной оценки цве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о абсолютно сухое рабочее поле с использованием коффердам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вспомогательные средства для установки реставраци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учения микроретенции внутренние поверхности реставрации необходимо протравить с использованием Porcelain Gel Etch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 литератур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Журнал современная ортопедическая стоматология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uDen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№1 2004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татья сай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I-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осстановление культи зуба. Фиксация безметалловой корон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lang="ru-RU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адгезивной фиксации керамических реставрац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В.Сидоров, А.В.Ковале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.09.200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 Ceramics Etch, Vita Zahnfabrik, 5%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4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celain Gel Etch, Ultradent, 9–10%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2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7575840" y="3783600"/>
            <a:ext cx="2944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реставрация тщательно промывается под проточной водой. Возможные остатки кислоты удаляются с помощью смеси сжатого воздуха и воды (насадка Sprayvit), работа просушивается потоком воздух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ие поверхности силанизируются (время воздействия: 1 минута), можно использовать любые имеющиеся на рынке силановые растворы, например, Calibra Silane Coupling Agent, Dentsply; Monobond-S, Ivoclar Vivadent; Ultradent Silane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заключение на внутренние поверхности наносится адгезив (например, Prime&amp;Bond NT, Dentsply; Optibond FL, Kerr Dental), который после короткого времени воздействия в течение 20 секунд распределяется тонким слоем под действием сильного потока воздуха. До установки в полости необходимо защищать реставрацию от попадания лучей света для того, чтобы избежать отвердения бондинга. (силан, адгезив и цемент должны быть из одной систем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6932880" y="4725720"/>
            <a:ext cx="304632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 500 кратным увеличением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конденсированием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енсирования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067160" y="1825560"/>
            <a:ext cx="3300120" cy="226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"/>
          <p:cNvPicPr/>
          <p:nvPr/>
        </p:nvPicPr>
        <p:blipFill>
          <a:blip r:embed="rId2"/>
          <a:stretch/>
        </p:blipFill>
        <p:spPr>
          <a:xfrm>
            <a:off x="7067160" y="4626360"/>
            <a:ext cx="309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Кондиционирование полост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условии абсолютно сухого рабочего поля (коффердам) полость очищается пастой, не содержащей фториды, чтобы тщательно удалить органический материал и остатки цемен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4204440" y="37882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и эмали протравить в течение 30 секунд 35%-ной фосфорной кислотой. – Важно: есть опасность загрязнения соседнего зуба, поэтому необходимо защитить соседний зуб с помощью пластмассовой матриц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ь дентина кондиционировать в течение 15 секунд 35%-ной фосфорной кислот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362560" y="408672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  <Words>1243</Words>
  <Paragraphs>9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6:52:05Z</dcterms:created>
  <dc:creator>Андрей</dc:creator>
  <dc:description/>
  <dc:language>en-US</dc:language>
  <cp:lastModifiedBy>Андрей</cp:lastModifiedBy>
  <dcterms:modified xsi:type="dcterms:W3CDTF">2018-10-24T10:10:24Z</dcterms:modified>
  <cp:revision>11</cp:revision>
  <dc:subject/>
  <dc:title>АДГЕЗИВНАЯ ФИКСАЦИЯ цельнокерамических вкладок, виниров и коро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