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4.jpeg" ContentType="image/jpeg"/>
  <Override PartName="/ppt/media/image22.wmf" ContentType="image/x-wmf"/>
  <Override PartName="/ppt/media/image5.wmf" ContentType="image/x-wmf"/>
  <Override PartName="/ppt/media/image25.jpeg" ContentType="image/jpeg"/>
  <Override PartName="/ppt/media/image10.wmf" ContentType="image/x-wmf"/>
  <Override PartName="/ppt/media/image31.jpeg" ContentType="image/jpeg"/>
  <Override PartName="/ppt/media/image6.wmf" ContentType="image/x-wmf"/>
  <Override PartName="/ppt/media/image11.wmf" ContentType="image/x-wmf"/>
  <Override PartName="/ppt/media/image30.jpeg" ContentType="image/jpeg"/>
  <Override PartName="/ppt/media/image7.wmf" ContentType="image/x-wmf"/>
  <Override PartName="/ppt/media/image12.wmf" ContentType="image/x-wmf"/>
  <Override PartName="/ppt/media/image27.jpeg" ContentType="image/jpeg"/>
  <Override PartName="/ppt/media/image13.wmf" ContentType="image/x-wmf"/>
  <Override PartName="/ppt/media/image8.wmf" ContentType="image/x-wmf"/>
  <Override PartName="/ppt/media/image9.wmf" ContentType="image/x-wmf"/>
  <Override PartName="/ppt/media/image29.jpeg" ContentType="image/jpeg"/>
  <Override PartName="/ppt/media/image3.wmf" ContentType="image/x-wmf"/>
  <Override PartName="/ppt/media/image2.wmf" ContentType="image/x-wmf"/>
  <Override PartName="/ppt/media/image23.jpeg" ContentType="image/jpeg"/>
  <Override PartName="/ppt/media/image4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32.jpeg" ContentType="image/jpeg"/>
  <Override PartName="/ppt/media/image20.wmf" ContentType="image/x-wmf"/>
  <Override PartName="/ppt/media/image26.jpeg" ContentType="image/jpeg"/>
  <Override PartName="/ppt/media/image19.wmf" ContentType="image/x-wmf"/>
  <Override PartName="/ppt/media/image2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B036-3B62-425D-B83A-A72E6351C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D96E-911A-42EC-81D3-C9816BBC5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C04F-8381-40CD-AF48-7004F4B67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0C30-1A46-4F3F-A517-FF5F8BE39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B9E2F-18D7-4DF0-BA06-09738C4C8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6A06C-AF44-4FC8-8EC8-F6AB81ACA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F1621-44CA-4E5F-8C09-4E5176B02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AA561-7D33-48CD-BC60-F6B01023C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FE9AC-3107-42C2-B07B-5F8BA2E2F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B1040-EF3A-4DD8-A9D9-A6777A3FB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08F35-9EB5-4C39-885D-9598D4927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D9D4-354C-4A6C-AE9B-B5F6DA9C2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693CB-4E27-4E45-8818-BC8332977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8F978-A259-42D9-B948-F836CDDB5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6A902-5AD6-40AF-A6F5-DDCA507F8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9C461-F3C9-4669-A119-E94036FC8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FC5B9-09E5-469E-9C37-964CA6346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31E8-C6E3-4F08-A80B-9A52C5991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4CDF-D78E-4929-B4D6-D139721A1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C675-FD5E-45BE-9727-F42745919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0B9B-3951-4471-835D-DDED906F4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73CB-FB0F-499A-B0A7-B40A518A0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8627-DC60-4A8B-BAEE-E1FA8DBBD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DB8B-CCDF-4FA5-A1BD-617D02010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e75b6"/>
            </a:gs>
            <a:gs pos="100000">
              <a:srgbClr val="b5d2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60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788EC25-BA98-4783-BE58-B796245A196E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e75b6"/>
            </a:gs>
            <a:gs pos="100000">
              <a:srgbClr val="b5d2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2D94C52-D36A-43FE-88D9-97CE9C96E01E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image" Target="../media/image21.wmf"/><Relationship Id="rId8" Type="http://schemas.openxmlformats.org/officeDocument/2006/relationships/image" Target="../media/image22.wmf"/><Relationship Id="rId9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7222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25786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2000"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АДГЕЗИВНАЯ ФИКСАЦИЯ цельнокерамических вкладок, виниров и коронок</a:t>
            </a: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978080" y="6030000"/>
            <a:ext cx="6802200" cy="48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тцов А. 5 стом 1 група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аймер (например, Optibond FL, Kerr Dental) нанести согласно инструкции производителя и «втирать» в течение 20 секунд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Рисунок 4" descr=""/>
          <p:cNvPicPr/>
          <p:nvPr/>
        </p:nvPicPr>
        <p:blipFill>
          <a:blip r:embed="rId1"/>
          <a:stretch/>
        </p:blipFill>
        <p:spPr>
          <a:xfrm>
            <a:off x="1374840" y="2969640"/>
            <a:ext cx="411228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45880" y="179640"/>
            <a:ext cx="11762640" cy="65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Затемнить обрабатываемую область, отвернув операционный светильник!!! Иначе существует опасность преждевременного отвердения наносимого бонда, что негативно влияет на припасовку работы.)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тем наносится бонд (например, Prime&amp;Bond NT, Dentsply; OptiBond Adhesive, Kerr Dental). – Для эффективного проникновения в кондиционированный дентин адгезив должен воздействовать минимум 20 секунд. – На протяжении времени воздействия внутренние поверхности реставрации обрабатываются бондом, как уже ранее описано. Нанесенный на реставрацию и в полость бонд распределяется воздухом тонким слоем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Внимание: Бонд ни в коем случае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 подвергать светополимеризации!!!)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Рисунок 3" descr=""/>
          <p:cNvPicPr/>
          <p:nvPr/>
        </p:nvPicPr>
        <p:blipFill>
          <a:blip r:embed="rId1"/>
          <a:stretch/>
        </p:blipFill>
        <p:spPr>
          <a:xfrm>
            <a:off x="6573240" y="4160880"/>
            <a:ext cx="406152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365040"/>
            <a:ext cx="10515240" cy="58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Цементирование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) Двухкомпонентный цемент. – Как только бонд начинает действовать в полости, ассистент готовит смесь двухкомпонентного цемента (например, Calibra, Dentsply; Variolink II, Ivoclar Vivadent; Compolute, 3M Espe) предварительно выбранного цвета. Для вкладок из прессованной керамики рекомендуется жидкотекучая консистенция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Рисунок 3" descr=""/>
          <p:cNvPicPr/>
          <p:nvPr/>
        </p:nvPicPr>
        <p:blipFill>
          <a:blip r:embed="rId1"/>
          <a:stretch/>
        </p:blipFill>
        <p:spPr>
          <a:xfrm>
            <a:off x="4081680" y="3207240"/>
            <a:ext cx="4010760" cy="26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705240"/>
            <a:ext cx="10351800" cy="547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мешанный цемент вносится в полость шпателем Хайдеманн или одноразовой кисточкой. Реставрация размещается свободно, излишки цемента удаляются шариком. – Теперь реставрацию необходимо установить в окончательную позицию и зафиксировать при легком давлении (например, шаровидным штопфером). Ассистент удаляет возможные имеющиеся излишки цемента шариком. В аппроксимальной области рекомендуется очистка с помощью суперфлоса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Рисунок 3" descr=""/>
          <p:cNvPicPr/>
          <p:nvPr/>
        </p:nvPicPr>
        <p:blipFill>
          <a:blip r:embed="rId1"/>
          <a:stretch/>
        </p:blipFill>
        <p:spPr>
          <a:xfrm>
            <a:off x="6311880" y="3573360"/>
            <a:ext cx="4061520" cy="26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ветополимеризация осуществляется в течение 40 секунд на каждую поверхность реставрации: вкладка с 3 поверхностями = 120 секунд, цельная коронка = 200 секунд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Рисунок 3" descr=""/>
          <p:cNvPicPr/>
          <p:nvPr/>
        </p:nvPicPr>
        <p:blipFill>
          <a:blip r:embed="rId1"/>
          <a:stretch/>
        </p:blipFill>
        <p:spPr>
          <a:xfrm>
            <a:off x="4186800" y="3318120"/>
            <a:ext cx="406152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13040"/>
            <a:ext cx="12052440" cy="667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) Ультразвуковая техника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ле кондиционирования полости и реставрации можно использовать светоотверждаемый пломбировочный материал (например, Variolink Ultra, Ivoclar Vivadent; Sono-Cem, 3M Espe).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ставрация размещается в полости свободно, с помощью насадки для ультразвукового цементирования помещается в окончательную позицию и фиксируется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ишний материал удаляется шпателем Хайдеманн или стоматологическим зондом. – Цементный шов заравнивается с помощью кратковременной активации ультразвуковой насадки.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ред светополимеризацией аппроксимальные участки очищаются с помощью стоматологического зонда и суперфлосса.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ветополимеризация осуществляется в течение 40 секунд на каждую поверхность работы: вкладка с 3 поверхностями = 120 секунд, цельная коронка = 200 секунд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487800"/>
            <a:ext cx="10578240" cy="56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. Обработка и полировка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ля обработки и придания формы реставрации (выверка окклюзии) хорошо зарекомендовали себя алмазные инструменты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ля полировки подходят керамические полировальные насадки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ле адгезивного цементирования не следует забывать обработку фтором и обработку слизистой оболочки ротовой полости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Рисунок 3" descr=""/>
          <p:cNvPicPr/>
          <p:nvPr/>
        </p:nvPicPr>
        <p:blipFill>
          <a:blip r:embed="rId1"/>
          <a:stretch/>
        </p:blipFill>
        <p:spPr>
          <a:xfrm>
            <a:off x="838080" y="3708720"/>
            <a:ext cx="3960000" cy="259056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4" descr=""/>
          <p:cNvPicPr/>
          <p:nvPr/>
        </p:nvPicPr>
        <p:blipFill>
          <a:blip r:embed="rId2"/>
          <a:stretch/>
        </p:blipFill>
        <p:spPr>
          <a:xfrm>
            <a:off x="6710760" y="3683160"/>
            <a:ext cx="3960000" cy="261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Рекомендации по препарированию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Объект 3" descr=""/>
          <p:cNvPicPr/>
          <p:nvPr/>
        </p:nvPicPr>
        <p:blipFill>
          <a:blip r:embed="rId1"/>
          <a:stretch/>
        </p:blipFill>
        <p:spPr>
          <a:xfrm>
            <a:off x="838080" y="1690560"/>
            <a:ext cx="1421280" cy="139680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4" descr=""/>
          <p:cNvPicPr/>
          <p:nvPr/>
        </p:nvPicPr>
        <p:blipFill>
          <a:blip r:embed="rId2"/>
          <a:stretch/>
        </p:blipFill>
        <p:spPr>
          <a:xfrm>
            <a:off x="838080" y="3497400"/>
            <a:ext cx="1421280" cy="139680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5" descr=""/>
          <p:cNvPicPr/>
          <p:nvPr/>
        </p:nvPicPr>
        <p:blipFill>
          <a:blip r:embed="rId3"/>
          <a:stretch/>
        </p:blipFill>
        <p:spPr>
          <a:xfrm>
            <a:off x="843480" y="5221080"/>
            <a:ext cx="1421280" cy="139680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6" descr=""/>
          <p:cNvPicPr/>
          <p:nvPr/>
        </p:nvPicPr>
        <p:blipFill>
          <a:blip r:embed="rId4"/>
          <a:stretch/>
        </p:blipFill>
        <p:spPr>
          <a:xfrm>
            <a:off x="4674240" y="1690560"/>
            <a:ext cx="1421280" cy="139680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7" descr=""/>
          <p:cNvPicPr/>
          <p:nvPr/>
        </p:nvPicPr>
        <p:blipFill>
          <a:blip r:embed="rId5"/>
          <a:stretch/>
        </p:blipFill>
        <p:spPr>
          <a:xfrm>
            <a:off x="4674240" y="3497400"/>
            <a:ext cx="1421280" cy="139680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8" descr=""/>
          <p:cNvPicPr/>
          <p:nvPr/>
        </p:nvPicPr>
        <p:blipFill>
          <a:blip r:embed="rId6"/>
          <a:stretch/>
        </p:blipFill>
        <p:spPr>
          <a:xfrm>
            <a:off x="4740840" y="5221080"/>
            <a:ext cx="1421280" cy="139680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9" descr=""/>
          <p:cNvPicPr/>
          <p:nvPr/>
        </p:nvPicPr>
        <p:blipFill>
          <a:blip r:embed="rId7"/>
          <a:stretch/>
        </p:blipFill>
        <p:spPr>
          <a:xfrm>
            <a:off x="8215560" y="1695960"/>
            <a:ext cx="1421280" cy="139680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10" descr=""/>
          <p:cNvPicPr/>
          <p:nvPr/>
        </p:nvPicPr>
        <p:blipFill>
          <a:blip r:embed="rId8"/>
          <a:stretch/>
        </p:blipFill>
        <p:spPr>
          <a:xfrm>
            <a:off x="8215920" y="3497400"/>
            <a:ext cx="1421280" cy="139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Необходимо учитывать: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31520" y="1436760"/>
            <a:ext cx="10621800" cy="48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ля обеспечения стабильности конструкции под реставрацию из Cergo необходимо запланировать достаточное пространство.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ля избежания напряжений необходимо отказаться от острых внутренних краев и углов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ледует избегать поднутрений.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лубокие полости должны быть скорректированы доктором с помощью пломбировочного материала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собого внимания требует форма края.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олщина стенок должна быть максимально равномерной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 препарировании фронтальных и жевательных зубов следует обратить внимание на то, чтобы соблюдалось процентное соотношение: 50% материал каркаса и 50% – облицовочный материал.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ля вкладок, накладок и виниров должно быть следующее соотношение: 75% – материал каркаса и 25% – облицовочный материал.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226440"/>
            <a:ext cx="10691640" cy="14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3000"/>
          </a:bodyPr>
          <a:p>
            <a:pPr indent="0">
              <a:lnSpc>
                <a:spcPct val="90000"/>
              </a:lnSpc>
              <a:buNone/>
            </a:pPr>
            <a:r>
              <a:rPr b="1" i="1" lang="ru-RU" sz="4400" spc="-1" strike="noStrike">
                <a:solidFill>
                  <a:srgbClr val="000000"/>
                </a:solidFill>
                <a:latin typeface="Calibri Light"/>
              </a:rPr>
              <a:t>Протокол фиксации на примере инверсионного (обратного) протезирования.</a:t>
            </a:r>
            <a:br>
              <a:rPr sz="4400"/>
            </a:b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15880" y="1690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ациентка М. 35 лет, обратилась в клинику с жалобами на расцементировку коронки из оксида алюминия на 2.1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ьективно: коронка имела подвижное положение на культе зуба 2.1 и без усилий извлеклась. Отмечался откол 1/3 культи зуба ( внутренняя часть коронки была заполнена отделившимся фрагментом)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Рисунок 3" descr=""/>
          <p:cNvPicPr/>
          <p:nvPr/>
        </p:nvPicPr>
        <p:blipFill>
          <a:blip r:embed="rId1"/>
          <a:stretch/>
        </p:blipFill>
        <p:spPr>
          <a:xfrm>
            <a:off x="4789800" y="3975840"/>
            <a:ext cx="3431520" cy="25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i="1" lang="ru-RU" sz="4400" spc="-1" strike="noStrike">
                <a:solidFill>
                  <a:srgbClr val="000000"/>
                </a:solidFill>
                <a:latin typeface="Calibri Light"/>
              </a:rPr>
              <a:t>Этапы адгезивного протокола: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ндиционирование реставрации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Helvetica Neue"/>
              </a:rPr>
              <a:t>(Кондиционирование дентина</a:t>
            </a:r>
            <a:r>
              <a:rPr b="0" lang="ru-RU" sz="2800" spc="-1" strike="noStrike">
                <a:solidFill>
                  <a:srgbClr val="333333"/>
                </a:solidFill>
                <a:latin typeface="Helvetica Neue"/>
              </a:rPr>
              <a:t> – это химическое изменение поверхности дентина при помощи кислот, таких как лимонная, полиакриловая, молочная и т.д. При этом смазанный слой удаляется полностью или частично, также полностью или частично раскрываются дентинные канальцы. Кроме этого происходит деминерализация поверхностного слоя дентина, обнажение коллагеновых волокон органической матрицы и активации ионов и апатитов дентина.)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42320" y="12996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72320" y="9579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уб в прошлом подвергался эндолечению с последующим восстановлением с использование полимерного штифта . Отмечалось полное сохранение полимерного штифта на всем протяжении. Откололась только внутренняя поверхность коронки с фрагментом культевого материала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Рисунок 3" descr=""/>
          <p:cNvPicPr/>
          <p:nvPr/>
        </p:nvPicPr>
        <p:blipFill>
          <a:blip r:embed="rId1"/>
          <a:stretch/>
        </p:blipFill>
        <p:spPr>
          <a:xfrm>
            <a:off x="6000120" y="3072600"/>
            <a:ext cx="4023000" cy="32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тапы восстановление культи зуба под коронку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 Этап. Подготовка культи зуб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дготовка культи зуба заключается в небольшом  препарировании с целью удаления малонадежных фрагментов композитного культевого материала 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ле этого по адгезивному протоколу нанесли кислоту на 15 секунд, обильно смыли, оставили поверхость слегка увлажненной и нанесли адгезивную систему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спользовались универсальным адгезивом двойного отверждения, у него изменена структура полимерной матрицы и он максимально стабилен на дентинной субстанции после полимеризации за счет своей гидрофобности. После подготовки и полимеризации поверхность дентина имеет блестящий вид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47" name="Объект 3" descr=""/>
          <p:cNvPicPr/>
          <p:nvPr/>
        </p:nvPicPr>
        <p:blipFill>
          <a:blip r:embed="rId1"/>
          <a:stretch/>
        </p:blipFill>
        <p:spPr>
          <a:xfrm>
            <a:off x="1818720" y="1992240"/>
            <a:ext cx="5419440" cy="33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1562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67920" y="107748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 Этап. Подготовка коронки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нутренняя поверхность коронки покрывается изоляционным материалом. (Можно воспользоваться и глицерином или водорастворимым гелем-любрикантом.)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Рисунок 3" descr=""/>
          <p:cNvPicPr/>
          <p:nvPr/>
        </p:nvPicPr>
        <p:blipFill>
          <a:blip r:embed="rId1"/>
          <a:stretch/>
        </p:blipFill>
        <p:spPr>
          <a:xfrm>
            <a:off x="6922080" y="2840400"/>
            <a:ext cx="3882600" cy="35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lang="ru-RU" sz="2400" spc="-1" strike="noStrike">
                <a:solidFill>
                  <a:srgbClr val="000000"/>
                </a:solidFill>
                <a:latin typeface="Calibri Light"/>
              </a:rPr>
              <a:t>Коронка аккуратно снимается с восстановленной культи зуба. Этот процесс сопровождаться легким усилием 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Объект 3" descr=""/>
          <p:cNvPicPr/>
          <p:nvPr/>
        </p:nvPicPr>
        <p:blipFill>
          <a:blip r:embed="rId1"/>
          <a:stretch/>
        </p:blipFill>
        <p:spPr>
          <a:xfrm>
            <a:off x="179280" y="3380040"/>
            <a:ext cx="4105800" cy="277632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4" descr=""/>
          <p:cNvPicPr/>
          <p:nvPr/>
        </p:nvPicPr>
        <p:blipFill>
          <a:blip r:embed="rId2"/>
          <a:stretch/>
        </p:blipFill>
        <p:spPr>
          <a:xfrm>
            <a:off x="6429240" y="1888920"/>
            <a:ext cx="5074560" cy="34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19960" y="89388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Этап Фиксация коронки на зубе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дгезивная фиксация для коронки из оксида алюминия.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ля этого внутренняя поверхность коронки из оксида алюминия пескоструится с применение порошка оксида аллюмиия 50 мкр при давлении до 2 атм. под непрямым углом к поверхности 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Рисунок 3" descr=""/>
          <p:cNvPicPr/>
          <p:nvPr/>
        </p:nvPicPr>
        <p:blipFill>
          <a:blip r:embed="rId1"/>
          <a:stretch/>
        </p:blipFill>
        <p:spPr>
          <a:xfrm>
            <a:off x="5164200" y="3257640"/>
            <a:ext cx="5210640" cy="34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езжиривается в спирте или ацетоне, просушивается . На внутреннюю поверхность коронки наносится праймер для оксида циркония и алюминия Z-PRIMER PLUS ( BISCO ,IL USA) несколько слоев на 30 секунд. Высушивается . Поверхность коронки готова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Рисунок 3" descr=""/>
          <p:cNvPicPr/>
          <p:nvPr/>
        </p:nvPicPr>
        <p:blipFill>
          <a:blip r:embed="rId1"/>
          <a:stretch/>
        </p:blipFill>
        <p:spPr>
          <a:xfrm>
            <a:off x="4572000" y="3679560"/>
            <a:ext cx="539388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20120" y="111924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новь созданная культя зуба подвергается адгезивному протоколу: протравливается, наносится адгезив All Bond 3, полимеризуется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коронку вносим композитный цемент светового отверждения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Рисунок 3" descr=""/>
          <p:cNvPicPr/>
          <p:nvPr/>
        </p:nvPicPr>
        <p:blipFill>
          <a:blip r:embed="rId1"/>
          <a:stretch/>
        </p:blipFill>
        <p:spPr>
          <a:xfrm>
            <a:off x="3814200" y="2737440"/>
            <a:ext cx="5494320" cy="35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64200" y="82404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ронка адаптируется на культе зуба. Излишки цемента подвергаются 2 секундной полимеризации,. убираются с краев коронки и проводится транскоронковая полимеризации с каждой стороны по 30 секунд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Рисунок 3" descr=""/>
          <p:cNvPicPr/>
          <p:nvPr/>
        </p:nvPicPr>
        <p:blipFill>
          <a:blip r:embed="rId1"/>
          <a:stretch/>
        </p:blipFill>
        <p:spPr>
          <a:xfrm>
            <a:off x="664200" y="2663280"/>
            <a:ext cx="11129040" cy="37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1" i="1" lang="ru-RU" sz="4400" spc="-1" strike="noStrike">
                <a:solidFill>
                  <a:srgbClr val="000000"/>
                </a:solidFill>
                <a:latin typeface="Calibri Light"/>
              </a:rPr>
              <a:t>Вывод: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даленные клинические наблюдения показывают надежность и точность метода повторной адгезивной фиксации коронок. Данная методика может с успехом применяться в сложившихся клинических ситуациях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794520" y="1068120"/>
            <a:ext cx="10500120" cy="474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словия: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219600" indent="-219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ременные коронки зафиксированы цементом, не содержащим эвгенол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219600" indent="-219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очность припасовки реставрации проконтролирована (БЕЗ КОНТРОЛЯ ОККЛЮЗИИ)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219600" indent="-219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стетическая примерка выполнена во влажной среде для оптимальной оценки цвета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219600" indent="-219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здано абсолютно сухое рабочее поле с использованием коффердама.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219600" indent="-219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спользуются вспомогательные средства для установки реставрации.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219600" indent="-219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ля получения микроретенции внутренние поверхности реставрации необходимо протравить с использованием Porcelain Gel Etch, Ultradent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Источники литературы: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)Журнал современная ортопедическая стоматология «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guDent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» №1 2004г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)Статья сайт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HI-S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Восстановление культи зуба. Фиксация безметалловой коронки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)</a:t>
            </a:r>
            <a:r>
              <a:rPr b="1" lang="ru-RU" sz="28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ика адгезивной фиксации керамических реставраций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.В.Сидоров, А.В.Коваленко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7.09.2001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ta Ceramics Etch, Vita Zahnfabrik, 5%-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я фтористоводородная кислота, время протравливания 4 минуты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rcelain Gel Etch, Ultradent, 9–10%-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я фтористоводородная кислота, время протравливания 2 минуты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Рисунок 5" descr=""/>
          <p:cNvPicPr/>
          <p:nvPr/>
        </p:nvPicPr>
        <p:blipFill>
          <a:blip r:embed="rId1"/>
          <a:stretch/>
        </p:blipFill>
        <p:spPr>
          <a:xfrm>
            <a:off x="7575840" y="3783600"/>
            <a:ext cx="2944440" cy="19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ле этого реставрация тщательно промывается под проточной водой. Возможные остатки кислоты удаляются с помощью смеси сжатого воздуха и воды (насадка Sprayvit), работа просушивается потоком воздуха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нутренние поверхности силанизируются (время воздействия: 1 минута), можно использовать любые имеющиеся на рынке силановые растворы, например, Calibra Silane Coupling Agent, Dentsply; Monobond-S, Ivoclar Vivadent; Ultradent Silane, Ultradent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заключение на внутренние поверхности наносится адгезив (например, Prime&amp;Bond NT, Dentsply; Optibond FL, Kerr Dental), который после короткого времени воздействия в течение 20 секунд распределяется тонким слоем под действием сильного потока воздуха. До установки в полости необходимо защищать реставрацию от попадания лучей света для того, чтобы избежать отвердения бондинга. (силан, адгезив и цемент должны быть из одной системы)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Рисунок 3" descr=""/>
          <p:cNvPicPr/>
          <p:nvPr/>
        </p:nvPicPr>
        <p:blipFill>
          <a:blip r:embed="rId1"/>
          <a:stretch/>
        </p:blipFill>
        <p:spPr>
          <a:xfrm>
            <a:off x="6932880" y="4725720"/>
            <a:ext cx="3046320" cy="19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од 500 кратным увеличением: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ред конденсированием вкладки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ле конденсирования вкладки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Рисунок 6" descr=""/>
          <p:cNvPicPr/>
          <p:nvPr/>
        </p:nvPicPr>
        <p:blipFill>
          <a:blip r:embed="rId1"/>
          <a:stretch/>
        </p:blipFill>
        <p:spPr>
          <a:xfrm>
            <a:off x="7067160" y="1825560"/>
            <a:ext cx="3300120" cy="226008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7" descr=""/>
          <p:cNvPicPr/>
          <p:nvPr/>
        </p:nvPicPr>
        <p:blipFill>
          <a:blip r:embed="rId2"/>
          <a:stretch/>
        </p:blipFill>
        <p:spPr>
          <a:xfrm>
            <a:off x="7067160" y="4626360"/>
            <a:ext cx="309708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Кондиционирование полости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 условии абсолютно сухого рабочего поля (коффердам) полость очищается пастой, не содержащей фториды, чтобы тщательно удалить органический материал и остатки цемента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Рисунок 3" descr=""/>
          <p:cNvPicPr/>
          <p:nvPr/>
        </p:nvPicPr>
        <p:blipFill>
          <a:blip r:embed="rId1"/>
          <a:stretch/>
        </p:blipFill>
        <p:spPr>
          <a:xfrm>
            <a:off x="4204440" y="3788280"/>
            <a:ext cx="406152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ласти эмали протравить в течение 30 секунд 35%-ной фосфорной кислотой. – Важно: есть опасность загрязнения соседнего зуба, поэтому необходимо защитить соседний зуб с помощью пластмассовой матрицы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ласть дентина кондиционировать в течение 15 секунд 35%-ной фосфорной кислотой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Рисунок 3" descr=""/>
          <p:cNvPicPr/>
          <p:nvPr/>
        </p:nvPicPr>
        <p:blipFill>
          <a:blip r:embed="rId1"/>
          <a:stretch/>
        </p:blipFill>
        <p:spPr>
          <a:xfrm>
            <a:off x="5362560" y="4086720"/>
            <a:ext cx="4061520" cy="26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  <Words>1243</Words>
  <Paragraphs>96</Paragraphs>
  <Company>SPecialiST RePack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22T16:52:05Z</dcterms:created>
  <dc:creator>Андрей</dc:creator>
  <dc:description/>
  <dc:language>en-US</dc:language>
  <cp:lastModifiedBy>Андрей</cp:lastModifiedBy>
  <dcterms:modified xsi:type="dcterms:W3CDTF">2018-10-24T10:10:24Z</dcterms:modified>
  <cp:revision>11</cp:revision>
  <dc:subject/>
  <dc:title>АДГЕЗИВНАЯ ФИКСАЦИЯ цельнокерамических вкладок, виниров и коронок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Широкоэкранный</vt:lpwstr>
  </property>
  <property fmtid="{D5CDD505-2E9C-101B-9397-08002B2CF9AE}" pid="3" name="Slides">
    <vt:r8>30</vt:r8>
  </property>
</Properties>
</file>