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2.wmf" ContentType="image/x-wmf"/>
  <Override PartName="/ppt/media/image5.wmf" ContentType="image/x-wmf"/>
  <Override PartName="/ppt/media/image25.jpeg" ContentType="image/jpeg"/>
  <Override PartName="/ppt/media/image10.wmf" ContentType="image/x-wmf"/>
  <Override PartName="/ppt/media/image31.jpeg" ContentType="image/jpeg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27.jpeg" ContentType="image/jpeg"/>
  <Override PartName="/ppt/media/image13.wmf" ContentType="image/x-wmf"/>
  <Override PartName="/ppt/media/image8.wmf" ContentType="image/x-wmf"/>
  <Override PartName="/ppt/media/image9.wmf" ContentType="image/x-wmf"/>
  <Override PartName="/ppt/media/image29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03C-8489-4C50-8DBB-E85C773B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29D-FC89-4ED7-9369-91992EB1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0D2-3382-4970-B79D-95A11BFB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7D6-DA7F-4293-A15C-B27F7B47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13DE-942E-4B8E-9504-0A348610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7A86-DD9F-477C-B32C-7F7B685B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80CE-8687-42A3-B670-A4D168A5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D219-CC55-4B1E-953D-0E97E4A5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CBF5-A6EF-4B5F-BD22-C45E561C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2F63-6450-467F-B0EC-C37B2B06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AACD-108C-4072-83A5-757261A0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57C-FAA1-450B-8062-27B63298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7482-C6A6-4AC0-9C73-44BA869C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5A0F-1FA3-4DDC-923F-3E2AE89F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61E2-21B7-4C7D-A73C-29016C3A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36DA-1A23-482A-A604-D7C19528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98EE-C8CF-4E17-8D08-36EB2B76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779-D1A4-4029-BDE2-36874B14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296-ED20-453E-86AB-A7B8E3C6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4B5-E038-4441-86B8-BCC6987D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2A5B-9478-477C-A820-212A371A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92F-5869-41A7-8837-FF26621B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663-876A-4112-AEAC-CE3F85B7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BC2-7641-4167-8609-BF32C22F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75b6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82C9BF-63D9-4678-AFA2-06D0CC9BE8C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75b6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03104B-650D-4819-89F7-6D12A65C9FF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722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25786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АДГЕЗИВНАЯ ФИКСАЦИЯ цельнокерамических вкладок, виниров и коронок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78080" y="6030000"/>
            <a:ext cx="68022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цов А. 5 стом 1 група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ймер (например, Optibond FL, Kerr Dental) нанести согласно инструкции производителя и «втирать» в течение 20 секун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4" descr=""/>
          <p:cNvPicPr/>
          <p:nvPr/>
        </p:nvPicPr>
        <p:blipFill>
          <a:blip r:embed="rId1"/>
          <a:stretch/>
        </p:blipFill>
        <p:spPr>
          <a:xfrm>
            <a:off x="1374840" y="2969640"/>
            <a:ext cx="4112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5880" y="179640"/>
            <a:ext cx="11762640" cy="65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Затемнить обрабатываемую область, отвернув операционный светильник!!! Иначе существует опасность преждевременного отвердения наносимого бонда, что негативно влияет на припасовку работы.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тем наносится бонд (например, Prime&amp;Bond NT, Dentsply; OptiBond Adhesive, Kerr Dental). – Для эффективного проникновения в кондиционированный дентин адгезив должен воздействовать минимум 20 секунд. – На протяжении времени воздействия внутренние поверхности реставрации обрабатываются бондом, как уже ранее описано. Нанесенный на реставрацию и в полость бонд распределяется воздухом тонким слоем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нимание: Бонд ни в коем случае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подвергать светополимеризации!!!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6573240" y="4160880"/>
            <a:ext cx="4061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365040"/>
            <a:ext cx="10515240" cy="58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Цементировани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Двухкомпонентный цемент. – Как только бонд начинает действовать в полости, ассистент готовит смесь двухкомпонентного цемента (например, Calibra, Dentsply; Variolink II, Ivoclar Vivadent; Compolute, 3M Espe) предварительно выбранного цвета. Для вкладок из прессованной керамики рекомендуется жидкотекучая консистенц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"/>
          <p:cNvPicPr/>
          <p:nvPr/>
        </p:nvPicPr>
        <p:blipFill>
          <a:blip r:embed="rId1"/>
          <a:stretch/>
        </p:blipFill>
        <p:spPr>
          <a:xfrm>
            <a:off x="4081680" y="3207240"/>
            <a:ext cx="401076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705240"/>
            <a:ext cx="10351800" cy="54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ешанный цемент вносится в полость шпателем Хайдеманн или одноразовой кисточкой. Реставрация размещается свободно, излишки цемента удаляются шариком. – Теперь реставрацию необходимо установить в окончательную позицию и зафиксировать при легком давлении (например, шаровидным штопфером). Ассистент удаляет возможные имеющиеся излишки цемента шариком. В аппроксимальной области рекомендуется очистка с помощью суперфлос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6311880" y="3573360"/>
            <a:ext cx="406152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тополимеризация осуществляется в течение 40 секунд на каждую поверхность реставрации: вкладка с 3 поверхностями = 120 секунд, цельная коронка = 200 секун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4186800" y="3318120"/>
            <a:ext cx="4061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3040"/>
            <a:ext cx="12052440" cy="667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Ультразвуковая техни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кондиционирования полости и реставрации можно использовать светоотверждаемый пломбировочный материал (например, Variolink Ultra, Ivoclar Vivadent; Sono-Cem, 3M Espe)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ставрация размещается в полости свободно, с помощью насадки для ультразвукового цементирования помещается в окончательную позицию и фиксируетс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шний материал удаляется шпателем Хайдеманн или стоматологическим зондом. – Цементный шов заравнивается с помощью кратковременной активации ультразвуковой насадки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д светополимеризацией аппроксимальные участки очищаются с помощью стоматологического зонда и суперфлосса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тополимеризация осуществляется в течение 40 секунд на каждую поверхность работы: вкладка с 3 поверхностями = 120 секунд, цельная коронка = 200 секун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487800"/>
            <a:ext cx="10578240" cy="56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Обработка и полиров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обработки и придания формы реставрации (выверка окклюзии) хорошо зарекомендовали себя алмазные инструменты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олировки подходят керамические полировальные насад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адгезивного цементирования не следует забывать обработку фтором и обработку слизистой оболочки ротовой полост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838080" y="3708720"/>
            <a:ext cx="3960000" cy="25905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"/>
          <p:cNvPicPr/>
          <p:nvPr/>
        </p:nvPicPr>
        <p:blipFill>
          <a:blip r:embed="rId2"/>
          <a:stretch/>
        </p:blipFill>
        <p:spPr>
          <a:xfrm>
            <a:off x="6710760" y="3683160"/>
            <a:ext cx="3960000" cy="26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екомендации по препарированию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Объект 3" descr=""/>
          <p:cNvPicPr/>
          <p:nvPr/>
        </p:nvPicPr>
        <p:blipFill>
          <a:blip r:embed="rId1"/>
          <a:stretch/>
        </p:blipFill>
        <p:spPr>
          <a:xfrm>
            <a:off x="838080" y="169056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"/>
          <p:cNvPicPr/>
          <p:nvPr/>
        </p:nvPicPr>
        <p:blipFill>
          <a:blip r:embed="rId2"/>
          <a:stretch/>
        </p:blipFill>
        <p:spPr>
          <a:xfrm>
            <a:off x="838080" y="349740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"/>
          <p:cNvPicPr/>
          <p:nvPr/>
        </p:nvPicPr>
        <p:blipFill>
          <a:blip r:embed="rId3"/>
          <a:stretch/>
        </p:blipFill>
        <p:spPr>
          <a:xfrm>
            <a:off x="843480" y="522108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"/>
          <p:cNvPicPr/>
          <p:nvPr/>
        </p:nvPicPr>
        <p:blipFill>
          <a:blip r:embed="rId4"/>
          <a:stretch/>
        </p:blipFill>
        <p:spPr>
          <a:xfrm>
            <a:off x="4674240" y="169056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"/>
          <p:cNvPicPr/>
          <p:nvPr/>
        </p:nvPicPr>
        <p:blipFill>
          <a:blip r:embed="rId5"/>
          <a:stretch/>
        </p:blipFill>
        <p:spPr>
          <a:xfrm>
            <a:off x="4674240" y="349740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8" descr=""/>
          <p:cNvPicPr/>
          <p:nvPr/>
        </p:nvPicPr>
        <p:blipFill>
          <a:blip r:embed="rId6"/>
          <a:stretch/>
        </p:blipFill>
        <p:spPr>
          <a:xfrm>
            <a:off x="4740840" y="522108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9" descr=""/>
          <p:cNvPicPr/>
          <p:nvPr/>
        </p:nvPicPr>
        <p:blipFill>
          <a:blip r:embed="rId7"/>
          <a:stretch/>
        </p:blipFill>
        <p:spPr>
          <a:xfrm>
            <a:off x="8215560" y="169596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0" descr=""/>
          <p:cNvPicPr/>
          <p:nvPr/>
        </p:nvPicPr>
        <p:blipFill>
          <a:blip r:embed="rId8"/>
          <a:stretch/>
        </p:blipFill>
        <p:spPr>
          <a:xfrm>
            <a:off x="8215920" y="3497400"/>
            <a:ext cx="142128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обходимо учитывать: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1520" y="1436760"/>
            <a:ext cx="10621800" cy="48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обеспечения стабильности конструкции под реставрацию из Cergo необходимо запланировать достаточное пространство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избежания напряжений необходимо отказаться от острых внутренних краев и угл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избегать поднутрений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убокие полости должны быть скорректированы доктором с помощью пломбировочного материал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ого внимания требует форма края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щина стенок должна быть максимально равномерной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препарировании фронтальных и жевательных зубов следует обратить внимание на то, чтобы соблюдалось процентное соотношение: 50% материал каркаса и 50% – облицовочный материал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вкладок, накладок и виниров должно быть следующее соотношение: 75% – материал каркаса и 25% – облицовочный материал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226440"/>
            <a:ext cx="1069164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3000"/>
          </a:bodyPr>
          <a:p>
            <a:pPr indent="0">
              <a:lnSpc>
                <a:spcPct val="9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Протокол фиксации на примере инверсионного (обратного) протезирования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5880" y="1690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циентка М. 35 лет, обратилась в клинику с жалобами на расцементировку коронки из оксида алюминия на 2.1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ьективно: коронка имела подвижное положение на культе зуба 2.1 и без усилий извлеклась. Отмечался откол 1/3 культи зуба ( внутренняя часть коронки была заполнена отделившимся фрагментом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3" descr=""/>
          <p:cNvPicPr/>
          <p:nvPr/>
        </p:nvPicPr>
        <p:blipFill>
          <a:blip r:embed="rId1"/>
          <a:stretch/>
        </p:blipFill>
        <p:spPr>
          <a:xfrm>
            <a:off x="4789800" y="3975840"/>
            <a:ext cx="3431520" cy="25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Этапы адгезивного протокола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диционирование реставраци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Helvetica Neue"/>
              </a:rPr>
              <a:t>(Кондиционирование дентина</a:t>
            </a:r>
            <a:r>
              <a:rPr b="0" lang="ru-RU" sz="2800" spc="-1" strike="noStrike">
                <a:solidFill>
                  <a:srgbClr val="333333"/>
                </a:solidFill>
                <a:latin typeface="Helvetica Neue"/>
              </a:rPr>
              <a:t> – это химическое изменение поверхности дентина при помощи кислот, таких как лимонная, полиакриловая, молочная и т.д. При этом смазанный слой удаляется полностью или частично, также полностью или частично раскрываются дентинные канальцы. Кроме этого происходит деминерализация поверхностного слоя дентина, обнажение коллагеновых волокон органической матрицы и активации ионов и апатитов дентина.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2320" y="12996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2320" y="9579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уб в прошлом подвергался эндолечению с последующим восстановлением с использование полимерного штифта . Отмечалось полное сохранение полимерного штифта на всем протяжении. Откололась только внутренняя поверхность коронки с фрагментом культевого материал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3" descr=""/>
          <p:cNvPicPr/>
          <p:nvPr/>
        </p:nvPicPr>
        <p:blipFill>
          <a:blip r:embed="rId1"/>
          <a:stretch/>
        </p:blipFill>
        <p:spPr>
          <a:xfrm>
            <a:off x="6000120" y="3072600"/>
            <a:ext cx="4023000" cy="32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апы восстановление культи зуба под коронку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Этап. Подготовка культи зуб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культи зуба заключается в небольшом  препарировании с целью удаления малонадежных фрагментов композитного культевого материала 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этого по адгезивному протоколу нанесли кислоту на 15 секунд, обильно смыли, оставили поверхость слегка увлажненной и нанесли адгезивную систему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ользовались универсальным адгезивом двойного отверждения, у него изменена структура полимерной матрицы и он максимально стабилен на дентинной субстанции после полимеризации за счет своей гидрофобности. После подготовки и полимеризации поверхность дентина имеет блестящий ви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7" name="Объект 3" descr=""/>
          <p:cNvPicPr/>
          <p:nvPr/>
        </p:nvPicPr>
        <p:blipFill>
          <a:blip r:embed="rId1"/>
          <a:stretch/>
        </p:blipFill>
        <p:spPr>
          <a:xfrm>
            <a:off x="1818720" y="1992240"/>
            <a:ext cx="5419440" cy="33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1562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7920" y="107748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 Этап. Подготовка корон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утренняя поверхность коронки покрывается изоляционным материалом. (Можно воспользоваться и глицерином или водорастворимым гелем-любрикантом.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3" descr=""/>
          <p:cNvPicPr/>
          <p:nvPr/>
        </p:nvPicPr>
        <p:blipFill>
          <a:blip r:embed="rId1"/>
          <a:stretch/>
        </p:blipFill>
        <p:spPr>
          <a:xfrm>
            <a:off x="6922080" y="2840400"/>
            <a:ext cx="3882600" cy="35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Коронка аккуратно снимается с восстановленной культи зуба. Этот процесс сопровождаться легким усилием 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Объект 3" descr=""/>
          <p:cNvPicPr/>
          <p:nvPr/>
        </p:nvPicPr>
        <p:blipFill>
          <a:blip r:embed="rId1"/>
          <a:stretch/>
        </p:blipFill>
        <p:spPr>
          <a:xfrm>
            <a:off x="179280" y="3380040"/>
            <a:ext cx="4105800" cy="27763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4" descr=""/>
          <p:cNvPicPr/>
          <p:nvPr/>
        </p:nvPicPr>
        <p:blipFill>
          <a:blip r:embed="rId2"/>
          <a:stretch/>
        </p:blipFill>
        <p:spPr>
          <a:xfrm>
            <a:off x="6429240" y="1888920"/>
            <a:ext cx="50745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19960" y="89388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Этап Фиксация коронки на зуб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дгезивная фиксация для коронки из оксида алюминия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этого внутренняя поверхность коронки из оксида алюминия пескоструится с применение порошка оксида аллюмиия 50 мкр при давлении до 2 атм. под непрямым углом к поверхности 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3" descr=""/>
          <p:cNvPicPr/>
          <p:nvPr/>
        </p:nvPicPr>
        <p:blipFill>
          <a:blip r:embed="rId1"/>
          <a:stretch/>
        </p:blipFill>
        <p:spPr>
          <a:xfrm>
            <a:off x="5164200" y="3257640"/>
            <a:ext cx="5210640" cy="34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зжиривается в спирте или ацетоне, просушивается . На внутреннюю поверхность коронки наносится праймер для оксида циркония и алюминия Z-PRIMER PLUS ( BISCO ,IL USA) несколько слоев на 30 секунд. Высушивается . Поверхность коронки готов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3" descr=""/>
          <p:cNvPicPr/>
          <p:nvPr/>
        </p:nvPicPr>
        <p:blipFill>
          <a:blip r:embed="rId1"/>
          <a:stretch/>
        </p:blipFill>
        <p:spPr>
          <a:xfrm>
            <a:off x="4572000" y="3679560"/>
            <a:ext cx="5393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0120" y="111924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овь созданная культя зуба подвергается адгезивному протоколу: протравливается, наносится адгезив All Bond 3, полимеризуетс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оронку вносим композитный цемент светового отвержден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3" descr=""/>
          <p:cNvPicPr/>
          <p:nvPr/>
        </p:nvPicPr>
        <p:blipFill>
          <a:blip r:embed="rId1"/>
          <a:stretch/>
        </p:blipFill>
        <p:spPr>
          <a:xfrm>
            <a:off x="3814200" y="2737440"/>
            <a:ext cx="549432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64200" y="82404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онка адаптируется на культе зуба. Излишки цемента подвергаются 2 секундной полимеризации,. убираются с краев коронки и проводится транскоронковая полимеризации с каждой стороны по 30 секун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Рисунок 3" descr=""/>
          <p:cNvPicPr/>
          <p:nvPr/>
        </p:nvPicPr>
        <p:blipFill>
          <a:blip r:embed="rId1"/>
          <a:stretch/>
        </p:blipFill>
        <p:spPr>
          <a:xfrm>
            <a:off x="664200" y="2663280"/>
            <a:ext cx="11129040" cy="37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Вывод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аленные клинические наблюдения показывают надежность и точность метода повторной адгезивной фиксации коронок. Данная методика может с успехом применяться в сложившихся клинических ситуациях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94520" y="1068120"/>
            <a:ext cx="10500120" cy="47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словия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еменные коронки зафиксированы цементом, не содержащим эвгено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ность припасовки реставрации проконтролирована (БЕЗ КОНТРОЛЯ ОККЛЮЗИИ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стетическая примерка выполнена во влажной среде для оптимальной оценки цвет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о абсолютно сухое рабочее поле с использованием коффердама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ются вспомогательные средства для установки реставрации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олучения микроретенции внутренние поверхности реставрации необходимо протравить с использованием Porcelain Gel Etch, Ultradent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сточники литературы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Журнал современная ортопедическая стоматология 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guDen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 №1 2004г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Статья сайт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HI-S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Восстановление культи зуба. Фиксация безметалловой коронк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1" lang="ru-RU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адгезивной фиксации керамических реставраци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В.Сидоров, А.В.Коваленк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7.09.2001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ta Ceramics Etch, Vita Zahnfabrik, 5%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я фтористоводородная кислота, время протравливания 4 минут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celain Gel Etch, Ultradent, 9–10%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я фтористоводородная кислота, время протравливания 2 минут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5" descr=""/>
          <p:cNvPicPr/>
          <p:nvPr/>
        </p:nvPicPr>
        <p:blipFill>
          <a:blip r:embed="rId1"/>
          <a:stretch/>
        </p:blipFill>
        <p:spPr>
          <a:xfrm>
            <a:off x="7575840" y="3783600"/>
            <a:ext cx="29444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этого реставрация тщательно промывается под проточной водой. Возможные остатки кислоты удаляются с помощью смеси сжатого воздуха и воды (насадка Sprayvit), работа просушивается потоком воздух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утренние поверхности силанизируются (время воздействия: 1 минута), можно использовать любые имеющиеся на рынке силановые растворы, например, Calibra Silane Coupling Agent, Dentsply; Monobond-S, Ivoclar Vivadent; Ultradent Silane, Ultradent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заключение на внутренние поверхности наносится адгезив (например, Prime&amp;Bond NT, Dentsply; Optibond FL, Kerr Dental), который после короткого времени воздействия в течение 20 секунд распределяется тонким слоем под действием сильного потока воздуха. До установки в полости необходимо защищать реставрацию от попадания лучей света для того, чтобы избежать отвердения бондинга. (силан, адгезив и цемент должны быть из одной системы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6932880" y="4725720"/>
            <a:ext cx="304632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д 500 кратным увеличением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д конденсированием вклад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конденсирования вклад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6" descr=""/>
          <p:cNvPicPr/>
          <p:nvPr/>
        </p:nvPicPr>
        <p:blipFill>
          <a:blip r:embed="rId1"/>
          <a:stretch/>
        </p:blipFill>
        <p:spPr>
          <a:xfrm>
            <a:off x="7067160" y="1825560"/>
            <a:ext cx="3300120" cy="22600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"/>
          <p:cNvPicPr/>
          <p:nvPr/>
        </p:nvPicPr>
        <p:blipFill>
          <a:blip r:embed="rId2"/>
          <a:stretch/>
        </p:blipFill>
        <p:spPr>
          <a:xfrm>
            <a:off x="7067160" y="4626360"/>
            <a:ext cx="3097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Кондиционирование полост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условии абсолютно сухого рабочего поля (коффердам) полость очищается пастой, не содержащей фториды, чтобы тщательно удалить органический материал и остатки цемент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4204440" y="3788280"/>
            <a:ext cx="4061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ласти эмали протравить в течение 30 секунд 35%-ной фосфорной кислотой. – Важно: есть опасность загрязнения соседнего зуба, поэтому необходимо защитить соседний зуб с помощью пластмассовой матриц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ласть дентина кондиционировать в течение 15 секунд 35%-ной фосфорной кислотой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5362560" y="4086720"/>
            <a:ext cx="406152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  <Words>1243</Words>
  <Paragraphs>96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2T16:52:05Z</dcterms:created>
  <dc:creator>Андрей</dc:creator>
  <dc:description/>
  <dc:language>en-US</dc:language>
  <cp:lastModifiedBy>Андрей</cp:lastModifiedBy>
  <dcterms:modified xsi:type="dcterms:W3CDTF">2018-10-24T10:10:24Z</dcterms:modified>
  <cp:revision>11</cp:revision>
  <dc:subject/>
  <dc:title>АДГЕЗИВНАЯ ФИКСАЦИЯ цельнокерамических вкладок, виниров и корон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30</vt:r8>
  </property>
</Properties>
</file>