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BFF945E-1127-451D-9F60-9DDA84283458}" type="doc">
      <dgm:prSet loTypeId="urn:microsoft.com/office/officeart/2005/8/layout/process4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0A0D0324-6460-41DA-9D73-7D3D98963B4B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tx1"/>
              </a:solidFill>
            </a:rPr>
            <a:t>1)Концепция туристического агентства</a:t>
          </a:r>
          <a:endParaRPr lang="ru-RU" sz="2400" dirty="0">
            <a:solidFill>
              <a:schemeClr val="tx1"/>
            </a:solidFill>
          </a:endParaRPr>
        </a:p>
      </dgm:t>
    </dgm:pt>
    <dgm:pt modelId="{0B492B4C-A6BA-44CC-A150-3F7618DFFE57}" type="parTrans" cxnId="{3B808733-CA64-4C18-B9F5-9B3458C839C3}">
      <dgm:prSet/>
      <dgm:spPr/>
      <dgm:t>
        <a:bodyPr/>
        <a:lstStyle/>
        <a:p>
          <a:endParaRPr lang="ru-RU"/>
        </a:p>
      </dgm:t>
    </dgm:pt>
    <dgm:pt modelId="{F9FFF500-1A50-41FC-A29F-872B4FCF89B3}" type="sibTrans" cxnId="{3B808733-CA64-4C18-B9F5-9B3458C839C3}">
      <dgm:prSet/>
      <dgm:spPr/>
      <dgm:t>
        <a:bodyPr/>
        <a:lstStyle/>
        <a:p>
          <a:endParaRPr lang="ru-RU"/>
        </a:p>
      </dgm:t>
    </dgm:pt>
    <dgm:pt modelId="{128EB1C8-DF83-4F45-B47E-10D924F627C5}">
      <dgm:prSet phldrT="[Текст]"/>
      <dgm:spPr/>
      <dgm:t>
        <a:bodyPr/>
        <a:lstStyle/>
        <a:p>
          <a:r>
            <a:rPr lang="ru-RU" dirty="0" smtClean="0"/>
            <a:t>2) Организационный план</a:t>
          </a:r>
          <a:endParaRPr lang="ru-RU" dirty="0"/>
        </a:p>
      </dgm:t>
    </dgm:pt>
    <dgm:pt modelId="{F0DF4B97-6DFD-4B71-9713-074E319BD829}" type="parTrans" cxnId="{64FBB725-C403-424A-920E-7A82407239AD}">
      <dgm:prSet/>
      <dgm:spPr/>
      <dgm:t>
        <a:bodyPr/>
        <a:lstStyle/>
        <a:p>
          <a:endParaRPr lang="ru-RU"/>
        </a:p>
      </dgm:t>
    </dgm:pt>
    <dgm:pt modelId="{71C361D9-C5BE-4A03-8B4F-9E13BED9A594}" type="sibTrans" cxnId="{64FBB725-C403-424A-920E-7A82407239AD}">
      <dgm:prSet/>
      <dgm:spPr/>
      <dgm:t>
        <a:bodyPr/>
        <a:lstStyle/>
        <a:p>
          <a:endParaRPr lang="ru-RU"/>
        </a:p>
      </dgm:t>
    </dgm:pt>
    <dgm:pt modelId="{C25638D2-7585-4909-A1A4-4429DF8BF266}">
      <dgm:prSet phldrT="[Текст]"/>
      <dgm:spPr/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3)Конкурентная среда</a:t>
          </a:r>
          <a:endParaRPr lang="ru-RU" dirty="0">
            <a:solidFill>
              <a:schemeClr val="tx1"/>
            </a:solidFill>
          </a:endParaRPr>
        </a:p>
      </dgm:t>
    </dgm:pt>
    <dgm:pt modelId="{44E7BC50-AB9F-4DBA-8055-FA772641F554}" type="parTrans" cxnId="{84FD910C-C68F-46A9-8E00-CBB4F608DAD0}">
      <dgm:prSet/>
      <dgm:spPr/>
      <dgm:t>
        <a:bodyPr/>
        <a:lstStyle/>
        <a:p>
          <a:endParaRPr lang="ru-RU"/>
        </a:p>
      </dgm:t>
    </dgm:pt>
    <dgm:pt modelId="{F2ED4805-E9ED-44C9-B6D1-6D1691709435}" type="sibTrans" cxnId="{84FD910C-C68F-46A9-8E00-CBB4F608DAD0}">
      <dgm:prSet/>
      <dgm:spPr/>
      <dgm:t>
        <a:bodyPr/>
        <a:lstStyle/>
        <a:p>
          <a:endParaRPr lang="ru-RU"/>
        </a:p>
      </dgm:t>
    </dgm:pt>
    <dgm:pt modelId="{087B2013-3E43-419C-A90F-BF4793EF7790}">
      <dgm:prSet phldrT="[Текст]" custT="1"/>
      <dgm:spPr/>
      <dgm:t>
        <a:bodyPr/>
        <a:lstStyle/>
        <a:p>
          <a:r>
            <a:rPr lang="ru-RU" sz="1800" dirty="0" smtClean="0"/>
            <a:t>4)Производственный план</a:t>
          </a:r>
          <a:endParaRPr lang="ru-RU" sz="1800" dirty="0"/>
        </a:p>
      </dgm:t>
    </dgm:pt>
    <dgm:pt modelId="{C1A93CF0-0FB4-4713-993E-10EAE98F34C7}" type="parTrans" cxnId="{B8A9FB23-F02D-42BE-ACA1-B8683242BD97}">
      <dgm:prSet/>
      <dgm:spPr/>
      <dgm:t>
        <a:bodyPr/>
        <a:lstStyle/>
        <a:p>
          <a:endParaRPr lang="ru-RU"/>
        </a:p>
      </dgm:t>
    </dgm:pt>
    <dgm:pt modelId="{28715856-860F-4038-8ADE-5E115BB8A544}" type="sibTrans" cxnId="{B8A9FB23-F02D-42BE-ACA1-B8683242BD97}">
      <dgm:prSet/>
      <dgm:spPr/>
      <dgm:t>
        <a:bodyPr/>
        <a:lstStyle/>
        <a:p>
          <a:endParaRPr lang="ru-RU"/>
        </a:p>
      </dgm:t>
    </dgm:pt>
    <dgm:pt modelId="{2F39BF4A-9F6F-4C88-9782-B88DFB3BC71D}">
      <dgm:prSet phldrT="[Текст]" custT="1"/>
      <dgm:spPr/>
      <dgm:t>
        <a:bodyPr/>
        <a:lstStyle/>
        <a:p>
          <a:r>
            <a:rPr lang="ru-RU" sz="1800" dirty="0" smtClean="0"/>
            <a:t>5) План маркетинга и рекламы</a:t>
          </a:r>
        </a:p>
      </dgm:t>
    </dgm:pt>
    <dgm:pt modelId="{F715C51B-7D71-40AB-A01A-EA5DC8950630}" type="parTrans" cxnId="{2118D7DC-3FCE-44B2-92B8-64ACC955348C}">
      <dgm:prSet/>
      <dgm:spPr/>
      <dgm:t>
        <a:bodyPr/>
        <a:lstStyle/>
        <a:p>
          <a:endParaRPr lang="ru-RU"/>
        </a:p>
      </dgm:t>
    </dgm:pt>
    <dgm:pt modelId="{986AD6D8-AD0A-4336-8A07-BB209F82D8B8}" type="sibTrans" cxnId="{2118D7DC-3FCE-44B2-92B8-64ACC955348C}">
      <dgm:prSet/>
      <dgm:spPr/>
      <dgm:t>
        <a:bodyPr/>
        <a:lstStyle/>
        <a:p>
          <a:endParaRPr lang="ru-RU"/>
        </a:p>
      </dgm:t>
    </dgm:pt>
    <dgm:pt modelId="{2491AE17-D77A-4840-943B-82728828ACD1}">
      <dgm:prSet phldrT="[Текст]" custT="1"/>
      <dgm:spPr/>
      <dgm:t>
        <a:bodyPr/>
        <a:lstStyle/>
        <a:p>
          <a:r>
            <a:rPr lang="ru-RU" sz="1800" dirty="0" smtClean="0">
              <a:solidFill>
                <a:schemeClr val="tx1"/>
              </a:solidFill>
            </a:rPr>
            <a:t>6)Юридические аспекты открытия туристической компании</a:t>
          </a:r>
          <a:endParaRPr lang="ru-RU" sz="1800" dirty="0">
            <a:solidFill>
              <a:schemeClr val="tx1"/>
            </a:solidFill>
          </a:endParaRPr>
        </a:p>
      </dgm:t>
    </dgm:pt>
    <dgm:pt modelId="{11F6487C-365F-4EBA-BEC7-F12919657432}" type="parTrans" cxnId="{9D195FE4-0CC1-4D83-A2F3-A6A89CCDCD30}">
      <dgm:prSet/>
      <dgm:spPr/>
      <dgm:t>
        <a:bodyPr/>
        <a:lstStyle/>
        <a:p>
          <a:endParaRPr lang="ru-RU"/>
        </a:p>
      </dgm:t>
    </dgm:pt>
    <dgm:pt modelId="{7512019E-9003-4EBA-9C34-2EAEC9FE3108}" type="sibTrans" cxnId="{9D195FE4-0CC1-4D83-A2F3-A6A89CCDCD30}">
      <dgm:prSet/>
      <dgm:spPr/>
      <dgm:t>
        <a:bodyPr/>
        <a:lstStyle/>
        <a:p>
          <a:endParaRPr lang="ru-RU"/>
        </a:p>
      </dgm:t>
    </dgm:pt>
    <dgm:pt modelId="{76F14562-39A3-4C7A-8964-27C6B3472C30}">
      <dgm:prSet phldrT="[Текст]" custT="1"/>
      <dgm:spPr/>
      <dgm:t>
        <a:bodyPr/>
        <a:lstStyle/>
        <a:p>
          <a:r>
            <a:rPr lang="ru-RU" sz="1600" dirty="0" smtClean="0"/>
            <a:t>7)Финансовый план</a:t>
          </a:r>
          <a:endParaRPr lang="ru-RU" sz="1600" dirty="0"/>
        </a:p>
      </dgm:t>
    </dgm:pt>
    <dgm:pt modelId="{B6FE6A32-1CF2-4A42-89F5-15E42A7246DC}" type="parTrans" cxnId="{44D994AC-AC51-4CEC-988B-F93ED0EF7614}">
      <dgm:prSet/>
      <dgm:spPr/>
      <dgm:t>
        <a:bodyPr/>
        <a:lstStyle/>
        <a:p>
          <a:endParaRPr lang="ru-RU"/>
        </a:p>
      </dgm:t>
    </dgm:pt>
    <dgm:pt modelId="{CFC538F8-821F-4F46-8D38-1693AE6EA49A}" type="sibTrans" cxnId="{44D994AC-AC51-4CEC-988B-F93ED0EF7614}">
      <dgm:prSet/>
      <dgm:spPr/>
      <dgm:t>
        <a:bodyPr/>
        <a:lstStyle/>
        <a:p>
          <a:endParaRPr lang="ru-RU"/>
        </a:p>
      </dgm:t>
    </dgm:pt>
    <dgm:pt modelId="{5860F9CD-CCBF-472D-9787-28274F374270}">
      <dgm:prSet phldrT="[Текст]" custT="1"/>
      <dgm:spPr/>
      <dgm:t>
        <a:bodyPr/>
        <a:lstStyle/>
        <a:p>
          <a:r>
            <a:rPr lang="ru-RU" sz="1800" dirty="0" smtClean="0"/>
            <a:t>8)Заключение</a:t>
          </a:r>
          <a:endParaRPr lang="ru-RU" sz="1800" dirty="0"/>
        </a:p>
      </dgm:t>
    </dgm:pt>
    <dgm:pt modelId="{8A747472-E8E6-4E93-ACDB-218CCD85A3A3}" type="parTrans" cxnId="{8784F505-8343-46C8-A0BB-4C18F0FF1A2A}">
      <dgm:prSet/>
      <dgm:spPr/>
      <dgm:t>
        <a:bodyPr/>
        <a:lstStyle/>
        <a:p>
          <a:endParaRPr lang="ru-RU"/>
        </a:p>
      </dgm:t>
    </dgm:pt>
    <dgm:pt modelId="{4AD0CAED-30EE-4296-AA39-78C3361D0D83}" type="sibTrans" cxnId="{8784F505-8343-46C8-A0BB-4C18F0FF1A2A}">
      <dgm:prSet/>
      <dgm:spPr/>
      <dgm:t>
        <a:bodyPr/>
        <a:lstStyle/>
        <a:p>
          <a:endParaRPr lang="ru-RU"/>
        </a:p>
      </dgm:t>
    </dgm:pt>
    <dgm:pt modelId="{49C70C56-8DC5-4CB1-B6F8-AA276EDAFF95}" type="pres">
      <dgm:prSet presAssocID="{6BFF945E-1127-451D-9F60-9DDA84283458}" presName="Name0" presStyleCnt="0">
        <dgm:presLayoutVars>
          <dgm:dir/>
          <dgm:animLvl val="lvl"/>
          <dgm:resizeHandles val="exact"/>
        </dgm:presLayoutVars>
      </dgm:prSet>
      <dgm:spPr/>
    </dgm:pt>
    <dgm:pt modelId="{7338126A-7B6B-4DBC-A1CF-A330BF109AFA}" type="pres">
      <dgm:prSet presAssocID="{2491AE17-D77A-4840-943B-82728828ACD1}" presName="boxAndChildren" presStyleCnt="0"/>
      <dgm:spPr/>
    </dgm:pt>
    <dgm:pt modelId="{9DD5B033-C434-46A8-AD95-EA337476678A}" type="pres">
      <dgm:prSet presAssocID="{2491AE17-D77A-4840-943B-82728828ACD1}" presName="parentTextBox" presStyleLbl="node1" presStyleIdx="0" presStyleCnt="3"/>
      <dgm:spPr/>
      <dgm:t>
        <a:bodyPr/>
        <a:lstStyle/>
        <a:p>
          <a:endParaRPr lang="ru-RU"/>
        </a:p>
      </dgm:t>
    </dgm:pt>
    <dgm:pt modelId="{A92791BA-0030-4179-BB6A-031972B13AFE}" type="pres">
      <dgm:prSet presAssocID="{2491AE17-D77A-4840-943B-82728828ACD1}" presName="entireBox" presStyleLbl="node1" presStyleIdx="0" presStyleCnt="3"/>
      <dgm:spPr/>
      <dgm:t>
        <a:bodyPr/>
        <a:lstStyle/>
        <a:p>
          <a:endParaRPr lang="ru-RU"/>
        </a:p>
      </dgm:t>
    </dgm:pt>
    <dgm:pt modelId="{4DF381DC-1902-4614-8B4F-7B9DDCA87ADA}" type="pres">
      <dgm:prSet presAssocID="{2491AE17-D77A-4840-943B-82728828ACD1}" presName="descendantBox" presStyleCnt="0"/>
      <dgm:spPr/>
    </dgm:pt>
    <dgm:pt modelId="{43F428F3-ABCC-40CE-846F-C5B6FD5BE873}" type="pres">
      <dgm:prSet presAssocID="{76F14562-39A3-4C7A-8964-27C6B3472C30}" presName="childTextBox" presStyleLbl="fgAccFollow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FB8EB16-6A2E-4F50-8331-637665919A88}" type="pres">
      <dgm:prSet presAssocID="{5860F9CD-CCBF-472D-9787-28274F374270}" presName="childTextBox" presStyleLbl="fgAccFollowNode1" presStyleIdx="1" presStyleCnt="5" custLinFactNeighborX="-107" custLinFactNeighborY="433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D7E74EE-9E1B-4B96-8AC7-1E03124114A7}" type="pres">
      <dgm:prSet presAssocID="{F2ED4805-E9ED-44C9-B6D1-6D1691709435}" presName="sp" presStyleCnt="0"/>
      <dgm:spPr/>
    </dgm:pt>
    <dgm:pt modelId="{B0159BE4-353B-49D0-A3B3-0E7CA108E8F9}" type="pres">
      <dgm:prSet presAssocID="{C25638D2-7585-4909-A1A4-4429DF8BF266}" presName="arrowAndChildren" presStyleCnt="0"/>
      <dgm:spPr/>
    </dgm:pt>
    <dgm:pt modelId="{DE02B609-181A-4FC2-96BE-571A77E8421B}" type="pres">
      <dgm:prSet presAssocID="{C25638D2-7585-4909-A1A4-4429DF8BF266}" presName="parentTextArrow" presStyleLbl="node1" presStyleIdx="0" presStyleCnt="3"/>
      <dgm:spPr/>
      <dgm:t>
        <a:bodyPr/>
        <a:lstStyle/>
        <a:p>
          <a:endParaRPr lang="ru-RU"/>
        </a:p>
      </dgm:t>
    </dgm:pt>
    <dgm:pt modelId="{0C375ED4-4FF6-4EE8-97D2-2BD7A5068C33}" type="pres">
      <dgm:prSet presAssocID="{C25638D2-7585-4909-A1A4-4429DF8BF266}" presName="arrow" presStyleLbl="node1" presStyleIdx="1" presStyleCnt="3"/>
      <dgm:spPr/>
      <dgm:t>
        <a:bodyPr/>
        <a:lstStyle/>
        <a:p>
          <a:endParaRPr lang="ru-RU"/>
        </a:p>
      </dgm:t>
    </dgm:pt>
    <dgm:pt modelId="{7A0AB6FF-4420-479F-B557-1545144F5D1A}" type="pres">
      <dgm:prSet presAssocID="{C25638D2-7585-4909-A1A4-4429DF8BF266}" presName="descendantArrow" presStyleCnt="0"/>
      <dgm:spPr/>
    </dgm:pt>
    <dgm:pt modelId="{F36F89F4-55AA-404A-BDEC-29461D38363D}" type="pres">
      <dgm:prSet presAssocID="{087B2013-3E43-419C-A90F-BF4793EF7790}" presName="childTextArrow" presStyleLbl="fgAccFollowNode1" presStyleIdx="2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8B7DD15-AB75-4979-80DE-0B1CDD9D543F}" type="pres">
      <dgm:prSet presAssocID="{2F39BF4A-9F6F-4C88-9782-B88DFB3BC71D}" presName="childTextArrow" presStyleLbl="fgAccFollow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050F27B-F459-4ED7-A30A-E1843F184888}" type="pres">
      <dgm:prSet presAssocID="{F9FFF500-1A50-41FC-A29F-872B4FCF89B3}" presName="sp" presStyleCnt="0"/>
      <dgm:spPr/>
    </dgm:pt>
    <dgm:pt modelId="{15E786AB-643A-47B2-B1D5-2E510EE20B70}" type="pres">
      <dgm:prSet presAssocID="{0A0D0324-6460-41DA-9D73-7D3D98963B4B}" presName="arrowAndChildren" presStyleCnt="0"/>
      <dgm:spPr/>
    </dgm:pt>
    <dgm:pt modelId="{524B4425-8206-4171-8EAC-760AFCD1618E}" type="pres">
      <dgm:prSet presAssocID="{0A0D0324-6460-41DA-9D73-7D3D98963B4B}" presName="parentTextArrow" presStyleLbl="node1" presStyleIdx="1" presStyleCnt="3"/>
      <dgm:spPr/>
      <dgm:t>
        <a:bodyPr/>
        <a:lstStyle/>
        <a:p>
          <a:endParaRPr lang="ru-RU"/>
        </a:p>
      </dgm:t>
    </dgm:pt>
    <dgm:pt modelId="{CA5E2E9C-B7D6-480C-B5D2-8AC25F3F6BD0}" type="pres">
      <dgm:prSet presAssocID="{0A0D0324-6460-41DA-9D73-7D3D98963B4B}" presName="arrow" presStyleLbl="node1" presStyleIdx="2" presStyleCnt="3" custLinFactNeighborX="-972" custLinFactNeighborY="-71426"/>
      <dgm:spPr/>
      <dgm:t>
        <a:bodyPr/>
        <a:lstStyle/>
        <a:p>
          <a:endParaRPr lang="ru-RU"/>
        </a:p>
      </dgm:t>
    </dgm:pt>
    <dgm:pt modelId="{4F3CCF93-B0A3-40C0-B9F3-B41B6BB29BD8}" type="pres">
      <dgm:prSet presAssocID="{0A0D0324-6460-41DA-9D73-7D3D98963B4B}" presName="descendantArrow" presStyleCnt="0"/>
      <dgm:spPr/>
    </dgm:pt>
    <dgm:pt modelId="{F90B152F-4F01-4D3F-BAF7-65734CF063E7}" type="pres">
      <dgm:prSet presAssocID="{128EB1C8-DF83-4F45-B47E-10D924F627C5}" presName="childTextArrow" presStyleLbl="fgAccFollowNode1" presStyleIdx="4" presStyleCnt="5" custLinFactNeighborX="972" custLinFactNeighborY="1099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8B7CCDE-F266-4560-BA1F-073F5F6EF183}" type="presOf" srcId="{087B2013-3E43-419C-A90F-BF4793EF7790}" destId="{F36F89F4-55AA-404A-BDEC-29461D38363D}" srcOrd="0" destOrd="0" presId="urn:microsoft.com/office/officeart/2005/8/layout/process4"/>
    <dgm:cxn modelId="{9D195FE4-0CC1-4D83-A2F3-A6A89CCDCD30}" srcId="{6BFF945E-1127-451D-9F60-9DDA84283458}" destId="{2491AE17-D77A-4840-943B-82728828ACD1}" srcOrd="2" destOrd="0" parTransId="{11F6487C-365F-4EBA-BEC7-F12919657432}" sibTransId="{7512019E-9003-4EBA-9C34-2EAEC9FE3108}"/>
    <dgm:cxn modelId="{3B808733-CA64-4C18-B9F5-9B3458C839C3}" srcId="{6BFF945E-1127-451D-9F60-9DDA84283458}" destId="{0A0D0324-6460-41DA-9D73-7D3D98963B4B}" srcOrd="0" destOrd="0" parTransId="{0B492B4C-A6BA-44CC-A150-3F7618DFFE57}" sibTransId="{F9FFF500-1A50-41FC-A29F-872B4FCF89B3}"/>
    <dgm:cxn modelId="{355F4739-BE36-4FCA-98F4-1FA48D9935D6}" type="presOf" srcId="{0A0D0324-6460-41DA-9D73-7D3D98963B4B}" destId="{CA5E2E9C-B7D6-480C-B5D2-8AC25F3F6BD0}" srcOrd="1" destOrd="0" presId="urn:microsoft.com/office/officeart/2005/8/layout/process4"/>
    <dgm:cxn modelId="{2118D7DC-3FCE-44B2-92B8-64ACC955348C}" srcId="{C25638D2-7585-4909-A1A4-4429DF8BF266}" destId="{2F39BF4A-9F6F-4C88-9782-B88DFB3BC71D}" srcOrd="1" destOrd="0" parTransId="{F715C51B-7D71-40AB-A01A-EA5DC8950630}" sibTransId="{986AD6D8-AD0A-4336-8A07-BB209F82D8B8}"/>
    <dgm:cxn modelId="{8784F505-8343-46C8-A0BB-4C18F0FF1A2A}" srcId="{2491AE17-D77A-4840-943B-82728828ACD1}" destId="{5860F9CD-CCBF-472D-9787-28274F374270}" srcOrd="1" destOrd="0" parTransId="{8A747472-E8E6-4E93-ACDB-218CCD85A3A3}" sibTransId="{4AD0CAED-30EE-4296-AA39-78C3361D0D83}"/>
    <dgm:cxn modelId="{32E293D1-BBFE-412C-B55B-098389FC6D11}" type="presOf" srcId="{2491AE17-D77A-4840-943B-82728828ACD1}" destId="{A92791BA-0030-4179-BB6A-031972B13AFE}" srcOrd="1" destOrd="0" presId="urn:microsoft.com/office/officeart/2005/8/layout/process4"/>
    <dgm:cxn modelId="{60E4C929-07C4-430F-A793-ED913754D4B8}" type="presOf" srcId="{76F14562-39A3-4C7A-8964-27C6B3472C30}" destId="{43F428F3-ABCC-40CE-846F-C5B6FD5BE873}" srcOrd="0" destOrd="0" presId="urn:microsoft.com/office/officeart/2005/8/layout/process4"/>
    <dgm:cxn modelId="{D4D6163F-6DDC-49C2-A042-8DD31B732B0F}" type="presOf" srcId="{C25638D2-7585-4909-A1A4-4429DF8BF266}" destId="{DE02B609-181A-4FC2-96BE-571A77E8421B}" srcOrd="0" destOrd="0" presId="urn:microsoft.com/office/officeart/2005/8/layout/process4"/>
    <dgm:cxn modelId="{7B14D78C-E1EB-489A-A523-5AE7620E1667}" type="presOf" srcId="{2491AE17-D77A-4840-943B-82728828ACD1}" destId="{9DD5B033-C434-46A8-AD95-EA337476678A}" srcOrd="0" destOrd="0" presId="urn:microsoft.com/office/officeart/2005/8/layout/process4"/>
    <dgm:cxn modelId="{84FD910C-C68F-46A9-8E00-CBB4F608DAD0}" srcId="{6BFF945E-1127-451D-9F60-9DDA84283458}" destId="{C25638D2-7585-4909-A1A4-4429DF8BF266}" srcOrd="1" destOrd="0" parTransId="{44E7BC50-AB9F-4DBA-8055-FA772641F554}" sibTransId="{F2ED4805-E9ED-44C9-B6D1-6D1691709435}"/>
    <dgm:cxn modelId="{49EC2E95-F2A0-4171-A4F2-51E7D6A9A28B}" type="presOf" srcId="{2F39BF4A-9F6F-4C88-9782-B88DFB3BC71D}" destId="{08B7DD15-AB75-4979-80DE-0B1CDD9D543F}" srcOrd="0" destOrd="0" presId="urn:microsoft.com/office/officeart/2005/8/layout/process4"/>
    <dgm:cxn modelId="{02575E60-5240-4933-B619-0759B7D739CE}" type="presOf" srcId="{C25638D2-7585-4909-A1A4-4429DF8BF266}" destId="{0C375ED4-4FF6-4EE8-97D2-2BD7A5068C33}" srcOrd="1" destOrd="0" presId="urn:microsoft.com/office/officeart/2005/8/layout/process4"/>
    <dgm:cxn modelId="{64FBB725-C403-424A-920E-7A82407239AD}" srcId="{0A0D0324-6460-41DA-9D73-7D3D98963B4B}" destId="{128EB1C8-DF83-4F45-B47E-10D924F627C5}" srcOrd="0" destOrd="0" parTransId="{F0DF4B97-6DFD-4B71-9713-074E319BD829}" sibTransId="{71C361D9-C5BE-4A03-8B4F-9E13BED9A594}"/>
    <dgm:cxn modelId="{0C190E19-3B4B-4D9D-8E58-EA08D67EDFF5}" type="presOf" srcId="{6BFF945E-1127-451D-9F60-9DDA84283458}" destId="{49C70C56-8DC5-4CB1-B6F8-AA276EDAFF95}" srcOrd="0" destOrd="0" presId="urn:microsoft.com/office/officeart/2005/8/layout/process4"/>
    <dgm:cxn modelId="{44D994AC-AC51-4CEC-988B-F93ED0EF7614}" srcId="{2491AE17-D77A-4840-943B-82728828ACD1}" destId="{76F14562-39A3-4C7A-8964-27C6B3472C30}" srcOrd="0" destOrd="0" parTransId="{B6FE6A32-1CF2-4A42-89F5-15E42A7246DC}" sibTransId="{CFC538F8-821F-4F46-8D38-1693AE6EA49A}"/>
    <dgm:cxn modelId="{EF5E5242-A3AA-49EB-ADF4-BAECD013C233}" type="presOf" srcId="{0A0D0324-6460-41DA-9D73-7D3D98963B4B}" destId="{524B4425-8206-4171-8EAC-760AFCD1618E}" srcOrd="0" destOrd="0" presId="urn:microsoft.com/office/officeart/2005/8/layout/process4"/>
    <dgm:cxn modelId="{07D6B13C-2BAC-4C5F-B5F8-9949B0BAEDB6}" type="presOf" srcId="{5860F9CD-CCBF-472D-9787-28274F374270}" destId="{0FB8EB16-6A2E-4F50-8331-637665919A88}" srcOrd="0" destOrd="0" presId="urn:microsoft.com/office/officeart/2005/8/layout/process4"/>
    <dgm:cxn modelId="{041A3A64-A592-4EF0-90C3-58BC981028EA}" type="presOf" srcId="{128EB1C8-DF83-4F45-B47E-10D924F627C5}" destId="{F90B152F-4F01-4D3F-BAF7-65734CF063E7}" srcOrd="0" destOrd="0" presId="urn:microsoft.com/office/officeart/2005/8/layout/process4"/>
    <dgm:cxn modelId="{B8A9FB23-F02D-42BE-ACA1-B8683242BD97}" srcId="{C25638D2-7585-4909-A1A4-4429DF8BF266}" destId="{087B2013-3E43-419C-A90F-BF4793EF7790}" srcOrd="0" destOrd="0" parTransId="{C1A93CF0-0FB4-4713-993E-10EAE98F34C7}" sibTransId="{28715856-860F-4038-8ADE-5E115BB8A544}"/>
    <dgm:cxn modelId="{565BA8FB-323A-4452-8314-0B26B9E968C8}" type="presParOf" srcId="{49C70C56-8DC5-4CB1-B6F8-AA276EDAFF95}" destId="{7338126A-7B6B-4DBC-A1CF-A330BF109AFA}" srcOrd="0" destOrd="0" presId="urn:microsoft.com/office/officeart/2005/8/layout/process4"/>
    <dgm:cxn modelId="{2ABA8202-A8C7-4F63-A2E7-24D9C8B36B7C}" type="presParOf" srcId="{7338126A-7B6B-4DBC-A1CF-A330BF109AFA}" destId="{9DD5B033-C434-46A8-AD95-EA337476678A}" srcOrd="0" destOrd="0" presId="urn:microsoft.com/office/officeart/2005/8/layout/process4"/>
    <dgm:cxn modelId="{4575963E-5B12-485D-A12E-37FF24F2D932}" type="presParOf" srcId="{7338126A-7B6B-4DBC-A1CF-A330BF109AFA}" destId="{A92791BA-0030-4179-BB6A-031972B13AFE}" srcOrd="1" destOrd="0" presId="urn:microsoft.com/office/officeart/2005/8/layout/process4"/>
    <dgm:cxn modelId="{279E9D05-09C8-4372-A862-98999AB7D415}" type="presParOf" srcId="{7338126A-7B6B-4DBC-A1CF-A330BF109AFA}" destId="{4DF381DC-1902-4614-8B4F-7B9DDCA87ADA}" srcOrd="2" destOrd="0" presId="urn:microsoft.com/office/officeart/2005/8/layout/process4"/>
    <dgm:cxn modelId="{A9D0BDDE-7839-494B-96D7-DABE153A48F2}" type="presParOf" srcId="{4DF381DC-1902-4614-8B4F-7B9DDCA87ADA}" destId="{43F428F3-ABCC-40CE-846F-C5B6FD5BE873}" srcOrd="0" destOrd="0" presId="urn:microsoft.com/office/officeart/2005/8/layout/process4"/>
    <dgm:cxn modelId="{36CFC499-3231-4B74-82AB-93AB5A4B4690}" type="presParOf" srcId="{4DF381DC-1902-4614-8B4F-7B9DDCA87ADA}" destId="{0FB8EB16-6A2E-4F50-8331-637665919A88}" srcOrd="1" destOrd="0" presId="urn:microsoft.com/office/officeart/2005/8/layout/process4"/>
    <dgm:cxn modelId="{B544615C-DC41-46B7-BCAE-F869F0D761EA}" type="presParOf" srcId="{49C70C56-8DC5-4CB1-B6F8-AA276EDAFF95}" destId="{AD7E74EE-9E1B-4B96-8AC7-1E03124114A7}" srcOrd="1" destOrd="0" presId="urn:microsoft.com/office/officeart/2005/8/layout/process4"/>
    <dgm:cxn modelId="{74319652-4EBF-462D-8EC2-157A681905D1}" type="presParOf" srcId="{49C70C56-8DC5-4CB1-B6F8-AA276EDAFF95}" destId="{B0159BE4-353B-49D0-A3B3-0E7CA108E8F9}" srcOrd="2" destOrd="0" presId="urn:microsoft.com/office/officeart/2005/8/layout/process4"/>
    <dgm:cxn modelId="{45278DC7-1F8F-4D8D-A30B-0CA5EFBD7969}" type="presParOf" srcId="{B0159BE4-353B-49D0-A3B3-0E7CA108E8F9}" destId="{DE02B609-181A-4FC2-96BE-571A77E8421B}" srcOrd="0" destOrd="0" presId="urn:microsoft.com/office/officeart/2005/8/layout/process4"/>
    <dgm:cxn modelId="{554A05C7-CD81-4D78-9C07-06F2219C6BE9}" type="presParOf" srcId="{B0159BE4-353B-49D0-A3B3-0E7CA108E8F9}" destId="{0C375ED4-4FF6-4EE8-97D2-2BD7A5068C33}" srcOrd="1" destOrd="0" presId="urn:microsoft.com/office/officeart/2005/8/layout/process4"/>
    <dgm:cxn modelId="{4E00CE84-52D2-49E0-96F0-2416081F9D14}" type="presParOf" srcId="{B0159BE4-353B-49D0-A3B3-0E7CA108E8F9}" destId="{7A0AB6FF-4420-479F-B557-1545144F5D1A}" srcOrd="2" destOrd="0" presId="urn:microsoft.com/office/officeart/2005/8/layout/process4"/>
    <dgm:cxn modelId="{0E05A411-7579-4116-8C96-850FD2C4A0AE}" type="presParOf" srcId="{7A0AB6FF-4420-479F-B557-1545144F5D1A}" destId="{F36F89F4-55AA-404A-BDEC-29461D38363D}" srcOrd="0" destOrd="0" presId="urn:microsoft.com/office/officeart/2005/8/layout/process4"/>
    <dgm:cxn modelId="{373C348B-CF0D-40B7-86DD-E2D5161C773B}" type="presParOf" srcId="{7A0AB6FF-4420-479F-B557-1545144F5D1A}" destId="{08B7DD15-AB75-4979-80DE-0B1CDD9D543F}" srcOrd="1" destOrd="0" presId="urn:microsoft.com/office/officeart/2005/8/layout/process4"/>
    <dgm:cxn modelId="{157972BC-3D74-43F4-9C90-269E6D2C3AD7}" type="presParOf" srcId="{49C70C56-8DC5-4CB1-B6F8-AA276EDAFF95}" destId="{0050F27B-F459-4ED7-A30A-E1843F184888}" srcOrd="3" destOrd="0" presId="urn:microsoft.com/office/officeart/2005/8/layout/process4"/>
    <dgm:cxn modelId="{EE4D0E0B-25E1-4378-9042-1A075AEF81C3}" type="presParOf" srcId="{49C70C56-8DC5-4CB1-B6F8-AA276EDAFF95}" destId="{15E786AB-643A-47B2-B1D5-2E510EE20B70}" srcOrd="4" destOrd="0" presId="urn:microsoft.com/office/officeart/2005/8/layout/process4"/>
    <dgm:cxn modelId="{7712F290-3233-4A18-B4EB-1D8FD3A120D0}" type="presParOf" srcId="{15E786AB-643A-47B2-B1D5-2E510EE20B70}" destId="{524B4425-8206-4171-8EAC-760AFCD1618E}" srcOrd="0" destOrd="0" presId="urn:microsoft.com/office/officeart/2005/8/layout/process4"/>
    <dgm:cxn modelId="{1F931D00-4BE0-4C89-B3A6-DE7ED5DD6747}" type="presParOf" srcId="{15E786AB-643A-47B2-B1D5-2E510EE20B70}" destId="{CA5E2E9C-B7D6-480C-B5D2-8AC25F3F6BD0}" srcOrd="1" destOrd="0" presId="urn:microsoft.com/office/officeart/2005/8/layout/process4"/>
    <dgm:cxn modelId="{DC706F87-A60E-40C7-8E87-CEC635662AFA}" type="presParOf" srcId="{15E786AB-643A-47B2-B1D5-2E510EE20B70}" destId="{4F3CCF93-B0A3-40C0-B9F3-B41B6BB29BD8}" srcOrd="2" destOrd="0" presId="urn:microsoft.com/office/officeart/2005/8/layout/process4"/>
    <dgm:cxn modelId="{8731D038-082F-47DF-AD48-D51460FFC7EE}" type="presParOf" srcId="{4F3CCF93-B0A3-40C0-B9F3-B41B6BB29BD8}" destId="{F90B152F-4F01-4D3F-BAF7-65734CF063E7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92791BA-0030-4179-BB6A-031972B13AFE}">
      <dsp:nvSpPr>
        <dsp:cNvPr id="0" name=""/>
        <dsp:cNvSpPr/>
      </dsp:nvSpPr>
      <dsp:spPr>
        <a:xfrm>
          <a:off x="0" y="2597919"/>
          <a:ext cx="7408862" cy="852695"/>
        </a:xfrm>
        <a:prstGeom prst="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>
              <a:solidFill>
                <a:schemeClr val="tx1"/>
              </a:solidFill>
            </a:rPr>
            <a:t>6)Юридические аспекты открытия туристической компании</a:t>
          </a:r>
          <a:endParaRPr lang="ru-RU" sz="1800" kern="1200" dirty="0">
            <a:solidFill>
              <a:schemeClr val="tx1"/>
            </a:solidFill>
          </a:endParaRPr>
        </a:p>
      </dsp:txBody>
      <dsp:txXfrm>
        <a:off x="0" y="2597919"/>
        <a:ext cx="7408862" cy="460455"/>
      </dsp:txXfrm>
    </dsp:sp>
    <dsp:sp modelId="{43F428F3-ABCC-40CE-846F-C5B6FD5BE873}">
      <dsp:nvSpPr>
        <dsp:cNvPr id="0" name=""/>
        <dsp:cNvSpPr/>
      </dsp:nvSpPr>
      <dsp:spPr>
        <a:xfrm>
          <a:off x="0" y="3041321"/>
          <a:ext cx="3704431" cy="392239"/>
        </a:xfrm>
        <a:prstGeom prst="rect">
          <a:avLst/>
        </a:prstGeom>
        <a:solidFill>
          <a:schemeClr val="accent5">
            <a:tint val="40000"/>
            <a:alpha val="90000"/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3792" tIns="20320" rIns="113792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7)Финансовый план</a:t>
          </a:r>
          <a:endParaRPr lang="ru-RU" sz="1600" kern="1200" dirty="0"/>
        </a:p>
      </dsp:txBody>
      <dsp:txXfrm>
        <a:off x="0" y="3041321"/>
        <a:ext cx="3704431" cy="392239"/>
      </dsp:txXfrm>
    </dsp:sp>
    <dsp:sp modelId="{0FB8EB16-6A2E-4F50-8331-637665919A88}">
      <dsp:nvSpPr>
        <dsp:cNvPr id="0" name=""/>
        <dsp:cNvSpPr/>
      </dsp:nvSpPr>
      <dsp:spPr>
        <a:xfrm>
          <a:off x="3700467" y="3058317"/>
          <a:ext cx="3704431" cy="392239"/>
        </a:xfrm>
        <a:prstGeom prst="rect">
          <a:avLst/>
        </a:prstGeom>
        <a:solidFill>
          <a:schemeClr val="accent5">
            <a:tint val="40000"/>
            <a:alpha val="90000"/>
            <a:hueOff val="2134680"/>
            <a:satOff val="-5553"/>
            <a:lumOff val="-53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8016" tIns="22860" rIns="128016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/>
            <a:t>8)Заключение</a:t>
          </a:r>
          <a:endParaRPr lang="ru-RU" sz="1800" kern="1200" dirty="0"/>
        </a:p>
      </dsp:txBody>
      <dsp:txXfrm>
        <a:off x="3700467" y="3058317"/>
        <a:ext cx="3704431" cy="392239"/>
      </dsp:txXfrm>
    </dsp:sp>
    <dsp:sp modelId="{0C375ED4-4FF6-4EE8-97D2-2BD7A5068C33}">
      <dsp:nvSpPr>
        <dsp:cNvPr id="0" name=""/>
        <dsp:cNvSpPr/>
      </dsp:nvSpPr>
      <dsp:spPr>
        <a:xfrm rot="10800000">
          <a:off x="0" y="1299264"/>
          <a:ext cx="7408862" cy="1311445"/>
        </a:xfrm>
        <a:prstGeom prst="upArrowCallout">
          <a:avLst/>
        </a:prstGeom>
        <a:solidFill>
          <a:schemeClr val="accent5">
            <a:hueOff val="4085978"/>
            <a:satOff val="2788"/>
            <a:lumOff val="-7843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3792" tIns="113792" rIns="113792" bIns="113792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>
              <a:solidFill>
                <a:schemeClr val="tx1"/>
              </a:solidFill>
            </a:rPr>
            <a:t>3)Конкурентная среда</a:t>
          </a:r>
          <a:endParaRPr lang="ru-RU" sz="1600" kern="1200" dirty="0">
            <a:solidFill>
              <a:schemeClr val="tx1"/>
            </a:solidFill>
          </a:endParaRPr>
        </a:p>
      </dsp:txBody>
      <dsp:txXfrm rot="-10800000">
        <a:off x="0" y="1299264"/>
        <a:ext cx="7408862" cy="460317"/>
      </dsp:txXfrm>
    </dsp:sp>
    <dsp:sp modelId="{F36F89F4-55AA-404A-BDEC-29461D38363D}">
      <dsp:nvSpPr>
        <dsp:cNvPr id="0" name=""/>
        <dsp:cNvSpPr/>
      </dsp:nvSpPr>
      <dsp:spPr>
        <a:xfrm>
          <a:off x="0" y="1759582"/>
          <a:ext cx="3704431" cy="392122"/>
        </a:xfrm>
        <a:prstGeom prst="rect">
          <a:avLst/>
        </a:prstGeom>
        <a:solidFill>
          <a:schemeClr val="accent5">
            <a:tint val="40000"/>
            <a:alpha val="90000"/>
            <a:hueOff val="4269361"/>
            <a:satOff val="-11107"/>
            <a:lumOff val="-106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8016" tIns="22860" rIns="128016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/>
            <a:t>4)Производственный план</a:t>
          </a:r>
          <a:endParaRPr lang="ru-RU" sz="1800" kern="1200" dirty="0"/>
        </a:p>
      </dsp:txBody>
      <dsp:txXfrm>
        <a:off x="0" y="1759582"/>
        <a:ext cx="3704431" cy="392122"/>
      </dsp:txXfrm>
    </dsp:sp>
    <dsp:sp modelId="{08B7DD15-AB75-4979-80DE-0B1CDD9D543F}">
      <dsp:nvSpPr>
        <dsp:cNvPr id="0" name=""/>
        <dsp:cNvSpPr/>
      </dsp:nvSpPr>
      <dsp:spPr>
        <a:xfrm>
          <a:off x="3704431" y="1759582"/>
          <a:ext cx="3704431" cy="392122"/>
        </a:xfrm>
        <a:prstGeom prst="rect">
          <a:avLst/>
        </a:prstGeom>
        <a:solidFill>
          <a:schemeClr val="accent5">
            <a:tint val="40000"/>
            <a:alpha val="90000"/>
            <a:hueOff val="6404041"/>
            <a:satOff val="-16660"/>
            <a:lumOff val="-159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8016" tIns="22860" rIns="128016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/>
            <a:t>5) План маркетинга и рекламы</a:t>
          </a:r>
        </a:p>
      </dsp:txBody>
      <dsp:txXfrm>
        <a:off x="3704431" y="1759582"/>
        <a:ext cx="3704431" cy="392122"/>
      </dsp:txXfrm>
    </dsp:sp>
    <dsp:sp modelId="{CA5E2E9C-B7D6-480C-B5D2-8AC25F3F6BD0}">
      <dsp:nvSpPr>
        <dsp:cNvPr id="0" name=""/>
        <dsp:cNvSpPr/>
      </dsp:nvSpPr>
      <dsp:spPr>
        <a:xfrm rot="10800000">
          <a:off x="0" y="0"/>
          <a:ext cx="7408862" cy="1311445"/>
        </a:xfrm>
        <a:prstGeom prst="upArrowCallout">
          <a:avLst/>
        </a:prstGeom>
        <a:solidFill>
          <a:schemeClr val="accent5">
            <a:hueOff val="8171956"/>
            <a:satOff val="5577"/>
            <a:lumOff val="-15685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tx1"/>
              </a:solidFill>
            </a:rPr>
            <a:t>1)Концепция туристического агентства</a:t>
          </a:r>
          <a:endParaRPr lang="ru-RU" sz="2400" kern="1200" dirty="0">
            <a:solidFill>
              <a:schemeClr val="tx1"/>
            </a:solidFill>
          </a:endParaRPr>
        </a:p>
      </dsp:txBody>
      <dsp:txXfrm rot="-10800000">
        <a:off x="0" y="0"/>
        <a:ext cx="7408862" cy="460317"/>
      </dsp:txXfrm>
    </dsp:sp>
    <dsp:sp modelId="{F90B152F-4F01-4D3F-BAF7-65734CF063E7}">
      <dsp:nvSpPr>
        <dsp:cNvPr id="0" name=""/>
        <dsp:cNvSpPr/>
      </dsp:nvSpPr>
      <dsp:spPr>
        <a:xfrm>
          <a:off x="0" y="504056"/>
          <a:ext cx="7408862" cy="392122"/>
        </a:xfrm>
        <a:prstGeom prst="rect">
          <a:avLst/>
        </a:prstGeom>
        <a:solidFill>
          <a:schemeClr val="accent5">
            <a:tint val="40000"/>
            <a:alpha val="90000"/>
            <a:hueOff val="8538722"/>
            <a:satOff val="-22214"/>
            <a:lumOff val="-212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3576" tIns="29210" rIns="163576" bIns="29210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300" kern="1200" dirty="0" smtClean="0"/>
            <a:t>2) Организационный план</a:t>
          </a:r>
          <a:endParaRPr lang="ru-RU" sz="2300" kern="1200" dirty="0"/>
        </a:p>
      </dsp:txBody>
      <dsp:txXfrm>
        <a:off x="0" y="504056"/>
        <a:ext cx="7408862" cy="392122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6C1C7D-8CB8-4011-94D0-65C5CCF60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13E78E-1F83-468A-8B75-F4B7E069AC9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3CA-23FE-4F50-BE63-48F3D7D5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288-C8FF-4675-9A52-0828AB04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67C-1D85-4B65-9B9F-2EB1BB26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0C6-9C8C-4FFF-86EA-F2701AE3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D43-1C39-40CA-8B6F-8DA46837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75E-B7E0-4FA8-8BAB-B2B7E9D9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C16-15A9-4DCE-A22F-8CEEB9B8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CA2-494D-42E8-B55F-57195C7C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158-D9EC-4A95-B511-A482E9FD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55A-8871-4A59-9E8E-89D5D690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92E-5A95-49BB-B934-AA536185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B31-ADDF-4AF7-906F-ECD4EDBC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FF73205-5D17-47F6-8F61-597D7B96323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бъект 5"/>
          <p:cNvSpPr/>
          <p:nvPr/>
        </p:nvSpPr>
        <p:spPr>
          <a:xfrm>
            <a:off x="0" y="79920"/>
            <a:ext cx="9143640" cy="6517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64004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laisir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»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-700560" y="980640"/>
            <a:ext cx="988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Турагентство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                        </a:t>
            </a: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«</a:t>
            </a:r>
            <a:r>
              <a:rPr b="1" i="1" lang="en-US" sz="7200" spc="-1" strike="noStrike">
                <a:solidFill>
                  <a:srgbClr val="000000"/>
                </a:solidFill>
                <a:latin typeface="Candara"/>
              </a:rPr>
              <a:t>Plaisir</a:t>
            </a: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»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-73080" y="-315360"/>
            <a:ext cx="9253080" cy="7173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71920" y="1268640"/>
            <a:ext cx="740808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 Конкуренты на выбранных туристических направлениях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)Конкуренты в радиусе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здания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район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город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траны (если необходимо)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 Преимущественные конкурентные качества будущей турфирмы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49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3)Конкурентная среда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-36360" y="0"/>
            <a:ext cx="9216720" cy="6957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71920" y="1124640"/>
            <a:ext cx="740808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Персонал: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штатное расписани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литика формирования заработной платы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обучение персонал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)Технология продаж туров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иск и бронирование туров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хема взаимодействия с партнерам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оформление оплаты туров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окументооборо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оставка и выдача документ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3) Ассортимент услуг туристического агентств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сезонам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направлениям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странам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цен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целевой аудитори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4) Производный план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-36360" y="0"/>
            <a:ext cx="928872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71920" y="692640"/>
            <a:ext cx="7408080" cy="61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) Ценовая политика турагентств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2) Название турфирмы, рекламная история создания (легенда)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3) Особенности продаваемых тур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4)Разработка фирменного стиля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дрядчик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еречень необходимых позиций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тоимость и сроки выполнения работ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5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оздание интернет-сайт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концепция и функции сайт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дрядчик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тоимость и сроки выполнения работ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6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Оформление офиса для продаж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7) Наружная реклам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ывеск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штендер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указател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табличка с режимом работы и реквизитами компани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8)Полиграфическая продукция (описание, тираж, подрядчик, сроки изготовления, стоимость)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букле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изитные карточк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фирменные бланк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9)Презентация при открыти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10) Рекламный план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размер бюджета на 3 мес., 6 мес., 12 мес.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рекламные средств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1) Структура и правила ведения клиентской базы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11640" y="11664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5)План маркетинга и рекламы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-78840" y="-99360"/>
            <a:ext cx="9288720" cy="6957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31960" y="1340640"/>
            <a:ext cx="7408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)Правовая форма юридического лиц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) Система налогообложения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3) Оформление договора аренды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4) Необходимые разрешительные документы в зависимости от вида туристической деятельност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5)Регистрация товарного знак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6) Покупка и оформление контрольно-кассовой техники (при необходимости)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7) Заказ бланков строгой отчетности «Туристская путевка»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8) Ведение бухгалтерского учета (самостоятельно, с привлечением бухгалтера, консалтинговая компания)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9) Юридическое сопровождение деятельност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6)Юридические  аспекты компании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6" descr=""/>
          <p:cNvPicPr/>
          <p:nvPr/>
        </p:nvPicPr>
        <p:blipFill>
          <a:blip r:embed="rId1"/>
          <a:stretch/>
        </p:blipFill>
        <p:spPr>
          <a:xfrm>
            <a:off x="-98280" y="-43200"/>
            <a:ext cx="9252000" cy="6972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7. Финансовый план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 Источники средст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2)Размер и срок капиталовложений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3) План первоначальных расход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4) План постоянных расход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5) План доход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6) План окупаемост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7)Финансовый план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16640"/>
            <a:ext cx="828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имерные расходы на создание туристического агентства в г. Москве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9563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1.  Регистрация юридического лица и оформление необходимых разрешительных документов для тур агентской деятельности: 20 000–25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2.Мебель и подготовка офиса к продажам: 50 000–10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3.Оргтехника и средства связи 100 000–15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4.Разработка фирменного стиля 15 000–25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5.Разработка и регистрация сайта 20 000–45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6.Регистрация товарного знака 30 000–5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7.Обучение сотрудников 5000–3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8.Дополнительные возможные расходы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9.Покупка готового туристического бизнеса, оплата юридических услуг по сопровождению сделки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по подбору помещения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по подбору персонала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по подключению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Интернета и дополнительных телефонных линий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консалтинговой компании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10 Стоимость туров даже в одной категории отелей разная, и выбор туристов не всегда падает на 3* уровень размещения. Поэтому, чтобы сделать план доходов, необходимо проанализировать цены сезона на выбранные направления с данными 3*, 4*, 5* отелей и сопоставить с ожидаемой суммой доходов 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7640" y="908640"/>
            <a:ext cx="8856720" cy="59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.Примерный план ежемесячных расходов туристической компании в г. Москве (руб.)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2.Офис и инфраструктура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3.Аренда помещения 25 м2 - 50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4.Услуги связи 3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5.Интернет 5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6.Вода (кулер) 5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7.Канцелярские товары 25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8.Прочие административные расходы 6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9.Заработная плата персонала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Директор 35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Менеджер 19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Менеджер 16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Секретарь-менеджер 12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Курьер 16 000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Бухгалтер (аутсорсинг) 10 000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Уборщица 3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0.Рекламный бюджет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1.Полиграфия 5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2.Реклама в Интернете 15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3Реклама в прессе 15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4.Другие СМИ 10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5.Плановые ежеквартальные расходы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6.Юридическое абонентское обслуживание 7000 руб. мес.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Оплата системы онлайн-бронирования и поиска туров 1200 руб./мес.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Заправка картриджей 400 руб./мес.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7.Непредвиденные расходы 10 000 руб.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8.Итого 241 500 руб. + процент к з/п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67640" y="0"/>
            <a:ext cx="82292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Примерный план ежемесячных расходов туристической компании в г. Москве (руб.)</a:t>
            </a:r>
            <a:br>
              <a:rPr sz="4400"/>
            </a:b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92872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1. После отмены лицензирования туроператорской и турагентской деятельности в 2007 г. обязательный государственный порядок установлен только для туроператорской деятельности. Турагентской деятельностью может заниматься любое юридическое лицо или индивидуальный предприниматель. Единственное, что определяет статус тур-агента на сегодняшний день, — это наличие договора с туроператором, согласно которому тур-агент по поручению и за счет туроператора реализует турпродукт, сформированный туроператором. При этом тур-агент обязан соблюдать целый ряд требований, установленных законом, о которых мы расскажем ниже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Но в первую очередь необходимо выяснить, почему так важно понимать отличие турагентской деятельности от тур операторской и вовремя совершать необходимые юридические действия. Дело в том, что закон устанавливает обязательное требование — все туроператоры, зарегистрированные на территории Российской Федерации, обязаны иметь финансовое обеспечение. Финансовое обеспечение — это гарантия туроператора на случай неисполнения или ненадлежащего исполнения договора о реализации тур продукта, страхование его гражданской ответственности перед потребителями туристами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2.Из средств финансового обеспечения пострадавшим туристам возмещается реальный ущерб, который они по несли, например стоимость тура, если он не состоялся, или разница в стоимости, если сократилось время отдыха. Финансовое обеспечение предоставляет страховая компания или банк-гарант. Закон устанавливает минимальную сумму, на которую должен быть заключен договор страхования или договор банковской гарантии; на сегодняшний день это 10 000 000 руб. для международного туризма (въезда  выезд) и 500 000 руб. для внутреннего туризма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3.Затраты на обслуживание финансового обеспечения в среднем составляют 1–1,5% в год от размера обеспечения. </a:t>
            </a:r>
            <a:br>
              <a:rPr sz="1400"/>
            </a:b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4.Например, от минимального размера финансового обеспечения для международного туризма в 10 000 000 руб. стоимость страхового вознаграждения составит 100 000–150 000 руб. Именно эту сумму необходимо будет ежегодно платить страховой компании за договор страхования гражданской ответственности туроператора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5.Договорная схема работы тур-агента при реализации туров выглядит примерно следующим образом: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ndara"/>
              </a:rPr>
              <a:t>; </a:t>
            </a:r>
            <a:br>
              <a:rPr sz="1400"/>
            </a:br>
            <a:br>
              <a:rPr sz="700"/>
            </a:b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640" y="692640"/>
            <a:ext cx="822924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ffffff"/>
                </a:solidFill>
                <a:latin typeface="Candara"/>
              </a:rPr>
              <a:t>Выбор статуса тур-компании. Туроператор или турагентства 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-13320" y="-172440"/>
            <a:ext cx="9143640" cy="7029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7640" y="0"/>
            <a:ext cx="7408080" cy="695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25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6.¦ туроператор заключает с тур-агентом агентский (комиссионный) договор, согласно которому агенту поручается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реализовывать (продавать) туры, сформированные туроператором, за вознаграждение; 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7. тур-агент привлекает клиента (туриста) и заключает с ним договор о реализации туристского продукта, полу# 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чает документы, необходимые для оформления тура; 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8.тур-агент направляет туроператору заявку на бронирование конкретных тур-услуг для клиента (туриста), —  даты, количество и данные туристов, отель, уровень перевозки, экскурсии и прочие составляющие тура; </a:t>
            </a:r>
            <a:br>
              <a:rPr sz="32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9. туроператор подтверждает заявку тур-агента и выставляет счет на оплату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0.Тур-агент передает туроператору документы (или сведения), необходимые для оформления тура (например,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на визу)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1. тур-агент принимает окончательную оплату от туриста (при наличном расчете выдает кассовый чек или бланк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строгой отчетности); </a:t>
            </a:r>
            <a:br>
              <a:rPr sz="2500"/>
            </a:br>
            <a:endParaRPr b="0" lang="ru-RU" sz="2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2. тур-агент производит оплату туроператору за вычетом причитающегося ему вознаграждения (безналичным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банковским переводом или наличными в кассу туроператора)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3. туроператор выдает тур-агенту документы по туру, необходимые туристу для совершения путешествия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4.тур-агент выдает туристу документы по туру и всю необходимую информацию туристу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5. тур-агент отчитывается перед туроператором — направляет отчет агента (акт) с указанием суммы продажи тура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и суммы вознаграждения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6. туроператор подписывает отчет агента и выписывает счет-фактуру на услуги, оказанные по агентскому договору.</a:t>
            </a:r>
            <a:endParaRPr b="0" lang="ru-RU" sz="2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703520"/>
            <a:ext cx="7408080" cy="467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Оптимальный штат небольшой туристической компании выглядит примерно так: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руководитель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менеджер1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менеджер2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секретарь с расширенным кругом обязанностей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курьер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бухгалтеркассир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уборщица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Штат туристической компании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7560" y="-756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142280" y="0"/>
            <a:ext cx="698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Candara"/>
              </a:rPr>
              <a:t>Наш девиз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7640" y="908640"/>
            <a:ext cx="8856720" cy="59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Тур считается проданным при 100%ной его оплате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1.Беспроцентная система: оклад 22 000–30 000 руб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marL="219240" indent="-219240">
              <a:lnSpc>
                <a:spcPct val="100000"/>
              </a:lnSpc>
              <a:spcBef>
                <a:spcPts val="112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2. Оклад + проценты: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0 000–15 000 руб. + 10% от проданных менеджером туров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5 000 + 10% после реализации туров более чем на 150 000 руб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5 000 + 10% от выручки с проданных туров, разделенных между всеми менеджерами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8 000–20 000 руб. + 5% от проданных менеджером туров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8 000–20 000 руб. + 10% от всех проданных туров, разделенных между всеми менеджерами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3. Плановая система: фиксированная заработная плата выплачивается при выполнении плана; например, от 50 000 руб. (имеется в виду доход компании, а не общая стоимостьтуров). При перевыполнении плана свыше 50 000 руб. + 10%, более 100 000 руб. + 15%, более 250 000 + 20%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4.В период низкого сезона (январь, февраль, май, июнь) план составляет 50%. При этом выплачивается прежняя фиксированная заработная плата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5.При невыполнении плана, за исключением низкого сезона, работает система штрафов: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6. первый месяц — без штрафов, требуется анализ причин, связанных с уменьшением объема продаж;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7.второй месяц и далее: 40 000–49 000 руб. – 10% удерживается от фиксированной оплаты (30 000–39 000 руб. – 20%; 20000–29 000 руб. – 30%)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8.Первые месяцы после открытия офиса туристического агентства плановая система расчета заработной платы, как правило, не применяется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rgbClr val="ffff00"/>
                </a:solidFill>
                <a:latin typeface="Candara"/>
              </a:rPr>
              <a:t>Варианты расчета заработной платы курьера туристической компании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1. Оклад 12 000–15 000 руб., оплата проездного билета, мобильного телефона, режим работы: понедельник—пятница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2.Оклад 15 000–20 000 руб., оплата проездного билета, мобильного телефона, режим работы: понедельник— суббота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Во время высокого сезона и увеличения объема продаж курьерам принято давать премию 20–30% от оклада. Курьер — важный сотрудник туристического агентства, поэтому лучше вовремя доплатить, выписать премиальные и работать спокойно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На рынке можно встретить предложения от курьерских компаний, которые доставляют документы в любую точку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города, они заключают официальный договор, несут полную финансовую ответственность за денежные средства и документы в </a:t>
            </a: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посылке.</a:t>
            </a:r>
            <a:endParaRPr b="0" lang="ru-RU" sz="3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Варианты расчета заработной платы менеджера по туризму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71920" y="1484640"/>
            <a:ext cx="7408080" cy="46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ffff00"/>
                </a:solidFill>
                <a:latin typeface="Candara"/>
              </a:rPr>
              <a:t>Варианты расчета заработной платы директора туристической компани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1. Оклад 20 000–40 000 руб.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2. Оклад 18 000–20 000 руб. + 1–5% от месячного дохода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агентства после вычета расходов.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3. 12 000–15 000 руб. + 5–10% от месячного дохода после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вычета расход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ffffff"/>
                </a:solidFill>
                <a:latin typeface="Candara"/>
              </a:rPr>
              <a:t>Варианты расчета заработной платы директора туристической компании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17" name="Объект 5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0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19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13" descr=""/>
          <p:cNvPicPr/>
          <p:nvPr/>
        </p:nvPicPr>
        <p:blipFill>
          <a:blip r:embed="rId1"/>
          <a:stretch/>
        </p:blipFill>
        <p:spPr>
          <a:xfrm>
            <a:off x="9360" y="-338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640" y="349920"/>
            <a:ext cx="64004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ы  предлагаем незабываемый отдых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8892360" y="692640"/>
            <a:ext cx="251280" cy="12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-138600" y="1556640"/>
            <a:ext cx="94395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В странах Европы(Франция , Греция,Италия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Азии(Китай, Япония,Турция…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       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Америки(Мексика,Бразилия,Канада…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         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Африки(Египет,ЮАР,Нигерия 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9360" y="-518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591200"/>
            <a:ext cx="3826440" cy="147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-218880" y="404640"/>
            <a:ext cx="6841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00"/>
                </a:solidFill>
                <a:latin typeface="Candara"/>
              </a:rPr>
              <a:t>Вы получите море удоволь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00"/>
                </a:solidFill>
                <a:latin typeface="Candara"/>
              </a:rPr>
              <a:t>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Candara"/>
              </a:rPr>
              <a:t>и восхищ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6" descr=""/>
          <p:cNvPicPr/>
          <p:nvPr/>
        </p:nvPicPr>
        <p:blipFill>
          <a:blip r:embed="rId2"/>
          <a:stretch/>
        </p:blipFill>
        <p:spPr>
          <a:xfrm>
            <a:off x="611640" y="1154160"/>
            <a:ext cx="2232000" cy="21427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68" name="TextBox 7"/>
          <p:cNvSpPr/>
          <p:nvPr/>
        </p:nvSpPr>
        <p:spPr>
          <a:xfrm>
            <a:off x="256680" y="3195720"/>
            <a:ext cx="6854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Ваш отдых будет незабывае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"/>
          <p:cNvPicPr/>
          <p:nvPr/>
        </p:nvPicPr>
        <p:blipFill>
          <a:blip r:embed="rId3"/>
          <a:stretch/>
        </p:blipFill>
        <p:spPr>
          <a:xfrm>
            <a:off x="4932000" y="3780360"/>
            <a:ext cx="3528000" cy="26726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827640" y="1989000"/>
            <a:ext cx="7200360" cy="4464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о как воплотить это в жизнь?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23053499"/>
              </p:ext>
            </p:extLst>
          </p:nvPr>
        </p:nvGraphicFramePr>
        <p:xfrm>
          <a:off x="899640" y="2637000"/>
          <a:ext cx="7408440" cy="3450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ля этого нужен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Бизнес план»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49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1)Концепция туристического агентства: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Объект 5"/>
          <p:cNvSpPr/>
          <p:nvPr/>
        </p:nvSpPr>
        <p:spPr>
          <a:xfrm>
            <a:off x="1800" y="0"/>
            <a:ext cx="9143640" cy="7245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49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1)Концепция туристического агентства: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1"/>
          <a:stretch/>
        </p:blipFill>
        <p:spPr>
          <a:xfrm>
            <a:off x="-68400" y="-59400"/>
            <a:ext cx="9180000" cy="7029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1640" y="836640"/>
            <a:ext cx="889200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1. Концепция туристического агентства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Вид деятельности: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турагентство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 2) 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Дополнительные услуги: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дажа авиа и ж/д билет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услуги трансфера, заказ лимузин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оформление виз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страхование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дготовка документов для оформления загранпаспорт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услуги индивидуального гида, сопровождающего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услуги переводчика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дажа путеводителей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дажа сопутствующих товаров для путешествий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реализация подарочных сертификат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бронирование и заказ столиков в ресторанах, билетов на мероприятия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кат туристического оборудования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аренда автомобилей.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3) 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Приоритетные туристические направления: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типу туристического направления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стоимости тур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странам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виду туризма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-108360" y="-42840"/>
            <a:ext cx="9288720" cy="6900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07640" y="836640"/>
            <a:ext cx="8856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Местоположение офиса турфирмы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центр; 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татус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аренд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обственное помещени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Тип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итринный офис на первой лини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 бизнес-центр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 административном офисном здани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 торговом центр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3)Размер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ва рабочих места, три пять рабочих мес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однокомнатный, двухкомнатный, трехкомнатный, более трех комна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вободной планировки (количество метров)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) 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Мебель для офис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(калькуляция стоимости): столы с приемными местами, кресла для сотрудников, стулья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посетителей, тумбочки с ключами, стеллаж для каталогов, шкаф для одежды, вешалки, вешалка -стойка,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оска для информации и специальных предложений, диван для посетителей, журнальный столик, сейф, жалюзи, зеркало, посуда (для сотрудников, для приема посетителей), рамки для фотографий и разрешительных документов, растения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) 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Оборудование для офис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(калькуляция стоимости): компьютеры, телефоны, факс, принтеры (2 шт. минимум), сканер, ксерокс, телевизор, CD и DVD -плеер для демонстрации фильмов о странах и курортах, кондиционер, кулер с водой, аптечка, часы, канцелярские принадлежности, настенная карта мира или глобус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 Дизай-нпроект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зонирование пространств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изайн помещения согласно концепции туристической компани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лан помещения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95640" y="188640"/>
            <a:ext cx="8229240" cy="6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2) Организационный план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1375</TotalTime>
  <Application>LibreOffice/7.4.7.2$Linux_X86_64 LibreOffice_project/40$Build-2</Application>
  <AppVersion>15.0000</AppVersion>
  <Words>567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16:05:59Z</dcterms:created>
  <dc:creator>ernest</dc:creator>
  <dc:description/>
  <dc:language>en-US</dc:language>
  <cp:lastModifiedBy>ernest</cp:lastModifiedBy>
  <dcterms:modified xsi:type="dcterms:W3CDTF">2015-12-15T20:56:26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