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6BFF945E-1127-451D-9F60-9DDA84283458}" type="doc">
      <dgm:prSet loTypeId="urn:microsoft.com/office/officeart/2005/8/layout/process4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0A0D0324-6460-41DA-9D73-7D3D98963B4B}">
      <dgm:prSet phldrT="[Текст]" custT="1"/>
      <dgm:spPr/>
      <dgm:t>
        <a:bodyPr/>
        <a:lstStyle/>
        <a:p>
          <a:r>
            <a:rPr lang="ru-RU" sz="2400" dirty="0" smtClean="0">
              <a:solidFill>
                <a:schemeClr val="tx1"/>
              </a:solidFill>
            </a:rPr>
            <a:t>1)Концепция туристического агентства</a:t>
          </a:r>
          <a:endParaRPr lang="ru-RU" sz="2400" dirty="0">
            <a:solidFill>
              <a:schemeClr val="tx1"/>
            </a:solidFill>
          </a:endParaRPr>
        </a:p>
      </dgm:t>
    </dgm:pt>
    <dgm:pt modelId="{0B492B4C-A6BA-44CC-A150-3F7618DFFE57}" type="parTrans" cxnId="{3B808733-CA64-4C18-B9F5-9B3458C839C3}">
      <dgm:prSet/>
      <dgm:spPr/>
      <dgm:t>
        <a:bodyPr/>
        <a:lstStyle/>
        <a:p>
          <a:endParaRPr lang="ru-RU"/>
        </a:p>
      </dgm:t>
    </dgm:pt>
    <dgm:pt modelId="{F9FFF500-1A50-41FC-A29F-872B4FCF89B3}" type="sibTrans" cxnId="{3B808733-CA64-4C18-B9F5-9B3458C839C3}">
      <dgm:prSet/>
      <dgm:spPr/>
      <dgm:t>
        <a:bodyPr/>
        <a:lstStyle/>
        <a:p>
          <a:endParaRPr lang="ru-RU"/>
        </a:p>
      </dgm:t>
    </dgm:pt>
    <dgm:pt modelId="{128EB1C8-DF83-4F45-B47E-10D924F627C5}">
      <dgm:prSet phldrT="[Текст]"/>
      <dgm:spPr/>
      <dgm:t>
        <a:bodyPr/>
        <a:lstStyle/>
        <a:p>
          <a:r>
            <a:rPr lang="ru-RU" dirty="0" smtClean="0"/>
            <a:t>2) Организационный план</a:t>
          </a:r>
          <a:endParaRPr lang="ru-RU" dirty="0"/>
        </a:p>
      </dgm:t>
    </dgm:pt>
    <dgm:pt modelId="{F0DF4B97-6DFD-4B71-9713-074E319BD829}" type="parTrans" cxnId="{64FBB725-C403-424A-920E-7A82407239AD}">
      <dgm:prSet/>
      <dgm:spPr/>
      <dgm:t>
        <a:bodyPr/>
        <a:lstStyle/>
        <a:p>
          <a:endParaRPr lang="ru-RU"/>
        </a:p>
      </dgm:t>
    </dgm:pt>
    <dgm:pt modelId="{71C361D9-C5BE-4A03-8B4F-9E13BED9A594}" type="sibTrans" cxnId="{64FBB725-C403-424A-920E-7A82407239AD}">
      <dgm:prSet/>
      <dgm:spPr/>
      <dgm:t>
        <a:bodyPr/>
        <a:lstStyle/>
        <a:p>
          <a:endParaRPr lang="ru-RU"/>
        </a:p>
      </dgm:t>
    </dgm:pt>
    <dgm:pt modelId="{C25638D2-7585-4909-A1A4-4429DF8BF266}">
      <dgm:prSet phldrT="[Текст]"/>
      <dgm:spPr/>
      <dgm:t>
        <a:bodyPr/>
        <a:lstStyle/>
        <a:p>
          <a:r>
            <a:rPr lang="ru-RU" dirty="0" smtClean="0">
              <a:solidFill>
                <a:schemeClr val="tx1"/>
              </a:solidFill>
            </a:rPr>
            <a:t>3)Конкурентная среда</a:t>
          </a:r>
          <a:endParaRPr lang="ru-RU" dirty="0">
            <a:solidFill>
              <a:schemeClr val="tx1"/>
            </a:solidFill>
          </a:endParaRPr>
        </a:p>
      </dgm:t>
    </dgm:pt>
    <dgm:pt modelId="{44E7BC50-AB9F-4DBA-8055-FA772641F554}" type="parTrans" cxnId="{84FD910C-C68F-46A9-8E00-CBB4F608DAD0}">
      <dgm:prSet/>
      <dgm:spPr/>
      <dgm:t>
        <a:bodyPr/>
        <a:lstStyle/>
        <a:p>
          <a:endParaRPr lang="ru-RU"/>
        </a:p>
      </dgm:t>
    </dgm:pt>
    <dgm:pt modelId="{F2ED4805-E9ED-44C9-B6D1-6D1691709435}" type="sibTrans" cxnId="{84FD910C-C68F-46A9-8E00-CBB4F608DAD0}">
      <dgm:prSet/>
      <dgm:spPr/>
      <dgm:t>
        <a:bodyPr/>
        <a:lstStyle/>
        <a:p>
          <a:endParaRPr lang="ru-RU"/>
        </a:p>
      </dgm:t>
    </dgm:pt>
    <dgm:pt modelId="{087B2013-3E43-419C-A90F-BF4793EF7790}">
      <dgm:prSet phldrT="[Текст]" custT="1"/>
      <dgm:spPr/>
      <dgm:t>
        <a:bodyPr/>
        <a:lstStyle/>
        <a:p>
          <a:r>
            <a:rPr lang="ru-RU" sz="1800" dirty="0" smtClean="0"/>
            <a:t>4)Производственный план</a:t>
          </a:r>
          <a:endParaRPr lang="ru-RU" sz="1800" dirty="0"/>
        </a:p>
      </dgm:t>
    </dgm:pt>
    <dgm:pt modelId="{C1A93CF0-0FB4-4713-993E-10EAE98F34C7}" type="parTrans" cxnId="{B8A9FB23-F02D-42BE-ACA1-B8683242BD97}">
      <dgm:prSet/>
      <dgm:spPr/>
      <dgm:t>
        <a:bodyPr/>
        <a:lstStyle/>
        <a:p>
          <a:endParaRPr lang="ru-RU"/>
        </a:p>
      </dgm:t>
    </dgm:pt>
    <dgm:pt modelId="{28715856-860F-4038-8ADE-5E115BB8A544}" type="sibTrans" cxnId="{B8A9FB23-F02D-42BE-ACA1-B8683242BD97}">
      <dgm:prSet/>
      <dgm:spPr/>
      <dgm:t>
        <a:bodyPr/>
        <a:lstStyle/>
        <a:p>
          <a:endParaRPr lang="ru-RU"/>
        </a:p>
      </dgm:t>
    </dgm:pt>
    <dgm:pt modelId="{2F39BF4A-9F6F-4C88-9782-B88DFB3BC71D}">
      <dgm:prSet phldrT="[Текст]" custT="1"/>
      <dgm:spPr/>
      <dgm:t>
        <a:bodyPr/>
        <a:lstStyle/>
        <a:p>
          <a:r>
            <a:rPr lang="ru-RU" sz="1800" dirty="0" smtClean="0"/>
            <a:t>5) План маркетинга и рекламы</a:t>
          </a:r>
        </a:p>
      </dgm:t>
    </dgm:pt>
    <dgm:pt modelId="{F715C51B-7D71-40AB-A01A-EA5DC8950630}" type="parTrans" cxnId="{2118D7DC-3FCE-44B2-92B8-64ACC955348C}">
      <dgm:prSet/>
      <dgm:spPr/>
      <dgm:t>
        <a:bodyPr/>
        <a:lstStyle/>
        <a:p>
          <a:endParaRPr lang="ru-RU"/>
        </a:p>
      </dgm:t>
    </dgm:pt>
    <dgm:pt modelId="{986AD6D8-AD0A-4336-8A07-BB209F82D8B8}" type="sibTrans" cxnId="{2118D7DC-3FCE-44B2-92B8-64ACC955348C}">
      <dgm:prSet/>
      <dgm:spPr/>
      <dgm:t>
        <a:bodyPr/>
        <a:lstStyle/>
        <a:p>
          <a:endParaRPr lang="ru-RU"/>
        </a:p>
      </dgm:t>
    </dgm:pt>
    <dgm:pt modelId="{2491AE17-D77A-4840-943B-82728828ACD1}">
      <dgm:prSet phldrT="[Текст]" custT="1"/>
      <dgm:spPr/>
      <dgm:t>
        <a:bodyPr/>
        <a:lstStyle/>
        <a:p>
          <a:r>
            <a:rPr lang="ru-RU" sz="1800" dirty="0" smtClean="0">
              <a:solidFill>
                <a:schemeClr val="tx1"/>
              </a:solidFill>
            </a:rPr>
            <a:t>6)Юридические аспекты открытия туристической компании</a:t>
          </a:r>
          <a:endParaRPr lang="ru-RU" sz="1800" dirty="0">
            <a:solidFill>
              <a:schemeClr val="tx1"/>
            </a:solidFill>
          </a:endParaRPr>
        </a:p>
      </dgm:t>
    </dgm:pt>
    <dgm:pt modelId="{11F6487C-365F-4EBA-BEC7-F12919657432}" type="parTrans" cxnId="{9D195FE4-0CC1-4D83-A2F3-A6A89CCDCD30}">
      <dgm:prSet/>
      <dgm:spPr/>
      <dgm:t>
        <a:bodyPr/>
        <a:lstStyle/>
        <a:p>
          <a:endParaRPr lang="ru-RU"/>
        </a:p>
      </dgm:t>
    </dgm:pt>
    <dgm:pt modelId="{7512019E-9003-4EBA-9C34-2EAEC9FE3108}" type="sibTrans" cxnId="{9D195FE4-0CC1-4D83-A2F3-A6A89CCDCD30}">
      <dgm:prSet/>
      <dgm:spPr/>
      <dgm:t>
        <a:bodyPr/>
        <a:lstStyle/>
        <a:p>
          <a:endParaRPr lang="ru-RU"/>
        </a:p>
      </dgm:t>
    </dgm:pt>
    <dgm:pt modelId="{76F14562-39A3-4C7A-8964-27C6B3472C30}">
      <dgm:prSet phldrT="[Текст]" custT="1"/>
      <dgm:spPr/>
      <dgm:t>
        <a:bodyPr/>
        <a:lstStyle/>
        <a:p>
          <a:r>
            <a:rPr lang="ru-RU" sz="1600" dirty="0" smtClean="0"/>
            <a:t>7)Финансовый план</a:t>
          </a:r>
          <a:endParaRPr lang="ru-RU" sz="1600" dirty="0"/>
        </a:p>
      </dgm:t>
    </dgm:pt>
    <dgm:pt modelId="{B6FE6A32-1CF2-4A42-89F5-15E42A7246DC}" type="parTrans" cxnId="{44D994AC-AC51-4CEC-988B-F93ED0EF7614}">
      <dgm:prSet/>
      <dgm:spPr/>
      <dgm:t>
        <a:bodyPr/>
        <a:lstStyle/>
        <a:p>
          <a:endParaRPr lang="ru-RU"/>
        </a:p>
      </dgm:t>
    </dgm:pt>
    <dgm:pt modelId="{CFC538F8-821F-4F46-8D38-1693AE6EA49A}" type="sibTrans" cxnId="{44D994AC-AC51-4CEC-988B-F93ED0EF7614}">
      <dgm:prSet/>
      <dgm:spPr/>
      <dgm:t>
        <a:bodyPr/>
        <a:lstStyle/>
        <a:p>
          <a:endParaRPr lang="ru-RU"/>
        </a:p>
      </dgm:t>
    </dgm:pt>
    <dgm:pt modelId="{5860F9CD-CCBF-472D-9787-28274F374270}">
      <dgm:prSet phldrT="[Текст]" custT="1"/>
      <dgm:spPr/>
      <dgm:t>
        <a:bodyPr/>
        <a:lstStyle/>
        <a:p>
          <a:r>
            <a:rPr lang="ru-RU" sz="1800" dirty="0" smtClean="0"/>
            <a:t>8)Заключение</a:t>
          </a:r>
          <a:endParaRPr lang="ru-RU" sz="1800" dirty="0"/>
        </a:p>
      </dgm:t>
    </dgm:pt>
    <dgm:pt modelId="{8A747472-E8E6-4E93-ACDB-218CCD85A3A3}" type="parTrans" cxnId="{8784F505-8343-46C8-A0BB-4C18F0FF1A2A}">
      <dgm:prSet/>
      <dgm:spPr/>
      <dgm:t>
        <a:bodyPr/>
        <a:lstStyle/>
        <a:p>
          <a:endParaRPr lang="ru-RU"/>
        </a:p>
      </dgm:t>
    </dgm:pt>
    <dgm:pt modelId="{4AD0CAED-30EE-4296-AA39-78C3361D0D83}" type="sibTrans" cxnId="{8784F505-8343-46C8-A0BB-4C18F0FF1A2A}">
      <dgm:prSet/>
      <dgm:spPr/>
      <dgm:t>
        <a:bodyPr/>
        <a:lstStyle/>
        <a:p>
          <a:endParaRPr lang="ru-RU"/>
        </a:p>
      </dgm:t>
    </dgm:pt>
    <dgm:pt modelId="{49C70C56-8DC5-4CB1-B6F8-AA276EDAFF95}" type="pres">
      <dgm:prSet presAssocID="{6BFF945E-1127-451D-9F60-9DDA84283458}" presName="Name0" presStyleCnt="0">
        <dgm:presLayoutVars>
          <dgm:dir/>
          <dgm:animLvl val="lvl"/>
          <dgm:resizeHandles val="exact"/>
        </dgm:presLayoutVars>
      </dgm:prSet>
      <dgm:spPr/>
    </dgm:pt>
    <dgm:pt modelId="{7338126A-7B6B-4DBC-A1CF-A330BF109AFA}" type="pres">
      <dgm:prSet presAssocID="{2491AE17-D77A-4840-943B-82728828ACD1}" presName="boxAndChildren" presStyleCnt="0"/>
      <dgm:spPr/>
    </dgm:pt>
    <dgm:pt modelId="{9DD5B033-C434-46A8-AD95-EA337476678A}" type="pres">
      <dgm:prSet presAssocID="{2491AE17-D77A-4840-943B-82728828ACD1}" presName="parentTextBox" presStyleLbl="node1" presStyleIdx="0" presStyleCnt="3"/>
      <dgm:spPr/>
      <dgm:t>
        <a:bodyPr/>
        <a:lstStyle/>
        <a:p>
          <a:endParaRPr lang="ru-RU"/>
        </a:p>
      </dgm:t>
    </dgm:pt>
    <dgm:pt modelId="{A92791BA-0030-4179-BB6A-031972B13AFE}" type="pres">
      <dgm:prSet presAssocID="{2491AE17-D77A-4840-943B-82728828ACD1}" presName="entireBox" presStyleLbl="node1" presStyleIdx="0" presStyleCnt="3"/>
      <dgm:spPr/>
      <dgm:t>
        <a:bodyPr/>
        <a:lstStyle/>
        <a:p>
          <a:endParaRPr lang="ru-RU"/>
        </a:p>
      </dgm:t>
    </dgm:pt>
    <dgm:pt modelId="{4DF381DC-1902-4614-8B4F-7B9DDCA87ADA}" type="pres">
      <dgm:prSet presAssocID="{2491AE17-D77A-4840-943B-82728828ACD1}" presName="descendantBox" presStyleCnt="0"/>
      <dgm:spPr/>
    </dgm:pt>
    <dgm:pt modelId="{43F428F3-ABCC-40CE-846F-C5B6FD5BE873}" type="pres">
      <dgm:prSet presAssocID="{76F14562-39A3-4C7A-8964-27C6B3472C30}" presName="childTextBox" presStyleLbl="fgAccFollowNode1" presStyleIdx="0" presStyleCnt="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FB8EB16-6A2E-4F50-8331-637665919A88}" type="pres">
      <dgm:prSet presAssocID="{5860F9CD-CCBF-472D-9787-28274F374270}" presName="childTextBox" presStyleLbl="fgAccFollowNode1" presStyleIdx="1" presStyleCnt="5" custLinFactNeighborX="-107" custLinFactNeighborY="433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AD7E74EE-9E1B-4B96-8AC7-1E03124114A7}" type="pres">
      <dgm:prSet presAssocID="{F2ED4805-E9ED-44C9-B6D1-6D1691709435}" presName="sp" presStyleCnt="0"/>
      <dgm:spPr/>
    </dgm:pt>
    <dgm:pt modelId="{B0159BE4-353B-49D0-A3B3-0E7CA108E8F9}" type="pres">
      <dgm:prSet presAssocID="{C25638D2-7585-4909-A1A4-4429DF8BF266}" presName="arrowAndChildren" presStyleCnt="0"/>
      <dgm:spPr/>
    </dgm:pt>
    <dgm:pt modelId="{DE02B609-181A-4FC2-96BE-571A77E8421B}" type="pres">
      <dgm:prSet presAssocID="{C25638D2-7585-4909-A1A4-4429DF8BF266}" presName="parentTextArrow" presStyleLbl="node1" presStyleIdx="0" presStyleCnt="3"/>
      <dgm:spPr/>
      <dgm:t>
        <a:bodyPr/>
        <a:lstStyle/>
        <a:p>
          <a:endParaRPr lang="ru-RU"/>
        </a:p>
      </dgm:t>
    </dgm:pt>
    <dgm:pt modelId="{0C375ED4-4FF6-4EE8-97D2-2BD7A5068C33}" type="pres">
      <dgm:prSet presAssocID="{C25638D2-7585-4909-A1A4-4429DF8BF266}" presName="arrow" presStyleLbl="node1" presStyleIdx="1" presStyleCnt="3"/>
      <dgm:spPr/>
      <dgm:t>
        <a:bodyPr/>
        <a:lstStyle/>
        <a:p>
          <a:endParaRPr lang="ru-RU"/>
        </a:p>
      </dgm:t>
    </dgm:pt>
    <dgm:pt modelId="{7A0AB6FF-4420-479F-B557-1545144F5D1A}" type="pres">
      <dgm:prSet presAssocID="{C25638D2-7585-4909-A1A4-4429DF8BF266}" presName="descendantArrow" presStyleCnt="0"/>
      <dgm:spPr/>
    </dgm:pt>
    <dgm:pt modelId="{F36F89F4-55AA-404A-BDEC-29461D38363D}" type="pres">
      <dgm:prSet presAssocID="{087B2013-3E43-419C-A90F-BF4793EF7790}" presName="childTextArrow" presStyleLbl="fgAccFollowNode1" presStyleIdx="2" presStyleCnt="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8B7DD15-AB75-4979-80DE-0B1CDD9D543F}" type="pres">
      <dgm:prSet presAssocID="{2F39BF4A-9F6F-4C88-9782-B88DFB3BC71D}" presName="childTextArrow" presStyleLbl="fgAccFollowNode1" presStyleIdx="3" presStyleCnt="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050F27B-F459-4ED7-A30A-E1843F184888}" type="pres">
      <dgm:prSet presAssocID="{F9FFF500-1A50-41FC-A29F-872B4FCF89B3}" presName="sp" presStyleCnt="0"/>
      <dgm:spPr/>
    </dgm:pt>
    <dgm:pt modelId="{15E786AB-643A-47B2-B1D5-2E510EE20B70}" type="pres">
      <dgm:prSet presAssocID="{0A0D0324-6460-41DA-9D73-7D3D98963B4B}" presName="arrowAndChildren" presStyleCnt="0"/>
      <dgm:spPr/>
    </dgm:pt>
    <dgm:pt modelId="{524B4425-8206-4171-8EAC-760AFCD1618E}" type="pres">
      <dgm:prSet presAssocID="{0A0D0324-6460-41DA-9D73-7D3D98963B4B}" presName="parentTextArrow" presStyleLbl="node1" presStyleIdx="1" presStyleCnt="3"/>
      <dgm:spPr/>
      <dgm:t>
        <a:bodyPr/>
        <a:lstStyle/>
        <a:p>
          <a:endParaRPr lang="ru-RU"/>
        </a:p>
      </dgm:t>
    </dgm:pt>
    <dgm:pt modelId="{CA5E2E9C-B7D6-480C-B5D2-8AC25F3F6BD0}" type="pres">
      <dgm:prSet presAssocID="{0A0D0324-6460-41DA-9D73-7D3D98963B4B}" presName="arrow" presStyleLbl="node1" presStyleIdx="2" presStyleCnt="3" custLinFactNeighborX="-972" custLinFactNeighborY="-71426"/>
      <dgm:spPr/>
      <dgm:t>
        <a:bodyPr/>
        <a:lstStyle/>
        <a:p>
          <a:endParaRPr lang="ru-RU"/>
        </a:p>
      </dgm:t>
    </dgm:pt>
    <dgm:pt modelId="{4F3CCF93-B0A3-40C0-B9F3-B41B6BB29BD8}" type="pres">
      <dgm:prSet presAssocID="{0A0D0324-6460-41DA-9D73-7D3D98963B4B}" presName="descendantArrow" presStyleCnt="0"/>
      <dgm:spPr/>
    </dgm:pt>
    <dgm:pt modelId="{F90B152F-4F01-4D3F-BAF7-65734CF063E7}" type="pres">
      <dgm:prSet presAssocID="{128EB1C8-DF83-4F45-B47E-10D924F627C5}" presName="childTextArrow" presStyleLbl="fgAccFollowNode1" presStyleIdx="4" presStyleCnt="5" custLinFactNeighborX="972" custLinFactNeighborY="1099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F8B7CCDE-F266-4560-BA1F-073F5F6EF183}" type="presOf" srcId="{087B2013-3E43-419C-A90F-BF4793EF7790}" destId="{F36F89F4-55AA-404A-BDEC-29461D38363D}" srcOrd="0" destOrd="0" presId="urn:microsoft.com/office/officeart/2005/8/layout/process4"/>
    <dgm:cxn modelId="{9D195FE4-0CC1-4D83-A2F3-A6A89CCDCD30}" srcId="{6BFF945E-1127-451D-9F60-9DDA84283458}" destId="{2491AE17-D77A-4840-943B-82728828ACD1}" srcOrd="2" destOrd="0" parTransId="{11F6487C-365F-4EBA-BEC7-F12919657432}" sibTransId="{7512019E-9003-4EBA-9C34-2EAEC9FE3108}"/>
    <dgm:cxn modelId="{3B808733-CA64-4C18-B9F5-9B3458C839C3}" srcId="{6BFF945E-1127-451D-9F60-9DDA84283458}" destId="{0A0D0324-6460-41DA-9D73-7D3D98963B4B}" srcOrd="0" destOrd="0" parTransId="{0B492B4C-A6BA-44CC-A150-3F7618DFFE57}" sibTransId="{F9FFF500-1A50-41FC-A29F-872B4FCF89B3}"/>
    <dgm:cxn modelId="{355F4739-BE36-4FCA-98F4-1FA48D9935D6}" type="presOf" srcId="{0A0D0324-6460-41DA-9D73-7D3D98963B4B}" destId="{CA5E2E9C-B7D6-480C-B5D2-8AC25F3F6BD0}" srcOrd="1" destOrd="0" presId="urn:microsoft.com/office/officeart/2005/8/layout/process4"/>
    <dgm:cxn modelId="{2118D7DC-3FCE-44B2-92B8-64ACC955348C}" srcId="{C25638D2-7585-4909-A1A4-4429DF8BF266}" destId="{2F39BF4A-9F6F-4C88-9782-B88DFB3BC71D}" srcOrd="1" destOrd="0" parTransId="{F715C51B-7D71-40AB-A01A-EA5DC8950630}" sibTransId="{986AD6D8-AD0A-4336-8A07-BB209F82D8B8}"/>
    <dgm:cxn modelId="{8784F505-8343-46C8-A0BB-4C18F0FF1A2A}" srcId="{2491AE17-D77A-4840-943B-82728828ACD1}" destId="{5860F9CD-CCBF-472D-9787-28274F374270}" srcOrd="1" destOrd="0" parTransId="{8A747472-E8E6-4E93-ACDB-218CCD85A3A3}" sibTransId="{4AD0CAED-30EE-4296-AA39-78C3361D0D83}"/>
    <dgm:cxn modelId="{32E293D1-BBFE-412C-B55B-098389FC6D11}" type="presOf" srcId="{2491AE17-D77A-4840-943B-82728828ACD1}" destId="{A92791BA-0030-4179-BB6A-031972B13AFE}" srcOrd="1" destOrd="0" presId="urn:microsoft.com/office/officeart/2005/8/layout/process4"/>
    <dgm:cxn modelId="{60E4C929-07C4-430F-A793-ED913754D4B8}" type="presOf" srcId="{76F14562-39A3-4C7A-8964-27C6B3472C30}" destId="{43F428F3-ABCC-40CE-846F-C5B6FD5BE873}" srcOrd="0" destOrd="0" presId="urn:microsoft.com/office/officeart/2005/8/layout/process4"/>
    <dgm:cxn modelId="{D4D6163F-6DDC-49C2-A042-8DD31B732B0F}" type="presOf" srcId="{C25638D2-7585-4909-A1A4-4429DF8BF266}" destId="{DE02B609-181A-4FC2-96BE-571A77E8421B}" srcOrd="0" destOrd="0" presId="urn:microsoft.com/office/officeart/2005/8/layout/process4"/>
    <dgm:cxn modelId="{7B14D78C-E1EB-489A-A523-5AE7620E1667}" type="presOf" srcId="{2491AE17-D77A-4840-943B-82728828ACD1}" destId="{9DD5B033-C434-46A8-AD95-EA337476678A}" srcOrd="0" destOrd="0" presId="urn:microsoft.com/office/officeart/2005/8/layout/process4"/>
    <dgm:cxn modelId="{84FD910C-C68F-46A9-8E00-CBB4F608DAD0}" srcId="{6BFF945E-1127-451D-9F60-9DDA84283458}" destId="{C25638D2-7585-4909-A1A4-4429DF8BF266}" srcOrd="1" destOrd="0" parTransId="{44E7BC50-AB9F-4DBA-8055-FA772641F554}" sibTransId="{F2ED4805-E9ED-44C9-B6D1-6D1691709435}"/>
    <dgm:cxn modelId="{49EC2E95-F2A0-4171-A4F2-51E7D6A9A28B}" type="presOf" srcId="{2F39BF4A-9F6F-4C88-9782-B88DFB3BC71D}" destId="{08B7DD15-AB75-4979-80DE-0B1CDD9D543F}" srcOrd="0" destOrd="0" presId="urn:microsoft.com/office/officeart/2005/8/layout/process4"/>
    <dgm:cxn modelId="{02575E60-5240-4933-B619-0759B7D739CE}" type="presOf" srcId="{C25638D2-7585-4909-A1A4-4429DF8BF266}" destId="{0C375ED4-4FF6-4EE8-97D2-2BD7A5068C33}" srcOrd="1" destOrd="0" presId="urn:microsoft.com/office/officeart/2005/8/layout/process4"/>
    <dgm:cxn modelId="{64FBB725-C403-424A-920E-7A82407239AD}" srcId="{0A0D0324-6460-41DA-9D73-7D3D98963B4B}" destId="{128EB1C8-DF83-4F45-B47E-10D924F627C5}" srcOrd="0" destOrd="0" parTransId="{F0DF4B97-6DFD-4B71-9713-074E319BD829}" sibTransId="{71C361D9-C5BE-4A03-8B4F-9E13BED9A594}"/>
    <dgm:cxn modelId="{0C190E19-3B4B-4D9D-8E58-EA08D67EDFF5}" type="presOf" srcId="{6BFF945E-1127-451D-9F60-9DDA84283458}" destId="{49C70C56-8DC5-4CB1-B6F8-AA276EDAFF95}" srcOrd="0" destOrd="0" presId="urn:microsoft.com/office/officeart/2005/8/layout/process4"/>
    <dgm:cxn modelId="{44D994AC-AC51-4CEC-988B-F93ED0EF7614}" srcId="{2491AE17-D77A-4840-943B-82728828ACD1}" destId="{76F14562-39A3-4C7A-8964-27C6B3472C30}" srcOrd="0" destOrd="0" parTransId="{B6FE6A32-1CF2-4A42-89F5-15E42A7246DC}" sibTransId="{CFC538F8-821F-4F46-8D38-1693AE6EA49A}"/>
    <dgm:cxn modelId="{EF5E5242-A3AA-49EB-ADF4-BAECD013C233}" type="presOf" srcId="{0A0D0324-6460-41DA-9D73-7D3D98963B4B}" destId="{524B4425-8206-4171-8EAC-760AFCD1618E}" srcOrd="0" destOrd="0" presId="urn:microsoft.com/office/officeart/2005/8/layout/process4"/>
    <dgm:cxn modelId="{07D6B13C-2BAC-4C5F-B5F8-9949B0BAEDB6}" type="presOf" srcId="{5860F9CD-CCBF-472D-9787-28274F374270}" destId="{0FB8EB16-6A2E-4F50-8331-637665919A88}" srcOrd="0" destOrd="0" presId="urn:microsoft.com/office/officeart/2005/8/layout/process4"/>
    <dgm:cxn modelId="{041A3A64-A592-4EF0-90C3-58BC981028EA}" type="presOf" srcId="{128EB1C8-DF83-4F45-B47E-10D924F627C5}" destId="{F90B152F-4F01-4D3F-BAF7-65734CF063E7}" srcOrd="0" destOrd="0" presId="urn:microsoft.com/office/officeart/2005/8/layout/process4"/>
    <dgm:cxn modelId="{B8A9FB23-F02D-42BE-ACA1-B8683242BD97}" srcId="{C25638D2-7585-4909-A1A4-4429DF8BF266}" destId="{087B2013-3E43-419C-A90F-BF4793EF7790}" srcOrd="0" destOrd="0" parTransId="{C1A93CF0-0FB4-4713-993E-10EAE98F34C7}" sibTransId="{28715856-860F-4038-8ADE-5E115BB8A544}"/>
    <dgm:cxn modelId="{565BA8FB-323A-4452-8314-0B26B9E968C8}" type="presParOf" srcId="{49C70C56-8DC5-4CB1-B6F8-AA276EDAFF95}" destId="{7338126A-7B6B-4DBC-A1CF-A330BF109AFA}" srcOrd="0" destOrd="0" presId="urn:microsoft.com/office/officeart/2005/8/layout/process4"/>
    <dgm:cxn modelId="{2ABA8202-A8C7-4F63-A2E7-24D9C8B36B7C}" type="presParOf" srcId="{7338126A-7B6B-4DBC-A1CF-A330BF109AFA}" destId="{9DD5B033-C434-46A8-AD95-EA337476678A}" srcOrd="0" destOrd="0" presId="urn:microsoft.com/office/officeart/2005/8/layout/process4"/>
    <dgm:cxn modelId="{4575963E-5B12-485D-A12E-37FF24F2D932}" type="presParOf" srcId="{7338126A-7B6B-4DBC-A1CF-A330BF109AFA}" destId="{A92791BA-0030-4179-BB6A-031972B13AFE}" srcOrd="1" destOrd="0" presId="urn:microsoft.com/office/officeart/2005/8/layout/process4"/>
    <dgm:cxn modelId="{279E9D05-09C8-4372-A862-98999AB7D415}" type="presParOf" srcId="{7338126A-7B6B-4DBC-A1CF-A330BF109AFA}" destId="{4DF381DC-1902-4614-8B4F-7B9DDCA87ADA}" srcOrd="2" destOrd="0" presId="urn:microsoft.com/office/officeart/2005/8/layout/process4"/>
    <dgm:cxn modelId="{A9D0BDDE-7839-494B-96D7-DABE153A48F2}" type="presParOf" srcId="{4DF381DC-1902-4614-8B4F-7B9DDCA87ADA}" destId="{43F428F3-ABCC-40CE-846F-C5B6FD5BE873}" srcOrd="0" destOrd="0" presId="urn:microsoft.com/office/officeart/2005/8/layout/process4"/>
    <dgm:cxn modelId="{36CFC499-3231-4B74-82AB-93AB5A4B4690}" type="presParOf" srcId="{4DF381DC-1902-4614-8B4F-7B9DDCA87ADA}" destId="{0FB8EB16-6A2E-4F50-8331-637665919A88}" srcOrd="1" destOrd="0" presId="urn:microsoft.com/office/officeart/2005/8/layout/process4"/>
    <dgm:cxn modelId="{B544615C-DC41-46B7-BCAE-F869F0D761EA}" type="presParOf" srcId="{49C70C56-8DC5-4CB1-B6F8-AA276EDAFF95}" destId="{AD7E74EE-9E1B-4B96-8AC7-1E03124114A7}" srcOrd="1" destOrd="0" presId="urn:microsoft.com/office/officeart/2005/8/layout/process4"/>
    <dgm:cxn modelId="{74319652-4EBF-462D-8EC2-157A681905D1}" type="presParOf" srcId="{49C70C56-8DC5-4CB1-B6F8-AA276EDAFF95}" destId="{B0159BE4-353B-49D0-A3B3-0E7CA108E8F9}" srcOrd="2" destOrd="0" presId="urn:microsoft.com/office/officeart/2005/8/layout/process4"/>
    <dgm:cxn modelId="{45278DC7-1F8F-4D8D-A30B-0CA5EFBD7969}" type="presParOf" srcId="{B0159BE4-353B-49D0-A3B3-0E7CA108E8F9}" destId="{DE02B609-181A-4FC2-96BE-571A77E8421B}" srcOrd="0" destOrd="0" presId="urn:microsoft.com/office/officeart/2005/8/layout/process4"/>
    <dgm:cxn modelId="{554A05C7-CD81-4D78-9C07-06F2219C6BE9}" type="presParOf" srcId="{B0159BE4-353B-49D0-A3B3-0E7CA108E8F9}" destId="{0C375ED4-4FF6-4EE8-97D2-2BD7A5068C33}" srcOrd="1" destOrd="0" presId="urn:microsoft.com/office/officeart/2005/8/layout/process4"/>
    <dgm:cxn modelId="{4E00CE84-52D2-49E0-96F0-2416081F9D14}" type="presParOf" srcId="{B0159BE4-353B-49D0-A3B3-0E7CA108E8F9}" destId="{7A0AB6FF-4420-479F-B557-1545144F5D1A}" srcOrd="2" destOrd="0" presId="urn:microsoft.com/office/officeart/2005/8/layout/process4"/>
    <dgm:cxn modelId="{0E05A411-7579-4116-8C96-850FD2C4A0AE}" type="presParOf" srcId="{7A0AB6FF-4420-479F-B557-1545144F5D1A}" destId="{F36F89F4-55AA-404A-BDEC-29461D38363D}" srcOrd="0" destOrd="0" presId="urn:microsoft.com/office/officeart/2005/8/layout/process4"/>
    <dgm:cxn modelId="{373C348B-CF0D-40B7-86DD-E2D5161C773B}" type="presParOf" srcId="{7A0AB6FF-4420-479F-B557-1545144F5D1A}" destId="{08B7DD15-AB75-4979-80DE-0B1CDD9D543F}" srcOrd="1" destOrd="0" presId="urn:microsoft.com/office/officeart/2005/8/layout/process4"/>
    <dgm:cxn modelId="{157972BC-3D74-43F4-9C90-269E6D2C3AD7}" type="presParOf" srcId="{49C70C56-8DC5-4CB1-B6F8-AA276EDAFF95}" destId="{0050F27B-F459-4ED7-A30A-E1843F184888}" srcOrd="3" destOrd="0" presId="urn:microsoft.com/office/officeart/2005/8/layout/process4"/>
    <dgm:cxn modelId="{EE4D0E0B-25E1-4378-9042-1A075AEF81C3}" type="presParOf" srcId="{49C70C56-8DC5-4CB1-B6F8-AA276EDAFF95}" destId="{15E786AB-643A-47B2-B1D5-2E510EE20B70}" srcOrd="4" destOrd="0" presId="urn:microsoft.com/office/officeart/2005/8/layout/process4"/>
    <dgm:cxn modelId="{7712F290-3233-4A18-B4EB-1D8FD3A120D0}" type="presParOf" srcId="{15E786AB-643A-47B2-B1D5-2E510EE20B70}" destId="{524B4425-8206-4171-8EAC-760AFCD1618E}" srcOrd="0" destOrd="0" presId="urn:microsoft.com/office/officeart/2005/8/layout/process4"/>
    <dgm:cxn modelId="{1F931D00-4BE0-4C89-B3A6-DE7ED5DD6747}" type="presParOf" srcId="{15E786AB-643A-47B2-B1D5-2E510EE20B70}" destId="{CA5E2E9C-B7D6-480C-B5D2-8AC25F3F6BD0}" srcOrd="1" destOrd="0" presId="urn:microsoft.com/office/officeart/2005/8/layout/process4"/>
    <dgm:cxn modelId="{DC706F87-A60E-40C7-8E87-CEC635662AFA}" type="presParOf" srcId="{15E786AB-643A-47B2-B1D5-2E510EE20B70}" destId="{4F3CCF93-B0A3-40C0-B9F3-B41B6BB29BD8}" srcOrd="2" destOrd="0" presId="urn:microsoft.com/office/officeart/2005/8/layout/process4"/>
    <dgm:cxn modelId="{8731D038-082F-47DF-AD48-D51460FFC7EE}" type="presParOf" srcId="{4F3CCF93-B0A3-40C0-B9F3-B41B6BB29BD8}" destId="{F90B152F-4F01-4D3F-BAF7-65734CF063E7}" srcOrd="0" destOrd="0" presId="urn:microsoft.com/office/officeart/2005/8/layout/process4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A92791BA-0030-4179-BB6A-031972B13AFE}">
      <dsp:nvSpPr>
        <dsp:cNvPr id="0" name=""/>
        <dsp:cNvSpPr/>
      </dsp:nvSpPr>
      <dsp:spPr>
        <a:xfrm>
          <a:off x="0" y="2597919"/>
          <a:ext cx="7408862" cy="852695"/>
        </a:xfrm>
        <a:prstGeom prst="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15875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28016" tIns="128016" rIns="128016" bIns="128016" numCol="1" spcCol="1270" anchor="ctr" anchorCtr="0">
          <a:noAutofit/>
        </a:bodyPr>
        <a:lstStyle/>
        <a:p>
          <a:pPr lvl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800" kern="1200" dirty="0" smtClean="0">
              <a:solidFill>
                <a:schemeClr val="tx1"/>
              </a:solidFill>
            </a:rPr>
            <a:t>6)Юридические аспекты открытия туристической компании</a:t>
          </a:r>
          <a:endParaRPr lang="ru-RU" sz="1800" kern="1200" dirty="0">
            <a:solidFill>
              <a:schemeClr val="tx1"/>
            </a:solidFill>
          </a:endParaRPr>
        </a:p>
      </dsp:txBody>
      <dsp:txXfrm>
        <a:off x="0" y="2597919"/>
        <a:ext cx="7408862" cy="460455"/>
      </dsp:txXfrm>
    </dsp:sp>
    <dsp:sp modelId="{43F428F3-ABCC-40CE-846F-C5B6FD5BE873}">
      <dsp:nvSpPr>
        <dsp:cNvPr id="0" name=""/>
        <dsp:cNvSpPr/>
      </dsp:nvSpPr>
      <dsp:spPr>
        <a:xfrm>
          <a:off x="0" y="3041321"/>
          <a:ext cx="3704431" cy="392239"/>
        </a:xfrm>
        <a:prstGeom prst="rect">
          <a:avLst/>
        </a:prstGeom>
        <a:solidFill>
          <a:schemeClr val="accent5">
            <a:tint val="40000"/>
            <a:alpha val="90000"/>
            <a:hueOff val="0"/>
            <a:satOff val="0"/>
            <a:lumOff val="0"/>
            <a:alphaOff val="0"/>
          </a:schemeClr>
        </a:solidFill>
        <a:ln w="15875" cap="flat" cmpd="sng" algn="ctr">
          <a:solidFill>
            <a:schemeClr val="accent5">
              <a:tint val="40000"/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13792" tIns="20320" rIns="113792" bIns="2032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smtClean="0"/>
            <a:t>7)Финансовый план</a:t>
          </a:r>
          <a:endParaRPr lang="ru-RU" sz="1600" kern="1200" dirty="0"/>
        </a:p>
      </dsp:txBody>
      <dsp:txXfrm>
        <a:off x="0" y="3041321"/>
        <a:ext cx="3704431" cy="392239"/>
      </dsp:txXfrm>
    </dsp:sp>
    <dsp:sp modelId="{0FB8EB16-6A2E-4F50-8331-637665919A88}">
      <dsp:nvSpPr>
        <dsp:cNvPr id="0" name=""/>
        <dsp:cNvSpPr/>
      </dsp:nvSpPr>
      <dsp:spPr>
        <a:xfrm>
          <a:off x="3700467" y="3058317"/>
          <a:ext cx="3704431" cy="392239"/>
        </a:xfrm>
        <a:prstGeom prst="rect">
          <a:avLst/>
        </a:prstGeom>
        <a:solidFill>
          <a:schemeClr val="accent5">
            <a:tint val="40000"/>
            <a:alpha val="90000"/>
            <a:hueOff val="2134680"/>
            <a:satOff val="-5553"/>
            <a:lumOff val="-530"/>
            <a:alphaOff val="0"/>
          </a:schemeClr>
        </a:solidFill>
        <a:ln w="15875" cap="flat" cmpd="sng" algn="ctr">
          <a:solidFill>
            <a:schemeClr val="accent5">
              <a:tint val="40000"/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8016" tIns="22860" rIns="128016" bIns="22860" numCol="1" spcCol="1270" anchor="ctr" anchorCtr="0">
          <a:noAutofit/>
        </a:bodyPr>
        <a:lstStyle/>
        <a:p>
          <a:pPr lvl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800" kern="1200" dirty="0" smtClean="0"/>
            <a:t>8)Заключение</a:t>
          </a:r>
          <a:endParaRPr lang="ru-RU" sz="1800" kern="1200" dirty="0"/>
        </a:p>
      </dsp:txBody>
      <dsp:txXfrm>
        <a:off x="3700467" y="3058317"/>
        <a:ext cx="3704431" cy="392239"/>
      </dsp:txXfrm>
    </dsp:sp>
    <dsp:sp modelId="{0C375ED4-4FF6-4EE8-97D2-2BD7A5068C33}">
      <dsp:nvSpPr>
        <dsp:cNvPr id="0" name=""/>
        <dsp:cNvSpPr/>
      </dsp:nvSpPr>
      <dsp:spPr>
        <a:xfrm rot="10800000">
          <a:off x="0" y="1299264"/>
          <a:ext cx="7408862" cy="1311445"/>
        </a:xfrm>
        <a:prstGeom prst="upArrowCallout">
          <a:avLst/>
        </a:prstGeom>
        <a:solidFill>
          <a:schemeClr val="accent5">
            <a:hueOff val="4085978"/>
            <a:satOff val="2788"/>
            <a:lumOff val="-7843"/>
            <a:alphaOff val="0"/>
          </a:schemeClr>
        </a:solidFill>
        <a:ln w="15875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13792" tIns="113792" rIns="113792" bIns="113792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smtClean="0">
              <a:solidFill>
                <a:schemeClr val="tx1"/>
              </a:solidFill>
            </a:rPr>
            <a:t>3)Конкурентная среда</a:t>
          </a:r>
          <a:endParaRPr lang="ru-RU" sz="1600" kern="1200" dirty="0">
            <a:solidFill>
              <a:schemeClr val="tx1"/>
            </a:solidFill>
          </a:endParaRPr>
        </a:p>
      </dsp:txBody>
      <dsp:txXfrm rot="-10800000">
        <a:off x="0" y="1299264"/>
        <a:ext cx="7408862" cy="460317"/>
      </dsp:txXfrm>
    </dsp:sp>
    <dsp:sp modelId="{F36F89F4-55AA-404A-BDEC-29461D38363D}">
      <dsp:nvSpPr>
        <dsp:cNvPr id="0" name=""/>
        <dsp:cNvSpPr/>
      </dsp:nvSpPr>
      <dsp:spPr>
        <a:xfrm>
          <a:off x="0" y="1759582"/>
          <a:ext cx="3704431" cy="392122"/>
        </a:xfrm>
        <a:prstGeom prst="rect">
          <a:avLst/>
        </a:prstGeom>
        <a:solidFill>
          <a:schemeClr val="accent5">
            <a:tint val="40000"/>
            <a:alpha val="90000"/>
            <a:hueOff val="4269361"/>
            <a:satOff val="-11107"/>
            <a:lumOff val="-1060"/>
            <a:alphaOff val="0"/>
          </a:schemeClr>
        </a:solidFill>
        <a:ln w="15875" cap="flat" cmpd="sng" algn="ctr">
          <a:solidFill>
            <a:schemeClr val="accent5">
              <a:tint val="40000"/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8016" tIns="22860" rIns="128016" bIns="22860" numCol="1" spcCol="1270" anchor="ctr" anchorCtr="0">
          <a:noAutofit/>
        </a:bodyPr>
        <a:lstStyle/>
        <a:p>
          <a:pPr lvl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800" kern="1200" dirty="0" smtClean="0"/>
            <a:t>4)Производственный план</a:t>
          </a:r>
          <a:endParaRPr lang="ru-RU" sz="1800" kern="1200" dirty="0"/>
        </a:p>
      </dsp:txBody>
      <dsp:txXfrm>
        <a:off x="0" y="1759582"/>
        <a:ext cx="3704431" cy="392122"/>
      </dsp:txXfrm>
    </dsp:sp>
    <dsp:sp modelId="{08B7DD15-AB75-4979-80DE-0B1CDD9D543F}">
      <dsp:nvSpPr>
        <dsp:cNvPr id="0" name=""/>
        <dsp:cNvSpPr/>
      </dsp:nvSpPr>
      <dsp:spPr>
        <a:xfrm>
          <a:off x="3704431" y="1759582"/>
          <a:ext cx="3704431" cy="392122"/>
        </a:xfrm>
        <a:prstGeom prst="rect">
          <a:avLst/>
        </a:prstGeom>
        <a:solidFill>
          <a:schemeClr val="accent5">
            <a:tint val="40000"/>
            <a:alpha val="90000"/>
            <a:hueOff val="6404041"/>
            <a:satOff val="-16660"/>
            <a:lumOff val="-1590"/>
            <a:alphaOff val="0"/>
          </a:schemeClr>
        </a:solidFill>
        <a:ln w="15875" cap="flat" cmpd="sng" algn="ctr">
          <a:solidFill>
            <a:schemeClr val="accent5">
              <a:tint val="40000"/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8016" tIns="22860" rIns="128016" bIns="22860" numCol="1" spcCol="1270" anchor="ctr" anchorCtr="0">
          <a:noAutofit/>
        </a:bodyPr>
        <a:lstStyle/>
        <a:p>
          <a:pPr lvl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800" kern="1200" dirty="0" smtClean="0"/>
            <a:t>5) План маркетинга и рекламы</a:t>
          </a:r>
        </a:p>
      </dsp:txBody>
      <dsp:txXfrm>
        <a:off x="3704431" y="1759582"/>
        <a:ext cx="3704431" cy="392122"/>
      </dsp:txXfrm>
    </dsp:sp>
    <dsp:sp modelId="{CA5E2E9C-B7D6-480C-B5D2-8AC25F3F6BD0}">
      <dsp:nvSpPr>
        <dsp:cNvPr id="0" name=""/>
        <dsp:cNvSpPr/>
      </dsp:nvSpPr>
      <dsp:spPr>
        <a:xfrm rot="10800000">
          <a:off x="0" y="0"/>
          <a:ext cx="7408862" cy="1311445"/>
        </a:xfrm>
        <a:prstGeom prst="upArrowCallout">
          <a:avLst/>
        </a:prstGeom>
        <a:solidFill>
          <a:schemeClr val="accent5">
            <a:hueOff val="8171956"/>
            <a:satOff val="5577"/>
            <a:lumOff val="-15685"/>
            <a:alphaOff val="0"/>
          </a:schemeClr>
        </a:solidFill>
        <a:ln w="15875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0688" tIns="170688" rIns="170688" bIns="170688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>
              <a:solidFill>
                <a:schemeClr val="tx1"/>
              </a:solidFill>
            </a:rPr>
            <a:t>1)Концепция туристического агентства</a:t>
          </a:r>
          <a:endParaRPr lang="ru-RU" sz="2400" kern="1200" dirty="0">
            <a:solidFill>
              <a:schemeClr val="tx1"/>
            </a:solidFill>
          </a:endParaRPr>
        </a:p>
      </dsp:txBody>
      <dsp:txXfrm rot="-10800000">
        <a:off x="0" y="0"/>
        <a:ext cx="7408862" cy="460317"/>
      </dsp:txXfrm>
    </dsp:sp>
    <dsp:sp modelId="{F90B152F-4F01-4D3F-BAF7-65734CF063E7}">
      <dsp:nvSpPr>
        <dsp:cNvPr id="0" name=""/>
        <dsp:cNvSpPr/>
      </dsp:nvSpPr>
      <dsp:spPr>
        <a:xfrm>
          <a:off x="0" y="504056"/>
          <a:ext cx="7408862" cy="392122"/>
        </a:xfrm>
        <a:prstGeom prst="rect">
          <a:avLst/>
        </a:prstGeom>
        <a:solidFill>
          <a:schemeClr val="accent5">
            <a:tint val="40000"/>
            <a:alpha val="90000"/>
            <a:hueOff val="8538722"/>
            <a:satOff val="-22214"/>
            <a:lumOff val="-2120"/>
            <a:alphaOff val="0"/>
          </a:schemeClr>
        </a:solidFill>
        <a:ln w="15875" cap="flat" cmpd="sng" algn="ctr">
          <a:solidFill>
            <a:schemeClr val="accent5">
              <a:tint val="40000"/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63576" tIns="29210" rIns="163576" bIns="29210" numCol="1" spcCol="1270" anchor="ctr" anchorCtr="0">
          <a:noAutofit/>
        </a:bodyPr>
        <a:lstStyle/>
        <a:p>
          <a:pPr lvl="0" algn="ctr" defTabSz="10223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300" kern="1200" dirty="0" smtClean="0"/>
            <a:t>2) Организационный план</a:t>
          </a:r>
          <a:endParaRPr lang="ru-RU" sz="2300" kern="1200" dirty="0"/>
        </a:p>
      </dsp:txBody>
      <dsp:txXfrm>
        <a:off x="0" y="504056"/>
        <a:ext cx="7408862" cy="392122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process4">
  <dgm:title val=""/>
  <dgm:desc val=""/>
  <dgm:catLst>
    <dgm:cat type="process" pri="16000"/>
    <dgm:cat type="list" pri="20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lin">
      <dgm:param type="linDir" val="fromB"/>
    </dgm:alg>
    <dgm:shape xmlns:r="http://schemas.openxmlformats.org/officeDocument/2006/relationships" r:blip="">
      <dgm:adjLst/>
    </dgm:shape>
    <dgm:presOf/>
    <dgm:constrLst>
      <dgm:constr type="h" for="ch" forName="boxAndChildren" refType="h"/>
      <dgm:constr type="h" for="ch" forName="arrowAndChildren" refType="h" refFor="ch" refForName="boxAndChildren" op="equ" fact="1.538"/>
      <dgm:constr type="w" for="ch" forName="arrowAndChildren" refType="w"/>
      <dgm:constr type="w" for="ch" forName="boxAndChildren" refType="w"/>
      <dgm:constr type="h" for="ch" forName="sp" refType="h" fact="-0.015"/>
      <dgm:constr type="primFontSz" for="des" forName="parentTextBox" val="65"/>
      <dgm:constr type="primFontSz" for="des" forName="parentTextArrow" refType="primFontSz" refFor="des" refForName="parentTextBox" op="equ"/>
      <dgm:constr type="primFontSz" for="des" forName="childTextArrow" val="65"/>
      <dgm:constr type="primFontSz" for="des" forName="childTextBox" refType="primFontSz" refFor="des" refForName="childTextArrow" op="equ"/>
    </dgm:constrLst>
    <dgm:ruleLst/>
    <dgm:forEach name="Name1" axis="ch" ptType="node" st="-1" step="-1">
      <dgm:choose name="Name2">
        <dgm:if name="Name3" axis="self" ptType="node" func="revPos" op="equ" val="1">
          <dgm:layoutNode name="boxAndChildren">
            <dgm:alg type="composite"/>
            <dgm:shape xmlns:r="http://schemas.openxmlformats.org/officeDocument/2006/relationships" r:blip="">
              <dgm:adjLst/>
            </dgm:shape>
            <dgm:presOf/>
            <dgm:choose name="Name4">
              <dgm:if name="Name5" axis="ch" ptType="node" func="cnt" op="gte" val="1">
                <dgm:constrLst>
                  <dgm:constr type="w" for="ch" forName="parentTextBox" refType="w"/>
                  <dgm:constr type="h" for="ch" forName="parentTextBox" refType="h" fact="0.54"/>
                  <dgm:constr type="t" for="ch" forName="parentTextBox"/>
                  <dgm:constr type="w" for="ch" forName="entireBox" refType="w"/>
                  <dgm:constr type="h" for="ch" forName="entireBox" refType="h"/>
                  <dgm:constr type="w" for="ch" forName="descendantBox" refType="w"/>
                  <dgm:constr type="b" for="ch" forName="descendantBox" refType="h" fact="0.98"/>
                  <dgm:constr type="h" for="ch" forName="descendantBox" refType="h" fact="0.46"/>
                </dgm:constrLst>
              </dgm:if>
              <dgm:else name="Name6">
                <dgm:constrLst>
                  <dgm:constr type="w" for="ch" forName="parentTextBox" refType="w"/>
                  <dgm:constr type="h" for="ch" forName="parentTextBox" refType="h"/>
                </dgm:constrLst>
              </dgm:else>
            </dgm:choose>
            <dgm:ruleLst/>
            <dgm:layoutNode name="parentTextBox">
              <dgm:alg type="tx"/>
              <dgm:choose name="Name7">
                <dgm:if name="Name8" axis="ch" ptType="node" func="cnt" op="gte" val="1">
                  <dgm:shape xmlns:r="http://schemas.openxmlformats.org/officeDocument/2006/relationships" type="rect" r:blip="" zOrderOff="1" hideGeom="1">
                    <dgm:adjLst/>
                  </dgm:shape>
                </dgm:if>
                <dgm:else name="Name9">
                  <dgm:shape xmlns:r="http://schemas.openxmlformats.org/officeDocument/2006/relationships" type="rect" r:blip="">
                    <dgm:adjLst/>
                  </dgm:shape>
                </dgm:else>
              </dgm:choose>
              <dgm:presOf axis="self"/>
              <dgm:constrLst/>
              <dgm:ruleLst>
                <dgm:rule type="primFontSz" val="5" fact="NaN" max="NaN"/>
              </dgm:ruleLst>
            </dgm:layoutNode>
            <dgm:choose name="Name10">
              <dgm:if name="Name11" axis="ch" ptType="node" func="cnt" op="gte" val="1">
                <dgm:layoutNode name="entireBox">
                  <dgm:alg type="sp"/>
                  <dgm:shape xmlns:r="http://schemas.openxmlformats.org/officeDocument/2006/relationships" type="rect" r:blip="">
                    <dgm:adjLst/>
                  </dgm:shape>
                  <dgm:presOf axis="self"/>
                  <dgm:constrLst/>
                  <dgm:ruleLst/>
                </dgm:layoutNode>
                <dgm:layoutNode name="descendantBox" styleLbl="fgAccFollowNode1">
                  <dgm:choose name="Name12">
                    <dgm:if name="Name13" func="var" arg="dir" op="equ" val="norm">
                      <dgm:alg type="lin"/>
                    </dgm:if>
                    <dgm:else name="Name14">
                      <dgm:alg type="lin">
                        <dgm:param type="linDir" val="fromR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w" for="ch" forName="childTextBox" refType="w"/>
                    <dgm:constr type="h" for="ch" forName="childTextBox" refType="h"/>
                  </dgm:constrLst>
                  <dgm:ruleLst/>
                  <dgm:forEach name="Name15" axis="ch" ptType="node">
                    <dgm:layoutNode name="childTextBox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rect" r:blip="">
                        <dgm:adjLst/>
                      </dgm:shape>
                      <dgm:presOf axis="desOrSelf" ptType="node"/>
                      <dgm:constrLst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</dgm:forEach>
                </dgm:layoutNode>
              </dgm:if>
              <dgm:else name="Name16"/>
            </dgm:choose>
          </dgm:layoutNode>
        </dgm:if>
        <dgm:else name="Name17">
          <dgm:layoutNode name="arrowAndChildren">
            <dgm:alg type="composite"/>
            <dgm:shape xmlns:r="http://schemas.openxmlformats.org/officeDocument/2006/relationships" r:blip="">
              <dgm:adjLst/>
            </dgm:shape>
            <dgm:presOf/>
            <dgm:choose name="Name18">
              <dgm:if name="Name19" axis="ch" ptType="node" func="cnt" op="gte" val="1">
                <dgm:constrLst>
                  <dgm:constr type="w" for="ch" forName="parentTextArrow" refType="w"/>
                  <dgm:constr type="t" for="ch" forName="parentTextArrow"/>
                  <dgm:constr type="h" for="ch" forName="parentTextArrow" refType="h" fact="0.351"/>
                  <dgm:constr type="w" for="ch" forName="arrow" refType="w"/>
                  <dgm:constr type="h" for="ch" forName="arrow" refType="h"/>
                  <dgm:constr type="w" for="ch" forName="descendantArrow" refType="w"/>
                  <dgm:constr type="b" for="ch" forName="descendantArrow" refType="h" fact="0.65"/>
                  <dgm:constr type="h" for="ch" forName="descendantArrow" refType="h" fact="0.299"/>
                </dgm:constrLst>
              </dgm:if>
              <dgm:else name="Name20">
                <dgm:constrLst>
                  <dgm:constr type="w" for="ch" forName="parentTextArrow" refType="w"/>
                  <dgm:constr type="h" for="ch" forName="parentTextArrow" refType="h"/>
                </dgm:constrLst>
              </dgm:else>
            </dgm:choose>
            <dgm:ruleLst/>
            <dgm:layoutNode name="parentTextArrow">
              <dgm:alg type="tx"/>
              <dgm:choose name="Name21">
                <dgm:if name="Name22" axis="ch" ptType="node" func="cnt" op="gte" val="1">
                  <dgm:shape xmlns:r="http://schemas.openxmlformats.org/officeDocument/2006/relationships" type="rect" r:blip="" zOrderOff="1" hideGeom="1">
                    <dgm:adjLst/>
                  </dgm:shape>
                </dgm:if>
                <dgm:else name="Name23">
                  <dgm:shape xmlns:r="http://schemas.openxmlformats.org/officeDocument/2006/relationships" rot="180" type="upArrowCallout" r:blip="">
                    <dgm:adjLst/>
                  </dgm:shape>
                </dgm:else>
              </dgm:choose>
              <dgm:presOf axis="self"/>
              <dgm:constrLst/>
              <dgm:ruleLst>
                <dgm:rule type="primFontSz" val="5" fact="NaN" max="NaN"/>
              </dgm:ruleLst>
            </dgm:layoutNode>
            <dgm:choose name="Name24">
              <dgm:if name="Name25" axis="ch" ptType="node" func="cnt" op="gte" val="1">
                <dgm:layoutNode name="arrow">
                  <dgm:alg type="sp"/>
                  <dgm:shape xmlns:r="http://schemas.openxmlformats.org/officeDocument/2006/relationships" rot="180" type="upArrowCallout" r:blip="">
                    <dgm:adjLst/>
                  </dgm:shape>
                  <dgm:presOf axis="self"/>
                  <dgm:constrLst/>
                  <dgm:ruleLst/>
                </dgm:layoutNode>
                <dgm:layoutNode name="descendantArrow">
                  <dgm:choose name="Name26">
                    <dgm:if name="Name27" func="var" arg="dir" op="equ" val="norm">
                      <dgm:alg type="lin"/>
                    </dgm:if>
                    <dgm:else name="Name28">
                      <dgm:alg type="lin">
                        <dgm:param type="linDir" val="fromR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w" for="ch" forName="childTextArrow" refType="w"/>
                    <dgm:constr type="h" for="ch" forName="childTextArrow" refType="h"/>
                  </dgm:constrLst>
                  <dgm:ruleLst/>
                  <dgm:forEach name="Name29" axis="ch" ptType="node">
                    <dgm:layoutNode name="childTextArrow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rect" r:blip="">
                        <dgm:adjLst/>
                      </dgm:shape>
                      <dgm:presOf axis="desOrSelf" ptType="node"/>
                      <dgm:constrLst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</dgm:forEach>
                </dgm:layoutNode>
              </dgm:if>
              <dgm:else name="Name30"/>
            </dgm:choose>
          </dgm:layoutNode>
        </dgm:else>
      </dgm:choose>
      <dgm:forEach name="Name31" axis="precedSib" ptType="sibTrans" st="-1" cnt="1">
        <dgm:layoutNode name="sp">
          <dgm:alg type="sp"/>
          <dgm:shape xmlns:r="http://schemas.openxmlformats.org/officeDocument/2006/relationships" r:blip="">
            <dgm:adjLst/>
          </dgm:shape>
          <dgm:presOf axis="self"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382DD5-9138-41A5-A3B5-77310CB23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018583-1134-4146-A949-612DCBBD6E4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B60C-6706-4CCE-A162-2F35272E9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A370-F72F-41B1-8501-CA66AFC8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230F-8502-4AF4-A6EE-EC04B5907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3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9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3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B7BB-0C58-4AC3-976A-760712C5C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29CB-F2E3-4138-B6A8-4B919677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67AC-CB27-43E7-9C4F-F8783D38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01C2-CE2B-4C07-B6AF-75A1F0E2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1987-9EE8-4888-8620-B324500F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400"/>
            <a:ext cx="822924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4B79-2E80-4AD1-BC62-376BC520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8B0F-53CF-444A-BCDA-BAB0504D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4600-5DF7-4F49-B463-D1C20AB2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FF8D-BE4D-4300-AF6B-9F1C7241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2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6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бразец текста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4320">
              <a:lnSpc>
                <a:spcPct val="100000"/>
              </a:lnSpc>
              <a:spcBef>
                <a:spcPts val="43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Второй уровень</a:t>
            </a:r>
            <a:endParaRPr b="0" lang="ru-RU" sz="22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Третий уровень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lnSpc>
                <a:spcPct val="100000"/>
              </a:lnSpc>
              <a:spcBef>
                <a:spcPts val="36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Четвертый уровень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4" marL="1463040" indent="-228600">
              <a:lnSpc>
                <a:spcPct val="100000"/>
              </a:lnSpc>
              <a:spcBef>
                <a:spcPts val="32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Пятый уровень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2C3D73C-F5AD-4286-B4EA-0ECE27BBFE22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Объект 5"/>
          <p:cNvSpPr/>
          <p:nvPr/>
        </p:nvSpPr>
        <p:spPr>
          <a:xfrm>
            <a:off x="0" y="79920"/>
            <a:ext cx="9143640" cy="651708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6400440" cy="68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4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«</a:t>
            </a: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Plaisir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»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-700560" y="980640"/>
            <a:ext cx="9883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7200" spc="-1" strike="noStrike">
                <a:solidFill>
                  <a:srgbClr val="000000"/>
                </a:solidFill>
                <a:latin typeface="Candara"/>
              </a:rPr>
              <a:t>Турагентство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7200" spc="-1" strike="noStrike">
                <a:solidFill>
                  <a:srgbClr val="000000"/>
                </a:solidFill>
                <a:latin typeface="Candara"/>
              </a:rPr>
              <a:t>                        </a:t>
            </a:r>
            <a:r>
              <a:rPr b="1" i="1" lang="ru-RU" sz="7200" spc="-1" strike="noStrike">
                <a:solidFill>
                  <a:srgbClr val="000000"/>
                </a:solidFill>
                <a:latin typeface="Candara"/>
              </a:rPr>
              <a:t>«</a:t>
            </a:r>
            <a:r>
              <a:rPr b="1" i="1" lang="en-US" sz="7200" spc="-1" strike="noStrike">
                <a:solidFill>
                  <a:srgbClr val="000000"/>
                </a:solidFill>
                <a:latin typeface="Candara"/>
              </a:rPr>
              <a:t>Plaisir</a:t>
            </a:r>
            <a:r>
              <a:rPr b="1" i="1" lang="ru-RU" sz="7200" spc="-1" strike="noStrike">
                <a:solidFill>
                  <a:srgbClr val="000000"/>
                </a:solidFill>
                <a:latin typeface="Candara"/>
              </a:rPr>
              <a:t>»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4000">
        <p14:vortex/>
      </p:transition>
    </mc:Choice>
    <mc:Fallback>
      <p:transition spd="slow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3" descr=""/>
          <p:cNvPicPr/>
          <p:nvPr/>
        </p:nvPicPr>
        <p:blipFill>
          <a:blip r:embed="rId1"/>
          <a:stretch/>
        </p:blipFill>
        <p:spPr>
          <a:xfrm>
            <a:off x="-73080" y="-315360"/>
            <a:ext cx="9253080" cy="7173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871920" y="1268640"/>
            <a:ext cx="7408080" cy="48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)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 Конкуренты на выбранных туристических направлениях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2)Конкуренты в радиусе: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здания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района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города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страны (если необходимо).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) Преимущественные конкурентные качества будущей турфирмы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49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3)Конкурентная среда</a:t>
            </a:r>
            <a:endParaRPr b="0" lang="ru-RU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3" descr=""/>
          <p:cNvPicPr/>
          <p:nvPr/>
        </p:nvPicPr>
        <p:blipFill>
          <a:blip r:embed="rId1"/>
          <a:stretch/>
        </p:blipFill>
        <p:spPr>
          <a:xfrm>
            <a:off x="-36360" y="0"/>
            <a:ext cx="9216720" cy="6957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71920" y="1124640"/>
            <a:ext cx="7408080" cy="500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)Персонал: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штатное расписание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политика формирования заработной платы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обучение персонала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2)Технология продаж туров: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поиск и бронирование туров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схема взаимодействия с партнерами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оформление оплаты туров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документооборот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доставка и выдача документов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3) Ассортимент услуг туристического агентства: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по сезонам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по направлениям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по странам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по цене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по целевой аудитории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85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4) Производный план</a:t>
            </a:r>
            <a:endParaRPr b="0" lang="ru-RU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3900">
        <p14:glitter dir="l" pattern="hexagon"/>
      </p:transition>
    </mc:Choice>
    <mc:Fallback>
      <p:transition spd="slow">
        <p:fade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3" descr=""/>
          <p:cNvPicPr/>
          <p:nvPr/>
        </p:nvPicPr>
        <p:blipFill>
          <a:blip r:embed="rId1"/>
          <a:stretch/>
        </p:blipFill>
        <p:spPr>
          <a:xfrm>
            <a:off x="-36360" y="0"/>
            <a:ext cx="9288720" cy="6857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871920" y="692640"/>
            <a:ext cx="7408080" cy="61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1) Ценовая политика турагентства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2) Название турфирмы, рекламная история создания (легенда)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3) Особенности продаваемых туров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4)Разработка фирменного стиля: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подрядчик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перечень необходимых позиций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стоимость и сроки выполнения работ.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5)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Создание интернет-сайта: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концепция и функции сайта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подрядчик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стоимость и сроки выполнения работ.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6)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Оформление офиса для продаж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7) Наружная реклама: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вывеска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штендер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указатели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табличка с режимом работы и реквизитами компании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8)Полиграфическая продукция (описание, тираж, подрядчик, сроки изготовления, стоимость):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буклет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визитные карточки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фирменные бланки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9)Презентация при открытии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10) Рекламный план: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размер бюджета на 3 мес., 6 мес., 12 мес.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рекламные средства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11) Структура и правила ведения клиентской базы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11640" y="116640"/>
            <a:ext cx="822924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5)План маркетинга и рекламы</a:t>
            </a:r>
            <a:endParaRPr b="0" lang="ru-RU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12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3" descr=""/>
          <p:cNvPicPr/>
          <p:nvPr/>
        </p:nvPicPr>
        <p:blipFill>
          <a:blip r:embed="rId1"/>
          <a:stretch/>
        </p:blipFill>
        <p:spPr>
          <a:xfrm>
            <a:off x="-78840" y="-99360"/>
            <a:ext cx="9288720" cy="6957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831960" y="1340640"/>
            <a:ext cx="74080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1)Правовая форма юридического лица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2) Система налогообложения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3) Оформление договора аренды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4) Необходимые разрешительные документы в зависимости от вида туристической деятельности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5)Регистрация товарного знака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6) Покупка и оформление контрольно-кассовой техники (при необходимости)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7) Заказ бланков строгой отчетности «Туристская путевка»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8) Ведение бухгалтерского учета (самостоятельно, с привлечением бухгалтера, консалтинговая компания)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9) Юридическое сопровождение деятельности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60640"/>
            <a:ext cx="8229240" cy="9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6)Юридические  аспекты компании</a:t>
            </a:r>
            <a:endParaRPr b="0" lang="ru-RU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11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6" descr=""/>
          <p:cNvPicPr/>
          <p:nvPr/>
        </p:nvPicPr>
        <p:blipFill>
          <a:blip r:embed="rId1"/>
          <a:stretch/>
        </p:blipFill>
        <p:spPr>
          <a:xfrm>
            <a:off x="-98280" y="-43200"/>
            <a:ext cx="9252000" cy="69721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7. Финансовый план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)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 Источники средств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2)Размер и срок капиталовложений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3) План первоначальных расходов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4) План постоянных расходов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5) План доходов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6) План окупаемости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7)Финансовый план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3640" y="116640"/>
            <a:ext cx="8280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Примерные расходы на создание туристического агентства в г. Москве: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795636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ndara"/>
              </a:rPr>
              <a:t>1.  Регистрация юридического лица и оформление необходимых разрешительных документов для тур агентской деятельности: 20 000–25 000</a:t>
            </a:r>
            <a:endParaRPr b="0" lang="ru-RU" sz="2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ndara"/>
              </a:rPr>
              <a:t>2.Мебель и подготовка офиса к продажам: 50 000–100 000</a:t>
            </a:r>
            <a:endParaRPr b="0" lang="ru-RU" sz="2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ndara"/>
              </a:rPr>
              <a:t>3.Оргтехника и средства связи 100 000–150 000</a:t>
            </a:r>
            <a:endParaRPr b="0" lang="ru-RU" sz="2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ndara"/>
              </a:rPr>
              <a:t>4.Разработка фирменного стиля 15 000–25 000</a:t>
            </a:r>
            <a:endParaRPr b="0" lang="ru-RU" sz="2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ndara"/>
              </a:rPr>
              <a:t>5.Разработка и регистрация сайта 20 000–45 000</a:t>
            </a:r>
            <a:endParaRPr b="0" lang="ru-RU" sz="2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ndara"/>
              </a:rPr>
              <a:t>6.Регистрация товарного знака 30 000–50 000</a:t>
            </a:r>
            <a:endParaRPr b="0" lang="ru-RU" sz="2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ndara"/>
              </a:rPr>
              <a:t>7.Обучение сотрудников 5000–30 000</a:t>
            </a:r>
            <a:endParaRPr b="0" lang="ru-RU" sz="2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ndara"/>
              </a:rPr>
              <a:t>8.Дополнительные возможные расходы</a:t>
            </a:r>
            <a:endParaRPr b="0" lang="ru-RU" sz="2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ndara"/>
              </a:rPr>
              <a:t>9.Покупка готового туристического бизнеса, оплата юридических услуг по сопровождению сделки </a:t>
            </a:r>
            <a:br>
              <a:rPr sz="2600"/>
            </a:br>
            <a:r>
              <a:rPr b="0" lang="ru-RU" sz="2600" spc="-1" strike="noStrike">
                <a:solidFill>
                  <a:srgbClr val="ffff00"/>
                </a:solidFill>
                <a:latin typeface="Candara"/>
              </a:rPr>
              <a:t>Оплата услуг по подбору помещения </a:t>
            </a:r>
            <a:br>
              <a:rPr sz="2600"/>
            </a:br>
            <a:r>
              <a:rPr b="0" lang="ru-RU" sz="2600" spc="-1" strike="noStrike">
                <a:solidFill>
                  <a:srgbClr val="ffff00"/>
                </a:solidFill>
                <a:latin typeface="Candara"/>
              </a:rPr>
              <a:t>Оплата услуг по подбору персонала </a:t>
            </a:r>
            <a:br>
              <a:rPr sz="2600"/>
            </a:br>
            <a:r>
              <a:rPr b="0" lang="ru-RU" sz="2600" spc="-1" strike="noStrike">
                <a:solidFill>
                  <a:srgbClr val="ffff00"/>
                </a:solidFill>
                <a:latin typeface="Candara"/>
              </a:rPr>
              <a:t>Оплата услуг по подключению </a:t>
            </a:r>
            <a:br>
              <a:rPr sz="2600"/>
            </a:br>
            <a:r>
              <a:rPr b="0" lang="ru-RU" sz="2600" spc="-1" strike="noStrike">
                <a:solidFill>
                  <a:srgbClr val="ffff00"/>
                </a:solidFill>
                <a:latin typeface="Candara"/>
              </a:rPr>
              <a:t>Интернета и дополнительных телефонных линий </a:t>
            </a:r>
            <a:br>
              <a:rPr sz="2600"/>
            </a:br>
            <a:r>
              <a:rPr b="0" lang="ru-RU" sz="2600" spc="-1" strike="noStrike">
                <a:solidFill>
                  <a:srgbClr val="ffff00"/>
                </a:solidFill>
                <a:latin typeface="Candara"/>
              </a:rPr>
              <a:t>Оплата услуг консалтинговой компании</a:t>
            </a:r>
            <a:endParaRPr b="0" lang="ru-RU" sz="2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ndara"/>
              </a:rPr>
              <a:t>10 Стоимость туров даже в одной категории отелей разная, и выбор туристов не всегда падает на 3* уровень размещения. Поэтому, чтобы сделать план доходов, необходимо проанализировать цены сезона на выбранные направления с данными 3*, 4*, 5* отелей и сопоставить с ожидаемой суммой доходов </a:t>
            </a:r>
            <a:endParaRPr b="0" lang="ru-RU" sz="2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4000">
        <p14:vortex/>
      </p:transition>
    </mc:Choice>
    <mc:Fallback>
      <p:transition spd="slow">
        <p:fade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7640" y="908640"/>
            <a:ext cx="8856720" cy="594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1.Примерный план ежемесячных расходов туристической компании в г. Москве (руб.)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ru-RU" sz="3500" spc="-1" strike="noStrike">
                <a:solidFill>
                  <a:srgbClr val="ffff00"/>
                </a:solidFill>
                <a:latin typeface="Candara"/>
              </a:rPr>
              <a:t>2.Офис и инфраструктура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3.Аренда помещения 25 м2 - 50 000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4.Услуги связи 3000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5.Интернет 5000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6.Вода (кулер) 500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7.Канцелярские товары 2500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8.Прочие административные расходы 6000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ru-RU" sz="3500" spc="-1" strike="noStrike">
                <a:solidFill>
                  <a:srgbClr val="ffff00"/>
                </a:solidFill>
                <a:latin typeface="Candara"/>
              </a:rPr>
              <a:t>9.Заработная плата персонала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Директор 35 000 + % </a:t>
            </a:r>
            <a:br>
              <a:rPr sz="3500"/>
            </a:b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Менеджер 19 000 + % </a:t>
            </a:r>
            <a:br>
              <a:rPr sz="3500"/>
            </a:b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Менеджер 16 000 + % </a:t>
            </a:r>
            <a:br>
              <a:rPr sz="3500"/>
            </a:b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Секретарь-менеджер 12 000 + % </a:t>
            </a:r>
            <a:br>
              <a:rPr sz="3500"/>
            </a:b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Курьер 16 000 </a:t>
            </a:r>
            <a:br>
              <a:rPr sz="3500"/>
            </a:b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Бухгалтер (аутсорсинг) 10 000 </a:t>
            </a:r>
            <a:br>
              <a:rPr sz="3500"/>
            </a:b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Уборщица 3000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ru-RU" sz="3500" spc="-1" strike="noStrike">
                <a:solidFill>
                  <a:srgbClr val="ffff00"/>
                </a:solidFill>
                <a:latin typeface="Candara"/>
              </a:rPr>
              <a:t>10.Рекламный бюджет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11.Полиграфия 5000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12.Реклама в Интернете 15 000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13Реклама в прессе 15 000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14.Другие СМИ 10 000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ru-RU" sz="3500" spc="-1" strike="noStrike">
                <a:solidFill>
                  <a:srgbClr val="ffff00"/>
                </a:solidFill>
                <a:latin typeface="Candara"/>
              </a:rPr>
              <a:t>15.Плановые ежеквартальные расходы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16.Юридическое абонентское обслуживание 7000 руб. мес. </a:t>
            </a:r>
            <a:br>
              <a:rPr sz="3500"/>
            </a:b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Оплата системы онлайн-бронирования и поиска туров 1200 руб./мес. </a:t>
            </a:r>
            <a:br>
              <a:rPr sz="3500"/>
            </a:b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Заправка картриджей 400 руб./мес.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ru-RU" sz="3500" spc="-1" strike="noStrike">
                <a:solidFill>
                  <a:srgbClr val="ffff00"/>
                </a:solidFill>
                <a:latin typeface="Candara"/>
              </a:rPr>
              <a:t>17.Непредвиденные расходы 10 000 руб.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ru-RU" sz="3500" spc="-1" strike="noStrike">
                <a:solidFill>
                  <a:srgbClr val="ffff00"/>
                </a:solidFill>
                <a:latin typeface="Candara"/>
              </a:rPr>
              <a:t>18.Итого 241 500 руб. + процент к з/п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67640" y="0"/>
            <a:ext cx="822924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Примерный план ежемесячных расходов туристической компании в г. Москве (руб.)</a:t>
            </a:r>
            <a:br>
              <a:rPr sz="4400"/>
            </a:br>
            <a:endParaRPr b="0" lang="ru-RU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3900">
        <p14:glitter dir="l" pattern="hexagon"/>
      </p:transition>
    </mc:Choice>
    <mc:Fallback>
      <p:transition spd="slow">
        <p:fade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8928720" cy="60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281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400" spc="-1" strike="noStrike">
                <a:solidFill>
                  <a:srgbClr val="ffff00"/>
                </a:solidFill>
                <a:latin typeface="Candara"/>
              </a:rPr>
              <a:t>1. После отмены лицензирования туроператорской и турагентской деятельности в 2007 г. обязательный государственный порядок установлен только для туроператорской деятельности. Турагентской деятельностью может заниматься любое юридическое лицо или индивидуальный предприниматель. Единственное, что определяет статус тур-агента на сегодняшний день, — это наличие договора с туроператором, согласно которому тур-агент по поручению и за счет туроператора реализует турпродукт, сформированный туроператором. При этом тур-агент обязан соблюдать целый ряд требований, установленных законом, о которых мы расскажем ниже.</a:t>
            </a:r>
            <a:endParaRPr b="0" lang="ru-RU" sz="14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281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400" spc="-1" strike="noStrike">
                <a:solidFill>
                  <a:srgbClr val="ffff00"/>
                </a:solidFill>
                <a:latin typeface="Candara"/>
              </a:rPr>
              <a:t>Но в первую очередь необходимо выяснить, почему так важно понимать отличие турагентской деятельности от тур операторской и вовремя совершать необходимые юридические действия. Дело в том, что закон устанавливает обязательное требование — все туроператоры, зарегистрированные на территории Российской Федерации, обязаны иметь финансовое обеспечение. Финансовое обеспечение — это гарантия туроператора на случай неисполнения или ненадлежащего исполнения договора о реализации тур продукта, страхование его гражданской ответственности перед потребителями туристами.</a:t>
            </a:r>
            <a:endParaRPr b="0" lang="ru-RU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Candara"/>
              </a:rPr>
              <a:t>2.Из средств финансового обеспечения пострадавшим туристам возмещается реальный ущерб, который они по несли, например стоимость тура, если он не состоялся, или разница в стоимости, если сократилось время отдыха. Финансовое обеспечение предоставляет страховая компания или банк-гарант. Закон устанавливает минимальную сумму, на которую должен быть заключен договор страхования или договор банковской гарантии; на сегодняшний день это 10 000 000 руб. для международного туризма (въезда  выезд) и 500 000 руб. для внутреннего туризма.</a:t>
            </a:r>
            <a:endParaRPr b="0" lang="ru-RU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Candara"/>
              </a:rPr>
              <a:t>3.Затраты на обслуживание финансового обеспечения в среднем составляют 1–1,5% в год от размера обеспечения. </a:t>
            </a:r>
            <a:br>
              <a:rPr sz="1400"/>
            </a:br>
            <a:endParaRPr b="0" lang="ru-RU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Candara"/>
              </a:rPr>
              <a:t>4.Например, от минимального размера финансового обеспечения для международного туризма в 10 000 000 руб. стоимость страхового вознаграждения составит 100 000–150 000 руб. Именно эту сумму необходимо будет ежегодно платить страховой компании за договор страхования гражданской ответственности туроператора.</a:t>
            </a:r>
            <a:endParaRPr b="0" lang="ru-RU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Candara"/>
              </a:rPr>
              <a:t>5.Договорная схема работы тур-агента при реализации туров выглядит примерно следующим образом:</a:t>
            </a:r>
            <a:endParaRPr b="0" lang="ru-RU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ndara"/>
              </a:rPr>
              <a:t>; </a:t>
            </a:r>
            <a:br>
              <a:rPr sz="1400"/>
            </a:br>
            <a:br>
              <a:rPr sz="700"/>
            </a:br>
            <a:endParaRPr b="0" lang="ru-RU" sz="1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539640" y="692640"/>
            <a:ext cx="8229240" cy="2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1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700" spc="-1" strike="noStrike">
                <a:solidFill>
                  <a:srgbClr val="ffffff"/>
                </a:solidFill>
                <a:latin typeface="Candara"/>
              </a:rPr>
              <a:t>Выбор статуса тур-компании. Туроператор или турагентства </a:t>
            </a:r>
            <a:br>
              <a:rPr sz="4400"/>
            </a:br>
            <a:endParaRPr b="0" lang="ru-RU" sz="27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4400">
        <p14:honeycomb/>
      </p:transition>
    </mc:Choice>
    <mc:Fallback>
      <p:transition spd="slow">
        <p:fade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3" descr=""/>
          <p:cNvPicPr/>
          <p:nvPr/>
        </p:nvPicPr>
        <p:blipFill>
          <a:blip r:embed="rId1"/>
          <a:stretch/>
        </p:blipFill>
        <p:spPr>
          <a:xfrm>
            <a:off x="-13320" y="-172440"/>
            <a:ext cx="9143640" cy="7029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27640" y="0"/>
            <a:ext cx="7408080" cy="695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br>
              <a:rPr sz="2500"/>
            </a:br>
            <a:r>
              <a:rPr b="0" lang="ru-RU" sz="2800" spc="-1" strike="noStrike">
                <a:solidFill>
                  <a:srgbClr val="ffff00"/>
                </a:solidFill>
                <a:latin typeface="Candara"/>
              </a:rPr>
              <a:t>6.¦ туроператор заключает с тур-агентом агентский (комиссионный) договор, согласно которому агенту поручается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Candara"/>
              </a:rPr>
              <a:t>реализовывать (продавать) туры, сформированные туроператором, за вознаграждение; 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Candara"/>
              </a:rPr>
              <a:t>7. тур-агент привлекает клиента (туриста) и заключает с ним договор о реализации туристского продукта, полу# 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Candara"/>
              </a:rPr>
              <a:t>чает документы, необходимые для оформления тура; 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Candara"/>
              </a:rPr>
              <a:t>8.тур-агент направляет туроператору заявку на бронирование конкретных тур-услуг для клиента (туриста), —  даты, количество и данные туристов, отель, уровень перевозки, экскурсии и прочие составляющие тура; </a:t>
            </a:r>
            <a:br>
              <a:rPr sz="3200"/>
            </a:br>
            <a:r>
              <a:rPr b="0" lang="ru-RU" sz="2500" spc="-1" strike="noStrike">
                <a:solidFill>
                  <a:srgbClr val="ffff00"/>
                </a:solidFill>
                <a:latin typeface="Candara"/>
              </a:rPr>
              <a:t>9. туроператор подтверждает заявку тур-агента и выставляет счет на оплату; </a:t>
            </a:r>
            <a:br>
              <a:rPr sz="2500"/>
            </a:br>
            <a:r>
              <a:rPr b="0" lang="ru-RU" sz="2500" spc="-1" strike="noStrike">
                <a:solidFill>
                  <a:srgbClr val="ffff00"/>
                </a:solidFill>
                <a:latin typeface="Candara"/>
              </a:rPr>
              <a:t>10.Тур-агент передает туроператору документы (или сведения), необходимые для оформления тура (например, </a:t>
            </a:r>
            <a:br>
              <a:rPr sz="2500"/>
            </a:br>
            <a:r>
              <a:rPr b="0" lang="ru-RU" sz="2500" spc="-1" strike="noStrike">
                <a:solidFill>
                  <a:srgbClr val="ffff00"/>
                </a:solidFill>
                <a:latin typeface="Candara"/>
              </a:rPr>
              <a:t>на визу); </a:t>
            </a:r>
            <a:br>
              <a:rPr sz="2500"/>
            </a:br>
            <a:r>
              <a:rPr b="0" lang="ru-RU" sz="2500" spc="-1" strike="noStrike">
                <a:solidFill>
                  <a:srgbClr val="ffff00"/>
                </a:solidFill>
                <a:latin typeface="Candara"/>
              </a:rPr>
              <a:t>11. тур-агент принимает окончательную оплату от туриста (при наличном расчете выдает кассовый чек или бланк </a:t>
            </a:r>
            <a:br>
              <a:rPr sz="2500"/>
            </a:br>
            <a:r>
              <a:rPr b="0" lang="ru-RU" sz="2500" spc="-1" strike="noStrike">
                <a:solidFill>
                  <a:srgbClr val="ffff00"/>
                </a:solidFill>
                <a:latin typeface="Candara"/>
              </a:rPr>
              <a:t>строгой отчетности); </a:t>
            </a:r>
            <a:br>
              <a:rPr sz="2500"/>
            </a:br>
            <a:endParaRPr b="0" lang="ru-RU" sz="2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500" spc="-1" strike="noStrike">
                <a:solidFill>
                  <a:srgbClr val="ffff00"/>
                </a:solidFill>
                <a:latin typeface="Candara"/>
              </a:rPr>
              <a:t>12. тур-агент производит оплату туроператору за вычетом причитающегося ему вознаграждения (безналичным </a:t>
            </a:r>
            <a:br>
              <a:rPr sz="2500"/>
            </a:br>
            <a:r>
              <a:rPr b="0" lang="ru-RU" sz="2500" spc="-1" strike="noStrike">
                <a:solidFill>
                  <a:srgbClr val="ffff00"/>
                </a:solidFill>
                <a:latin typeface="Candara"/>
              </a:rPr>
              <a:t>банковским переводом или наличными в кассу туроператора); </a:t>
            </a:r>
            <a:br>
              <a:rPr sz="2500"/>
            </a:br>
            <a:r>
              <a:rPr b="0" lang="ru-RU" sz="2500" spc="-1" strike="noStrike">
                <a:solidFill>
                  <a:srgbClr val="ffff00"/>
                </a:solidFill>
                <a:latin typeface="Candara"/>
              </a:rPr>
              <a:t>13. туроператор выдает тур-агенту документы по туру, необходимые туристу для совершения путешествия; </a:t>
            </a:r>
            <a:br>
              <a:rPr sz="2500"/>
            </a:br>
            <a:r>
              <a:rPr b="0" lang="ru-RU" sz="2500" spc="-1" strike="noStrike">
                <a:solidFill>
                  <a:srgbClr val="ffff00"/>
                </a:solidFill>
                <a:latin typeface="Candara"/>
              </a:rPr>
              <a:t>14.тур-агент выдает туристу документы по туру и всю необходимую информацию туристу; </a:t>
            </a:r>
            <a:br>
              <a:rPr sz="2500"/>
            </a:br>
            <a:r>
              <a:rPr b="0" lang="ru-RU" sz="2500" spc="-1" strike="noStrike">
                <a:solidFill>
                  <a:srgbClr val="ffff00"/>
                </a:solidFill>
                <a:latin typeface="Candara"/>
              </a:rPr>
              <a:t>15. тур-агент отчитывается перед туроператором — направляет отчет агента (акт) с указанием суммы продажи тура </a:t>
            </a:r>
            <a:br>
              <a:rPr sz="2500"/>
            </a:br>
            <a:r>
              <a:rPr b="0" lang="ru-RU" sz="2500" spc="-1" strike="noStrike">
                <a:solidFill>
                  <a:srgbClr val="ffff00"/>
                </a:solidFill>
                <a:latin typeface="Candara"/>
              </a:rPr>
              <a:t>и суммы вознаграждения; </a:t>
            </a:r>
            <a:br>
              <a:rPr sz="2500"/>
            </a:br>
            <a:r>
              <a:rPr b="0" lang="ru-RU" sz="2500" spc="-1" strike="noStrike">
                <a:solidFill>
                  <a:srgbClr val="ffff00"/>
                </a:solidFill>
                <a:latin typeface="Candara"/>
              </a:rPr>
              <a:t>16. туроператор подписывает отчет агента и выписывает счет-фактуру на услуги, оказанные по агентскому договору.</a:t>
            </a:r>
            <a:endParaRPr b="0" lang="ru-RU" sz="2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9640" y="1703520"/>
            <a:ext cx="7408080" cy="467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ndara"/>
              </a:rPr>
              <a:t>Оптимальный штат небольшой туристической компании выглядит примерно так: 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ndara"/>
              </a:rPr>
              <a:t>¦ руководитель; 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ndara"/>
              </a:rPr>
              <a:t>¦ менеджер1; 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ndara"/>
              </a:rPr>
              <a:t>¦ менеджер2; 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ndara"/>
              </a:rPr>
              <a:t>¦ секретарь с расширенным кругом обязанностей; 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ndara"/>
              </a:rPr>
              <a:t>¦ курьер; 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ndara"/>
              </a:rPr>
              <a:t>¦ бухгалтеркассир; 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ndara"/>
              </a:rPr>
              <a:t>¦ уборщица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Штат туристической компании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Объект 3" descr=""/>
          <p:cNvPicPr/>
          <p:nvPr/>
        </p:nvPicPr>
        <p:blipFill>
          <a:blip r:embed="rId1"/>
          <a:stretch/>
        </p:blipFill>
        <p:spPr>
          <a:xfrm>
            <a:off x="7560" y="-756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1142280" y="0"/>
            <a:ext cx="69843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9600" spc="-1" strike="noStrike">
                <a:solidFill>
                  <a:srgbClr val="000000"/>
                </a:solidFill>
                <a:latin typeface="Candara"/>
              </a:rPr>
              <a:t>Наш девиз: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4400">
        <p14:honeycomb/>
      </p:transition>
    </mc:Choice>
    <mc:Fallback>
      <p:transition spd="slow">
        <p:fade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7640" y="908640"/>
            <a:ext cx="8856720" cy="594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0000"/>
          </a:bodyPr>
          <a:p>
            <a:pPr indent="0">
              <a:lnSpc>
                <a:spcPct val="100000"/>
              </a:lnSpc>
              <a:spcBef>
                <a:spcPts val="1120"/>
              </a:spcBef>
              <a:buNone/>
              <a:tabLst>
                <a:tab algn="l" pos="0"/>
              </a:tabLst>
            </a:pP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Тур считается проданным при 100%ной его оплате. </a:t>
            </a:r>
            <a:br>
              <a:rPr sz="5600"/>
            </a:b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1.Беспроцентная система: оклад 22 000–30 000 руб.</a:t>
            </a:r>
            <a:endParaRPr b="0" lang="ru-RU" sz="5600" spc="-1" strike="noStrike">
              <a:solidFill>
                <a:srgbClr val="073e87"/>
              </a:solidFill>
              <a:latin typeface="Candara"/>
            </a:endParaRPr>
          </a:p>
          <a:p>
            <a:pPr marL="219240" indent="-219240">
              <a:lnSpc>
                <a:spcPct val="100000"/>
              </a:lnSpc>
              <a:spcBef>
                <a:spcPts val="1120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2. Оклад + проценты: </a:t>
            </a:r>
            <a:br>
              <a:rPr sz="5600"/>
            </a:b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• Оклад 10 000–15 000 руб. + 10% от проданных менеджером туров. </a:t>
            </a:r>
            <a:br>
              <a:rPr sz="5600"/>
            </a:b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• Оклад 15 000 + 10% после реализации туров более чем на 150 000 руб. </a:t>
            </a:r>
            <a:br>
              <a:rPr sz="5600"/>
            </a:b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• Оклад 15 000 + 10% от выручки с проданных туров, разделенных между всеми менеджерами. </a:t>
            </a:r>
            <a:br>
              <a:rPr sz="5600"/>
            </a:b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• Оклад 18 000–20 000 руб. + 5% от проданных менеджером туров. </a:t>
            </a:r>
            <a:br>
              <a:rPr sz="5600"/>
            </a:b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• Оклад 18 000–20 000 руб. + 10% от всех проданных туров, разделенных между всеми менеджерами.</a:t>
            </a:r>
            <a:endParaRPr b="0" lang="ru-RU" sz="5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1120"/>
              </a:spcBef>
              <a:buNone/>
              <a:tabLst>
                <a:tab algn="l" pos="0"/>
              </a:tabLst>
            </a:pP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3. Плановая система: фиксированная заработная плата выплачивается при выполнении плана; например, от 50 000 руб. (имеется в виду доход компании, а не общая стоимостьтуров). При перевыполнении плана свыше 50 000 руб. + 10%, более 100 000 руб. + 15%, более 250 000 + 20%.</a:t>
            </a:r>
            <a:endParaRPr b="0" lang="ru-RU" sz="5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1120"/>
              </a:spcBef>
              <a:buNone/>
              <a:tabLst>
                <a:tab algn="l" pos="0"/>
              </a:tabLst>
            </a:pP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4.В период низкого сезона (январь, февраль, май, июнь) план составляет 50%. При этом выплачивается прежняя фиксированная заработная плата.</a:t>
            </a:r>
            <a:endParaRPr b="0" lang="ru-RU" sz="5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1120"/>
              </a:spcBef>
              <a:buNone/>
              <a:tabLst>
                <a:tab algn="l" pos="0"/>
              </a:tabLst>
            </a:pP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5.При невыполнении плана, за исключением низкого сезона, работает система штрафов:</a:t>
            </a:r>
            <a:endParaRPr b="0" lang="ru-RU" sz="5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1120"/>
              </a:spcBef>
              <a:buNone/>
              <a:tabLst>
                <a:tab algn="l" pos="0"/>
              </a:tabLst>
            </a:pP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6. первый месяц — без штрафов, требуется анализ причин, связанных с уменьшением объема продаж; </a:t>
            </a:r>
            <a:br>
              <a:rPr sz="5600"/>
            </a:b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7.второй месяц и далее: 40 000–49 000 руб. – 10% удерживается от фиксированной оплаты (30 000–39 000 руб. – 20%; 20000–29 000 руб. – 30%).</a:t>
            </a:r>
            <a:endParaRPr b="0" lang="ru-RU" sz="5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1120"/>
              </a:spcBef>
              <a:buNone/>
              <a:tabLst>
                <a:tab algn="l" pos="0"/>
              </a:tabLst>
            </a:pP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8.Первые месяцы после открытия офиса туристического агентства плановая система расчета заработной платы, как правило, не применяется.</a:t>
            </a:r>
            <a:endParaRPr b="0" lang="ru-RU" sz="5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1120"/>
              </a:spcBef>
              <a:buNone/>
              <a:tabLst>
                <a:tab algn="l" pos="0"/>
              </a:tabLst>
            </a:pPr>
            <a:r>
              <a:rPr b="1" lang="ru-RU" sz="5600" spc="-1" strike="noStrike">
                <a:solidFill>
                  <a:srgbClr val="ffff00"/>
                </a:solidFill>
                <a:latin typeface="Candara"/>
              </a:rPr>
              <a:t>Варианты расчета заработной платы курьера туристической компании</a:t>
            </a:r>
            <a:endParaRPr b="0" lang="ru-RU" sz="5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1120"/>
              </a:spcBef>
              <a:buNone/>
              <a:tabLst>
                <a:tab algn="l" pos="0"/>
              </a:tabLst>
            </a:pPr>
            <a:br>
              <a:rPr sz="5600"/>
            </a:b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1. Оклад 12 000–15 000 руб., оплата проездного билета, мобильного телефона, режим работы: понедельник—пятница.</a:t>
            </a:r>
            <a:endParaRPr b="0" lang="ru-RU" sz="5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1120"/>
              </a:spcBef>
              <a:buNone/>
              <a:tabLst>
                <a:tab algn="l" pos="0"/>
              </a:tabLst>
            </a:pP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2.Оклад 15 000–20 000 руб., оплата проездного билета, мобильного телефона, режим работы: понедельник— суббота.</a:t>
            </a:r>
            <a:endParaRPr b="0" lang="ru-RU" sz="5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1120"/>
              </a:spcBef>
              <a:buNone/>
              <a:tabLst>
                <a:tab algn="l" pos="0"/>
              </a:tabLst>
            </a:pP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Во время высокого сезона и увеличения объема продаж курьерам принято давать премию 20–30% от оклада. Курьер — важный сотрудник туристического агентства, поэтому лучше вовремя доплатить, выписать премиальные и работать спокойно.</a:t>
            </a:r>
            <a:endParaRPr b="0" lang="ru-RU" sz="5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1120"/>
              </a:spcBef>
              <a:buNone/>
              <a:tabLst>
                <a:tab algn="l" pos="0"/>
              </a:tabLst>
            </a:pP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На рынке можно встретить предложения от курьерских компаний, которые доставляют документы в любую точку </a:t>
            </a:r>
            <a:br>
              <a:rPr sz="5600"/>
            </a:b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города, они заключают официальный договор, несут полную финансовую ответственность за денежные средства и документы в </a:t>
            </a:r>
            <a:r>
              <a:rPr b="0" lang="ru-RU" sz="3700" spc="-1" strike="noStrike">
                <a:solidFill>
                  <a:srgbClr val="073e87"/>
                </a:solidFill>
                <a:latin typeface="Candara"/>
              </a:rPr>
              <a:t>посылке.</a:t>
            </a:r>
            <a:endParaRPr b="0" lang="ru-RU" sz="37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br>
              <a:rPr sz="2400"/>
            </a:b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240" cy="9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ffffff"/>
                </a:solidFill>
                <a:latin typeface="Candara"/>
              </a:rPr>
              <a:t>Варианты расчета заработной платы менеджера по туризму</a:t>
            </a:r>
            <a:endParaRPr b="0" lang="ru-RU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71920" y="1484640"/>
            <a:ext cx="7408080" cy="464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1" lang="ru-RU" sz="2400" spc="-1" strike="noStrike">
                <a:solidFill>
                  <a:srgbClr val="ffff00"/>
                </a:solidFill>
                <a:latin typeface="Candara"/>
              </a:rPr>
              <a:t>Варианты расчета заработной платы директора туристической компании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ndara"/>
              </a:rPr>
              <a:t>1. Оклад 20 000–40 000 руб. 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ndara"/>
              </a:rPr>
              <a:t>2. Оклад 18 000–20 000 руб. + 1–5% от месячного дохода 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ndara"/>
              </a:rPr>
              <a:t>агентства после вычета расходов. 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ndara"/>
              </a:rPr>
              <a:t>3. 12 000–15 000 руб. + 5–10% от месячного дохода после 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ndara"/>
              </a:rPr>
              <a:t>вычета расходов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700" spc="-1" strike="noStrike">
                <a:solidFill>
                  <a:srgbClr val="ffffff"/>
                </a:solidFill>
                <a:latin typeface="Candara"/>
              </a:rPr>
              <a:t>Варианты расчета заработной платы директора туристической компании</a:t>
            </a:r>
            <a:br>
              <a:rPr sz="4400"/>
            </a:br>
            <a:endParaRPr b="0" lang="ru-RU" sz="27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3900">
        <p14:glitter dir="l" pattern="hexagon"/>
      </p:transition>
    </mc:Choice>
    <mc:Fallback>
      <p:transition spd="slow">
        <p:fade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17" name="Объект 5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00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4000">
        <p14:vortex/>
      </p:transition>
    </mc:Choice>
    <mc:Fallback>
      <p:transition spd="slow">
        <p:fade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19" name="Объект 5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4000">
        <p14:vortex/>
      </p:transition>
    </mc:Choice>
    <mc:Fallback>
      <p:transition spd="slow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Объект 13" descr=""/>
          <p:cNvPicPr/>
          <p:nvPr/>
        </p:nvPicPr>
        <p:blipFill>
          <a:blip r:embed="rId1"/>
          <a:stretch/>
        </p:blipFill>
        <p:spPr>
          <a:xfrm>
            <a:off x="9360" y="-3384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7640" y="349920"/>
            <a:ext cx="6400440" cy="68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5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Мы  предлагаем незабываемый отдых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8892360" y="692640"/>
            <a:ext cx="251280" cy="125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-138600" y="1556640"/>
            <a:ext cx="943956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2060"/>
                </a:solidFill>
                <a:latin typeface="Candara"/>
              </a:rPr>
              <a:t>В странах Европы(Франция , Греция,Италия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2060"/>
                </a:solidFill>
                <a:latin typeface="Candara"/>
              </a:rPr>
              <a:t>      </a:t>
            </a:r>
            <a:r>
              <a:rPr b="0" lang="ru-RU" sz="3200" spc="-1" strike="noStrike">
                <a:solidFill>
                  <a:srgbClr val="002060"/>
                </a:solidFill>
                <a:latin typeface="Candara"/>
              </a:rPr>
              <a:t>Азии(Китай, Япония,Турция…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2060"/>
                </a:solidFill>
                <a:latin typeface="Candara"/>
              </a:rPr>
              <a:t>          </a:t>
            </a:r>
            <a:r>
              <a:rPr b="0" lang="ru-RU" sz="3200" spc="-1" strike="noStrike">
                <a:solidFill>
                  <a:srgbClr val="002060"/>
                </a:solidFill>
                <a:latin typeface="Candara"/>
              </a:rPr>
              <a:t>Америки(Мексика,Бразилия,Канада…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2060"/>
                </a:solidFill>
                <a:latin typeface="Candara"/>
              </a:rPr>
              <a:t>            </a:t>
            </a:r>
            <a:r>
              <a:rPr b="0" lang="ru-RU" sz="3200" spc="-1" strike="noStrike">
                <a:solidFill>
                  <a:srgbClr val="002060"/>
                </a:solidFill>
                <a:latin typeface="Candara"/>
              </a:rPr>
              <a:t>Африки(Египет,ЮАР,Нигерия </a:t>
            </a:r>
            <a:r>
              <a:rPr b="0" lang="ru-RU" sz="3200" spc="-1" strike="noStrike">
                <a:solidFill>
                  <a:srgbClr val="ff0000"/>
                </a:solidFill>
                <a:latin typeface="Candara"/>
              </a:rPr>
              <a:t>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4400">
        <p14:honeycomb/>
      </p:transition>
    </mc:Choice>
    <mc:Fallback>
      <p:transition spd="slow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Объект 3" descr=""/>
          <p:cNvPicPr/>
          <p:nvPr/>
        </p:nvPicPr>
        <p:blipFill>
          <a:blip r:embed="rId1"/>
          <a:stretch/>
        </p:blipFill>
        <p:spPr>
          <a:xfrm>
            <a:off x="9360" y="-5184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591200"/>
            <a:ext cx="3826440" cy="147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-218880" y="404640"/>
            <a:ext cx="68410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00"/>
                </a:solidFill>
                <a:latin typeface="Candara"/>
              </a:rPr>
              <a:t>Вы получите море удовольств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00"/>
                </a:solidFill>
                <a:latin typeface="Candara"/>
              </a:rPr>
              <a:t>          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Candara"/>
              </a:rPr>
              <a:t>и восхищени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6" descr=""/>
          <p:cNvPicPr/>
          <p:nvPr/>
        </p:nvPicPr>
        <p:blipFill>
          <a:blip r:embed="rId2"/>
          <a:stretch/>
        </p:blipFill>
        <p:spPr>
          <a:xfrm>
            <a:off x="611640" y="1154160"/>
            <a:ext cx="2232000" cy="214272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sp>
        <p:nvSpPr>
          <p:cNvPr id="68" name="TextBox 7"/>
          <p:cNvSpPr/>
          <p:nvPr/>
        </p:nvSpPr>
        <p:spPr>
          <a:xfrm>
            <a:off x="256680" y="3195720"/>
            <a:ext cx="6854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Candara"/>
              </a:rPr>
              <a:t>Ваш отдых будет незабываемы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9" descr=""/>
          <p:cNvPicPr/>
          <p:nvPr/>
        </p:nvPicPr>
        <p:blipFill>
          <a:blip r:embed="rId3"/>
          <a:stretch/>
        </p:blipFill>
        <p:spPr>
          <a:xfrm>
            <a:off x="4932000" y="3780360"/>
            <a:ext cx="3528000" cy="267264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36360" dir="11400479" dist="12429" rotWithShape="0">
              <a:srgbClr val="000000">
                <a:alpha val="33000"/>
              </a:srgbClr>
            </a:outerShdw>
          </a:effectLst>
          <a:scene3d>
            <a:camera prst="perspectiveContrastingLeftFacing">
              <a:rot lat="540000" lon="2100000" rev="0"/>
            </a:camera>
            <a:lightRig dir="t" rig="soft"/>
          </a:scene3d>
          <a:sp3d contourW="12700" prstMaterial="matte">
            <a:bevelT w="63500" h="50800"/>
            <a:contourClr>
              <a:srgbClr val="c0c0c0"/>
            </a:contourClr>
          </a:sp3d>
        </p:spPr>
      </p:pic>
    </p:spTree>
  </p:cSld>
  <mc:AlternateContent>
    <mc:Choice Requires="p14">
      <p:transition spd="slow" p14:dur="1200">
        <p:dissolve/>
      </p:transition>
    </mc:Choice>
    <mc:Fallback>
      <p:transition spd="slow">
        <p:dissolv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Объект 3" descr=""/>
          <p:cNvPicPr/>
          <p:nvPr/>
        </p:nvPicPr>
        <p:blipFill>
          <a:blip r:embed="rId1"/>
          <a:stretch/>
        </p:blipFill>
        <p:spPr>
          <a:xfrm>
            <a:off x="827640" y="1989000"/>
            <a:ext cx="7200360" cy="4464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Но как воплотить это в жизнь? 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876681219"/>
              </p:ext>
            </p:extLst>
          </p:nvPr>
        </p:nvGraphicFramePr>
        <p:xfrm>
          <a:off x="899640" y="2637000"/>
          <a:ext cx="7408440" cy="34509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Для этого нужен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«Бизнес план»: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49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ffffff"/>
                </a:solidFill>
                <a:latin typeface="Candara"/>
              </a:rPr>
              <a:t>1)Концепция туристического агентства:</a:t>
            </a:r>
            <a:endParaRPr b="0" lang="ru-RU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4" name="Объект 5"/>
          <p:cNvSpPr/>
          <p:nvPr/>
        </p:nvSpPr>
        <p:spPr>
          <a:xfrm>
            <a:off x="1800" y="0"/>
            <a:ext cx="9143640" cy="724500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4400">
        <p14:honeycomb/>
      </p:transition>
    </mc:Choice>
    <mc:Fallback>
      <p:transition spd="slow">
        <p:fad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49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ffffff"/>
                </a:solidFill>
                <a:latin typeface="Candara"/>
              </a:rPr>
              <a:t>1)Концепция туристического агентства:</a:t>
            </a:r>
            <a:endParaRPr b="0" lang="ru-RU" sz="2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76" name="Рисунок 4" descr=""/>
          <p:cNvPicPr/>
          <p:nvPr/>
        </p:nvPicPr>
        <p:blipFill>
          <a:blip r:embed="rId1"/>
          <a:stretch/>
        </p:blipFill>
        <p:spPr>
          <a:xfrm>
            <a:off x="-68400" y="-59400"/>
            <a:ext cx="9180000" cy="7029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1640" y="836640"/>
            <a:ext cx="8892000" cy="60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ndara"/>
              </a:rPr>
              <a:t>1. Концепция туристического агентства</a:t>
            </a: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 </a:t>
            </a:r>
            <a:r>
              <a:rPr b="0" i="1" lang="ru-RU" sz="1800" spc="-1" strike="noStrike">
                <a:solidFill>
                  <a:srgbClr val="002060"/>
                </a:solidFill>
                <a:latin typeface="Candara"/>
              </a:rPr>
              <a:t>Вид деятельности:</a:t>
            </a: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турагентство;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 2) </a:t>
            </a:r>
            <a:r>
              <a:rPr b="0" i="1" lang="ru-RU" sz="1800" spc="-1" strike="noStrike">
                <a:solidFill>
                  <a:srgbClr val="002060"/>
                </a:solidFill>
                <a:latin typeface="Candara"/>
              </a:rPr>
              <a:t>Дополнительные услуги:</a:t>
            </a: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продажа авиа и ж/д билетов;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услуги трансфера, заказ лимузинов;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оформление виз;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страхование;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подготовка документов для оформления загранпаспортов;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услуги индивидуального гида, сопровождающего;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услуги переводчика;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продажа путеводителей;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продажа сопутствующих товаров для путешествий;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реализация подарочных сертификатов;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бронирование и заказ столиков в ресторанах, билетов на мероприятия;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прокат туристического оборудования;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аренда автомобилей.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3) </a:t>
            </a:r>
            <a:r>
              <a:rPr b="0" i="1" lang="ru-RU" sz="1800" spc="-1" strike="noStrike">
                <a:solidFill>
                  <a:srgbClr val="002060"/>
                </a:solidFill>
                <a:latin typeface="Candara"/>
              </a:rPr>
              <a:t>Приоритетные туристические направления:</a:t>
            </a: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по типу туристического направления;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по стоимости туров;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по странам;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по виду туризма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14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4" descr=""/>
          <p:cNvPicPr/>
          <p:nvPr/>
        </p:nvPicPr>
        <p:blipFill>
          <a:blip r:embed="rId1"/>
          <a:stretch/>
        </p:blipFill>
        <p:spPr>
          <a:xfrm>
            <a:off x="-108360" y="-42840"/>
            <a:ext cx="9288720" cy="69004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07640" y="836640"/>
            <a:ext cx="8856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227880" indent="-2278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)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Местоположение офиса турфирмы: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центр; 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)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Статус офиса: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аренда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собственное помещение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)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Тип офиса: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витринный офис на первой линии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в бизнес-центре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в административном офисном здании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в торговом центре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27880" indent="-2278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3)Размер офиса: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два рабочих места, три пять рабочих мест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однокомнатный, двухкомнатный, трехкомнатный, более трех комнат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свободной планировки (количество метров).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) 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Мебель для офиса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(калькуляция стоимости): столы с приемными местами, кресла для сотрудников, стулья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для посетителей, тумбочки с ключами, стеллаж для каталогов, шкаф для одежды, вешалки, вешалка -стойка,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доска для информации и специальных предложений, диван для посетителей, журнальный столик, сейф, жалюзи, зеркало, посуда (для сотрудников, для приема посетителей), рамки для фотографий и разрешительных документов, растения.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) 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Оборудование для офиса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(калькуляция стоимости): компьютеры, телефоны, факс, принтеры (2 шт. минимум), сканер, ксерокс, телевизор, CD и DVD -плеер для демонстрации фильмов о странах и курортах, кондиционер, кулер с водой, аптечка, часы, канцелярские принадлежности, настенная карта мира или глобус.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6)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 Дизай-нпроект офиса: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зонирование пространства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дизайн помещения согласно концепции туристической компании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план помещения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395640" y="188640"/>
            <a:ext cx="8229240" cy="64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2) Организационный план</a:t>
            </a:r>
            <a:endParaRPr b="0" lang="ru-RU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14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aveform</Template>
  <TotalTime>1375</TotalTime>
  <Application>LibreOffice/7.4.7.2$Linux_X86_64 LibreOffice_project/40$Build-2</Application>
  <AppVersion>15.0000</AppVersion>
  <Words>567</Words>
  <Paragraphs>10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16:05:59Z</dcterms:created>
  <dc:creator>ernest</dc:creator>
  <dc:description/>
  <dc:language>en-US</dc:language>
  <cp:lastModifiedBy>ernest</cp:lastModifiedBy>
  <dcterms:modified xsi:type="dcterms:W3CDTF">2015-12-15T20:56:26Z</dcterms:modified>
  <cp:revision>37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23</vt:r8>
  </property>
</Properties>
</file>