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045-2929-4A3F-B764-B8DB8066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D7E-B85F-4B4F-94DB-4336F4FC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A7F-9928-4A32-8F07-AEEFF11E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7F8-2F44-477C-A8FE-6E3EC26C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FC05-3FE0-4E4A-AFB3-5EB8E212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DB0A-897A-4882-817D-440C74F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ED73-166C-4298-BD28-A497EE1C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EBA5-9FB2-4591-990D-27F3B4C9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A556-67C3-4CBC-B5C6-D5D8735B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EAF0-FE8B-4AE8-9670-1109DB00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90D6-0DBC-4890-8B5F-1EBC4DD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351-8630-4F73-BF2D-0BE7F95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B7E9-E793-41CA-99A6-D41565F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AB1E-A58C-41E6-BA95-B08D0EF8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0FCE-B680-4A91-B25F-E82D8360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84D1-A347-4319-B7D9-8316ABC3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FB97-6ADC-4CB1-AF79-FF38FB9D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333-0AC9-4375-BC2E-13833959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44C-F919-4291-9BA8-B71E29CF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E51-B1F2-43F8-88AD-F6E16C6B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CBE-B063-4F8C-AC06-65907BAA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A41-124D-4517-8185-E85FD81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580-A719-4745-BC09-9FAE5703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2F5-17AC-43DE-A410-7219C6FF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4d4d4d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454B-6E55-4765-B8D7-E54ED653D9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4d4d4d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F4F4-79F8-426D-8E1D-B7133B5686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93320" cy="756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287280" y="38412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60" bIns="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liss Pro Light"/>
                <a:ea typeface="Microsoft YaHei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7772400" cy="23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ТЕХНОЛОГИЯ РЕИНЖИНИРИНГА БИЗНЕС-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053720"/>
            <a:ext cx="874728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Принципами реинжиниринга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бизнес-процессов являютс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центрация ответственности: несколько рабочих процедур объединяются в одну (горизонтальное сжатие процесса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легирование полномочий в сочетании с самоконтролем: исполнители принимают самостоятельные решения (вертикальное сжатие процесса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ественный порядок выполнения процесса, например параллельный, а не последовательны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5280" y="1268280"/>
            <a:ext cx="8747280" cy="452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ные варианты исполнения процессов в зависимости от ситуации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работы там, где ее можно сделать наиболее эффективно (вплоть до ее передачи клиенту процесса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ие объема согласований, проверок и контроля — контроль со стороны менеджеров заменяется по возможности контролем со стороны потребителей данного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-466560" y="-351000"/>
            <a:ext cx="10077120" cy="7560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79280" y="167652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совокупности взаимосвязанных бизнес-процессов предприятия предполагает проведение трудоемкой работы по их моделированию и последующему преобразованию. Как правило, работы по бизнес-реинжинирингу проводятся не менее чем в течение одного год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-108000" y="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466560" y="-351000"/>
            <a:ext cx="10077120" cy="756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95280" y="83664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х процесса реинжиниринга обусловлен определенными факторам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http://www.grandars.ru/images/1/review/id/1025/696ef2dc93.jpg"/>
          <p:cNvPicPr/>
          <p:nvPr/>
        </p:nvPicPr>
        <p:blipFill>
          <a:blip r:embed="rId2"/>
          <a:stretch/>
        </p:blipFill>
        <p:spPr>
          <a:xfrm>
            <a:off x="179280" y="1916280"/>
            <a:ext cx="8191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00720" y="196560"/>
            <a:ext cx="2843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041120"/>
            <a:ext cx="853128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необходимо отметить следующе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ая деятельность процессных команд может обусловить создание новых структурных единиц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ли объединение процессных команд может обусловить дробление или укрупнение предприятия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роцессных команд в новых видах деятельности способствует переходу к дивизиональной модели управления предприятие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00720" y="201240"/>
            <a:ext cx="3059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287280" y="-146160"/>
            <a:ext cx="3637080" cy="963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920" y="817200"/>
            <a:ext cx="8750160" cy="60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дуре проведения РБП можно вы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фаз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ся проект РБП, формируется команда проекта и, если это возможно, определяются цели проект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инжиниринг, основанный на существующем процес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бор методов позволяет перестроить процесс, поднять его уровень, чтобы в результате резко его улучши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пределяют, как внедрить новый процесс с учетом существующего процесса, потребных инвестиций, обучения и т.п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, выработанные и утвержденные на двух предыдущих фазах, внедряются и меняется процесс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7380360" y="442800"/>
            <a:ext cx="2340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263520" y="276120"/>
            <a:ext cx="39924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www.grandars.ru/images/1/review/id/2964/64ff91f896.jpg"/>
          <p:cNvPicPr/>
          <p:nvPr/>
        </p:nvPicPr>
        <p:blipFill>
          <a:blip r:embed="rId3"/>
          <a:stretch/>
        </p:blipFill>
        <p:spPr>
          <a:xfrm>
            <a:off x="358920" y="2781360"/>
            <a:ext cx="8786520" cy="302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3568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зы процедуры проведения реинжиниринга бизнес-проце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87280" y="38268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440000"/>
            <a:ext cx="9145800" cy="58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два принципиально разных способа применения РБП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тический реинжинирин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екущий процесс понят, документирован и проанализирован для систематического создания новых и лучших процесс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72880" y="382680"/>
            <a:ext cx="3992760" cy="10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www.grandars.ru/images/1/review/id/2964/e45b36b728.jpg"/>
          <p:cNvPicPr/>
          <p:nvPr/>
        </p:nvPicPr>
        <p:blipFill>
          <a:blip r:embed="rId3"/>
          <a:stretch/>
        </p:blipFill>
        <p:spPr>
          <a:xfrm>
            <a:off x="814320" y="2379600"/>
            <a:ext cx="8150400" cy="32814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"/>
          <p:cNvSpPr/>
          <p:nvPr/>
        </p:nvSpPr>
        <p:spPr>
          <a:xfrm>
            <a:off x="1547640" y="144000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применения РБ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7559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287280" y="38268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400" y="1267920"/>
            <a:ext cx="89661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вид реинжиниринга проводится, опираясь на правил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SI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erase, simplify, integrate, automate), и предполагает выполнение четырех основных действий, предназначенных для систематизации существующих процессов: уничтожить, упростить, объединить, автоматизироват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40000" y="549000"/>
            <a:ext cx="2916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271440" y="18900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1440" y="1216080"/>
            <a:ext cx="835344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ь и принципы проведения реинжиниринга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дура проведения реинжиниринга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я работ по реинжинирингу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и инструментальные средства реинжиниринга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00720" y="347400"/>
            <a:ext cx="3059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-23760" y="-17136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" y="885960"/>
            <a:ext cx="9072720" cy="57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-й этап. Уничтож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сключение всех операций, которые не связаны с добавлением ценности. Эта задача очень актуальна. Например, в компании «Тойота» в расчетах большинства традиционных производственных процессов принимается, что в любое время суток 85% сотрудников заняты непродуктивной работо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% сотрудников могут наблюдать, но не действовать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% сотрудников чего-то ждут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% сотрудников делают что-то, что увеличивает уровень запасов, но не добавляет ценност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% работают, однако пользуются устаревшими стандартами и процедур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287280" y="38268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9160" y="1196640"/>
            <a:ext cx="84135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й этап. Упрости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освобождения от всего лишнего нужно упростить до максимума все, что осталось. Обычно действие «упростить» проводится на особо сложных учас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22320" y="19080"/>
            <a:ext cx="9121680" cy="6838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72360" y="347400"/>
            <a:ext cx="30607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108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7640" y="980640"/>
            <a:ext cx="860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й этап. Объедини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дальнейшее облегчение движения потока от поставщика к организации и от организации к потребителю. Предприятия, которые добились создания особенно тесных связей со своими поставщиками и потребителями, обычно находятся в более выгодном положении. Они имеют большие возможности для успешного совершенствования. Типично интегрировать поставщиков основных комплектующих и их потребителей в единый процесс разработки продукц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11640" y="369720"/>
            <a:ext cx="298764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52560" y="2232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240" y="1125000"/>
            <a:ext cx="895212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й этап. Автоматизирова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технологии, робототехническое оборудование — вот что дает мощный эффект и хорошие результаты. Однако автоматизация сложных процессов нежелательна: неопределенность может привести к большому количеству ошибок. Например, в сфере управления качеством важное значение имеет автоматизация анализа данных, собранных статистическими методам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940360" y="137880"/>
            <a:ext cx="30607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-181080" y="-63360"/>
            <a:ext cx="3992760" cy="10569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Реинжиниринг «с чистого листа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существующий процесс полностью разрушается и утилизируется. Новый процесс создается с нуля путем фундаментального переосмысления существующег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трудно дать общий совет, как выполнить радикальную перестройку, которая заключается в том, чтобы все разрушить и начать с чистого листа. Результат существенно зависит от творческой активности, воображения, знаний, а также наличия современных технологий и людей, способных все это воплотить в жизнь. Каждый проект РБП уникален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94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16240" y="187200"/>
            <a:ext cx="327492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000" y="836280"/>
            <a:ext cx="9145800" cy="60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основные вопросы, которые требуют своего разреш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основные потребности мы хотим удовлетворить и для кого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мы хотим удовлетворить эти потребности? Согласуется ли это с общей стратегией организаци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надо удовлетворять эти потребност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должны быть удовлетворены эти потребност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образом будут удовлетворены эти потребности? Кто будет все это делать, какие нужны технологи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74920" y="166320"/>
            <a:ext cx="320364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-190440" y="-17136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56908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шающий фактор перестройки — творческая активность исполнителей. Чтобы разбудить воображение, дать импульс для творчества, задайте вашим сотрудникам следующие вопросы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ьте себе, что вам нужно создать образ конкурента своей собственной организации. Каким бы вы его сделали, чтобы достичь лучшего результата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должен выглядеть идеальный процесс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бы вы могли создать всю вашу организацию заново с чистого листа, то как бы тогда выглядели эта организация и ее конкретный процесс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ее, что нужно сделать на этапе выдвижения содержательных предложений вне зависимости от выбранного способа применения метода, — разработать перечень рекомендуемых изменений в результате перестройки бизнес-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участник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еинжиниринговой деятельности и выполняемых ими функций являются основой эффективности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Участники реинжиниринговой деятельности и их функции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 проект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один из высших менеджеров фирмы. Функция -  возглавляет деятельность реинжиниринга, отвечает за идеологическое обоснование проекта, создает общий дух новаторства и ответствен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56360" y="344160"/>
            <a:ext cx="2843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179280" y="11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539640" y="1413000"/>
            <a:ext cx="824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374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Реинжиниринг бизнес-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BPR - Business process reengineering) – это фундаментальное переосмысление и радикальное перепроектирование  бизнес-процессов (БП) для достижения коренных улучшений в основных показателях деятельности предприя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равляющий комите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члены высшего руководства, лидер проекта, менеджеры процессов. Функция - осуществляет наблюдение, согласует цели и стратегии, интересы рабочих команд, разрешает конфлик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енеджеры оперативного руковод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я - разрабатывают методики и инструменты реинжиниринга, проводят обучение, координируют, помогают в формировании коман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енеджеры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я - разрабатывают методики и инструменты реинжиниринга, проводят обучение, координируют, помогают в формировании коман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чие команды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работники фирмы и внешние консультанты и разработчик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я - осуществляют непосредственную работу по реинжиниринг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6084720" y="336600"/>
            <a:ext cx="2698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160" bIns="46080" anchor="b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2_1_2"/>
          <p:cNvPicPr/>
          <p:nvPr/>
        </p:nvPicPr>
        <p:blipFill>
          <a:blip r:embed="rId3"/>
          <a:stretch/>
        </p:blipFill>
        <p:spPr>
          <a:xfrm>
            <a:off x="1258920" y="2924280"/>
            <a:ext cx="5761080" cy="2950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01600" y="698040"/>
            <a:ext cx="8747280" cy="18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уктура взаимодействия участников проекта по реинжинирингу бизнес-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864720"/>
            <a:ext cx="878544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гламентирующий комит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ыделяет ресурсы на предприятии для проведения реинжиниринга и контролирует выполнение всех этапов в соответствии с разработанным планом-графиком сдачи рабо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ологический цент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ординирует работу команд реинжиниринга и обеспечивает их методологией, инструментарием, типовыми решениями и обычно формируется из представителей консалтинговой фир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5"/>
          <p:cNvGraphicFramePr/>
          <p:nvPr/>
        </p:nvGraphicFramePr>
        <p:xfrm>
          <a:off x="2700360" y="0"/>
          <a:ext cx="4896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0"/>
                    <a:ext cx="4896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Box 1"/>
          <p:cNvSpPr/>
          <p:nvPr/>
        </p:nvSpPr>
        <p:spPr>
          <a:xfrm>
            <a:off x="179280" y="77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31680" y="0"/>
            <a:ext cx="90536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11640" y="176040"/>
            <a:ext cx="270036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179280" y="-17136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1680" y="620280"/>
            <a:ext cx="878832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а стадии идентификации бизнес-процессов выполняются следующие работ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ормулирование (уточнение) миссии предприятия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ение ключевых факторов успеха (7-8 факторов): длительность, издержки, качество, сервисное обслуживание и т.д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явление основных видов бизнес-процессов, как существующих, так и перспективных (10 – 15 процессов)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ценка бизнес-процессов по степени реализации ключевых факторов успеха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нжирование бизнес-процессов с указанием приоритетов реинжиниринга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9240" y="785880"/>
            <a:ext cx="8712000" cy="60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формальное описание отличительных особенностей бизнес-процессов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фикация существующих обеспечивающих производственных и информационных технологий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исание возможных сценариев развития предприятия: появление новых технологий, ресурсов, изменение поведения клиентов, партнеров, конкурентов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ение ограничений, связанных с уровнем квалификации персонала фирмы, технической оснащенности производства и т.д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ение внешних рисков обеспечения финансовыми ресурсами, надежности партнеров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7345440" cy="58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ратный инжини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существующих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ямой инжини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ие новых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8720" y="1197000"/>
            <a:ext cx="874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320" indent="281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Целью реинжиниринга бизнес-процессов (РБП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целостное и системное моделирование и реорганизация материальных,  финансовых и информационных потоков, направленная на упрощение организационной структуры, перераспределение и минимизацию использования различных ресурсов,  сокращение сроков реализации потребностей клиентов, повышение качества их обслужива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" indent="28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аст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менения структур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рганизационно-экономической системы осуществляетс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должностных инструкций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 персонала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рабочей документаци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аст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здания новой информационной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существляется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и наполнение базы данных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ка системы телекоммуникации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ирование, настройка и отладка программных модул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0920" y="691920"/>
            <a:ext cx="7848360" cy="58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дрение проекта реинжиниринга бизнес-процессов предполагает его сдачу приемочной комиссии, в которую входят представители лиц, принимающих решения, и менеджеры процессов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работ по проектированию бизнес-процесс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5" descr="2_2_1"/>
          <p:cNvPicPr/>
          <p:nvPr/>
        </p:nvPicPr>
        <p:blipFill>
          <a:blip r:embed="rId1"/>
          <a:stretch/>
        </p:blipFill>
        <p:spPr>
          <a:xfrm>
            <a:off x="3564000" y="1413000"/>
            <a:ext cx="3673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864720"/>
            <a:ext cx="871380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миссии предполагает определени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атег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дения предприятия на рынке в части расширения границ рынка или глубокого проникновения на рынок, диверсификации деятельности или повышения качества товаров и услуг, глобализации или локализации деятельности и т.д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865080"/>
            <a:ext cx="849636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8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сегментов рынка предполагает конкретизацию стратегических целей предприятия в части определения регионов, потребителей, каналов распределения продукции и услуг. Основными методами исследований на этом этапе выступа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ы статистического анализа и прогнозирования рынков сбыта, нейронных сетей, интеллектуального анализа данных современных информационных хранилищ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560" y="864720"/>
            <a:ext cx="871380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одуктовых портфелей для выделенных перспективных сегментов рынка предполагает оценку возможностей предприятия в плане эффективности распределения капиталовложений по различным проектам и продуктам. Для решения этой задачи обычно использую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атематические модели и методы оптимиз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82520" y="86040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бизнес-процессов. Выявленный на третьем этапе продуктовый портфель определяет содержание бизнес-процессов, для которых необходимо детально разработать технологию их осуществления с позиции достижения заданных критериев эффективности. Для выбора конкретных технологий требуется разработать статические и динамические модели бизнес-процессов, позволяющие выполнить оценку их эффектив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4072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ование использования ресурсов. После графического построения статической модели бизнес-процесса требуется выполнить анализ ее реализации с позиции эффективности и достаточности ресурсов. Для этого использую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ы стоимостного анализа функций и динамического имитационного моделирования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ждое исследование проводится с применением специализированных инструментальных средст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современных информационных технологий в реинжиниринге бизнес-процессов  обусловливают трансформацию предприятий с позиций организационной структуры, организации процессов, управления и межорганизационного взаимодействия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864720"/>
            <a:ext cx="878544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Garamond"/>
              </a:rPr>
              <a:t>Изменение организационной структ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1062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Виртуальные компонен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компоненты организационной структуры, которые физически не существуют в одном месте («домашняя» организация труда отделов снабжения, продаж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1062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Матричная структура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дполагает динамическое формирование рабочих групп для выполнения конкретного процесса (заказа, проекта), в которые входят работники из различных структурных подразделений и управляются как единым целым независимо от структурной принадлежности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6720" y="620280"/>
            <a:ext cx="874728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адачи реинжиниринга бизнес-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оптимальной последовательности выполняемых функций (сокращение длительности цикла изготовления и продажи товаров и услуг, обслуживания клиентов, повышение оборачиваемости капитала и рост всех экономических показателей фирмы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использования ресурсов в различных бизнес-процессах (минимизация издержек производства и обращения, обеспечение оптимального сочетания различных видов деятельности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08000" y="-17136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Изменение организации бизнес-процессов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матизация множества операций позволяет концентрировать выполнение множества функций одним работником с меньшей квалификацией, в результате чего обеспечивается более быстрое и качественное обслуживание клиен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нное связывание участников бизнес-процесса через технологию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зволяет оперативно доставлять результаты выполненной работы до последующих исполнителей, автоматически сигнализируя о конце предыдущей операци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Изменение организации управления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нные коммуникации и безбумажная технология рабочих потоков позволяют сделать более прозрачным контроль исполнения процесса, когда в каждый момент времени можно знать его состояние на конкретных рабочих местах, отклонения в процессах сразу становятся автоматически известными для всех заинтересованных исполнителей и менеджер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Изменение межорганизационных взаимодейств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организационные взаимодействия между различными субъектами процессов (партнерами по бизнесу) строятся с помощью электронного обмена данными, который позволяет ускорить и повысить точность оформления и выполнения заказ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Формы межорганизационного взаимо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372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Клиент - Исполнитель», например, «электронная торговля» (торговля по электронным каталогам), «электронное обслуживание» (банковские, страховые, таможенные и т.д. операции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372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казчик - Поставщик», создание на договорной основе «вертикальных конгломератов», осуществление многозвенных логистических процессов (транспортных коридоров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372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казчик - Подрядчик», создание «виртуальных корпораций» под реализацию конкретных проект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, результатом проведения реинжиниринга бизнес-процессов и использования современных ИТ является более оперативный мониторинг бизнес-процессов и сокращение числа уровней управления на предприят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836280"/>
            <a:ext cx="874728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роение адаптивных бизнес-процессов, нацеленных на быструю адаптацию к изменениям потребностей конечных потребителей продукции, производственных технологий, поведения конкурентов на рынке (повышение качества обслуживания клиентов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рациональных схем взаимодействия с партнерами и клиентами (рост прибыли, оптимизация финансовых потоков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676520"/>
            <a:ext cx="874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ом реинжиниринга является улучшение важнейших количественно измеряемых показател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инжиниринг бывает успешным, только если он находи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тесной связи с организационным развитием организац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836280"/>
            <a:ext cx="874728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 степени воздействия на организационную структур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ют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) Эволюцион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инжинирин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когда оптимизируется внутренняя интеграция различных бизнес-процессов, но не вносятся существенные изменения в функционирование организац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Революцион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инжиниринг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гда перепроектируются все бизнес-процессы и происходит переориентация организации на новый вид бизне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765000"/>
            <a:ext cx="874728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555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ризисный реинжиниринг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перепроектирование бизнес-процессов) – это состояние глубокого кризиса (потеря конкурентоспособности, отказ потребителей от товаров и т.п.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555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инжиниринг развити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совершенствование бизнес-процессов) – это удовлетворительное текущее положение при нежелательных тенденциях и неблагоприятных прогнозах. Благополучная ситуация при желании ускорить и увеличить отрыв от конкурент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55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0" y="-176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2:16:59Z</dcterms:created>
  <dc:creator>Арина</dc:creator>
  <dc:description/>
  <dc:language>en-US</dc:language>
  <cp:lastModifiedBy>Ирина</cp:lastModifiedBy>
  <dcterms:modified xsi:type="dcterms:W3CDTF">2017-03-14T11:45:07Z</dcterms:modified>
  <cp:revision>90</cp:revision>
  <dc:subject/>
  <dc:title>ТЕХНОЛОГИЯ РЕИНЖИНИРИНГА БИЗНЕС-ПРОЦЕСС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