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770-5B3F-4EF3-86A5-6979C8CD6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6D9-C21C-4D7C-947D-7DEEC4F7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A5D-6EAF-498E-AAE7-6878F426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CBB6-36CD-4311-B2AF-4F487EAA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30D6-98A9-4B75-97BD-F1A30D4C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1BAC-06F2-4A2F-8682-D953956E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923A-7134-495E-8D86-85D4AEF2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FDC7-B850-4F72-A1EB-4233708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8588-A0A3-4400-A92D-DF7CA016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F1D4-7BD3-4C31-9C63-2AC0A679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81A6-3FC8-4BBA-AC12-5C3F60F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3E1-8A32-44EB-95E6-520980F2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280-733D-40C4-ABEC-292B48F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FFC-002B-42EB-9F40-F73F3E12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63D9-E83C-46FB-AD6F-FEBA57B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5501-86D0-4741-96B7-8C0CA46A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9A5-4AFE-4FA2-BD28-614129B0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387-5034-45A9-8D3C-F19328FC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1D4-17E8-4569-8620-28ED029C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B0C-78C0-46B9-8037-A88060E8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9DF-3DB4-4192-A110-0A89277C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072-1EA7-4DB4-B008-01DE0182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4FE-0633-47BF-A778-F86DEBB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997D-7C0E-4FFB-86B3-6500B14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DFCD-1289-4A28-B03F-A2EA6C7F0B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4d4d4d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D03-9B90-4219-AD09-DF68BBBAE7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093320" cy="7567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287280" y="38412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6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liss Pro Light"/>
                <a:ea typeface="Microsoft YaHei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23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Times New Roman"/>
              </a:rPr>
              <a:t>ТЕХНОЛОГИЯ РЕИНЖИНИРИНГА БИЗНЕС-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053720"/>
            <a:ext cx="8747280" cy="473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66"/>
                </a:solidFill>
                <a:uFillTx/>
                <a:latin typeface="Verdana"/>
              </a:rPr>
              <a:t>Принципами реинжиниринга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бизнес-процессов являютс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центрация ответственности: несколько рабочих процедур объединяются в одну (горизонт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легирование полномочий в сочетании с самоконтролем: исполнители принимают самостоятельные решения (вертикальное сжатие процесса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ественный порядок выполнения процесса, например параллельный, а не последовательны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268280"/>
            <a:ext cx="874728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ные варианты исполнения процессов в зависимости от ситуации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работы там, где ее можно сделать наиболее эффективно (вплоть до ее передачи клиенту процесса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ие объема согласований, проверок и контроля — контроль со стороны менеджеров заменяется по возможности контролем со стороны потребителей данного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79280" y="167652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совокупности взаимосвязанных бизнес-процессов предприятия предполагает проведение трудоемкой работы по их моделированию и последующему преобразованию. Как правило, работы по бизнес-реинжинирингу проводятся не менее чем в течение одного год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-108000" y="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466560" y="-351000"/>
            <a:ext cx="10077120" cy="7560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95280" y="83664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пех процесса реинжиниринга обусловлен определенными факторам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www.grandars.ru/images/1/review/id/1025/696ef2dc93.jpg"/>
          <p:cNvPicPr/>
          <p:nvPr/>
        </p:nvPicPr>
        <p:blipFill>
          <a:blip r:embed="rId2"/>
          <a:stretch/>
        </p:blipFill>
        <p:spPr>
          <a:xfrm>
            <a:off x="179280" y="1916280"/>
            <a:ext cx="8191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00720" y="1965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0411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необходимо отметить следующе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ая деятельность процессных команд может обусловить создание новых структурных единиц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или объединение процессных команд может обусловить дробление или укрупнение предприятия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процессных команд в новых видах деятельности способствует переходу к дивизиональной модели управления предприятием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00720" y="20124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87280" y="-146160"/>
            <a:ext cx="3637080" cy="963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817200"/>
            <a:ext cx="8750160" cy="60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дуре проведения РБП можно выдел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ыре фаз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ся проект РБП, формируется команда проекта и, если это возможно, определяются цели проект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инжиниринг, основанный на существующем процес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Набор методов позволяет перестроить процесс, поднять его уровень, чтобы в результате резко его улучши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пределяют, как внедрить новый процесс с учетом существующего процесса, потребных инвестиций, обучения и т.п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я, выработанные и утвержденные на двух предыдущих фазах, внедряются и меняется процес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"/>
          <p:cNvSpPr/>
          <p:nvPr/>
        </p:nvSpPr>
        <p:spPr>
          <a:xfrm>
            <a:off x="7380360" y="442800"/>
            <a:ext cx="234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46800" anchor="t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263520" y="27612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://www.grandars.ru/images/1/review/id/2964/64ff91f896.jpg"/>
          <p:cNvPicPr/>
          <p:nvPr/>
        </p:nvPicPr>
        <p:blipFill>
          <a:blip r:embed="rId3"/>
          <a:stretch/>
        </p:blipFill>
        <p:spPr>
          <a:xfrm>
            <a:off x="358920" y="2781360"/>
            <a:ext cx="8786520" cy="3024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35684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зы процедуры проведения реинжиниринга бизнес-проце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440000"/>
            <a:ext cx="9145800" cy="58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два принципиально разных способа применения РБП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тически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текущий процесс понят, документирован и проанализирован для систематического создания новых и лучших процесс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272880" y="382680"/>
            <a:ext cx="3992760" cy="1057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www.grandars.ru/images/1/review/id/2964/e45b36b728.jpg"/>
          <p:cNvPicPr/>
          <p:nvPr/>
        </p:nvPicPr>
        <p:blipFill>
          <a:blip r:embed="rId3"/>
          <a:stretch/>
        </p:blipFill>
        <p:spPr>
          <a:xfrm>
            <a:off x="814320" y="2379600"/>
            <a:ext cx="8150400" cy="328140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"/>
          <p:cNvSpPr/>
          <p:nvPr/>
        </p:nvSpPr>
        <p:spPr>
          <a:xfrm>
            <a:off x="1547640" y="144000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ы применения РБ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400" y="1267920"/>
            <a:ext cx="89661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вид реинжиниринга проводится, опираясь на правил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ESI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erase, simplify, integrate, automate), и предполагает выполнение четырех основных действий, предназначенных для систематизации существующих процессов: уничтожить, упростить, объединить, автоматизирова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40000" y="549000"/>
            <a:ext cx="2916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271440" y="18900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1440" y="1216080"/>
            <a:ext cx="835344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ность и принципы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дура проведения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я работ по реинжинирингу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и инструментальные средства реинжиниринга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300720" y="347400"/>
            <a:ext cx="3059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-2376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" y="885960"/>
            <a:ext cx="9072720" cy="57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й этап. Уничтож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сключение всех операций, которые не связаны с добавлением ценности. Эта задача очень актуальна. Например, в компании «Тойота» в расчетах большинства традиционных производственных процессов принимается, что в любое время суток 85% сотрудников заняты непродуктивной работой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% сотрудников могут наблюдать, но не действовать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сотрудников чего-то ждут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% сотрудников делают что-то, что увеличивает уровень запасов, но не добавляет ц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% работают, однако пользуются устаревшими стандартами и процедурам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755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80360" y="647640"/>
            <a:ext cx="234000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287280" y="38268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79160" y="1196640"/>
            <a:ext cx="84135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й этап. Упрост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освобождения от всего лишнего нужно упростить до максимума все, что осталось. Обычно действие «упростить» проводится на особо сложных участках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22320" y="19080"/>
            <a:ext cx="9121680" cy="6838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372360" y="34740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108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7640" y="98064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й этап. Объедини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дальнейшее облегчение движения потока от поставщика к организации и от организации к потребителю. Предприятия, которые добились создания особенно тесных связей со своими поставщиками и потребителями, обычно находятся в более выгодном положении. Они имеют большие возможности для успешного совершенствования. Типично интегрировать поставщиков основных комплектующих и их потребителей в единый процесс разработки продук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43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11640" y="369720"/>
            <a:ext cx="298764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52560" y="2232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240" y="1125000"/>
            <a:ext cx="895212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й этап. Автоматизировать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технологии, робототехническое оборудование — вот что дает мощный эффект и хорошие результаты. Однако автоматизация сложных процессов нежелательна: неопределенность может привести к большому количеству ошибок. Например, в сфере управления качеством важное значение имеет автоматизация анализа данных, собранных статистическими методам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40360" y="137880"/>
            <a:ext cx="30607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-181080" y="-63360"/>
            <a:ext cx="3992760" cy="10569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Реинжиниринг «с чистого лист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существующий процесс полностью разрушается и утилизируется. Новый процесс создается с нуля путем фундаментального переосмысления существующег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трудно дать общий совет, как выполнить радикальную перестройку, которая заключается в том, чтобы все разрушить и начать с чистого листа. Результат существенно зависит от творческой активности, воображения, знаний, а также наличия современных технологий и людей, способных все это воплотить в жизнь. Каждый проект РБП уникале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943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16240" y="187200"/>
            <a:ext cx="327492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3000" y="836280"/>
            <a:ext cx="9145800" cy="60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основные вопросы, которые требуют своего разреше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основные потребности мы хотим удовлетворить и для кого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мы хотим удовлетворить эти потребности? Согласуется ли это с общей стратегией организац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до удовлетворять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должны быть удовлетворены эти потребност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м образом будут удовлетворены эти потребности? Кто будет все это делать, какие нужны технологи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74920" y="166320"/>
            <a:ext cx="320364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-190440" y="-17136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56908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шающий фактор перестройки — творческая активность исполнителей. Чтобы разбудить воображение, дать импульс для творчества, задайте вашим сотрудникам следующие вопрос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тавьте себе, что вам нужно создать образ конкурента своей собственной организации. Каким бы вы его сделали, чтобы достичь лучшего результата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должен выглядеть идеаль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бы вы могли создать всю вашу организацию заново с чистого листа, то как бы тогда выглядели эта организация и ее конкретный процесс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нее, что нужно сделать на этапе выдвижения содержательных предложений вне зависимости от выбранного способа применения метода, — разработать перечень рекомендуемых изменений в результате перестройки бизнес-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участник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еинжиниринговой деятельности и выполняемых ими функций являются основой эффективности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Участники реинжиниринговой деятельности и их функции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 проект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один из высших менеджеров фирмы. Функция -  возглавляет деятельность реинжиниринга, отвечает за идеологическое обоснование проекта, создает общий дух новаторства и ответствен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1125360"/>
            <a:ext cx="878544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56360" y="344160"/>
            <a:ext cx="284328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79280" y="11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39640" y="1413000"/>
            <a:ext cx="82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3747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Verdana"/>
              </a:rPr>
              <a:t>Реинжиниринг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(BPR - Business process reengineering) – это фундаментальное переосмысление и радикальное перепроектирование  бизнес-процессов (БП) для достижения коренных улучшений в основных показателях деятельности предприя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равляющий комите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члены высшего руководства, лидер проекта, менеджеры процессов. Функция - осуществляет наблюдение, согласует цели и стратегии, интересы рабочих команд, разрешает конфликт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оперативного руковод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неджеры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разрабатывают методики и инструменты реинжиниринга, проводят обучение, координируют, помогают в формировании коман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2600" y="0"/>
            <a:ext cx="9312480" cy="7559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671800" y="347400"/>
            <a:ext cx="349236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27000" y="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5040" y="1055160"/>
            <a:ext cx="904860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чие команды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— работники фирмы и внешние консультанты и разработчик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ункция - осуществляют непосредственную работу по реинжинирингу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6084720" y="336600"/>
            <a:ext cx="2698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2160" bIns="46080" anchor="b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2_1_2"/>
          <p:cNvPicPr/>
          <p:nvPr/>
        </p:nvPicPr>
        <p:blipFill>
          <a:blip r:embed="rId3"/>
          <a:stretch/>
        </p:blipFill>
        <p:spPr>
          <a:xfrm>
            <a:off x="1258920" y="2924280"/>
            <a:ext cx="5761080" cy="29509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01600" y="698040"/>
            <a:ext cx="8747280" cy="188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руктура взаимодействия участников проекта по реинжинирингу бизнес-процесс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ламентирующий комите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ыделяет ресурсы на предприятии для проведения реинжиниринга и контролирует выполнение всех этапов в соответствии с разработанным планом-графиком сдачи рабо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тодологический цент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ординирует работу команд реинжиниринга и обеспечивает их методологией, инструментарием, типовыми решениями и обычно формируется из представителей консалтинговой фирм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5"/>
          <p:cNvGraphicFramePr/>
          <p:nvPr/>
        </p:nvGraphicFramePr>
        <p:xfrm>
          <a:off x="2700360" y="0"/>
          <a:ext cx="4896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0"/>
                    <a:ext cx="4896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Box 1"/>
          <p:cNvSpPr/>
          <p:nvPr/>
        </p:nvSpPr>
        <p:spPr>
          <a:xfrm>
            <a:off x="179280" y="77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31680" y="0"/>
            <a:ext cx="90536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1640" y="176040"/>
            <a:ext cx="2700360" cy="3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179280" y="-171360"/>
            <a:ext cx="3992760" cy="10573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1680" y="620280"/>
            <a:ext cx="878832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На стадии идентификации бизнес-процессов выполняются следующие работ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ормулирование (уточнение) миссии предприятия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ключевых факторов успеха (7-8 факторов): длительность, издержки, качество, сервисное обслуживание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ыявление основных видов бизнес-процессов, как существующих, так и перспективных (10 – 15 процессов)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ценка бизнес-процессов по степени реализации ключевых факторов успех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нжирование бизнес-процессов с указанием приоритетов реинжиниринга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9240" y="785880"/>
            <a:ext cx="8712000" cy="60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формальное описание отличительных особенностей бизнес-процесс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кация существующих обеспечивающих производственных и информационных технологий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исание возможных сценариев развития предприятия: появление новых технологий, ресурсов, изменение поведения клиентов, партнеров, конкурент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ограничений, связанных с уровнем квалификации персонала фирмы, технической оснащенности производства и т.д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пределение внешних рисков обеспечения финансовыми ресурсами, надежности партнеров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280" y="764640"/>
            <a:ext cx="7345440" cy="58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ратны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существующи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ямой инжинирин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роение новых бизнес-процессо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88720" y="1197000"/>
            <a:ext cx="874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320" indent="2815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Целью реинжиниринга бизнес-процессов (РБП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целостное и системное моделирование и реорганизация материальных,  финансовых и информационных потоков, направленная на упрощение организационной структуры, перераспределение и минимизацию использования различных ресурсов,  сокращение сроков реализации потребностей клиентов, повышение качества их обслуживания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20" indent="281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зменения структур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рганизационно-экономической системы осуществляется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должностных инструкций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чение персонал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рабочей документ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spcBef>
                <a:spcPts val="7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ас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здания новой информационной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существляется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работка и наполнение базы данных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ановка системы телекоммуникации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1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ирование, настройка и отладка программных модул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0920" y="691920"/>
            <a:ext cx="7848360" cy="58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дрение проекта реинжиниринга бизнес-процессов предполагает его сдачу приемочной комиссии, в которую входят представители лиц, принимающих решения, и менеджеры процессов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работ по проектированию бизнес-процесс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0" y="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5" descr="2_2_1"/>
          <p:cNvPicPr/>
          <p:nvPr/>
        </p:nvPicPr>
        <p:blipFill>
          <a:blip r:embed="rId1"/>
          <a:stretch/>
        </p:blipFill>
        <p:spPr>
          <a:xfrm>
            <a:off x="3564000" y="1413000"/>
            <a:ext cx="36734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миссии предполагает определени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атег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дения предприятия на рынке в части расширения границ рынка или глубокого проникновения на рынок, диверсификации деятельности или повышения качества товаров и услуг, глобализации или локализации деятельности и т.д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65080"/>
            <a:ext cx="849636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сегментов рынка предполагает конкретизацию стратегических целей предприятия в части определения регионов, потребителей, каналов распределения продукции и услуг. Основными методами исследований на этом этапе выступ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атистического анализа и прогнозирования рынков сбыта, нейронных сетей, интеллектуального анализа данных современных информационных хранилищ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560" y="864720"/>
            <a:ext cx="871380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родуктовых портфелей для выделенных перспективных сегментов рынка предполагает оценку возможностей предприятия в плане эффективности распределения капиталовложений по различным проектам и продуктам. Для решения этой задачи обычн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тематические модели и методы оптимизац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520" y="86040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ние бизнес-процессов. Выявленный на третьем этапе продуктовый портфель определяет содержание бизнес-процессов, для которых необходимо детально разработать технологию их осуществления с позиции достижения заданных критериев эффективности. Для выбора конкретных технологий требуется разработать статические и динамические модели бизнес-процессов, позволяющие выполнить оценку их эффективност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4072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ирование использования ресурсов. После графического построения статической модели бизнес-процесса требуется выполнить анализ ее реализации с позиции эффективности и достаточности ресурсов. Для этого используются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ы стоимостного анализа функций и динамического имитационного моделирования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ждое исследование проводится с применением специализированных инструментальных средств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нение современных информационных технологий в реинжиниринге бизнес-процессов  обусловливают трансформацию предприятий с позиций организационной структуры, организации процессов, управления и межорганизационного взаимодействия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864720"/>
            <a:ext cx="8785440" cy="599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онной структур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Виртуальные компонент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это компоненты организационной структуры, которые физически не существуют в одном месте («домашняя» организация труда отделов снабжения, продаж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10620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Матричная структура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едполагает динамическое формирование рабочих групп для выполнения конкретного процесса (заказа, проекта), в которые входят работники из различных структурных подразделений и управляются как единым целым независимо от структурной принадлежности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6720" y="620280"/>
            <a:ext cx="874728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дачи реинжиниринга бизнес-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оптимальной последовательности выполняемых функций (сокращение длительности цикла изготовления и продажи товаров и услуг, обслуживания клиентов, повышение оборачиваемости капитала и рост всех экономических показателей фирмы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использования ресурсов в различных бизнес-процессах (минимизация издержек производства и обращения, обеспечение оптимального сочетания различных видов деятельности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108000" y="-17136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78544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бизнес-процессов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матизация множества операций позволяет концентрировать выполнение множества функций одним работником с меньшей квалификацией, в результате чего обеспечивается более быстрое и качественное обслуживание клиен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ое связывание участников бизнес-процесса через технологию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зволяет оперативно доставлять результаты выполненной работы до последующих исполнителей, автоматически сигнализируя о конце предыдущей операции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82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организации управления</a:t>
            </a: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онные коммуникации и безбумажная технология рабочих потоков позволяют сделать более прозрачным контроль исполнения процесса, когда в каждый момент времени можно знать его состояние на конкретных рабочих местах, отклонения в процессах сразу становятся автоматически известными для всех заинтересованных исполнителей и менеджер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Garamond"/>
              </a:rPr>
              <a:t>Изменение межорганизационных взаимодействи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жорганизационные взаимодействия между различными субъектами процессов (партнерами по бизнесу) строятся с помощью электронного обмена данными, который позволяет ускорить и повысить точность оформления и выполнения заказ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23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Verdana"/>
              </a:rPr>
              <a:t>Формы межорганизационного взаимодейств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Клиент - Исполнитель», например, «электронная торговля» (торговля по электронным каталогам), «электронное обслуживание» (банковские, страховые, таможенные и т.д. операции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ставщик», создание на договорной основе «вертикальных конгломератов», осуществление многозвенных логистических процессов (транспортных коридор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37296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казчик - Подрядчик», создание «виртуальных корпораций» под реализацию конкретных проектов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84360" y="336240"/>
            <a:ext cx="2698920" cy="36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>
            <a:off x="0" y="-192240"/>
            <a:ext cx="3992400" cy="105732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аким образом, результатом проведения реинжиниринга бизнес-процессов и использования современных ИТ является более оперативный мониторинг бизнес-процессов и сокращение числа уровней управления на предприят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роение адаптивных бизнес-процессов, нацеленных на быструю адаптацию к изменениям потребностей конечных потребителей продукции, производственных технологий, поведения конкурентов на рынке (повышение качества обслуживания клиентов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ение рациональных схем взаимодействия с партнерами и клиентами (рост прибыли, оптимизация финансовых потоков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676520"/>
            <a:ext cx="8747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ом реинжиниринга является улучшение важнейших количественно измеряемых показател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инжиниринг бывает успешным, только если он находи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тесной связи с организационным развитием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747280" cy="495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По степени воздействия на организационную структуру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ют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) Э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когда оптимизируется внутренняя интеграция различных бизнес-процессов, но не вносятся существенные изменения в функционирование организац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Революцион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гда перепроектируются все бизнес-процессы и происходит переориентация организации на новый вид бизне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289080" y="-32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372000" y="247320"/>
            <a:ext cx="277020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160" bIns="46080" anchor="b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liss Pro Light"/>
              </a:rPr>
              <a:t>Факультет прикладной информатик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765000"/>
            <a:ext cx="874728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ризисный реинжиниринг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перепроектирование бизнес-процессов) – это состояние глубокого кризиса (потеря конкурентоспособности, отказ потребителей от товаров и т.п.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инжиниринг развития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совершенствование бизнес-процессов) – это удовлетворительное текущее положение при нежелательных тенденциях и неблагоприятных прогнозах. Благополучная ситуация при желании ускорить и увеличить отрыв от конкуренто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000" indent="555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0" y="-17640"/>
            <a:ext cx="399240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2:16:59Z</dcterms:created>
  <dc:creator>Арина</dc:creator>
  <dc:description/>
  <dc:language>en-US</dc:language>
  <cp:lastModifiedBy>Ирина</cp:lastModifiedBy>
  <dcterms:modified xsi:type="dcterms:W3CDTF">2017-03-14T11:45:07Z</dcterms:modified>
  <cp:revision>90</cp:revision>
  <dc:subject/>
  <dc:title>ТЕХНОЛОГИЯ РЕИНЖИНИРИНГА БИЗНЕС-ПРОЦЕСС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