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807-1E23-4D5D-A5D2-1978C1CE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42B-5212-4C89-9C8C-4815DC7D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50E-FDD7-4293-BD87-25F819E6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3E6-9A18-4E6A-93CD-FF65958A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F6D-D183-42D3-88F5-B55E771B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71760" y="274680"/>
            <a:ext cx="7114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265-D0FF-4AA0-BD95-1748A81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DB9-EDB5-4C15-915C-8254D73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2C3-B6C5-4649-B57B-690E5190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AE8-1D01-49EA-8A12-6E86F17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A83-D2DD-45B1-9A63-7741D6EC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F0E-DB30-46BA-BE56-D261ECB8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166-8E0B-4F58-9C6D-776F08CF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9A94-788F-4DF1-A5B7-2DF73F6C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3F4-7B07-4203-98D5-56676374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7C08-BF44-4839-987B-AB194676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5AA9-43B4-44D9-9B02-BC717524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6C36-424F-4AB1-BDAF-F932F8C4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71760" y="274680"/>
            <a:ext cx="7114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A376-A1A9-43B6-A780-3213CF68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9947-E3CC-46F9-97C1-4EE58AD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13BC-FB99-4D0B-A331-D45D0848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35C6-BE08-431C-8A13-6B62BB37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DEFC-AF25-4355-B2A6-CF87F7A9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9B43-D573-44DA-8B2F-34E1CD82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AC71-44F7-4FCF-A595-3E32F496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3B02-9503-4443-A7D3-EC185F9D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4518-74C3-4908-8669-06A49909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6D53C-D056-405A-A291-4F7BE4D0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4D6B-72A6-4484-9E44-65BAFA28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5A4C-3F97-44EB-ABEE-E2DA82D3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71760" y="274680"/>
            <a:ext cx="7114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4033-F650-4638-92AD-0777B71C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6C40-7E2B-4726-8131-79058D5D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EE95-B7D2-4B1F-8EE3-BDE4DB71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CC934-0AA7-4865-AF1D-DC1F901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25D2-4CA0-4708-9883-45DB5A49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05B1-63B8-4070-A4FB-265509F1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CDF6-E776-409D-9D92-FFBE4FD9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71760" y="274680"/>
            <a:ext cx="7114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70c.png"/>
          <p:cNvPicPr/>
          <p:nvPr/>
        </p:nvPicPr>
        <p:blipFill>
          <a:blip r:embed="rId3"/>
          <a:stretch/>
        </p:blipFill>
        <p:spPr>
          <a:xfrm>
            <a:off x="142920" y="142920"/>
            <a:ext cx="1356840" cy="121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cfcff"/>
                </a:solidFill>
                <a:latin typeface="Cambri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ecd"/>
            </a:gs>
            <a:gs pos="100000">
              <a:srgbClr val="3bd1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6" descr="770c.png"/>
          <p:cNvPicPr/>
          <p:nvPr/>
        </p:nvPicPr>
        <p:blipFill>
          <a:blip r:embed="rId2"/>
          <a:stretch/>
        </p:blipFill>
        <p:spPr>
          <a:xfrm>
            <a:off x="142920" y="142920"/>
            <a:ext cx="1356840" cy="121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cfcff"/>
                </a:solidFill>
                <a:latin typeface="Cambri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1AC558-3E36-49B8-A400-315928DBA26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ecd"/>
            </a:gs>
            <a:gs pos="100000">
              <a:srgbClr val="3bd1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770c.png"/>
          <p:cNvPicPr/>
          <p:nvPr/>
        </p:nvPicPr>
        <p:blipFill>
          <a:blip r:embed="rId2"/>
          <a:stretch/>
        </p:blipFill>
        <p:spPr>
          <a:xfrm>
            <a:off x="142920" y="142920"/>
            <a:ext cx="1356840" cy="121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cfcff"/>
                </a:solidFill>
                <a:latin typeface="Cambri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DBE3FE-4140-4237-A25E-1E9838FEFAC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ecd"/>
            </a:gs>
            <a:gs pos="100000">
              <a:srgbClr val="3bd1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6" descr="770c.png"/>
          <p:cNvPicPr/>
          <p:nvPr/>
        </p:nvPicPr>
        <p:blipFill>
          <a:blip r:embed="rId2"/>
          <a:stretch/>
        </p:blipFill>
        <p:spPr>
          <a:xfrm>
            <a:off x="142920" y="142920"/>
            <a:ext cx="1356840" cy="121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cfcff"/>
                </a:solidFill>
                <a:latin typeface="Cambri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16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16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16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16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B6E64F-0AEE-4614-B3D1-25B8B147A04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isimskiy.ru/" TargetMode="External"/><Relationship Id="rId2" Type="http://schemas.openxmlformats.org/officeDocument/2006/relationships/hyperlink" Target="http://rezh.narod.ru/zakaznik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Cambria"/>
              </a:rPr>
              <a:t>Природоохранные территории Свердловской области и Тавдинского район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929120"/>
            <a:ext cx="640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4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овикова Соф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МАОУ СОШ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г. Тавда Свердлов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родоохранные территории Тавдинского райо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Ландшафтный заказник "Среднинский бор"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Сорочье болото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200" name="Содержимое 9" descr="http://semantic.uraic.ru/icons/getimage.ashx?id=8161"/>
          <p:cNvPicPr/>
          <p:nvPr/>
        </p:nvPicPr>
        <p:blipFill>
          <a:blip r:embed="rId1"/>
          <a:stretch/>
        </p:blipFill>
        <p:spPr>
          <a:xfrm>
            <a:off x="428760" y="2483640"/>
            <a:ext cx="3857400" cy="3802680"/>
          </a:xfrm>
          <a:prstGeom prst="rect">
            <a:avLst/>
          </a:prstGeom>
          <a:ln w="9525">
            <a:noFill/>
          </a:ln>
        </p:spPr>
      </p:pic>
      <p:pic>
        <p:nvPicPr>
          <p:cNvPr id="201" name="ctl00_MainContent_imgImage" descr="http://semantic.uraic.ru/icons/getimage.ashx?id=6611"/>
          <p:cNvPicPr/>
          <p:nvPr/>
        </p:nvPicPr>
        <p:blipFill>
          <a:blip r:embed="rId2"/>
          <a:stretch/>
        </p:blipFill>
        <p:spPr>
          <a:xfrm>
            <a:off x="4786200" y="2428920"/>
            <a:ext cx="4000320" cy="4000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родоохранные территории Тавдинского райо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7800" y="1600200"/>
            <a:ext cx="4328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Ландшафтный заказник "Среднинский бор«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основый лес  между озерами Среднее и Источное 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зера - места гнездования водоплавающих птиц, включая серых гусей и  лебедей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204" name="Содержимое 9" descr="http://semantic.uraic.ru/icons/getimage.ashx?id=8161"/>
          <p:cNvPicPr/>
          <p:nvPr/>
        </p:nvPicPr>
        <p:blipFill>
          <a:blip r:embed="rId1"/>
          <a:stretch/>
        </p:blipFill>
        <p:spPr>
          <a:xfrm>
            <a:off x="428760" y="1714320"/>
            <a:ext cx="3085920" cy="3333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родоохранные территории Тавдинского райо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ctl00_MainContent_imgImage" descr="http://semantic.uraic.ru/icons/getimage.ashx?id=6611"/>
          <p:cNvPicPr/>
          <p:nvPr/>
        </p:nvPicPr>
        <p:blipFill>
          <a:blip r:embed="rId1"/>
          <a:stretch/>
        </p:blipFill>
        <p:spPr>
          <a:xfrm>
            <a:off x="214200" y="1428840"/>
            <a:ext cx="3857400" cy="4785840"/>
          </a:xfrm>
          <a:prstGeom prst="rect">
            <a:avLst/>
          </a:prstGeom>
          <a:ln w="9525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5432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Сорочье болото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ландшафтный памятник природы областного значения с 1983г 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одораздельное сосново-сфагновое болото в истоке реки Малая Земляная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преимущественно непроходимо, глубина во многих местах превышает 2 м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растут клюква, брусника, голубика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родоохранные территории Тавдинского райо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43240" y="1571760"/>
            <a:ext cx="4543200" cy="455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с1973-2008 года существовал Карабашский бобровый заказник. Популяция бобров на территории района востановлена 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статус заказника с территории снят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210" name="ctl00_MainContent_imgImage" descr="http://semantic.uraic.ru/icons/getimage.ashx?id=11089"/>
          <p:cNvPicPr/>
          <p:nvPr/>
        </p:nvPicPr>
        <p:blipFill>
          <a:blip r:embed="rId1"/>
          <a:stretch/>
        </p:blipFill>
        <p:spPr>
          <a:xfrm>
            <a:off x="357120" y="1500120"/>
            <a:ext cx="3714480" cy="3857400"/>
          </a:xfrm>
          <a:prstGeom prst="rect">
            <a:avLst/>
          </a:prstGeom>
          <a:ln w="9525">
            <a:noFill/>
          </a:ln>
        </p:spPr>
      </p:pic>
      <p:sp>
        <p:nvSpPr>
          <p:cNvPr id="211" name="Прямоугольник 5"/>
          <p:cNvSpPr/>
          <p:nvPr/>
        </p:nvSpPr>
        <p:spPr>
          <a:xfrm>
            <a:off x="1285920" y="5572080"/>
            <a:ext cx="4285800" cy="92844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Карабашский бобровый заказн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Источники информации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mprso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f6fc6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chemeClr val="accent1"/>
                </a:solidFill>
                <a:uFillTx/>
                <a:latin typeface="Cambria"/>
                <a:hlinkClick r:id="rId1"/>
              </a:rPr>
              <a:t>http://visimskiy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denkamen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nppbor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chusovaya.org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olen.ur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bm-park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ambria"/>
                <a:hlinkClick r:id="rId2"/>
              </a:rPr>
              <a:t>http://rezh.narod.ru/zakaznik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semantic.uraic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Висимский заповедник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6120" y="1285920"/>
            <a:ext cx="4900320" cy="483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оссоздан в 1971 году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2001 г присвоен статус биосферного резервата ЮНЕСКО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расположен одновременно в Европе и Азии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главная река Сулем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од охраной 560 видов растений и 156 видов животных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73" name="Содержимое 8" descr="getimage.jpg"/>
          <p:cNvPicPr/>
          <p:nvPr/>
        </p:nvPicPr>
        <p:blipFill>
          <a:blip r:embed="rId1"/>
          <a:stretch/>
        </p:blipFill>
        <p:spPr>
          <a:xfrm>
            <a:off x="214200" y="1571760"/>
            <a:ext cx="3319200" cy="443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аповедник «Денежкин камень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1946 г Государственный заповедник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крупные горные реки - Тальтия и Сосьв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од охраной 557видов растений и 147 видов животных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76" name="Содержимое 6" descr="http://semantic.uraic.ru/icons/getimage.ashx?id=5232"/>
          <p:cNvPicPr/>
          <p:nvPr/>
        </p:nvPicPr>
        <p:blipFill>
          <a:blip r:embed="rId1"/>
          <a:stretch/>
        </p:blipFill>
        <p:spPr>
          <a:xfrm>
            <a:off x="1071360" y="4000680"/>
            <a:ext cx="3357000" cy="2642760"/>
          </a:xfrm>
          <a:prstGeom prst="rect">
            <a:avLst/>
          </a:prstGeom>
          <a:ln w="9525">
            <a:noFill/>
          </a:ln>
        </p:spPr>
      </p:pic>
      <p:pic>
        <p:nvPicPr>
          <p:cNvPr id="177" name="Picture 2" descr="http://komanda-k.ru/sites/default/files/Denezhkin%20(11).jpg"/>
          <p:cNvPicPr/>
          <p:nvPr/>
        </p:nvPicPr>
        <p:blipFill>
          <a:blip r:embed="rId2"/>
          <a:stretch/>
        </p:blipFill>
        <p:spPr>
          <a:xfrm>
            <a:off x="0" y="1214280"/>
            <a:ext cx="4267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Припышминские боры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29040" y="1500120"/>
            <a:ext cx="4828680" cy="461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1993г. Национальный парк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храняются  ценные насаждения сосны обыкновенной и ели сибирской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животные заяц-беляк, белка, ондатра, бобр, колонок, лесная куница, рысь, горностай, барсук, лисица, волк, бурый медведь, лось, косуля.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80" name="Содержимое 6" descr="http://semantic.uraic.ru/icons/getimage.ashx?id=5234"/>
          <p:cNvPicPr/>
          <p:nvPr/>
        </p:nvPicPr>
        <p:blipFill>
          <a:blip r:embed="rId1"/>
          <a:stretch/>
        </p:blipFill>
        <p:spPr>
          <a:xfrm>
            <a:off x="285840" y="1214280"/>
            <a:ext cx="3571560" cy="4643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71760" y="28584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Оленьи ручьи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285920"/>
            <a:ext cx="4038120" cy="483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 1999г природный парк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хвойные леса с примесью широколиственных деревьев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130 больших и малых пещер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800 видов растений под охраной 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83" name="Содержимое 4" descr="http://semantic.uraic.ru/icons/getimage.ashx?id=2260"/>
          <p:cNvPicPr/>
          <p:nvPr/>
        </p:nvPicPr>
        <p:blipFill>
          <a:blip r:embed="rId1"/>
          <a:stretch/>
        </p:blipFill>
        <p:spPr>
          <a:xfrm>
            <a:off x="285840" y="1571760"/>
            <a:ext cx="4209840" cy="4428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Бажовские мест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57800" y="1357200"/>
            <a:ext cx="4328640" cy="476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2007г природный парк областного значения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арк ориентирован на развитие пешего, конного, велосипедного и снегоходного туризм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од охраной 50 видов млекопитающих 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86" name="Содержимое 5" descr="http://www.bm-park.ru/content/cdid_12617/images/%D0%B1%D0%B5%D0%B7%20%D0%B8%D0%BC%D0%B5%D0%BD%D0%B8-1-18.jpg"/>
          <p:cNvPicPr/>
          <p:nvPr/>
        </p:nvPicPr>
        <p:blipFill>
          <a:blip r:embed="rId1"/>
          <a:stretch/>
        </p:blipFill>
        <p:spPr>
          <a:xfrm>
            <a:off x="285840" y="1357200"/>
            <a:ext cx="3142800" cy="2285640"/>
          </a:xfrm>
          <a:prstGeom prst="rect">
            <a:avLst/>
          </a:prstGeom>
          <a:ln w="9525">
            <a:noFill/>
          </a:ln>
        </p:spPr>
      </p:pic>
      <p:pic>
        <p:nvPicPr>
          <p:cNvPr id="187" name="Содержимое 4" descr="http://semantic.uraic.ru/icons/getimage.ashx?id=6611"/>
          <p:cNvPicPr/>
          <p:nvPr/>
        </p:nvPicPr>
        <p:blipFill>
          <a:blip r:embed="rId2"/>
          <a:stretch/>
        </p:blipFill>
        <p:spPr>
          <a:xfrm>
            <a:off x="1285920" y="3929040"/>
            <a:ext cx="290016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Природный пар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« Река Чусовая»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57800" y="1571760"/>
            <a:ext cx="4328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 2004г. парк областного значения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37 памятников природы  Столбы, Писаный, Олений, Богатырь, Лебяжий, Омутной, Разбойник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река Чусовая единственная в мире, протекает по двум частям света – из Азии в Европу.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90" name="Содержимое 4" descr="http://semantic.uraic.ru/icons/getimage.ashx?id=6607"/>
          <p:cNvPicPr/>
          <p:nvPr/>
        </p:nvPicPr>
        <p:blipFill>
          <a:blip r:embed="rId1"/>
          <a:stretch/>
        </p:blipFill>
        <p:spPr>
          <a:xfrm>
            <a:off x="214200" y="1285920"/>
            <a:ext cx="3500280" cy="2928600"/>
          </a:xfrm>
          <a:prstGeom prst="rect">
            <a:avLst/>
          </a:prstGeom>
          <a:ln w="9525">
            <a:noFill/>
          </a:ln>
        </p:spPr>
      </p:pic>
      <p:pic>
        <p:nvPicPr>
          <p:cNvPr id="191" name="Рисунок 5" descr="http://www.chusovaya.org/upload/iblock/969/xcectjgarajyqt1.jpg"/>
          <p:cNvPicPr/>
          <p:nvPr/>
        </p:nvPicPr>
        <p:blipFill>
          <a:blip r:embed="rId2"/>
          <a:stretch/>
        </p:blipFill>
        <p:spPr>
          <a:xfrm>
            <a:off x="142920" y="4429080"/>
            <a:ext cx="4288320" cy="221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Минералогический заповедник «Режевской»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428840"/>
            <a:ext cx="4038120" cy="469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1995г. заказник областного значения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амятники природы скалы Адуй-Камень и Шайтан-камень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месторождения самоцветов – пегматита, рубина, сапфира, корунда, граната, берилла, волосатика, горного хрусталя, аметиста, змеевика, топаз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94" name="Содержимое 4" descr="http://semantic.uraic.ru/icons/getimage.ashx?id=6628"/>
          <p:cNvPicPr/>
          <p:nvPr/>
        </p:nvPicPr>
        <p:blipFill>
          <a:blip r:embed="rId1"/>
          <a:stretch/>
        </p:blipFill>
        <p:spPr>
          <a:xfrm>
            <a:off x="428760" y="1500120"/>
            <a:ext cx="4038120" cy="4285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Государственные природные заказники областного значения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472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могут иметь различный профиль, в том числе быть: комплексными (ландшафтными), биологическими (ботаническими и зоологическими), палеонтологическими, гидрологическими, геологическими, почвенными, геоморфологическими.</a:t>
            </a: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lisss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lisss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lisss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lisss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lisss</Template>
  <TotalTime>119</TotalTime>
  <Application>LibreOffice/7.4.7.2$Linux_X86_64 LibreOffice_project/40$Build-2</Application>
  <AppVersion>15.0000</AppVersion>
  <Words>422</Words>
  <Paragraphs>6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23:32:43Z</dcterms:created>
  <dc:creator>Admin</dc:creator>
  <dc:description/>
  <dc:language>en-US</dc:language>
  <cp:lastModifiedBy>Admin</cp:lastModifiedBy>
  <dcterms:modified xsi:type="dcterms:W3CDTF">2016-01-25T01:38:48Z</dcterms:modified>
  <cp:revision>20</cp:revision>
  <dc:subject/>
  <dc:title>Природоохранные территории Свердловской области и Тавдинского рай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