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027-B446-47BB-A15B-53BF0D63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751F-8F57-4571-834E-76028DC7D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8F5C-7345-4341-933A-48982609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76F-6579-4A51-9480-95F46A11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BAA1-1D8A-45FF-A710-98361A1B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71760" y="274680"/>
            <a:ext cx="71146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A13A-6DA1-4027-8AE6-382F0E14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9BF-C4CA-4E44-A80C-6F738F12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B167-01A7-4B92-A43C-2D5A1AEB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972-40D8-4B25-AFE3-ABBE0943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9EE-F91C-403A-BC4D-9CDD0B29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9B3-FACF-412E-8267-80478C0E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E00-8E08-42EE-B128-290E099F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46EC-CEEE-4672-BB70-7FF0F21A9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B2F4-0E23-4EF1-84C5-06F19105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A403-8896-4B2E-817C-A3CD1D6E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EF4C-6C2A-479A-87CF-A17D22BC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2B24-093F-4EAA-9FDD-B9D5D702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571760" y="274680"/>
            <a:ext cx="71146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4021-862C-4E62-8866-E031A02C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9B18-35BD-49DE-8A67-4F62F039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5157-C5D9-40DF-9D5C-D8F1CB39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974A-DE1D-4A67-B888-58AF2094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97B9-10C1-458D-A4BC-7012A1C7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E650-E35F-49A2-A29A-6B17CE56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D0CA1-1A41-4EE9-B521-A7E28160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9DB0C-9BBB-4482-824F-46BB6CC8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7EB1B-0D7E-453C-8748-DB01B202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ADB76-2584-440C-BF20-E2A7F6CF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EA095-F2BA-4E5B-A405-FA9623B2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79D15-9BAD-4394-AEAB-E1CD79B6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571760" y="274680"/>
            <a:ext cx="71146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83A1D-93E1-4152-B03F-12FFEAD7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022C-508E-49A7-8F09-FA13583F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CABE7-BFDB-4E3D-8DE8-76BA4C7E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6A8C3-B8F7-4C53-986C-68FCF14C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D4709-F1B7-47F9-861F-68C32B95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005BE-FD73-43DD-8021-D56C774D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7DC4F-A46B-4916-A174-49DD6805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71760" y="274680"/>
            <a:ext cx="711468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770c.png"/>
          <p:cNvPicPr/>
          <p:nvPr/>
        </p:nvPicPr>
        <p:blipFill>
          <a:blip r:embed="rId3"/>
          <a:stretch/>
        </p:blipFill>
        <p:spPr>
          <a:xfrm>
            <a:off x="142920" y="142920"/>
            <a:ext cx="1356840" cy="1217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cfcff"/>
                </a:solidFill>
                <a:latin typeface="Cambri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Click to edit the outline text format</a:t>
            </a: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Second Outline Level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Third Outline Level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Fourth Outline Level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Fifth Outline Level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Sixth Outline Level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Seventh Outline Level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ecd"/>
            </a:gs>
            <a:gs pos="100000">
              <a:srgbClr val="3bd1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Рисунок 6" descr="770c.png"/>
          <p:cNvPicPr/>
          <p:nvPr/>
        </p:nvPicPr>
        <p:blipFill>
          <a:blip r:embed="rId2"/>
          <a:stretch/>
        </p:blipFill>
        <p:spPr>
          <a:xfrm>
            <a:off x="142920" y="142920"/>
            <a:ext cx="1356840" cy="1217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cfcff"/>
                </a:solidFill>
                <a:latin typeface="Cambri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Образец текста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Второй уровень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Третий уровень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Четвертый уровень</a:t>
            </a:r>
            <a:endParaRPr b="1" lang="ru-RU" sz="1800" spc="-1" strike="noStrike">
              <a:solidFill>
                <a:srgbClr val="002060"/>
              </a:solidFill>
              <a:latin typeface="Cambri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2060"/>
              </a:buClr>
              <a:buFont typeface="Arial"/>
              <a:buChar char="»"/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Пятый уровень</a:t>
            </a:r>
            <a:endParaRPr b="1" lang="ru-RU" sz="1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Образец текста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Второй уровень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Третий уровень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Четвертый уровень</a:t>
            </a:r>
            <a:endParaRPr b="1" lang="ru-RU" sz="1800" spc="-1" strike="noStrike">
              <a:solidFill>
                <a:srgbClr val="002060"/>
              </a:solidFill>
              <a:latin typeface="Cambria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2060"/>
              </a:buClr>
              <a:buFont typeface="Arial"/>
              <a:buChar char="»"/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Пятый уровень</a:t>
            </a:r>
            <a:endParaRPr b="1" lang="ru-RU" sz="18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38663C-607C-4EBD-8CC2-5435B8871F7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ecd"/>
            </a:gs>
            <a:gs pos="100000">
              <a:srgbClr val="3bd1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6" descr="770c.png"/>
          <p:cNvPicPr/>
          <p:nvPr/>
        </p:nvPicPr>
        <p:blipFill>
          <a:blip r:embed="rId2"/>
          <a:stretch/>
        </p:blipFill>
        <p:spPr>
          <a:xfrm>
            <a:off x="142920" y="142920"/>
            <a:ext cx="1356840" cy="1217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cfcff"/>
                </a:solidFill>
                <a:latin typeface="Cambri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Образец текста</a:t>
            </a: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Второй уровень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Третий уровень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Четвертый уровень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»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Пятый уровень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C00B31-DE46-4E08-904D-63690387462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eecd"/>
            </a:gs>
            <a:gs pos="100000">
              <a:srgbClr val="3bd1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6" descr="770c.png"/>
          <p:cNvPicPr/>
          <p:nvPr/>
        </p:nvPicPr>
        <p:blipFill>
          <a:blip r:embed="rId2"/>
          <a:stretch/>
        </p:blipFill>
        <p:spPr>
          <a:xfrm>
            <a:off x="142920" y="142920"/>
            <a:ext cx="1356840" cy="12171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cfcff"/>
                </a:solidFill>
                <a:latin typeface="Cambria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Образец текста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Образец текста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Второй уровень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Третий уровень</a:t>
            </a:r>
            <a:endParaRPr b="1" lang="ru-RU" sz="1800" spc="-1" strike="noStrike">
              <a:solidFill>
                <a:srgbClr val="002060"/>
              </a:solidFill>
              <a:latin typeface="Cambria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Четвертый уровень</a:t>
            </a:r>
            <a:endParaRPr b="1" lang="ru-RU" sz="1600" spc="-1" strike="noStrike">
              <a:solidFill>
                <a:srgbClr val="002060"/>
              </a:solidFill>
              <a:latin typeface="Cambria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2060"/>
              </a:buClr>
              <a:buFont typeface="Arial"/>
              <a:buChar char="»"/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Пятый уровень</a:t>
            </a:r>
            <a:endParaRPr b="1" lang="ru-RU" sz="16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Образец текста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Образец текста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Второй уровень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1800" spc="-1" strike="noStrike">
                <a:solidFill>
                  <a:srgbClr val="002060"/>
                </a:solidFill>
                <a:latin typeface="Cambria"/>
              </a:rPr>
              <a:t>Третий уровень</a:t>
            </a:r>
            <a:endParaRPr b="1" lang="ru-RU" sz="1800" spc="-1" strike="noStrike">
              <a:solidFill>
                <a:srgbClr val="002060"/>
              </a:solidFill>
              <a:latin typeface="Cambria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2060"/>
              </a:buClr>
              <a:buFont typeface="Arial"/>
              <a:buChar char="–"/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Четвертый уровень</a:t>
            </a:r>
            <a:endParaRPr b="1" lang="ru-RU" sz="1600" spc="-1" strike="noStrike">
              <a:solidFill>
                <a:srgbClr val="002060"/>
              </a:solidFill>
              <a:latin typeface="Cambria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2060"/>
              </a:buClr>
              <a:buFont typeface="Arial"/>
              <a:buChar char="»"/>
            </a:pPr>
            <a:r>
              <a:rPr b="1" lang="ru-RU" sz="1600" spc="-1" strike="noStrike">
                <a:solidFill>
                  <a:srgbClr val="002060"/>
                </a:solidFill>
                <a:latin typeface="Cambria"/>
              </a:rPr>
              <a:t>Пятый уровень</a:t>
            </a:r>
            <a:endParaRPr b="1" lang="ru-RU" sz="16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931BA2-FA4E-4B51-99F2-4331BAAFD73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6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visimskiy.ru/" TargetMode="External"/><Relationship Id="rId2" Type="http://schemas.openxmlformats.org/officeDocument/2006/relationships/hyperlink" Target="http://rezh.narod.ru/zakaznik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000000"/>
                </a:solidFill>
                <a:latin typeface="Cambria"/>
              </a:rPr>
              <a:t>Природоохранные территории Свердловской области и Тавдинского района</a:t>
            </a:r>
            <a:endParaRPr b="0" lang="ru-RU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4929120"/>
            <a:ext cx="64004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64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Новикова Софь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МАОУ СОШ №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</a:rPr>
              <a:t>г. Тавда Свердловск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риродоохранные территории Тавдинского район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Ландшафтный заказник "Среднинский бор"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Сорочье болото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200" name="Содержимое 9" descr="http://semantic.uraic.ru/icons/getimage.ashx?id=8161"/>
          <p:cNvPicPr/>
          <p:nvPr/>
        </p:nvPicPr>
        <p:blipFill>
          <a:blip r:embed="rId1"/>
          <a:stretch/>
        </p:blipFill>
        <p:spPr>
          <a:xfrm>
            <a:off x="428760" y="2483640"/>
            <a:ext cx="3857400" cy="3802680"/>
          </a:xfrm>
          <a:prstGeom prst="rect">
            <a:avLst/>
          </a:prstGeom>
          <a:ln w="9525">
            <a:noFill/>
          </a:ln>
        </p:spPr>
      </p:pic>
      <p:pic>
        <p:nvPicPr>
          <p:cNvPr id="201" name="ctl00_MainContent_imgImage" descr="http://semantic.uraic.ru/icons/getimage.ashx?id=6611"/>
          <p:cNvPicPr/>
          <p:nvPr/>
        </p:nvPicPr>
        <p:blipFill>
          <a:blip r:embed="rId2"/>
          <a:stretch/>
        </p:blipFill>
        <p:spPr>
          <a:xfrm>
            <a:off x="4786200" y="2428920"/>
            <a:ext cx="4000320" cy="40003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риродоохранные территории Тавдинского район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57800" y="1600200"/>
            <a:ext cx="43286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Ландшафтный заказник "Среднинский бор«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Сосновый лес  между озерами Среднее и Источное 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Озера - места гнездования водоплавающих птиц, включая серых гусей и  лебедей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204" name="Содержимое 9" descr="http://semantic.uraic.ru/icons/getimage.ashx?id=8161"/>
          <p:cNvPicPr/>
          <p:nvPr/>
        </p:nvPicPr>
        <p:blipFill>
          <a:blip r:embed="rId1"/>
          <a:stretch/>
        </p:blipFill>
        <p:spPr>
          <a:xfrm>
            <a:off x="428760" y="1714320"/>
            <a:ext cx="3085920" cy="3333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риродоохранные территории Тавдинского район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ctl00_MainContent_imgImage" descr="http://semantic.uraic.ru/icons/getimage.ashx?id=6611"/>
          <p:cNvPicPr/>
          <p:nvPr/>
        </p:nvPicPr>
        <p:blipFill>
          <a:blip r:embed="rId1"/>
          <a:stretch/>
        </p:blipFill>
        <p:spPr>
          <a:xfrm>
            <a:off x="214200" y="1428840"/>
            <a:ext cx="3857400" cy="4785840"/>
          </a:xfrm>
          <a:prstGeom prst="rect">
            <a:avLst/>
          </a:prstGeom>
          <a:ln w="9525">
            <a:noFill/>
          </a:ln>
        </p:spPr>
      </p:pic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43240" y="1600200"/>
            <a:ext cx="454320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Сорочье болото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ландшафтный памятник природы областного значения с 1983г 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водораздельное сосново-сфагновое болото в истоке реки Малая Земляная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преимущественно непроходимо, глубина во многих местах превышает 2 м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растут клюква, брусника, голубика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Природоохранные территории Тавдинского район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43240" y="1571760"/>
            <a:ext cx="4543200" cy="455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с1973-2008 года существовал Карабашский бобровый заказник. Популяция бобров на территории района востановлена 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статус заказника с территории снят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210" name="ctl00_MainContent_imgImage" descr="http://semantic.uraic.ru/icons/getimage.ashx?id=11089"/>
          <p:cNvPicPr/>
          <p:nvPr/>
        </p:nvPicPr>
        <p:blipFill>
          <a:blip r:embed="rId1"/>
          <a:stretch/>
        </p:blipFill>
        <p:spPr>
          <a:xfrm>
            <a:off x="357120" y="1500120"/>
            <a:ext cx="3714480" cy="3857400"/>
          </a:xfrm>
          <a:prstGeom prst="rect">
            <a:avLst/>
          </a:prstGeom>
          <a:ln w="9525">
            <a:noFill/>
          </a:ln>
        </p:spPr>
      </p:pic>
      <p:sp>
        <p:nvSpPr>
          <p:cNvPr id="211" name="Прямоугольник 5"/>
          <p:cNvSpPr/>
          <p:nvPr/>
        </p:nvSpPr>
        <p:spPr>
          <a:xfrm>
            <a:off x="1285920" y="5572080"/>
            <a:ext cx="4285800" cy="928440"/>
          </a:xfrm>
          <a:prstGeom prst="rect">
            <a:avLst/>
          </a:prstGeom>
          <a:solidFill>
            <a:schemeClr val="accent5">
              <a:lumMod val="75000"/>
            </a:schemeClr>
          </a:solidFill>
          <a:ln>
            <a:solidFill>
              <a:srgbClr val="0b5292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Карабашский бобровый заказни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Источники информации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b5394"/>
              </a:buClr>
              <a:buFont typeface="Arial"/>
              <a:buChar char="•"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http://www.mprso.ru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f6fc6"/>
              </a:buClr>
              <a:buFont typeface="Arial"/>
              <a:buChar char="•"/>
            </a:pPr>
            <a:r>
              <a:rPr b="1" lang="ru-RU" sz="2800" spc="-1" strike="noStrike" u="sng">
                <a:solidFill>
                  <a:schemeClr val="accent1"/>
                </a:solidFill>
                <a:uFillTx/>
                <a:latin typeface="Cambria"/>
                <a:hlinkClick r:id="rId1"/>
              </a:rPr>
              <a:t>http://visimskiy.ru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b5394"/>
              </a:buClr>
              <a:buFont typeface="Arial"/>
              <a:buChar char="•"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http://www.denkamen.ru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b5394"/>
              </a:buClr>
              <a:buFont typeface="Arial"/>
              <a:buChar char="•"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http://www.nppbor.ru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b5394"/>
              </a:buClr>
              <a:buFont typeface="Arial"/>
              <a:buChar char="•"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http://www.chusovaya.org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b5394"/>
              </a:buClr>
              <a:buFont typeface="Arial"/>
              <a:buChar char="•"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http://www.olen.ur.ru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b5394"/>
              </a:buClr>
              <a:buFont typeface="Arial"/>
              <a:buChar char="•"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http://www.bm-park.ru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b5394"/>
              </a:buClr>
              <a:buFont typeface="Arial"/>
              <a:buChar char="•"/>
            </a:pPr>
            <a:r>
              <a:rPr b="1" lang="ru-RU" sz="2800" spc="-1" strike="noStrike" u="sng">
                <a:solidFill>
                  <a:schemeClr val="accent1">
                    <a:lumMod val="75000"/>
                  </a:schemeClr>
                </a:solidFill>
                <a:uFillTx/>
                <a:latin typeface="Cambria"/>
                <a:hlinkClick r:id="rId2"/>
              </a:rPr>
              <a:t>http://rezh.narod.ru/zakaznik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b5394"/>
              </a:buClr>
              <a:buFont typeface="Arial"/>
              <a:buChar char="•"/>
            </a:pPr>
            <a:r>
              <a:rPr b="1" lang="ru-RU" sz="28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http://semantic.uraic.ru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Висимский заповедник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86120" y="1285920"/>
            <a:ext cx="4900320" cy="483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воссоздан в 1971 году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2001 г присвоен статус биосферного резервата ЮНЕСКО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расположен одновременно в Европе и Азии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главная река Сулем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под охраной 560 видов растений и 156 видов животных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173" name="Содержимое 8" descr="getimage.jpg"/>
          <p:cNvPicPr/>
          <p:nvPr/>
        </p:nvPicPr>
        <p:blipFill>
          <a:blip r:embed="rId1"/>
          <a:stretch/>
        </p:blipFill>
        <p:spPr>
          <a:xfrm>
            <a:off x="214200" y="1571760"/>
            <a:ext cx="3319200" cy="4438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Заповедник «Денежкин камень»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С 1946 г Государственный заповедник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крупные горные реки - Тальтия и Сосьва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под охраной 557видов растений и 147 видов животных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176" name="Содержимое 6" descr="http://semantic.uraic.ru/icons/getimage.ashx?id=5232"/>
          <p:cNvPicPr/>
          <p:nvPr/>
        </p:nvPicPr>
        <p:blipFill>
          <a:blip r:embed="rId1"/>
          <a:stretch/>
        </p:blipFill>
        <p:spPr>
          <a:xfrm>
            <a:off x="1071360" y="4000680"/>
            <a:ext cx="3357000" cy="2642760"/>
          </a:xfrm>
          <a:prstGeom prst="rect">
            <a:avLst/>
          </a:prstGeom>
          <a:ln w="9525">
            <a:noFill/>
          </a:ln>
        </p:spPr>
      </p:pic>
      <p:pic>
        <p:nvPicPr>
          <p:cNvPr id="177" name="Picture 2" descr="http://komanda-k.ru/sites/default/files/Denezhkin%20(11).jpg"/>
          <p:cNvPicPr/>
          <p:nvPr/>
        </p:nvPicPr>
        <p:blipFill>
          <a:blip r:embed="rId2"/>
          <a:stretch/>
        </p:blipFill>
        <p:spPr>
          <a:xfrm>
            <a:off x="0" y="1214280"/>
            <a:ext cx="42678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Припышминские боры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29040" y="1500120"/>
            <a:ext cx="4828680" cy="46144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с 1993г. Национальный парк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охраняются  ценные насаждения сосны обыкновенной и ели сибирской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0" algn="just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животные заяц-беляк, белка, ондатра, бобр, колонок, лесная куница, рысь, горностай, барсук, лисица, волк, бурый медведь, лось, косуля.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180" name="Содержимое 6" descr="http://semantic.uraic.ru/icons/getimage.ashx?id=5234"/>
          <p:cNvPicPr/>
          <p:nvPr/>
        </p:nvPicPr>
        <p:blipFill>
          <a:blip r:embed="rId1"/>
          <a:stretch/>
        </p:blipFill>
        <p:spPr>
          <a:xfrm>
            <a:off x="285840" y="1214280"/>
            <a:ext cx="3571560" cy="4643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71760" y="28584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Оленьи ручьи: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285920"/>
            <a:ext cx="4038120" cy="483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с 1999г природный парк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хвойные леса с примесью широколиственных деревьев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130 больших и малых пещер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800 видов растений под охраной </a:t>
            </a:r>
            <a:endParaRPr b="1" lang="ru-RU" sz="28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183" name="Содержимое 4" descr="http://semantic.uraic.ru/icons/getimage.ashx?id=2260"/>
          <p:cNvPicPr/>
          <p:nvPr/>
        </p:nvPicPr>
        <p:blipFill>
          <a:blip r:embed="rId1"/>
          <a:stretch/>
        </p:blipFill>
        <p:spPr>
          <a:xfrm>
            <a:off x="285840" y="1571760"/>
            <a:ext cx="4209840" cy="4428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Бажовские мест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357800" y="1357200"/>
            <a:ext cx="4328640" cy="4768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с 2007г природный парк областного значения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парк ориентирован на развитие пешего, конного, велосипедного и снегоходного туризма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indent="0" algn="just">
              <a:lnSpc>
                <a:spcPct val="100000"/>
              </a:lnSpc>
              <a:spcBef>
                <a:spcPts val="479"/>
              </a:spcBef>
              <a:buNone/>
            </a:pP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под охраной 50 видов млекопитающих 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186" name="Содержимое 5" descr="http://www.bm-park.ru/content/cdid_12617/images/%D0%B1%D0%B5%D0%B7%20%D0%B8%D0%BC%D0%B5%D0%BD%D0%B8-1-18.jpg"/>
          <p:cNvPicPr/>
          <p:nvPr/>
        </p:nvPicPr>
        <p:blipFill>
          <a:blip r:embed="rId1"/>
          <a:stretch/>
        </p:blipFill>
        <p:spPr>
          <a:xfrm>
            <a:off x="285840" y="1357200"/>
            <a:ext cx="3142800" cy="2285640"/>
          </a:xfrm>
          <a:prstGeom prst="rect">
            <a:avLst/>
          </a:prstGeom>
          <a:ln w="9525">
            <a:noFill/>
          </a:ln>
        </p:spPr>
      </p:pic>
      <p:pic>
        <p:nvPicPr>
          <p:cNvPr id="187" name="Содержимое 4" descr="http://semantic.uraic.ru/icons/getimage.ashx?id=6611"/>
          <p:cNvPicPr/>
          <p:nvPr/>
        </p:nvPicPr>
        <p:blipFill>
          <a:blip r:embed="rId2"/>
          <a:stretch/>
        </p:blipFill>
        <p:spPr>
          <a:xfrm>
            <a:off x="1285920" y="3929040"/>
            <a:ext cx="2900160" cy="2428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Природный парк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« Река Чусовая»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357800" y="1571760"/>
            <a:ext cx="43286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с  2004г. парк областного значения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37 памятников природы  Столбы, Писаный, Олений, Богатырь, Лебяжий, Омутной, Разбойник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000" spc="-1" strike="noStrike">
                <a:solidFill>
                  <a:srgbClr val="002060"/>
                </a:solidFill>
                <a:latin typeface="Cambria"/>
              </a:rPr>
              <a:t>река Чусовая единственная в мире, протекает по двум частям света – из Азии в Европу.</a:t>
            </a:r>
            <a:endParaRPr b="1" lang="ru-RU" sz="20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190" name="Содержимое 4" descr="http://semantic.uraic.ru/icons/getimage.ashx?id=6607"/>
          <p:cNvPicPr/>
          <p:nvPr/>
        </p:nvPicPr>
        <p:blipFill>
          <a:blip r:embed="rId1"/>
          <a:stretch/>
        </p:blipFill>
        <p:spPr>
          <a:xfrm>
            <a:off x="214200" y="1285920"/>
            <a:ext cx="3500280" cy="2928600"/>
          </a:xfrm>
          <a:prstGeom prst="rect">
            <a:avLst/>
          </a:prstGeom>
          <a:ln w="9525">
            <a:noFill/>
          </a:ln>
        </p:spPr>
      </p:pic>
      <p:pic>
        <p:nvPicPr>
          <p:cNvPr id="191" name="Рисунок 5" descr="http://www.chusovaya.org/upload/iblock/969/xcectjgarajyqt1.jpg"/>
          <p:cNvPicPr/>
          <p:nvPr/>
        </p:nvPicPr>
        <p:blipFill>
          <a:blip r:embed="rId2"/>
          <a:stretch/>
        </p:blipFill>
        <p:spPr>
          <a:xfrm>
            <a:off x="142920" y="4429080"/>
            <a:ext cx="4288320" cy="221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Минералогический заповедник «Режевской»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8320" y="1428840"/>
            <a:ext cx="4038120" cy="4696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с 1995г. заказник областного значения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памятники природы скалы Адуй-Камень и Шайтан-камень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2060"/>
                </a:solidFill>
                <a:latin typeface="Cambria"/>
              </a:rPr>
              <a:t>месторождения самоцветов – пегматита, рубина, сапфира, корунда, граната, берилла, волосатика, горного хрусталя, аметиста, змеевика, топаза</a:t>
            </a:r>
            <a:endParaRPr b="1" lang="ru-RU" sz="2400" spc="-1" strike="noStrike">
              <a:solidFill>
                <a:srgbClr val="002060"/>
              </a:solidFill>
              <a:latin typeface="Cambria"/>
            </a:endParaRPr>
          </a:p>
        </p:txBody>
      </p:sp>
      <p:pic>
        <p:nvPicPr>
          <p:cNvPr id="194" name="Содержимое 4" descr="http://semantic.uraic.ru/icons/getimage.ashx?id=6628"/>
          <p:cNvPicPr/>
          <p:nvPr/>
        </p:nvPicPr>
        <p:blipFill>
          <a:blip r:embed="rId1"/>
          <a:stretch/>
        </p:blipFill>
        <p:spPr>
          <a:xfrm>
            <a:off x="428760" y="1500120"/>
            <a:ext cx="4038120" cy="4285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71760" y="27468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Государственные природные заказники областного значения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14200" y="1600200"/>
            <a:ext cx="8472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206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могут иметь различный профиль, в том числе быть: комплексными (ландшафтными), биологическими (ботаническими и зоологическими), палеонтологическими, гидрологическими, геологическими, почвенными, геоморфологическими.</a:t>
            </a: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1" lang="ru-RU" sz="3200" spc="-1" strike="noStrike">
              <a:solidFill>
                <a:srgbClr val="00206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lisss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lisss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lisss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lisss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lisss</Template>
  <TotalTime>119</TotalTime>
  <Application>LibreOffice/7.4.7.2$Linux_X86_64 LibreOffice_project/40$Build-2</Application>
  <AppVersion>15.0000</AppVersion>
  <Words>422</Words>
  <Paragraphs>6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23:32:43Z</dcterms:created>
  <dc:creator>Admin</dc:creator>
  <dc:description/>
  <dc:language>en-US</dc:language>
  <cp:lastModifiedBy>Admin</cp:lastModifiedBy>
  <dcterms:modified xsi:type="dcterms:W3CDTF">2016-01-25T01:38:48Z</dcterms:modified>
  <cp:revision>20</cp:revision>
  <dc:subject/>
  <dc:title>Природоохранные территории Свердловской области и Тавдинского райо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4</vt:r8>
  </property>
</Properties>
</file>