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605-0F99-4349-872D-F930B08C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BC8-9CD2-46FE-81D2-42DAA95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876-A6FD-4D0D-98A9-52073BAA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C0B-06D9-4068-A961-3AC1BD35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0DEE-B385-4115-A2D8-2C8F1E9C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AC0-3A6B-47AC-87EA-0FBA1DC5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52B-5FDB-4012-84AB-29B4F54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6FEA-BECE-41B5-B1E9-B105BC1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E25E-BBF7-4B0D-9ECF-F9AC2F6D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77A-C97C-406B-82AE-097B6FBF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6BBE-BA3A-45FE-808D-F83555F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7AF-08E4-4C50-A7B6-0EF7A27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AEA-3A39-470F-8297-C9EF790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5CA-A500-4753-9F33-EDAEAF4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C77-4BCF-4C15-BB48-C55D76B6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963B-DDE7-45AE-98DC-240865AF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116C-4D6E-4188-A7AF-EBB37B3B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BC2-2098-4B3B-85E3-B2C51739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CEC-4FD3-4551-9008-3A0D0B70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816-448D-49C7-B698-50625FF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744-9EB0-4D19-AC73-E2627F1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4F8-1D1C-47FA-BA67-C472F5A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CAA-87CB-4EED-82B7-54B2E42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713-AFA0-4B5C-B6BF-D977633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6B6-121D-4FBC-BCE7-7DABC45D7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B78-0444-4C64-B43D-9E89E781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985320"/>
            <a:ext cx="61675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уральский фили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бюджетного профессионально - образовательного учрежд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Свердловский областной  медицинский колледж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циальность 34.02.01 Сестринское дело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исциплина ОП 03.  ОСНОВЫ ПАТОЛОГИИ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Лекция №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ЗАИМОДЕЙСТВИЕ ОРГАНИЗМА И ОКРУЖАЮЩЕЙ СРЕДЫ В УСЛОВИЯХ ПАТОЛОГИИ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Эмблема новая2"/>
          <p:cNvPicPr/>
          <p:nvPr/>
        </p:nvPicPr>
        <p:blipFill>
          <a:blip r:embed="rId1"/>
          <a:stretch/>
        </p:blipFill>
        <p:spPr>
          <a:xfrm>
            <a:off x="914400" y="5335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ербар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повышение барометрического давл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водолазных или кессонных работах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ипербария повышает растворимость газов в крови и тканях (воздух, используемый при водолазных работах, содержит азот - при быстром переходе от высокого барометрического давления к нормальному растворимость газов падает, азот в виде пузырьков газа насыщает кровь - развивается кессонная болезнь, связанная с газовой эмболией)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яется: сдавлением барабанных перепонок, болью в ушах, разрывом альвео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гипербарическую оксигенацию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 применяют в медицине при различных формах гипоксии, анаэробных инфекциях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обари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онижение барометрического давления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подъеме на высоту (горная болезнь), при разгерметизации кабины летательного аппарата и др.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чины гипобарии - недостаток кислорода во вдыхаемом воздухе, что приводит к гипокси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нижение барометрического давления сопровождается увеличением объема замкнутых пространств тела (барабанная полость, лобная пазуха, желудок) и возникновением болевых ощущений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 быстроразвивающейся гипобарии могут расшириться даже межклеточные пространства, и в них проникнет воздух (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воздушная эмфизем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ХИМ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изводственные (свинец, ртуть, бензол и др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ытовые (угарный газ, основания, пищевые продукты)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ещества, применяемые в медицине (наркотики, снотворные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Химические факторы вызываю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а) экз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отравление организма боевыми отравляющими веществами, алкоголем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б) энд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ри различных заболеваниях в организме могут накапливаться химические вещества, токсины, продукты обмена веществ, образующиеся при заболевании почек, печен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БИОЛОГ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является в появлении в организме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чужеродных бел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ирус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икроб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гриб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разит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РЕАКТИВНОСТЬ И РЕЗИСТЕНТНОСТЬ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1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реакции организма на раздражение происходит изменение обмена веществ, структур и функци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- проявление его реактивност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изменчива, что связано с перестройкой механизмов регуляции и с изменением чувствительности всего организм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тивность организма зависит от пола, возраста, конституции и индивидуальных особенностей челове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раннем возрасте иммунная система недостаточно развита, а в старческом возрасте происходит ее атрофия. Именно в эти периоды жизни инфекционные заболевания имеют тяжелое течение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ОЛЬ РЕАКТИВНОСТИ ОРГАНИЗМА В РАЗВИТИИ ПАТОЛОГИ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активност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&lt;лат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re 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вторное действие, противодействие,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activus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йствительный, деятельны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это — основное свойство живого организма определённым образом отвечать (реагировать) на воздействие факторов внешней среды и изменение внутренней сред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Основные физиологические механизмы реактивности живых структур</a:t>
            </a:r>
            <a:endParaRPr b="0" lang="en-US" sz="2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драж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увствительность (сенситив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жд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ормож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во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лабильность (функциональная подвиж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арабиоз и др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зависимости от основных биологических свойств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Вид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биологическая, первич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Рас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егроидная, европеоидная, евразийская, американская, австралоид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Групп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популяционная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конституциональ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аследственная и приобретённая в процессе онтогенеза устойчивая совокупность морфологических, метаболических, физиологических и поведенческих признаков, проявляющаяся в виде различных видов конституций и их аномалий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возраст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оворождённого, грудного, детского, подросткового, юношеского, молодого, зрелого, пожилого, старческого, престарелого возраста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ол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женского и мужского пол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Индивидуальна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биологической значим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Физиологическа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Патолог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степени специфичности, дифференцированн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развитие аллергии, в том числе аутоаллергии, иммунодефицита, иммунодепрессии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бразование АТ в ответ на АГ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тторжение трансплантант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Не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изменение физиологических механизмов: раздражимости, возбудимости, чувствительности и т.д.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синтез и действие лизоцима, β-лизина,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ининов, гидролаз, интерферонов, интерлейкинов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иноцитоз, фагоцитоз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31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выраженности реакции организма на воздействи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вышенная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ниженная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Отсутствующ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(ан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Извращённ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(диз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уровня организации организм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б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канев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истем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изменна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ФИЗ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Наибольшее значение в медицине имеют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ехан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терм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лучевы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электрические повреждения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ействие изменений барометрического давления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ругие формы реактивност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акт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остнатальный период с затратой энергии)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асс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ренатальный период без затраты энергии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наследстве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риобретё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 процессе онтогенеза (пренатальная и постнатальная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биоритмическ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организменная и надорганизменная)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озникает под влиянием обычных (адекватных) воздействий окружающей среды, не нарушающих гомеостаза организма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едопределена наследственными анатомо-физиологическими особенностями представителей данного ви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физи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направленное движение (таксис) простейших и сложнорефлекторные изменения (инстинкты) жизнедеятельности животных: сезонные миграции рыб и птиц, анабиоз, зимняя спячка и др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собенности протекания патологических процессов (воспаление, лихорадка, аллергия) у разных представителей животного ми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66"/>
                </a:solidFill>
                <a:latin typeface="Times New Roman"/>
              </a:rPr>
              <a:t>NB!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Чем выше в филогенетическом отношении стоит животное, тем сложнее его реакции на различные воздействия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Групповая реактивность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еактивность отдельных групп людей или животных, объединённых каким-либо признаком, определяющим особенности реагирования всех представителей данной группы на воздействия факторов внешней среды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 таким признакам относят особенности возраста, пола, конституции, наследственности, принадлежность к определённой расе, группе крови, типу высшей нервной деятельности и другие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ИНДИВИДУАЛЬН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, характерные для каждого отдельно взятого индивид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Воздействие какого-либо фактора (например, инфекционный агент) на группу людей или животных никогда не вызывает у всех индивидов этой группы совершенно одинаковые изменения жизнедеятельности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ри эпидемии гриппа некоторые люди болеют тяжело, другие — легко, а третьи не болеют вовсе, хотя у всех этих лиц выявлен один и тот же возбудитель. Объяснить это можно индивидуальной реактивностью каждого организм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</a:rPr>
              <a:t>Физиологическ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—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здорового организма адекватно отвечать на различные факторы внешней и внутренней сред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Она обеспечивае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тимальное включение защитно-приспособительных реакций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ддержание гомеостаза (постоянства внутренней среды) или гомеокинеза (гомеостаза в подвижном виде с определённым изменением констант)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резистентности различных уровней организации организма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оптимальной жизнедеятельности и работоспособности челове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Патологическая реактивность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—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пособность больного организма неадекватно отвечать на естественные либо патогенные раздражители внешней и внутренней среды, что приводит в конечном итоге к снижению защитных, компенсаторных и адаптационных реакций, механизмов, резервных возможностей и гомеостаза организма, а также его резистентности, жизнедеятельности и работоспособнос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атологическую реактивность называют также </a:t>
            </a:r>
            <a:r>
              <a:rPr b="0" i="1" lang="en-US" sz="1900" spc="-1" strike="noStrike">
                <a:solidFill>
                  <a:srgbClr val="0000cc"/>
                </a:solidFill>
                <a:latin typeface="Times New Roman"/>
              </a:rPr>
              <a:t>вторично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(болезненно изменённой). Обычно она возникает под воздействием на организм болезнетворных факторов, вызывающих повреждение и нарушение гомеостаза. При этом происходит снижение приспособляемости повреждённого организма к изменениям как внешней, так и внутренней среды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, как и физиологическая, может быть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специфической и неспецифическ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наследственной и приобретённ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активной и пассивной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естественной и искусствен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тологической формой реактивности является аллергия. </a:t>
            </a: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Аллергия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состояние измененной реактивности в виде повышенной чувствительности к повторным воздействиям каких-либо веществ или компонентам собственных ткане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яжелыми формами патологической реактивности являются диатез и фоб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Диатез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атологическая форма реактивности организма, которая характеризуется ненормальными реакциями на обычные раздражител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Фобии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боязнь определенных ситуаций, например темноты, высоты и др., которая сопровождается изменением психического состояния и поведения человека вследствие нарушений высшей нервной деятельност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Специфическая реактивност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— способность организма отвечать на действи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тигена выработкой антител или комплексом клеточных реакций, специфичных п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отношению к этому антигену, то есть это реактивность иммунной системы (иммунологическая реактивность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основным проявлениям специфической физиологической реактивности относя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а) активный специфический иммунитет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) выработку и накопление специфических защитных антител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) образование иммунных комплексов на поверхности тучных клеток и т.д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стяже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плоть до разрыва участков ткани или органа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давлива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риводящее к нарушению кровообращения с последующим некрозо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отрясения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 которым приводят травмы. Особенно опасно сотрясение головного мозга, сопровождающееся потерей сознания, подъемом АД, рвотой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Неспецифическая физиологическая реактивность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организма сопротивляться воздействиям окружающей среды, не нарушая при этом гомеостаз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</a:rPr>
              <a:t>НФР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ответственна за обеспечение сопротивляемости организма физическим, химическими и биологическим воздействиям путём защиты от проникновения токсинов, микробов и других патогенных фактор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ения неспецифической реактивности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оницаемость кожных и слизистых покров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количество и активность фагоцит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наличие бактерицидных субстанций в кожных секретах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исутствие лизоцима, пропердина, интерферона, интерлейкинов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Резистентность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тойчивость организма к патологическим фактор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 РЕЗИСТЕНТНОСТЬ КОНКРЕТНОГО ОРГАНИЗМА ВЛИЯЮТ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озраст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 и у пожилых сопротивляемость организма снижен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остояние нервной и эндокринной систем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пример, человек в состоянии наркоза легче переносит гипоксию, а от состояния надпочечников зависит количество кортикостероидных гормонов, выделяемых им при стрессе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онституция (нормостеническая, гиперстеническая и астеническая)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стеники, например, имеют меньшую устойчивость к различным экстремальным воздействи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бмен веществ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жет уменьшать вероятность возникновения аллергических реакций (например, при белковом голодании), но повышает риск возникновения инфекционных заболева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ммунитет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- реакция организма на патологический фактор, зависит от функции элементов соединительной ткани (лимфоидной ткани)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НАСЛЕДСТВЕННОСТЬ И ЕЕ ЗНАЧЕНИЕ В ПАТОЛОГИ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уществуют наследственные заболевания и наследственная предрасположенность к болезн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ая болезнь и наследственная предрасположенность к болезни являются результатом патологических изменений в наборе ген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Ген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единица наследственной информации, формирующая какой-либо признак. Вся совокупность генов организма составляет его генотип. Наследственная патология часто передается от родителей к их потомк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ичинами наследственной патологии являются взаимодействия, вызывающие устойчивые изменения генетического аппарата (мутагены вызывают мутацию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организме существуют внутриклеточные защитно-приспособительные механизмы, которые устраняют мутантные гены и обеспечивают синтез нормального участк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 возникают лишь при наличии совокупности неблагоприятных условий, которые тормозят защитно-приспособительные реакц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ПРИЗНАКИ МЕХАНИЧЕСКИХ ПОВРЕЖДЕНИЙ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ссадины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верхностные повреждения кож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кровоподтеки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результат ушибов, повреждения подкожных сосудов с кровоизлиянием в подкожную клетчатку, кровь, изливающаяся из сосудов, просачивается через кожу, образуя пятн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вые часы после травмы - багрово-синеватую окраску, переходящую постепенно в синюшную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Далее в связи с распадом гемоглобина - буроватый оттенок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иод рассасывания - зеленоватый, затем желтый и постепенно исчезает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 цвету кровоподтека определяют время получения травм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елкие кровоподтеки исчезают за 5-6 сут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Вывих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смещение суставных поверхностей по отношению друг к другу. Часто при смещении суставных поверхностей повреждаются окружающие ткани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ереломы костей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)     а) открытые                 б) закрыты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)     а) со смещением         б) без смеще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Ушиб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контузии) - повреждения, вызванные ударом тупым предметом или взрывной волно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Ран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арушения целостности кожи или слизистых оболочек и лежащих под ними ткане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Терм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981080"/>
          <a:ext cx="7162920" cy="342756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высо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низ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ж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повреж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гипертермия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ерегре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тморо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охлаждение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жог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озникает при повышении температуры ткани свыше 45-50°С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местного действия пара, разогретых жидкостей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обширного ожога возникает общая реакция организма на такое повреждение: ожоговый шок, ожоговая болезн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и ожог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эритема (покраснение), связана со стойким расширением мелких артерий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разование пузырей, связано с повышением проницаемости стенок мелких сосудов и выходом жидкости из сосудов в ткани, где она и скапливается в виде пузырей под эпидермисом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некроз кожи, после отторжения мертвой ткани образуются плохо заживающие ран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угливание кости и подлежащих ткане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тморожение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озникает при понижении температуры тканей ниже 10-12 °С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д действием низкой температур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характерно местное отморожение и общая реакция - простуда, переохлажд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Cтепени отморожени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бледность кожи, иногда с зудом и болью, что связано со спазмом мелких артериальных сосудов и со снижением кровоснабжения ткани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2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тек кожи и образование пузырей из-за повышения проницаемости стенок сосудов и выхода из сосудов жидкости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3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кроз участка кожи из-за резкого нарушения кровообращения, после отторжения омертвевшей ткани образуется язва с последующим формированием рубца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екроз кожи и подлежащих тканей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студа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ультат охлаждения всего тела или его частей, сопровождается ослаблением сопротивляемости организма. Главным механизмом простуды являются сосудистые реакции и повышение чувствительности к болезнетворным агента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учевое повреждение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йствие ионизирующего излучения при работе с рентгеновским аппаратом, с радиоактивными изотопами и др.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бщее проявление лучевого поражения - лучевая болезн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Облучение подразделяют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еш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не организм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утрен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 самом организме, например при введении радиоактивных изотопов при лечении онкологических заболеван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5:33:46Z</dcterms:created>
  <dc:creator>Елена</dc:creator>
  <dc:description/>
  <dc:language>en-US</dc:language>
  <cp:lastModifiedBy>Елена</cp:lastModifiedBy>
  <dcterms:modified xsi:type="dcterms:W3CDTF">2019-04-08T18:08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