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511-D959-42EA-B6E1-CA0440B8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B6D-7B75-4961-BD2E-31805B4A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6D0-F3CC-42BD-BFF3-B56F48D5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75C-110A-47C9-A354-92995182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882-88A8-43B8-BB31-E7E78684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C609-50E1-4AE4-98F9-47761D4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5574-8D44-41D8-955D-2611F7F7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1AE0-7079-46F7-A59E-4A3ED663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3983-FBC6-4A78-BE63-BCA623CB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400-861A-424B-8E31-4EE33C98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D02D-9084-4A39-A8A6-E92A67F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A7E-677D-4028-B4C9-B4C698E0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E261-3948-44DB-A0B9-6AF83C7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52D-9DED-469D-BA4F-3F520F4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09B0-909A-49F0-9A11-6C1E5159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5F0-9F7F-4311-98F2-8AB9650C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6C1-69A0-45A3-823C-A82961E3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DEE-C9CF-437F-A07E-EB4074B5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54F-6CC1-4AF7-90A4-07EE8523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BC3-3546-4FCB-A04A-F3DF308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B76-6990-4DEA-BF94-E42A8C0F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D22-2BCB-40D8-8AC1-F6D44236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D29-12FE-4710-87BC-A4623C6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9ED-D947-4F85-BF0D-2EEB1F6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D31B-3808-4682-8A61-7AA261DA1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316D-AE54-4059-98AB-39890F16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985320"/>
            <a:ext cx="61675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оуральский филиа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го бюджетного профессионально - образовательного учрежд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«Свердловский областной  медицинский колледж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ециальность 34.02.01 Сестринское дело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исциплина ОП 03.  ОСНОВЫ ПАТОЛОГИИ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Лекция № 4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ЗАИМОДЕЙСТВИЕ ОРГАНИЗМА И ОКРУЖАЮЩЕЙ СРЕДЫ В УСЛОВИЯХ ПАТОЛОГИИ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Эмблема новая2"/>
          <p:cNvPicPr/>
          <p:nvPr/>
        </p:nvPicPr>
        <p:blipFill>
          <a:blip r:embed="rId1"/>
          <a:stretch/>
        </p:blipFill>
        <p:spPr>
          <a:xfrm>
            <a:off x="914400" y="5335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ербари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 повышение барометрического давлени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водолазных или кессонных работах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ипербария повышает растворимость газов в крови и тканях (воздух, используемый при водолазных работах, содержит азот - при быстром переходе от высокого барометрического давления к нормальному растворимость газов падает, азот в виде пузырьков газа насыщает кровь - развивается кессонная болезнь, связанная с газовой эмболией)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яется: сдавлением барабанных перепонок, болью в ушах, разрывом альвео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гипербарическую оксигенацию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 применяют в медицине при различных формах гипоксии, анаэробных инфекциях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Действие повышенного и пониженного барометрического давл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Гипобари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онижение барометрического давления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озникает при подъеме на высоту (горная болезнь), при разгерметизации кабины летательного аппарата и др.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чины гипобарии - недостаток кислорода во вдыхаемом воздухе, что приводит к гипокси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нижение барометрического давления сопровождается увеличением объема замкнутых пространств тела (барабанная полость, лобная пазуха, желудок) и возникновением болевых ощущений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и быстроразвивающейся гипобарии могут расшириться даже межклеточные пространства, и в них проникнет воздух («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воздушная эмфизем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»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ХИМ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изводственные (свинец, ртуть, бензол и др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ытовые (угарный газ, основания, пищевые продукты)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ещества, применяемые в медицине (наркотики, снотворные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Химические факторы вызываю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а) экз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отравление организма боевыми отравляющими веществами, алкоголем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б) эндогенная интоксикация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ри различных заболеваниях в организме могут накапливаться химические вещества, токсины, продукты обмена веществ, образующиеся при заболевании почек, печен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БИОЛОГ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является в появлении в организме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чужеродных бел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ирус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икроб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грибк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разитов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РЕАКТИВНОСТЬ И РЕЗИСТЕНТНОСТЬ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1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реакции организма на раздражение происходит изменение обмена веществ, структур и функци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- проявление его реактивност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ция организма изменчива, что связано с перестройкой механизмов регуляции и с изменением чувствительности всего организм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еактивность организма зависит от пола, возраста, конституции и индивидуальных особенностей человека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раннем возрасте иммунная система недостаточно развита, а в старческом возрасте происходит ее атрофия. Именно в эти периоды жизни инфекционные заболевания имеют тяжелое течение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ОЛЬ РЕАКТИВНОСТИ ОРГАНИЗМА В РАЗВИТИИ ПАТОЛОГИ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активность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&lt;лат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re 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вторное действие, противодействие,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activus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ействительный, деятельны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это — основное свойство живого организма определённым образом отвечать (реагировать) на воздействие факторов внешней среды и изменение внутренней сред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Основные физиологические механизмы реактивности живых структур</a:t>
            </a:r>
            <a:endParaRPr b="0" lang="en-US" sz="2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драж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увствительность (сенситив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бужд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орможение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водимость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лабильность (функциональная подвижность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арабиоз и др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зависимости от основных биологических свойств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Вид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биологическая, первич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Рас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егроидная, европеоидная, евразийская, американская, австралоидная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Групп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популяционная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конституциональ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аследственная и приобретённая в процессе онтогенеза устойчивая совокупность морфологических, метаболических, физиологических и поведенческих признаков, проявляющаяся в виде различных видов конституций и их аномалий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возрастн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новорождённого, грудного, детского, подросткового, юношеского, молодого, зрелого, пожилого, старческого, престарелого возраста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)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оловая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женского и мужского пол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cc"/>
                </a:solidFill>
                <a:latin typeface="Times New Roman"/>
              </a:rPr>
              <a:t>Индивидуальна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биологической значим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Физиологическа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Патолог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зависимости от степени специфичности, дифференцированности ответа организм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развитие аллергии, в том числе аутоаллергии, иммунодефицита, иммунодепрессии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бразование АТ в ответ на АГ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отторжение трансплантанта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</a:rPr>
              <a:t>Неспецифическ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изменение физиологических механизмов: раздражимости, возбудимости, чувствительности и т.д.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гуморальна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синтез и действие лизоцима, β-лизина,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ининов, гидролаз, интерферонов, интерлейкинов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) −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клеточная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иноцитоз, фагоцитоз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31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выраженности реакции организма на воздействи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вышенная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Пониженная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гип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Отсутствующ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(ан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Извращённа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 (дизергия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зависимости от уровня организации организм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уб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еточ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канев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истемная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ганизменна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ПОВРЕЖДАЮЩЕЕ ДЕЙСТВИЕ ФИЗИЧЕСКИХ ФАКТОРОВ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Наибольшее значение в медицине имеют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ехан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термически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лучевые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электрические повреждения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ействие изменений барометрического давления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КЛАССИФИКАЦИЯ РЕАКТИВНОСТ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ругие формы реактивност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акт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остнатальный период с затратой энергии)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ассив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в пренатальный период без затраты энергии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наследстве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приобретённ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 процессе онтогенеза (пренатальная и постнатальная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</a:rPr>
              <a:t>биоритмическа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организменная и надорганизменная)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озникает под влиянием обычных (адекватных) воздействий окружающей среды, не нарушающих гомеостаза организма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редопределена наследственными анатомо-физиологическими особенностями представителей данного ви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БИОЛОГИЧЕСКАЯ (ВИДОВАЯ) РЕАК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физи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направленное движение (таксис) простейших и сложнорефлекторные изменения (инстинкты) жизнедеятельности животных: сезонные миграции рыб и птиц, анабиоз, зимняя спячка и др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собенности протекания патологических процессов (воспаление, лихорадка, аллергия) у разных представителей животного ми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66"/>
                </a:solidFill>
                <a:latin typeface="Times New Roman"/>
              </a:rPr>
              <a:t>NB!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Чем выше в филогенетическом отношении стоит животное, тем сложнее его реакции на различные воздействия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</a:rPr>
              <a:t>Групповая реактивность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еактивность отдельных групп людей или животных, объединённых каким-либо признаком, определяющим особенности реагирования всех представителей данной группы на воздействия факторов внешней среды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К таким признакам относят особенности возраста, пола, конституции, наследственности, принадлежность к определённой расе, группе крови, типу высшей нервной деятельности и другие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ОСНОВНЫХ ВИДОВ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ИНДИВИДУАЛЬН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индивидуальные особенности, характерные для каждого отдельно взятого индивид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Воздействие какого-либо фактора (например, инфекционный агент) на группу людей или животных никогда не вызывает у всех индивидов этой группы совершенно одинаковые изменения жизнедеятельности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ри эпидемии гриппа некоторые люди болеют тяжело, другие — легко, а третьи не болеют вовсе, хотя у всех этих лиц выявлен один и тот же возбудитель. Объяснить это можно индивидуальной реактивностью каждого организм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</a:rPr>
              <a:t>Физиологическая реактивност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—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здорового организма адекватно отвечать на различные факторы внешней и внутренней сред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</a:rPr>
              <a:t>Она обеспечивае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птимальное включение защитно-приспособительных реакций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ддержание гомеостаза (постоянства внутренней среды) или гомеокинеза (гомеостаза в подвижном виде с определённым изменением констант)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резистентности различных уровней организации организма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охранение оптимальной жизнедеятельности и работоспособности человек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cc"/>
                </a:solidFill>
                <a:latin typeface="Times New Roman"/>
              </a:rPr>
              <a:t>Патологическая реактивность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—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пособность больного организма неадекватно отвечать на естественные либо патогенные раздражители внешней и внутренней среды, что приводит в конечном итоге к снижению защитных, компенсаторных и адаптационных реакций, механизмов, резервных возможностей и гомеостаза организма, а также его резистентности, жизнедеятельности и работоспособнос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Патологическую реактивность называют также </a:t>
            </a:r>
            <a:r>
              <a:rPr b="0" i="1" lang="en-US" sz="1900" spc="-1" strike="noStrike">
                <a:solidFill>
                  <a:srgbClr val="0000cc"/>
                </a:solidFill>
                <a:latin typeface="Times New Roman"/>
              </a:rPr>
              <a:t>вторично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(болезненно изменённой). Обычно она возникает под воздействием на организм болезнетворных факторов, вызывающих повреждение и нарушение гомеостаза. При этом происходит снижение приспособляемости повреждённого организма к изменениям как внешней, так и внутренней среды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атологическая реактивность, как и физиологическая, может быть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специфической и неспецифическ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наследственной и приобретённой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активной и пассивной,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естественной и искусствен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атологической формой реактивности является аллергия. </a:t>
            </a: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Аллергия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состояние измененной реактивности в виде повышенной чувствительности к повторным воздействиям каких-либо веществ или компонентам собственных тканей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Тяжелыми формами патологической реактивности являются диатез и фоб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Диатез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патологическая форма реактивности организма, которая характеризуется ненормальными реакциями на обычные раздражител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Фобии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боязнь определенных ситуаций, например темноты, высоты и др., которая сопровождается изменением психического состояния и поведения человека вследствие нарушений высшей нервной деятельност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cc"/>
                </a:solidFill>
                <a:latin typeface="Times New Roman"/>
              </a:rPr>
              <a:t>Специфическая реактивност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— способность организма отвечать на действи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антигена выработкой антител или комплексом клеточных реакций, специфичных п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отношению к этому антигену, то есть это реактивность иммунной системы (иммунологическая реактивность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К основным проявлениям специфической физиологической реактивности относят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а) активный специфический иммунитет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б) выработку и накопление специфических защитных антител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) образование иммунных комплексов на поверхности тучных клеток и т.д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стяже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плоть до разрыва участков ткани или органа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давливание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риводящее к нарушению кровообращения с последующим некрозо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Сотрясения тканей,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 которым приводят травмы. Особенно опасно сотрясение головного мозга, сопровождающееся потерей сознания, подъемом АД, рвотой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ХАРАКТЕРИСТИКА ФИЗИОЛОГИЧЕСКОЙ И ПАТОЛОГИЧЕСКОЙ  РЕАКТИВНОСТИ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</a:rPr>
              <a:t>Неспецифическая физиологическая реактивность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пособность организма сопротивляться воздействиям окружающей среды, не нарушая при этом гомеостаз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</a:rPr>
              <a:t>НФР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ответственна за обеспечение сопротивляемости организма физическим, химическими и биологическим воздействиям путём защиты от проникновения токсинов, микробов и других патогенных фактор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оявления неспецифической реактивности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оницаемость кожных и слизистых покров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количество и активность фагоцитов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наличие бактерицидных субстанций в кожных секретах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присутствие лизоцима, пропердина, интерферона, интерлейкинов и др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Резистентность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тойчивость организма к патологическим фактор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 РЕЗИСТЕНТНОСТЬ КОНКРЕТНОГО ОРГАНИЗМА ВЛИЯЮТ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озраст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 детей дошкольного возраста и у пожилых сопротивляемость организма снижен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остояние нервной и эндокринной систем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пример, человек в состоянии наркоза легче переносит гипоксию, а от состояния надпочечников зависит количество кортикостероидных гормонов, выделяемых им при стрессе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Конституция (нормостеническая, гиперстеническая и астеническая).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стеники, например, имеют меньшую устойчивость к различным экстремальным воздействи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Обмен веществ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может уменьшать вероятность возникновения аллергических реакций (например, при белковом голодании), но повышает риск возникновения инфекционных заболеван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ммунитет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- реакция организма на патологический фактор, зависит от функции элементов соединительной ткани (лимфоидной ткани)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НАСЛЕДСТВЕННОСТЬ И ЕЕ ЗНАЧЕНИЕ В ПАТОЛОГИИ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Существуют наследственные заболевания и наследственная предрасположенность к болезня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ая болезнь и наследственная предрасположенность к болезни являются результатом патологических изменений в наборе генов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Ген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 единица наследственной информации, формирующая какой-либо признак. Вся совокупность генов организма составляет его генотип. Наследственная патология часто передается от родителей к их потомкам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ичинами наследственной патологии являются взаимодействия, вызывающие устойчивые изменения генетического аппарата (мутагены вызывают мутацию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организме существуют внутриклеточные защитно-приспособительные механизмы, которые устраняют мутантные гены и обеспечивают синтез нормального участк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 возникают лишь при наличии совокупности неблагоприятных условий, которые тормозят защитно-приспособительные реакц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ПРИЗНАКИ МЕХАНИЧЕСКИХ ПОВРЕЖДЕНИЙ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ссадины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верхностные повреждения кожи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кровоподтеки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- результат ушибов, повреждения подкожных сосудов с кровоизлиянием в подкожную клетчатку, кровь, изливающаяся из сосудов, просачивается через кожу, образуя пятн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вые часы после травмы - багрово-синеватую окраску, переходящую постепенно в синюшную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Далее в связи с распадом гемоглобина - буроватый оттенок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в период рассасывания - зеленоватый, затем желтый и постепенно исчезает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о цвету кровоподтека определяют время получения травмы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Мелкие кровоподтеки исчезают за 5-6 сут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Механ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Вывих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смещение суставных поверхностей по отношению друг к другу. Часто при смещении суставных поверхностей повреждаются окружающие ткани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ереломы костей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)     а) открытые                 б) закрыты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)     а) со смещением         б) без смещени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Ушиб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контузии) - повреждения, вызванные ударом тупым предметом или взрывной волно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Раны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арушения целостности кожи или слизистых оболочек и лежащих под ними тканей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Термические повреждения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981080"/>
          <a:ext cx="7162920" cy="3427560"/>
        </p:xfrm>
        <a:graphic>
          <a:graphicData uri="http://schemas.openxmlformats.org/drawingml/2006/table">
            <a:tbl>
              <a:tblPr/>
              <a:tblGrid>
                <a:gridCol w="3581640"/>
                <a:gridCol w="3581280"/>
              </a:tblGrid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высо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 действием низкой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ж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повреж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гипертермия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ерегре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отморо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обще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охлаждение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жог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озникает при повышении температуры ткани свыше 45-50°С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местного действия пара, разогретых жидкостей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 случае обширного ожога возникает общая реакция организма на такое повреждение: ожоговый шок, ожоговая болезн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и ожога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эритема (покраснение), связана со стойким расширением мелких артерий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разование пузырей, связано с повышением проницаемости стенок мелких сосудов и выходом жидкости из сосудов в ткани, где она и скапливается в виде пузырей под эпидермисом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3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некроз кожи, после отторжения мертвой ткани образуются плохо заживающие ран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обугливание кости и подлежащих ткане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Отморожение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озникает при понижении температуры тканей ниже 10-12 °С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од действием низкой температуры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характерно местное отморожение и общая реакция - простуда, переохлаждение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Times New Roman"/>
              </a:rPr>
              <a:t>Cтепени отморожени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бледность кожи, иногда с зудом и болью, что связано со спазмом мелких артериальных сосудов и со снижением кровоснабжения ткани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2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тек кожи и образование пузырей из-за повышения проницаемости стенок сосудов и выхода из сосудов жидкости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3-я степень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кроз участка кожи из-за резкого нарушения кровообращения, после отторжения омертвевшей ткани образуется язва с последующим формированием рубца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4-я степен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екроз кожи и подлежащих тканей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студа -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езультат охлаждения всего тела или его частей, сопровождается ослаблением сопротивляемости организма. Главным механизмом простуды являются сосудистые реакции и повышение чувствительности к болезнетворным агента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Лучевое повреждение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ействие ионизирующего излучения при работе с рентгеновским аппаратом, с радиоактивными изотопами и др.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бщее проявление лучевого поражения - лучевая болезн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Облучение подразделяют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еш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не организм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внутренне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- источник излучения в самом организме, например при введении радиоактивных изотопов при лечении онкологических заболеван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15:33:46Z</dcterms:created>
  <dc:creator>Елена</dc:creator>
  <dc:description/>
  <dc:language>en-US</dc:language>
  <cp:lastModifiedBy>Елена</cp:lastModifiedBy>
  <dcterms:modified xsi:type="dcterms:W3CDTF">2019-04-08T18:08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