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3C5F-D3DB-4E06-AD67-FF3E744D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DC4-EEAC-4231-8151-AA8ECDB0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A7A-28BA-4840-A358-2A5A3397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F2D7-6A70-4ACE-A373-265BF88B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C9D5-E674-471C-B86C-DAEE94AC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B12B-1564-4CF6-A6E2-B7A861CB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9BC5-0982-4149-A013-967ADA1E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4EE4-367B-45BD-AC7F-6E62CE4E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7E6C-6DEC-4D0C-B785-733457F4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8FA1-AA30-4D33-8BC0-C25075D9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F9F7B-7A1D-43E9-8365-899E9D20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FB73-977B-4534-9D14-DCC0F0D3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1C14-C959-4DC1-97E5-807C32E9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0E9F-660F-4FD3-BEB7-F6584A40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2DFE-8796-47FE-8DF6-3D76123A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0374-7DF6-480B-A3F7-CB092E9A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4D23-F3D0-4BB4-814F-5479AE5C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FCF7F-5E4D-4A52-BA35-13B4B47A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4A53-6ADA-488F-8E8D-283B90B7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B4B1-F5BA-4EC1-B175-07A16C5D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97225-3831-4807-B5DE-275FBF6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879F-BDD6-47E7-B934-D69EA6DF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D88-29EC-4782-BC54-C890D4029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0757-C67D-4D91-8B1C-C82330DB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6E0A8-766B-497A-8AB5-1419B74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4F95F-F0B9-435C-8FAB-78E4822B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411D7-53A8-4DFC-8664-FD7D6471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4524-A257-4D1A-9EA0-4EB8BC33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1CB73-17FA-4FB2-96DB-143EC6A2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B178-B6CC-4694-8007-3FCEAF80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811-6215-4753-9154-28C37F6B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06C-65AA-4DF1-9883-64F826EA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B769-29E8-4624-8936-3B0EB162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FAF-F5F3-49D7-AD9D-C5FBF33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3A0-D501-481F-8AF8-52B4F752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22D-BEF9-452C-BA23-1C6B9313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3DDF66-B662-432F-82C3-113EAE85242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274680"/>
            <a:ext cx="8229240" cy="58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AB9BE-1001-43CE-BF50-5E33A5D9A79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DBD4CB-5A67-465B-B1F9-A90436B92C7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косистема- совместное хозяйств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любом хозяйстве может быть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орядок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деальный порядок…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трелка вправо 3"/>
          <p:cNvSpPr/>
          <p:nvPr/>
        </p:nvSpPr>
        <p:spPr>
          <a:xfrm>
            <a:off x="1143000" y="3714840"/>
            <a:ext cx="6000480" cy="1714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 экосистеме как обстоят д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канирование0009"/>
          <p:cNvPicPr/>
          <p:nvPr/>
        </p:nvPicPr>
        <p:blipFill>
          <a:blip r:embed="rId1"/>
          <a:srcRect l="38366" t="37895" r="44179" b="41179"/>
          <a:stretch/>
        </p:blipFill>
        <p:spPr>
          <a:xfrm>
            <a:off x="0" y="0"/>
            <a:ext cx="4195440" cy="365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сканирование0010"/>
          <p:cNvPicPr/>
          <p:nvPr/>
        </p:nvPicPr>
        <p:blipFill>
          <a:blip r:embed="rId2"/>
          <a:srcRect l="38885" t="45799" r="39805" b="39488"/>
          <a:stretch/>
        </p:blipFill>
        <p:spPr>
          <a:xfrm>
            <a:off x="5724360" y="3164040"/>
            <a:ext cx="3239640" cy="3074760"/>
          </a:xfrm>
          <a:prstGeom prst="rect">
            <a:avLst/>
          </a:prstGeom>
          <a:ln w="9525">
            <a:noFill/>
          </a:ln>
        </p:spPr>
      </p:pic>
      <p:sp>
        <p:nvSpPr>
          <p:cNvPr id="129" name="Стрелка вправо 6"/>
          <p:cNvSpPr/>
          <p:nvPr/>
        </p:nvSpPr>
        <p:spPr>
          <a:xfrm>
            <a:off x="4643280" y="357120"/>
            <a:ext cx="3642840" cy="1856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.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трелка вправо 7"/>
          <p:cNvSpPr/>
          <p:nvPr/>
        </p:nvSpPr>
        <p:spPr>
          <a:xfrm>
            <a:off x="285840" y="3857760"/>
            <a:ext cx="5643360" cy="24285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итайте диалог Антошки и биолога и определите проблему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де обитают живые организмы и как они связаны друг с другом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{8CBE97CF-BA8F-4899-A76F-1E13D16F4609}"/>
          <p:cNvPicPr/>
          <p:nvPr/>
        </p:nvPicPr>
        <p:blipFill>
          <a:blip r:embed="rId1"/>
          <a:stretch/>
        </p:blipFill>
        <p:spPr>
          <a:xfrm>
            <a:off x="4500720" y="1571760"/>
            <a:ext cx="4361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ваем новые зна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.18 – работа в парах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контрол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ите, где живут и какую профессию имеют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рекоз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доросл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ещ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96" descr="AG00315_"/>
          <p:cNvPicPr/>
          <p:nvPr/>
        </p:nvPicPr>
        <p:blipFill>
          <a:blip r:embed="rId1"/>
          <a:stretch/>
        </p:blipFill>
        <p:spPr>
          <a:xfrm>
            <a:off x="2071800" y="4000680"/>
            <a:ext cx="1771920" cy="1999800"/>
          </a:xfrm>
          <a:prstGeom prst="rect">
            <a:avLst/>
          </a:prstGeom>
          <a:ln w="9525">
            <a:noFill/>
          </a:ln>
        </p:spPr>
      </p:pic>
      <p:pic>
        <p:nvPicPr>
          <p:cNvPr id="138" name="Picture 96" descr="AG00315_"/>
          <p:cNvPicPr/>
          <p:nvPr/>
        </p:nvPicPr>
        <p:blipFill>
          <a:blip r:embed="rId2"/>
          <a:stretch/>
        </p:blipFill>
        <p:spPr>
          <a:xfrm>
            <a:off x="428760" y="3143160"/>
            <a:ext cx="177192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ваем новые знания стр. 19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0" name="Содержимое 8"/>
          <p:cNvGraphicFramePr/>
          <p:nvPr/>
        </p:nvGraphicFramePr>
        <p:xfrm>
          <a:off x="500040" y="164304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руппы организм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Что делают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Приме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2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изводител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требляют  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71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24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зрушают (поедают) органические ве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d0cf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96" descr="AG00315_"/>
          <p:cNvPicPr/>
          <p:nvPr/>
        </p:nvPicPr>
        <p:blipFill>
          <a:blip r:embed="rId1"/>
          <a:stretch/>
        </p:blipFill>
        <p:spPr>
          <a:xfrm>
            <a:off x="7264080" y="4143240"/>
            <a:ext cx="1771920" cy="1999800"/>
          </a:xfrm>
          <a:prstGeom prst="rect">
            <a:avLst/>
          </a:prstGeom>
          <a:ln w="9525">
            <a:noFill/>
          </a:ln>
        </p:spPr>
      </p:pic>
      <p:pic>
        <p:nvPicPr>
          <p:cNvPr id="142" name="Picture 96" descr="AG00315_"/>
          <p:cNvPicPr/>
          <p:nvPr/>
        </p:nvPicPr>
        <p:blipFill>
          <a:blip r:embed="rId2"/>
          <a:stretch/>
        </p:blipFill>
        <p:spPr>
          <a:xfrm>
            <a:off x="7572240" y="4857840"/>
            <a:ext cx="1771920" cy="19998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ваем новые знания стр. 20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8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уговорот веществ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изводители                      потребител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ушител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право 3"/>
          <p:cNvSpPr/>
          <p:nvPr/>
        </p:nvSpPr>
        <p:spPr>
          <a:xfrm>
            <a:off x="4000320" y="2428920"/>
            <a:ext cx="135684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Стрелка вправо 4"/>
          <p:cNvSpPr/>
          <p:nvPr/>
        </p:nvSpPr>
        <p:spPr>
          <a:xfrm>
            <a:off x="2286000" y="4214880"/>
            <a:ext cx="1356840" cy="21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7" name="Picture 48" descr="nature43"/>
          <p:cNvPicPr/>
          <p:nvPr/>
        </p:nvPicPr>
        <p:blipFill>
          <a:blip r:embed="rId1"/>
          <a:stretch/>
        </p:blipFill>
        <p:spPr>
          <a:xfrm>
            <a:off x="214200" y="2928960"/>
            <a:ext cx="1714320" cy="3062520"/>
          </a:xfrm>
          <a:prstGeom prst="rect">
            <a:avLst/>
          </a:prstGeom>
          <a:ln w="9525">
            <a:noFill/>
          </a:ln>
        </p:spPr>
      </p:pic>
      <p:sp>
        <p:nvSpPr>
          <p:cNvPr id="148" name="Рисунок 6"/>
          <p:cNvSpPr/>
          <p:nvPr/>
        </p:nvSpPr>
        <p:spPr>
          <a:xfrm>
            <a:off x="3857760" y="4714920"/>
            <a:ext cx="2356920" cy="17676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f_0440"/>
          <p:cNvPicPr/>
          <p:nvPr/>
        </p:nvPicPr>
        <p:blipFill>
          <a:blip r:embed="rId3"/>
          <a:stretch/>
        </p:blipFill>
        <p:spPr>
          <a:xfrm>
            <a:off x="6453360" y="2857320"/>
            <a:ext cx="2476080" cy="2066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контроль.  Допишите цепи питания. Определите «профессию»  всех  участник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6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…..          Жук- усач        Дятел          ястреб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кора         короед            ……          ястреб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дуб           …….         куниц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1785600" y="1928520"/>
            <a:ext cx="60984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357440" y="192852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57280" y="3071520"/>
            <a:ext cx="3049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4643280" y="3143160"/>
            <a:ext cx="38088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6072120" y="3143160"/>
            <a:ext cx="45720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2"/>
          <p:cNvSpPr/>
          <p:nvPr/>
        </p:nvSpPr>
        <p:spPr>
          <a:xfrm>
            <a:off x="2071440" y="378612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3"/>
          <p:cNvSpPr/>
          <p:nvPr/>
        </p:nvSpPr>
        <p:spPr>
          <a:xfrm>
            <a:off x="3714480" y="3714480"/>
            <a:ext cx="533520" cy="360"/>
          </a:xfrm>
          <a:prstGeom prst="line">
            <a:avLst/>
          </a:prstGeom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Прямая со стрелкой 15"/>
          <p:cNvCxnSpPr/>
          <p:nvPr/>
        </p:nvCxnSpPr>
        <p:spPr>
          <a:xfrm>
            <a:off x="6215040" y="1928520"/>
            <a:ext cx="571680" cy="2160"/>
          </a:xfrm>
          <a:prstGeom prst="straightConnector1">
            <a:avLst/>
          </a:prstGeom>
          <a:ln cap="rnd"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160" name="Стрелка вправо 16"/>
          <p:cNvSpPr/>
          <p:nvPr/>
        </p:nvSpPr>
        <p:spPr>
          <a:xfrm>
            <a:off x="1214280" y="4143240"/>
            <a:ext cx="6500520" cy="1571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99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экосистем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цель мы ставили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ыяснили в ходе урока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равните свой вывод с авторски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. 22, в.1-4. выберите вопрос и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ьте. Обратите внимание,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е умение формируется в ход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й работ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MCj03981290000[1]"/>
          <p:cNvPicPr/>
          <p:nvPr/>
        </p:nvPicPr>
        <p:blipFill>
          <a:blip r:embed="rId1"/>
          <a:stretch/>
        </p:blipFill>
        <p:spPr>
          <a:xfrm>
            <a:off x="214200" y="3786120"/>
            <a:ext cx="2388600" cy="26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тоги уро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работал отлично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работал хорошо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ыло трудновато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ичего не понял, потому что…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  <Words>205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19T13:45:12Z</dcterms:modified>
  <cp:revision>9</cp:revision>
  <dc:subject/>
  <dc:title>Самостоятельная работа цель:  свойства живых организм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