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463-6F98-483F-9831-4C324836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7B8-9C36-4718-9F52-B489C4F3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BB0-C880-42D7-99C7-E92BEF6B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73A-04AC-4DEB-878F-89D9FCAC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F38A-AA41-4EC4-A51D-83388506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D55F-5A3F-410E-83D4-83951766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A35F-DA60-477B-B6DE-4EFF80B4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5B89-7C06-473B-96D6-D29A58E1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6D8C-937A-4695-98EF-9E940AA6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9392-A85C-4C7B-AC23-5D3C95C6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475A-BB02-493D-9EEA-AA30CD2C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187-0CB9-4B56-925D-E1FD5FB5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E161-D099-4194-B059-9F83C8A6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D10C-8F51-4FBF-BE9B-26305E39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3E67-C54A-40C1-B0F5-DD5FFF87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7113-203E-4817-9213-F619EFE7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94C1-F3B1-490C-8EB7-050DF3AB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4F278-F37F-4B7D-A8C3-60A2DCF5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4E097-9785-4752-92F5-5527A9B8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8BA3-A578-4E5A-8AED-2283F7EE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8AF7-4D48-4842-B51A-9AFB7142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F4CD2-B789-4EC4-ADBD-FAC13E37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AB9-7700-41D5-893A-B19A6FC7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8AA4-4E08-4EBA-B0FE-9AE1ECEF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24A1-3204-4002-9466-EAE563F7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DBA34-2DA5-4C0E-9EEA-84A377FF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5A8CC-84AD-4C16-8407-D5A06C1A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97A1C-4AF9-4BB5-9E7A-8109DFAD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CD27-0A3E-4FBB-B2FB-9FD7324A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D2F1-76DC-4461-83C2-3A1FC9C3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B1E-C7EF-45B5-8EE6-D72DFA4C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6B1-0421-44C1-928A-53BB683C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668-45CD-4FBA-ADF1-820D88B5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152-E11E-4DF6-B53E-F200FBB7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6C2-37F3-4B20-90E2-30B79016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0E3-8486-447E-B719-F51713DF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42978A-F28D-40FC-8477-6DB7AB9D7C7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C0076B-2383-40E4-8C1B-65867BAFBDE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A0E223-C2A8-42C4-AF63-1BA706ED711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осистема- совместное хозяйство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любом хозяйстве может быть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о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орядо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деальный порядок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трелка вправо 3"/>
          <p:cNvSpPr/>
          <p:nvPr/>
        </p:nvSpPr>
        <p:spPr>
          <a:xfrm>
            <a:off x="1143000" y="3714840"/>
            <a:ext cx="6000480" cy="1714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в экосистеме как обстоят д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канирование0009"/>
          <p:cNvPicPr/>
          <p:nvPr/>
        </p:nvPicPr>
        <p:blipFill>
          <a:blip r:embed="rId1"/>
          <a:srcRect l="38366" t="37895" r="44179" b="41179"/>
          <a:stretch/>
        </p:blipFill>
        <p:spPr>
          <a:xfrm>
            <a:off x="0" y="0"/>
            <a:ext cx="4195440" cy="365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сканирование0010"/>
          <p:cNvPicPr/>
          <p:nvPr/>
        </p:nvPicPr>
        <p:blipFill>
          <a:blip r:embed="rId2"/>
          <a:srcRect l="38885" t="45799" r="39805" b="39488"/>
          <a:stretch/>
        </p:blipFill>
        <p:spPr>
          <a:xfrm>
            <a:off x="5724360" y="3164040"/>
            <a:ext cx="3239640" cy="3074760"/>
          </a:xfrm>
          <a:prstGeom prst="rect">
            <a:avLst/>
          </a:prstGeom>
          <a:ln w="9525">
            <a:noFill/>
          </a:ln>
        </p:spPr>
      </p:pic>
      <p:sp>
        <p:nvSpPr>
          <p:cNvPr id="129" name="Стрелка вправо 6"/>
          <p:cNvSpPr/>
          <p:nvPr/>
        </p:nvSpPr>
        <p:spPr>
          <a:xfrm>
            <a:off x="4643280" y="357120"/>
            <a:ext cx="3642840" cy="1856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.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право 7"/>
          <p:cNvSpPr/>
          <p:nvPr/>
        </p:nvSpPr>
        <p:spPr>
          <a:xfrm>
            <a:off x="285840" y="3857760"/>
            <a:ext cx="5643360" cy="2428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читайте диалог Антошки и биолога и определите проблему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де обитают живые организмы и как они связаны друг с другом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{8CBE97CF-BA8F-4899-A76F-1E13D16F4609}"/>
          <p:cNvPicPr/>
          <p:nvPr/>
        </p:nvPicPr>
        <p:blipFill>
          <a:blip r:embed="rId1"/>
          <a:stretch/>
        </p:blipFill>
        <p:spPr>
          <a:xfrm>
            <a:off x="4500720" y="1571760"/>
            <a:ext cx="4361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крываем новые зн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18 – работа в парах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контрол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е, где живут и какую профессию имеют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екоз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доросл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щ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96" descr="AG00315_"/>
          <p:cNvPicPr/>
          <p:nvPr/>
        </p:nvPicPr>
        <p:blipFill>
          <a:blip r:embed="rId1"/>
          <a:stretch/>
        </p:blipFill>
        <p:spPr>
          <a:xfrm>
            <a:off x="2071800" y="4000680"/>
            <a:ext cx="1771920" cy="1999800"/>
          </a:xfrm>
          <a:prstGeom prst="rect">
            <a:avLst/>
          </a:prstGeom>
          <a:ln w="9525">
            <a:noFill/>
          </a:ln>
        </p:spPr>
      </p:pic>
      <p:pic>
        <p:nvPicPr>
          <p:cNvPr id="138" name="Picture 96" descr="AG00315_"/>
          <p:cNvPicPr/>
          <p:nvPr/>
        </p:nvPicPr>
        <p:blipFill>
          <a:blip r:embed="rId2"/>
          <a:stretch/>
        </p:blipFill>
        <p:spPr>
          <a:xfrm>
            <a:off x="428760" y="3143160"/>
            <a:ext cx="1771920" cy="1999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крываем новые знания стр. 19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Содержимое 8"/>
          <p:cNvGraphicFramePr/>
          <p:nvPr/>
        </p:nvGraphicFramePr>
        <p:xfrm>
          <a:off x="500040" y="164304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Группы организм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Что делаю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риме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107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изводи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  <a:tr h="107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требляют  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7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зрушают (поедают) 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96" descr="AG00315_"/>
          <p:cNvPicPr/>
          <p:nvPr/>
        </p:nvPicPr>
        <p:blipFill>
          <a:blip r:embed="rId1"/>
          <a:stretch/>
        </p:blipFill>
        <p:spPr>
          <a:xfrm>
            <a:off x="7264080" y="4143240"/>
            <a:ext cx="1771920" cy="1999800"/>
          </a:xfrm>
          <a:prstGeom prst="rect">
            <a:avLst/>
          </a:prstGeom>
          <a:ln w="9525">
            <a:noFill/>
          </a:ln>
        </p:spPr>
      </p:pic>
      <p:pic>
        <p:nvPicPr>
          <p:cNvPr id="142" name="Picture 96" descr="AG00315_"/>
          <p:cNvPicPr/>
          <p:nvPr/>
        </p:nvPicPr>
        <p:blipFill>
          <a:blip r:embed="rId2"/>
          <a:stretch/>
        </p:blipFill>
        <p:spPr>
          <a:xfrm>
            <a:off x="7572240" y="4857840"/>
            <a:ext cx="1771920" cy="1999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крываем новые знания стр. 20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говорот веществ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ители                      потребител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ушите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право 3"/>
          <p:cNvSpPr/>
          <p:nvPr/>
        </p:nvSpPr>
        <p:spPr>
          <a:xfrm>
            <a:off x="4000320" y="2428920"/>
            <a:ext cx="1356840" cy="21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Стрелка вправо 4"/>
          <p:cNvSpPr/>
          <p:nvPr/>
        </p:nvSpPr>
        <p:spPr>
          <a:xfrm>
            <a:off x="2286000" y="4214880"/>
            <a:ext cx="1356840" cy="21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7" name="Picture 48" descr="nature43"/>
          <p:cNvPicPr/>
          <p:nvPr/>
        </p:nvPicPr>
        <p:blipFill>
          <a:blip r:embed="rId1"/>
          <a:stretch/>
        </p:blipFill>
        <p:spPr>
          <a:xfrm>
            <a:off x="214200" y="2928960"/>
            <a:ext cx="1714320" cy="3062520"/>
          </a:xfrm>
          <a:prstGeom prst="rect">
            <a:avLst/>
          </a:prstGeom>
          <a:ln w="9525">
            <a:noFill/>
          </a:ln>
        </p:spPr>
      </p:pic>
      <p:sp>
        <p:nvSpPr>
          <p:cNvPr id="148" name="Рисунок 6"/>
          <p:cNvSpPr/>
          <p:nvPr/>
        </p:nvSpPr>
        <p:spPr>
          <a:xfrm>
            <a:off x="3857760" y="4714920"/>
            <a:ext cx="2356920" cy="1767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f_0440"/>
          <p:cNvPicPr/>
          <p:nvPr/>
        </p:nvPicPr>
        <p:blipFill>
          <a:blip r:embed="rId3"/>
          <a:stretch/>
        </p:blipFill>
        <p:spPr>
          <a:xfrm>
            <a:off x="6453360" y="2857320"/>
            <a:ext cx="2476080" cy="2066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контроль.  Допишите цепи питания. Определите «профессию»  всех  участник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6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…..          Жук- усач        Дятел          ястреб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кора         короед            ……          ястреб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дуб           …….         куниц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1785600" y="1928520"/>
            <a:ext cx="60984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357440" y="192852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357280" y="3071520"/>
            <a:ext cx="3049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4643280" y="3143160"/>
            <a:ext cx="3808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6072120" y="3143160"/>
            <a:ext cx="45720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2071440" y="378612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3714480" y="371448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Прямая со стрелкой 15"/>
          <p:cNvCxnSpPr/>
          <p:nvPr/>
        </p:nvCxnSpPr>
        <p:spPr>
          <a:xfrm>
            <a:off x="6215040" y="1928520"/>
            <a:ext cx="571680" cy="2160"/>
          </a:xfrm>
          <a:prstGeom prst="straightConnector1">
            <a:avLst/>
          </a:prstGeom>
          <a:ln cap="rnd"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60" name="Стрелка вправо 16"/>
          <p:cNvSpPr/>
          <p:nvPr/>
        </p:nvSpPr>
        <p:spPr>
          <a:xfrm>
            <a:off x="1214280" y="4143240"/>
            <a:ext cx="6500520" cy="1571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99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экосисте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цель мы ставили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выяснили в ходе урока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е свой вывод с авторски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. 22, в.1-4. выберите вопрос и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ьте. Обратите внимание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умение формируется в ход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ой работ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MCj03981290000[1]"/>
          <p:cNvPicPr/>
          <p:nvPr/>
        </p:nvPicPr>
        <p:blipFill>
          <a:blip r:embed="rId1"/>
          <a:stretch/>
        </p:blipFill>
        <p:spPr>
          <a:xfrm>
            <a:off x="214200" y="3786120"/>
            <a:ext cx="2388600" cy="26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и уро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работал отлично, потому что…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работал хорошо, потому что…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ыло трудновато, потому что…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ичего не понял, потому что…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  <Words>205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19T13:45:12Z</dcterms:modified>
  <cp:revision>9</cp:revision>
  <dc:subject/>
  <dc:title>Самостоятельная работа цель:  свойства живых организм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