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4EF-2897-4F25-9707-7116FB32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790-C041-4637-BAC4-F076B2AD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DEA-F2DA-42E0-B885-8535AB8B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FEF-55C7-48B6-ACA1-93EA861E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90CF-5AD8-4063-8732-673C30B2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87DE-8C05-430F-8536-B726A423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7E4A-BC59-4512-84C7-CF11B317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8A14-1215-485D-8ACF-96CC7E7B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1FE9-DB7A-44CC-A7CD-3D3B132E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0A70-FCE8-471B-9493-A9ABB946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02B1-9926-4D13-B6C7-1093D40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A5A-3CDD-4CD0-87CB-3D96F2D9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AC03-F076-4F73-9C13-C74BD219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CB19-FADA-4BF5-B17C-5225ED9C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FA21-6063-4E3F-B0D7-2282938F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B95D-4A12-4A85-99BA-E3C755F7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7BBF-6B1B-45B5-8A3E-32E6121A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D3CE-C913-4F7B-961D-23D28CE4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F1E9-C9F0-4787-AC79-8650D7B7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9BB52-F7FA-4ECD-9975-8ECA116E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8E60-FF2F-4C2B-A083-52A3559A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FAFB-DD1D-44C3-AFE0-96A5343B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E11-09C7-4019-8302-C9962EF8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C0A6-652A-48AF-AC38-4857DDD4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EF99-6E75-43E4-86DF-38877476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4626-32B2-4FED-BC39-575E23B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207D9-2D37-4F1A-8DC3-E073A54B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F7C9-8A58-4963-AC21-D3AA1F69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B1A0-7AC7-479D-BE96-F5A768FF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0FB6-1F77-4E96-92CB-3CE3B11B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AAC70-B684-449F-83AC-765DC56E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FA4F-9EFA-4C15-9A78-A5F86B08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12DB5-A217-49C7-8619-E133FC0C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54D-F3FC-45C0-ADD6-905791EF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D32AA-3284-420A-B5EA-065111AD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2BBF7-02A8-48A1-B2FC-1A52414F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138D5-30D5-448B-BA6C-BC4192A5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92651-76C8-47BD-83EF-47BECBC4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F9D4F-41AB-4FA3-8BC7-8AE71137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A261F-F345-4C0A-A2E5-49BE7CD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49172-A5F0-4069-A723-ADFD0742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418D-69FE-4C00-A6C3-F2E003E5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7B0C9-BFAF-4140-A1F2-3BCECE7C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0321-AD27-4C85-8E25-5BBE8F2D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8B9-7F94-45E7-A0C5-63E74474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EE843-E622-4779-9B03-BD9F4200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5BE6-5C65-49D5-B317-82943899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A25DE-0191-4EBE-B79C-671787AC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82DC-6776-4406-90B3-4F449D8D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60190-BAF5-445F-B4A1-ACB7B117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B43FC-C0B1-4E98-A05B-2067887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EC87-FA0F-4DAF-A279-968C5E2F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039AB-703D-4851-A066-A1370F31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A9BFE-7886-4E24-A54A-C90394AD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AE75F-731B-4539-89E8-72F42B72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2C1-8C96-4A3B-B49B-615C142A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EC90-56D1-4633-A1FA-DC96CBCE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3085C-FA79-4FA2-A0CC-F80BD9B3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16D47-C69E-498E-975C-4E814664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DE7DF-DF16-4B77-9899-5FEECC1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285C-9454-44BE-9D4B-0EA36B2B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8FC92-E41D-4695-AB54-52EDD41D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D3884-3702-4866-80D0-A1B9F8E3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3566A-1DF9-41B8-907B-814EA2C6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9A87C-802F-4855-8640-4B4D4133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FB8EC-7DEC-4BFF-AB8F-C21FF66A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A66-482B-49F2-AA1D-6E78A220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A7544-7602-4264-B35E-1CD8C35B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FE322-0B74-4671-AC3F-C3CA94CC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DE1B-DFA0-43BC-83A7-C76FA5BD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9511F-9828-41CE-881C-4ACC97F0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B2146-D71B-468B-A49D-2847189A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937FA-C106-4445-AE3F-0ACD6F35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8A5E4-4884-44DC-A0D4-0760649D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1D660-E856-4100-B858-A6B03A1C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F15D4-61D1-4224-BD3E-C8503029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5C4A0-DB85-4FA7-83AE-D9E9AF8F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223-C4A4-43B1-9747-35E5B4B2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65F6B-BBCC-4E9A-B2E1-970C1E4E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C0CC8-7E53-41B2-AD72-2AA7C039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45DE6-B4E6-456C-B856-CDD822B5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665FA-1138-4CA7-B2B7-C5BA6414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B817B-7A86-4A27-A465-C7786251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B39-789C-44C7-AB8A-32B244B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171360"/>
            <a:ext cx="8696160" cy="18511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258920"/>
            <a:ext cx="8723520" cy="998640"/>
            <a:chOff x="210960" y="1258920"/>
            <a:chExt cx="8723520" cy="998640"/>
          </a:xfrm>
        </p:grpSpPr>
        <p:sp>
          <p:nvSpPr>
            <p:cNvPr id="2" name="Freeform 14"/>
            <p:cNvSpPr/>
            <p:nvPr/>
          </p:nvSpPr>
          <p:spPr>
            <a:xfrm>
              <a:off x="6046920" y="1367640"/>
              <a:ext cx="2876400" cy="5360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271160"/>
              <a:ext cx="5544720" cy="6382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280520"/>
              <a:ext cx="5468040" cy="5814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270440"/>
              <a:ext cx="3308040" cy="489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258920"/>
              <a:ext cx="8723520" cy="99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1AE1-B208-4228-A042-ED4C5F9E98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171360"/>
            <a:ext cx="8696160" cy="4525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4014720"/>
            <a:ext cx="8723520" cy="1000080"/>
            <a:chOff x="210960" y="4014720"/>
            <a:chExt cx="8723520" cy="1000080"/>
          </a:xfrm>
        </p:grpSpPr>
        <p:sp>
          <p:nvSpPr>
            <p:cNvPr id="50" name="Freeform 14"/>
            <p:cNvSpPr/>
            <p:nvPr/>
          </p:nvSpPr>
          <p:spPr>
            <a:xfrm>
              <a:off x="6054480" y="412380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402696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403632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402624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401472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7EAA-C1DC-4510-A006-BA870D80D2F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171360"/>
            <a:ext cx="8696160" cy="3552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3152880"/>
            <a:ext cx="2876400" cy="53496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3056040"/>
            <a:ext cx="5545080" cy="63792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3065400"/>
            <a:ext cx="5467320" cy="5810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3056040"/>
            <a:ext cx="3306600" cy="4888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3043080"/>
            <a:ext cx="8723520" cy="99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BDAC-BFF4-4CDD-9D96-1030257D3D3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534960"/>
            <a:ext cx="8723520" cy="998640"/>
            <a:chOff x="210960" y="534960"/>
            <a:chExt cx="8723520" cy="998640"/>
          </a:xfrm>
        </p:grpSpPr>
        <p:sp>
          <p:nvSpPr>
            <p:cNvPr id="145" name="Freeform 14"/>
            <p:cNvSpPr/>
            <p:nvPr/>
          </p:nvSpPr>
          <p:spPr>
            <a:xfrm>
              <a:off x="6046920" y="643680"/>
              <a:ext cx="2876400" cy="5360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547200"/>
              <a:ext cx="5544720" cy="6382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556560"/>
              <a:ext cx="5468040" cy="5814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546480"/>
              <a:ext cx="3308040" cy="489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534960"/>
              <a:ext cx="8723520" cy="99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DA1E-700D-463A-9F5D-38423225560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534960"/>
            <a:ext cx="8723520" cy="1000080"/>
            <a:chOff x="210960" y="534960"/>
            <a:chExt cx="8723520" cy="1000080"/>
          </a:xfrm>
        </p:grpSpPr>
        <p:sp>
          <p:nvSpPr>
            <p:cNvPr id="193" name="Freeform 14"/>
            <p:cNvSpPr/>
            <p:nvPr/>
          </p:nvSpPr>
          <p:spPr>
            <a:xfrm>
              <a:off x="6054480" y="64404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54720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55656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54648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53496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9D82-F982-4C3A-86D3-8E80D295A0D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171360"/>
            <a:ext cx="8696160" cy="4525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4014720"/>
            <a:ext cx="8723520" cy="1000080"/>
            <a:chOff x="210960" y="4014720"/>
            <a:chExt cx="8723520" cy="1000080"/>
          </a:xfrm>
        </p:grpSpPr>
        <p:sp>
          <p:nvSpPr>
            <p:cNvPr id="241" name="Freeform 14"/>
            <p:cNvSpPr/>
            <p:nvPr/>
          </p:nvSpPr>
          <p:spPr>
            <a:xfrm>
              <a:off x="6054480" y="412380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402696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403632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402624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401472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6120-536D-405A-8CE1-9EA8AD7CBF4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534960"/>
            <a:ext cx="8723520" cy="1000080"/>
            <a:chOff x="210960" y="534960"/>
            <a:chExt cx="8723520" cy="1000080"/>
          </a:xfrm>
        </p:grpSpPr>
        <p:sp>
          <p:nvSpPr>
            <p:cNvPr id="289" name="Freeform 14"/>
            <p:cNvSpPr/>
            <p:nvPr/>
          </p:nvSpPr>
          <p:spPr>
            <a:xfrm>
              <a:off x="6054480" y="64404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54720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55656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54648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53496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7F3D-851A-4E5D-AD80-13A75C133B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8"/>
          <p:cNvSpPr/>
          <p:nvPr/>
        </p:nvSpPr>
        <p:spPr>
          <a:xfrm>
            <a:off x="2232000" y="189000"/>
            <a:ext cx="3960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01240"/>
            <a:ext cx="7772400" cy="16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ы и методика введения лекарственных средств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ям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700000" y="4443120"/>
            <a:ext cx="338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52e65"/>
                </a:solidFill>
                <a:latin typeface="Constantia"/>
              </a:rPr>
              <a:t>УФА - 201</a:t>
            </a:r>
            <a:r>
              <a:rPr b="1" lang="en-US" sz="1900" spc="-1" strike="noStrike">
                <a:solidFill>
                  <a:srgbClr val="052e65"/>
                </a:solidFill>
                <a:latin typeface="Constantia"/>
              </a:rPr>
              <a:t>8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6450120" y="3651120"/>
            <a:ext cx="24476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имиргалеева Т.В.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еподават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нутримышечные инъек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7640" y="896760"/>
            <a:ext cx="460836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При которой лекарство вводится в мышечные ткани. Является одним из наиболее частых парентеральных способов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Преимуществом внутримышечных инъекций в сравнении с подкожными инъекциями является быстрое всасывание препарата благодаря большому количеству в мышцах кровеносных и лимфатических сосудов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Особенности методики: - место инъекции — верхний внешний квадрант ягодицы и верхний передне-внешний квадрант бедра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иглы длинные, среднего диаметра, шприцы — разного объема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кожа обрабатывается спиртом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игла располагается под углом 90° к коже и вводится на глубину 2-3 см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проверяется возможное введения иглы в кровеносный сосуд, при отсутствии крови вводить лекарство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для более быстрого и лучшего всасывания препарата, после введения можно провести массаж в месте инъекции, положить теплую грелку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4572000" y="1112760"/>
            <a:ext cx="432108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7" descr="spots.jpg"/>
          <p:cNvPicPr/>
          <p:nvPr/>
        </p:nvPicPr>
        <p:blipFill>
          <a:blip r:embed="rId1"/>
          <a:stretch/>
        </p:blipFill>
        <p:spPr>
          <a:xfrm>
            <a:off x="1042920" y="853920"/>
            <a:ext cx="2592360" cy="13496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23640" y="195120"/>
            <a:ext cx="58230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Внутримышечные инъекции 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и места их введения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971640" y="3976560"/>
            <a:ext cx="748800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иболее подходящими местами для внутримышечных инъекций являю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шцы ягодиц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шцы плеч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шцы бедр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Users\Эльчин\Desktop\инъекции\внурм.jpeg"/>
          <p:cNvPicPr/>
          <p:nvPr/>
        </p:nvPicPr>
        <p:blipFill>
          <a:blip r:embed="rId2"/>
          <a:stretch/>
        </p:blipFill>
        <p:spPr>
          <a:xfrm>
            <a:off x="5972040" y="896760"/>
            <a:ext cx="2799000" cy="1283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Users\Эльчин\Desktop\инъекции\ПК.jpeg"/>
          <p:cNvPicPr/>
          <p:nvPr/>
        </p:nvPicPr>
        <p:blipFill>
          <a:blip r:embed="rId3"/>
          <a:stretch/>
        </p:blipFill>
        <p:spPr>
          <a:xfrm>
            <a:off x="6019920" y="2401920"/>
            <a:ext cx="2798640" cy="1374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Users\Эльчин\Desktop\инъекции\внутм.jpeg"/>
          <p:cNvPicPr/>
          <p:nvPr/>
        </p:nvPicPr>
        <p:blipFill>
          <a:blip r:embed="rId4"/>
          <a:stretch/>
        </p:blipFill>
        <p:spPr>
          <a:xfrm>
            <a:off x="1476360" y="2401920"/>
            <a:ext cx="2519280" cy="1357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C:\Users\Эльчин\Desktop\инъекции\внутрм2.jpeg"/>
          <p:cNvPicPr/>
          <p:nvPr/>
        </p:nvPicPr>
        <p:blipFill>
          <a:blip r:embed="rId5"/>
          <a:stretch/>
        </p:blipFill>
        <p:spPr>
          <a:xfrm>
            <a:off x="3938760" y="1676520"/>
            <a:ext cx="2047680" cy="22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16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4" name="Содержимое 4" descr="внутрим.gif"/>
          <p:cNvPicPr/>
          <p:nvPr/>
        </p:nvPicPr>
        <p:blipFill>
          <a:blip r:embed="rId1"/>
          <a:stretch/>
        </p:blipFill>
        <p:spPr>
          <a:xfrm>
            <a:off x="826920" y="843120"/>
            <a:ext cx="7632720" cy="29206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539280" y="681120"/>
            <a:ext cx="81471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нутривенные инъек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78920" y="1143000"/>
            <a:ext cx="475308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Внутривенные инфузии (инъекции) (в/в)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— когда лекарство вводится в периферические вены. Чаще всего применяются при тяжелом состоянии больного, тем не менее нередко и в виде планового лечения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Место инъекции; - инъекции чаще всего делаются в области локтевого, реже — лучезапястного и голеностопного суставов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8" name="Содержимое 4" descr="венны.jpg"/>
          <p:cNvPicPr/>
          <p:nvPr/>
        </p:nvPicPr>
        <p:blipFill>
          <a:blip r:embed="rId1"/>
          <a:stretch/>
        </p:blipFill>
        <p:spPr>
          <a:xfrm>
            <a:off x="4645080" y="2282760"/>
            <a:ext cx="3822480" cy="2038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5268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41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нтеральный путь в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79280" y="1116000"/>
            <a:ext cx="489744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Пероральное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(через рот — per os) С этой целью, применяются препараты в виде таблеток, драже, капсул, гранул, порошков и жидкостей.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Назначая лекарство, врач (или медсестра) должны объяснить такие правила приема: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- сколько раз в день, иногда уточнить время приема (некоторое лекарство принимаются только утром или вечером);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- связь с питанием — большинство лечебных средств принимается после приема пищи (для уменьшения их раздражающего действия на слизистую оболочку желудка), некоторые нужно употребить перед пищей (иногда за 45-50 минут до приема пищи);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- возможны некоторые особенности — например, солутан необходимо запить молоком, мукалтин лучше развести в воде и добавить немного сахара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858920" y="1142640"/>
            <a:ext cx="3848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4859280" y="1112760"/>
            <a:ext cx="391500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ктальный путь в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6840" y="944280"/>
            <a:ext cx="514692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Ректальное введе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- это введение в прямую кишку свечк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Методик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больной укладывается на сторону, сгибает ноги в коленном и бедренном суставах,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дной рукой медсестра разводит ягодицы, другой вводит свечу острым концом вперед так, чтобы закрылся анус; потом для предупреждения выскальзывания свечки на несколько минут необходимо сжать ягодиц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ребенка раннего возраста можно положить на спину, поднять ножки кверх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5148360" y="1058760"/>
            <a:ext cx="399564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1060560" y="1276200"/>
            <a:ext cx="669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обенности введения лекарственных препаратов детя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434960" y="303120"/>
            <a:ext cx="749952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 назначении лекарственного препарата для ребенка необходимо учитывать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  Его ве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  Его возра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  Форму лекарственного препара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0" name="Picture 3" descr="C:\Users\Явар\Downloads\yhqsadusiilvdfkizzcjkwiv.jpg"/>
          <p:cNvPicPr/>
          <p:nvPr/>
        </p:nvPicPr>
        <p:blipFill>
          <a:blip r:embed="rId1"/>
          <a:stretch/>
        </p:blipFill>
        <p:spPr>
          <a:xfrm>
            <a:off x="4498920" y="2577960"/>
            <a:ext cx="4164120" cy="26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8280" y="140760"/>
            <a:ext cx="8434440" cy="32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ыбирая форму лекарственного препарата, следует учитывать предпочтения ребенка. Обычно ЛС для детей  содержат вспомогательные вещества (мед, фруктовые сиропы) которые имеют приятный вкус и запах, что значительно облегчает прием препарата, но могут вызвать и аллергические реак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2" name="Picture 2" descr="C:\Users\Явар\Downloads\s13025818.jpg"/>
          <p:cNvPicPr/>
          <p:nvPr/>
        </p:nvPicPr>
        <p:blipFill>
          <a:blip r:embed="rId1"/>
          <a:stretch/>
        </p:blipFill>
        <p:spPr>
          <a:xfrm>
            <a:off x="4432320" y="2676600"/>
            <a:ext cx="3943440" cy="4724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0" y="47520"/>
            <a:ext cx="65232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50560" y="1329840"/>
            <a:ext cx="8713800" cy="38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Анальгетики — антипиретики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46680" indent="-268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 соответствии с рекомендациями ВОЗ «Лечение лихорадки при острых респираторных инфекциях у детей» (1993) и отечественными рекомендациями, жаропонижающие препараты следует назначать, когда температура у ребенка превышает 39,0 ºC(измеренная ректально) или 38,5 ºC(измеренная субаксиллярно). Исключение составляют дети с риском развития фебрильных судорог, дети с тяжелым заболеванием легочной или сердечно-сосудистой системы и дети первых 2-х месяцев жизни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46680" indent="-268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собенности применения некоторых лекарственных препаратов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-4680"/>
            <a:ext cx="7772400" cy="12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лан лек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50560" y="1166400"/>
            <a:ext cx="87138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Пути введения лекарственных препаратов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Парентеральный путь введения ЛС -инъекции (внутрикожные, подкожные, внутримышечные, внутривенные), методика,виды шприцов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Энтеральный путь введения ЛС, методика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Ректальный и другие пути введения ЛС, методика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514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31680" y="-396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опиоидные анальгетики (анальгетики-антипиретики)  относятся к числу наиболее широко используемых в педиатрической практике лекарственных средств. Их отличает уникальное сочетание жаропонижающего, противовоспалительного, анальгезирующего и антитромботического механизмов действия, что делает возможным применение этих лекарственных средств, для облегчения симптомов многих заболеваний. Несмотря на высокую эффективность анальгетиков-антипиретиков, использование их у детей не всегда безопасно. В настоящее время только ацетаминофен (парацетамол) и ибупрофен полностью отвечают критериям высокой эффективности и безопасности и рекомендуются ВОЗ и национальными программами в качестве жаропонижающих средств, для применения в педиатр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08000" y="249120"/>
            <a:ext cx="90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аминофен и ибупрофен могут назначаться детям с 3-месячного возраста. Разовые дозы ацетоминофена — 10—15 мг/кг, ибупрофена 5—10 мг/кг. Повторное использование антипиретиков возможно не ранее чем через 4—5 ч, но не более 4 раз в сутки. Анализ данных 19 исследований с участием более 425 тыс. человек показал, что ацетаминофен увеличивает риск астмы в 1,6 раза. У детей. Получавших препарат внутриутробно, риск развития астмы повышался в 1,3 раз, а сухих хрипов — в 1,5 раз. В одном из исследований было обнаружено, что препарат повышает риск развития астмы у детей в три раза. Однако от применения препарата по этой причине не следует отказываться. Если врач рекомендует ацетаминофен для лечения лихорадки у детей, родители должны рекомендациям, не смотря на то, что «некоторый риск при приеме лекарственных средств существует всег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бупрофен (Нурофен для детей) обладает выраженным жаропонижающим, анальгезирующим и противовоспалительным действием. В 1983 г. В Великобритании ибупрофен впервые получил статус безрецептурного препарата. Успех ибупрофена был поистине потрясающий — уже к концу 1985 г. Более 100 млн. человек применяли этот препар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одя итог, можно отметить, что ибупрофен и парацетамол являются одними из наиболее применяемых лекарственных средств в педиатрической практи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08000" y="1274760"/>
            <a:ext cx="89280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Функциональные нарушения желудочно-кишечного тракта  возникают у 90 % детей раннего возраста и проявляются в виде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1.  Синдрома кишечной колики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2.  Синдрома срыгивания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3.  Синдрома нерегулярного стула (задержка и периоды послабления)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При выраженных коликах и срыгивании показана лекарственная коррекция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1.  Прием миотропных спазмолитиков, например, Риабал в разовой дозе 0,25 мл. Как правило, достаточно однократного введения препарато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2.  Использование антацидов (Фосфалюгель, Маалокс, Неосмектин). Курс лечения 14 дней — 1 месяц, ¼ пакетика или 1 чайная ложка после каждого кормления — детям до 6 мес.; ½ пакетика или 2 чайные ложки после каждого кормления — детям 6—12 мес.; 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9a"/>
                </a:solidFill>
                <a:latin typeface="Candara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Препараты, применяемые у младенцев при кишечной колике и срыгивани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208080" y="357120"/>
            <a:ext cx="8712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и применения спазмолитического препарата направленного действия у детей с абдоминальной болью на этапе диагностического пои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установления причины абдоминальной боли у ребенка может потребоваться дополнительное обследование, которое часто занимает несколько дней. В большинстве случаев такая боль является результатом спазма гладкой мускулатуры ЖКТ. В этой связи применение спазмолитиков направленного действия, в частности гиосцина бутилбромида (Бускопан), представляется обоснованн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осцина бутилбромид — М-холиноблокатор, не проникающий через гематоэнцефалический барьер, не вызывающий общих для холинолитиков сосудистых реакций и падения артериального давления. Препарат длительное время используется в педиатрии, может применяться у детей в возрасте 6 лет, обладает хорошим профилем безопас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1275840"/>
            <a:ext cx="7408800" cy="33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екарственные средства новорожденному чаще вводят в/в, относительно реже в/м и п/к. Однако исходя из особенностей состояния ребенка, ЛС может вводиться peros, ингаляционно или ректальн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181080" y="339840"/>
            <a:ext cx="8748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собенности введения ЛС новорожденным</a:t>
            </a:r>
            <a:br>
              <a:rPr sz="1400"/>
            </a:br>
            <a:br>
              <a:rPr sz="14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684000" y="1276200"/>
            <a:ext cx="828036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Ректальный способ введения ЛС достаточно прост и удобен. Однако, у новорожденных ЛС, введенное ректально, не одинаковое время удерживается в просвете кишки, что, естественно, сказывается на объеме его всасывания и, следовательно, на концентрации препарата в крови. Необходимо также отметить, что слизистая прямой кишки новорожденных очень нежная и, ЛС могут вызвать ее раздражение и воспаление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9a"/>
                </a:solidFill>
                <a:latin typeface="Candara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собенности ректального введения ЛС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-360" y="1199880"/>
            <a:ext cx="889308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тличие от взрослых, у детей, и особенно у новорожденных, ЛС достаточно легко всасываются через кожу, т.е. при трансдермальном способе их введения. Это связано с тем, что кожа новорожденных, с одной стороны, очень хорошо кровоснабжается, а с другой имеет очень тонкий роговой слой. При этом подкожная жировая клетчатка у новорожденных практически отсутствует. Все это приводит к тому, что ЛС, нанесенные на кожу новорожденного, легко и быстро всасываются в кровь и могут достигнуть опасной для жизни ребенка концентраци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Особенности трансдермального введения ЛС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0" y="56340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, например, применение спиртовой настойки йода для обработки кожи новорожденных, особенно недоношенных детей, может сопровождаться быстрой его абсорбцией и резким повышением концентрации йодов в плазме крови, что, в свою очередь, может повлечь за собой угнетение секреторной функции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менее опасно применение у новорожденных присыпок, содержащих борную кислоту. Нанесение присыпки на месте опрелости у детей в неонатальном периоде сопровождается быстрым всасыванием борной кислоты и резким увеличением ее концентрации в тканях и органах, особенно в почках, что может привести даже к летальному исх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250920" y="700200"/>
            <a:ext cx="87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борник материалов для медсестры процедурного кабине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рекомендации // Общерос. обществ. орг. «Ассоц.мед. сестер России» — 5-е изд., перераб и доп.; сост.: В. А. Саркисова и др. — СПб.: OOO «Береста», 2012. — 440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www.who.int Публикации Всемирной организации здравоохранения  ВОЗ/ГСБИ: Комплект методических материалов по безопасности инъекций и сопутствующим процедур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nbuv.gov.ua/portal/Chem_Biol/Savm/2008_13/gl2/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ути введения лекарственных препаратов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840" y="1112760"/>
            <a:ext cx="484344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энтеральный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— введение лекарства через желудочно-кишечный тракт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пероральный — введение через рот;</a:t>
            </a:r>
            <a:br>
              <a:rPr sz="1800"/>
            </a:b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ректальный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— введение через прямую кишку;</a:t>
            </a:r>
            <a:br>
              <a:rPr sz="1800"/>
            </a:b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парентеральный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— введение лекарства путем инъекции с повреждением кожных покровов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внутрикож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подкож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внутримышеч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внутривен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ружный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ручное нанесение препарата на кожу и слизистые оболочки;</a:t>
            </a:r>
            <a:br>
              <a:rPr sz="1800"/>
            </a:b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ингаляци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003640" y="1109520"/>
            <a:ext cx="398484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8000" y="788760"/>
            <a:ext cx="90360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Инъекция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(от лат. injectio — вбрасывание, впрыскивание )— подкожное и другое введение в ткани (сосуды) организма </a:t>
            </a:r>
            <a:r>
              <a:rPr b="0" lang="en-US" sz="17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малых количеств растворов (преимущественно лекарственных средств)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Инъекции относятся к парентеральному пути введения лекарств в организм, т. е. лекарства вводятся не через желудочно-кишечный тракт, а минуя его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Преимущества данного способа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: точность дозировки и быстрота действия. Лекарство поступает в кровь в неизмененном виде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Для инъекционного введения лекарств требуются шприцы и иглы. Шприцы  имеют следующие емкости: 1, 2, 5, 10, 20 мл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Иглы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для внутримышечных, внутрикожных, подкожных и внутривенных инъекций отличаются друг от друга по сечению, длине, форме заточки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Размеры игл могут быть различны.  Иглы различной длины и сечения применяются строго по назначению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Так, иглы для внутримышечного введения лекарств имеют длину 60 мм, сечение — 0,8-1 мм; иглы для внутривенного введения — длину 40 мм, сечение —0,6-0,8 мм, иглы для внутрикожного введения имеет длину 20 мм, сечение — 0,4-0,6мм; введения иглы для подкожного введения имеет длину 15мм, сечение — 0,4мм;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Нижний колонтитул 4"/>
          <p:cNvSpPr/>
          <p:nvPr/>
        </p:nvSpPr>
        <p:spPr>
          <a:xfrm flipV="1">
            <a:off x="0" y="5142600"/>
            <a:ext cx="8748720" cy="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3280" y="140760"/>
            <a:ext cx="6553440" cy="4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нъекц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87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арентеральные средств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7644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Для парентерального введение препарата используют шприц, который состоит из цилиндра, заканчивающегося конусом, поршня, и иглы, которая одевается на шприц. В последние года с целью профилактики инфицирования гепатитом, СПИДом и др., применяются пластмассовые шприцы одноразового использования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4284720" y="1112760"/>
            <a:ext cx="475128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К основным видам инъекций относят следующие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кожная (или интрадермальная) —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cutaneous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 или 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dermal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подкожная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subcutaneous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мышечная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muscular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венная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venous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артериальная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костная 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ректальная инъекция — с помощью клизм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ndara"/>
              </a:rPr>
              <a:t>Виды инъекций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Содержимое 3" descr="injection4.jpg"/>
          <p:cNvPicPr/>
          <p:nvPr/>
        </p:nvPicPr>
        <p:blipFill>
          <a:blip r:embed="rId1"/>
          <a:stretch/>
        </p:blipFill>
        <p:spPr>
          <a:xfrm>
            <a:off x="841320" y="1216080"/>
            <a:ext cx="2176560" cy="1135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92000" y="483840"/>
            <a:ext cx="6553080" cy="2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еста для выполнения внутрикожной инъекци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4557600" y="1112760"/>
            <a:ext cx="4392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сновным местом для внутрикожной инъекции является средняя треть наружной поверхности предплеч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755640" y="2351160"/>
            <a:ext cx="39607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ащение: шприц  1 мл, игла 15 мм, сечение 0,4 мм; спирт 70%, лоток, 3 стерильных ватных шарика, маска, перчатки, емкости для дезинфекции шприцев, игл, шарик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C:\Users\Эльчин\Desktop\инъекции\ВК3.jpeg"/>
          <p:cNvPicPr/>
          <p:nvPr/>
        </p:nvPicPr>
        <p:blipFill>
          <a:blip r:embed="rId2"/>
          <a:stretch/>
        </p:blipFill>
        <p:spPr>
          <a:xfrm>
            <a:off x="4989600" y="3292560"/>
            <a:ext cx="3816360" cy="16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871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одкожные  инъекц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680760"/>
            <a:ext cx="493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Подкожные инъекции (п/к)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— лекарство вводится под кожу.</a:t>
            </a:r>
            <a:br>
              <a:rPr sz="1600"/>
            </a:b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Особенности методики: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место инъекции — верхняя 1/2 плеча, нижняя 1/2 предплечье, живот, под лопатками, внешняя часть бедер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иглы и шприцы — разных размеров; лучше шприцы с эксцентричным расположением конуса наконечника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кожа обрабатывается спиртом или йодом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І и II пальцами одной руки кожа и подкожная клетчатка собераются в складку и немного оттягиваются вверх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игла располагается под острым углом к коже и вводится вглубь на 1-2 см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оттягиванием поршня назад проверяется возможное расположение конца иглы в сосуде — если крови нет, лекарство вводится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932360" y="1112760"/>
            <a:ext cx="4103640" cy="35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3"/>
          <p:cNvSpPr/>
          <p:nvPr/>
        </p:nvSpPr>
        <p:spPr>
          <a:xfrm>
            <a:off x="0" y="4800600"/>
            <a:ext cx="2124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Содержимое 3" descr="707_1.gif"/>
          <p:cNvPicPr/>
          <p:nvPr/>
        </p:nvPicPr>
        <p:blipFill>
          <a:blip r:embed="rId1"/>
          <a:stretch/>
        </p:blipFill>
        <p:spPr>
          <a:xfrm>
            <a:off x="898560" y="579600"/>
            <a:ext cx="3529080" cy="159372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4"/>
          <p:cNvSpPr/>
          <p:nvPr/>
        </p:nvSpPr>
        <p:spPr>
          <a:xfrm>
            <a:off x="108000" y="1784520"/>
            <a:ext cx="8839080" cy="3379320"/>
          </a:xfrm>
          <a:prstGeom prst="rect">
            <a:avLst/>
          </a:prstGeom>
          <a:solidFill>
            <a:srgbClr val="f9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удобными участками для подкожного введ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жная поверхность плеч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лопаточное простран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ненаружная поверхность бед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ковая поверхность брюшной ст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жняя часть подмышечн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их местах кожа легко захватывается в складку и отсутствует опасность повреждения кровеносных сосудов, нервов и надкостницы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рекомендуется производить инъ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места с отечной подкожно-жировой клетчат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уплотнения от плохо рассосавшихся предыдущих инъе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5076720" y="579600"/>
            <a:ext cx="3598920" cy="1554120"/>
          </a:xfrm>
          <a:prstGeom prst="rect">
            <a:avLst/>
          </a:prstGeom>
          <a:solidFill>
            <a:srgbClr val="f9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кожно введенные лекарственные вещества оказывают действие быстрее, чем при введении через рот, т.к. они быстро всасываются. Подкожные инъекции производят иглой самого малого диаметра на глубину 15 мм и вводят до 2 мл лекарственных препаратов, которые быстро всасываются в рыхлой подкожной клетчатке и не оказывают на нее вредного воз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7"/>
          <p:cNvSpPr/>
          <p:nvPr/>
        </p:nvSpPr>
        <p:spPr>
          <a:xfrm>
            <a:off x="2313000" y="141120"/>
            <a:ext cx="59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кожная инъе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2" descr="C:\Users\Эльчин\Desktop\инъекции\н.jpeg"/>
          <p:cNvPicPr/>
          <p:nvPr/>
        </p:nvPicPr>
        <p:blipFill>
          <a:blip r:embed="rId2"/>
          <a:stretch/>
        </p:blipFill>
        <p:spPr>
          <a:xfrm>
            <a:off x="4824360" y="2311560"/>
            <a:ext cx="1655640" cy="644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3"/>
          <a:stretch/>
        </p:blipFill>
        <p:spPr>
          <a:xfrm>
            <a:off x="2308320" y="3241800"/>
            <a:ext cx="2087640" cy="809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Users\Эльчин\Desktop\инъекции\инсулин.jpeg"/>
          <p:cNvPicPr/>
          <p:nvPr/>
        </p:nvPicPr>
        <p:blipFill>
          <a:blip r:embed="rId4"/>
          <a:stretch/>
        </p:blipFill>
        <p:spPr>
          <a:xfrm>
            <a:off x="4643280" y="3165480"/>
            <a:ext cx="2016360" cy="809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C:\Users\Эльчин\Desktop\инъекции\внутрм2.jpeg"/>
          <p:cNvPicPr/>
          <p:nvPr/>
        </p:nvPicPr>
        <p:blipFill>
          <a:blip r:embed="rId5"/>
          <a:stretch/>
        </p:blipFill>
        <p:spPr>
          <a:xfrm>
            <a:off x="7202520" y="2301840"/>
            <a:ext cx="1504800" cy="180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07:33:58Z</dcterms:created>
  <dc:creator>TIMIRGALEEVA_TV</dc:creator>
  <dc:description/>
  <dc:language>en-US</dc:language>
  <cp:lastModifiedBy>Timirgaleeva_TV</cp:lastModifiedBy>
  <dcterms:modified xsi:type="dcterms:W3CDTF">2018-12-23T18:50:46Z</dcterms:modified>
  <cp:revision>14</cp:revision>
  <dc:subject/>
  <dc:title> Способы и методика введения лекарственных средств</dc:title>
</cp:coreProperties>
</file>