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27C-7644-4F76-8682-A66F96E9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2BA-C2C7-4088-91B4-394FCA08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090-111A-45E0-993F-4F0B4B76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72C-6552-4FBF-8453-2A60312E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E135-8C54-4F5E-9317-0CB286F4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66D7-13E3-41EB-A531-0AC95666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DB7B-647E-4DD8-81E2-A6AD43FA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BB2C-F208-40EF-A78A-9FC54B05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D3E3-4F82-4295-9D87-ABDC23F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90FB-5D90-416D-AC3B-083EEFFE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C552-954E-4718-9A26-FCBB46EE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22C-0619-4CE4-8175-33ED39CF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0DFE-72EB-490B-B22E-3E1811F9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D1A1-AF9C-4F1C-B7D5-ADCCA527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5DC4-38FA-4832-B491-011FB3DE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83D8-29E1-46F4-A853-639F5E4E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B212-0110-4484-8B17-461D192D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BE41-E01E-412E-9187-679C6984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61159-C553-47E8-9404-96BCB969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DE24-0EDB-4DB3-96EE-054E2255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FD4E-C43A-4327-907D-A25AE305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F283-E8BA-46DF-BD95-014EEA4D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A2D-DBD5-4CA0-BE34-2F1DD7AD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4090-42C2-4195-9E22-EB40D501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77CEB-3629-490A-9572-299ED074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B048-37EB-4190-89A8-289D0043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30C9-AE13-4086-A149-B52A34C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8140-E446-45EA-AB8C-787EFD13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274B4-AC44-4FD0-87DF-83E4050E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E38E-5505-4252-824A-5BC35AF3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8FD6-862A-4BD2-8084-3D5CC46C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5ABB-0B82-4115-BA29-F1BF11CA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36A4-FA20-4EE0-95E1-14DFEFB2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563-553B-4C19-A28A-787E347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C66CF-E00E-4AAE-BE5B-72CC297B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FDE67-995C-4E46-8C21-1B84BD93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D26B-B66A-41FD-93CE-9FA4F198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4636-98B2-4783-A915-F571E062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2E176-713B-4412-9BA1-086831B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0C69B-8C26-43FC-9EEC-9BF533F6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41D13-FA32-4A6A-A00E-86D86481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F265-0111-408D-90FE-DA100F3B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A8586-E6D0-4170-AE60-A5AA9DDB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1E8C5-C400-4FA5-BC68-15CED6A7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96F-5058-4BD8-BB84-9989775F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7A0AD-297F-4327-918E-7ACB016A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DBC1-64A0-4D48-82B4-21967A71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212AC-EE93-487E-92AB-518B265D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FFF91-9E34-4FDC-ADB1-B00C157E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12AE8-C5CD-435C-8E97-13D1BE0B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2B8F6-E7A5-41A1-9925-26FBA491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7CF95-F771-436A-B570-B9470A87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62934-4FF1-44A2-890E-1F6BB334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01AA0-A90C-427F-8D9E-CFF9F75B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1DB45-8569-49AB-9689-AFBD47BF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D85-F002-46FD-88C3-36BF46D2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A5625-554A-4DCE-94E4-C0349844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D8D6D-6E87-46C0-A56C-CDA0178C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ECFF9-6AFC-43A5-987D-B448154D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0C94-CCDD-4374-BA5F-B7C957E9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61EB4-4592-4B37-A380-A97FE7C8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7528-666E-4677-8E61-EDAA9C40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AA34-49AB-4D62-9D82-1D21D846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20972-6756-4D89-BF30-5287F85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16FB2-257F-4609-B47E-0EF1D13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6300A-261D-431A-88DC-2CA9F1B0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979-0D16-472B-9F2B-C51CF8B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DDB66-7273-49DE-873F-DC53ADA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E047C-856D-4984-8FB8-C3544EA8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414CB-4287-4EE4-9BE6-D4FE173C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322BA-67AB-4D5B-A490-2801957A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DDC36-FC52-4974-B6C6-99FDD476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70436-C75E-4BCE-B91D-DD6BF8DF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5D90A-C49F-43E3-B4D7-4E347E82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11AAC-8BEC-4D1E-897D-478A81D0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FE434-44E2-45F6-B9F1-9E5E1B4E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78AA2-E159-4F91-8D01-9158D09B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1A0-A6CF-46C2-812F-695C510D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3D7C4-1916-4E0A-A670-BAA75DD9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F3896-7B3E-46FC-8CC8-7C773C9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3BA57-B7D2-4AB4-9E35-E088548C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470D6-6885-4A7C-8C6E-363DA1A3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596E1-6A8C-402C-A78C-5F7E20CB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85F-F238-49F4-BC3C-AC13DFE5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171360"/>
            <a:ext cx="8696160" cy="18511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258920"/>
            <a:ext cx="8723520" cy="998640"/>
            <a:chOff x="210960" y="1258920"/>
            <a:chExt cx="8723520" cy="998640"/>
          </a:xfrm>
        </p:grpSpPr>
        <p:sp>
          <p:nvSpPr>
            <p:cNvPr id="2" name="Freeform 14"/>
            <p:cNvSpPr/>
            <p:nvPr/>
          </p:nvSpPr>
          <p:spPr>
            <a:xfrm>
              <a:off x="6046920" y="1367640"/>
              <a:ext cx="2876400" cy="5360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271160"/>
              <a:ext cx="5544720" cy="6382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280520"/>
              <a:ext cx="5468040" cy="5814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270440"/>
              <a:ext cx="3308040" cy="489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258920"/>
              <a:ext cx="8723520" cy="99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77CE-9135-4984-B875-03E1F1924CB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171360"/>
            <a:ext cx="8696160" cy="4525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4014720"/>
            <a:ext cx="8723520" cy="1000080"/>
            <a:chOff x="210960" y="4014720"/>
            <a:chExt cx="8723520" cy="1000080"/>
          </a:xfrm>
        </p:grpSpPr>
        <p:sp>
          <p:nvSpPr>
            <p:cNvPr id="50" name="Freeform 14"/>
            <p:cNvSpPr/>
            <p:nvPr/>
          </p:nvSpPr>
          <p:spPr>
            <a:xfrm>
              <a:off x="6054480" y="412380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402696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403632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402624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401472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33C5-DDA8-408B-A4E7-0F4FB71B887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171360"/>
            <a:ext cx="8696160" cy="3552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3152880"/>
            <a:ext cx="2876400" cy="53496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3056040"/>
            <a:ext cx="5545080" cy="63792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3065400"/>
            <a:ext cx="5467320" cy="5810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3056040"/>
            <a:ext cx="3306600" cy="4888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3043080"/>
            <a:ext cx="8723520" cy="99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FA62-5D6E-47EC-84E0-62A611E1C33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534960"/>
            <a:ext cx="8723520" cy="998640"/>
            <a:chOff x="210960" y="534960"/>
            <a:chExt cx="8723520" cy="998640"/>
          </a:xfrm>
        </p:grpSpPr>
        <p:sp>
          <p:nvSpPr>
            <p:cNvPr id="145" name="Freeform 14"/>
            <p:cNvSpPr/>
            <p:nvPr/>
          </p:nvSpPr>
          <p:spPr>
            <a:xfrm>
              <a:off x="6046920" y="643680"/>
              <a:ext cx="2876400" cy="5360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547200"/>
              <a:ext cx="5544720" cy="6382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556560"/>
              <a:ext cx="5468040" cy="5814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546480"/>
              <a:ext cx="3308040" cy="489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534960"/>
              <a:ext cx="8723520" cy="99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F27D-D9A7-4B30-A678-DCA1FE8A50C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534960"/>
            <a:ext cx="8723520" cy="1000080"/>
            <a:chOff x="210960" y="534960"/>
            <a:chExt cx="8723520" cy="1000080"/>
          </a:xfrm>
        </p:grpSpPr>
        <p:sp>
          <p:nvSpPr>
            <p:cNvPr id="193" name="Freeform 14"/>
            <p:cNvSpPr/>
            <p:nvPr/>
          </p:nvSpPr>
          <p:spPr>
            <a:xfrm>
              <a:off x="6054480" y="64404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54720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55656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54648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53496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F562-AB8C-4426-968B-70F5FA2BAF9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171360"/>
            <a:ext cx="8696160" cy="4525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4014720"/>
            <a:ext cx="8723520" cy="1000080"/>
            <a:chOff x="210960" y="4014720"/>
            <a:chExt cx="8723520" cy="1000080"/>
          </a:xfrm>
        </p:grpSpPr>
        <p:sp>
          <p:nvSpPr>
            <p:cNvPr id="241" name="Freeform 14"/>
            <p:cNvSpPr/>
            <p:nvPr/>
          </p:nvSpPr>
          <p:spPr>
            <a:xfrm>
              <a:off x="6054480" y="412380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402696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403632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402624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401472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A973-0B0C-4C7F-A030-2189F7F17B4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534960"/>
            <a:ext cx="8723520" cy="1000080"/>
            <a:chOff x="210960" y="534960"/>
            <a:chExt cx="8723520" cy="1000080"/>
          </a:xfrm>
        </p:grpSpPr>
        <p:sp>
          <p:nvSpPr>
            <p:cNvPr id="289" name="Freeform 14"/>
            <p:cNvSpPr/>
            <p:nvPr/>
          </p:nvSpPr>
          <p:spPr>
            <a:xfrm>
              <a:off x="6054480" y="64404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54720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55656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54648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53496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94FA-6A38-4D2F-940D-38037871180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8"/>
          <p:cNvSpPr/>
          <p:nvPr/>
        </p:nvSpPr>
        <p:spPr>
          <a:xfrm>
            <a:off x="2232000" y="189000"/>
            <a:ext cx="3960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01240"/>
            <a:ext cx="7772400" cy="16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ы и методика введения лекарственных средств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ям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700000" y="4443120"/>
            <a:ext cx="338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52e65"/>
                </a:solidFill>
                <a:latin typeface="Constantia"/>
              </a:rPr>
              <a:t>УФА - 201</a:t>
            </a:r>
            <a:r>
              <a:rPr b="1" lang="en-US" sz="1900" spc="-1" strike="noStrike">
                <a:solidFill>
                  <a:srgbClr val="052e65"/>
                </a:solidFill>
                <a:latin typeface="Constantia"/>
              </a:rPr>
              <a:t>8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6450120" y="3651120"/>
            <a:ext cx="24476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имиргалеева Т.В.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еподават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нутримышечные инъек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7640" y="896760"/>
            <a:ext cx="460836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При которой лекарство вводится в мышечные ткани. Является одним из наиболее частых парентеральных способов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Преимуществом внутримышечных инъекций в сравнении с подкожными инъекциями является быстрое всасывание препарата благодаря большому количеству в мышцах кровеносных и лимфатических сосудов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Особенности методики: - место инъекции — верхний внешний квадрант ягодицы и верхний передне-внешний квадрант бедра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иглы длинные, среднего диаметра, шприцы — разного объема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кожа обрабатывается спиртом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игла располагается под углом 90° к коже и вводится на глубину 2-3 см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проверяется возможное введения иглы в кровеносный сосуд, при отсутствии крови вводить лекарство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для более быстрого и лучшего всасывания препарата, после введения можно провести массаж в месте инъекции, положить теплую грелку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4572000" y="1112760"/>
            <a:ext cx="432108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7" descr="spots.jpg"/>
          <p:cNvPicPr/>
          <p:nvPr/>
        </p:nvPicPr>
        <p:blipFill>
          <a:blip r:embed="rId1"/>
          <a:stretch/>
        </p:blipFill>
        <p:spPr>
          <a:xfrm>
            <a:off x="1042920" y="853920"/>
            <a:ext cx="2592360" cy="13496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23640" y="195120"/>
            <a:ext cx="58230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Внутримышечные инъекции 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и места их введения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971640" y="3976560"/>
            <a:ext cx="748800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иболее подходящими местами для внутримышечных инъекций являю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шцы ягодиц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шцы плеч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шцы бедр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Users\Эльчин\Desktop\инъекции\внурм.jpeg"/>
          <p:cNvPicPr/>
          <p:nvPr/>
        </p:nvPicPr>
        <p:blipFill>
          <a:blip r:embed="rId2"/>
          <a:stretch/>
        </p:blipFill>
        <p:spPr>
          <a:xfrm>
            <a:off x="5972040" y="896760"/>
            <a:ext cx="2799000" cy="1283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Users\Эльчин\Desktop\инъекции\ПК.jpeg"/>
          <p:cNvPicPr/>
          <p:nvPr/>
        </p:nvPicPr>
        <p:blipFill>
          <a:blip r:embed="rId3"/>
          <a:stretch/>
        </p:blipFill>
        <p:spPr>
          <a:xfrm>
            <a:off x="6019920" y="2401920"/>
            <a:ext cx="2798640" cy="1374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Users\Эльчин\Desktop\инъекции\внутм.jpeg"/>
          <p:cNvPicPr/>
          <p:nvPr/>
        </p:nvPicPr>
        <p:blipFill>
          <a:blip r:embed="rId4"/>
          <a:stretch/>
        </p:blipFill>
        <p:spPr>
          <a:xfrm>
            <a:off x="1476360" y="2401920"/>
            <a:ext cx="2519280" cy="1357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C:\Users\Эльчин\Desktop\инъекции\внутрм2.jpeg"/>
          <p:cNvPicPr/>
          <p:nvPr/>
        </p:nvPicPr>
        <p:blipFill>
          <a:blip r:embed="rId5"/>
          <a:stretch/>
        </p:blipFill>
        <p:spPr>
          <a:xfrm>
            <a:off x="3938760" y="1676520"/>
            <a:ext cx="2047680" cy="22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16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4" name="Содержимое 4" descr="внутрим.gif"/>
          <p:cNvPicPr/>
          <p:nvPr/>
        </p:nvPicPr>
        <p:blipFill>
          <a:blip r:embed="rId1"/>
          <a:stretch/>
        </p:blipFill>
        <p:spPr>
          <a:xfrm>
            <a:off x="826920" y="843120"/>
            <a:ext cx="7632720" cy="29206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539280" y="681120"/>
            <a:ext cx="81471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нутривенные инъек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78920" y="1143000"/>
            <a:ext cx="475308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Внутривенные инфузии (инъекции) (в/в)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— когда лекарство вводится в периферические вены. Чаще всего применяются при тяжелом состоянии больного, тем не менее нередко и в виде планового лечения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Место инъекции; - инъекции чаще всего делаются в области локтевого, реже — лучезапястного и голеностопного суставов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8" name="Содержимое 4" descr="венны.jpg"/>
          <p:cNvPicPr/>
          <p:nvPr/>
        </p:nvPicPr>
        <p:blipFill>
          <a:blip r:embed="rId1"/>
          <a:stretch/>
        </p:blipFill>
        <p:spPr>
          <a:xfrm>
            <a:off x="4645080" y="2282760"/>
            <a:ext cx="3822480" cy="2038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5268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41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нтеральный путь в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79280" y="1116000"/>
            <a:ext cx="489744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Пероральное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(через рот — per os) С этой целью, применяются препараты в виде таблеток, драже, капсул, гранул, порошков и жидкостей.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Назначая лекарство, врач (или медсестра) должны объяснить такие правила приема: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- сколько раз в день, иногда уточнить время приема (некоторое лекарство принимаются только утром или вечером);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- связь с питанием — большинство лечебных средств принимается после приема пищи (для уменьшения их раздражающего действия на слизистую оболочку желудка), некоторые нужно употребить перед пищей (иногда за 45-50 минут до приема пищи);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- возможны некоторые особенности — например, солутан необходимо запить молоком, мукалтин лучше развести в воде и добавить немного сахара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858920" y="1142640"/>
            <a:ext cx="3848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4859280" y="1112760"/>
            <a:ext cx="391500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ктальный путь в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6840" y="944280"/>
            <a:ext cx="514692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Ректальное введе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- это введение в прямую кишку свечк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Методик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больной укладывается на сторону, сгибает ноги в коленном и бедренном суставах,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дной рукой медсестра разводит ягодицы, другой вводит свечу острым концом вперед так, чтобы закрылся анус; потом для предупреждения выскальзывания свечки на несколько минут необходимо сжать ягодиц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ребенка раннего возраста можно положить на спину, поднять ножки кверх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5148360" y="1058760"/>
            <a:ext cx="399564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1060560" y="1276200"/>
            <a:ext cx="669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обенности введения лекарственных препаратов детя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434960" y="303120"/>
            <a:ext cx="749952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 назначении лекарственного препарата для ребенка необходимо учитывать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  Его ве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  Его возра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  Форму лекарственного препара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0" name="Picture 3" descr="C:\Users\Явар\Downloads\yhqsadusiilvdfkizzcjkwiv.jpg"/>
          <p:cNvPicPr/>
          <p:nvPr/>
        </p:nvPicPr>
        <p:blipFill>
          <a:blip r:embed="rId1"/>
          <a:stretch/>
        </p:blipFill>
        <p:spPr>
          <a:xfrm>
            <a:off x="4498920" y="2577960"/>
            <a:ext cx="4164120" cy="26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8280" y="140760"/>
            <a:ext cx="8434440" cy="32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ыбирая форму лекарственного препарата, следует учитывать предпочтения ребенка. Обычно ЛС для детей  содержат вспомогательные вещества (мед, фруктовые сиропы) которые имеют приятный вкус и запах, что значительно облегчает прием препарата, но могут вызвать и аллергические реак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2" name="Picture 2" descr="C:\Users\Явар\Downloads\s13025818.jpg"/>
          <p:cNvPicPr/>
          <p:nvPr/>
        </p:nvPicPr>
        <p:blipFill>
          <a:blip r:embed="rId1"/>
          <a:stretch/>
        </p:blipFill>
        <p:spPr>
          <a:xfrm>
            <a:off x="4432320" y="2676600"/>
            <a:ext cx="3943440" cy="4724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0" y="47520"/>
            <a:ext cx="65232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50560" y="1329840"/>
            <a:ext cx="8713800" cy="38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Анальгетики — антипиретики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46680" indent="-268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 соответствии с рекомендациями ВОЗ «Лечение лихорадки при острых респираторных инфекциях у детей» (1993) и отечественными рекомендациями, жаропонижающие препараты следует назначать, когда температура у ребенка превышает 39,0 ºC(измеренная ректально) или 38,5 ºC(измеренная субаксиллярно). Исключение составляют дети с риском развития фебрильных судорог, дети с тяжелым заболеванием легочной или сердечно-сосудистой системы и дети первых 2-х месяцев жизни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46680" indent="-268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собенности применения некоторых лекарственных препаратов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-4680"/>
            <a:ext cx="7772400" cy="12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лан лек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50560" y="1166400"/>
            <a:ext cx="87138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Пути введения лекарственных препаратов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Парентеральный путь введения ЛС -инъекции (внутрикожные, подкожные, внутримышечные, внутривенные), методика,виды шприцов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Энтеральный путь введения ЛС, методика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Ректальный и другие пути введения ЛС, методика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514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31680" y="-396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опиоидные анальгетики (анальгетики-антипиретики)  относятся к числу наиболее широко используемых в педиатрической практике лекарственных средств. Их отличает уникальное сочетание жаропонижающего, противовоспалительного, анальгезирующего и антитромботического механизмов действия, что делает возможным применение этих лекарственных средств, для облегчения симптомов многих заболеваний. Несмотря на высокую эффективность анальгетиков-антипиретиков, использование их у детей не всегда безопасно. В настоящее время только ацетаминофен (парацетамол) и ибупрофен полностью отвечают критериям высокой эффективности и безопасности и рекомендуются ВОЗ и национальными программами в качестве жаропонижающих средств, для применения в педиатр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08000" y="249120"/>
            <a:ext cx="90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аминофен и ибупрофен могут назначаться детям с 3-месячного возраста. Разовые дозы ацетоминофена — 10—15 мг/кг, ибупрофена 5—10 мг/кг. Повторное использование антипиретиков возможно не ранее чем через 4—5 ч, но не более 4 раз в сутки. Анализ данных 19 исследований с участием более 425 тыс. человек показал, что ацетаминофен увеличивает риск астмы в 1,6 раза. У детей. Получавших препарат внутриутробно, риск развития астмы повышался в 1,3 раз, а сухих хрипов — в 1,5 раз. В одном из исследований было обнаружено, что препарат повышает риск развития астмы у детей в три раза. Однако от применения препарата по этой причине не следует отказываться. Если врач рекомендует ацетаминофен для лечения лихорадки у детей, родители должны рекомендациям, не смотря на то, что «некоторый риск при приеме лекарственных средств существует всег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бупрофен (Нурофен для детей) обладает выраженным жаропонижающим, анальгезирующим и противовоспалительным действием. В 1983 г. В Великобритании ибупрофен впервые получил статус безрецептурного препарата. Успех ибупрофена был поистине потрясающий — уже к концу 1985 г. Более 100 млн. человек применяли этот препар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одя итог, можно отметить, что ибупрофен и парацетамол являются одними из наиболее применяемых лекарственных средств в педиатрической практи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08000" y="1274760"/>
            <a:ext cx="89280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Функциональные нарушения желудочно-кишечного тракта  возникают у 90 % детей раннего возраста и проявляются в виде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1.  Синдрома кишечной колики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2.  Синдрома срыгивания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3.  Синдрома нерегулярного стула (задержка и периоды послабления)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При выраженных коликах и срыгивании показана лекарственная коррекция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1.  Прием миотропных спазмолитиков, например, Риабал в разовой дозе 0,25 мл. Как правило, достаточно однократного введения препарато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2.  Использование антацидов (Фосфалюгель, Маалокс, Неосмектин). Курс лечения 14 дней — 1 месяц, ¼ пакетика или 1 чайная ложка после каждого кормления — детям до 6 мес.; ½ пакетика или 2 чайные ложки после каждого кормления — детям 6—12 мес.; 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9a"/>
                </a:solidFill>
                <a:latin typeface="Candara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Препараты, применяемые у младенцев при кишечной колике и срыгивани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208080" y="357120"/>
            <a:ext cx="8712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и применения спазмолитического препарата направленного действия у детей с абдоминальной болью на этапе диагностического пои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установления причины абдоминальной боли у ребенка может потребоваться дополнительное обследование, которое часто занимает несколько дней. В большинстве случаев такая боль является результатом спазма гладкой мускулатуры ЖКТ. В этой связи применение спазмолитиков направленного действия, в частности гиосцина бутилбромида (Бускопан), представляется обоснованн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осцина бутилбромид — М-холиноблокатор, не проникающий через гематоэнцефалический барьер, не вызывающий общих для холинолитиков сосудистых реакций и падения артериального давления. Препарат длительное время используется в педиатрии, может применяться у детей в возрасте 6 лет, обладает хорошим профилем безопас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1275840"/>
            <a:ext cx="7408800" cy="33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екарственные средства новорожденному чаще вводят в/в, относительно реже в/м и п/к. Однако исходя из особенностей состояния ребенка, ЛС может вводиться peros, ингаляционно или ректальн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181080" y="339840"/>
            <a:ext cx="8748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собенности введения ЛС новорожденным</a:t>
            </a:r>
            <a:br>
              <a:rPr sz="1400"/>
            </a:br>
            <a:br>
              <a:rPr sz="14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684000" y="1276200"/>
            <a:ext cx="828036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Ректальный способ введения ЛС достаточно прост и удобен. Однако, у новорожденных ЛС, введенное ректально, не одинаковое время удерживается в просвете кишки, что, естественно, сказывается на объеме его всасывания и, следовательно, на концентрации препарата в крови. Необходимо также отметить, что слизистая прямой кишки новорожденных очень нежная и, ЛС могут вызвать ее раздражение и воспаление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9a"/>
                </a:solidFill>
                <a:latin typeface="Candara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собенности ректального введения ЛС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-360" y="1199880"/>
            <a:ext cx="889308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тличие от взрослых, у детей, и особенно у новорожденных, ЛС достаточно легко всасываются через кожу, т.е. при трансдермальном способе их введения. Это связано с тем, что кожа новорожденных, с одной стороны, очень хорошо кровоснабжается, а с другой имеет очень тонкий роговой слой. При этом подкожная жировая клетчатка у новорожденных практически отсутствует. Все это приводит к тому, что ЛС, нанесенные на кожу новорожденного, легко и быстро всасываются в кровь и могут достигнуть опасной для жизни ребенка концентраци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Особенности трансдермального введения ЛС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0" y="56340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, например, применение спиртовой настойки йода для обработки кожи новорожденных, особенно недоношенных детей, может сопровождаться быстрой его абсорбцией и резким повышением концентрации йодов в плазме крови, что, в свою очередь, может повлечь за собой угнетение секреторной функции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менее опасно применение у новорожденных присыпок, содержащих борную кислоту. Нанесение присыпки на месте опрелости у детей в неонатальном периоде сопровождается быстрым всасыванием борной кислоты и резким увеличением ее концентрации в тканях и органах, особенно в почках, что может привести даже к летальному исх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250920" y="700200"/>
            <a:ext cx="87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борник материалов для медсестры процедурного кабине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рекомендации // Общерос. обществ. орг. «Ассоц.мед. сестер России» — 5-е изд., перераб и доп.; сост.: В. А. Саркисова и др. — СПб.: OOO «Береста», 2012. — 440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www.who.int Публикации Всемирной организации здравоохранения  ВОЗ/ГСБИ: Комплект методических материалов по безопасности инъекций и сопутствующим процедур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nbuv.gov.ua/portal/Chem_Biol/Savm/2008_13/gl2/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ути введения лекарственных препаратов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840" y="1112760"/>
            <a:ext cx="484344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энтеральный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— введение лекарства через желудочно-кишечный тракт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пероральный — введение через рот;</a:t>
            </a:r>
            <a:br>
              <a:rPr sz="1800"/>
            </a:b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ректальный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— введение через прямую кишку;</a:t>
            </a:r>
            <a:br>
              <a:rPr sz="1800"/>
            </a:b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парентеральный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— введение лекарства путем инъекции с повреждением кожных покровов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внутрикож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подкож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внутримышеч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внутривен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ружный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ручное нанесение препарата на кожу и слизистые оболочки;</a:t>
            </a:r>
            <a:br>
              <a:rPr sz="1800"/>
            </a:b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ингаляци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003640" y="1109520"/>
            <a:ext cx="398484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8000" y="788760"/>
            <a:ext cx="90360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Инъекция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(от лат. injectio — вбрасывание, впрыскивание )— подкожное и другое введение в ткани (сосуды) организма </a:t>
            </a:r>
            <a:r>
              <a:rPr b="0" lang="en-US" sz="17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малых количеств растворов (преимущественно лекарственных средств)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Инъекции относятся к парентеральному пути введения лекарств в организм, т. е. лекарства вводятся не через желудочно-кишечный тракт, а минуя его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Преимущества данного способа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: точность дозировки и быстрота действия. Лекарство поступает в кровь в неизмененном виде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Для инъекционного введения лекарств требуются шприцы и иглы. Шприцы  имеют следующие емкости: 1, 2, 5, 10, 20 мл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Иглы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для внутримышечных, внутрикожных, подкожных и внутривенных инъекций отличаются друг от друга по сечению, длине, форме заточки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Размеры игл могут быть различны.  Иглы различной длины и сечения применяются строго по назначению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Так, иглы для внутримышечного введения лекарств имеют длину 60 мм, сечение — 0,8-1 мм; иглы для внутривенного введения — длину 40 мм, сечение —0,6-0,8 мм, иглы для внутрикожного введения имеет длину 20 мм, сечение — 0,4-0,6мм; введения иглы для подкожного введения имеет длину 15мм, сечение — 0,4мм;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Нижний колонтитул 4"/>
          <p:cNvSpPr/>
          <p:nvPr/>
        </p:nvSpPr>
        <p:spPr>
          <a:xfrm flipV="1">
            <a:off x="0" y="5142600"/>
            <a:ext cx="8748720" cy="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3280" y="140760"/>
            <a:ext cx="6553440" cy="4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нъекц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87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арентеральные средств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7644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Для парентерального введение препарата используют шприц, который состоит из цилиндра, заканчивающегося конусом, поршня, и иглы, которая одевается на шприц. В последние года с целью профилактики инфицирования гепатитом, СПИДом и др., применяются пластмассовые шприцы одноразового использования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4284720" y="1112760"/>
            <a:ext cx="475128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К основным видам инъекций относят следующие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кожная (или интрадермальная) —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cutaneous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 или 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dermal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подкожная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subcutaneous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мышечная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muscular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венная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venous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артериальная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костная 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ректальная инъекция — с помощью клизм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ndara"/>
              </a:rPr>
              <a:t>Виды инъекций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Содержимое 3" descr="injection4.jpg"/>
          <p:cNvPicPr/>
          <p:nvPr/>
        </p:nvPicPr>
        <p:blipFill>
          <a:blip r:embed="rId1"/>
          <a:stretch/>
        </p:blipFill>
        <p:spPr>
          <a:xfrm>
            <a:off x="841320" y="1216080"/>
            <a:ext cx="2176560" cy="1135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92000" y="483840"/>
            <a:ext cx="6553080" cy="2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еста для выполнения внутрикожной инъекци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4557600" y="1112760"/>
            <a:ext cx="4392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сновным местом для внутрикожной инъекции является средняя треть наружной поверхности предплеч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755640" y="2351160"/>
            <a:ext cx="39607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ащение: шприц  1 мл, игла 15 мм, сечение 0,4 мм; спирт 70%, лоток, 3 стерильных ватных шарика, маска, перчатки, емкости для дезинфекции шприцев, игл, шарик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C:\Users\Эльчин\Desktop\инъекции\ВК3.jpeg"/>
          <p:cNvPicPr/>
          <p:nvPr/>
        </p:nvPicPr>
        <p:blipFill>
          <a:blip r:embed="rId2"/>
          <a:stretch/>
        </p:blipFill>
        <p:spPr>
          <a:xfrm>
            <a:off x="4989600" y="3292560"/>
            <a:ext cx="3816360" cy="16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871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одкожные  инъекц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680760"/>
            <a:ext cx="493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Подкожные инъекции (п/к)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— лекарство вводится под кожу.</a:t>
            </a:r>
            <a:br>
              <a:rPr sz="1600"/>
            </a:b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Особенности методики: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место инъекции — верхняя 1/2 плеча, нижняя 1/2 предплечье, живот, под лопатками, внешняя часть бедер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иглы и шприцы — разных размеров; лучше шприцы с эксцентричным расположением конуса наконечника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кожа обрабатывается спиртом или йодом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І и II пальцами одной руки кожа и подкожная клетчатка собераются в складку и немного оттягиваются вверх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игла располагается под острым углом к коже и вводится вглубь на 1-2 см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оттягиванием поршня назад проверяется возможное расположение конца иглы в сосуде — если крови нет, лекарство вводится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932360" y="1112760"/>
            <a:ext cx="4103640" cy="35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3"/>
          <p:cNvSpPr/>
          <p:nvPr/>
        </p:nvSpPr>
        <p:spPr>
          <a:xfrm>
            <a:off x="0" y="4800600"/>
            <a:ext cx="2124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Содержимое 3" descr="707_1.gif"/>
          <p:cNvPicPr/>
          <p:nvPr/>
        </p:nvPicPr>
        <p:blipFill>
          <a:blip r:embed="rId1"/>
          <a:stretch/>
        </p:blipFill>
        <p:spPr>
          <a:xfrm>
            <a:off x="898560" y="579600"/>
            <a:ext cx="3529080" cy="159372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4"/>
          <p:cNvSpPr/>
          <p:nvPr/>
        </p:nvSpPr>
        <p:spPr>
          <a:xfrm>
            <a:off x="108000" y="1784520"/>
            <a:ext cx="8839080" cy="3379320"/>
          </a:xfrm>
          <a:prstGeom prst="rect">
            <a:avLst/>
          </a:prstGeom>
          <a:solidFill>
            <a:srgbClr val="f9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удобными участками для подкожного введ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жная поверхность плеч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лопаточное простран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ненаружная поверхность бед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ковая поверхность брюшной ст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жняя часть подмышечн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их местах кожа легко захватывается в складку и отсутствует опасность повреждения кровеносных сосудов, нервов и надкостницы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рекомендуется производить инъ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места с отечной подкожно-жировой клетчат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уплотнения от плохо рассосавшихся предыдущих инъе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5076720" y="579600"/>
            <a:ext cx="3598920" cy="1554120"/>
          </a:xfrm>
          <a:prstGeom prst="rect">
            <a:avLst/>
          </a:prstGeom>
          <a:solidFill>
            <a:srgbClr val="f9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кожно введенные лекарственные вещества оказывают действие быстрее, чем при введении через рот, т.к. они быстро всасываются. Подкожные инъекции производят иглой самого малого диаметра на глубину 15 мм и вводят до 2 мл лекарственных препаратов, которые быстро всасываются в рыхлой подкожной клетчатке и не оказывают на нее вредного воз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7"/>
          <p:cNvSpPr/>
          <p:nvPr/>
        </p:nvSpPr>
        <p:spPr>
          <a:xfrm>
            <a:off x="2313000" y="141120"/>
            <a:ext cx="59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кожная инъе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2" descr="C:\Users\Эльчин\Desktop\инъекции\н.jpeg"/>
          <p:cNvPicPr/>
          <p:nvPr/>
        </p:nvPicPr>
        <p:blipFill>
          <a:blip r:embed="rId2"/>
          <a:stretch/>
        </p:blipFill>
        <p:spPr>
          <a:xfrm>
            <a:off x="4824360" y="2311560"/>
            <a:ext cx="1655640" cy="644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3"/>
          <a:stretch/>
        </p:blipFill>
        <p:spPr>
          <a:xfrm>
            <a:off x="2308320" y="3241800"/>
            <a:ext cx="2087640" cy="809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Users\Эльчин\Desktop\инъекции\инсулин.jpeg"/>
          <p:cNvPicPr/>
          <p:nvPr/>
        </p:nvPicPr>
        <p:blipFill>
          <a:blip r:embed="rId4"/>
          <a:stretch/>
        </p:blipFill>
        <p:spPr>
          <a:xfrm>
            <a:off x="4643280" y="3165480"/>
            <a:ext cx="2016360" cy="809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C:\Users\Эльчин\Desktop\инъекции\внутрм2.jpeg"/>
          <p:cNvPicPr/>
          <p:nvPr/>
        </p:nvPicPr>
        <p:blipFill>
          <a:blip r:embed="rId5"/>
          <a:stretch/>
        </p:blipFill>
        <p:spPr>
          <a:xfrm>
            <a:off x="7202520" y="2301840"/>
            <a:ext cx="1504800" cy="180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07:33:58Z</dcterms:created>
  <dc:creator>TIMIRGALEEVA_TV</dc:creator>
  <dc:description/>
  <dc:language>en-US</dc:language>
  <cp:lastModifiedBy>Timirgaleeva_TV</cp:lastModifiedBy>
  <dcterms:modified xsi:type="dcterms:W3CDTF">2018-12-23T18:50:46Z</dcterms:modified>
  <cp:revision>14</cp:revision>
  <dc:subject/>
  <dc:title> Способы и методика введения лекарственных средств</dc:title>
</cp:coreProperties>
</file>