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audio2.wav" ContentType="audio/x-wav"/>
  <Override PartName="/ppt/media/image3.gif" ContentType="image/gif"/>
  <Override PartName="/ppt/media/audio1.wav" ContentType="audio/x-wav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911-D7F9-4B2D-BDE8-456C3E6B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C49-5ADF-4CDA-B06E-A6554F1A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E4A-3768-4917-ADFE-84C74131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E01-E78B-4FC9-983D-B35E5C05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F69-3B63-4113-B04B-D88B0CB9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8CE9-512A-47F6-97E5-03775C23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ABC3-F339-49B1-A591-42ED9D53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1792-7D0A-43CD-ADED-949B5DDC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F991-E1AF-46B6-AAD3-4E96C8F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617E-9FCB-425D-A85C-783DF5A2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83A-84C7-4FC4-8C10-59303E7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A36-8248-4382-9BFD-BFFE0B4C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E5B2-7DA8-433B-B535-B088311A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57A5-CBF2-4501-AC0E-ECCB1C81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D949-28F1-4562-B2F0-5DCF2F6E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82B-0235-4D53-AC19-EC2FD154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A615-6B35-436D-A369-F8F29C92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570-06F7-4ED2-A87A-FFA6AC8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C8A-0348-4C51-B8C8-84AA9486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5CB-A0CD-4591-A55B-B56FFAE4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78A-C48F-4C0B-9F53-4D0D11A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E43-93F9-4D19-B9C8-A61423E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90B-D580-459C-9444-3120A670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67B-B06D-4AFD-8D61-8CFCAFB9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8A48F1-C8C6-4A6C-869B-D838B36FD7A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25CFC5-2FC6-46D3-A245-88C1874CBB6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640" y="0"/>
            <a:ext cx="878472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Электрический ток в жидкост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10800000">
            <a:off x="9098640" y="6812640"/>
            <a:ext cx="4536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ÐÐ°ÑÑÐ¸Ð½ÐºÐ¸ Ð¿Ð¾ Ð·Ð°Ð¿ÑÐ¾ÑÑ Ð»Ð°Ð¼Ð¿Ð¾ÑÐºÐ° Ð² Ð²Ð¾Ð´Ñ"/>
          <p:cNvPicPr/>
          <p:nvPr/>
        </p:nvPicPr>
        <p:blipFill>
          <a:blip r:embed="rId2"/>
          <a:stretch/>
        </p:blipFill>
        <p:spPr>
          <a:xfrm>
            <a:off x="1763640" y="2637000"/>
            <a:ext cx="5714640" cy="357156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p:transition spd="slow">
    <p:cut thruBlk="true"/>
    <p:sndAc>
      <p:stSnd>
        <p:snd r:embed="rId3" name="audio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Как возникают свободные носители зарядов в жидкостях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olas"/>
              </a:rPr>
              <a:t>-----------------------------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Молекулы распадаются на ионы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свободные носители зарядов) под влиянием электрического поля полярных молекул воды – </a:t>
            </a:r>
            <a:r>
              <a:rPr b="1" lang="ru-RU" sz="3200" spc="-1" strike="noStrike">
                <a:solidFill>
                  <a:srgbClr val="ffffff"/>
                </a:solidFill>
                <a:latin typeface="Consolas"/>
              </a:rPr>
              <a:t>электрическая диссоци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ÐÐ°ÑÑÐ¸Ð½ÐºÐ¸ Ð¿Ð¾ Ð·Ð°Ð¿ÑÐ¾ÑÑ ÑÐ»ÐµÐºÑÑÐ¸ÑÐµÑÐºÐ°Ñ Ð´Ð¸ÑÑÐ¾ÑÐ¸Ð°ÑÐ¸Ñ ÐºÐ°ÑÑÑÐ½ÐºÐ°"/>
          <p:cNvPicPr/>
          <p:nvPr/>
        </p:nvPicPr>
        <p:blipFill>
          <a:blip r:embed="rId2"/>
          <a:stretch/>
        </p:blipFill>
        <p:spPr>
          <a:xfrm>
            <a:off x="611640" y="3285000"/>
            <a:ext cx="7934760" cy="339012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36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Электрическая диссоци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---------------------------------------------------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процесс распада электролита на ионы при его растворении или плавлен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0" y="3861000"/>
            <a:ext cx="9143640" cy="299664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20" y="188640"/>
            <a:ext cx="91436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висимость сопротивления жидкого проводника от температуры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С увеличением нагрева проводимость              возрастает, а сопротивление падает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Consolas"/>
              </a:rPr>
              <a:t>R=Ro*(1+</a:t>
            </a:r>
            <a:r>
              <a:rPr b="1" i="1" lang="en-US" sz="3600" spc="-1" strike="noStrike">
                <a:solidFill>
                  <a:srgbClr val="ffffff"/>
                </a:solidFill>
                <a:latin typeface="Consolas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Consolas"/>
              </a:rPr>
              <a:t>t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*α всегда отрицательно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2"/>
          <a:stretch/>
        </p:blipFill>
        <p:spPr>
          <a:xfrm>
            <a:off x="2328120" y="3357000"/>
            <a:ext cx="4535640" cy="338400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364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акон электролиза (Фарадея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------------------------------------------------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Масса вещества, осаждённого на электроде при электролизе, прямо пропорциональна количеству электричества, переданного на этот электрод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m=kI∆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Consolas"/>
              </a:rPr>
              <a:t>k –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электрохимический эквивалент, </a:t>
            </a:r>
            <a:r>
              <a:rPr b="0" lang="en-US" sz="2800" spc="-1" strike="noStrike">
                <a:solidFill>
                  <a:srgbClr val="ffffff"/>
                </a:solidFill>
                <a:latin typeface="Consolas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кг\Кл</a:t>
            </a:r>
            <a:r>
              <a:rPr b="0" lang="en-US" sz="2800" spc="-1" strike="noStrike">
                <a:solidFill>
                  <a:srgbClr val="ffffff"/>
                </a:solidFill>
                <a:latin typeface="Consolas"/>
              </a:rPr>
              <a:t>]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  <p:sndAc>
      <p:stSnd>
        <p:snd r:embed="rId2" name="audio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tretch/>
        </p:blipFill>
        <p:spPr>
          <a:xfrm>
            <a:off x="1043640" y="0"/>
            <a:ext cx="7032960" cy="685764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Применение электрического тока в жидкостях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-----------------------------------------------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 п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окрытие твёрдых тел тончайшим слоем какого-либо металла - никелирование или хромирование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2. борьба с коррозийными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3. изготовление трансформаторов, счётчиков и прочих электроприборов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  <p:sndAc>
      <p:stSnd>
        <p:snd r:embed="rId2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ÐÐ°ÑÑÐ¸Ð½ÐºÐ¸ Ð¿Ð¾ Ð·Ð°Ð¿ÑÐ¾ÑÑ ÑÑÐ°Ð½ÑÑÐ¾ÑÐ¼Ð°ÑÐ¾Ñ"/>
          <p:cNvPicPr/>
          <p:nvPr/>
        </p:nvPicPr>
        <p:blipFill>
          <a:blip r:embed="rId2"/>
          <a:stretch/>
        </p:blipFill>
        <p:spPr>
          <a:xfrm>
            <a:off x="3996000" y="1340640"/>
            <a:ext cx="5306400" cy="43646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sp>
        <p:nvSpPr>
          <p:cNvPr id="112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ÐÐ°ÑÑÐ¸Ð½ÐºÐ¸ Ð¿Ð¾ Ð·Ð°Ð¿ÑÐ¾ÑÑ ÑÑÑÑÑÐ¸Ðº ÐºÐ°ÑÑÐ¸Ð½ÐºÐ¸"/>
          <p:cNvPicPr/>
          <p:nvPr/>
        </p:nvPicPr>
        <p:blipFill>
          <a:blip r:embed="rId3"/>
          <a:stretch/>
        </p:blipFill>
        <p:spPr>
          <a:xfrm>
            <a:off x="-180360" y="1052640"/>
            <a:ext cx="4931640" cy="49316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4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  <p:sndAc>
      <p:stSnd>
        <p:snd r:embed="rId2" name="audio1.wav"/>
      </p:stSnd>
    </p:sndAc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  <Words>37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12:50:55Z</dcterms:created>
  <dc:creator>user</dc:creator>
  <dc:description/>
  <dc:language>en-US</dc:language>
  <cp:lastModifiedBy>user</cp:lastModifiedBy>
  <dcterms:modified xsi:type="dcterms:W3CDTF">2019-05-14T11:13:58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