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audio2.wav" ContentType="audio/x-wav"/>
  <Override PartName="/ppt/media/image3.gif" ContentType="image/gif"/>
  <Override PartName="/ppt/media/audio1.wav" ContentType="audio/x-wav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74C-1EB7-4E65-B913-552BD4DB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DB7-4989-4BEB-85AB-0371D1C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52B-F01D-47E5-877D-35945941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7E9-5655-4B55-A7B9-1CDC3E7F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02E6-BDDB-474D-A0EF-EF622490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F105-BC57-4DDB-BC99-6DE5B37C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B772-588C-44B6-B69A-5F2133E7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180E-29D3-4BA0-A2FF-B545BCD4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A07E-6FE7-42F9-88A6-5A0F99B7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50D9-5A0F-4E44-BDE9-63C55ADA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7F9B-A892-4699-AE44-7B5DE1B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973-CA97-4DD8-B815-452F32C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8DF2-2339-4B87-9C9E-12ECD8EC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35DA-DE15-4066-8EC4-ECAAD42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6943-63C1-4E90-8832-B2125F66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971E-683A-472F-8C0C-70F589AB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0787-63DE-4E6E-BD6B-8B16BAA0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9FB-8BA0-4262-B926-B2C76C3F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EF9-5D18-4FCE-87BE-8AC11A2C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663-9A49-44B4-B420-5A14094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635-DADD-4BC7-9777-28CAFC07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A99-43AC-4782-A79C-F897C3E9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DA4-4824-40E4-9BFC-A141461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DC2-830F-49C7-96B5-EBB8FCD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5C7D43-492A-442D-A040-F9A87C7E54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29AA68-712B-4AE6-9CB7-A515EB7BB71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640" y="0"/>
            <a:ext cx="878472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Электрический ток в жидкост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10800000">
            <a:off x="9098640" y="6812640"/>
            <a:ext cx="4536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ÐÐ°ÑÑÐ¸Ð½ÐºÐ¸ Ð¿Ð¾ Ð·Ð°Ð¿ÑÐ¾ÑÑ Ð»Ð°Ð¼Ð¿Ð¾ÑÐºÐ° Ð² Ð²Ð¾Ð´Ñ"/>
          <p:cNvPicPr/>
          <p:nvPr/>
        </p:nvPicPr>
        <p:blipFill>
          <a:blip r:embed="rId2"/>
          <a:stretch/>
        </p:blipFill>
        <p:spPr>
          <a:xfrm>
            <a:off x="1763640" y="2637000"/>
            <a:ext cx="5714640" cy="357156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p:transition spd="slow">
    <p:cut thruBlk="true"/>
    <p:sndAc>
      <p:stSnd>
        <p:snd r:embed="rId3" name="audio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Как возникают свободные носители зарядов в жидкостях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olas"/>
              </a:rPr>
              <a:t>-----------------------------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Молекулы распадаются на ионы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свободные носители зарядов) под влиянием электрического поля полярных молекул воды – </a:t>
            </a:r>
            <a:r>
              <a:rPr b="1" lang="ru-RU" sz="3200" spc="-1" strike="noStrike">
                <a:solidFill>
                  <a:srgbClr val="ffffff"/>
                </a:solidFill>
                <a:latin typeface="Consolas"/>
              </a:rPr>
              <a:t>электрическая диссоци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ÐÐ°ÑÑÐ¸Ð½ÐºÐ¸ Ð¿Ð¾ Ð·Ð°Ð¿ÑÐ¾ÑÑ ÑÐ»ÐµÐºÑÑÐ¸ÑÐµÑÐºÐ°Ñ Ð´Ð¸ÑÑÐ¾ÑÐ¸Ð°ÑÐ¸Ñ ÐºÐ°ÑÑÑÐ½ÐºÐ°"/>
          <p:cNvPicPr/>
          <p:nvPr/>
        </p:nvPicPr>
        <p:blipFill>
          <a:blip r:embed="rId2"/>
          <a:stretch/>
        </p:blipFill>
        <p:spPr>
          <a:xfrm>
            <a:off x="611640" y="3285000"/>
            <a:ext cx="7934760" cy="339012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36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Электрическая диссоци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---------------------------------------------------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entury Gothic"/>
              </a:rPr>
              <a:t>процесс распада электролита на ионы при его растворении или плавлен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0" y="3861000"/>
            <a:ext cx="9143640" cy="299664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20" y="188640"/>
            <a:ext cx="91436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висимость сопротивления жидкого проводника от температуры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С увеличением нагрева проводимость              возрастает, а сопротивление падает</a:t>
            </a: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Consolas"/>
              </a:rPr>
              <a:t>R=Ro*(1+</a:t>
            </a:r>
            <a:r>
              <a:rPr b="1" i="1" lang="en-US" sz="3600" spc="-1" strike="noStrike">
                <a:solidFill>
                  <a:srgbClr val="ffffff"/>
                </a:solidFill>
                <a:latin typeface="Consolas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Consolas"/>
              </a:rPr>
              <a:t>t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*α всегда отрицательно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2"/>
          <a:stretch/>
        </p:blipFill>
        <p:spPr>
          <a:xfrm>
            <a:off x="2328120" y="3357000"/>
            <a:ext cx="4535640" cy="338400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364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акон электролиза (Фарадея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------------------------------------------------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Масса вещества, осаждённого на электроде при электролизе, прямо пропорциональна количеству электричества, переданного на этот электрод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m=kI∆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Consolas"/>
              </a:rPr>
              <a:t>k –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электрохимический эквивалент, </a:t>
            </a:r>
            <a:r>
              <a:rPr b="0" lang="en-US" sz="2800" spc="-1" strike="noStrike">
                <a:solidFill>
                  <a:srgbClr val="ffffff"/>
                </a:solidFill>
                <a:latin typeface="Consolas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кг\Кл</a:t>
            </a:r>
            <a:r>
              <a:rPr b="0" lang="en-US" sz="2800" spc="-1" strike="noStrike">
                <a:solidFill>
                  <a:srgbClr val="ffffff"/>
                </a:solidFill>
                <a:latin typeface="Consolas"/>
              </a:rPr>
              <a:t>]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  <p:sndAc>
      <p:stSnd>
        <p:snd r:embed="rId2" name="audio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tretch/>
        </p:blipFill>
        <p:spPr>
          <a:xfrm>
            <a:off x="1043640" y="0"/>
            <a:ext cx="7032960" cy="685764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3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Применение электрического тока в жидкостях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-----------------------------------------------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. п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окрытие твёрдых тел тончайшим слоем какого-либо металла - никелирование или хромирование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2. борьба с коррозийными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3. изготовление трансформаторов, счётчиков и прочих электроприборов</a:t>
            </a: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  <p:sndAc>
      <p:stSnd>
        <p:snd r:embed="rId2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ÐÐ°ÑÑÐ¸Ð½ÐºÐ¸ Ð¿Ð¾ Ð·Ð°Ð¿ÑÐ¾ÑÑ ÑÑÐ°Ð½ÑÑÐ¾ÑÐ¼Ð°ÑÐ¾Ñ"/>
          <p:cNvPicPr/>
          <p:nvPr/>
        </p:nvPicPr>
        <p:blipFill>
          <a:blip r:embed="rId2"/>
          <a:stretch/>
        </p:blipFill>
        <p:spPr>
          <a:xfrm>
            <a:off x="3996000" y="1340640"/>
            <a:ext cx="5306400" cy="43646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  <p:sp>
        <p:nvSpPr>
          <p:cNvPr id="112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ÐÐ°ÑÑÐ¸Ð½ÐºÐ¸ Ð¿Ð¾ Ð·Ð°Ð¿ÑÐ¾ÑÑ ÑÑÑÑÑÐ¸Ðº ÐºÐ°ÑÑÐ¸Ð½ÐºÐ¸"/>
          <p:cNvPicPr/>
          <p:nvPr/>
        </p:nvPicPr>
        <p:blipFill>
          <a:blip r:embed="rId3"/>
          <a:stretch/>
        </p:blipFill>
        <p:spPr>
          <a:xfrm>
            <a:off x="-180360" y="1052640"/>
            <a:ext cx="4931640" cy="493164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p:transition spd="slow">
    <p:fade thruBlk="true"/>
    <p:sndAc>
      <p:stSnd>
        <p:snd r:embed="rId4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ÐÐ°ÑÑÐ¸Ð½ÐºÐ¸ Ð¿Ð¾ Ð·Ð°Ð¿ÑÐ¾ÑÑ ÑÐ¾Ð½ ÑÑÑÐ½Ð¾Ðµ Ð´ÐµÑÐµÐ²Ð¾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 rot="10800000">
            <a:off x="8687160" y="6126480"/>
            <a:ext cx="4568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  <p:sndAc>
      <p:stSnd>
        <p:snd r:embed="rId2" name="audio1.wav"/>
      </p:stSnd>
    </p:sndAc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  <Words>37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12:50:55Z</dcterms:created>
  <dc:creator>user</dc:creator>
  <dc:description/>
  <dc:language>en-US</dc:language>
  <cp:lastModifiedBy>user</cp:lastModifiedBy>
  <dcterms:modified xsi:type="dcterms:W3CDTF">2019-05-14T11:13:58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