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264A90-E0A3-4B8D-BBE6-EBB9601A3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DD9429-A95A-493F-8057-4A4E7BA13B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8BD-C8BA-44E5-8365-46D4DED4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AA2-4DB9-431C-8E2D-999EE845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04B-C9D2-4C86-8013-3D652EEC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65FB-81D3-448B-94EB-F72991DB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C2E4-B822-4598-96DF-16A3D039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E755-1B8D-42F0-8E34-2EB4DEC7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AD3D-DFAF-42ED-84C3-E0B49DAB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6132-B6E4-4E67-B168-74FC40FF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F2FE-A521-4671-AB0C-F8D2FC71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02F8-A691-462B-A523-1D135C2A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78DF-6CC2-4C5B-B074-DCCDB065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5D4-FC96-41C6-BFFF-F746B3CD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A857-97FE-4DFB-9B82-32378643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6FE-1ECA-4786-A772-E2B3106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ED11-1863-4778-92B8-5490DC50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BD62-845C-42BE-BE3F-CD705C74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D9D6-6031-45E4-9682-94A4ED9C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26096-2A05-4B72-8053-524896CF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F54C-58C6-45D8-809F-6D50A7A3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B2949-AB27-4BEA-B08B-C939C5C6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7661-0A58-4968-89DA-A436F247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01556-4BAE-4D15-993B-4BFB7106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168-469E-4D44-9DEE-BB74B3FC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EE25-FC79-4763-B2AA-F39231B1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18F56-2187-4E9A-865D-00868EA6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5FD01-0D81-46E9-AA87-9BC208D2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AF0BA-CEB3-4CC3-8987-219A6A9B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3BD9-81A1-4C01-A8E3-9EBE22B7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CEF5-7397-4044-96C2-BABC5E9F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79F06-1CE7-401B-A394-64B0F303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ED9-87B1-4B6C-88A9-1CEADC05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AB7-0BDC-4D67-ABAD-D3F0B99D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F5D-FC23-4770-8998-1E03DF8E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0AF-516E-4232-9CD5-E7210DA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4F3-35DB-49E8-914C-BEA06591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FBE-CBEE-43B8-A2B5-72413464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F0762B-9542-4C7A-A9E4-8A1B8FF6BC5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D31582-CDC3-4B9B-90AF-0AF67236C86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8555D4-DF5A-43FB-BCCB-36CECDF9E2B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276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333333"/>
                </a:solidFill>
                <a:latin typeface="Calibri"/>
                <a:ea typeface="Times New Roman"/>
              </a:rPr>
              <a:t>Классификация антимикробных препаратов. Подбор АБК для лече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31" name="Picture 2" descr="http://bump.ru/resources/000/000/000/001/745/1745028_1024x768.jpg"/>
          <p:cNvPicPr/>
          <p:nvPr/>
        </p:nvPicPr>
        <p:blipFill>
          <a:blip r:embed="rId1"/>
          <a:stretch/>
        </p:blipFill>
        <p:spPr>
          <a:xfrm>
            <a:off x="1295280" y="3124080"/>
            <a:ext cx="6476760" cy="35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838720" cy="54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днако если у  бактерий высокая способность к выработке бета-лактамаз, то  под действием антибиотиков формируются антибиотикорезистентные штам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Поэтому на одни бактерии антибиотик действует, а на другие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8991360" cy="56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12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ирокий спектр действ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реди лактам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нтибиотиков име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бапене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х используют как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епараты резерв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олько при инфекциях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зистентны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 пенициллинам и цефалоспоринам, а также при госпитальных и полимикробных инфек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12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762760" cy="63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нтибиотики других групп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имеют различные механизмы действ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8200"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актериостатическ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параты нарушают этапы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синтеза бел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рибосомах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актерицидны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арушают либо целостность цитоплазматической мембраны, либо процесс синтеза ДНК и РНК. Он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меют мишень в организм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еловека или животного, поэтому по сравнению с лактамными препаратам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олее токсич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 должны использоваться только при невозможности применения послед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Синтетические антибактериальные препараты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276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3500" spc="-1" strike="noStrike">
                <a:solidFill>
                  <a:srgbClr val="333333"/>
                </a:solidFill>
                <a:latin typeface="Calibri"/>
                <a:ea typeface="Times New Roman"/>
              </a:rPr>
              <a:t>также имеют различные механизмы действия: ингибирование ДНК-гидразы,</a:t>
            </a:r>
            <a:r>
              <a:rPr b="0" lang="ru-RU" sz="3500" spc="-1" strike="noStrike">
                <a:solidFill>
                  <a:srgbClr val="000000"/>
                </a:solidFill>
                <a:latin typeface="Calibri"/>
                <a:ea typeface="Times New Roman"/>
              </a:rPr>
              <a:t> нарушение включения ПАБК (парааминобензойная кислота) в ДГФК (дигидрофолиевая кислота ) и т.д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35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0" lang="ru-RU" sz="3500" spc="-1" strike="noStrike">
                <a:solidFill>
                  <a:srgbClr val="333333"/>
                </a:solidFill>
                <a:latin typeface="Calibri"/>
                <a:ea typeface="Times New Roman"/>
              </a:rPr>
              <a:t>Их рекомендуют к применению при невозможности использования бета-лактамных антибиотиков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276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2. Интерпретация результатов микробиологической диагностики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83872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6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ационального подбора антимикробной терапии абсолютно необходима микробиологическая диагностика. При эт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жн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облюдать правила отбора, транспортировки и хранения исследуемого материал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6400"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Эффективность микробиологической диагностики зависит от правильной интерпретации результа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915040" cy="65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Считается, что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выделение патогенных микроорганизмов даже в малых количествах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егда позволяет отнести их к истинным возбудителям заболевани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Условно патогенный микроорганизм 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считают возбудителем болезни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, 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если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его выделяют из стерильных сред организма,  или в большом количестве из сред, не характерных  для его обитания.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В противном случае он является представителем нормальной аутофлоры либо контаминирует исследуемый материал в процессе забора или исслед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99136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Гораздо </a:t>
            </a:r>
            <a:r>
              <a:rPr b="0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сложнее </a:t>
            </a: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интерпретировать результаты микробиологического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и высевании нескольких видов микроорганизмов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. В таких случаях ориентируются на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количественное соотношение потенциальных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возбудителей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Чаще значимыми в этиологии данного заболевания бывают 1-2 из них. Следует иметь в виду, что вероятность равной этиологической значимости более чем 3 различных видов микроорганизмов незначитель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120" cy="129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9" strike="noStrike">
                <a:solidFill>
                  <a:srgbClr val="3c3c3c"/>
                </a:solidFill>
                <a:latin typeface="Calibri"/>
                <a:ea typeface="Times New Roman"/>
              </a:rPr>
              <a:t>3. Определение чувствительности отдельных групп бактерий к АБП и интерпретация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838720" cy="42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Устойчивость бактерий к антибиотикам (антибиотикорезистентность)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Calibri"/>
              </a:rPr>
              <a:t>   является неизбежным следствием их широкого клинического применения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ханизм устойчивости - ферментная инактивация антимикробных препар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991360" cy="57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0944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</a:pP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В качестве инактивирующих ферментов известны представители гидролаз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0944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бета-лактамазы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катализирующие расщепление бета-лактамного кольца у пенициллинов, цефалоспоринов и других бета-лактамов (монобактамов, карбапенемов и т.д.)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0944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   </a:t>
            </a: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эстеразы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, воздействующие на эритромицин и некоторые другие антибиотики близкой к нему структур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0944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Другая группа инактивирующих ферментов — </a:t>
            </a:r>
            <a:r>
              <a:rPr b="1" lang="ru-RU" sz="2900" spc="-1" strike="noStrike">
                <a:solidFill>
                  <a:srgbClr val="00b050"/>
                </a:solidFill>
                <a:latin typeface="Calibri"/>
              </a:rPr>
              <a:t>трансферазы</a:t>
            </a:r>
            <a:r>
              <a:rPr b="0" lang="ru-RU" sz="2900" spc="-1" strike="noStrike">
                <a:solidFill>
                  <a:srgbClr val="00b050"/>
                </a:solidFill>
                <a:latin typeface="Calibri"/>
              </a:rPr>
              <a:t>. К ним принадлежат левомицетин- (хлорамфеникол-)-ацетилтрансферазы, аминогликозидацетил, фосфо- или аденилилтрансферазы и фосфотрансферазы, воздействующие на эритромицин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6864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1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β-лактамазы, продуцируемые Грам + бактериями выделяются из клетки в межклеточное пространство, а продуцируемые Грам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−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бактериями не покидают клетку и циркулируют между наружной и внутренней мембран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Все известные в настоящее время β-лактамазы делят на 4 молекулярных класса, в пределах которых ферменты характеризуются общностью свойств и выраженной гомологи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Структура и функциональная классификация β-лактамаз (Яковлев С.В., 2008). "/>
          <p:cNvPicPr/>
          <p:nvPr/>
        </p:nvPicPr>
        <p:blipFill>
          <a:blip r:embed="rId1"/>
          <a:stretch/>
        </p:blipFill>
        <p:spPr>
          <a:xfrm>
            <a:off x="4495680" y="4512240"/>
            <a:ext cx="4385520" cy="2345400"/>
          </a:xfrm>
          <a:prstGeom prst="rect">
            <a:avLst/>
          </a:prstGeom>
          <a:ln w="9525">
            <a:noFill/>
          </a:ln>
        </p:spPr>
      </p:pic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ханизм устойчивости - ферментная инактивация антимикробных препара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55623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94000"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  <a:ea typeface="Calibri"/>
              </a:rPr>
              <a:t>КЛАССИФИКАЦИЯ АНТИБИОТИК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486400" y="0"/>
            <a:ext cx="36572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4080" indent="-244080">
              <a:lnSpc>
                <a:spcPct val="100000"/>
              </a:lnSpc>
              <a:spcBef>
                <a:spcPts val="561"/>
              </a:spcBef>
              <a:buClr>
                <a:srgbClr val="00b0f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00b0f0"/>
                </a:solidFill>
                <a:latin typeface="Calibri"/>
                <a:ea typeface="Calibri"/>
              </a:rPr>
              <a:t>По происхождению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Group 109"/>
          <p:cNvGraphicFramePr/>
          <p:nvPr/>
        </p:nvGraphicFramePr>
        <p:xfrm>
          <a:off x="152280" y="609480"/>
          <a:ext cx="8838720" cy="6143400"/>
        </p:xfrm>
        <a:graphic>
          <a:graphicData uri="http://schemas.openxmlformats.org/drawingml/2006/table">
            <a:tbl>
              <a:tblPr/>
              <a:tblGrid>
                <a:gridCol w="2590560"/>
                <a:gridCol w="3154680"/>
                <a:gridCol w="3093480"/>
              </a:tblGrid>
              <a:tr h="380880">
                <a:tc>
                  <a:txBody>
                    <a:bodyPr lIns="94320" rIns="9432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35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соб получения</a:t>
                      </a:r>
                      <a:endParaRPr b="0" lang="en-US" sz="23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ц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880">
                <a:tc>
                  <a:txBody>
                    <a:bodyPr lIns="94320" rIns="94320" tIns="43560" bIns="43560" anchor="t">
                      <a:noAutofit/>
                    </a:bodyPr>
                    <a:p>
                      <a:pPr marL="72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chemeClr val="hlink"/>
                          </a:solidFill>
                          <a:latin typeface="Calibri"/>
                        </a:rPr>
                        <a:t>Природ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00" indent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биосинтетические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бственно 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иномице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2401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2401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и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мицидин С, полимикс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ептомицин, эритромицин, тетрациклины и 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000" algn="just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илпенициллин, цефалоспорины, фузидиевая кисло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4320" rIns="94320" tIns="43560" bIns="43560" anchor="t">
                      <a:noAutofit/>
                    </a:bodyPr>
                    <a:p>
                      <a:pPr marL="72000" indent="36000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chemeClr val="hlink"/>
                          </a:solidFill>
                          <a:latin typeface="Calibri"/>
                        </a:rPr>
                        <a:t>Полусинте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72000" indent="36000">
                        <a:lnSpc>
                          <a:spcPts val="2401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омбинация биосинтеза и химического синте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144000" indent="36000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кты модификации молекул природных антибиот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ациллин, ампициллин, гентамицин, рифампицин и д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4320" rIns="94320" tIns="43560" bIns="43560" anchor="t">
                      <a:noAutofit/>
                    </a:bodyPr>
                    <a:p>
                      <a:pPr marL="72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chemeClr val="hlink"/>
                          </a:solidFill>
                          <a:latin typeface="Calibri"/>
                        </a:rPr>
                        <a:t>Синтети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144000" indent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оги природных антибиотиков, синтезированных химическим пут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4320" rIns="94320" tIns="43560" bIns="43560" anchor="t">
                      <a:noAutofit/>
                    </a:bodyPr>
                    <a:p>
                      <a:pPr marL="36000" algn="just">
                        <a:lnSpc>
                          <a:spcPts val="2401"/>
                        </a:lnSpc>
                        <a:buClr>
                          <a:srgbClr val="800080"/>
                        </a:buClr>
                        <a:buFont typeface="Symbol" charset="2"/>
                        <a:buChar char=""/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вомицетин, амикац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4320" marR="943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940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β-лактамаз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899136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Наибольшее значение для клинической практики имеют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плазмидные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β - лактамазы расширенного спектра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Грам−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 бактерий (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БЛРС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), поскольку они способны разрушать цефалоспорины III и, в меньшей степени, IV поко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Рутинные методы оценки чувствительности к АБП очень часто не выявляют этот механизм устойчив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Чаще всего БЛРС встречаются у м-ов рода Klebsiella, достаточно часто у E.coli и Proteus spp., реже у других Грам </a:t>
            </a: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−</a:t>
            </a: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 бактер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17375e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В России в отдельных леч. учрежд-ях частота распрост- ран-ти этих ферментов среди клебсиелл достигает 90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581280" y="304920"/>
            <a:ext cx="55623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Подбор АБП для лечения на основе определения зоны задержки роста (оценки фенотипа) широко используют, но более информативным для выявления </a:t>
            </a:r>
            <a:r>
              <a:rPr b="1" i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того или иного механизма устойчивости</a:t>
            </a:r>
            <a:r>
              <a:rPr b="1" i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, в т.ч. и генетической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является  использование </a:t>
            </a:r>
            <a:r>
              <a:rPr b="1" i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марке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https://www.researchgate.net/profile/Aminul_Islam29/publication/319402681/figure/download/fig10/AS:538122073145348@1505309708908/Mueller-Hinton-agar-media-with-antibiotic-sensitivity-disc-showing-Oxacillin-sensitive.png"/>
          <p:cNvPicPr/>
          <p:nvPr/>
        </p:nvPicPr>
        <p:blipFill>
          <a:blip r:embed="rId1"/>
          <a:stretch/>
        </p:blipFill>
        <p:spPr>
          <a:xfrm>
            <a:off x="0" y="198108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133720" y="228600"/>
            <a:ext cx="685764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2d2d2d"/>
              </a:buClr>
              <a:buFont typeface="Arial"/>
              <a:buChar char="•"/>
            </a:pP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   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Примером является использование </a:t>
            </a:r>
            <a:r>
              <a:rPr b="1" i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оксациллина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 в качестве маркера устойчивости </a:t>
            </a:r>
            <a:r>
              <a:rPr b="1" i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Staphylococcus spp.</a:t>
            </a:r>
            <a:r>
              <a:rPr b="1" lang="ru-RU" sz="3200" spc="9" strike="noStrike">
                <a:solidFill>
                  <a:srgbClr val="2d2d2d"/>
                </a:solidFill>
                <a:latin typeface="Calibri"/>
                <a:ea typeface="Calibri"/>
              </a:rPr>
              <a:t>  ко всем </a:t>
            </a:r>
            <a:r>
              <a:rPr b="1" lang="ru-RU" sz="3200" spc="9" strike="noStrike">
                <a:solidFill>
                  <a:srgbClr val="c00000"/>
                </a:solidFill>
                <a:latin typeface="Calibri"/>
                <a:ea typeface="Calibri"/>
              </a:rPr>
              <a:t>бета-лактамным антибиотик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вязанной с наличием 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тес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ге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ttps://vdohvidoh.com/wp-content/uploads/2018/05/oksacillin-poroshok.jpeg"/>
          <p:cNvPicPr/>
          <p:nvPr/>
        </p:nvPicPr>
        <p:blipFill>
          <a:blip r:embed="rId1"/>
          <a:stretch/>
        </p:blipFill>
        <p:spPr>
          <a:xfrm>
            <a:off x="-609480" y="533520"/>
            <a:ext cx="3200040" cy="2819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380880" y="3809880"/>
            <a:ext cx="2742840" cy="2742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ok-t.ru/studopedia/baza4/452553768235.files/image003.jpg"/>
          <p:cNvPicPr/>
          <p:nvPr/>
        </p:nvPicPr>
        <p:blipFill>
          <a:blip r:embed="rId3"/>
          <a:stretch/>
        </p:blipFill>
        <p:spPr>
          <a:xfrm>
            <a:off x="3962520" y="3733920"/>
            <a:ext cx="2876040" cy="28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467120" cy="761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Calibri"/>
              </a:rPr>
              <a:t>АНТИСТАФИЛОКОККОВЫЕ ПЕНИЦИЛЛ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534160" cy="61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algn="just">
              <a:lnSpc>
                <a:spcPct val="95000"/>
              </a:lnSpc>
              <a:buClr>
                <a:srgbClr val="00b050"/>
              </a:buClr>
              <a:buFont typeface="Arial"/>
              <a:buChar char="•"/>
            </a:pP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ОКСАЦИЛЛИН                    Спектр актив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05000"/>
              </a:lnSpc>
              <a:buClr>
                <a:srgbClr val="002060"/>
              </a:buClr>
              <a:buFont typeface="Wingdings" charset="2"/>
              <a:buChar char=""/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В отличие от других антибиотиков групп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пенициллина </a:t>
            </a: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устойчив к действию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пенициллиназы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(из группы β-лактамаз), которую продуцируют 80-90% шт. </a:t>
            </a:r>
            <a:r>
              <a:rPr b="1" i="1" lang="ru-RU" sz="2600" spc="-1" strike="noStrike">
                <a:solidFill>
                  <a:srgbClr val="00b050"/>
                </a:solidFill>
                <a:latin typeface="Calibri"/>
              </a:rPr>
              <a:t>S.aureus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. В остальном антибактериальный спектр такой же, как у пенициллина, но степень активности значительно меньше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05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В стационарах, распространены шт. </a:t>
            </a:r>
            <a:r>
              <a:rPr b="0" i="1" lang="ru-RU" sz="2600" spc="-1" strike="noStrike">
                <a:solidFill>
                  <a:srgbClr val="00b050"/>
                </a:solidFill>
                <a:latin typeface="Calibri"/>
              </a:rPr>
              <a:t>S.aureus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, устойчивые к оксациллину (метициллину*). Они известны под названием </a:t>
            </a:r>
            <a:r>
              <a:rPr b="1" lang="ru-RU" sz="2600" spc="-1" strike="noStrike">
                <a:solidFill>
                  <a:srgbClr val="00b050"/>
                </a:solidFill>
                <a:latin typeface="Calibri"/>
              </a:rPr>
              <a:t>MRSA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 (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methicilline-resistant </a:t>
            </a:r>
            <a:r>
              <a:rPr b="0" i="1" lang="ru-RU" sz="2400" spc="-1" strike="noStrike">
                <a:solidFill>
                  <a:srgbClr val="00b050"/>
                </a:solidFill>
                <a:latin typeface="Calibri"/>
              </a:rPr>
              <a:t>S.aureus</a:t>
            </a: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) и характеризуются полирезистен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alibri"/>
              </a:rPr>
              <a:t>Ностью.*</a:t>
            </a: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Метициллин-первый пенициллина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устойчивый пенициллин. Снят с произв-ва вви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0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отсутствия преимущества перед оксациллином,  но термин MRSA сохраняет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http://xn--80akjhmc5d.net/admin/images/img4362393990865597.jpeg"/>
          <p:cNvPicPr/>
          <p:nvPr/>
        </p:nvPicPr>
        <p:blipFill>
          <a:blip r:embed="rId1"/>
          <a:stretch/>
        </p:blipFill>
        <p:spPr>
          <a:xfrm>
            <a:off x="7385400" y="32760"/>
            <a:ext cx="1758240" cy="1632600"/>
          </a:xfrm>
          <a:prstGeom prst="rect">
            <a:avLst/>
          </a:prstGeom>
          <a:ln w="9525">
            <a:noFill/>
          </a:ln>
        </p:spPr>
      </p:pic>
      <p:pic>
        <p:nvPicPr>
          <p:cNvPr id="179" name="Picture 7" descr="http://www.stoletov.ru/upload/iblock/faf/320x320_4cd69174-eb10-11de-acf1-000e0ce43f08_320ed0d0-aadd-11df-8198-00237dd1d602.jpeg"/>
          <p:cNvPicPr/>
          <p:nvPr/>
        </p:nvPicPr>
        <p:blipFill>
          <a:blip r:embed="rId2"/>
          <a:stretch/>
        </p:blipFill>
        <p:spPr>
          <a:xfrm>
            <a:off x="6926760" y="4886280"/>
            <a:ext cx="2244600" cy="1971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915040" cy="46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одборе АБП -важной особенностью, являю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кономерности перекрестной резистентности бактерий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различным представителям одной группы АБ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актик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аточно оценивать чувствительность только к одному АБП данной подгрупп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есть использовать только один диск из АБ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0" y="-57600"/>
            <a:ext cx="8915040" cy="6488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180000" algn="ctr">
              <a:lnSpc>
                <a:spcPct val="85000"/>
              </a:lnSpc>
            </a:pPr>
            <a:r>
              <a:rPr b="1" i="1" lang="ru-RU" sz="3600" spc="-1" strike="noStrike">
                <a:solidFill>
                  <a:srgbClr val="4c4c4c"/>
                </a:solidFill>
                <a:latin typeface="Calibri"/>
                <a:ea typeface="Times New Roman"/>
              </a:rPr>
              <a:t>Определение чувствительности к АБП </a:t>
            </a:r>
            <a:r>
              <a:rPr b="0" lang="ru-RU" sz="3600" spc="-1" strike="noStrike">
                <a:solidFill>
                  <a:srgbClr val="4c4c4c"/>
                </a:solidFill>
                <a:latin typeface="Calibri"/>
                <a:ea typeface="Times New Roman"/>
              </a:rPr>
              <a:t>представителей семейства Enterobacteriace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0000" algn="just">
              <a:lnSpc>
                <a:spcPct val="114000"/>
              </a:lnSpc>
            </a:pP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Основу лечения </a:t>
            </a: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внекишечных инфекций,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 вызываемых представителями семейства </a:t>
            </a:r>
            <a:r>
              <a:rPr b="0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Enterobacteriaceae,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 составляют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бета-лактамные антибиотики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.  При подборе АБП для лечения особенно важно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выявлять шт. микроорганизмов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, вырабатывающих </a:t>
            </a: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бета-лактамазы расширенного спектра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 (БЛРС), которые разрушают пенициллины и цефалоспор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"/>
          <p:cNvSpPr/>
          <p:nvPr/>
        </p:nvSpPr>
        <p:spPr>
          <a:xfrm>
            <a:off x="0" y="1176120"/>
            <a:ext cx="8915040" cy="453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180000" algn="just">
              <a:lnSpc>
                <a:spcPct val="114000"/>
              </a:lnSpc>
            </a:pP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Часть микроорганизмов продуцентов БЛРС 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по методу дисков </a:t>
            </a:r>
            <a:r>
              <a:rPr b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м.б. чувствительными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, но на практике при инфекциях, вызываемых такими микроорганизмами они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не достаточно 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чувствительны </a:t>
            </a:r>
            <a:r>
              <a:rPr b="1" i="1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к цефалоспоринам</a:t>
            </a:r>
            <a:r>
              <a:rPr b="0" lang="ru-RU" sz="3200" spc="-1" strike="noStrike">
                <a:solidFill>
                  <a:srgbClr val="2d2d2d"/>
                </a:solidFill>
                <a:latin typeface="Calibri"/>
                <a:ea typeface="Calibri"/>
              </a:rPr>
              <a:t> II-IV поколений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000" algn="just">
              <a:lnSpc>
                <a:spcPct val="114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нгибиторы бета-лактамаз -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лавулановая кислот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,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сульбактам и тазобактам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.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484120" cy="38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гибиторы бета-лактам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228600"/>
            <a:ext cx="8915040" cy="64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гибиторы бета-лактамаз представляют собой бета-лактамные структуры, котор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ратим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ываются с ферментами, сами при этом разрушаясь, вследствие чего они получили название суицидных ингибитор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клиническое значение имеют три таких ингибитора: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лавулановая кислота (клавуланат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ва производных пенициллановой кислоты —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ульбактам и тазобакта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входят в состав комбинированных препаратов, содержащих пенициллиновый антибиотик (ампициллин, амоксициллин, пиперациллин, тикарциллин) и один из ингибиторов β-лактамаз. Такие препараты получили название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</a:rPr>
              <a:t>ингибиторозащищенных пенициллин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КСИЦИЛЛИН/КЛАВУЛАНАТ (КО-АМОКСИКЛАВ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Аугментин, Амоксиклав; АМПИЦИЛЛИН/СУЛЬБАКТАМ=Уназин, Сулациллин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КАРЦИЛЛИН/КЛАВУЛАНАТ=Тиментин; ПИПЕРАЦИЛЛИН/ТАЗОБАКТАМ=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азоц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5000"/>
              </a:lnSpc>
              <a:spcBef>
                <a:spcPts val="400"/>
              </a:spcBef>
              <a:buClr>
                <a:srgbClr val="c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яется также комбинация цефалоспорина III поколения цефоперазона с сульбакта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ульперазон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5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http://img-fotki.yandex.ru/get/6501/35845967.f/0_7cef8_739adb7c_M"/>
          <p:cNvPicPr/>
          <p:nvPr/>
        </p:nvPicPr>
        <p:blipFill>
          <a:blip r:embed="rId1"/>
          <a:stretch/>
        </p:blipFill>
        <p:spPr>
          <a:xfrm>
            <a:off x="1905120" y="5181480"/>
            <a:ext cx="2197800" cy="1448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4306680" y="4725720"/>
            <a:ext cx="4653720" cy="2131920"/>
          </a:xfrm>
          <a:prstGeom prst="rect">
            <a:avLst/>
          </a:prstGeom>
          <a:ln w="9525">
            <a:noFill/>
          </a:ln>
        </p:spPr>
      </p:pic>
      <p:pic>
        <p:nvPicPr>
          <p:cNvPr id="187" name="Picture 2" descr="C:\Users\Ольга\Desktop\sulperazone_enl[1].jpg"/>
          <p:cNvPicPr/>
          <p:nvPr/>
        </p:nvPicPr>
        <p:blipFill>
          <a:blip r:embed="rId3"/>
          <a:stretch/>
        </p:blipFill>
        <p:spPr>
          <a:xfrm>
            <a:off x="0" y="4724280"/>
            <a:ext cx="1841760" cy="2004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0" y="313920"/>
            <a:ext cx="8991360" cy="62010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marL="180000" algn="just">
              <a:lnSpc>
                <a:spcPct val="114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микроорганизм семейства энтеробактерий оказывается резистентен к цефалоспоринам III поколения, а при добавлении к этим препаратам ингибиторов бета-лактама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монстрирует чувстви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данный штамм идентифицируется как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БЛРС - продуцирующи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000" algn="just">
              <a:lnSpc>
                <a:spcPct val="114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ценка уровня бета-лактамазной активност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ит до 30% сократить необоснованное использование бета-лактамных антибиотиков, антибактериальных препаратов из группы бета-лакта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040" y="152280"/>
            <a:ext cx="8976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явление бета-лактамазной активности на среде с пенициллином и индикатором фенолро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53416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еда с пенициллином и индикатором фенолрот после инкубирования чистой культуры бактер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 действием бета-лактамазы пенициллин превращается в кислоту и исходный красный цвет индикатора меняется на желт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елтый цвет –положительный результа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асный - отриц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6" descr="антибиотикорезистентность"/>
          <p:cNvPicPr/>
          <p:nvPr/>
        </p:nvPicPr>
        <p:blipFill>
          <a:blip r:embed="rId1"/>
          <a:stretch/>
        </p:blipFill>
        <p:spPr>
          <a:xfrm>
            <a:off x="4771440" y="3939120"/>
            <a:ext cx="4202280" cy="271836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304920" y="4493160"/>
            <a:ext cx="1856160" cy="236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91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ЛАССИФИКАЦИЯ АНТИБИОТ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3809520" cy="64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000" indent="-244080" algn="just">
              <a:lnSpc>
                <a:spcPct val="95000"/>
              </a:lnSpc>
              <a:buClr>
                <a:srgbClr val="c00000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По типу действия на м/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000" indent="-24408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бактерицидны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 - необратимо связывают  ся с клеточными мише нями, вызывая гибель чувствительных к ним микроорганиз- в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000" indent="-244080" algn="just">
              <a:lnSpc>
                <a:spcPct val="95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Бактериостатичес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00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кие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  <a:ea typeface="Calibri"/>
              </a:rPr>
              <a:t> - ингибируют рост и размножение микроб ных клеток, но при удалении антибиотика жизнедеятельность возбудителей восстанавливает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http://www.mif-ua.com/frmtext/NMIF/____________________________2010____________________________/NMiF_343_Spec_antimikrob2/52/1.jpg"/>
          <p:cNvPicPr/>
          <p:nvPr/>
        </p:nvPicPr>
        <p:blipFill>
          <a:blip r:embed="rId1"/>
          <a:stretch/>
        </p:blipFill>
        <p:spPr>
          <a:xfrm>
            <a:off x="3906720" y="2666880"/>
            <a:ext cx="5236920" cy="3949920"/>
          </a:xfrm>
          <a:prstGeom prst="rect">
            <a:avLst/>
          </a:prstGeom>
          <a:ln w="9525">
            <a:noFill/>
          </a:ln>
        </p:spPr>
      </p:pic>
      <p:sp>
        <p:nvSpPr>
          <p:cNvPr id="138" name="Прямоугольник 1"/>
          <p:cNvSpPr/>
          <p:nvPr/>
        </p:nvSpPr>
        <p:spPr>
          <a:xfrm>
            <a:off x="3886200" y="457200"/>
            <a:ext cx="4980600" cy="199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244080" indent="-244080">
              <a:lnSpc>
                <a:spcPct val="90000"/>
              </a:lnSpc>
              <a:buClr>
                <a:srgbClr val="6b7d72"/>
              </a:buClr>
              <a:buFont typeface="Arial"/>
              <a:buChar char="•"/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 спектру антимикробной актив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ибактер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тивогриб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4080" indent="-24408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типротозо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440" cy="505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личные фенотипические мето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обнаружени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ЛРС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снованы на эффект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гибиров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я их активности в присутствии клавулановой кислоты.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 "двойных дисков"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вариант классического дискодиффузионного метода определения чувствительности к АБП, который позволя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наружить продукцию БЛРС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наличию расширенной зоны подавления роста вокруг диска с 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цефалоспорином I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поколения напротив диска, содержащего клавулановую кислоту (синергизм отмечается в участке пересечения зон диффузии двух дисков, расположенных на небольшом расстоянии друг от дру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6019920" y="4642920"/>
            <a:ext cx="2874600" cy="2214720"/>
          </a:xfrm>
          <a:prstGeom prst="rect">
            <a:avLst/>
          </a:prstGeom>
          <a:ln w="9525">
            <a:noFill/>
          </a:ln>
        </p:spPr>
      </p:pic>
      <p:sp>
        <p:nvSpPr>
          <p:cNvPr id="195" name="Стрелка вправо 3"/>
          <p:cNvSpPr/>
          <p:nvPr/>
        </p:nvSpPr>
        <p:spPr>
          <a:xfrm rot="3749400">
            <a:off x="6581880" y="5046120"/>
            <a:ext cx="1132560" cy="212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cap="rnd"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81720" rIns="81720" tIns="40680" bIns="4068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Прямоугольник 4"/>
          <p:cNvSpPr/>
          <p:nvPr/>
        </p:nvSpPr>
        <p:spPr>
          <a:xfrm>
            <a:off x="7031160" y="5504040"/>
            <a:ext cx="280440" cy="35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"/>
          <p:cNvSpPr/>
          <p:nvPr/>
        </p:nvSpPr>
        <p:spPr>
          <a:xfrm>
            <a:off x="7895880" y="5504040"/>
            <a:ext cx="280440" cy="355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Users\Алла\Pictures\183_r1c.gif"/>
          <p:cNvPicPr/>
          <p:nvPr/>
        </p:nvPicPr>
        <p:blipFill>
          <a:blip r:embed="rId2"/>
          <a:stretch/>
        </p:blipFill>
        <p:spPr>
          <a:xfrm>
            <a:off x="317880" y="5079600"/>
            <a:ext cx="1731600" cy="1534680"/>
          </a:xfrm>
          <a:prstGeom prst="rect">
            <a:avLst/>
          </a:prstGeom>
          <a:ln w="9525">
            <a:noFill/>
          </a:ln>
        </p:spPr>
      </p:pic>
      <p:sp>
        <p:nvSpPr>
          <p:cNvPr id="199" name="Прямоугольник 5"/>
          <p:cNvSpPr/>
          <p:nvPr/>
        </p:nvSpPr>
        <p:spPr>
          <a:xfrm>
            <a:off x="2017800" y="5486400"/>
            <a:ext cx="4571640" cy="62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– цефотаксим - </a:t>
            </a: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цефалоспорин 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– амоксицилин/клавулановая кисл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87032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ЛАССИФИКАЦИЯ АНТИБИОТ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9150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6666ff"/>
                </a:solidFill>
                <a:latin typeface="Calibri"/>
              </a:rPr>
              <a:t>    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  <a:ea typeface="Calibri"/>
              </a:rPr>
              <a:t>По спектру действ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1) с преимущественным действием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м +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/о (линкозамиды, биосинтетические пенициллины, цефалоспорины 1-го поколения, макролиды, ванкомицин, линкомицин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) с преимущественным действием на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м −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/о (монобактамы, циклические полипептиды, цефалоспорины 3-го поколения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3) 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широкого спект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действия (аминогликозиды, левомицетин, тетрациклины, полусинтетические пенициллины широкого спектра действия (ампициллин, азлоциллин и др.) и цефалоспорины 2-го поколе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4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тивотуберкулезн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нтибиотики (стрептомицин, рифампицин, флоримици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520" indent="0" algn="just">
              <a:lnSpc>
                <a:spcPct val="95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5)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тивогрибковы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нтибиотики (нистатин, леворин, гризеофульвин, амфотерицин В, кетоконазол, анкотил, дифлюкан и др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91504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0000" indent="0" algn="just">
              <a:lnSpc>
                <a:spcPct val="124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 кислотоустойчивости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24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кислотоустойчивые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– могут применяться перорально, например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ксиметил-пеницилли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24000"/>
              </a:lnSpc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кислотоНЕустойчивые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– предназначены только для парентерального применения, например,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нзилпеницилл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>
              <a:lnSpc>
                <a:spcPct val="124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8915040" cy="55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360" algn="just">
              <a:lnSpc>
                <a:spcPct val="150000"/>
              </a:lnSpc>
              <a:spcBef>
                <a:spcPts val="641"/>
              </a:spcBef>
              <a:buClr>
                <a:srgbClr val="333333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Основные группы антимикробных препаратов для системного применения в</a:t>
            </a:r>
            <a:r>
              <a:rPr b="0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настоящее время это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Times New Roman"/>
              </a:rPr>
              <a:t>Бета-лактамные антибиотики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всех антимикробных препаратов наименее токсичны, т.к., нарушая синтез клеточной стенки бактерий,  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не имеют мишени в организме</a:t>
            </a: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человека и животны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89913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0000" indent="0" algn="just">
              <a:lnSpc>
                <a:spcPct val="114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сновные группы бета-лактамных антибиотиков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пеницилл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монобактам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цефалоспорин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  <a:ea typeface="Calibri"/>
              </a:rPr>
              <a:t>карбапенем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indent="0" algn="just">
              <a:lnSpc>
                <a:spcPct val="114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ета-лактамы составляют  70 % всех используемых антибиотиков.</a:t>
            </a:r>
            <a:r>
              <a:rPr b="1" i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0000" algn="just">
              <a:lnSpc>
                <a:spcPct val="114000"/>
              </a:lnSpc>
              <a:buClr>
                <a:srgbClr val="333333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Calibri"/>
                <a:ea typeface="Times New Roman"/>
              </a:rPr>
              <a:t>При наличии чувствительности к ним возбудителей их применение наиболее предпочтите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762760" cy="63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Бета-лактамы — это группы антибиотиков, в химической формуле которых имеется бета-лактамное кольцо.  Оно выглядит вот та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Этим  кольцом антибиотик соединяется с ферментом микроба, участвующим в синтезе пептидогликана -  основного компонента клеточной сте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После образования этой связи, его синтез становится невозможны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бета-лактамное кольцо"/>
          <p:cNvPicPr/>
          <p:nvPr/>
        </p:nvPicPr>
        <p:blipFill>
          <a:blip r:embed="rId1"/>
          <a:stretch/>
        </p:blipFill>
        <p:spPr>
          <a:xfrm>
            <a:off x="5562720" y="1752480"/>
            <a:ext cx="1523520" cy="114264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4"/>
          <p:cNvSpPr/>
          <p:nvPr/>
        </p:nvSpPr>
        <p:spPr>
          <a:xfrm>
            <a:off x="5486400" y="1752480"/>
            <a:ext cx="4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6781680" y="1752480"/>
            <a:ext cx="4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8762760" cy="51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5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Однако бактерии стали – вырабатывать  ферменты (бета-лактамазы), которые соединяясь с бета-лактамным кольцом антибиотика  делают его неактивным.  В результате антибиотик не может воздействовать на бактер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https://upload.wikimedia.org/wikipedia/commons/thumb/7/75/Beta-lactamase_place.svg/220px-Beta-lactamase_place.svg.png"/>
          <p:cNvPicPr/>
          <p:nvPr/>
        </p:nvPicPr>
        <p:blipFill>
          <a:blip r:embed="rId1"/>
          <a:stretch/>
        </p:blipFill>
        <p:spPr>
          <a:xfrm>
            <a:off x="6095880" y="3809880"/>
            <a:ext cx="2095200" cy="22284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5"/>
          <p:cNvSpPr/>
          <p:nvPr/>
        </p:nvSpPr>
        <p:spPr>
          <a:xfrm>
            <a:off x="1600200" y="4952880"/>
            <a:ext cx="4647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казана связь в Бета-лактамном кольце, подвергаемая гидролизу бета-лактамаз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s://upload.wikimedia.org/wikipedia/commons/8/87/PDB_1bsg_EBI.jpg"/>
          <p:cNvPicPr/>
          <p:nvPr/>
        </p:nvPicPr>
        <p:blipFill>
          <a:blip r:embed="rId2"/>
          <a:stretch/>
        </p:blipFill>
        <p:spPr>
          <a:xfrm>
            <a:off x="990720" y="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  <Words>1066</Words>
  <Paragraphs>1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1T13:45:23Z</dcterms:created>
  <dc:creator>Ирина</dc:creator>
  <dc:description/>
  <dc:language>en-US</dc:language>
  <cp:lastModifiedBy>s</cp:lastModifiedBy>
  <dcterms:modified xsi:type="dcterms:W3CDTF">2019-05-13T19:26:20Z</dcterms:modified>
  <cp:revision>8</cp:revision>
  <dc:subject/>
  <dc:title>Классификация антимикробных препаратов.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30</vt:r8>
  </property>
</Properties>
</file>