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84E79C-8DE1-4194-9C39-3FE00CC2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6DD80F-DC02-4075-8D29-5AB478ACCE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72D-15FD-456F-8BE1-A2DB7B37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0B5-2090-4BD9-8A83-984F59BC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EF1-98BC-428E-9186-CCA0D93E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37F-5F22-4021-BBED-9A6E2D5A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BACD-675B-4E0D-B840-D75DE4B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581-AC8C-4966-A160-ABA1FA3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BE2E-06FB-4199-A5BE-1A508B4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9457-66AE-42EF-8372-E6277D4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6D7F-E3E9-4860-BC47-9AF8764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3742-64E3-4559-ABD4-2582E62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D873-FE9A-427F-92D3-5694353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E0F-5AF4-4F59-8B52-C0765B5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D56F-83DF-4BC0-A724-AE45B2CD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5741-11FD-4223-9AF5-4615DD6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0403-4425-401C-A56E-1C955963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505-8406-4AE7-A7E5-807C0D18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2B7D-1E5C-4EC4-9774-AF4D5F68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4E5A-9326-400B-9EF9-35907A48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DB7E-3FD4-4FF6-9FF8-4D01739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F4FE3-DD75-4BE6-95E1-F871B67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A18F-FA6F-40EF-A1B4-032B9260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FCE0E-8F81-413B-97EA-09CCDE8E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5D3-FC6F-46B3-92A8-7AC30D80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4988-DA52-4C4F-84D7-1665574E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0B2A-3F6E-4DC4-BAC7-4E492EB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E542-C154-466D-B1A9-86AB2500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8A10-A88D-4A9A-B62B-224BDD9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2E1E-A5AD-4F5E-A6EB-A85D3F85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4542A-3EA7-47E8-A57F-D145CF36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99E5-0E09-43B0-BA12-04E54B5C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971-7E8E-4C1D-B0EA-7065F43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AA5-354A-4389-82C8-4523F29E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925-6005-4F63-802C-660E7C2C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167-74F7-4927-B563-FBFE31D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E78-7E28-4D20-93EA-1F97E6D6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CA8-4DA4-4B4B-8EBC-B7698F4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863D2C-E67D-4D4B-ABA9-C8756EA689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552A24-3D01-4CF6-BBCB-75DABE5BDE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CF06C8-2E98-4841-97D3-2322F81293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333333"/>
                </a:solidFill>
                <a:latin typeface="Calibri"/>
                <a:ea typeface="Times New Roman"/>
              </a:rPr>
              <a:t>Классификация антимикробных препаратов. Подбор АБК для леч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1" name="Picture 2" descr="http://bump.ru/resources/000/000/000/001/745/1745028_1024x768.jpg"/>
          <p:cNvPicPr/>
          <p:nvPr/>
        </p:nvPicPr>
        <p:blipFill>
          <a:blip r:embed="rId1"/>
          <a:stretch/>
        </p:blipFill>
        <p:spPr>
          <a:xfrm>
            <a:off x="1295280" y="3124080"/>
            <a:ext cx="6476760" cy="35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838720" cy="54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если у  бактерий высокая способность к выработке бета-лактамаз, то  под действием антибиотиков формируются антибиотикорезистентные штам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оэтому на одни бактерии антибиотик действует, а на другие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991360" cy="56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ирокий спектр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и лактам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нтибиотиков име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бапене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х используют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параты резер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олько при инфекция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истент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 пенициллинам и цефалоспоринам, а также при госпитальных и полимикробных инфек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тибиотики других групп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меют различные механизмы действ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остат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параты нарушают этап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синтеза бел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рибосома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цид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рушают либо целостность цитоплазматической мембраны, либо процесс синтеза ДНК и РНК. Он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ют мишень в организм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ловека или животного, поэтому по сравнению с лактамными препаратам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лее токсич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должны использоваться только при невозможности применения послед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интетические антибактериальные препараты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276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также имеют различные механизмы действия: ингибирование ДНК-гидразы,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рушение включения ПАБК (парааминобензойная кислота) в ДГФК (дигидрофолиевая кислота ) и т.д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рекомендуют к применению при невозможности использования бета-лактамных антибиотиков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276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Интерпретация результатов микробиологической диагностик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83872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ционального подбора антимикробной терапии абсолютно необходима микробиологическая диагностика. При эт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ж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блюдать правила отбора, транспортировки и хранения исследуем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Эффективность микробиологической диагностики зависит от правильной интерпретации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15040" cy="65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ется, что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выделение патогенных микроорганизмов даже в малых количествах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гда позволяет отнести их к истинным возбудителям заболева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Условно патогенный микроорганизм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ют возбудителем болезни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,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сли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го выделяют из стерильных сред организма,  или в большом количестве из сред, не характерных  для его обитания.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 противном случае он является представителем нормальной аутофлоры либо контаминирует исследуемый материал в процессе забора ил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9136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Гораздо </a:t>
            </a:r>
            <a:r>
              <a:rPr b="0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ложнее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терпретировать результаты микробиологи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 высевании нескольких видов микроорганизмов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. В таких случаях ориентируются на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оличественное соотношение потенциальных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озбудителей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ще значимыми в этиологии данного заболевания бывают 1-2 из них. Следует иметь в виду, что вероятность равной этиологической значимости более чем 3 различных видов микроорганизмов незначитель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12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9" strike="noStrike">
                <a:solidFill>
                  <a:srgbClr val="3c3c3c"/>
                </a:solidFill>
                <a:latin typeface="Calibri"/>
                <a:ea typeface="Times New Roman"/>
              </a:rPr>
              <a:t>3. Определение чувствительности отдельных групп бактерий к АБП и интерпретаци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87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стойчивость бактерий к антибиотикам (антибиотикорезистентность)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Calibri"/>
              </a:rPr>
              <a:t>   является неизбежным следствием их широкого клинического применения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99136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В качестве инактивирующих ферментов известны представители гидролаз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бета-лактамаз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атализирующие расщепление бета-лактамного кольца у пенициллинов, цефалоспоринов и других бета-лактамов (монобактамов, карбапенемов и т.д.)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эст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, воздействующие на эритромицин и некоторые другие антибиотики близкой к нему структур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Другая группа инактивирующих ферментов —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трансф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. К ним принадлежат левомицетин- (хлорамфеникол-)-ацетилтрансферазы, аминогликозидацетил, фосфо- или аденилилтрансферазы и фосфотрансферазы, воздействующие на эритромицин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β-лактамазы, продуцируемые Грам + бактериями выделяются из клетки в межклеточное пространство, а продуцируемые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−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бактериями не покидают клетку и циркулируют между наружной и внутренней мемб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се известные в настоящее время β-лактамазы делят на 4 молекулярных класса, в пределах которых ферменты характеризуются общностью свойств и выраженной гомолог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Структура и функциональная классификация β-лактамаз (Яковлев С.В., 2008). "/>
          <p:cNvPicPr/>
          <p:nvPr/>
        </p:nvPicPr>
        <p:blipFill>
          <a:blip r:embed="rId1"/>
          <a:stretch/>
        </p:blipFill>
        <p:spPr>
          <a:xfrm>
            <a:off x="4495680" y="4512240"/>
            <a:ext cx="4385520" cy="2345400"/>
          </a:xfrm>
          <a:prstGeom prst="rect">
            <a:avLst/>
          </a:prstGeom>
          <a:ln w="9525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562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4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400" y="0"/>
            <a:ext cx="36572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00b0f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  <a:ea typeface="Calibri"/>
              </a:rPr>
              <a:t>По происхожд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Group 109"/>
          <p:cNvGraphicFramePr/>
          <p:nvPr/>
        </p:nvGraphicFramePr>
        <p:xfrm>
          <a:off x="152280" y="609480"/>
          <a:ext cx="8838720" cy="6143400"/>
        </p:xfrm>
        <a:graphic>
          <a:graphicData uri="http://schemas.openxmlformats.org/drawingml/2006/table">
            <a:tbl>
              <a:tblPr/>
              <a:tblGrid>
                <a:gridCol w="2590560"/>
                <a:gridCol w="3154680"/>
                <a:gridCol w="3093480"/>
              </a:tblGrid>
              <a:tr h="380880">
                <a:tc>
                  <a:txBody>
                    <a:bodyPr lIns="94320" rIns="943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35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 получения</a:t>
                      </a:r>
                      <a:endParaRPr b="0" lang="en-US" sz="2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ц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рир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биосинтетическ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о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номиц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ицидин С, полимикс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мицин, эритромицин, тетрациклины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илпенициллин, цефалоспорины, фузидие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олу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мбинация биосинтеза и химического синт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ы модификации молекул природных антибиот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циллин, ампициллин, гентамицин, рифампицин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оги природных антибиотиков, синтезированных химическим пу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омицетин, амика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9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β-лактама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99136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Наибольшее значение для клинической практики имеют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лазмидные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β - лактамазы расширенного спектра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Грам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 (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БЛРС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), поскольку они способны разрушать цефалоспорины III и, в меньшей степени, IV поко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Рутинные методы оценки чувствительности к АБП очень часто не выявляют этот механизм устойчив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Чаще всего БЛРС встречаются у м-ов рода Klebsiella, достаточно часто у E.coli и Proteus spp., реже у других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В России в отдельных леч. учрежд-ях частота распрост- ран-ти этих ферментов среди клебсиелл достигает 9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81280" y="304920"/>
            <a:ext cx="5562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одбор АБП для лечения на основе определения зоны задержки роста (оценки фенотипа) широко используют, но более информативным для выявления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того или иного механизма устойчивости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, в т.ч. и генетической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является 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марк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www.researchgate.net/profile/Aminul_Islam29/publication/319402681/figure/download/fig10/AS:538122073145348@1505309708908/Mueller-Hinton-agar-media-with-antibiotic-sensitivity-disc-showing-Oxacillin-sensitive.png"/>
          <p:cNvPicPr/>
          <p:nvPr/>
        </p:nvPicPr>
        <p:blipFill>
          <a:blip r:embed="rId1"/>
          <a:stretch/>
        </p:blipFill>
        <p:spPr>
          <a:xfrm>
            <a:off x="0" y="198108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33720" y="228600"/>
            <a:ext cx="685764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2d2d2d"/>
              </a:buClr>
              <a:buFont typeface="Arial"/>
              <a:buChar char="•"/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 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римером является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оксациллина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в качестве маркера устойчивости 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Staphylococcus spp.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  ко всем </a:t>
            </a:r>
            <a:r>
              <a:rPr b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бета-лактамным антибиотик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вязанной с наличием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с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s://vdohvidoh.com/wp-content/uploads/2018/05/oksacillin-poroshok.jpeg"/>
          <p:cNvPicPr/>
          <p:nvPr/>
        </p:nvPicPr>
        <p:blipFill>
          <a:blip r:embed="rId1"/>
          <a:stretch/>
        </p:blipFill>
        <p:spPr>
          <a:xfrm>
            <a:off x="-609480" y="533520"/>
            <a:ext cx="3200040" cy="281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80880" y="3809880"/>
            <a:ext cx="2742840" cy="274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ok-t.ru/studopedia/baza4/452553768235.files/image003.jpg"/>
          <p:cNvPicPr/>
          <p:nvPr/>
        </p:nvPicPr>
        <p:blipFill>
          <a:blip r:embed="rId3"/>
          <a:stretch/>
        </p:blipFill>
        <p:spPr>
          <a:xfrm>
            <a:off x="3962520" y="3733920"/>
            <a:ext cx="2876040" cy="28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1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АНТИСТАФИЛОКОККОВЫЕ ПЕНИЦИЛЛ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534160" cy="61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algn="just">
              <a:lnSpc>
                <a:spcPct val="95000"/>
              </a:lnSpc>
              <a:buClr>
                <a:srgbClr val="00b05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ОКСАЦИЛЛИН                    Спектр актив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отличие от других антибиотиков групп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пенициллина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устойчив к действи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пенициллиназы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из группы β-лактамаз), которую продуцируют 80-90% шт. </a:t>
            </a:r>
            <a:r>
              <a:rPr b="1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. В остальном антибактериальный спектр такой же, как у пенициллина, но степень активности значительно меньш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стационарах, распространены шт. </a:t>
            </a:r>
            <a:r>
              <a:rPr b="0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, устойчивые к оксациллину (метициллину*). Они известны под названием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MRSA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methicilline-resistant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) и характеризуются полирезистен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Ностью.*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Метициллин-первый пенициллина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устойчивый пенициллин. Снят с произв-ва вви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отсутствия преимущества перед оксациллином,  но термин MRSA сохраня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http://xn--80akjhmc5d.net/admin/images/img4362393990865597.jpeg"/>
          <p:cNvPicPr/>
          <p:nvPr/>
        </p:nvPicPr>
        <p:blipFill>
          <a:blip r:embed="rId1"/>
          <a:stretch/>
        </p:blipFill>
        <p:spPr>
          <a:xfrm>
            <a:off x="7385400" y="32760"/>
            <a:ext cx="1758240" cy="163260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7" descr="http://www.stoletov.ru/upload/iblock/faf/320x320_4cd69174-eb10-11de-acf1-000e0ce43f08_320ed0d0-aadd-11df-8198-00237dd1d602.jpeg"/>
          <p:cNvPicPr/>
          <p:nvPr/>
        </p:nvPicPr>
        <p:blipFill>
          <a:blip r:embed="rId2"/>
          <a:stretch/>
        </p:blipFill>
        <p:spPr>
          <a:xfrm>
            <a:off x="6926760" y="4886280"/>
            <a:ext cx="2244600" cy="1971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915040" cy="46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АБП -важной особенностью,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ономерности перекрестной резистентности бактери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азличным представителям одной группы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актик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аточно оценивать чувствительность только к одному АБП данной подгрупп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 использовать только один диск из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-57600"/>
            <a:ext cx="8915040" cy="6488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ctr">
              <a:lnSpc>
                <a:spcPct val="85000"/>
              </a:lnSpc>
            </a:pPr>
            <a:r>
              <a:rPr b="1" i="1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Определение чувствительности к АБП </a:t>
            </a:r>
            <a:r>
              <a:rPr b="0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представителей семейства Enterobacteriace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Основу лечения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некишечных инфекций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вызываемых представителями семейства </a:t>
            </a:r>
            <a:r>
              <a:rPr b="0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Enterobacteriaceae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 составляют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ные антибиотик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.  При подборе АБП для лечения особенно важно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ыявлять шт. микроорганизмов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вырабатывающих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азы расширенного спектра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(БЛРС), которые разрушают пенициллины и цефалоспо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1176120"/>
            <a:ext cx="8915040" cy="453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асть микроорганизмов продуцентов БЛРС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по методу дисков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м.б. чувствительным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но на практике при инфекциях, вызываемых такими микроорганизмами они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не достаточно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увствительны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к цефалоспоринам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II-IV поколени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нгибиторы бета-лактамаз -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вулановая кислот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ульбактам и тазобактам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4120" cy="38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гибиторы бета-лактам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8915040" cy="64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ибиторы бета-лактамаз представляют собой бета-лактамные структуры, котор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ратим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ываются с ферментами, сами при этом разрушаясь, вследствие чего они получили название суицидных ингибито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клиническое значение имеют три таких ингибитора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лавулановая кислота (клавуланат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ва производных пенициллановой кислоты 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ульбактам и тазобак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ходят в состав комбинированных препаратов, содержащих пенициллиновый антибиотик (ампициллин, амоксициллин, пиперациллин, тикарциллин) и один из ингибиторов β-лактамаз. Такие препараты получили название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нгибиторозащищенных пенициллин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КСИЦИЛЛИН/КЛАВУЛАНАТ (КО-АМОКСИКЛАВ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Аугментин, Амоксиклав; АМПИЦИЛЛИН/СУЛЬБАКТАМ=Уназин, Сулациллин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КАРЦИЛЛИН/КЛАВУЛАНАТ=Тиментин; ПИПЕРАЦИЛЛИН/ТАЗОБАКТАМ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зоц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также комбинация цефалоспорина III поколения цефоперазона с сульбакта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льперазон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http://img-fotki.yandex.ru/get/6501/35845967.f/0_7cef8_739adb7c_M"/>
          <p:cNvPicPr/>
          <p:nvPr/>
        </p:nvPicPr>
        <p:blipFill>
          <a:blip r:embed="rId1"/>
          <a:stretch/>
        </p:blipFill>
        <p:spPr>
          <a:xfrm>
            <a:off x="1905120" y="5181480"/>
            <a:ext cx="2197800" cy="1448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4306680" y="4725720"/>
            <a:ext cx="4653720" cy="213192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" descr="C:\Users\Ольга\Desktop\sulperazone_enl[1].jpg"/>
          <p:cNvPicPr/>
          <p:nvPr/>
        </p:nvPicPr>
        <p:blipFill>
          <a:blip r:embed="rId3"/>
          <a:stretch/>
        </p:blipFill>
        <p:spPr>
          <a:xfrm>
            <a:off x="0" y="4724280"/>
            <a:ext cx="1841760" cy="200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0" y="313920"/>
            <a:ext cx="8991360" cy="62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микроорганизм семейства энтеробактерий оказывается резистентен к цефалоспоринам III поколения, а при добавлении к этим препаратам ингибиторов бета-лактама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онстрирует чувстви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данный штамм идентифицируется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ЛРС - продуцирующ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уровня бета-лактамазной актив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ит до 30% сократить необоснованное использование бета-лактамных антибиотиков, антибактериальных препаратов из группы бета-лакта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040" y="152280"/>
            <a:ext cx="8976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ление бета-лактамазной активности на среде с пенициллином и индикатором фенолр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3416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а с пенициллином и индикатором фенолрот после инкубирования чистой культуры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действием бета-лактамазы пенициллин превращается в кислоту и исходный красный цвет индикатора меняется на желт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тый цвет –положительный результа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ый - отриц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антибиотикорезистентность"/>
          <p:cNvPicPr/>
          <p:nvPr/>
        </p:nvPicPr>
        <p:blipFill>
          <a:blip r:embed="rId1"/>
          <a:stretch/>
        </p:blipFill>
        <p:spPr>
          <a:xfrm>
            <a:off x="4771440" y="3939120"/>
            <a:ext cx="4202280" cy="271836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04920" y="4493160"/>
            <a:ext cx="1856160" cy="236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91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3809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-244080" algn="just">
              <a:lnSpc>
                <a:spcPct val="95000"/>
              </a:lnSpc>
              <a:buClr>
                <a:srgbClr val="c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типу действия на м/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цид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необратимо связывают  ся с клеточными мише нями, вызывая гибель чувствительных к ним микроорганиз- 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остатичес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к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ингибируют рост и размножение микроб ных клеток, но при удалении антибиотика жизнедеятельность возбудителей восстанавли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http://www.mif-ua.com/frmtext/NMIF/____________________________2010____________________________/NMiF_343_Spec_antimikrob2/52/1.jpg"/>
          <p:cNvPicPr/>
          <p:nvPr/>
        </p:nvPicPr>
        <p:blipFill>
          <a:blip r:embed="rId1"/>
          <a:stretch/>
        </p:blipFill>
        <p:spPr>
          <a:xfrm>
            <a:off x="3906720" y="2666880"/>
            <a:ext cx="5236920" cy="394992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3886200" y="457200"/>
            <a:ext cx="4980600" cy="19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244080" indent="-244080">
              <a:lnSpc>
                <a:spcPct val="90000"/>
              </a:lnSpc>
              <a:buClr>
                <a:srgbClr val="6b7d72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 спектру антимикробной акт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бактер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тивогриб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протоз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440" cy="50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ичные фенотипические мет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обнаружени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ЛРС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нованы на эффект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гибиро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я их активности в присутствии клавулановой кислоты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"двойных дисков"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ариант классического дискодиффузионного метода определения чувствительности к АБП, который позволя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наружить продукцию БЛР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личию расширенной зоны подавления роста вокруг диска с 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ефалоспорином 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019920" y="4642920"/>
            <a:ext cx="2874600" cy="2214720"/>
          </a:xfrm>
          <a:prstGeom prst="rect">
            <a:avLst/>
          </a:prstGeom>
          <a:ln w="9525">
            <a:noFill/>
          </a:ln>
        </p:spPr>
      </p:pic>
      <p:sp>
        <p:nvSpPr>
          <p:cNvPr id="195" name="Стрелка вправо 3"/>
          <p:cNvSpPr/>
          <p:nvPr/>
        </p:nvSpPr>
        <p:spPr>
          <a:xfrm rot="3749400">
            <a:off x="6581880" y="5046120"/>
            <a:ext cx="1132560" cy="21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703116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789588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Users\Алла\Pictures\183_r1c.gif"/>
          <p:cNvPicPr/>
          <p:nvPr/>
        </p:nvPicPr>
        <p:blipFill>
          <a:blip r:embed="rId2"/>
          <a:stretch/>
        </p:blipFill>
        <p:spPr>
          <a:xfrm>
            <a:off x="317880" y="5079600"/>
            <a:ext cx="1731600" cy="1534680"/>
          </a:xfrm>
          <a:prstGeom prst="rect">
            <a:avLst/>
          </a:prstGeom>
          <a:ln w="9525">
            <a:noFill/>
          </a:ln>
        </p:spPr>
      </p:pic>
      <p:sp>
        <p:nvSpPr>
          <p:cNvPr id="199" name="Прямоугольник 5"/>
          <p:cNvSpPr/>
          <p:nvPr/>
        </p:nvSpPr>
        <p:spPr>
          <a:xfrm>
            <a:off x="2017800" y="5486400"/>
            <a:ext cx="4571640" cy="62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цефотаксим -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цефалоспорин 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амоксицилин/клавула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7032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9150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6666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спектру действ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линкозамиды, биосинтетические пенициллины, цефалоспорины 1-го поколения, макролиды, ванкомицин, линкомицин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−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монобактамы, циклические полипептиды, цефалоспорины 3-го покол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широкого спек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действия (аминогликозиды, левомицетин, тетрациклины, полусинтетические пенициллины широкого спектра действия (ампициллин, азлоциллин и др.) и цефалоспорины 2-го покол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4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туберкулез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стрептомицин, рифампицин, флоримиц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5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грибков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нистатин, леворин, гризеофульвин, амфотерицин В, кетоконазол, анкотил, дифлюкан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150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 кислотоустойчивост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могут применяться перорально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ксиметил-пеницилли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НЕ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предназначены только для парентерального применения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лпеницил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24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91504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360" algn="just">
              <a:lnSpc>
                <a:spcPct val="150000"/>
              </a:lnSpc>
              <a:spcBef>
                <a:spcPts val="641"/>
              </a:spcBef>
              <a:buClr>
                <a:srgbClr val="333333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Основные группы антимикробных препаратов для системного применения в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стоящее время это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Бета-лактамные антибиотики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сех антимикробных препаратов наименее токсичны, т.к., нарушая синтез клеточной стенки бактерий, 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имеют мишени в организм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человека и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913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ые группы бета-лактамных антибиотик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пеницил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монобактам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цефалоспор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арбапен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ета-лактамы составляют  70 % всех используемых антибиотиков.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и наличии чувствительности к ним возбудителей их применение наиболее предпочти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Бета-лактамы — это группы антибиотиков, в химической формуле которых имеется бета-лактамное кольцо.  Оно выглядит вот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им  кольцом антибиотик соединяется с ферментом микроба, участвующим в синтезе пептидогликана -  основного компонента клеточной сте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После образования этой связи, его синтез становится невозможн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бета-лактамное кольцо"/>
          <p:cNvPicPr/>
          <p:nvPr/>
        </p:nvPicPr>
        <p:blipFill>
          <a:blip r:embed="rId1"/>
          <a:stretch/>
        </p:blipFill>
        <p:spPr>
          <a:xfrm>
            <a:off x="5562720" y="1752480"/>
            <a:ext cx="1523520" cy="11426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548640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78168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27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бактерии стали – вырабатывать  ферменты (бета-лактамазы), которые соединяясь с бета-лактамным кольцом антибиотика  делают его неактивным.  В результате антибиотик не может воздействовать на бактер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s://upload.wikimedia.org/wikipedia/commons/thumb/7/75/Beta-lactamase_place.svg/220px-Beta-lactamase_place.svg.png"/>
          <p:cNvPicPr/>
          <p:nvPr/>
        </p:nvPicPr>
        <p:blipFill>
          <a:blip r:embed="rId1"/>
          <a:stretch/>
        </p:blipFill>
        <p:spPr>
          <a:xfrm>
            <a:off x="6095880" y="3809880"/>
            <a:ext cx="2095200" cy="22284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600200" y="4952880"/>
            <a:ext cx="4647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азана связь в Бета-лактамном кольце, подвергаемая гидролизу бета-лактам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s://upload.wikimedia.org/wikipedia/commons/8/87/PDB_1bsg_EBI.jpg"/>
          <p:cNvPicPr/>
          <p:nvPr/>
        </p:nvPicPr>
        <p:blipFill>
          <a:blip r:embed="rId2"/>
          <a:stretch/>
        </p:blipFill>
        <p:spPr>
          <a:xfrm>
            <a:off x="990720" y="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  <Words>1066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3:45:23Z</dcterms:created>
  <dc:creator>Ирина</dc:creator>
  <dc:description/>
  <dc:language>en-US</dc:language>
  <cp:lastModifiedBy>s</cp:lastModifiedBy>
  <dcterms:modified xsi:type="dcterms:W3CDTF">2019-05-13T19:26:20Z</dcterms:modified>
  <cp:revision>8</cp:revision>
  <dc:subject/>
  <dc:title>Классификация антимикробных препаратов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