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9F4E92-20B0-4C0F-98F7-396E11AE7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180D91-3960-4CBF-93C6-DA442A06B7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8F6-8C31-451E-995F-95ED7951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98F-E83F-43B9-A176-DD464C6E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E9D-2284-418C-ABBC-ADD73C94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187-8E36-473D-BA02-55A78A13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5E2C-D86D-44AB-9ABB-918154F5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BF7F-C222-49C0-98FF-8F47EB9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F663-9C52-407D-A218-5E5E8E15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C6F9-6EFD-4D2F-B552-C5B98A23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58EF-B8D4-404A-B72C-07665298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A873-0091-41AA-AF27-D8740003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C853-1338-41D6-8C08-51E5379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7FC-0B70-4122-A8DC-9CDFE75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BBFE-FEF7-4479-AB9C-E13CF6F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6ECD-E577-44E6-9DD4-244F530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C6C8-9A72-42EA-8E65-0C15412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2372-E6DE-42BC-993A-39A92B3E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437E-2ADF-4B3E-9933-718963E6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53ED-44B4-4C0A-8033-FB6F8CD7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8C86-0673-40AC-8986-BFC802C1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7E36-3F0C-4953-9EBF-1E8AFBE8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5FEB-C9B7-4931-94D6-CB89D59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3C47-FF69-4670-9242-40744A79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E45-AC1C-4A38-8646-C0755737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E1F3-B8E6-4190-92DE-2B3A272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42B4-7C5F-413D-8751-03A5471F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750D-E1A8-44EF-8F76-BF5C60E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DEC5-CC47-4012-B26D-36EB6DD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9874-E43D-49F4-B8D7-BE357321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43DC-DAF6-4AB7-8FCE-70272C83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26C1-6726-46C7-97BA-2768E316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AA3-01EF-4B0A-812D-BCEC7C94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9E1-37EF-4A48-B627-811AABA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901-E146-44C3-AB15-F3A8E38D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676-9C4B-4807-8DF8-9C9423C8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2BA-7886-4BAB-A581-0AD72BA6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7D1-5AED-4BA5-8918-511A5D2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FB404-AF8D-4A60-995A-0E79394A18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0B9697-9EC8-4B61-B20E-02AE23B319F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DFD484-7DA4-47BE-A0EC-84A9B6B0372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333333"/>
                </a:solidFill>
                <a:latin typeface="Calibri"/>
                <a:ea typeface="Times New Roman"/>
              </a:rPr>
              <a:t>Классификация антимикробных препаратов. Подбор АБК для лече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1" name="Picture 2" descr="http://bump.ru/resources/000/000/000/001/745/1745028_1024x768.jpg"/>
          <p:cNvPicPr/>
          <p:nvPr/>
        </p:nvPicPr>
        <p:blipFill>
          <a:blip r:embed="rId1"/>
          <a:stretch/>
        </p:blipFill>
        <p:spPr>
          <a:xfrm>
            <a:off x="1295280" y="3124080"/>
            <a:ext cx="6476760" cy="35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838720" cy="54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днако если у  бактерий высокая способность к выработке бета-лактамаз, то  под действием антибиотиков формируются антибиотикорезистентные штам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оэтому на одни бактерии антибиотик действует, а на другие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991360" cy="56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12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ирокий спектр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реди лактам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нтибиотиков име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бапене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х используют ка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параты резер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олько при инфекциях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истент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 пенициллинам и цефалоспоринам, а также при госпитальных и полимикробных инфек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12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2760" cy="63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тибиотики других групп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меют различные механизмы действ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ктериостат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параты нарушают этап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синтеза бел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рибосомах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ктерицидн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рушают либо целостность цитоплазматической мембраны, либо процесс синтеза ДНК и РНК. Он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меют мишень в организм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еловека или животного, поэтому по сравнению с лактамными препаратам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олее токсич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 должны использоваться только при невозможности применения послед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интетические антибактериальные препараты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276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также имеют различные механизмы действия: ингибирование ДНК-гидразы,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рушение включения ПАБК (парааминобензойная кислота) в ДГФК (дигидрофолиевая кислота ) и т.д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Их рекомендуют к применению при невозможности использования бета-лактамных антибиотиков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276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Интерпретация результатов микробиологической диагностик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83872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6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ационального подбора антимикробной терапии абсолютно необходима микробиологическая диагностика. При эт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ж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блюдать правила отбора, транспортировки и хранения исследуемо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Эффективность микробиологической диагностики зависит от правильной интерпретации результа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915040" cy="65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читается, что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выделение патогенных микроорганизмов даже в малых количествах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гда позволяет отнести их к истинным возбудителям заболева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Условно патогенный микроорганизм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читают возбудителем болезни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,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если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его выделяют из стерильных сред организма,  или в большом количестве из сред, не характерных  для его обитания.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 противном случае он является представителем нормальной аутофлоры либо контаминирует исследуемый материал в процессе забора или исслед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99136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Гораздо </a:t>
            </a:r>
            <a:r>
              <a:rPr b="0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ложнее 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интерпретировать результаты микробиологического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и высевании нескольких видов микроорганизмов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. В таких случаях ориентируются на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оличественное соотношение потенциальных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озбудителей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ще значимыми в этиологии данного заболевания бывают 1-2 из них. Следует иметь в виду, что вероятность равной этиологической значимости более чем 3 различных видов микроорганизмов незначитель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12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9" strike="noStrike">
                <a:solidFill>
                  <a:srgbClr val="3c3c3c"/>
                </a:solidFill>
                <a:latin typeface="Calibri"/>
                <a:ea typeface="Times New Roman"/>
              </a:rPr>
              <a:t>3. Определение чувствительности отдельных групп бактерий к АБП и интерпретация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872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стойчивость бактерий к антибиотикам (антибиотикорезистентность)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Calibri"/>
              </a:rPr>
              <a:t>   является неизбежным следствием их широкого клинического применения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 устойчивости - ферментная инактивация антимикробных препар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99136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94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</a:pP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В качестве инактивирующих ферментов известны представители гидролаз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бета-лактамаз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атализирующие расщепление бета-лактамного кольца у пенициллинов, цефалоспоринов и других бета-лактамов (монобактамов, карбапенемов и т.д.)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эстеразы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, воздействующие на эритромицин и некоторые другие антибиотики близкой к нему структур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Другая группа инактивирующих ферментов —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трансферазы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. К ним принадлежат левомицетин- (хлорамфеникол-)-ацетилтрансферазы, аминогликозидацетил, фосфо- или аденилилтрансферазы и фосфотрансферазы, воздействующие на эритромицин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686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β-лактамазы, продуцируемые Грам + бактериями выделяются из клетки в межклеточное пространство, а продуцируемые Грам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−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бактериями не покидают клетку и циркулируют между наружной и внутренней мемб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Все известные в настоящее время β-лактамазы делят на 4 молекулярных класса, в пределах которых ферменты характеризуются общностью свойств и выраженной гомолог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Структура и функциональная классификация β-лактамаз (Яковлев С.В., 2008). "/>
          <p:cNvPicPr/>
          <p:nvPr/>
        </p:nvPicPr>
        <p:blipFill>
          <a:blip r:embed="rId1"/>
          <a:stretch/>
        </p:blipFill>
        <p:spPr>
          <a:xfrm>
            <a:off x="4495680" y="4512240"/>
            <a:ext cx="4385520" cy="2345400"/>
          </a:xfrm>
          <a:prstGeom prst="rect">
            <a:avLst/>
          </a:prstGeom>
          <a:ln w="9525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 устойчивости - ферментная инактивация антимикробных препар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5623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4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86400" y="0"/>
            <a:ext cx="36572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4080" indent="-244080">
              <a:lnSpc>
                <a:spcPct val="100000"/>
              </a:lnSpc>
              <a:spcBef>
                <a:spcPts val="561"/>
              </a:spcBef>
              <a:buClr>
                <a:srgbClr val="00b0f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  <a:ea typeface="Calibri"/>
              </a:rPr>
              <a:t>По происхожде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Group 109"/>
          <p:cNvGraphicFramePr/>
          <p:nvPr/>
        </p:nvGraphicFramePr>
        <p:xfrm>
          <a:off x="152280" y="609480"/>
          <a:ext cx="8838720" cy="6143400"/>
        </p:xfrm>
        <a:graphic>
          <a:graphicData uri="http://schemas.openxmlformats.org/drawingml/2006/table">
            <a:tbl>
              <a:tblPr/>
              <a:tblGrid>
                <a:gridCol w="2590560"/>
                <a:gridCol w="3154680"/>
                <a:gridCol w="3093480"/>
              </a:tblGrid>
              <a:tr h="380880">
                <a:tc>
                  <a:txBody>
                    <a:bodyPr lIns="94320" rIns="943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35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 получения</a:t>
                      </a:r>
                      <a:endParaRPr b="0" lang="en-US" sz="2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ц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88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Природ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биосинтетическ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о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номиц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2401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2401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и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ицидин С, полимикс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птомицин, эритромицин, тетрациклины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илпенициллин, цефалоспорины, фузидиев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Полусинте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00" indent="36000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омбинация биосинтеза и химического синт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ы модификации молекул природных антибиот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циллин, ампициллин, гентамицин, рифампицин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Синте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оги природных антибиотиков, синтезированных химическим пут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омицетин, амикац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940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β-лактама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99136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Наибольшее значение для клинической практики имеют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лазмидные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β - лактамазы расширенного спектра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Грам−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 бактерий (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БЛРС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), поскольку они способны разрушать цефалоспорины III и, в меньшей степени, IV поко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Рутинные методы оценки чувствительности к АБП очень часто не выявляют этот механизм устойчив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Чаще всего БЛРС встречаются у м-ов рода Klebsiella, достаточно часто у E.coli и Proteus spp., реже у других Грам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−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 бак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В России в отдельных леч. учрежд-ях частота распрост- ран-ти этих ферментов среди клебсиелл достигает 9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581280" y="304920"/>
            <a:ext cx="5562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Подбор АБП для лечения на основе определения зоны задержки роста (оценки фенотипа) широко используют, но более информативным для выявления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того или иного механизма устойчивости</a:t>
            </a:r>
            <a:r>
              <a:rPr b="1" i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, в т.ч. и генетической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является  использование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марк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s://www.researchgate.net/profile/Aminul_Islam29/publication/319402681/figure/download/fig10/AS:538122073145348@1505309708908/Mueller-Hinton-agar-media-with-antibiotic-sensitivity-disc-showing-Oxacillin-sensitive.png"/>
          <p:cNvPicPr/>
          <p:nvPr/>
        </p:nvPicPr>
        <p:blipFill>
          <a:blip r:embed="rId1"/>
          <a:stretch/>
        </p:blipFill>
        <p:spPr>
          <a:xfrm>
            <a:off x="0" y="198108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133720" y="228600"/>
            <a:ext cx="685764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2d2d2d"/>
              </a:buClr>
              <a:buFont typeface="Arial"/>
              <a:buChar char="•"/>
            </a:pP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   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Примером является использование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оксациллина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 в качестве маркера устойчивости </a:t>
            </a:r>
            <a:r>
              <a:rPr b="1" i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Staphylococcus spp.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  ко всем </a:t>
            </a:r>
            <a:r>
              <a:rPr b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бета-лактамным антибиотик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вязанной с наличием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с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s://vdohvidoh.com/wp-content/uploads/2018/05/oksacillin-poroshok.jpeg"/>
          <p:cNvPicPr/>
          <p:nvPr/>
        </p:nvPicPr>
        <p:blipFill>
          <a:blip r:embed="rId1"/>
          <a:stretch/>
        </p:blipFill>
        <p:spPr>
          <a:xfrm>
            <a:off x="-609480" y="533520"/>
            <a:ext cx="3200040" cy="281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80880" y="3809880"/>
            <a:ext cx="2742840" cy="274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ok-t.ru/studopedia/baza4/452553768235.files/image003.jpg"/>
          <p:cNvPicPr/>
          <p:nvPr/>
        </p:nvPicPr>
        <p:blipFill>
          <a:blip r:embed="rId3"/>
          <a:stretch/>
        </p:blipFill>
        <p:spPr>
          <a:xfrm>
            <a:off x="3962520" y="3733920"/>
            <a:ext cx="2876040" cy="28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1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АНТИСТАФИЛОКОККОВЫЕ ПЕНИЦИЛЛ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534160" cy="61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algn="just">
              <a:lnSpc>
                <a:spcPct val="95000"/>
              </a:lnSpc>
              <a:buClr>
                <a:srgbClr val="00b050"/>
              </a:buClr>
              <a:buFont typeface="Arial"/>
              <a:buChar char="•"/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ОКСАЦИЛЛИН                    Спектр актив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05000"/>
              </a:lnSpc>
              <a:buClr>
                <a:srgbClr val="002060"/>
              </a:buClr>
              <a:buFont typeface="Wingdings" charset="2"/>
              <a:buChar char=""/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 отличие от других антибиотиков групп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пенициллина 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устойчив к действи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пенициллиназы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(из группы β-лактамаз), которую продуцируют 80-90% шт. </a:t>
            </a:r>
            <a:r>
              <a:rPr b="1" i="1" lang="ru-RU" sz="26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. В остальном антибактериальный спектр такой же, как у пенициллина, но степень активности значительно меньш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05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 стационарах, распространены шт. </a:t>
            </a:r>
            <a:r>
              <a:rPr b="0" i="1" lang="ru-RU" sz="26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, устойчивые к оксациллину (метициллину*). Они известны под названием 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MRSA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methicilline-resistant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) и характеризуются полирезистен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Ностью.*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Метициллин-первый пенициллина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устойчивый пенициллин. Снят с произв-ва вви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отсутствия преимущества перед оксациллином,  но термин MRSA сохраня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http://xn--80akjhmc5d.net/admin/images/img4362393990865597.jpeg"/>
          <p:cNvPicPr/>
          <p:nvPr/>
        </p:nvPicPr>
        <p:blipFill>
          <a:blip r:embed="rId1"/>
          <a:stretch/>
        </p:blipFill>
        <p:spPr>
          <a:xfrm>
            <a:off x="7385400" y="32760"/>
            <a:ext cx="1758240" cy="163260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7" descr="http://www.stoletov.ru/upload/iblock/faf/320x320_4cd69174-eb10-11de-acf1-000e0ce43f08_320ed0d0-aadd-11df-8198-00237dd1d602.jpeg"/>
          <p:cNvPicPr/>
          <p:nvPr/>
        </p:nvPicPr>
        <p:blipFill>
          <a:blip r:embed="rId2"/>
          <a:stretch/>
        </p:blipFill>
        <p:spPr>
          <a:xfrm>
            <a:off x="6926760" y="4886280"/>
            <a:ext cx="2244600" cy="1971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915040" cy="46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АБП -важной особенностью,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ономерности перекрестной резистентности бактери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различным представителям одной группы АБ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актик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аточно оценивать чувствительность только к одному АБП данной подгрупп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есть использовать только один диск из АБ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-57600"/>
            <a:ext cx="8915040" cy="6488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ctr">
              <a:lnSpc>
                <a:spcPct val="85000"/>
              </a:lnSpc>
            </a:pPr>
            <a:r>
              <a:rPr b="1" i="1" lang="ru-RU" sz="3600" spc="-1" strike="noStrike">
                <a:solidFill>
                  <a:srgbClr val="4c4c4c"/>
                </a:solidFill>
                <a:latin typeface="Calibri"/>
                <a:ea typeface="Times New Roman"/>
              </a:rPr>
              <a:t>Определение чувствительности к АБП </a:t>
            </a:r>
            <a:r>
              <a:rPr b="0" lang="ru-RU" sz="3600" spc="-1" strike="noStrike">
                <a:solidFill>
                  <a:srgbClr val="4c4c4c"/>
                </a:solidFill>
                <a:latin typeface="Calibri"/>
                <a:ea typeface="Times New Roman"/>
              </a:rPr>
              <a:t>представителей семейства Enterobacteriace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Основу лечения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внекишечных инфекций,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вызываемых представителями семейства </a:t>
            </a:r>
            <a:r>
              <a:rPr b="0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Enterobacteriaceae,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 составляют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бета-лактамные антибиотики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.  При подборе АБП для лечения особенно важно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выявлять шт. микроорганизмов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, вырабатывающих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бета-лактамазы расширенного спектра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(БЛРС), которые разрушают пенициллины и цефалоспор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1176120"/>
            <a:ext cx="8915040" cy="453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Часть микроорганизмов продуцентов БЛРС 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по методу дисков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м.б. чувствительными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, но на практике при инфекциях, вызываемых такими микроорганизмами они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не достаточно 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чувствительны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к цефалоспоринам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II-IV поколени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нгибиторы бета-лактамаз -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вулановая кислот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,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сульбактам и тазобактам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4120" cy="38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гибиторы бета-лактам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8915040" cy="64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гибиторы бета-лактамаз представляют собой бета-лактамные структуры, котор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ратим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ываются с ферментами, сами при этом разрушаясь, вследствие чего они получили название суицидных ингибито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клиническое значение имеют три таких ингибитора: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лавулановая кислота (клавуланат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ва производных пенициллановой кислоты 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ульбактам и тазобак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ходят в состав комбинированных препаратов, содержащих пенициллиновый антибиотик (ампициллин, амоксициллин, пиперациллин, тикарциллин) и один из ингибиторов β-лактамаз. Такие препараты получили название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нгибиторозащищенных пенициллин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КСИЦИЛЛИН/КЛАВУЛАНАТ (КО-АМОКСИКЛАВ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Аугментин, Амоксиклав; АМПИЦИЛЛИН/СУЛЬБАКТАМ=Уназин, Сулациллин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КАРЦИЛЛИН/КЛАВУЛАНАТ=Тиментин; ПИПЕРАЦИЛЛИН/ТАЗОБАКТАМ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зоц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ется также комбинация цефалоспорина III поколения цефоперазона с сульбакта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ульперазон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http://img-fotki.yandex.ru/get/6501/35845967.f/0_7cef8_739adb7c_M"/>
          <p:cNvPicPr/>
          <p:nvPr/>
        </p:nvPicPr>
        <p:blipFill>
          <a:blip r:embed="rId1"/>
          <a:stretch/>
        </p:blipFill>
        <p:spPr>
          <a:xfrm>
            <a:off x="1905120" y="5181480"/>
            <a:ext cx="2197800" cy="1448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4306680" y="4725720"/>
            <a:ext cx="4653720" cy="213192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2" descr="C:\Users\Ольга\Desktop\sulperazone_enl[1].jpg"/>
          <p:cNvPicPr/>
          <p:nvPr/>
        </p:nvPicPr>
        <p:blipFill>
          <a:blip r:embed="rId3"/>
          <a:stretch/>
        </p:blipFill>
        <p:spPr>
          <a:xfrm>
            <a:off x="0" y="4724280"/>
            <a:ext cx="1841760" cy="2004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0" y="313920"/>
            <a:ext cx="8991360" cy="6201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just">
              <a:lnSpc>
                <a:spcPct val="114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микроорганизм семейства энтеробактерий оказывается резистентен к цефалоспоринам III поколения, а при добавлении к этим препаратам ингибиторов бета-лактама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онстрирует чувстви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данный штамм идентифицируется ка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ЛРС - продуцирующ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уровня бета-лактамазной актив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ит до 30% сократить необоснованное использование бета-лактамных антибиотиков, антибактериальных препаратов из группы бета-лакта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040" y="152280"/>
            <a:ext cx="8976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ление бета-лактамазной активности на среде с пенициллином и индикатором фенолро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3416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а с пенициллином и индикатором фенолрот после инкубирования чистой культуры бак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действием бета-лактамазы пенициллин превращается в кислоту и исходный красный цвет индикатора меняется на желт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тый цвет –положительный результа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ный - отриц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антибиотикорезистентность"/>
          <p:cNvPicPr/>
          <p:nvPr/>
        </p:nvPicPr>
        <p:blipFill>
          <a:blip r:embed="rId1"/>
          <a:stretch/>
        </p:blipFill>
        <p:spPr>
          <a:xfrm>
            <a:off x="4771440" y="3939120"/>
            <a:ext cx="4202280" cy="271836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304920" y="4493160"/>
            <a:ext cx="1856160" cy="236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91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380952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-244080" algn="just">
              <a:lnSpc>
                <a:spcPct val="95000"/>
              </a:lnSpc>
              <a:buClr>
                <a:srgbClr val="c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По типу действия на м/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000" indent="-24408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цид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 - необратимо связывают  ся с клеточными мише нями, вызывая гибель чувствительных к ним микроорганиз- 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000" indent="-24408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остатичес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00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к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 - ингибируют рост и размножение микроб ных клеток, но при удалении антибиотика жизнедеятельность возбудителей восстанавли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http://www.mif-ua.com/frmtext/NMIF/____________________________2010____________________________/NMiF_343_Spec_antimikrob2/52/1.jpg"/>
          <p:cNvPicPr/>
          <p:nvPr/>
        </p:nvPicPr>
        <p:blipFill>
          <a:blip r:embed="rId1"/>
          <a:stretch/>
        </p:blipFill>
        <p:spPr>
          <a:xfrm>
            <a:off x="3906720" y="2666880"/>
            <a:ext cx="5236920" cy="394992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3886200" y="457200"/>
            <a:ext cx="4980600" cy="19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244080" indent="-244080">
              <a:lnSpc>
                <a:spcPct val="90000"/>
              </a:lnSpc>
              <a:buClr>
                <a:srgbClr val="6b7d72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 спектру антимикробной актив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ибактер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тивогриб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ипротоз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440" cy="505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личные фенотипические мето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обнаружени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ЛРС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нованы на эффект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гибиро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я их активности в присутствии клавулановой кислоты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"двойных дисков"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ариант классического дискодиффузионного метода определения чувствительности к АБП, который позволя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наружить продукцию БЛР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наличию расширенной зоны подавления роста вокруг диска с 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цефалоспорином I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околения напротив диска, содержащего клавулановую кислоту (синергизм отмечается в участке пересечения зон диффузии двух дисков, расположенных на небольшом расстоянии друг от дру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6019920" y="4642920"/>
            <a:ext cx="2874600" cy="2214720"/>
          </a:xfrm>
          <a:prstGeom prst="rect">
            <a:avLst/>
          </a:prstGeom>
          <a:ln w="9525">
            <a:noFill/>
          </a:ln>
        </p:spPr>
      </p:pic>
      <p:sp>
        <p:nvSpPr>
          <p:cNvPr id="195" name="Стрелка вправо 3"/>
          <p:cNvSpPr/>
          <p:nvPr/>
        </p:nvSpPr>
        <p:spPr>
          <a:xfrm rot="3749400">
            <a:off x="6581880" y="5046120"/>
            <a:ext cx="1132560" cy="21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7031160" y="5504040"/>
            <a:ext cx="280440" cy="35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7895880" y="5504040"/>
            <a:ext cx="280440" cy="35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Users\Алла\Pictures\183_r1c.gif"/>
          <p:cNvPicPr/>
          <p:nvPr/>
        </p:nvPicPr>
        <p:blipFill>
          <a:blip r:embed="rId2"/>
          <a:stretch/>
        </p:blipFill>
        <p:spPr>
          <a:xfrm>
            <a:off x="317880" y="5079600"/>
            <a:ext cx="1731600" cy="1534680"/>
          </a:xfrm>
          <a:prstGeom prst="rect">
            <a:avLst/>
          </a:prstGeom>
          <a:ln w="9525">
            <a:noFill/>
          </a:ln>
        </p:spPr>
      </p:pic>
      <p:sp>
        <p:nvSpPr>
          <p:cNvPr id="199" name="Прямоугольник 5"/>
          <p:cNvSpPr/>
          <p:nvPr/>
        </p:nvSpPr>
        <p:spPr>
          <a:xfrm>
            <a:off x="2017800" y="5486400"/>
            <a:ext cx="4571640" cy="62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цефотаксим -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цефалоспорин 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амоксицилин/клавула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7032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9150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6666ff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По спектру действ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) с преимущественным действием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м 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/о (линкозамиды, биосинтетические пенициллины, цефалоспорины 1-го поколения, макролиды, ванкомицин, линкомицин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) с преимущественным действием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м −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/о (монобактамы, циклические полипептиды, цефалоспорины 3-го поколен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широкого спект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действия (аминогликозиды, левомицетин, тетрациклины, полусинтетические пенициллины широкого спектра действия (ампициллин, азлоциллин и др.) и цефалоспорины 2-го покол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4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туберкулез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нтибиотики (стрептомицин, рифампицин, флоримици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5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грибков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нтибиотики (нистатин, леворин, гризеофульвин, амфотерицин В, кетоконазол, анкотил, дифлюкан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91504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 кислотоустойчивости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ислотоустойчивы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– могут применяться перорально, например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ксиметил-пеницилли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ислотоНЕустойчивы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– предназначены только для парентерального применения, например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лпеницил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>
              <a:lnSpc>
                <a:spcPct val="124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915040" cy="55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360" algn="just">
              <a:lnSpc>
                <a:spcPct val="150000"/>
              </a:lnSpc>
              <a:spcBef>
                <a:spcPts val="641"/>
              </a:spcBef>
              <a:buClr>
                <a:srgbClr val="333333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Основные группы антимикробных препаратов для системного применения в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настоящее время это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Бета-лактамные антибиотики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сех антимикробных препаратов наименее токсичны, т.к., нарушая синтез клеточной стенки бактерий, 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имеют мишени в организм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человека и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9913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0" algn="just">
              <a:lnSpc>
                <a:spcPct val="11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ые группы бета-лактамных антибиотиков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пеницил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монобактам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цефалоспор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арбапен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1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ета-лактамы составляют  70 % всех используемых антибиотиков.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и наличии чувствительности к ним возбудителей их применение наиболее предпочти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2760" cy="63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Бета-лактамы — это группы антибиотиков, в химической формуле которых имеется бета-лактамное кольцо.  Оно выглядит вот та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Этим  кольцом антибиотик соединяется с ферментом микроба, участвующим в синтезе пептидогликана -  основного компонента клеточной сте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После образования этой связи, его синтез становится невозможны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бета-лактамное кольцо"/>
          <p:cNvPicPr/>
          <p:nvPr/>
        </p:nvPicPr>
        <p:blipFill>
          <a:blip r:embed="rId1"/>
          <a:stretch/>
        </p:blipFill>
        <p:spPr>
          <a:xfrm>
            <a:off x="5562720" y="1752480"/>
            <a:ext cx="1523520" cy="11426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5486400" y="1752480"/>
            <a:ext cx="4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781680" y="1752480"/>
            <a:ext cx="4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276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днако бактерии стали – вырабатывать  ферменты (бета-лактамазы), которые соединяясь с бета-лактамным кольцом антибиотика  делают его неактивным.  В результате антибиотик не может воздействовать на бактер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s://upload.wikimedia.org/wikipedia/commons/thumb/7/75/Beta-lactamase_place.svg/220px-Beta-lactamase_place.svg.png"/>
          <p:cNvPicPr/>
          <p:nvPr/>
        </p:nvPicPr>
        <p:blipFill>
          <a:blip r:embed="rId1"/>
          <a:stretch/>
        </p:blipFill>
        <p:spPr>
          <a:xfrm>
            <a:off x="6095880" y="3809880"/>
            <a:ext cx="2095200" cy="22284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1600200" y="4952880"/>
            <a:ext cx="4647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казана связь в Бета-лактамном кольце, подвергаемая гидролизу бета-лактама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s://upload.wikimedia.org/wikipedia/commons/8/87/PDB_1bsg_EBI.jpg"/>
          <p:cNvPicPr/>
          <p:nvPr/>
        </p:nvPicPr>
        <p:blipFill>
          <a:blip r:embed="rId2"/>
          <a:stretch/>
        </p:blipFill>
        <p:spPr>
          <a:xfrm>
            <a:off x="990720" y="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  <Words>1066</Words>
  <Paragraphs>1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1T13:45:23Z</dcterms:created>
  <dc:creator>Ирина</dc:creator>
  <dc:description/>
  <dc:language>en-US</dc:language>
  <cp:lastModifiedBy>s</cp:lastModifiedBy>
  <dcterms:modified xsi:type="dcterms:W3CDTF">2019-05-13T19:26:20Z</dcterms:modified>
  <cp:revision>8</cp:revision>
  <dc:subject/>
  <dc:title>Классификация антимикробных препаратов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