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media1.mp3" ContentType="audio/mp3"/>
  <Override PartName="/ppt/media/image7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002-EF91-4B58-B25C-F34FB8A0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AA0-609F-42B2-BFF3-A9C53BB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D30-38B6-4D5B-81AE-F25A304C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181-D6D7-4A4C-9137-B1DC265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9BA-A9ED-4A13-A231-B4DFB249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D386-0C0F-46B6-A774-BB0CF3A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F731-43A6-4417-AD56-E30C646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9D06-71A2-4834-95F2-0A39D63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8EBB-91E1-4B50-BBBF-DFBA3E15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1B42-E470-4BA1-89E2-60DD809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6D7E-503C-47EC-9349-F019532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E3A-FAB1-42C0-8C72-3B3252F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CA66-C9B7-4803-8A10-E0E38E6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434-B9F2-4685-9718-01FAA89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75D-D65D-418E-9174-A214E86A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154-7FEE-4E45-BCAF-8D188466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C443-0394-408F-B2D2-36CD8CB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FF9C-B693-46F3-9BC0-6349E37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F625-342E-45AD-9F9A-5DB592B6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ED13-8A77-4B41-BA73-DDD69965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679B-25D3-4CDF-9378-6B34F66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D14D-AF4E-4A27-958C-BB71917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7E0-537B-492A-AEDA-E719354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B0CE-32C0-4FC4-A21A-FDCF575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CE37-0D98-4C9A-89EC-0F2EDE15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1251-95EE-4457-97B0-0D136F3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6795-81D5-4697-93C1-EB8009E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28A8-4A55-4B2F-BB6C-F7785833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9172-2E73-4E62-881E-EB716FBE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76A6-C4BD-4273-93C8-70F39F4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D99-DE6F-4F8C-AE68-6D01B3F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E3B-B0D3-4672-9EB1-B410989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5EA-0EC5-4734-AA38-071B518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DB3-6EF2-477F-8E75-3392831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EF9-62AF-4423-B8C1-5EE8CFA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87C-A6FB-4A73-BE37-AD8EFF8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6A004D-63F7-497E-8986-A0A67C06E3A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2D717C-3C65-4F23-9528-5EDEA3CFFC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BB2A74-99BB-4CD1-9D42-DD0EB4D23C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edia1.mp3"/><Relationship Id="rId2" Type="http://schemas.microsoft.com/office/2007/relationships/media" Target="../media/media1.mp3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00" y="624852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49" strike="noStrike">
                <a:solidFill>
                  <a:schemeClr val="accent2"/>
                </a:solidFill>
                <a:latin typeface="Calibri"/>
              </a:rPr>
              <a:t>Своя игра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576160"/>
            <a:ext cx="6400440" cy="17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9278b5"/>
                </a:solidFill>
                <a:latin typeface="Calibri"/>
              </a:rPr>
              <a:t>Будущее планеты  в наших ру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4356000" y="522936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400" spc="-1" strike="noStrike">
                <a:solidFill>
                  <a:srgbClr val="fbfcfe"/>
                </a:solidFill>
                <a:latin typeface="Calibri"/>
              </a:rPr>
              <a:t>Подготовил: учитель истории и обществознания – Образцов С.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6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Это проблема связана с загрязнением  мусором, выбросами, отвалами, отстойными породами;</a:t>
            </a:r>
            <a:br>
              <a:rPr sz="2800"/>
            </a:b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тяжелыми металлами; пестицидами; микотоксинами; радиоактивными веществами. Одним из видов антропогенного воздействия является загрязнение пестицидами. Что это за проблема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640" y="455688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49" strike="noStrike">
                <a:solidFill>
                  <a:schemeClr val="accent2"/>
                </a:solidFill>
                <a:latin typeface="Calibri"/>
              </a:rPr>
              <a:t>Проблема загрязнения почв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800720" cy="685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180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bfcfe"/>
                </a:solidFill>
                <a:latin typeface="Calibri"/>
              </a:rPr>
              <a:t>Это животное, сами того не подозревая,  завезли в Америку, Африку, Индию испанские и португальские моряки из Европы. Тем самым  они стали невольными соучастниками в уничтожении некоторых представителей местной жив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Крыса, бегущая с тонущего кораб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750">
        <p14:prism/>
      </p:transition>
    </mc:Choice>
    <mc:Fallback>
      <p:transition spd="slow">
        <p:fade/>
      </p:transition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-684720" y="0"/>
            <a:ext cx="10656720" cy="6857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1" lang="ru-RU" sz="5400" spc="49" strike="noStrike">
                <a:solidFill>
                  <a:srgbClr val="fefefd"/>
                </a:solidFill>
                <a:latin typeface="Calibri"/>
              </a:rPr>
              <a:t>Пустыня Саха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92640"/>
            <a:ext cx="7772040" cy="290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3"/>
                </a:solidFill>
                <a:latin typeface="Calibri"/>
              </a:rPr>
              <a:t>Некоторые историки считают, что на этой территории 1оооо лет назад была саванна Здесь жили бегемоты, жирафы, африканские слоны, страусы. Человек перевыпасом стад крупного рогатого скота и овец превратил саванну в практически безжизненную пустыню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-612720" y="0"/>
            <a:ext cx="1051272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764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f2e2b"/>
                </a:solidFill>
                <a:latin typeface="Calibri"/>
              </a:rPr>
              <a:t>Благодаря этой эпохе Россию нельзя представить без картофеля, Болгарию без томатов, Узбекистан без хлопчатника, США и Аргентину без крупного рогатога скота и лошадей, австралию и Новую Зеландию без овец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cap="all">
                <a:solidFill>
                  <a:schemeClr val="accent4"/>
                </a:solidFill>
                <a:latin typeface="Calibri"/>
              </a:rPr>
              <a:t>Эпоха великих географических откр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-756720" y="0"/>
            <a:ext cx="10872720" cy="6857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0840" y="126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Ошибочная масштабная кампания по борьбе с этими сельскохозяйственными вредителями,  была организована в Китае в 50-60-е годы прошлого века. В результате которой, из-за нашествия саранчи, от голода погибло около 30 миллионов человек. О чём реч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9fc0ff"/>
                </a:solidFill>
                <a:latin typeface="Calibri"/>
              </a:rPr>
              <a:t>Это кампания по уничтожению воробь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040" cy="23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Calibri"/>
              </a:rPr>
              <a:t>Эта авария расценивается как крупнейшая в своём роде за всю историю атомной энергетики, как по предполагаемому количеству погибших и пострадавших от её последствий людей, так и по экономическому ущербу. Основным поражающим фактором стало радиоактивное зара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4365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Авария на Чернобыльской А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26 апреля 198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 isInverted="true"/>
      </p:transition>
    </mc:Choice>
    <mc:Fallback>
      <p:transition spd="slow">
        <p:fade/>
      </p:transition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7200" y="1049760"/>
            <a:ext cx="777204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Единственные в истории человечества два примера боевого применения ядерного оружия. Осуществлены Вооружёнными силами США на завершающем этапе Второй мировой войны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4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Бомбардировка Хиросимы и Нагас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8280" y="21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4080" y="980640"/>
            <a:ext cx="7772040" cy="245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d5d5d"/>
                </a:solidFill>
                <a:latin typeface="Calibri"/>
              </a:rPr>
              <a:t>В 14 веке эта катастрофа уничтожила </a:t>
            </a:r>
            <a:br>
              <a:rPr sz="4000"/>
            </a:br>
            <a:r>
              <a:rPr b="1" lang="ru-RU" sz="4000" spc="-1" strike="noStrike">
                <a:solidFill>
                  <a:srgbClr val="5d5d5d"/>
                </a:solidFill>
                <a:latin typeface="Calibri"/>
              </a:rPr>
              <a:t>по всей  Европе до 60% населения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9880" y="450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«Черная смерть", или эпидемия Бубонной ч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 isInverted="true"/>
      </p:transition>
    </mc:Choice>
    <mc:Fallback>
      <p:transition spd="slow">
        <p:fade/>
      </p:transition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-33120" y="0"/>
            <a:ext cx="9176760" cy="6857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268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Это природное явление до сих пор наводит ужас </a:t>
            </a:r>
            <a:br>
              <a:rPr sz="3600"/>
            </a:b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на людей. Из-за него были уничтожены многие города, а в 16 веке до н. е. погибла минойская цивилизац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38480" y="455688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5d5d5d"/>
                </a:solidFill>
                <a:latin typeface="Calibri"/>
              </a:rPr>
              <a:t>Извержение вулк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43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 cap="all">
                <a:solidFill>
                  <a:schemeClr val="accent4"/>
                </a:solidFill>
                <a:latin typeface="Calibri"/>
              </a:rPr>
              <a:t>Всем спасибо!</a:t>
            </a:r>
            <a:br>
              <a:rPr sz="8800"/>
            </a:br>
            <a:r>
              <a:rPr b="1" lang="ru-RU" sz="8800" spc="-1" strike="noStrike" cap="all">
                <a:solidFill>
                  <a:schemeClr val="accent4"/>
                </a:solidFill>
                <a:latin typeface="Calibri"/>
              </a:rPr>
              <a:t>До свидания</a:t>
            </a:r>
            <a:r>
              <a:rPr b="1" lang="ru-RU" sz="4400" spc="-1" strike="noStrike" cap="all">
                <a:solidFill>
                  <a:schemeClr val="accent4"/>
                </a:solidFill>
                <a:latin typeface="Calibri"/>
              </a:rPr>
              <a:t>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Объект 3"/>
          <p:cNvGraphicFramePr/>
          <p:nvPr/>
        </p:nvGraphicFramePr>
        <p:xfrm>
          <a:off x="703440" y="1340640"/>
          <a:ext cx="7736760" cy="4481640"/>
        </p:xfrm>
        <a:graphic>
          <a:graphicData uri="http://schemas.openxmlformats.org/drawingml/2006/table">
            <a:tbl>
              <a:tblPr/>
              <a:tblGrid>
                <a:gridCol w="2517120"/>
                <a:gridCol w="1096920"/>
                <a:gridCol w="1360800"/>
                <a:gridCol w="1380960"/>
                <a:gridCol w="13809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расная книга Белгородской об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noFill/>
                    </a:lnB>
                    <a:solidFill>
                      <a:srgbClr val="7b57a5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лобальные пробл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мно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ст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</a:tr>
              <a:tr h="159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 кр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оп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835640" y="571680"/>
            <a:ext cx="5904360" cy="571464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Calibri"/>
              </a:rPr>
              <a:t>Размах крыльев этой птицы достигает 2,5 метров. Объявлена птицей  2013 года. Гнездовые местообитания приурочены к прибрежным ландшафтам. Массивное гнездо из толстых сучьев обычно строит на высоких деревьях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25880" y="5445360"/>
            <a:ext cx="6400440" cy="98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cf2e2b"/>
                </a:solidFill>
                <a:latin typeface="Lustria"/>
              </a:rPr>
              <a:t>Орлан- белохв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9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331640" y="476640"/>
            <a:ext cx="7200360" cy="576036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600" y="19699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Очень крупная птица, ростом свыше метра. Держится отдельными парами, но перед отлётом собираются в стаи. Иногда в их рацион входят  лягушки, мелкие грызунам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47640" y="5085360"/>
            <a:ext cx="6400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f2e2b"/>
                </a:solidFill>
                <a:latin typeface="Times New Roman"/>
              </a:rPr>
              <a:t>Серый журав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7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073160" y="476640"/>
            <a:ext cx="7350120" cy="525636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6000" spc="-1" strike="noStrike">
                <a:solidFill>
                  <a:srgbClr val="cf2e2b"/>
                </a:solidFill>
                <a:latin typeface="Calibri"/>
              </a:rPr>
              <a:t>Русская выхух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04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199" strike="noStrike">
                <a:solidFill>
                  <a:srgbClr val="f7f9f4"/>
                </a:solidFill>
                <a:latin typeface="Calibri"/>
              </a:rPr>
              <a:t>Этот зверёк роет норы в берегах водоемов, вход в них прячет под водой. Очень активен ночью. Питается моллюсками, а также другими водными животным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zveridikie.ru/hishchnye/hor-amurskiy-stepnoy.jpg"/>
          <p:cNvPicPr/>
          <p:nvPr/>
        </p:nvPicPr>
        <p:blipFill>
          <a:blip r:embed="rId2"/>
          <a:stretch/>
        </p:blipFill>
        <p:spPr>
          <a:xfrm>
            <a:off x="899640" y="476640"/>
            <a:ext cx="7058880" cy="4708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bcbcbc"/>
                </a:solidFill>
                <a:latin typeface="Calibri"/>
              </a:rPr>
              <a:t>Жилище устраивает в норах своих жертв - сусликов или хомяков, в редких случаях роет норы самостоятельно. Ведет одиночный образ жизни. Прекрасно плавает и лазает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28680" y="5013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cf2e2b"/>
                </a:solidFill>
                <a:latin typeface="Calibri"/>
              </a:rPr>
              <a:t>Степной хорё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-15840" y="-15480"/>
            <a:ext cx="9164160" cy="6873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400" y="162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В последние</a:t>
            </a:r>
            <a:br>
              <a:rPr sz="3200"/>
            </a:b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десятилетия всё более интенсивно идёт разрушение </a:t>
            </a: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этого</a:t>
            </a: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. Над Антарктидой регистрируется "дыра" меняющихся форм и размеров. Она равна 23 миллионам квадратных километров, то есть площади, равной всей Северной Америке. Что это за проблем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66200" y="486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Проблема разрушения Озонового сл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750">
        <p14:prism isInverted="true"/>
      </p:transition>
    </mc:Choice>
    <mc:Fallback>
      <p:transition spd="slow">
        <p:fade/>
      </p:transition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9855"/>
                </a:solidFill>
                <a:latin typeface="Calibri"/>
              </a:rPr>
              <a:t>В </a:t>
            </a: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результате антропогенной деятельности неуклонно</a:t>
            </a:r>
            <a:br>
              <a:rPr sz="3600"/>
            </a:b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увеличивается количество углекислого газа (CO2) в атмосфере, способствует повышению температуры</a:t>
            </a:r>
            <a:br>
              <a:rPr sz="3600"/>
            </a:b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воздуха у земной поверхности. Что это за проблема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8848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 cap="all">
                <a:solidFill>
                  <a:srgbClr val="4d78bb"/>
                </a:solidFill>
                <a:latin typeface="Calibri"/>
              </a:rPr>
              <a:t>Проблема парникового эфф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Источники загрязнений -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теплоэлектростанции, которые вместе с дымом выбрасывают сернистый и углекислый газ; металлургические предприятия, особенно цветной металлургии, химические и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цементные заводы. Вредные газы попадают появляются также в результате сжигания топлива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для нужд промышленности, отопления жилищ, работы транспорта, сжигания и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переработки бытовых и промышленных отходов. Что это за проблема?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2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cap="all">
                <a:solidFill>
                  <a:schemeClr val="accent4"/>
                </a:solidFill>
                <a:latin typeface="Calibri"/>
              </a:rPr>
              <a:t>Проблема загрязнения атм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14:prism/>
      </p:transition>
    </mc:Choice>
    <mc:Fallback>
      <p:transition spd="slow">
        <p:fade/>
      </p:transition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  <Words>44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14:08:27Z</dcterms:created>
  <dc:creator>сергей</dc:creator>
  <dc:description/>
  <dc:language>en-US</dc:language>
  <cp:lastModifiedBy>сергей</cp:lastModifiedBy>
  <dcterms:modified xsi:type="dcterms:W3CDTF">2015-09-19T14:16:32Z</dcterms:modified>
  <cp:revision>31</cp:revision>
  <dc:subject/>
  <dc:title>Своя 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9</vt:r8>
  </property>
</Properties>
</file>