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media1.mp3" ContentType="audio/mp3"/>
  <Override PartName="/ppt/media/image7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F29-B484-4491-BB4F-A6094490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557-3732-4B14-9474-3802AFCB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EDF-7AAC-401E-88B7-32596FE7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367-CD29-4A48-9B5F-9375B2AC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13C8-220E-43CA-856B-2898F0EC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1870-88AC-4A91-A305-B56E5C34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48BE-E520-4009-BE0E-B1D14576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50FE-3001-423A-8580-EE64E450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F475-C35A-4B52-8C03-8792A7E8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76E4-FFDF-407A-A123-C48D6D92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6DFB-710C-4EE9-8344-B357E76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884-5A2A-4BD3-9DA6-EE3AE686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A60D-E185-4440-9949-DB2BC2A2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8F44-5B9A-4A17-87D5-960989C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E961-16FF-47EB-A059-D52EDE56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ADFC-6E61-4296-AA98-9DDE154F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C636-7BF6-4EB8-A0FE-750ABB4A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4770-92E3-467C-9718-F7AE0583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6C62-D28E-43BF-A571-E9BA3292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7BFB-13AC-4FD8-A712-9A72DBD5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8E41-B100-4D18-9D75-F8EA8183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64D3-A840-46E6-969E-B2E11995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CF6-4015-448E-87AC-BE762D9A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AA96-DB3B-4D85-A835-FA94D4EE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8862-7131-4920-B4B8-63406E6F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5DC9-8A80-4AD7-A562-F48145C6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BD4AC-4545-41E6-A8ED-8212221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C0D2-69A6-42BA-8E99-803B15C6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D466-C6F3-4AB4-81B7-83118DE0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136D-818B-42FC-8EA1-0603BA43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8D9-79CF-4AD8-BE3B-52C42F57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93D-C4F7-4CD6-B76A-986EC42E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8EF-DA56-41A0-B10D-3B6DAAC0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BB7-623B-4144-B737-AD7DC13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4BC-63CF-4566-9156-7D754A9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89F-2CD6-4008-A9D1-B2FEDFA3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157B5F-20A6-4A00-92DF-8100E2EA736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7FD0D-376E-43EA-B6AB-E93DBF4EE1E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036B23-0309-49B8-9D0A-8B51CA5E994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edia1.mp3"/><Relationship Id="rId2" Type="http://schemas.microsoft.com/office/2007/relationships/media" Target="../media/media1.mp3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400" y="624852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49" strike="noStrike">
                <a:solidFill>
                  <a:schemeClr val="accent2"/>
                </a:solidFill>
                <a:latin typeface="Calibri"/>
              </a:rPr>
              <a:t>Своя игра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2576160"/>
            <a:ext cx="6400440" cy="17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9278b5"/>
                </a:solidFill>
                <a:latin typeface="Calibri"/>
              </a:rPr>
              <a:t>Будущее планеты  в наших ру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4356000" y="522936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400" spc="-1" strike="noStrike">
                <a:solidFill>
                  <a:srgbClr val="fbfcfe"/>
                </a:solidFill>
                <a:latin typeface="Calibri"/>
              </a:rPr>
              <a:t>Подготовил: учитель истории и обществознания – Образцов С.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268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4"/>
                </a:solidFill>
                <a:latin typeface="Calibri"/>
              </a:rPr>
              <a:t>Это проблема связана с загрязнением  мусором, выбросами, отвалами, отстойными породами;</a:t>
            </a:r>
            <a:br>
              <a:rPr sz="2800"/>
            </a:br>
            <a:r>
              <a:rPr b="1" lang="ru-RU" sz="2800" spc="-1" strike="noStrike" cap="all">
                <a:solidFill>
                  <a:schemeClr val="accent4"/>
                </a:solidFill>
                <a:latin typeface="Calibri"/>
              </a:rPr>
              <a:t>тяжелыми металлами; пестицидами; микотоксинами; радиоактивными веществами. Одним из видов антропогенного воздействия является загрязнение пестицидами. Что это за проблема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640" y="455688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49" strike="noStrike">
                <a:solidFill>
                  <a:schemeClr val="accent2"/>
                </a:solidFill>
                <a:latin typeface="Calibri"/>
              </a:rPr>
              <a:t>Проблема загрязнения почв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0800720" cy="6857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1800" y="112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bfcfe"/>
                </a:solidFill>
                <a:latin typeface="Calibri"/>
              </a:rPr>
              <a:t>Это животное, сами того не подозревая,  завезли в Америку, Африку, Индию испанские и португальские моряки из Европы. Тем самым  они стали невольными соучастниками в уничтожении некоторых представителей местной жив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5d5d5d"/>
                </a:solidFill>
                <a:latin typeface="Calibri"/>
              </a:rPr>
              <a:t>Крыса, бегущая с тонущего кораб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750">
        <p14:prism/>
      </p:transition>
    </mc:Choice>
    <mc:Fallback>
      <p:transition spd="slow">
        <p:fade/>
      </p:transition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-684720" y="0"/>
            <a:ext cx="10656720" cy="6857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r>
              <a:rPr b="1" lang="ru-RU" sz="5400" spc="49" strike="noStrike">
                <a:solidFill>
                  <a:srgbClr val="fefefd"/>
                </a:solidFill>
                <a:latin typeface="Calibri"/>
              </a:rPr>
              <a:t>Пустыня Саха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92640"/>
            <a:ext cx="7772040" cy="290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3"/>
                </a:solidFill>
                <a:latin typeface="Calibri"/>
              </a:rPr>
              <a:t>Некоторые историки считают, что на этой территории 1оооо лет назад была саванна Здесь жили бегемоты, жирафы, африканские слоны, страусы. Человек перевыпасом стад крупного рогатого скота и овец превратил саванну в практически безжизненную пустыню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3" descr=""/>
          <p:cNvPicPr/>
          <p:nvPr/>
        </p:nvPicPr>
        <p:blipFill>
          <a:blip r:embed="rId1"/>
          <a:stretch/>
        </p:blipFill>
        <p:spPr>
          <a:xfrm>
            <a:off x="-612720" y="0"/>
            <a:ext cx="10512720" cy="6857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7640" y="112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f2e2b"/>
                </a:solidFill>
                <a:latin typeface="Calibri"/>
              </a:rPr>
              <a:t>Благодаря этой эпохе Россию нельзя представить без картофеля, Болгарию без томатов, Узбекистан без хлопчатника, США и Аргентину без крупного рогатога скота и лошадей, австралию и Новую Зеландию без овец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cap="all">
                <a:solidFill>
                  <a:schemeClr val="accent4"/>
                </a:solidFill>
                <a:latin typeface="Calibri"/>
              </a:rPr>
              <a:t>Эпоха великих географических откр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blinds dir="vert"/>
      </p:transition>
    </mc:Choice>
    <mc:Fallback>
      <p:transition spd="slow">
        <p:blinds dir="vert"/>
      </p:transition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-756720" y="0"/>
            <a:ext cx="10872720" cy="6857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0840" y="1268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Ошибочная масштабная кампания по борьбе с этими сельскохозяйственными вредителями,  была организована в Китае в 50-60-е годы прошлого века. В результате которой, из-за нашествия саранчи, от голода погибло около 30 миллионов человек. О чём речь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9fc0ff"/>
                </a:solidFill>
                <a:latin typeface="Calibri"/>
              </a:rPr>
              <a:t>Это кампания по уничтожению воробьё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040" cy="23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Calibri"/>
              </a:rPr>
              <a:t>Эта авария расценивается как крупнейшая в своём роде за всю историю атомной энергетики, как по предполагаемому количеству погибших и пострадавших от её последствий людей, так и по экономическому ущербу. Основным поражающим фактором стало радиоактивное зараж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4365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Авария на Чернобыльской АЭ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26 апреля 198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 isInverted="true"/>
      </p:transition>
    </mc:Choice>
    <mc:Fallback>
      <p:transition spd="slow">
        <p:fade/>
      </p:transition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7200" y="1049760"/>
            <a:ext cx="777204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d5d5d"/>
                </a:solidFill>
                <a:latin typeface="Calibri"/>
              </a:rPr>
              <a:t>Единственные в истории человечества два примера боевого применения ядерного оружия. Осуществлены Вооружёнными силами США на завершающем этапе Второй мировой войны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24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Бомбардировка Хиросимы и Нагас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8280" y="21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94080" y="980640"/>
            <a:ext cx="7772040" cy="245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d5d5d"/>
                </a:solidFill>
                <a:latin typeface="Calibri"/>
              </a:rPr>
              <a:t>В 14 веке эта катастрофа уничтожила </a:t>
            </a:r>
            <a:br>
              <a:rPr sz="4000"/>
            </a:br>
            <a:r>
              <a:rPr b="1" lang="ru-RU" sz="4000" spc="-1" strike="noStrike">
                <a:solidFill>
                  <a:srgbClr val="5d5d5d"/>
                </a:solidFill>
                <a:latin typeface="Calibri"/>
              </a:rPr>
              <a:t>по всей  Европе до 60% населения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9880" y="4509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d5d5d"/>
                </a:solidFill>
                <a:latin typeface="Calibri"/>
              </a:rPr>
              <a:t>«Черная смерть", или эпидемия Бубонной ч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 isInverted="true"/>
      </p:transition>
    </mc:Choice>
    <mc:Fallback>
      <p:transition spd="slow">
        <p:fade/>
      </p:transition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3" descr=""/>
          <p:cNvPicPr/>
          <p:nvPr/>
        </p:nvPicPr>
        <p:blipFill>
          <a:blip r:embed="rId1"/>
          <a:stretch/>
        </p:blipFill>
        <p:spPr>
          <a:xfrm>
            <a:off x="-33120" y="0"/>
            <a:ext cx="9176760" cy="6857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2680" y="112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d5d5d"/>
                </a:solidFill>
                <a:latin typeface="Calibri"/>
              </a:rPr>
              <a:t>Это природное явление до сих пор наводит ужас </a:t>
            </a:r>
            <a:br>
              <a:rPr sz="3600"/>
            </a:br>
            <a:r>
              <a:rPr b="1" lang="ru-RU" sz="3600" spc="-1" strike="noStrike">
                <a:solidFill>
                  <a:srgbClr val="5d5d5d"/>
                </a:solidFill>
                <a:latin typeface="Calibri"/>
              </a:rPr>
              <a:t>на людей. Из-за него были уничтожены многие города, а в 16 веке до н. е. погибла минойская цивилизация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38480" y="455688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5d5d5d"/>
                </a:solidFill>
                <a:latin typeface="Calibri"/>
              </a:rPr>
              <a:t>Извержение вулк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3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43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-1" strike="noStrike" cap="all">
                <a:solidFill>
                  <a:schemeClr val="accent4"/>
                </a:solidFill>
                <a:latin typeface="Calibri"/>
              </a:rPr>
              <a:t>Всем спасибо!</a:t>
            </a:r>
            <a:br>
              <a:rPr sz="8800"/>
            </a:br>
            <a:r>
              <a:rPr b="1" lang="ru-RU" sz="8800" spc="-1" strike="noStrike" cap="all">
                <a:solidFill>
                  <a:schemeClr val="accent4"/>
                </a:solidFill>
                <a:latin typeface="Calibri"/>
              </a:rPr>
              <a:t>До свидания</a:t>
            </a:r>
            <a:r>
              <a:rPr b="1" lang="ru-RU" sz="4400" spc="-1" strike="noStrike" cap="all">
                <a:solidFill>
                  <a:schemeClr val="accent4"/>
                </a:solidFill>
                <a:latin typeface="Calibri"/>
              </a:rPr>
              <a:t>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Объект 3"/>
          <p:cNvGraphicFramePr/>
          <p:nvPr/>
        </p:nvGraphicFramePr>
        <p:xfrm>
          <a:off x="703440" y="1340640"/>
          <a:ext cx="7736760" cy="4481640"/>
        </p:xfrm>
        <a:graphic>
          <a:graphicData uri="http://schemas.openxmlformats.org/drawingml/2006/table">
            <a:tbl>
              <a:tblPr/>
              <a:tblGrid>
                <a:gridCol w="2517120"/>
                <a:gridCol w="1096920"/>
                <a:gridCol w="1360800"/>
                <a:gridCol w="1380960"/>
                <a:gridCol w="138096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расная книга Белгородской об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7c0d2"/>
                      </a:solidFill>
                    </a:lnL>
                    <a:lnR>
                      <a:noFill/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7c0d2"/>
                      </a:solidFill>
                    </a:lnR>
                    <a:lnT w="9360">
                      <a:solidFill>
                        <a:srgbClr val="c7c0d2"/>
                      </a:solidFill>
                    </a:lnT>
                    <a:lnB w="38160">
                      <a:noFill/>
                    </a:lnB>
                    <a:solidFill>
                      <a:srgbClr val="7b57a5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Глобальные пробл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7c0d2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7c0d2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мног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сто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7c0d2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7c0d2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57a5"/>
                    </a:solidFill>
                  </a:tcPr>
                </a:tc>
              </a:tr>
              <a:tr h="159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 кр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оп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7c0d2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6000" spc="-1" strike="noStrike" u="sng">
                          <a:solidFill>
                            <a:schemeClr val="lt1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7c0d2"/>
                      </a:solidFill>
                    </a:lnR>
                    <a:lnT>
                      <a:noFill/>
                    </a:lnT>
                    <a:lnB w="9360">
                      <a:solidFill>
                        <a:srgbClr val="c7c0d2"/>
                      </a:solidFill>
                    </a:lnB>
                    <a:solidFill>
                      <a:schemeClr val="l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1835640" y="571680"/>
            <a:ext cx="5904360" cy="5714640"/>
          </a:xfrm>
          <a:prstGeom prst="rect">
            <a:avLst/>
          </a:prstGeom>
          <a:ln w="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Calibri"/>
              </a:rPr>
              <a:t>Размах крыльев этой птицы достигает 2,5 метров. Объявлена птицей  2013 года. Гнездовые местообитания приурочены к прибрежным ландшафтам. Массивное гнездо из толстых сучьев обычно строит на высоких деревьях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25880" y="5445360"/>
            <a:ext cx="6400440" cy="98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cf2e2b"/>
                </a:solidFill>
                <a:latin typeface="Lustria"/>
              </a:rPr>
              <a:t>Орлан- белохв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9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1331640" y="476640"/>
            <a:ext cx="7200360" cy="5760360"/>
          </a:xfrm>
          <a:prstGeom prst="rect">
            <a:avLst/>
          </a:prstGeom>
          <a:ln w="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600" y="19699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4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Calibri"/>
              </a:rPr>
              <a:t>Очень крупная птица, ростом свыше метра. Держится отдельными парами, но перед отлётом собираются в стаи. Иногда в их рацион входят  лягушки, мелкие грызунам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547640" y="5085360"/>
            <a:ext cx="6400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cf2e2b"/>
                </a:solidFill>
                <a:latin typeface="Times New Roman"/>
              </a:rPr>
              <a:t>Серый журав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7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073160" y="476640"/>
            <a:ext cx="7350120" cy="5256360"/>
          </a:xfrm>
          <a:prstGeom prst="rect">
            <a:avLst/>
          </a:prstGeom>
          <a:ln w="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ru-RU" sz="6000" spc="-1" strike="noStrike">
                <a:solidFill>
                  <a:srgbClr val="cf2e2b"/>
                </a:solidFill>
                <a:latin typeface="Calibri"/>
              </a:rPr>
              <a:t>Русская выхух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04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199" strike="noStrike">
                <a:solidFill>
                  <a:srgbClr val="f7f9f4"/>
                </a:solidFill>
                <a:latin typeface="Calibri"/>
              </a:rPr>
              <a:t>Этот зверёк роет норы в берегах водоемов, вход в них прячет под водой. Очень активен ночью. Питается моллюсками, а также другими водными животными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zveridikie.ru/hishchnye/hor-amurskiy-stepnoy.jpg"/>
          <p:cNvPicPr/>
          <p:nvPr/>
        </p:nvPicPr>
        <p:blipFill>
          <a:blip r:embed="rId2"/>
          <a:stretch/>
        </p:blipFill>
        <p:spPr>
          <a:xfrm>
            <a:off x="899640" y="476640"/>
            <a:ext cx="7058880" cy="4708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bcbcbc"/>
                </a:solidFill>
                <a:latin typeface="Calibri"/>
              </a:rPr>
              <a:t>Жилище устраивает в норах своих жертв - сусликов или хомяков, в редких случаях роет норы самостоятельно. Ведет одиночный образ жизни. Прекрасно плавает и лазает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228680" y="5013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cf2e2b"/>
                </a:solidFill>
                <a:latin typeface="Calibri"/>
              </a:rPr>
              <a:t>Степной хорё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-15840" y="-15480"/>
            <a:ext cx="9164160" cy="68731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0400" y="1628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Calibri"/>
              </a:rPr>
              <a:t>В последние</a:t>
            </a:r>
            <a:br>
              <a:rPr sz="3200"/>
            </a:br>
            <a:r>
              <a:rPr b="1" lang="ru-RU" sz="32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Calibri"/>
              </a:rPr>
              <a:t>десятилетия всё более интенсивно идёт разрушение </a:t>
            </a:r>
            <a:r>
              <a:rPr b="1" lang="ru-RU" sz="3600" spc="-1" strike="noStrike">
                <a:solidFill>
                  <a:srgbClr val="ff9855"/>
                </a:solidFill>
                <a:latin typeface="Calibri"/>
              </a:rPr>
              <a:t>этого</a:t>
            </a:r>
            <a:r>
              <a:rPr b="1" lang="ru-RU" sz="32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Calibri"/>
              </a:rPr>
              <a:t>. Над Антарктидой регистрируется "дыра" меняющихся форм и размеров. Она равна 23 миллионам квадратных километров, то есть площади, равной всей Северной Америке. Что это за проблема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66200" y="4869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Проблема разрушения Озонового сл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37680"/>
            <a:ext cx="120132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750">
        <p14:prism isInverted="true"/>
      </p:transition>
    </mc:Choice>
    <mc:Fallback>
      <p:transition spd="slow">
        <p:fade/>
      </p:transition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9855"/>
                </a:solidFill>
                <a:latin typeface="Calibri"/>
              </a:rPr>
              <a:t>В </a:t>
            </a:r>
            <a:r>
              <a:rPr b="1" lang="ru-RU" sz="3600" spc="-1" strike="noStrike">
                <a:solidFill>
                  <a:srgbClr val="ff9855"/>
                </a:solidFill>
                <a:latin typeface="Calibri"/>
              </a:rPr>
              <a:t>результате антропогенной деятельности неуклонно</a:t>
            </a:r>
            <a:br>
              <a:rPr sz="3600"/>
            </a:br>
            <a:r>
              <a:rPr b="1" lang="ru-RU" sz="3600" spc="-1" strike="noStrike">
                <a:solidFill>
                  <a:srgbClr val="ff9855"/>
                </a:solidFill>
                <a:latin typeface="Calibri"/>
              </a:rPr>
              <a:t>увеличивается количество углекислого газа (CO2) в атмосфере, способствует повышению температуры</a:t>
            </a:r>
            <a:br>
              <a:rPr sz="3600"/>
            </a:br>
            <a:r>
              <a:rPr b="1" lang="ru-RU" sz="3600" spc="-1" strike="noStrike">
                <a:solidFill>
                  <a:srgbClr val="ff9855"/>
                </a:solidFill>
                <a:latin typeface="Calibri"/>
              </a:rPr>
              <a:t>воздуха у земной поверхности. Что это за проблема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88484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 cap="all">
                <a:solidFill>
                  <a:srgbClr val="4d78bb"/>
                </a:solidFill>
                <a:latin typeface="Calibri"/>
              </a:rPr>
              <a:t>Проблема парникового эфф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Источники загрязнений -</a:t>
            </a:r>
            <a:br>
              <a:rPr sz="2700"/>
            </a:b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теплоэлектростанции, которые вместе с дымом выбрасывают сернистый и углекислый газ; металлургические предприятия, особенно цветной металлургии, химические и</a:t>
            </a:r>
            <a:br>
              <a:rPr sz="2700"/>
            </a:b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цементные заводы. Вредные газы попадают появляются также в результате сжигания топлива</a:t>
            </a:r>
            <a:br>
              <a:rPr sz="2700"/>
            </a:b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для нужд промышленности, отопления жилищ, работы транспорта, сжигания и</a:t>
            </a:r>
            <a:br>
              <a:rPr sz="2700"/>
            </a:br>
            <a:r>
              <a:rPr b="1" lang="ru-RU" sz="2700" spc="-1" strike="noStrike">
                <a:solidFill>
                  <a:srgbClr val="adbcd8"/>
                </a:solidFill>
                <a:latin typeface="Calibri"/>
              </a:rPr>
              <a:t>переработки бытовых и промышленных отходов. Что это за проблема?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440" cy="12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cap="all">
                <a:solidFill>
                  <a:schemeClr val="accent4"/>
                </a:solidFill>
                <a:latin typeface="Calibri"/>
              </a:rPr>
              <a:t>Проблема загрязнения атм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761080"/>
            <a:ext cx="1201320" cy="10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14:prism/>
      </p:transition>
    </mc:Choice>
    <mc:Fallback>
      <p:transition spd="slow">
        <p:fade/>
      </p:transition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  <Words>443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7T14:08:27Z</dcterms:created>
  <dc:creator>сергей</dc:creator>
  <dc:description/>
  <dc:language>en-US</dc:language>
  <cp:lastModifiedBy>сергей</cp:lastModifiedBy>
  <dcterms:modified xsi:type="dcterms:W3CDTF">2015-09-19T14:16:32Z</dcterms:modified>
  <cp:revision>31</cp:revision>
  <dc:subject/>
  <dc:title>Своя иг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9</vt:r8>
  </property>
</Properties>
</file>