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07C-CA39-4E5C-ACF6-E6A5A676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A53-C133-40E3-A4E1-B4926447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66E-9C4D-4512-BC36-EFDCB5B8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48C-4876-4794-80BD-975645E6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3149-A03B-4DF9-AFF8-209EE381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553-0982-4032-9AAF-B0094BE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CD4A-1753-4B43-816C-7E3B9B3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953B-23F0-4B0D-A078-1F789CC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F6C6-CB00-4FED-AD80-21939E5E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332B-9CD0-4D4B-8D78-617F3267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EEEA-5A86-46E2-88F3-E0A0AA55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043-1A57-482A-B182-018FA2E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C8BA-AD95-4182-819B-6C4CABF1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ACD8-8703-4ECA-84E7-8242AE9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641A-1FF0-4364-9E5E-4A0484C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EC1F-853E-4604-BC36-84107305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D5BE-5B72-4586-99EA-3B551EC5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E9DC-BBC5-4832-929A-567438B8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74BF-58C7-4251-9435-CA0FE81E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5639-9838-4B26-96E3-F655564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C5CB-3E3C-4293-95E5-5A92A97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9ED5-2D95-4810-895F-BA2D2F0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018-5AAD-44CD-8573-1C45C6E1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1C15-A2C0-42CF-AD6D-89B564B6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BCD1-DBE9-4FE0-84F7-2FB4ACE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44A8-8163-4B40-BB14-4BF23F6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E44C-B375-41DD-9473-EF9C772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F8B53-1F5E-4999-9896-88F720E7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4853-92A6-4389-B3FF-F57D0671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4ECE-AEAD-40AE-82B6-3ADB2E0A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652-C390-4265-A947-2B9FCA89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A36-C35D-4F77-BE89-41342B3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7B8-5DFE-4041-98C8-70F8795D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65D-D92C-415C-A793-4DBE7E2C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380-8AD6-4EAC-B46D-79415234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7EC-7FEA-46AE-94F2-5323318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D6E81F-9626-4708-B364-3C6DAAA03EA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F7F192-02B7-4C20-B5E6-1E2F1B9C616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A783E6-546E-44C6-8769-0D97C6C6882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Алгоритм создания собственно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Характеристика ц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к чему человек стремится (к прибыли, доходу, владению домом и т.д.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насколько интенсивно человек стремится к цели (зависит от мотивации достижения цели и позволяет понять, почему человек стремится к данной ц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остановка целей - методика SMART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онкретны)Что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surabl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меримы) Сколь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evabl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стижимы) Возможно ли это? Каким образ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evan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значимы) Зач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bounde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пределены во времен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змеримость ц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измеряется (деньги, материалы, люди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ряется (управление капиталом, использование материалов, работа машин, работа людей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 способ измерения (фундаментальный, измерение соотношений, тенденций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функции измерения (целесообразная точность)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издержки измерения (время, труд, деньги)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методологическая база (литература и другие источники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конечные критерии выбора показателей (издержки, потенциальная стоимость, время, доступность объема, статистическая надежность измерений и компетентность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изнес-иде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 нахожд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ы реал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ская иде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032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ание предпринимателя что-то сделать для потребителя (как покупателя готовой продукции, услуги), а, следовательно, и для себя (получение прибыл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http://susanin.udm.ru/upload/resize_cache/iblock/b40/469_1000_1/2dadbda5-1858-4fb5-8928-b9df194d4e5d.jpg"/>
          <p:cNvPicPr/>
          <p:nvPr/>
        </p:nvPicPr>
        <p:blipFill>
          <a:blip r:embed="rId1"/>
          <a:stretch/>
        </p:blipFill>
        <p:spPr>
          <a:xfrm>
            <a:off x="5072040" y="3643200"/>
            <a:ext cx="37580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этапы по определению 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22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ождение (источник) предпринимательской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тная оценка предпринимательской идеи на реалистич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ы затрат на реализацию предпринимательской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ие решения по реализации предпринимательской идеи и подготовка к ее реал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25768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 предпринимательских идей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0040" y="1000080"/>
            <a:ext cx="8186400" cy="51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телефонных справочник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иблиотеках из справочников, книг и т.п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бизнес-консультант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публикации в газетах и журналах, в том числе иностранны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рекламных проспектов, в том числе полученных на выставках-ярмарк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проспектов различных предприят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друзей и родственник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потенциальных покупателе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еминарах, тренинг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pda.fedpress.ru/sites/fedpress/files/evgesha/news/77d072e8e7.jpg"/>
          <p:cNvPicPr/>
          <p:nvPr/>
        </p:nvPicPr>
        <p:blipFill>
          <a:blip r:embed="rId1"/>
          <a:stretch/>
        </p:blipFill>
        <p:spPr>
          <a:xfrm>
            <a:off x="7215120" y="4572000"/>
            <a:ext cx="1428480" cy="19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нахождения 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зговой штурм» (самый распространенны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чтания (превращение мечты в реальность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тандартный подход (можно что-то сделать иначе, чем принято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тация (стимулирует рождение новых ид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ный анализ (позволяет взглянуть на идею с различных сторон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едпринимательской идеи и создание бизнес-модел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технологии производства продукции (товара, услуг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необходимых производственных мощност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сырьевой и материальной баз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трудовых ресурс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условий инвестирования деятельност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ирование системы управл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каналов сбыта проду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реализации бизнес-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57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-планирование (детальное изложение предпринимательской идеи с точными расчетами, а также информация об организационной форме предприятия и источниках формирования денежных средств, необходимых для начального этапа реализации идеи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ение заемных денежных средств и партнеров (участников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собственной фирмы (предприятия), если она создается впервы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-техническая подготовка фирмы к производству продукции (товар, услуга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функционирующей фирмой и партнерскими связям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286000" y="428760"/>
            <a:ext cx="4286160" cy="6142680"/>
            <a:chOff x="2286000" y="428760"/>
            <a:chExt cx="4286160" cy="6142680"/>
          </a:xfrm>
        </p:grpSpPr>
        <p:sp>
          <p:nvSpPr>
            <p:cNvPr id="129" name="AutoShape 64"/>
            <p:cNvSpPr/>
            <p:nvPr/>
          </p:nvSpPr>
          <p:spPr>
            <a:xfrm>
              <a:off x="2286000" y="571320"/>
              <a:ext cx="4252680" cy="58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63"/>
            <p:cNvSpPr/>
            <p:nvPr/>
          </p:nvSpPr>
          <p:spPr>
            <a:xfrm>
              <a:off x="4291560" y="4119840"/>
              <a:ext cx="162360" cy="963000"/>
            </a:xfrm>
            <a:prstGeom prst="downArrow">
              <a:avLst>
                <a:gd name="adj1" fmla="val 50000"/>
                <a:gd name="adj2" fmla="val 57305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62"/>
            <p:cNvSpPr/>
            <p:nvPr/>
          </p:nvSpPr>
          <p:spPr>
            <a:xfrm>
              <a:off x="4291560" y="2996280"/>
              <a:ext cx="160920" cy="802440"/>
            </a:xfrm>
            <a:prstGeom prst="downArrow">
              <a:avLst>
                <a:gd name="adj1" fmla="val 49722"/>
                <a:gd name="adj2" fmla="val 58697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61"/>
            <p:cNvSpPr/>
            <p:nvPr/>
          </p:nvSpPr>
          <p:spPr>
            <a:xfrm>
              <a:off x="4291560" y="1872720"/>
              <a:ext cx="161640" cy="804240"/>
            </a:xfrm>
            <a:prstGeom prst="downArrow">
              <a:avLst>
                <a:gd name="adj1" fmla="val 49861"/>
                <a:gd name="adj2" fmla="val 69260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60"/>
            <p:cNvSpPr/>
            <p:nvPr/>
          </p:nvSpPr>
          <p:spPr>
            <a:xfrm>
              <a:off x="3248640" y="428760"/>
              <a:ext cx="2406600" cy="320400"/>
            </a:xfrm>
            <a:prstGeom prst="rect">
              <a:avLst/>
            </a:prstGeom>
            <a:noFill/>
            <a:ln w="254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отивация (цели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6"/>
            <p:cNvGrpSpPr/>
            <p:nvPr/>
          </p:nvGrpSpPr>
          <p:grpSpPr>
            <a:xfrm>
              <a:off x="2500200" y="999720"/>
              <a:ext cx="3643560" cy="428040"/>
              <a:chOff x="2500200" y="999720"/>
              <a:chExt cx="3643560" cy="428040"/>
            </a:xfrm>
          </p:grpSpPr>
          <p:sp>
            <p:nvSpPr>
              <p:cNvPr id="135" name="Text Box 59"/>
              <p:cNvSpPr/>
              <p:nvPr/>
            </p:nvSpPr>
            <p:spPr>
              <a:xfrm>
                <a:off x="2500200" y="999720"/>
                <a:ext cx="1469880" cy="4280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Мотивация предпринимател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8"/>
              <p:cNvSpPr/>
              <p:nvPr/>
            </p:nvSpPr>
            <p:spPr>
              <a:xfrm>
                <a:off x="4786560" y="999720"/>
                <a:ext cx="1357200" cy="4280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Цели предприят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7"/>
              <p:cNvSpPr/>
              <p:nvPr/>
            </p:nvSpPr>
            <p:spPr>
              <a:xfrm>
                <a:off x="3970080" y="1231200"/>
                <a:ext cx="80244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Group 52"/>
            <p:cNvGrpSpPr/>
            <p:nvPr/>
          </p:nvGrpSpPr>
          <p:grpSpPr>
            <a:xfrm>
              <a:off x="3489480" y="909720"/>
              <a:ext cx="1926720" cy="160920"/>
              <a:chOff x="3489480" y="909720"/>
              <a:chExt cx="1926720" cy="160920"/>
            </a:xfrm>
          </p:grpSpPr>
          <p:sp>
            <p:nvSpPr>
              <p:cNvPr id="139" name="Line 55"/>
              <p:cNvSpPr/>
              <p:nvPr/>
            </p:nvSpPr>
            <p:spPr>
              <a:xfrm>
                <a:off x="3489480" y="909720"/>
                <a:ext cx="192636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54"/>
              <p:cNvSpPr/>
              <p:nvPr/>
            </p:nvSpPr>
            <p:spPr>
              <a:xfrm>
                <a:off x="3489480" y="909720"/>
                <a:ext cx="360" cy="160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5415840" y="909720"/>
                <a:ext cx="360" cy="160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2" name="Text Box 51"/>
            <p:cNvSpPr/>
            <p:nvPr/>
          </p:nvSpPr>
          <p:spPr>
            <a:xfrm>
              <a:off x="2642760" y="1571760"/>
              <a:ext cx="3857040" cy="35676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собственных ресурс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5"/>
            <p:cNvGrpSpPr/>
            <p:nvPr/>
          </p:nvGrpSpPr>
          <p:grpSpPr>
            <a:xfrm>
              <a:off x="2428560" y="2113560"/>
              <a:ext cx="4143600" cy="529920"/>
              <a:chOff x="2428560" y="2113560"/>
              <a:chExt cx="4143600" cy="529920"/>
            </a:xfrm>
          </p:grpSpPr>
          <p:sp>
            <p:nvSpPr>
              <p:cNvPr id="144" name="Text Box 50"/>
              <p:cNvSpPr/>
              <p:nvPr/>
            </p:nvSpPr>
            <p:spPr>
              <a:xfrm>
                <a:off x="2428560" y="2113920"/>
                <a:ext cx="979920" cy="5295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Личностные качеств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49"/>
              <p:cNvSpPr/>
              <p:nvPr/>
            </p:nvSpPr>
            <p:spPr>
              <a:xfrm>
                <a:off x="3714840" y="2113560"/>
                <a:ext cx="1428480" cy="45792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едпринимательское 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8"/>
              <p:cNvSpPr/>
              <p:nvPr/>
            </p:nvSpPr>
            <p:spPr>
              <a:xfrm>
                <a:off x="3408840" y="2274840"/>
                <a:ext cx="402480" cy="108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47"/>
              <p:cNvSpPr/>
              <p:nvPr/>
            </p:nvSpPr>
            <p:spPr>
              <a:xfrm>
                <a:off x="5415480" y="2113560"/>
                <a:ext cx="1156680" cy="45792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Деловые навык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5014080" y="2274840"/>
                <a:ext cx="401760" cy="25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" name="Group 40"/>
            <p:cNvGrpSpPr/>
            <p:nvPr/>
          </p:nvGrpSpPr>
          <p:grpSpPr>
            <a:xfrm>
              <a:off x="3088440" y="2033280"/>
              <a:ext cx="2567880" cy="79920"/>
              <a:chOff x="3088440" y="2033280"/>
              <a:chExt cx="2567880" cy="79920"/>
            </a:xfrm>
          </p:grpSpPr>
          <p:sp>
            <p:nvSpPr>
              <p:cNvPr id="150" name="Line 44"/>
              <p:cNvSpPr/>
              <p:nvPr/>
            </p:nvSpPr>
            <p:spPr>
              <a:xfrm>
                <a:off x="3088440" y="2033280"/>
                <a:ext cx="2565000" cy="7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43"/>
              <p:cNvSpPr/>
              <p:nvPr/>
            </p:nvSpPr>
            <p:spPr>
              <a:xfrm>
                <a:off x="3088440" y="2033280"/>
                <a:ext cx="36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4452480" y="2033280"/>
                <a:ext cx="36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5655600" y="2033280"/>
                <a:ext cx="72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Text Box 39"/>
            <p:cNvSpPr/>
            <p:nvPr/>
          </p:nvSpPr>
          <p:spPr>
            <a:xfrm>
              <a:off x="3569760" y="2675520"/>
              <a:ext cx="1765080" cy="31932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знес-ид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34"/>
            <p:cNvGrpSpPr/>
            <p:nvPr/>
          </p:nvGrpSpPr>
          <p:grpSpPr>
            <a:xfrm>
              <a:off x="3088440" y="3156840"/>
              <a:ext cx="2567160" cy="79200"/>
              <a:chOff x="3088440" y="3156840"/>
              <a:chExt cx="2567160" cy="79200"/>
            </a:xfrm>
          </p:grpSpPr>
          <p:sp>
            <p:nvSpPr>
              <p:cNvPr id="156" name="Line 38"/>
              <p:cNvSpPr/>
              <p:nvPr/>
            </p:nvSpPr>
            <p:spPr>
              <a:xfrm>
                <a:off x="3088440" y="3156840"/>
                <a:ext cx="256428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7"/>
              <p:cNvSpPr/>
              <p:nvPr/>
            </p:nvSpPr>
            <p:spPr>
              <a:xfrm>
                <a:off x="3088440" y="3156840"/>
                <a:ext cx="36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6"/>
              <p:cNvSpPr/>
              <p:nvPr/>
            </p:nvSpPr>
            <p:spPr>
              <a:xfrm>
                <a:off x="4452120" y="3156840"/>
                <a:ext cx="36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5"/>
              <p:cNvSpPr/>
              <p:nvPr/>
            </p:nvSpPr>
            <p:spPr>
              <a:xfrm>
                <a:off x="5654880" y="3156840"/>
                <a:ext cx="72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Text Box 33"/>
            <p:cNvSpPr/>
            <p:nvPr/>
          </p:nvSpPr>
          <p:spPr>
            <a:xfrm>
              <a:off x="2786040" y="3236760"/>
              <a:ext cx="783360" cy="4060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бор иде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2"/>
            <p:cNvSpPr/>
            <p:nvPr/>
          </p:nvSpPr>
          <p:spPr>
            <a:xfrm>
              <a:off x="4000680" y="3236760"/>
              <a:ext cx="852840" cy="4060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иде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1"/>
            <p:cNvSpPr/>
            <p:nvPr/>
          </p:nvSpPr>
          <p:spPr>
            <a:xfrm>
              <a:off x="3569760" y="3397320"/>
              <a:ext cx="401760" cy="10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30"/>
            <p:cNvSpPr/>
            <p:nvPr/>
          </p:nvSpPr>
          <p:spPr>
            <a:xfrm>
              <a:off x="5286240" y="3236760"/>
              <a:ext cx="1285200" cy="5490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рыночных возмож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4853520" y="3397320"/>
              <a:ext cx="401400" cy="10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28"/>
            <p:cNvSpPr/>
            <p:nvPr/>
          </p:nvSpPr>
          <p:spPr>
            <a:xfrm flipH="1" flipV="1">
              <a:off x="5572080" y="2857320"/>
              <a:ext cx="953280" cy="562320"/>
            </a:xfrm>
            <a:prstGeom prst="bentConnector3">
              <a:avLst>
                <a:gd name="adj1" fmla="val -16782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7"/>
            <p:cNvSpPr/>
            <p:nvPr/>
          </p:nvSpPr>
          <p:spPr>
            <a:xfrm>
              <a:off x="3571560" y="3799080"/>
              <a:ext cx="1762560" cy="55836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знес-прое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бизнес-пла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2286000" y="5643720"/>
              <a:ext cx="1042560" cy="570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бор ОПФ,  система н/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гист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5"/>
            <p:cNvSpPr/>
            <p:nvPr/>
          </p:nvSpPr>
          <p:spPr>
            <a:xfrm>
              <a:off x="3429000" y="5644440"/>
              <a:ext cx="942120" cy="7131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нансовые сре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4"/>
            <p:cNvSpPr/>
            <p:nvPr/>
          </p:nvSpPr>
          <p:spPr>
            <a:xfrm>
              <a:off x="4500360" y="5643720"/>
              <a:ext cx="994680" cy="7135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бор персонала и мотив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3"/>
            <p:cNvSpPr/>
            <p:nvPr/>
          </p:nvSpPr>
          <p:spPr>
            <a:xfrm>
              <a:off x="5715000" y="5643720"/>
              <a:ext cx="743040" cy="927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ганизация учета и взаимодейств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2"/>
            <p:cNvSpPr/>
            <p:nvPr/>
          </p:nvSpPr>
          <p:spPr>
            <a:xfrm flipV="1" rot="5400000">
              <a:off x="4431960" y="4019040"/>
              <a:ext cx="360" cy="3249000"/>
            </a:xfrm>
            <a:prstGeom prst="bentConnector3">
              <a:avLst>
                <a:gd name="adj1" fmla="val -3600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 flipH="1">
              <a:off x="3890880" y="5483520"/>
              <a:ext cx="360" cy="160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 flipH="1">
              <a:off x="4933800" y="5483520"/>
              <a:ext cx="720" cy="1609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3286440" y="5214960"/>
              <a:ext cx="2428920" cy="28512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ганизация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8"/>
            <p:cNvGrpSpPr/>
            <p:nvPr/>
          </p:nvGrpSpPr>
          <p:grpSpPr>
            <a:xfrm>
              <a:off x="2357640" y="4387320"/>
              <a:ext cx="4180320" cy="684360"/>
              <a:chOff x="2357640" y="4387320"/>
              <a:chExt cx="4180320" cy="684360"/>
            </a:xfrm>
          </p:grpSpPr>
          <p:sp>
            <p:nvSpPr>
              <p:cNvPr id="176" name="Text Box 18"/>
              <p:cNvSpPr/>
              <p:nvPr/>
            </p:nvSpPr>
            <p:spPr>
              <a:xfrm>
                <a:off x="2357640" y="4547520"/>
                <a:ext cx="970920" cy="5241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оизводственный план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500640" y="4547520"/>
                <a:ext cx="951120" cy="45288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Организационный план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6"/>
              <p:cNvSpPr/>
              <p:nvPr/>
            </p:nvSpPr>
            <p:spPr>
              <a:xfrm>
                <a:off x="4614120" y="4601160"/>
                <a:ext cx="802080" cy="3225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Риск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5"/>
              <p:cNvSpPr/>
              <p:nvPr/>
            </p:nvSpPr>
            <p:spPr>
              <a:xfrm>
                <a:off x="5572080" y="4547520"/>
                <a:ext cx="965880" cy="5241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Финансовые показател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"/>
              <p:cNvSpPr/>
              <p:nvPr/>
            </p:nvSpPr>
            <p:spPr>
              <a:xfrm>
                <a:off x="3328560" y="4708080"/>
                <a:ext cx="15948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13"/>
              <p:cNvSpPr/>
              <p:nvPr/>
            </p:nvSpPr>
            <p:spPr>
              <a:xfrm>
                <a:off x="4452480" y="4708080"/>
                <a:ext cx="16020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Line 12"/>
              <p:cNvSpPr/>
              <p:nvPr/>
            </p:nvSpPr>
            <p:spPr>
              <a:xfrm>
                <a:off x="5415120" y="4708080"/>
                <a:ext cx="15912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AutoShape 11"/>
              <p:cNvSpPr/>
              <p:nvPr/>
            </p:nvSpPr>
            <p:spPr>
              <a:xfrm flipV="1" rot="5400000">
                <a:off x="4451760" y="2942640"/>
                <a:ext cx="360" cy="3209040"/>
              </a:xfrm>
              <a:prstGeom prst="bentConnector3">
                <a:avLst>
                  <a:gd name="adj1" fmla="val -36000000"/>
                </a:avLst>
              </a:prstGeom>
              <a:noFill/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 flipH="1">
                <a:off x="3970800" y="4387320"/>
                <a:ext cx="720" cy="1598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H="1">
                <a:off x="5014080" y="4387320"/>
                <a:ext cx="360" cy="1605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AutoShape 7"/>
            <p:cNvSpPr/>
            <p:nvPr/>
          </p:nvSpPr>
          <p:spPr>
            <a:xfrm>
              <a:off x="4291560" y="749520"/>
              <a:ext cx="160560" cy="802800"/>
            </a:xfrm>
            <a:prstGeom prst="downArrow">
              <a:avLst>
                <a:gd name="adj1" fmla="val 42935"/>
                <a:gd name="adj2" fmla="val 65656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 flipH="1" flipV="1">
              <a:off x="5344200" y="2835720"/>
              <a:ext cx="1193760" cy="1873440"/>
            </a:xfrm>
            <a:prstGeom prst="bentConnector3">
              <a:avLst>
                <a:gd name="adj1" fmla="val -13440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rot="5400000">
              <a:off x="3828600" y="2601000"/>
              <a:ext cx="987840" cy="2928960"/>
            </a:xfrm>
            <a:prstGeom prst="bentConnector3">
              <a:avLst>
                <a:gd name="adj1" fmla="val 10782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4372200" y="5403600"/>
              <a:ext cx="360" cy="799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бор организационно правовой фор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виды предпринимательской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ути создания своего дела: приобретение (покупка) существующего бизнеса, аренда предприятия, франчайзин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организационно-правовой формы предприятия: особенности ООО или ИП как наиболее оптимальных ОФП при создании своего де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виды предпринимательской деятель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рческ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алтингов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ути создания свое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20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е основание юридического лица или регистрация в качестве индивидуального предпринимателя без образования юридического л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ретение (покупка) существующе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енда предприят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чайзин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http://rnns.ru/uploads/posts/2010-02/thumbs/1265632959_85284e66b91e20f04758b041b9dfb7f3.jpg"/>
          <p:cNvPicPr/>
          <p:nvPr/>
        </p:nvPicPr>
        <p:blipFill>
          <a:blip r:embed="rId1"/>
          <a:stretch/>
        </p:blipFill>
        <p:spPr>
          <a:xfrm>
            <a:off x="5715000" y="4643280"/>
            <a:ext cx="2356920" cy="17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е создание субъекта предпринимательской деятельно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дители не отвечают по обязательствам юридического лица и несут риск убытков, связанных с предпринимательской деятельностью, в пределах стоимости принадлежащих им долей (акций). Минимальный допустимый размер уставного капитала ООО или ЗАО составляет 10 000 рубле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дивидуальный предприниматель без образования юридического лица (ИП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чает по своим обязательствам всем принадлежащим ему имуществом не только приобретенным в ходе ведения предпринимательской деятельности, но и за счет иного имущества (движимого и недвижимого), полученного из других источник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иобретение (покупка) существующего бизне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22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Цена вопрос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тоимость приобретаемо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тоимость инвестиционной программ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обходимые затраты на развитие дел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Формы покупки-продажи бизнес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на учредите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нового юридического л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предприятия как имущественного комплек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через ликвида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5768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мена учредителе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 ООО и в ЗАО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а учредителей не требует заново получения всего пакета разрешительной документации, лицензий (если бизнес лицензируется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идическое лицо при новом собственнике сохраняет свою старую кредитную историю (могут «всплыть» неизвестные обязательств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здание нового юридического лиц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минимизации налог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ое юридическое лицо должно заново получать весь комплект разрешительной документации, включая лицензии (если они требуются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дажа предприятия как имущественного комплек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ет риски, связанные со скрытыми долговыми обязательствами и  необходимостью получать новый пакет докумен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ки купли-продажи бизнеса по такому варианту происходят крайне редк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дажа через ликвидаци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дружественное банкротство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ет риски, связанные со скрытыми долговыми обязательствами и  необходимостью получать новый пакет докумен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орги может прийти другой претендент и перебить цен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ренда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57680" cy="52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говору аренды предприятия арендодатель обязуется предоставить арендатору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лату во временное владение и пользова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ые участки, здания, сооружения, оборудование и другие, входящие в состав предприятия основ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ать в порядке, на условиях и в пределах, определяемых договором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асы сырья, топлива, материалов и иные оборот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пользования землей, водой и другими природными ресурсами, зданиями, сооружениями и оборудовани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ные имущественные права арендодателя, связанные с предприятие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на обознач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ндивидуализирующие деятельность предприятия,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угие исключительные пра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упить ем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треб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ве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не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лг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тносящиеся к предприят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дели предпринимательского пове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Инвести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Инвентор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Организа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Посредническ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Аквизи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оммерческ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Консалтингов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 Коньюктурно-игров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Франчайзинг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186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шение (договор) крупных фирм с малыми фирмами или с отдельными предпринимателями, производственными или функционально-операционными компания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м способ ведения предпринимательского бизнеса, при котором фирма-франчайзор предоставляет своему партнеру (франчайзи) право осуществлять определенный вид деятельности с использованием своей технологии, лицензии, ноу-хау, фирменной торговой мар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1829160"/>
            <a:ext cx="76323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42920" y="3286080"/>
            <a:ext cx="4785840" cy="3261960"/>
          </a:xfrm>
          <a:prstGeom prst="rect">
            <a:avLst/>
          </a:prstGeom>
          <a:ln w="9525">
            <a:noFill/>
          </a:ln>
        </p:spPr>
      </p:pic>
      <p:sp>
        <p:nvSpPr>
          <p:cNvPr id="284" name="AutoShape 5"/>
          <p:cNvSpPr/>
          <p:nvPr/>
        </p:nvSpPr>
        <p:spPr>
          <a:xfrm rot="2038800">
            <a:off x="611280" y="5157360"/>
            <a:ext cx="1150560" cy="286920"/>
          </a:xfrm>
          <a:prstGeom prst="rightArrow">
            <a:avLst>
              <a:gd name="adj1" fmla="val 50000"/>
              <a:gd name="adj2" fmla="val 100138"/>
            </a:avLst>
          </a:prstGeom>
          <a:solidFill>
            <a:srgbClr val="ff9900"/>
          </a:solidFill>
          <a:ln w="9525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6"/>
          <p:cNvSpPr/>
          <p:nvPr/>
        </p:nvSpPr>
        <p:spPr>
          <a:xfrm rot="19299600">
            <a:off x="3563640" y="5157720"/>
            <a:ext cx="934560" cy="286920"/>
          </a:xfrm>
          <a:prstGeom prst="rightArrow">
            <a:avLst>
              <a:gd name="adj1" fmla="val 50000"/>
              <a:gd name="adj2" fmla="val 81354"/>
            </a:avLst>
          </a:prstGeom>
          <a:solidFill>
            <a:srgbClr val="ff99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692000" y="6453000"/>
            <a:ext cx="201636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195640" y="6515280"/>
            <a:ext cx="1655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Франшиза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 flipH="1">
            <a:off x="2339640" y="38606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627280" y="3500280"/>
            <a:ext cx="1872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ПАУШАЛЬНЫЙ  вз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1853600">
            <a:off x="3635280" y="4149720"/>
            <a:ext cx="782280" cy="286920"/>
          </a:xfrm>
          <a:prstGeom prst="rightArrow">
            <a:avLst>
              <a:gd name="adj1" fmla="val 50000"/>
              <a:gd name="adj2" fmla="val 68094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 rot="9333000">
            <a:off x="611640" y="4221360"/>
            <a:ext cx="926640" cy="286920"/>
          </a:xfrm>
          <a:prstGeom prst="rightArrow">
            <a:avLst>
              <a:gd name="adj1" fmla="val 50000"/>
              <a:gd name="adj2" fmla="val 80663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24000" y="620640"/>
            <a:ext cx="4140000" cy="44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5148360" y="5445000"/>
            <a:ext cx="3816000" cy="85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о право Франчайзи выплачивает </a:t>
            </a: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ПАУШАЛЬНЫЙ ВЗ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404640"/>
            <a:ext cx="9143640" cy="237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РОЯЛ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плата затрат Франчайзера связанных с продаж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шиз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диновременное вознаграждени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Франчайзера в виде твердо зафиксированной в договоре (соглашении) суммы, эквивалентной оценкам возможного экономического эффекта и ожидаемых прибы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H="1">
            <a:off x="1331640" y="38606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258920" y="3500280"/>
            <a:ext cx="1225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РОЯЛ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1897200"/>
            <a:ext cx="76323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 rot="2038800">
            <a:off x="611280" y="5225760"/>
            <a:ext cx="1150560" cy="286920"/>
          </a:xfrm>
          <a:prstGeom prst="rightArrow">
            <a:avLst>
              <a:gd name="adj1" fmla="val 50000"/>
              <a:gd name="adj2" fmla="val 100138"/>
            </a:avLst>
          </a:prstGeom>
          <a:solidFill>
            <a:srgbClr val="ff9900"/>
          </a:solidFill>
          <a:ln w="9525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6"/>
          <p:cNvSpPr/>
          <p:nvPr/>
        </p:nvSpPr>
        <p:spPr>
          <a:xfrm rot="19299600">
            <a:off x="3563640" y="5226120"/>
            <a:ext cx="934560" cy="286920"/>
          </a:xfrm>
          <a:prstGeom prst="rightArrow">
            <a:avLst>
              <a:gd name="adj1" fmla="val 50000"/>
              <a:gd name="adj2" fmla="val 81354"/>
            </a:avLst>
          </a:prstGeom>
          <a:solidFill>
            <a:srgbClr val="ff99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1692000" y="6521400"/>
            <a:ext cx="201636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195640" y="6583320"/>
            <a:ext cx="1655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Франшиза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2339640" y="39290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627280" y="3568680"/>
            <a:ext cx="1872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ПАУШАЛЬНЫЙ  вз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rot="11853600">
            <a:off x="3635280" y="4218120"/>
            <a:ext cx="782280" cy="286920"/>
          </a:xfrm>
          <a:prstGeom prst="rightArrow">
            <a:avLst>
              <a:gd name="adj1" fmla="val 50000"/>
              <a:gd name="adj2" fmla="val 68094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12"/>
          <p:cNvSpPr/>
          <p:nvPr/>
        </p:nvSpPr>
        <p:spPr>
          <a:xfrm rot="9333000">
            <a:off x="611640" y="4289400"/>
            <a:ext cx="926640" cy="286920"/>
          </a:xfrm>
          <a:prstGeom prst="rightArrow">
            <a:avLst>
              <a:gd name="adj1" fmla="val 50000"/>
              <a:gd name="adj2" fmla="val 80663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24000" y="689040"/>
            <a:ext cx="4140000" cy="44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5148360" y="5513400"/>
            <a:ext cx="3816000" cy="90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о право 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лачивает </a:t>
            </a: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ПАУШАЛЬНЫЙ ВЗ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1331640" y="39290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1258920" y="3568680"/>
            <a:ext cx="1225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РОЯЛ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3"/>
          <p:cNvGrpSpPr/>
          <p:nvPr/>
        </p:nvGrpSpPr>
        <p:grpSpPr>
          <a:xfrm>
            <a:off x="3276360" y="4149720"/>
            <a:ext cx="2735280" cy="363960"/>
            <a:chOff x="3276360" y="4149720"/>
            <a:chExt cx="2735280" cy="363960"/>
          </a:xfrm>
        </p:grpSpPr>
        <p:sp>
          <p:nvSpPr>
            <p:cNvPr id="311" name="Line 14"/>
            <p:cNvSpPr/>
            <p:nvPr/>
          </p:nvSpPr>
          <p:spPr>
            <a:xfrm>
              <a:off x="3276360" y="4508280"/>
              <a:ext cx="27352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15"/>
            <p:cNvSpPr/>
            <p:nvPr/>
          </p:nvSpPr>
          <p:spPr>
            <a:xfrm>
              <a:off x="3419640" y="4149720"/>
              <a:ext cx="2520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РАНШИЗА (прав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6"/>
          <p:cNvGrpSpPr/>
          <p:nvPr/>
        </p:nvGrpSpPr>
        <p:grpSpPr>
          <a:xfrm>
            <a:off x="3276360" y="4635360"/>
            <a:ext cx="2744640" cy="333000"/>
            <a:chOff x="3276360" y="4635360"/>
            <a:chExt cx="2744640" cy="333000"/>
          </a:xfrm>
        </p:grpSpPr>
        <p:sp>
          <p:nvSpPr>
            <p:cNvPr id="314" name="Line 17"/>
            <p:cNvSpPr/>
            <p:nvPr/>
          </p:nvSpPr>
          <p:spPr>
            <a:xfrm flipH="1">
              <a:off x="3276360" y="494172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3429000" y="4635360"/>
              <a:ext cx="259200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АУШАЛЬНЫЙ ВЗН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9"/>
          <p:cNvGrpSpPr/>
          <p:nvPr/>
        </p:nvGrpSpPr>
        <p:grpSpPr>
          <a:xfrm>
            <a:off x="3124080" y="5102280"/>
            <a:ext cx="3168360" cy="343080"/>
            <a:chOff x="3124080" y="5102280"/>
            <a:chExt cx="3168360" cy="343080"/>
          </a:xfrm>
        </p:grpSpPr>
        <p:sp>
          <p:nvSpPr>
            <p:cNvPr id="317" name="Line 20"/>
            <p:cNvSpPr/>
            <p:nvPr/>
          </p:nvSpPr>
          <p:spPr>
            <a:xfrm>
              <a:off x="3276360" y="544500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 Box 21"/>
            <p:cNvSpPr/>
            <p:nvPr/>
          </p:nvSpPr>
          <p:spPr>
            <a:xfrm>
              <a:off x="3124080" y="5102280"/>
              <a:ext cx="3168360" cy="317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ОММЕРЧЕСКАЯ КОНЦЕСС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2"/>
          <p:cNvGrpSpPr/>
          <p:nvPr/>
        </p:nvGrpSpPr>
        <p:grpSpPr>
          <a:xfrm>
            <a:off x="3233520" y="5589720"/>
            <a:ext cx="2664000" cy="348840"/>
            <a:chOff x="3233520" y="5589720"/>
            <a:chExt cx="2664000" cy="348840"/>
          </a:xfrm>
        </p:grpSpPr>
        <p:sp>
          <p:nvSpPr>
            <p:cNvPr id="320" name="Line 23"/>
            <p:cNvSpPr/>
            <p:nvPr/>
          </p:nvSpPr>
          <p:spPr>
            <a:xfrm flipH="1">
              <a:off x="3233520" y="589572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Text Box 24"/>
            <p:cNvSpPr/>
            <p:nvPr/>
          </p:nvSpPr>
          <p:spPr>
            <a:xfrm>
              <a:off x="3995640" y="5589720"/>
              <a:ext cx="1152000" cy="348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850"/>
                </a:spcBef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РОЯЛ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26"/>
          <p:cNvSpPr/>
          <p:nvPr/>
        </p:nvSpPr>
        <p:spPr>
          <a:xfrm>
            <a:off x="332640" y="6165720"/>
            <a:ext cx="1721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7245000" y="6237360"/>
            <a:ext cx="158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0"/>
          <p:cNvSpPr/>
          <p:nvPr/>
        </p:nvSpPr>
        <p:spPr>
          <a:xfrm>
            <a:off x="0" y="209520"/>
            <a:ext cx="9143640" cy="329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ЯЛ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 допускает различные формы 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вознагражд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фиксированные разовые или периодические плат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отчисления от выр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наценка на оптовую цену товаров, передаваемых франчайзерам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ерепрод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5076720" y="5445000"/>
            <a:ext cx="215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вознагр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2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871280" cy="1942920"/>
          </a:xfrm>
          <a:prstGeom prst="rect">
            <a:avLst/>
          </a:prstGeom>
          <a:ln w="9525">
            <a:noFill/>
          </a:ln>
        </p:spPr>
      </p:pic>
      <p:pic>
        <p:nvPicPr>
          <p:cNvPr id="327" name="Picture 33" descr=""/>
          <p:cNvPicPr/>
          <p:nvPr/>
        </p:nvPicPr>
        <p:blipFill>
          <a:blip r:embed="rId2"/>
          <a:stretch/>
        </p:blipFill>
        <p:spPr>
          <a:xfrm>
            <a:off x="7281720" y="4005360"/>
            <a:ext cx="1719000" cy="2018880"/>
          </a:xfrm>
          <a:prstGeom prst="rect">
            <a:avLst/>
          </a:prstGeom>
          <a:ln w="9525">
            <a:noFill/>
          </a:ln>
        </p:spPr>
      </p:pic>
      <p:pic>
        <p:nvPicPr>
          <p:cNvPr id="328" name="Picture 37" descr=""/>
          <p:cNvPicPr/>
          <p:nvPr/>
        </p:nvPicPr>
        <p:blipFill>
          <a:blip r:embed="rId3"/>
          <a:stretch/>
        </p:blipFill>
        <p:spPr>
          <a:xfrm>
            <a:off x="3995640" y="5934240"/>
            <a:ext cx="1463400" cy="92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9900"/>
                </a:solidFill>
                <a:latin typeface="Calibri"/>
              </a:rPr>
              <a:t>франчайзи может получить поддержку по следующим направлениям: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400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атегия маркетинга с акцентом на реклам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оначальное обучение работников и подготовка в области управления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зайн объекта и закупка оборудова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унифицированная политика и процедуры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централизованные закупки по пониженным ценам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постоянное консультирование по вопросам управле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выбор места и рекомендации по размещению предприят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предоставление аренды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финансировани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ЯЗАТЕЛЬСТВА ФРАНЧАЙЗЕ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о поставке оборудования, сырья и материа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оказывает помощь в организации и управлении бизнес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1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 отдельных случаях оказывает франчайзи финансовую помощь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яма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- кредиты  </a:t>
            </a:r>
            <a:br>
              <a:rPr sz="3200"/>
            </a:b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свенна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поручительства и гарантии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ПОЛУЧАЕТ ФРАНЧАЙЗ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29120" cy="43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пользование проверенной бизнес - сист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открыть собственное дел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выбора отрас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снизить рис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дачный выход на рынок обеспече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инимальные затраты на рекламу и маркетин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лучение доступа к базе знаний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арантированная система постав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1"/>
          <a:stretch/>
        </p:blipFill>
        <p:spPr>
          <a:xfrm>
            <a:off x="6156360" y="1714320"/>
            <a:ext cx="2752200" cy="2785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   ФРАНЧАЙЗИНГА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186400" cy="46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франчайзи  самостоятелен юридически в деловом оборо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в отношениях  с потребителями должен действовать от имени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франчайзер  расширяет границы своей деятельности без дополнительных затра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франчайзи   фактически   осуществляет    рекламу  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  франчайзи   сразу выходит на рынок  в  облике данной фир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776720" cy="6308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6571800" cy="603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ы франчайзинг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ая законодательная баз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ая (на деле) поддержка со стороны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под чужим бренд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я между франчайзи и франчайзер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тивация и целеполагание при создании свое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от латинско­го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er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водить в движение, двигать, толкать) применяется для определения того, что вызывает действ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тивация — весь комплекс факторов, направляющих и побуждающих поведение человека» (Л. Якобсон, 1966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 – это внутреннее побуждение к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дель мотив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927400" y="2178000"/>
            <a:ext cx="57168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Группа 4"/>
          <p:cNvGrpSpPr/>
          <p:nvPr/>
        </p:nvGrpSpPr>
        <p:grpSpPr>
          <a:xfrm>
            <a:off x="131760" y="1035000"/>
            <a:ext cx="2582640" cy="2179440"/>
            <a:chOff x="131760" y="1035000"/>
            <a:chExt cx="2582640" cy="2179440"/>
          </a:xfrm>
        </p:grpSpPr>
        <p:sp>
          <p:nvSpPr>
            <p:cNvPr id="197" name="Овал 5"/>
            <p:cNvSpPr/>
            <p:nvPr/>
          </p:nvSpPr>
          <p:spPr>
            <a:xfrm>
              <a:off x="131760" y="1035000"/>
              <a:ext cx="2582640" cy="21794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159840" y="1527120"/>
              <a:ext cx="248796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требнос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 деньгах, в признании, в достижениях, в реа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5"/>
          <p:cNvGrpSpPr/>
          <p:nvPr/>
        </p:nvGrpSpPr>
        <p:grpSpPr>
          <a:xfrm>
            <a:off x="3417840" y="1035000"/>
            <a:ext cx="2522160" cy="2214360"/>
            <a:chOff x="3417840" y="1035000"/>
            <a:chExt cx="2522160" cy="2214360"/>
          </a:xfrm>
        </p:grpSpPr>
        <p:sp>
          <p:nvSpPr>
            <p:cNvPr id="200" name="Овал 8"/>
            <p:cNvSpPr/>
            <p:nvPr/>
          </p:nvSpPr>
          <p:spPr>
            <a:xfrm>
              <a:off x="3417840" y="1035000"/>
              <a:ext cx="2522160" cy="221436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445560" y="1535040"/>
              <a:ext cx="242964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ейств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аправленные на удовлетворения потребнос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6"/>
          <p:cNvGrpSpPr/>
          <p:nvPr/>
        </p:nvGrpSpPr>
        <p:grpSpPr>
          <a:xfrm>
            <a:off x="6489720" y="1035000"/>
            <a:ext cx="2522160" cy="2214360"/>
            <a:chOff x="6489720" y="1035000"/>
            <a:chExt cx="2522160" cy="2214360"/>
          </a:xfrm>
        </p:grpSpPr>
        <p:sp>
          <p:nvSpPr>
            <p:cNvPr id="203" name="Овал 11"/>
            <p:cNvSpPr/>
            <p:nvPr/>
          </p:nvSpPr>
          <p:spPr>
            <a:xfrm>
              <a:off x="6489720" y="1035000"/>
              <a:ext cx="2522160" cy="221436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517440" y="1535040"/>
              <a:ext cx="242964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ознаграждени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нешнее и внутреннее. Удовлетворение потре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"/>
          <p:cNvGrpSpPr/>
          <p:nvPr/>
        </p:nvGrpSpPr>
        <p:grpSpPr>
          <a:xfrm>
            <a:off x="2428920" y="4429080"/>
            <a:ext cx="4357440" cy="1999800"/>
            <a:chOff x="2428920" y="4429080"/>
            <a:chExt cx="4357440" cy="1999800"/>
          </a:xfrm>
        </p:grpSpPr>
        <p:sp>
          <p:nvSpPr>
            <p:cNvPr id="206" name="Овал 14"/>
            <p:cNvSpPr/>
            <p:nvPr/>
          </p:nvSpPr>
          <p:spPr>
            <a:xfrm>
              <a:off x="2428920" y="4429080"/>
              <a:ext cx="4357440" cy="199980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2643120" y="4714920"/>
              <a:ext cx="391176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ратная связ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олученное вознаграждение закрепляет поведение как правильное и способствует его повторению в будущ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1"/>
          <p:cNvSpPr/>
          <p:nvPr/>
        </p:nvSpPr>
        <p:spPr>
          <a:xfrm>
            <a:off x="2703240" y="2106360"/>
            <a:ext cx="7146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6286320" y="3786120"/>
            <a:ext cx="785880" cy="5713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2286000" y="3857400"/>
            <a:ext cx="857160" cy="4287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714240"/>
            <a:ext cx="578592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ая цель предпринимательской деятельности —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учение прибы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 достижения успех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пех  - это удача в  достижении какой-либо цели, общественное признание, хорошие результаты в рабо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http://lifehacker.ru/wp-content/uploads/2012/12/1338897322_131599275573_full-389x500.jpg"/>
          <p:cNvPicPr/>
          <p:nvPr/>
        </p:nvPicPr>
        <p:blipFill>
          <a:blip r:embed="rId1"/>
          <a:stretch/>
        </p:blipFill>
        <p:spPr>
          <a:xfrm>
            <a:off x="6253200" y="1714680"/>
            <a:ext cx="2890440" cy="37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Условия, влияющие на предпринимательский успе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ое везение (оказался случайно в нужное время в нужном месте и при этом сумел не упустить шанс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ый поиск «того самого выигрышного варианта» с использованием метода проб и ошибок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етентный расчет различных комбинаций и выбор оптимального варианта на основе теоретических изыска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ение и использование в благоприятное время конфиденциальной информации или ресурса другого ви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собственных уникальных способностей,  опыта, компетентности в качестве товара, дающего доход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Целеполагание в предпринимательств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719360"/>
            <a:ext cx="5643360" cy="46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кусство постановки це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это искусство управления события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дает возможность контроля за ходом и результатом раб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желаемые будущие ситуации, которые достигаются с помощью соответствующих действ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http://mediasubs.ru/group/uploads/se/sekretyi-uspeshnogo-biznesa/image2/YzQtZWM3M.jpg"/>
          <p:cNvPicPr/>
          <p:nvPr/>
        </p:nvPicPr>
        <p:blipFill>
          <a:blip r:embed="rId1"/>
          <a:stretch/>
        </p:blipFill>
        <p:spPr>
          <a:xfrm>
            <a:off x="6357960" y="1928880"/>
            <a:ext cx="2430000" cy="29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Текст 4"/>
          <p:cNvSpPr/>
          <p:nvPr/>
        </p:nvSpPr>
        <p:spPr>
          <a:xfrm>
            <a:off x="428760" y="571680"/>
            <a:ext cx="3928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Личные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399708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ространяются на все сферы жизни (семья, здоровье, доход, свободное время, религия и т.д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Текст 6"/>
          <p:cNvSpPr/>
          <p:nvPr/>
        </p:nvSpPr>
        <p:spPr>
          <a:xfrm>
            <a:off x="4572000" y="642960"/>
            <a:ext cx="411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Цели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3280" y="2071800"/>
            <a:ext cx="404316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саются всех сфер предприятия (маркетинг, производство, организация, финанс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  <Words>1527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05:43Z</dcterms:created>
  <dc:creator>Александр</dc:creator>
  <dc:description/>
  <dc:language>en-US</dc:language>
  <cp:lastModifiedBy>User</cp:lastModifiedBy>
  <dcterms:modified xsi:type="dcterms:W3CDTF">2017-02-11T04:43:58Z</dcterms:modified>
  <cp:revision>21</cp:revision>
  <dc:subject/>
  <dc:title>Алгоритм создания собственного де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9</vt:r8>
  </property>
</Properties>
</file>