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1FE5-8D68-475B-8916-363551D3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A78-54DB-454E-B45E-C24D4610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5F8-0A2A-4F03-898E-B0F48B77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3B2-652C-49A5-9F52-BABE2326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4B4B-83A3-4F08-877F-24A2565B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C32F-552A-4D4C-BC5D-D3A36AA5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BC07-CF31-42E1-A754-61E11425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3304-FC48-4E05-8C1E-7D611903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6200-E2D4-4212-8AFA-833643B4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AB1E-6E2A-4924-AEC9-8C445591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D7CD-7685-40DF-8079-9D20757D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D39-CBB0-40A8-95AB-965763C0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B662-28DF-4044-B702-FFCAC81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CCF1-FB7B-41BC-89DD-97E44BB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D32-67B9-4EE0-9D3E-BB9613B5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2E6B-0911-4F6A-9DA4-247DF5DE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0999-5594-4CA9-9816-2A9B15A4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5FC8-7C2C-4555-910F-B1444B39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66458-2B6F-4317-BB1F-3F2AAD08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ABF9-6FC1-420F-8621-F86CFC6D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1A97-3BB7-4826-8C27-1B9EDC16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5B02-5292-4A33-9F99-54E5C719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6CD-F7AD-41C6-8CB4-EAF5F7DE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A1B6-1A25-4F68-BC16-DB5398C7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BEC57-1404-4BAA-8360-1C179E59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2AC99-EEC7-477C-82D0-B4CF717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6828-1DCD-4284-9978-3BF8C97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EC62-5FCE-4E82-B4B9-C27030B4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8CD3-F2C0-4E93-B31E-925CF984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3458F-2771-4567-9410-DC83C979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011-50B3-467A-A1D0-5D67CE5D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2530-7602-454D-B066-77E4A88C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50C-FFA8-4001-ABC7-1DFF1BB1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4E55-D11B-4F4D-B104-34C95FF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99C-CC36-4C94-A1A5-676E8B7B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882-7994-4F1B-BFF3-047421A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A834E-5585-4D5E-BC5D-5E31F958046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AA73D3-9B8C-444B-A62A-19562713851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E5E994-B82B-47BE-817D-33E8C3E0759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Алгоритм создания собственно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Характеристика ц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правлен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к чему человек стремится (к прибыли, доходу, владению домом и т.д.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насколько интенсивно человек стремится к цели (зависит от мотивации достижения цели и позволяет понять, почему человек стремится к данной цел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остановка целей - методика SMART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конкретны)Что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surabl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измеримы) Сколь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evable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остижимы) Возможно ли это? Каким образ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evan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значимы) Зач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imebounde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определены во времен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Измеримость цел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измеряется (деньги, материалы, люди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ряется (управление капиталом, использование материалов, работа машин, работа людей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 способ измерения (фундаментальный, измерение соотношений, тенденций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функции измерения (целесообразная точность)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издержки измерения (время, труд, деньги)?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а методологическая база (литература и другие источники)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конечные критерии выбора показателей (издержки, потенциальная стоимость, время, доступность объема, статистическая надежность измерений и компетентность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изнес-иде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ение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оды нахожд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пы реал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дпринимательская идея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032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елание предпринимателя что-то сделать для потребителя (как покупателя готовой продукции, услуги), а, следовательно, и для себя (получение прибыли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http://susanin.udm.ru/upload/resize_cache/iblock/b40/469_1000_1/2dadbda5-1858-4fb5-8928-b9df194d4e5d.jpg"/>
          <p:cNvPicPr/>
          <p:nvPr/>
        </p:nvPicPr>
        <p:blipFill>
          <a:blip r:embed="rId1"/>
          <a:stretch/>
        </p:blipFill>
        <p:spPr>
          <a:xfrm>
            <a:off x="5072040" y="3643200"/>
            <a:ext cx="3758040" cy="24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этапы по определению 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22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ождение (источник) предпринимательской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пертная оценка предпринимательской идеи на реалистичност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ы затрат на реализацию предпринимательской иде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ятие решения по реализации предпринимательской идеи и подготовка к ее реализ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320" y="214200"/>
            <a:ext cx="8257680" cy="58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 предпринимательских идей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0040" y="1000080"/>
            <a:ext cx="8186400" cy="51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телефонных справочник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иблиотеках из справочников, книг и т.п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бизнес-консультант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публикации в газетах и журналах, в том числе иностранны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рекламных проспектов, в том числе полученных на выставках-ярмарк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проспектов различных предприят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друзей и родственнико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потенциальных покупателе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еминарах, тренинг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pda.fedpress.ru/sites/fedpress/files/evgesha/news/77d072e8e7.jpg"/>
          <p:cNvPicPr/>
          <p:nvPr/>
        </p:nvPicPr>
        <p:blipFill>
          <a:blip r:embed="rId1"/>
          <a:stretch/>
        </p:blipFill>
        <p:spPr>
          <a:xfrm>
            <a:off x="7215120" y="4572000"/>
            <a:ext cx="1428480" cy="19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ы нахождения 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зговой штурм» (самый распространенны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чтания (превращение мечты в реальность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тандартный подход (можно что-то сделать иначе, чем принято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итация (стимулирует рождение новых ид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ный анализ (позволяет взглянуть на идею с различных сторон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едпринимательской идеи и создание бизнес-модели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технологии производства продукции (товара, услуги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необходимых производственных мощностей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сырьевой и материальной баз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трудовых ресурсов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ка условий инвестирования деятельност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ирование системы управл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каналов сбыта продукц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тапы реализации бизнес-иде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57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-планирование (детальное изложение предпринимательской идеи с точными расчетами, а также информация об организационной форме предприятия и источниках формирования денежных средств, необходимых для начального этапа реализации идеи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ение заемных денежных средств и партнеров (участников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сударственная регистрация собственной фирмы (предприятия), если она создается впервы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-техническая подготовка фирмы к производству продукции (товар, услуга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240" indent="-3182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равление функционирующей фирмой и партнерскими связям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5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2286000" y="428760"/>
            <a:ext cx="4286160" cy="6142680"/>
            <a:chOff x="2286000" y="428760"/>
            <a:chExt cx="4286160" cy="6142680"/>
          </a:xfrm>
        </p:grpSpPr>
        <p:sp>
          <p:nvSpPr>
            <p:cNvPr id="129" name="AutoShape 64"/>
            <p:cNvSpPr/>
            <p:nvPr/>
          </p:nvSpPr>
          <p:spPr>
            <a:xfrm>
              <a:off x="2286000" y="571320"/>
              <a:ext cx="4252680" cy="58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AutoShape 63"/>
            <p:cNvSpPr/>
            <p:nvPr/>
          </p:nvSpPr>
          <p:spPr>
            <a:xfrm>
              <a:off x="4291560" y="4119840"/>
              <a:ext cx="162360" cy="963000"/>
            </a:xfrm>
            <a:prstGeom prst="downArrow">
              <a:avLst>
                <a:gd name="adj1" fmla="val 50000"/>
                <a:gd name="adj2" fmla="val 57305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62"/>
            <p:cNvSpPr/>
            <p:nvPr/>
          </p:nvSpPr>
          <p:spPr>
            <a:xfrm>
              <a:off x="4291560" y="2996280"/>
              <a:ext cx="160920" cy="802440"/>
            </a:xfrm>
            <a:prstGeom prst="downArrow">
              <a:avLst>
                <a:gd name="adj1" fmla="val 49722"/>
                <a:gd name="adj2" fmla="val 58697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AutoShape 61"/>
            <p:cNvSpPr/>
            <p:nvPr/>
          </p:nvSpPr>
          <p:spPr>
            <a:xfrm>
              <a:off x="4291560" y="1872720"/>
              <a:ext cx="161640" cy="804240"/>
            </a:xfrm>
            <a:prstGeom prst="downArrow">
              <a:avLst>
                <a:gd name="adj1" fmla="val 49861"/>
                <a:gd name="adj2" fmla="val 69260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60"/>
            <p:cNvSpPr/>
            <p:nvPr/>
          </p:nvSpPr>
          <p:spPr>
            <a:xfrm>
              <a:off x="3248640" y="428760"/>
              <a:ext cx="2406600" cy="320400"/>
            </a:xfrm>
            <a:prstGeom prst="rect">
              <a:avLst/>
            </a:prstGeom>
            <a:noFill/>
            <a:ln w="254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отивация (цели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56"/>
            <p:cNvGrpSpPr/>
            <p:nvPr/>
          </p:nvGrpSpPr>
          <p:grpSpPr>
            <a:xfrm>
              <a:off x="2500200" y="999720"/>
              <a:ext cx="3643560" cy="428040"/>
              <a:chOff x="2500200" y="999720"/>
              <a:chExt cx="3643560" cy="428040"/>
            </a:xfrm>
          </p:grpSpPr>
          <p:sp>
            <p:nvSpPr>
              <p:cNvPr id="135" name="Text Box 59"/>
              <p:cNvSpPr/>
              <p:nvPr/>
            </p:nvSpPr>
            <p:spPr>
              <a:xfrm>
                <a:off x="2500200" y="999720"/>
                <a:ext cx="1469880" cy="4280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Мотивация предпринимател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58"/>
              <p:cNvSpPr/>
              <p:nvPr/>
            </p:nvSpPr>
            <p:spPr>
              <a:xfrm>
                <a:off x="4786560" y="999720"/>
                <a:ext cx="1357200" cy="42804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Цели предприят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7"/>
              <p:cNvSpPr/>
              <p:nvPr/>
            </p:nvSpPr>
            <p:spPr>
              <a:xfrm>
                <a:off x="3970080" y="1231200"/>
                <a:ext cx="80244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Group 52"/>
            <p:cNvGrpSpPr/>
            <p:nvPr/>
          </p:nvGrpSpPr>
          <p:grpSpPr>
            <a:xfrm>
              <a:off x="3489480" y="909720"/>
              <a:ext cx="1926720" cy="160920"/>
              <a:chOff x="3489480" y="909720"/>
              <a:chExt cx="1926720" cy="160920"/>
            </a:xfrm>
          </p:grpSpPr>
          <p:sp>
            <p:nvSpPr>
              <p:cNvPr id="139" name="Line 55"/>
              <p:cNvSpPr/>
              <p:nvPr/>
            </p:nvSpPr>
            <p:spPr>
              <a:xfrm>
                <a:off x="3489480" y="909720"/>
                <a:ext cx="192636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54"/>
              <p:cNvSpPr/>
              <p:nvPr/>
            </p:nvSpPr>
            <p:spPr>
              <a:xfrm>
                <a:off x="3489480" y="909720"/>
                <a:ext cx="360" cy="160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5415840" y="909720"/>
                <a:ext cx="360" cy="160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2" name="Text Box 51"/>
            <p:cNvSpPr/>
            <p:nvPr/>
          </p:nvSpPr>
          <p:spPr>
            <a:xfrm>
              <a:off x="2642760" y="1571760"/>
              <a:ext cx="3857040" cy="35676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собственных ресурс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5"/>
            <p:cNvGrpSpPr/>
            <p:nvPr/>
          </p:nvGrpSpPr>
          <p:grpSpPr>
            <a:xfrm>
              <a:off x="2428560" y="2113560"/>
              <a:ext cx="4143600" cy="529920"/>
              <a:chOff x="2428560" y="2113560"/>
              <a:chExt cx="4143600" cy="529920"/>
            </a:xfrm>
          </p:grpSpPr>
          <p:sp>
            <p:nvSpPr>
              <p:cNvPr id="144" name="Text Box 50"/>
              <p:cNvSpPr/>
              <p:nvPr/>
            </p:nvSpPr>
            <p:spPr>
              <a:xfrm>
                <a:off x="2428560" y="2113920"/>
                <a:ext cx="979920" cy="5295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Личностные качеств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49"/>
              <p:cNvSpPr/>
              <p:nvPr/>
            </p:nvSpPr>
            <p:spPr>
              <a:xfrm>
                <a:off x="3714840" y="2113560"/>
                <a:ext cx="1428480" cy="45792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едпринимательское 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8"/>
              <p:cNvSpPr/>
              <p:nvPr/>
            </p:nvSpPr>
            <p:spPr>
              <a:xfrm>
                <a:off x="3408840" y="2274840"/>
                <a:ext cx="402480" cy="108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47"/>
              <p:cNvSpPr/>
              <p:nvPr/>
            </p:nvSpPr>
            <p:spPr>
              <a:xfrm>
                <a:off x="5415480" y="2113560"/>
                <a:ext cx="1156680" cy="45792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Деловые навык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5014080" y="2274840"/>
                <a:ext cx="401760" cy="25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9" name="Group 40"/>
            <p:cNvGrpSpPr/>
            <p:nvPr/>
          </p:nvGrpSpPr>
          <p:grpSpPr>
            <a:xfrm>
              <a:off x="3088440" y="2033280"/>
              <a:ext cx="2567880" cy="79920"/>
              <a:chOff x="3088440" y="2033280"/>
              <a:chExt cx="2567880" cy="79920"/>
            </a:xfrm>
          </p:grpSpPr>
          <p:sp>
            <p:nvSpPr>
              <p:cNvPr id="150" name="Line 44"/>
              <p:cNvSpPr/>
              <p:nvPr/>
            </p:nvSpPr>
            <p:spPr>
              <a:xfrm>
                <a:off x="3088440" y="2033280"/>
                <a:ext cx="2565000" cy="7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43"/>
              <p:cNvSpPr/>
              <p:nvPr/>
            </p:nvSpPr>
            <p:spPr>
              <a:xfrm>
                <a:off x="3088440" y="2033280"/>
                <a:ext cx="36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42"/>
              <p:cNvSpPr/>
              <p:nvPr/>
            </p:nvSpPr>
            <p:spPr>
              <a:xfrm>
                <a:off x="4452480" y="2033280"/>
                <a:ext cx="36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41"/>
              <p:cNvSpPr/>
              <p:nvPr/>
            </p:nvSpPr>
            <p:spPr>
              <a:xfrm>
                <a:off x="5655600" y="2033280"/>
                <a:ext cx="720" cy="7992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4" name="Text Box 39"/>
            <p:cNvSpPr/>
            <p:nvPr/>
          </p:nvSpPr>
          <p:spPr>
            <a:xfrm>
              <a:off x="3569760" y="2675520"/>
              <a:ext cx="1765080" cy="31932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знес-ид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34"/>
            <p:cNvGrpSpPr/>
            <p:nvPr/>
          </p:nvGrpSpPr>
          <p:grpSpPr>
            <a:xfrm>
              <a:off x="3088440" y="3156840"/>
              <a:ext cx="2567160" cy="79200"/>
              <a:chOff x="3088440" y="3156840"/>
              <a:chExt cx="2567160" cy="79200"/>
            </a:xfrm>
          </p:grpSpPr>
          <p:sp>
            <p:nvSpPr>
              <p:cNvPr id="156" name="Line 38"/>
              <p:cNvSpPr/>
              <p:nvPr/>
            </p:nvSpPr>
            <p:spPr>
              <a:xfrm>
                <a:off x="3088440" y="3156840"/>
                <a:ext cx="256428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7"/>
              <p:cNvSpPr/>
              <p:nvPr/>
            </p:nvSpPr>
            <p:spPr>
              <a:xfrm>
                <a:off x="3088440" y="3156840"/>
                <a:ext cx="36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6"/>
              <p:cNvSpPr/>
              <p:nvPr/>
            </p:nvSpPr>
            <p:spPr>
              <a:xfrm>
                <a:off x="4452120" y="3156840"/>
                <a:ext cx="36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5"/>
              <p:cNvSpPr/>
              <p:nvPr/>
            </p:nvSpPr>
            <p:spPr>
              <a:xfrm>
                <a:off x="5654880" y="3156840"/>
                <a:ext cx="720" cy="7920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Text Box 33"/>
            <p:cNvSpPr/>
            <p:nvPr/>
          </p:nvSpPr>
          <p:spPr>
            <a:xfrm>
              <a:off x="2786040" y="3236760"/>
              <a:ext cx="783360" cy="4060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бор иде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2"/>
            <p:cNvSpPr/>
            <p:nvPr/>
          </p:nvSpPr>
          <p:spPr>
            <a:xfrm>
              <a:off x="4000680" y="3236760"/>
              <a:ext cx="852840" cy="40608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иде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1"/>
            <p:cNvSpPr/>
            <p:nvPr/>
          </p:nvSpPr>
          <p:spPr>
            <a:xfrm>
              <a:off x="3569760" y="3397320"/>
              <a:ext cx="401760" cy="10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Text Box 30"/>
            <p:cNvSpPr/>
            <p:nvPr/>
          </p:nvSpPr>
          <p:spPr>
            <a:xfrm>
              <a:off x="5286240" y="3236760"/>
              <a:ext cx="1285200" cy="54900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ценка рыночных возмож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9"/>
            <p:cNvSpPr/>
            <p:nvPr/>
          </p:nvSpPr>
          <p:spPr>
            <a:xfrm>
              <a:off x="4853520" y="3397320"/>
              <a:ext cx="401400" cy="108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AutoShape 28"/>
            <p:cNvSpPr/>
            <p:nvPr/>
          </p:nvSpPr>
          <p:spPr>
            <a:xfrm flipH="1" flipV="1">
              <a:off x="5572080" y="2857320"/>
              <a:ext cx="953280" cy="562320"/>
            </a:xfrm>
            <a:prstGeom prst="bentConnector3">
              <a:avLst>
                <a:gd name="adj1" fmla="val -16782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7"/>
            <p:cNvSpPr/>
            <p:nvPr/>
          </p:nvSpPr>
          <p:spPr>
            <a:xfrm>
              <a:off x="3571560" y="3799080"/>
              <a:ext cx="1762560" cy="55836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изнес-прое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бизнес-план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2286000" y="5643720"/>
              <a:ext cx="1042560" cy="5709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ыбор ОПФ,  система н/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гист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5"/>
            <p:cNvSpPr/>
            <p:nvPr/>
          </p:nvSpPr>
          <p:spPr>
            <a:xfrm>
              <a:off x="3429000" y="5644440"/>
              <a:ext cx="942120" cy="71316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нансовые сред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4"/>
            <p:cNvSpPr/>
            <p:nvPr/>
          </p:nvSpPr>
          <p:spPr>
            <a:xfrm>
              <a:off x="4500360" y="5643720"/>
              <a:ext cx="994680" cy="7135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дбор персонала и мотивац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3"/>
            <p:cNvSpPr/>
            <p:nvPr/>
          </p:nvSpPr>
          <p:spPr>
            <a:xfrm>
              <a:off x="5715000" y="5643720"/>
              <a:ext cx="743040" cy="92772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ганизация учета и взаимодейств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22"/>
            <p:cNvSpPr/>
            <p:nvPr/>
          </p:nvSpPr>
          <p:spPr>
            <a:xfrm flipV="1" rot="5400000">
              <a:off x="4431960" y="4019040"/>
              <a:ext cx="360" cy="3249000"/>
            </a:xfrm>
            <a:prstGeom prst="bentConnector3">
              <a:avLst>
                <a:gd name="adj1" fmla="val -36000000"/>
              </a:avLst>
            </a:prstGeom>
            <a:noFill/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Line 21"/>
            <p:cNvSpPr/>
            <p:nvPr/>
          </p:nvSpPr>
          <p:spPr>
            <a:xfrm flipH="1">
              <a:off x="3890880" y="5483520"/>
              <a:ext cx="360" cy="16020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 flipH="1">
              <a:off x="4933800" y="5483520"/>
              <a:ext cx="720" cy="1609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3286440" y="5214960"/>
              <a:ext cx="2428920" cy="285120"/>
            </a:xfrm>
            <a:prstGeom prst="rect">
              <a:avLst/>
            </a:prstGeom>
            <a:solidFill>
              <a:srgbClr val="ffffff"/>
            </a:solidFill>
            <a:ln w="25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рганизация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8"/>
            <p:cNvGrpSpPr/>
            <p:nvPr/>
          </p:nvGrpSpPr>
          <p:grpSpPr>
            <a:xfrm>
              <a:off x="2357640" y="4387320"/>
              <a:ext cx="4180320" cy="684360"/>
              <a:chOff x="2357640" y="4387320"/>
              <a:chExt cx="4180320" cy="684360"/>
            </a:xfrm>
          </p:grpSpPr>
          <p:sp>
            <p:nvSpPr>
              <p:cNvPr id="176" name="Text Box 18"/>
              <p:cNvSpPr/>
              <p:nvPr/>
            </p:nvSpPr>
            <p:spPr>
              <a:xfrm>
                <a:off x="2357640" y="4547520"/>
                <a:ext cx="970920" cy="5241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Производственный план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500640" y="4547520"/>
                <a:ext cx="951120" cy="45288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Организационный план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16"/>
              <p:cNvSpPr/>
              <p:nvPr/>
            </p:nvSpPr>
            <p:spPr>
              <a:xfrm>
                <a:off x="4614120" y="4601160"/>
                <a:ext cx="802080" cy="3225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Риск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15"/>
              <p:cNvSpPr/>
              <p:nvPr/>
            </p:nvSpPr>
            <p:spPr>
              <a:xfrm>
                <a:off x="5572080" y="4547520"/>
                <a:ext cx="965880" cy="524160"/>
              </a:xfrm>
              <a:prstGeom prst="rect">
                <a:avLst/>
              </a:prstGeom>
              <a:solidFill>
                <a:srgbClr val="ffffff"/>
              </a:solidFill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Финансовые показател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"/>
              <p:cNvSpPr/>
              <p:nvPr/>
            </p:nvSpPr>
            <p:spPr>
              <a:xfrm>
                <a:off x="3328560" y="4708080"/>
                <a:ext cx="15948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Line 13"/>
              <p:cNvSpPr/>
              <p:nvPr/>
            </p:nvSpPr>
            <p:spPr>
              <a:xfrm>
                <a:off x="4452480" y="4708080"/>
                <a:ext cx="16020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Line 12"/>
              <p:cNvSpPr/>
              <p:nvPr/>
            </p:nvSpPr>
            <p:spPr>
              <a:xfrm>
                <a:off x="5415120" y="4708080"/>
                <a:ext cx="15912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AutoShape 11"/>
              <p:cNvSpPr/>
              <p:nvPr/>
            </p:nvSpPr>
            <p:spPr>
              <a:xfrm flipV="1" rot="5400000">
                <a:off x="4451760" y="2942640"/>
                <a:ext cx="360" cy="3209040"/>
              </a:xfrm>
              <a:prstGeom prst="bentConnector3">
                <a:avLst>
                  <a:gd name="adj1" fmla="val -36000000"/>
                </a:avLst>
              </a:prstGeom>
              <a:noFill/>
              <a:ln w="9525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 flipH="1">
                <a:off x="3970800" y="4387320"/>
                <a:ext cx="720" cy="15984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H="1">
                <a:off x="5014080" y="4387320"/>
                <a:ext cx="360" cy="1605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 anchorCtr="1">
                <a:noAutofit/>
              </a:bodyPr>
              <a:p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AutoShape 7"/>
            <p:cNvSpPr/>
            <p:nvPr/>
          </p:nvSpPr>
          <p:spPr>
            <a:xfrm>
              <a:off x="4291560" y="749520"/>
              <a:ext cx="160560" cy="802800"/>
            </a:xfrm>
            <a:prstGeom prst="downArrow">
              <a:avLst>
                <a:gd name="adj1" fmla="val 42935"/>
                <a:gd name="adj2" fmla="val 65656"/>
              </a:avLst>
            </a:prstGeom>
            <a:solidFill>
              <a:srgbClr val="dddddd"/>
            </a:solidFill>
            <a:ln w="127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 flipH="1" flipV="1">
              <a:off x="5344200" y="2835720"/>
              <a:ext cx="1193760" cy="1873440"/>
            </a:xfrm>
            <a:prstGeom prst="bentConnector3">
              <a:avLst>
                <a:gd name="adj1" fmla="val -13440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 rot="5400000">
              <a:off x="3828600" y="2601000"/>
              <a:ext cx="987840" cy="2928960"/>
            </a:xfrm>
            <a:prstGeom prst="bentConnector3">
              <a:avLst>
                <a:gd name="adj1" fmla="val 10782"/>
              </a:avLst>
            </a:prstGeom>
            <a:noFill/>
            <a:ln w="9525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4"/>
            <p:cNvSpPr/>
            <p:nvPr/>
          </p:nvSpPr>
          <p:spPr>
            <a:xfrm>
              <a:off x="4372200" y="5403600"/>
              <a:ext cx="360" cy="7992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ыбор организационно правовой фор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виды предпринимательской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пути создания своего дела: приобретение (покупка) существующего бизнеса, аренда предприятия, франчайзин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организационно-правовой формы предприятия: особенности ООО или ИП как наиболее оптимальных ОФП при создании своего дел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 виды предпринимательской деятель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ственн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ерческ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алтингов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новационна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пути создания свое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200" cy="44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е основание юридического лица или регистрация в качестве индивидуального предпринимателя без образования юридического л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обретение (покупка) существующе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енда предприят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нчайзин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http://rnns.ru/uploads/posts/2010-02/thumbs/1265632959_85284e66b91e20f04758b041b9dfb7f3.jpg"/>
          <p:cNvPicPr/>
          <p:nvPr/>
        </p:nvPicPr>
        <p:blipFill>
          <a:blip r:embed="rId1"/>
          <a:stretch/>
        </p:blipFill>
        <p:spPr>
          <a:xfrm>
            <a:off x="5715000" y="4643280"/>
            <a:ext cx="2356920" cy="17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е создание субъекта предпринимательской деятельност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дители не отвечают по обязательствам юридического лица и несут риск убытков, связанных с предпринимательской деятельностью, в пределах стоимости принадлежащих им долей (акций). Минимальный допустимый размер уставного капитала ООО или ЗАО составляет 10 000 рубле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2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дивидуальный предприниматель без образования юридического лица (ИП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9760" indent="-329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чает по своим обязательствам всем принадлежащим ему имуществом не только приобретенным в ходе ведения предпринимательской деятельности, но и за счет иного имущества (движимого и недвижимого), полученного из других источник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иобретение (покупка) существующего бизне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72240" cy="47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Цена вопрос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тоимость приобретаемого бизне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arenR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тоимость инвестиционной программ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необходимые затраты на развитие дел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Формы покупки-продажи бизнес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мена учредите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нового юридического л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предприятия как имущественного комплекс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-472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ажа через ликвидац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2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57680" cy="72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мена учредителе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 ООО и в ЗАО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мена учредителей не требует заново получения всего пакета разрешительной документации, лицензий (если бизнес лицензируется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юридическое лицо при новом собственнике сохраняет свою старую кредитную историю (могут «всплыть» неизвестные обязательств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здание нового юридического лица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минимизации налог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ое юридическое лицо должно заново получать весь комплект разрешительной документации, включая лицензии (если они требуются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дажа предприятия как имущественного комплек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ет риски, связанные со скрытыми долговыми обязательствами и  необходимостью получать новый пакет докумен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делки купли-продажи бизнеса по такому варианту происходят крайне редк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одажа через ликвидацию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дружественное банкротство)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имает риски, связанные со скрытыми долговыми обязательствами и  необходимостью получать новый пакет докумен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торги может прийти другой претендент и перебить цен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Аренда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760" y="1214280"/>
            <a:ext cx="8257680" cy="52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договору аренды предприятия арендодатель обязуется предоставить арендатору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лату во временное владение и пользова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ые участки, здания, сооружения, оборудование и другие, входящие в состав предприятия основ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дать в порядке, на условиях и в пределах, определяемых договором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пасы сырья, топлива, материалов и иные оборотные сред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пользования землей, водой и другими природными ресурсами, зданиями, сооружениями и оборудовани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ные имущественные права арендодателя, связанные с предприятие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на обознач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ндивидуализирующие деятельность предприятия,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ругие исключительные пра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упить ем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ва треб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еве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нег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лг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тносящиеся к предприяти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дели предпринимательского пове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Инвести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Инвентор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Организа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Посредническ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Аквизиционн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оммерческ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Консалтингов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. Коньюктурно-игровая модель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Франчайзинг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0040" y="1214280"/>
            <a:ext cx="8186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шение (договор) крупных фирм с малыми фирмами или с отдельными предпринимателями, производственными или функционально-операционными компания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м способ ведения предпринимательского бизнеса, при котором фирма-франчайзор предоставляет своему партнеру (франчайзи) право осуществлять определенный вид деятельности с использованием своей технологии, лицензии, ноу-хау, фирменной торговой мар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1829160"/>
            <a:ext cx="76323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142920" y="3286080"/>
            <a:ext cx="4785840" cy="3261960"/>
          </a:xfrm>
          <a:prstGeom prst="rect">
            <a:avLst/>
          </a:prstGeom>
          <a:ln w="9525">
            <a:noFill/>
          </a:ln>
        </p:spPr>
      </p:pic>
      <p:sp>
        <p:nvSpPr>
          <p:cNvPr id="284" name="AutoShape 5"/>
          <p:cNvSpPr/>
          <p:nvPr/>
        </p:nvSpPr>
        <p:spPr>
          <a:xfrm rot="2038800">
            <a:off x="611280" y="5157360"/>
            <a:ext cx="1150560" cy="286920"/>
          </a:xfrm>
          <a:prstGeom prst="rightArrow">
            <a:avLst>
              <a:gd name="adj1" fmla="val 50000"/>
              <a:gd name="adj2" fmla="val 100138"/>
            </a:avLst>
          </a:prstGeom>
          <a:solidFill>
            <a:srgbClr val="ff9900"/>
          </a:solidFill>
          <a:ln w="9525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AutoShape 6"/>
          <p:cNvSpPr/>
          <p:nvPr/>
        </p:nvSpPr>
        <p:spPr>
          <a:xfrm rot="19299600">
            <a:off x="3563640" y="5157720"/>
            <a:ext cx="934560" cy="286920"/>
          </a:xfrm>
          <a:prstGeom prst="rightArrow">
            <a:avLst>
              <a:gd name="adj1" fmla="val 50000"/>
              <a:gd name="adj2" fmla="val 81354"/>
            </a:avLst>
          </a:prstGeom>
          <a:solidFill>
            <a:srgbClr val="ff99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692000" y="6453000"/>
            <a:ext cx="201636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195640" y="6515280"/>
            <a:ext cx="1655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Франшиза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 flipH="1">
            <a:off x="2339640" y="38606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2627280" y="3500280"/>
            <a:ext cx="1872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ПАУШАЛЬНЫЙ  вз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1853600">
            <a:off x="3635280" y="4149720"/>
            <a:ext cx="782280" cy="286920"/>
          </a:xfrm>
          <a:prstGeom prst="rightArrow">
            <a:avLst>
              <a:gd name="adj1" fmla="val 50000"/>
              <a:gd name="adj2" fmla="val 68094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 rot="9333000">
            <a:off x="611640" y="4221360"/>
            <a:ext cx="926640" cy="286920"/>
          </a:xfrm>
          <a:prstGeom prst="rightArrow">
            <a:avLst>
              <a:gd name="adj1" fmla="val 50000"/>
              <a:gd name="adj2" fmla="val 80663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324000" y="620640"/>
            <a:ext cx="4140000" cy="44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5148360" y="5445000"/>
            <a:ext cx="3816000" cy="85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о право Франчайзи выплачивает </a:t>
            </a: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ПАУШАЛЬНЫЙ ВЗ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0" y="404640"/>
            <a:ext cx="9143640" cy="2376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РОЯЛ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плата затрат Франчайзера связанных с продаже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раншиз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диновременное вознаграждени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Франчайзера в виде твердо зафиксированной в договоре (соглашении) суммы, эквивалентной оценкам возможного экономического эффекта и ожидаемых прибы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H="1">
            <a:off x="1331640" y="38606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258920" y="3500280"/>
            <a:ext cx="1225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РОЯЛ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0" y="1897200"/>
            <a:ext cx="7632360" cy="332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5"/>
          <p:cNvSpPr/>
          <p:nvPr/>
        </p:nvSpPr>
        <p:spPr>
          <a:xfrm rot="2038800">
            <a:off x="611280" y="5225760"/>
            <a:ext cx="1150560" cy="286920"/>
          </a:xfrm>
          <a:prstGeom prst="rightArrow">
            <a:avLst>
              <a:gd name="adj1" fmla="val 50000"/>
              <a:gd name="adj2" fmla="val 100138"/>
            </a:avLst>
          </a:prstGeom>
          <a:solidFill>
            <a:srgbClr val="ff9900"/>
          </a:solidFill>
          <a:ln w="9525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AutoShape 6"/>
          <p:cNvSpPr/>
          <p:nvPr/>
        </p:nvSpPr>
        <p:spPr>
          <a:xfrm rot="19299600">
            <a:off x="3563640" y="5226120"/>
            <a:ext cx="934560" cy="286920"/>
          </a:xfrm>
          <a:prstGeom prst="rightArrow">
            <a:avLst>
              <a:gd name="adj1" fmla="val 50000"/>
              <a:gd name="adj2" fmla="val 81354"/>
            </a:avLst>
          </a:prstGeom>
          <a:solidFill>
            <a:srgbClr val="ff99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1692000" y="6521400"/>
            <a:ext cx="201636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2195640" y="6583320"/>
            <a:ext cx="16552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Франшиза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2339640" y="39290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627280" y="3568680"/>
            <a:ext cx="18727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ПАУШАЛЬНЫЙ  вз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1"/>
          <p:cNvSpPr/>
          <p:nvPr/>
        </p:nvSpPr>
        <p:spPr>
          <a:xfrm rot="11853600">
            <a:off x="3635280" y="4218120"/>
            <a:ext cx="782280" cy="286920"/>
          </a:xfrm>
          <a:prstGeom prst="rightArrow">
            <a:avLst>
              <a:gd name="adj1" fmla="val 50000"/>
              <a:gd name="adj2" fmla="val 68094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12"/>
          <p:cNvSpPr/>
          <p:nvPr/>
        </p:nvSpPr>
        <p:spPr>
          <a:xfrm rot="9333000">
            <a:off x="611640" y="4289400"/>
            <a:ext cx="926640" cy="286920"/>
          </a:xfrm>
          <a:prstGeom prst="rightArrow">
            <a:avLst>
              <a:gd name="adj1" fmla="val 50000"/>
              <a:gd name="adj2" fmla="val 80663"/>
            </a:avLst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24000" y="689040"/>
            <a:ext cx="4140000" cy="448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endParaRPr b="1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5148360" y="5513400"/>
            <a:ext cx="3816000" cy="90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это право 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360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лачивает </a:t>
            </a:r>
            <a:r>
              <a:rPr b="1" lang="ru-RU" sz="1800" spc="-1" strike="noStrike">
                <a:solidFill>
                  <a:srgbClr val="ff99ff"/>
                </a:solidFill>
                <a:latin typeface="Calibri"/>
              </a:rPr>
              <a:t>ПАУШАЛЬНЫЙ ВЗН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 flipH="1">
            <a:off x="1331640" y="3929040"/>
            <a:ext cx="719280" cy="360"/>
          </a:xfrm>
          <a:prstGeom prst="line">
            <a:avLst/>
          </a:prstGeom>
          <a:ln w="762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1258920" y="3568680"/>
            <a:ext cx="12250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200" spc="-1" strike="noStrike">
                <a:solidFill>
                  <a:srgbClr val="1c1c1c"/>
                </a:solidFill>
                <a:latin typeface="Calibri"/>
              </a:rPr>
              <a:t>РОЯЛ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13"/>
          <p:cNvGrpSpPr/>
          <p:nvPr/>
        </p:nvGrpSpPr>
        <p:grpSpPr>
          <a:xfrm>
            <a:off x="3276360" y="4149720"/>
            <a:ext cx="2735280" cy="363960"/>
            <a:chOff x="3276360" y="4149720"/>
            <a:chExt cx="2735280" cy="363960"/>
          </a:xfrm>
        </p:grpSpPr>
        <p:sp>
          <p:nvSpPr>
            <p:cNvPr id="311" name="Line 14"/>
            <p:cNvSpPr/>
            <p:nvPr/>
          </p:nvSpPr>
          <p:spPr>
            <a:xfrm>
              <a:off x="3276360" y="4508280"/>
              <a:ext cx="27352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15"/>
            <p:cNvSpPr/>
            <p:nvPr/>
          </p:nvSpPr>
          <p:spPr>
            <a:xfrm>
              <a:off x="3419640" y="4149720"/>
              <a:ext cx="2520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РАНШИЗА (право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6"/>
          <p:cNvGrpSpPr/>
          <p:nvPr/>
        </p:nvGrpSpPr>
        <p:grpSpPr>
          <a:xfrm>
            <a:off x="3276360" y="4635360"/>
            <a:ext cx="2744640" cy="333000"/>
            <a:chOff x="3276360" y="4635360"/>
            <a:chExt cx="2744640" cy="333000"/>
          </a:xfrm>
        </p:grpSpPr>
        <p:sp>
          <p:nvSpPr>
            <p:cNvPr id="314" name="Line 17"/>
            <p:cNvSpPr/>
            <p:nvPr/>
          </p:nvSpPr>
          <p:spPr>
            <a:xfrm flipH="1">
              <a:off x="3276360" y="494172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"/>
            <p:cNvSpPr/>
            <p:nvPr/>
          </p:nvSpPr>
          <p:spPr>
            <a:xfrm>
              <a:off x="3429000" y="4635360"/>
              <a:ext cx="259200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АУШАЛЬНЫЙ ВЗН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9"/>
          <p:cNvGrpSpPr/>
          <p:nvPr/>
        </p:nvGrpSpPr>
        <p:grpSpPr>
          <a:xfrm>
            <a:off x="3124080" y="5102280"/>
            <a:ext cx="3168360" cy="343080"/>
            <a:chOff x="3124080" y="5102280"/>
            <a:chExt cx="3168360" cy="343080"/>
          </a:xfrm>
        </p:grpSpPr>
        <p:sp>
          <p:nvSpPr>
            <p:cNvPr id="317" name="Line 20"/>
            <p:cNvSpPr/>
            <p:nvPr/>
          </p:nvSpPr>
          <p:spPr>
            <a:xfrm>
              <a:off x="3276360" y="544500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Text Box 21"/>
            <p:cNvSpPr/>
            <p:nvPr/>
          </p:nvSpPr>
          <p:spPr>
            <a:xfrm>
              <a:off x="3124080" y="5102280"/>
              <a:ext cx="3168360" cy="317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ОММЕРЧЕСКАЯ КОНЦЕСС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2"/>
          <p:cNvGrpSpPr/>
          <p:nvPr/>
        </p:nvGrpSpPr>
        <p:grpSpPr>
          <a:xfrm>
            <a:off x="3233520" y="5589720"/>
            <a:ext cx="2664000" cy="348840"/>
            <a:chOff x="3233520" y="5589720"/>
            <a:chExt cx="2664000" cy="348840"/>
          </a:xfrm>
        </p:grpSpPr>
        <p:sp>
          <p:nvSpPr>
            <p:cNvPr id="320" name="Line 23"/>
            <p:cNvSpPr/>
            <p:nvPr/>
          </p:nvSpPr>
          <p:spPr>
            <a:xfrm flipH="1">
              <a:off x="3233520" y="5895720"/>
              <a:ext cx="266400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Text Box 24"/>
            <p:cNvSpPr/>
            <p:nvPr/>
          </p:nvSpPr>
          <p:spPr>
            <a:xfrm>
              <a:off x="3995640" y="5589720"/>
              <a:ext cx="1152000" cy="348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850"/>
                </a:spcBef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РОЯЛ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26"/>
          <p:cNvSpPr/>
          <p:nvPr/>
        </p:nvSpPr>
        <p:spPr>
          <a:xfrm>
            <a:off x="332640" y="6165720"/>
            <a:ext cx="1721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7"/>
          <p:cNvSpPr/>
          <p:nvPr/>
        </p:nvSpPr>
        <p:spPr>
          <a:xfrm>
            <a:off x="7245000" y="6237360"/>
            <a:ext cx="1581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0"/>
          <p:cNvSpPr/>
          <p:nvPr/>
        </p:nvSpPr>
        <p:spPr>
          <a:xfrm>
            <a:off x="0" y="209520"/>
            <a:ext cx="9143640" cy="3290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ЯЛ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он допускает различные формы </a:t>
            </a:r>
            <a:r>
              <a:rPr b="1" i="1" lang="ru-RU" sz="2000" spc="-1" strike="noStrike">
                <a:solidFill>
                  <a:srgbClr val="ff9900"/>
                </a:solidFill>
                <a:latin typeface="Arial"/>
              </a:rPr>
              <a:t>вознагражд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фиксированные разовые или периодические плате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отчисления от выр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 наценка на оптовую цену товаров, передаваемых франчайзерам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ерепрод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5076720" y="5445000"/>
            <a:ext cx="2158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вознагра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2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1871280" cy="1942920"/>
          </a:xfrm>
          <a:prstGeom prst="rect">
            <a:avLst/>
          </a:prstGeom>
          <a:ln w="9525">
            <a:noFill/>
          </a:ln>
        </p:spPr>
      </p:pic>
      <p:pic>
        <p:nvPicPr>
          <p:cNvPr id="327" name="Picture 33" descr=""/>
          <p:cNvPicPr/>
          <p:nvPr/>
        </p:nvPicPr>
        <p:blipFill>
          <a:blip r:embed="rId2"/>
          <a:stretch/>
        </p:blipFill>
        <p:spPr>
          <a:xfrm>
            <a:off x="7281720" y="4005360"/>
            <a:ext cx="1719000" cy="2018880"/>
          </a:xfrm>
          <a:prstGeom prst="rect">
            <a:avLst/>
          </a:prstGeom>
          <a:ln w="9525">
            <a:noFill/>
          </a:ln>
        </p:spPr>
      </p:pic>
      <p:pic>
        <p:nvPicPr>
          <p:cNvPr id="328" name="Picture 37" descr=""/>
          <p:cNvPicPr/>
          <p:nvPr/>
        </p:nvPicPr>
        <p:blipFill>
          <a:blip r:embed="rId3"/>
          <a:stretch/>
        </p:blipFill>
        <p:spPr>
          <a:xfrm>
            <a:off x="3995640" y="5934240"/>
            <a:ext cx="1463400" cy="923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9900"/>
                </a:solidFill>
                <a:latin typeface="Calibri"/>
              </a:rPr>
              <a:t>франчайзи может получить поддержку по следующим направлениям:</a:t>
            </a:r>
            <a:br>
              <a:rPr sz="4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5840" y="1285920"/>
            <a:ext cx="8400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атегия маркетинга с акцентом на рекламу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оначальное обучение работников и подготовка в области управления</a:t>
            </a: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зайн объекта и закупка оборудова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унифицированная политика и процедуры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централизованные закупки по пониженным ценам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постоянное консультирование по вопросам управлен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выбор места и рекомендации по размещению предприятия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предоставление аренды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• финансирование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ЯЗАТЕЛЬСТВА ФРАНЧАЙЗЕ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по поставке оборудования, сырья и материа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оказывает помощь в организации и управлении бизнес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560" indent="0">
              <a:lnSpc>
                <a:spcPct val="11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в отдельных случаях оказывает франчайзи финансовую помощь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яма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- кредиты  </a:t>
            </a:r>
            <a:br>
              <a:rPr sz="3200"/>
            </a:b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освенна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поручительства и гарантии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ЧТО ПОЛУЧАЕТ ФРАНЧАЙЗИ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29120" cy="43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спользование проверенной бизнес - сист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открыть собственное дело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выбора отрас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зможность снизить риск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дачный выход на рынок обеспече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инимальные затраты на рекламу и маркетинг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лучение доступа к базе знаний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арантированная система постав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9" descr=""/>
          <p:cNvPicPr/>
          <p:nvPr/>
        </p:nvPicPr>
        <p:blipFill>
          <a:blip r:embed="rId1"/>
          <a:stretch/>
        </p:blipFill>
        <p:spPr>
          <a:xfrm>
            <a:off x="6156360" y="1714320"/>
            <a:ext cx="2752200" cy="2785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   ФРАНЧАЙЗИНГА:</a:t>
            </a: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186400" cy="46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франчайзи  самостоятелен юридически в деловом оборо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в отношениях  с потребителями должен действовать от имени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франчайзер  расширяет границы своей деятельности без дополнительных затра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франчайзи   фактически   осуществляет    рекламу  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  франчайзи   сразу выходит на рынок  в  облике данной фир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7776720" cy="6308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6571800" cy="603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ы франчайзинг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ая законодательная баз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ая (на деле) поддержка со стороны франчайзер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под чужим бренд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иворечия между франчайзи и франчайзеро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тивация и целеполагание при создании своего дел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от латинско­го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ver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водить в движение, двигать, толкать) применяется для определения того, что вызывает действ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тивация — весь комплекс факторов, направляющих и побуждающих поведение человека» (Л. Якобсон, 1966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 – это внутреннее побуждение к деятельност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0040" y="274680"/>
            <a:ext cx="8186400" cy="51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Модель мотив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927400" y="2178000"/>
            <a:ext cx="57168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Группа 4"/>
          <p:cNvGrpSpPr/>
          <p:nvPr/>
        </p:nvGrpSpPr>
        <p:grpSpPr>
          <a:xfrm>
            <a:off x="131760" y="1035000"/>
            <a:ext cx="2582640" cy="2179440"/>
            <a:chOff x="131760" y="1035000"/>
            <a:chExt cx="2582640" cy="2179440"/>
          </a:xfrm>
        </p:grpSpPr>
        <p:sp>
          <p:nvSpPr>
            <p:cNvPr id="197" name="Овал 5"/>
            <p:cNvSpPr/>
            <p:nvPr/>
          </p:nvSpPr>
          <p:spPr>
            <a:xfrm>
              <a:off x="131760" y="1035000"/>
              <a:ext cx="2582640" cy="217944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159840" y="1527120"/>
              <a:ext cx="248796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отребности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 деньгах, в признании, в достижениях, в реализ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5"/>
          <p:cNvGrpSpPr/>
          <p:nvPr/>
        </p:nvGrpSpPr>
        <p:grpSpPr>
          <a:xfrm>
            <a:off x="3417840" y="1035000"/>
            <a:ext cx="2522160" cy="2214360"/>
            <a:chOff x="3417840" y="1035000"/>
            <a:chExt cx="2522160" cy="2214360"/>
          </a:xfrm>
        </p:grpSpPr>
        <p:sp>
          <p:nvSpPr>
            <p:cNvPr id="200" name="Овал 8"/>
            <p:cNvSpPr/>
            <p:nvPr/>
          </p:nvSpPr>
          <p:spPr>
            <a:xfrm>
              <a:off x="3417840" y="1035000"/>
              <a:ext cx="2522160" cy="221436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445560" y="1535040"/>
              <a:ext cx="242964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ействия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Направленные на удовлетворения потребност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6"/>
          <p:cNvGrpSpPr/>
          <p:nvPr/>
        </p:nvGrpSpPr>
        <p:grpSpPr>
          <a:xfrm>
            <a:off x="6489720" y="1035000"/>
            <a:ext cx="2522160" cy="2214360"/>
            <a:chOff x="6489720" y="1035000"/>
            <a:chExt cx="2522160" cy="2214360"/>
          </a:xfrm>
        </p:grpSpPr>
        <p:sp>
          <p:nvSpPr>
            <p:cNvPr id="203" name="Овал 11"/>
            <p:cNvSpPr/>
            <p:nvPr/>
          </p:nvSpPr>
          <p:spPr>
            <a:xfrm>
              <a:off x="6489720" y="1035000"/>
              <a:ext cx="2522160" cy="221436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4" name="Text Box 8"/>
            <p:cNvSpPr/>
            <p:nvPr/>
          </p:nvSpPr>
          <p:spPr>
            <a:xfrm>
              <a:off x="6517440" y="1535040"/>
              <a:ext cx="242964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ознаграждени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нешнее и внутреннее. Удовлетворение потреб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"/>
          <p:cNvGrpSpPr/>
          <p:nvPr/>
        </p:nvGrpSpPr>
        <p:grpSpPr>
          <a:xfrm>
            <a:off x="2428920" y="4429080"/>
            <a:ext cx="4357440" cy="1999800"/>
            <a:chOff x="2428920" y="4429080"/>
            <a:chExt cx="4357440" cy="1999800"/>
          </a:xfrm>
        </p:grpSpPr>
        <p:sp>
          <p:nvSpPr>
            <p:cNvPr id="206" name="Овал 14"/>
            <p:cNvSpPr/>
            <p:nvPr/>
          </p:nvSpPr>
          <p:spPr>
            <a:xfrm>
              <a:off x="2428920" y="4429080"/>
              <a:ext cx="4357440" cy="1999800"/>
            </a:xfrm>
            <a:prstGeom prst="ellipse">
              <a:avLst/>
            </a:prstGeom>
            <a:noFill/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ru-RU" sz="1800" spc="-1" strike="noStrike">
                <a:solidFill>
                  <a:schemeClr val="lt1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2643120" y="4714920"/>
              <a:ext cx="3911760" cy="1226160"/>
            </a:xfrm>
            <a:prstGeom prst="rect">
              <a:avLst/>
            </a:prstGeom>
            <a:noFill/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Обратная связь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олученное вознаграждение закрепляет поведение как правильное и способствует его повторению в будуще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11"/>
          <p:cNvSpPr/>
          <p:nvPr/>
        </p:nvSpPr>
        <p:spPr>
          <a:xfrm>
            <a:off x="2703240" y="2106360"/>
            <a:ext cx="714600" cy="3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Line 11"/>
          <p:cNvSpPr/>
          <p:nvPr/>
        </p:nvSpPr>
        <p:spPr>
          <a:xfrm flipH="1">
            <a:off x="6286320" y="3786120"/>
            <a:ext cx="785880" cy="57132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2286000" y="3857400"/>
            <a:ext cx="857160" cy="428760"/>
          </a:xfrm>
          <a:prstGeom prst="line">
            <a:avLst/>
          </a:prstGeom>
          <a:ln w="381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28760" y="714240"/>
            <a:ext cx="578592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авная цель предпринимательской деятельности —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учение прибы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отив достижения успех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пех  - это удача в  достижении какой-либо цели, общественное признание, хорошие результаты в работ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3" descr="http://lifehacker.ru/wp-content/uploads/2012/12/1338897322_131599275573_full-389x500.jpg"/>
          <p:cNvPicPr/>
          <p:nvPr/>
        </p:nvPicPr>
        <p:blipFill>
          <a:blip r:embed="rId1"/>
          <a:stretch/>
        </p:blipFill>
        <p:spPr>
          <a:xfrm>
            <a:off x="6253200" y="1714680"/>
            <a:ext cx="2890440" cy="371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Условия, влияющие на предпринимательский успе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тое везение (оказался случайно в нужное время в нужном месте и при этом сумел не упустить шанс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ивный поиск «того самого выигрышного варианта» с использованием метода проб и ошибок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етентный расчет различных комбинаций и выбор оптимального варианта на основе теоретических изыскан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чение и использование в благоприятное время конфиденциальной информации или ресурса другого вид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-322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ние собственных уникальных способностей,  опыта, компетентности в качестве товара, дающего доход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Целеполагание в предпринимательств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719360"/>
            <a:ext cx="5643360" cy="46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кусство постановки це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это искусство управления событиям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 дает возможность контроля за ходом и результатом работ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это желаемые будущие ситуации, которые достигаются с помощью соответствующих действ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http://mediasubs.ru/group/uploads/se/sekretyi-uspeshnogo-biznesa/image2/YzQtZWM3M.jpg"/>
          <p:cNvPicPr/>
          <p:nvPr/>
        </p:nvPicPr>
        <p:blipFill>
          <a:blip r:embed="rId1"/>
          <a:stretch/>
        </p:blipFill>
        <p:spPr>
          <a:xfrm>
            <a:off x="6357960" y="1928880"/>
            <a:ext cx="2430000" cy="2999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Текст 4"/>
          <p:cNvSpPr/>
          <p:nvPr/>
        </p:nvSpPr>
        <p:spPr>
          <a:xfrm>
            <a:off x="428760" y="571680"/>
            <a:ext cx="3928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Личные ц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00040" y="2071800"/>
            <a:ext cx="399708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ространяются на все сферы жизни (семья, здоровье, доход, свободное время, религия и т.д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Текст 6"/>
          <p:cNvSpPr/>
          <p:nvPr/>
        </p:nvSpPr>
        <p:spPr>
          <a:xfrm>
            <a:off x="4572000" y="642960"/>
            <a:ext cx="4114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Цели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3280" y="2071800"/>
            <a:ext cx="4043160" cy="40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саются всех сфер предприятия (маркетинг, производство, организация, финанс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  <Words>1527</Words>
  <Paragraphs>2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17:05:43Z</dcterms:created>
  <dc:creator>Александр</dc:creator>
  <dc:description/>
  <dc:language>en-US</dc:language>
  <cp:lastModifiedBy>User</cp:lastModifiedBy>
  <dcterms:modified xsi:type="dcterms:W3CDTF">2017-02-11T04:43:58Z</dcterms:modified>
  <cp:revision>21</cp:revision>
  <dc:subject/>
  <dc:title>Алгоритм создания собственного дел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9</vt:r8>
  </property>
</Properties>
</file>