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929-DB1F-49C3-93A8-3F37FA49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5DA-8705-4E42-8EEB-CE8B2E75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46F-2B0D-48A3-8167-FED40904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65F-F52E-4AE0-9166-9C5EB1AE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75ED-28B3-4DCE-9E00-4D0748DD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8E14-DCDC-4A93-A302-F6199599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4A7E-58B6-4CD0-9D34-F2B91D4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2EC7-AC62-43FA-B819-51666309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A7A4-809C-4835-B18C-69353E76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03CF-35B7-4D80-A15A-16FD1D59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E2A2-31C2-4FA3-B529-4D3646C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DAB-794D-4921-B284-35713D65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13FC-3D6D-4F2C-B9F6-DF09F774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70A4-D070-4670-8142-B35653F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939A-73B9-4C81-A8A1-8016C27B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A50F-E5AE-48E9-BC16-F0075A78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B4DD-4A35-4FA5-9380-CB5A5966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936-99B1-4F2F-B43D-4CF5DDF5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C93-6219-4ED9-A40D-8C54C1D6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DAD-B536-4716-A80A-FF578CB2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C8C-7A7F-4A6B-83C2-C18C7A8E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70B-FA19-4811-8C3F-69C1A1BC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0CA-FDD7-453A-903F-7FC6B540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943-6B2B-4D07-B236-9741CD02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4D9D-AA5D-4B50-989B-B7DAF348D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4AF9-6450-44AB-89DD-D2A4E4FA95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хокардиография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метод исслед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уктуры и функции сердц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анный на регистр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раженных импульс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льтразвуковых сигналов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енерируемых эхокардиографическим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тчиком с частотой около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,5–4,5 МГ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жимы ультразвукового сканирования</a:t>
            </a:r>
            <a:br>
              <a:rPr sz="4000"/>
            </a:b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графическое представление эхо-сигналов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-модальный реж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А — от «amplitude») – эхо-сигналы регистрируются в виде пиков, амплитуда которых пропорциональна интенсивности сигнала, а расстояние между пиками соответствует расстоянию между отражающими объектами и датчиком. Недостаток режима – невозможность изобразить дви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модальный реж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В — от «brightness») – интенсивность эхосигналов отражается яркостью свечения точек на экране монитора. Двухмерный реж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-модальный реж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М — от «motion») – развертка В-модального режима по времени, то есть движение точек разворачивается во времени (по горизонтали), а по вертикали регистрируется переднезадний размер структур серд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к режима – одномер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жимы ультразвукового сканирования</a:t>
            </a: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плер-эхокарди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0228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2340000" y="630864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истиан Иоганн Допплер, 184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пплер-эхокардиограф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000" y="907560"/>
            <a:ext cx="4427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ффект Допплера состоит в том, что частота ультразвукового сигнала при отражении от лоцируемого объекта изменяется пропорционально скорости движения объекта (эритроцитов) вдоль оси распространения сигнала. При приближении объекта в сторону датчика частота отраженного сигнала увеличивается, при удалении объекта от датчика — уменьшаетс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жимы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пплер-эхокардиограф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мпульсная допплер-эхокардиография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(Pulsed Wave Doppl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остоянно-волновая допплер-эхокардиография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(Continuous Wave Doppl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Цветное допплеровское сканирование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(Color Doppl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Тканевой допплер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issue Velocity Imaging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Импульсная допплер-эхокардиография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етод основан на использовании ультразвукового сигнала в виде отдельных серий импульсов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скольку известна скорость распространения ультразвука в среде (1540 м/с), создается возможность анализировать не все сигналы, возвращающиеся к датчику, а только те, которые отражены от эритроцитов, находящихся на определенном расстоянии от датчик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имущество – возможность изучения скоростей кровотока в ограниченной област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контрольном объеме (sample volume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достаток – невозможность точного определения высоких скоростей кровото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Импульсная допплер-эхокардиография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1042920" y="151128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Постоянно-волновая допплер-эхокардиография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4358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Отраженный ультразвуковой сигнал принимается независимо от того, когда он был послан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Исследуется кровоток вдоль всего ультразвукового луча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еимущество – возможность измерения любой скорости кровотока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Недостаток – невозможность точной локализации исследуемого кровотока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Постоянно-волновая допплер-эхокардиография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3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</a:rPr>
              <a:t>Цветное допплеровское сканирование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4358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ть этого метода состоит в наложении закодированных разными цветами скоростей кровотока на двумерное изображение сердц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о развитие импульсной допплер-эхокардиографии: изображение разбивается на 250—500 контрольных объемов, ориентированных параллельно ультразвуковым лучам в сектор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имущество – возможность быстро визуализировать пространственную ориентацию потоков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достаток – невозможность точного определения высоких скоростей кровото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я ультразвука в медици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447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Гидролокация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Александр Бэм (Австрия – 1912 г.), Левис Ричардсон (Англия – 1912 г.), Реджинальд Фессенден (США – 1914 г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ефектоскопия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Сергей Яковлевич Соколов (1928 г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Австриец Karl Dussik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1941 г.)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вероятно, первый, кто использовал ультразвук с диагностической целью в медицине для исследования мозг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W.D. Keidel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1950 г.)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немецкий ученый, использовавший ультразвук для обследования сердц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Тканевой допплер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каневой цветовой допплер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or Tissue Velocity Imaging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снован на кодировании направления движения тканей определенным цвето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имущество – визуализация зон нарушения локальной сократим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граничение – внутрижелудочковые блокад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каневой импульсно-волновой допплер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(Pulsed Wav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ssue Velocity Imaging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позволяет оценить характер движения тканей в конкретной точке (контрольном объем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имущество – возможность оценки локальной систолической и диастолической функ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граничение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хая визуализация в В-режим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жимы ультразвукового сканирования</a:t>
            </a: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плер-эхокарди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358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виг частоты ультразвукового сигнала зависит от частоты посылаемого сигнала: чем она меньше, тем большие скорости кровотока могут быть измерены. Поэтому для допплеровского исследования следует выбирать датчик, имеющий наименьшую частоту (обычно 2,0—2,5 МГц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ол между направлением ультразвукового луча и направлением кровотока не должен превышать 20°, тогда ошибка измерения скорости кровотока не будет суще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ианты эхокардиограф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нсторака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респищевод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исосудистое ультразвуковое исслед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раоперационная и внутрисердеч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х- и четырехмерное модел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астная эхокардиогр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сс- эхокардиограф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ндартные позиции (доступы) при трансторакальной эхокардиограф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62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растернальный доступ — область III-V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реберья слева от грудины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рхушечный (апикальный) доступ —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зона верхушечного толч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убкостальный доступ — область под мечевидным отростком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упрастернальный доступ — югулярная ям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растернальная позиция по длинной о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5280" y="1346040"/>
            <a:ext cx="730872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Некоторые эхокардиографические показатели у здоровых</a:t>
            </a:r>
            <a:r>
              <a:rPr b="0" i="1" lang="ru-RU" sz="3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лиц (М-режим)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0" y="1739880"/>
          <a:ext cx="9144000" cy="5121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орта</a:t>
                      </a: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-36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П</a:t>
                      </a: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-40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ДРпж</a:t>
                      </a: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–27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ЖП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-11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СЛЖ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-11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-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-40 мм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Rectangle 44"/>
          <p:cNvSpPr/>
          <p:nvPr/>
        </p:nvSpPr>
        <p:spPr>
          <a:xfrm>
            <a:off x="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84"/>
          <p:cNvSpPr/>
          <p:nvPr/>
        </p:nvSpPr>
        <p:spPr>
          <a:xfrm>
            <a:off x="179280" y="558972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ДР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5"/>
          <p:cNvSpPr/>
          <p:nvPr/>
        </p:nvSpPr>
        <p:spPr>
          <a:xfrm>
            <a:off x="179280" y="6281640"/>
            <a:ext cx="12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5"/>
          <p:cNvSpPr/>
          <p:nvPr/>
        </p:nvSpPr>
        <p:spPr>
          <a:xfrm>
            <a:off x="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8"/>
          <p:cNvSpPr/>
          <p:nvPr/>
        </p:nvSpPr>
        <p:spPr>
          <a:xfrm>
            <a:off x="2484360" y="328464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ДР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49"/>
          <p:cNvSpPr/>
          <p:nvPr/>
        </p:nvSpPr>
        <p:spPr>
          <a:xfrm>
            <a:off x="2484360" y="400536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0"/>
          <p:cNvSpPr/>
          <p:nvPr/>
        </p:nvSpPr>
        <p:spPr>
          <a:xfrm>
            <a:off x="5076720" y="3284640"/>
            <a:ext cx="13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ДО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1"/>
          <p:cNvSpPr/>
          <p:nvPr/>
        </p:nvSpPr>
        <p:spPr>
          <a:xfrm>
            <a:off x="5076720" y="4005360"/>
            <a:ext cx="13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СО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52"/>
          <p:cNvSpPr/>
          <p:nvPr/>
        </p:nvSpPr>
        <p:spPr>
          <a:xfrm>
            <a:off x="4067280" y="3573360"/>
            <a:ext cx="79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53"/>
          <p:cNvSpPr/>
          <p:nvPr/>
        </p:nvSpPr>
        <p:spPr>
          <a:xfrm>
            <a:off x="4067280" y="4292640"/>
            <a:ext cx="79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ценка глобальной систолической функции левого желудоч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5"/>
          <p:cNvSpPr/>
          <p:nvPr/>
        </p:nvSpPr>
        <p:spPr>
          <a:xfrm>
            <a:off x="7380360" y="3645000"/>
            <a:ext cx="107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56"/>
          <p:cNvSpPr/>
          <p:nvPr/>
        </p:nvSpPr>
        <p:spPr>
          <a:xfrm>
            <a:off x="6659640" y="3573360"/>
            <a:ext cx="865080" cy="28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58"/>
          <p:cNvSpPr/>
          <p:nvPr/>
        </p:nvSpPr>
        <p:spPr>
          <a:xfrm flipV="1">
            <a:off x="6659640" y="4005000"/>
            <a:ext cx="86508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9"/>
          <p:cNvSpPr/>
          <p:nvPr/>
        </p:nvSpPr>
        <p:spPr>
          <a:xfrm>
            <a:off x="1116000" y="5229360"/>
            <a:ext cx="748836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В = (КДО – КСО) / КД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1835280" y="1368360"/>
            <a:ext cx="7308720" cy="5489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обальная систолическая функция Л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2268360" y="2852640"/>
            <a:ext cx="503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3284640"/>
            <a:ext cx="3276720" cy="1439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ул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ichol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В ≥ 55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лобальная систолическая 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971640" y="1414440"/>
            <a:ext cx="72723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1042920" y="1417680"/>
            <a:ext cx="7274160" cy="5440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лобальная систолическая 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1835280" y="2637000"/>
            <a:ext cx="50328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я ультразвука в медици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-е гг. Холмс и Хоури (Holmes, How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79280" y="3573360"/>
            <a:ext cx="87854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r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Helmut Hertz и Inge Edle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Швеция, 1953 г.) – коммерческое использования Эхо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.Н. Беленков (1974 г.) – первая в СССР публикация в журнале «Кардиология» по клиническому применению Эхо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лобальная систолическая функция ЛЖ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тод дисков – модифицированный алгоритм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p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кальная систолическая 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ушения локальной сократимост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Ж принято описывать по четырехбалльной шкале: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балл — нормальна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ократим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балла — гипокинезия (снижени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плитуды движения 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олического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олщения в исследуемой области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балла — акинезия (отсутствие движен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утолщения миокарда);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балла — дискинезия (движение миокарда исследуемого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гмента происходит в направлении, противоположном нормальном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кальная систолическая 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Для полуколичественной оценки используется </a:t>
            </a: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индекс нарушений локальной сократимости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(ИНЛС):</a:t>
            </a:r>
            <a:r>
              <a:rPr b="0" i="1" lang="ru-RU" sz="3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ИНЛС представляет собой сумму балльной оценки сократимости каждого сегмента (ΣS), деленную на общее число исследованных сегментов</a:t>
            </a:r>
            <a:r>
              <a:rPr b="0" i="1" lang="ru-RU" sz="3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ЛС = ΣS /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иастолическая 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0" y="393372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рмальный тип кровот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995640" y="3933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п замедленной релакс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588000" y="3933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триктивный ти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10"/>
          <p:cNvGrpSpPr/>
          <p:nvPr/>
        </p:nvGrpSpPr>
        <p:grpSpPr>
          <a:xfrm>
            <a:off x="395280" y="1268280"/>
            <a:ext cx="2592360" cy="2500560"/>
            <a:chOff x="395280" y="1268280"/>
            <a:chExt cx="2592360" cy="2500560"/>
          </a:xfrm>
        </p:grpSpPr>
        <p:grpSp>
          <p:nvGrpSpPr>
            <p:cNvPr id="251" name="Group 11"/>
            <p:cNvGrpSpPr/>
            <p:nvPr/>
          </p:nvGrpSpPr>
          <p:grpSpPr>
            <a:xfrm>
              <a:off x="395280" y="1268280"/>
              <a:ext cx="2592360" cy="2500560"/>
              <a:chOff x="395280" y="1268280"/>
              <a:chExt cx="2592360" cy="2500560"/>
            </a:xfrm>
          </p:grpSpPr>
          <p:sp>
            <p:nvSpPr>
              <p:cNvPr id="252" name="Freeform 12"/>
              <p:cNvSpPr/>
              <p:nvPr/>
            </p:nvSpPr>
            <p:spPr>
              <a:xfrm>
                <a:off x="395280" y="1807200"/>
                <a:ext cx="2592360" cy="1961640"/>
              </a:xfrm>
              <a:custGeom>
                <a:avLst/>
                <a:gdLst/>
                <a:ahLst/>
                <a:rect l="l" t="t" r="r" b="b"/>
                <a:pathLst>
                  <a:path w="2430" h="2289">
                    <a:moveTo>
                      <a:pt x="0" y="2153"/>
                    </a:moveTo>
                    <a:cubicBezTo>
                      <a:pt x="84" y="2107"/>
                      <a:pt x="351" y="2244"/>
                      <a:pt x="501" y="1892"/>
                    </a:cubicBezTo>
                    <a:cubicBezTo>
                      <a:pt x="651" y="1540"/>
                      <a:pt x="754" y="0"/>
                      <a:pt x="900" y="38"/>
                    </a:cubicBezTo>
                    <a:cubicBezTo>
                      <a:pt x="1046" y="76"/>
                      <a:pt x="1235" y="1955"/>
                      <a:pt x="1380" y="2122"/>
                    </a:cubicBezTo>
                    <a:cubicBezTo>
                      <a:pt x="1525" y="2289"/>
                      <a:pt x="1660" y="1055"/>
                      <a:pt x="1770" y="1042"/>
                    </a:cubicBezTo>
                    <a:cubicBezTo>
                      <a:pt x="1880" y="1029"/>
                      <a:pt x="1930" y="1857"/>
                      <a:pt x="2040" y="2047"/>
                    </a:cubicBezTo>
                    <a:cubicBezTo>
                      <a:pt x="2150" y="2237"/>
                      <a:pt x="2349" y="2154"/>
                      <a:pt x="2430" y="2182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Text Box 13"/>
              <p:cNvSpPr/>
              <p:nvPr/>
            </p:nvSpPr>
            <p:spPr>
              <a:xfrm>
                <a:off x="1121400" y="1268280"/>
                <a:ext cx="383040" cy="46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Text Box 14"/>
            <p:cNvSpPr/>
            <p:nvPr/>
          </p:nvSpPr>
          <p:spPr>
            <a:xfrm>
              <a:off x="2081520" y="2193480"/>
              <a:ext cx="383040" cy="46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Group 15"/>
          <p:cNvGrpSpPr/>
          <p:nvPr/>
        </p:nvGrpSpPr>
        <p:grpSpPr>
          <a:xfrm>
            <a:off x="3708360" y="1268280"/>
            <a:ext cx="2376360" cy="2539800"/>
            <a:chOff x="3708360" y="1268280"/>
            <a:chExt cx="2376360" cy="2539800"/>
          </a:xfrm>
        </p:grpSpPr>
        <p:grpSp>
          <p:nvGrpSpPr>
            <p:cNvPr id="256" name="Group 16"/>
            <p:cNvGrpSpPr/>
            <p:nvPr/>
          </p:nvGrpSpPr>
          <p:grpSpPr>
            <a:xfrm>
              <a:off x="3708360" y="1747440"/>
              <a:ext cx="2376360" cy="2060640"/>
              <a:chOff x="3708360" y="1747440"/>
              <a:chExt cx="2376360" cy="2060640"/>
            </a:xfrm>
          </p:grpSpPr>
          <p:sp>
            <p:nvSpPr>
              <p:cNvPr id="257" name="Freeform 17"/>
              <p:cNvSpPr/>
              <p:nvPr/>
            </p:nvSpPr>
            <p:spPr>
              <a:xfrm>
                <a:off x="3708360" y="1747440"/>
                <a:ext cx="2376360" cy="2060640"/>
              </a:xfrm>
              <a:custGeom>
                <a:avLst/>
                <a:gdLst/>
                <a:ahLst/>
                <a:rect l="l" t="t" r="r" b="b"/>
                <a:pathLst>
                  <a:path w="2469" h="2509">
                    <a:moveTo>
                      <a:pt x="0" y="2292"/>
                    </a:moveTo>
                    <a:cubicBezTo>
                      <a:pt x="86" y="2276"/>
                      <a:pt x="370" y="2324"/>
                      <a:pt x="519" y="2196"/>
                    </a:cubicBezTo>
                    <a:cubicBezTo>
                      <a:pt x="668" y="2068"/>
                      <a:pt x="751" y="1511"/>
                      <a:pt x="894" y="1522"/>
                    </a:cubicBezTo>
                    <a:cubicBezTo>
                      <a:pt x="1037" y="1533"/>
                      <a:pt x="1237" y="2509"/>
                      <a:pt x="1379" y="2261"/>
                    </a:cubicBezTo>
                    <a:cubicBezTo>
                      <a:pt x="1521" y="2013"/>
                      <a:pt x="1637" y="72"/>
                      <a:pt x="1749" y="36"/>
                    </a:cubicBezTo>
                    <a:cubicBezTo>
                      <a:pt x="1861" y="0"/>
                      <a:pt x="1929" y="1661"/>
                      <a:pt x="2049" y="2046"/>
                    </a:cubicBezTo>
                    <a:cubicBezTo>
                      <a:pt x="2169" y="2431"/>
                      <a:pt x="2381" y="2283"/>
                      <a:pt x="2469" y="2345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ext Box 18"/>
              <p:cNvSpPr/>
              <p:nvPr/>
            </p:nvSpPr>
            <p:spPr>
              <a:xfrm>
                <a:off x="4401360" y="2527920"/>
                <a:ext cx="345600" cy="44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Text Box 19"/>
            <p:cNvSpPr/>
            <p:nvPr/>
          </p:nvSpPr>
          <p:spPr>
            <a:xfrm>
              <a:off x="5094360" y="1268280"/>
              <a:ext cx="3445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35"/>
          <p:cNvSpPr/>
          <p:nvPr/>
        </p:nvSpPr>
        <p:spPr>
          <a:xfrm>
            <a:off x="7308720" y="1268280"/>
            <a:ext cx="2286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36"/>
          <p:cNvGrpSpPr/>
          <p:nvPr/>
        </p:nvGrpSpPr>
        <p:grpSpPr>
          <a:xfrm>
            <a:off x="6443640" y="1268280"/>
            <a:ext cx="2487600" cy="2633760"/>
            <a:chOff x="6443640" y="1268280"/>
            <a:chExt cx="2487600" cy="2633760"/>
          </a:xfrm>
        </p:grpSpPr>
        <p:sp>
          <p:nvSpPr>
            <p:cNvPr id="262" name="AutoShape 37"/>
            <p:cNvSpPr/>
            <p:nvPr/>
          </p:nvSpPr>
          <p:spPr>
            <a:xfrm>
              <a:off x="6443640" y="1268280"/>
              <a:ext cx="2487600" cy="26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" name="Group 38"/>
            <p:cNvGrpSpPr/>
            <p:nvPr/>
          </p:nvGrpSpPr>
          <p:grpSpPr>
            <a:xfrm>
              <a:off x="6731280" y="1694520"/>
              <a:ext cx="1978920" cy="2035080"/>
              <a:chOff x="6731280" y="1694520"/>
              <a:chExt cx="1978920" cy="2035080"/>
            </a:xfrm>
          </p:grpSpPr>
          <p:sp>
            <p:nvSpPr>
              <p:cNvPr id="264" name="Text Box 39"/>
              <p:cNvSpPr/>
              <p:nvPr/>
            </p:nvSpPr>
            <p:spPr>
              <a:xfrm>
                <a:off x="8046720" y="2572560"/>
                <a:ext cx="291600" cy="43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40"/>
              <p:cNvSpPr/>
              <p:nvPr/>
            </p:nvSpPr>
            <p:spPr>
              <a:xfrm>
                <a:off x="6731280" y="1694520"/>
                <a:ext cx="1978920" cy="2035080"/>
              </a:xfrm>
              <a:custGeom>
                <a:avLst/>
                <a:gdLst/>
                <a:ahLst/>
                <a:rect l="l" t="t" r="r" b="b"/>
                <a:pathLst>
                  <a:path w="2430" h="2504">
                    <a:moveTo>
                      <a:pt x="0" y="2308"/>
                    </a:moveTo>
                    <a:cubicBezTo>
                      <a:pt x="84" y="2262"/>
                      <a:pt x="356" y="2427"/>
                      <a:pt x="501" y="2047"/>
                    </a:cubicBezTo>
                    <a:cubicBezTo>
                      <a:pt x="646" y="1667"/>
                      <a:pt x="754" y="0"/>
                      <a:pt x="870" y="29"/>
                    </a:cubicBezTo>
                    <a:cubicBezTo>
                      <a:pt x="986" y="58"/>
                      <a:pt x="1053" y="1934"/>
                      <a:pt x="1200" y="2219"/>
                    </a:cubicBezTo>
                    <a:cubicBezTo>
                      <a:pt x="1347" y="2504"/>
                      <a:pt x="1610" y="1733"/>
                      <a:pt x="1755" y="1740"/>
                    </a:cubicBezTo>
                    <a:cubicBezTo>
                      <a:pt x="1900" y="1747"/>
                      <a:pt x="1957" y="2164"/>
                      <a:pt x="2070" y="2264"/>
                    </a:cubicBezTo>
                    <a:cubicBezTo>
                      <a:pt x="2183" y="2364"/>
                      <a:pt x="2355" y="2322"/>
                      <a:pt x="2430" y="2337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иастолическая дисфункция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0" y="907920"/>
            <a:ext cx="6095880" cy="4581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"/>
          <p:cNvPicPr/>
          <p:nvPr/>
        </p:nvPicPr>
        <p:blipFill>
          <a:blip r:embed="rId2"/>
          <a:stretch/>
        </p:blipFill>
        <p:spPr>
          <a:xfrm>
            <a:off x="3276720" y="2467080"/>
            <a:ext cx="58672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ценка функции клапанного аппар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24000" y="1413000"/>
          <a:ext cx="8291520" cy="5062320"/>
        </p:xfrm>
        <a:graphic>
          <a:graphicData uri="http://schemas.openxmlformats.org/drawingml/2006/table">
            <a:tbl>
              <a:tblPr/>
              <a:tblGrid>
                <a:gridCol w="2805120"/>
                <a:gridCol w="2743200"/>
                <a:gridCol w="2743200"/>
              </a:tblGrid>
              <a:tr h="947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ксимальные скорости (м/с) нормального внутрисердечного кровотока у детей и у взросл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росл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тральный клапа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 (0,8—1,2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9 (0,4—1,3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хстворчатый клапа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 (0,5—0,8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 (0,3—0,7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гочная артер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9 (0,7—1,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5 (0,6—0,9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носящий тракт левого желудочк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 (0,7—1,2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9 (0,7—1,1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ор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 (1,2—1,8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5 (1,0—1,7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ценка функции клапанного аппар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3"/>
          <a:stretch/>
        </p:blipFill>
        <p:spPr>
          <a:xfrm>
            <a:off x="971640" y="1484280"/>
            <a:ext cx="71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ценка функции клапанного аппара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600200"/>
          <a:ext cx="8229600" cy="4903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п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ргита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тр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–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икуспид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–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льмон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–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орт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ценка гипертрофии Л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сса миокарда Л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декс массы миокарда ЛЖ (ИММЛЖ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хокардиографические критерии гипертрофии ЛЖ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ММЛЖ ≥ 125 г/м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у мужчин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ММЛЖ ≥ 110 г/м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у женщин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изика уль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льтразву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— упругие колебания (механические волны) в среде с частотой, превышающей 20 КГ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менение ультразвука для медицинской визуализации основано на его отражении от поверхности раздела сред с различной акустической плотность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изика уль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47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льтразвуковой датчи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[transducer] — это устройство, преобразующее один вид энергии в друго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ультразвуковой диагностике электрическая энергия преобразуется в механическую и наоборо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образование осуществляется пьезоэлектрическим элементо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ходящий через элемент электрический ток заставляет его то расширяться, то сжиматься и тем самым генерировать ультразвуковые волны. С другой стороны, приходящие ультразвуковые волны элемент преобразует в электрические импульсы, регистрируемые осциллографо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бота эхокардиограф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екоторый момент времени датчик посылает короткий ультразвуковой импульс. Импульс линейно распространяется в гомогенной среде до тех пор, пока не дойдет до границы раздела фаз, где происходит отражение или преломление ультразвуковых лучей. Через время, равно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, отраженный звук (эхо) вернется к датчику, который теперь работает как приемник. Зная скорость распространения звуковой волны (1540 м/с) и время, за которое звук прошел расстояние до границы фаз и обратно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), можно вычислить расстояние между датчиком и этой границей (D)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540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ьезоэлектрический элемент работает в режиме генерации менее 1% времени, а все остальное время — в режиме приема. При этом пациент получает минимальные дозы ультразвукового облуч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бота эхокардиограф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жени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ьтразвуковой волн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сходит на границ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а двух сред с различной акустической плотностью, приче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 в том случае,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змеры объекта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вышают длину ультразвуково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ны (1–1,5 мм). Есл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ути ее движения появляютс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мелкие частиц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менее 1 мм), происходи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отражение, а рассеяни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ьтразву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ше частота ультразвуковых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ебаний (соответственно,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меньше длина волны), тем большей разрешающей способностью  облада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бор, т.е. те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размер частиц,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которых отражаетс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льтразвук, но тем меньше проникающая способ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еимущества ультразвукового исследования</a:t>
            </a:r>
            <a:br>
              <a:rPr sz="4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Е. Ройтбергу, А.В. Струтынском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визуализаци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ягких рентгенонегативных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каней при исследовании сердца, печени, почек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д.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утстви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онизирующего облучения, оказывающего биологическое воздействие на организм;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инвазивность, безболезненность и, в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зи с этим, возможность проведения многократных повторных исследова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наблюдать движение внутренних органов в реальном масштабе времени;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авнительно невысокая стоимость иссле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граниченная разрешающая способность метода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Ультразвуковые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риборы калибруются по среднему значению скорости распространения волны в тканях (1540 м/с), хотя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в реальной среде эта скорость варьирует, что вносит определенные искажения в изображение;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аличие обратной зависимости между глубиной зондирования и разрешающей способностью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граниченные возможности исследования газосодержащих органов и полостей (легких, кишечника) в связи с тем, что они практически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е проводят ультразвуковые волны;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Операторзависимость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граничения ультразвукового исследования</a:t>
            </a:r>
            <a:br>
              <a:rPr sz="4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Е. Ройтбергу, А.В. Струтынскому с дополнениям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21:24Z</dcterms:created>
  <dc:creator>Home</dc:creator>
  <dc:description/>
  <dc:language>en-US</dc:language>
  <cp:lastModifiedBy>Пользователь Windows</cp:lastModifiedBy>
  <dcterms:modified xsi:type="dcterms:W3CDTF">2019-05-26T14:57:49Z</dcterms:modified>
  <cp:revision>127</cp:revision>
  <dc:subject/>
  <dc:title>Эхокардиография</dc:title>
</cp:coreProperties>
</file>