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874DF8-B06D-4BFD-A725-C50BBDFE9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AED96B-32E9-458F-B2D2-78127C8B195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11FB-A6AE-43C1-A00D-C5B486C3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9F75-303D-45E9-909C-0B49A94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653D-E03B-490E-BF95-038D4F90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DA9F-7D44-4453-9D9D-B3EE1B37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FB29-8C9A-4CB0-90D9-65596374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9E2C-F19B-4D77-8843-E4ED0D23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2778-2A34-41B4-BC47-119E133D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5350-51EE-4080-BB93-B3982280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20C9-92D8-457E-97EE-8169983C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CD31-D008-45F9-997E-8D4F3A5E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B0F-CE1F-4E85-8A60-48DD0CE1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2F23-D06F-47B1-9635-E4ECCED2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8E9F-52C9-40A0-A4BA-D9F18EEA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8B9B-6D63-4357-966B-CFD6821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20A0-DC3B-473A-9EDB-2ABC7CC1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82C4-2583-4E94-B084-11985A04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38B-A269-4ABD-8CF5-0F832661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D311-D4C0-4515-A7AE-B44BF865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D591-6B8B-492D-A9A1-83EE64A4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1870-7E28-448E-BCBF-13C6CB53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2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A509-E746-41E0-98DE-4BB60D81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431C-7247-4DD3-B37A-6F75A87D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B549-0D65-481F-BD71-0469B80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0D0B-B6A0-430A-8A9B-651E187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4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6"/>
          <p:cNvSpPr/>
          <p:nvPr/>
        </p:nvSpPr>
        <p:spPr>
          <a:xfrm>
            <a:off x="845784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>
            <a:off x="56916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42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363360" y="6356520"/>
            <a:ext cx="20854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0B29389-F355-4FFE-81E3-3DC6D6341C1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659160" y="6356520"/>
            <a:ext cx="28476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4000"/>
          </a:blip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784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160" y="6499440"/>
            <a:ext cx="8424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363360" y="6356520"/>
            <a:ext cx="208548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59160" y="6356520"/>
            <a:ext cx="28476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167EC06-780C-4BF8-BB08-C546921AF82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4880" y="2853000"/>
            <a:ext cx="871272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зована система керування блоком живлення промислового робота-маніпулятора з сервоприводами постійного струму  (АКБ)</a:t>
            </a:r>
            <a:endParaRPr b="0" lang="ru-RU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9680" y="4581000"/>
            <a:ext cx="5223960" cy="118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ерівник: к.т.н., доц. Конох І.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нав: студ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упи АКІТ-16-2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лощенко Д.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163160" y="329400"/>
            <a:ext cx="6817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еменчуць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ціональний університет імені Михайла Остроградсь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афедра автоматизації та інформаційн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051640" y="1845000"/>
            <a:ext cx="561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пускна робота бакалав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509640" y="2493000"/>
            <a:ext cx="212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84280" y="6309720"/>
            <a:ext cx="122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1600" spc="-1" strike="noStrike">
                <a:solidFill>
                  <a:srgbClr val="000000"/>
                </a:solidFill>
                <a:latin typeface="Palatino Linotype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62240" y="-27360"/>
            <a:ext cx="6696360" cy="69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240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Б. Алгоритм роботи мікроконтролерної системи захисту блоку живлення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24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18"/>
          </p:nvPr>
        </p:nvSpPr>
        <p:spPr>
          <a:xfrm>
            <a:off x="8582040" y="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A79F0E1-210C-4C86-B013-48AA3A57D90B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1835640" y="602640"/>
            <a:ext cx="5384880" cy="62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0" y="2520"/>
            <a:ext cx="8632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КБ. Вихідний код процедур ініціалізації і обробки перерив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Num" idx="19"/>
          </p:nvPr>
        </p:nvSpPr>
        <p:spPr>
          <a:xfrm>
            <a:off x="8632800" y="2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271768E-497C-4934-857E-5CBDD66DCDA2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1" descr=""/>
          <p:cNvPicPr/>
          <p:nvPr/>
        </p:nvPicPr>
        <p:blipFill>
          <a:blip r:embed="rId1"/>
          <a:stretch/>
        </p:blipFill>
        <p:spPr>
          <a:xfrm>
            <a:off x="579960" y="633960"/>
            <a:ext cx="7520040" cy="59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640" y="188640"/>
            <a:ext cx="2088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новки :</a:t>
            </a:r>
            <a:endParaRPr b="0" lang="ru-RU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640" y="83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моделювання наочно демонструють коректність запропонованих рішень щодо застосування трансформаторного сенсору струму з коефіцієнтом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,01 В/1 А і вимірювальним підсилювачем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алізація алгоритму роботи блоку захисту демонструє формування сигналу вимикання навантаження при перевищенні струму на 20 % відносно максимально допустимого для даного трансформатору (25 А). Також сигнал вимикання навантаження успішно формується при 3 % перевищенні номінального струму на протязі 80 секунд.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іод вимірювання теплового перевантаження в 120 секунд є достатнім для умов функціонування системи живлення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моделювання показали, що до функцій систем керування електроприводу повинні входити функції обмеження кутового прискорення валу двигуна для запобігання появи високих динамічних струмів. Задача вирішується шляхом застосування шіротно-імпульсних перетворювачів напруги з процедурами плавної зміни довжини імпульсів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20"/>
          </p:nvPr>
        </p:nvSpPr>
        <p:spPr>
          <a:xfrm>
            <a:off x="8582040" y="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C23154B-B25D-4994-9BFE-DAC5FA85CB2D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640" y="260640"/>
            <a:ext cx="87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72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 роботи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ія процесів енергоживлення сервоприводів постійного струму робота-маніпулятора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672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вдання роботи: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делювання електромеханічних процесів та визначення параметрів роботи системи захисту блоку живлення;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бір апаратних компонент, які забезпечують задані технічні вимоги до системи керування;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схемних рішень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алгоритмічного забезпечення системи;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7944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обка програмного забезпечення систем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10"/>
          </p:nvPr>
        </p:nvSpPr>
        <p:spPr>
          <a:xfrm>
            <a:off x="8543160" y="63565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4B4AE34-E839-435A-8FC0-7F5C990D55A0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251640" y="4549680"/>
            <a:ext cx="856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моги до систе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базовий варіант робота-маніпулятора: ТУР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двигуни: ПЯ-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ном. струм двигуна, А –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кратність пускового струму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ном. напруга, В –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тупенів свободи робота/кількість одночасно увімкнених, од. – 4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захист – максимально струмовий, тепло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Num" idx="11"/>
          </p:nvPr>
        </p:nvSpPr>
        <p:spPr>
          <a:xfrm>
            <a:off x="8582040" y="1044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279B022-2844-4551-A472-F25D41A6C605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44640"/>
            <a:ext cx="669636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арактеристики промислового робо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9160" y="764640"/>
            <a:ext cx="1037880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4" name="Рисунок 4" descr=""/>
          <p:cNvPicPr/>
          <p:nvPr/>
        </p:nvPicPr>
        <p:blipFill>
          <a:blip r:embed="rId1"/>
          <a:stretch/>
        </p:blipFill>
        <p:spPr>
          <a:xfrm>
            <a:off x="6208200" y="534240"/>
            <a:ext cx="2367360" cy="2767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132000" y="92448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6" name="Рисунок 7" descr=""/>
          <p:cNvPicPr/>
          <p:nvPr/>
        </p:nvPicPr>
        <p:blipFill>
          <a:blip r:embed="rId2"/>
          <a:stretch/>
        </p:blipFill>
        <p:spPr>
          <a:xfrm>
            <a:off x="4212000" y="3791520"/>
            <a:ext cx="4759560" cy="230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Таблица 3"/>
          <p:cNvGraphicFramePr/>
          <p:nvPr/>
        </p:nvGraphicFramePr>
        <p:xfrm>
          <a:off x="90720" y="1043280"/>
          <a:ext cx="3830760" cy="6120360"/>
        </p:xfrm>
        <a:graphic>
          <a:graphicData uri="http://schemas.openxmlformats.org/drawingml/2006/table">
            <a:tbl>
              <a:tblPr/>
              <a:tblGrid>
                <a:gridCol w="2752920"/>
                <a:gridCol w="1078200"/>
              </a:tblGrid>
              <a:tr h="32040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Число степенів рухлив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Тип пристрою, що управля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позицій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Об'єм оперативної пам'я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00 кадр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Споживана потужність,к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са маніпулятора,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Вантажопідйомність,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Число мір рухлив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вертикальний хід руки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кут повороту плеча, 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кут повороту ліктя, 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ий кут повороту захвату, 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+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993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а швидкість вертикального переміщення руки, м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а швидкість повороту плеча, град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3264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Максимальна швидкість повороту ліктя, град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752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Точність позиціонування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uk-UA" sz="1200" spc="-1" strike="noStrike">
                          <a:solidFill>
                            <a:schemeClr val="lt1"/>
                          </a:solidFill>
                          <a:latin typeface="Palatino Linotype"/>
                        </a:rPr>
                        <a:t>+0,05... +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оугольник 4"/>
          <p:cNvSpPr/>
          <p:nvPr/>
        </p:nvSpPr>
        <p:spPr>
          <a:xfrm>
            <a:off x="5134320" y="3327840"/>
            <a:ext cx="370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овнішній вигляд робота ТУР-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4684680" y="6165360"/>
            <a:ext cx="416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6720" algn="ctr">
              <a:lnSpc>
                <a:spcPct val="100000"/>
              </a:lnSpc>
              <a:tabLst>
                <a:tab algn="l" pos="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аєкторії руху промислового ро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51840" y="573480"/>
            <a:ext cx="372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ічні характеристики "ТУР-1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-27360"/>
            <a:ext cx="804204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7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КБ. Схема електрична структурна системи електроприводу промислового робота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Num" idx="12"/>
          </p:nvPr>
        </p:nvSpPr>
        <p:spPr>
          <a:xfrm>
            <a:off x="8582040" y="313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7667341-5D96-4014-A11D-CA5D125A4A5A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3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79560" y="751320"/>
            <a:ext cx="9064080" cy="54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1640" y="63360"/>
            <a:ext cx="870552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мітаційна модель системи живлення і сервоприводів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ох ланок промислового робо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13"/>
          </p:nvPr>
        </p:nvSpPr>
        <p:spPr>
          <a:xfrm>
            <a:off x="8582040" y="2304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02E5B28-E644-4CBD-8301-57A4CE957BB9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17280" y="1340640"/>
            <a:ext cx="904104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61360" y="0"/>
            <a:ext cx="831996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7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модельних досліджень роботи системи захисту блоку живлення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14"/>
          </p:nvPr>
        </p:nvSpPr>
        <p:spPr>
          <a:xfrm>
            <a:off x="8582040" y="-1512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41B5C49-F9D2-4E82-AA91-74059517AF6B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395640" y="764640"/>
            <a:ext cx="8481240" cy="61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5"/>
          <p:cNvSpPr/>
          <p:nvPr/>
        </p:nvSpPr>
        <p:spPr>
          <a:xfrm>
            <a:off x="107640" y="5400"/>
            <a:ext cx="90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истема керування. Схема електрична з'єдн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Num" idx="15"/>
          </p:nvPr>
        </p:nvSpPr>
        <p:spPr>
          <a:xfrm>
            <a:off x="8609040" y="-216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D2ABBDB-3DBC-4634-9888-877AF061EF4C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107640" y="864720"/>
            <a:ext cx="895896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/>
          <p:cNvSpPr/>
          <p:nvPr/>
        </p:nvSpPr>
        <p:spPr>
          <a:xfrm>
            <a:off x="107640" y="5400"/>
            <a:ext cx="90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Блок живлення. Схема електрична структу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Num" idx="16"/>
          </p:nvPr>
        </p:nvSpPr>
        <p:spPr>
          <a:xfrm>
            <a:off x="8609040" y="-216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95ED98F-A74E-427A-86D3-45BD3E11286F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07640" y="620640"/>
            <a:ext cx="1281456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26" name="Объект 4"/>
          <p:cNvGraphicFramePr/>
          <p:nvPr/>
        </p:nvGraphicFramePr>
        <p:xfrm>
          <a:off x="107640" y="620640"/>
          <a:ext cx="8842320" cy="5805000"/>
        </p:xfrm>
        <a:graphic>
          <a:graphicData uri="http://schemas.openxmlformats.org/presentationml/2006/ole">
            <p:oleObj progId="Visio.Drawing.11" r:id="rId1" spid="">
              <p:embed/>
              <p:pic>
                <p:nvPicPr>
                  <p:cNvPr id="12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" y="620640"/>
                    <a:ext cx="8842320" cy="58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5"/>
          <p:cNvSpPr/>
          <p:nvPr/>
        </p:nvSpPr>
        <p:spPr>
          <a:xfrm>
            <a:off x="107640" y="5400"/>
            <a:ext cx="90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Б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Блок живлення. Схема електрична принцип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Num" idx="17"/>
          </p:nvPr>
        </p:nvSpPr>
        <p:spPr>
          <a:xfrm>
            <a:off x="8609040" y="-2160"/>
            <a:ext cx="5616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D7437CC-C385-4EE3-A8D6-C1447F8FE398}" type="slidenum"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539640" y="512280"/>
            <a:ext cx="802836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xecutive</Template>
  <TotalTime>2004</TotalTime>
  <Application>LibreOffice/7.4.7.2$Linux_X86_64 LibreOffice_project/40$Build-2</Application>
  <AppVersion>15.0000</AppVersion>
  <Words>359</Words>
  <Paragraphs>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8:28:58Z</dcterms:created>
  <dc:creator>AIM</dc:creator>
  <dc:description/>
  <dc:language>en-US</dc:language>
  <cp:lastModifiedBy>Ice</cp:lastModifiedBy>
  <dcterms:modified xsi:type="dcterms:W3CDTF">2019-06-10T06:58:29Z</dcterms:modified>
  <cp:revision>16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