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20AE6-1E85-439B-9497-8BD7C58B9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0A749C-B380-4E63-BBB4-AED1E617AD7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838F-6ED8-486B-8917-0E8A1B35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BD30-EB64-47E7-AC12-CBF91C60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E9EF-BCD4-43BE-ACD3-EFD56141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74DC-50B2-4EE7-A915-6FA8C6AD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5D5D-5233-439B-8CD7-E1D05FD1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33B6-BB5A-40F8-935D-BFA14DE5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36F4-6D51-4834-AEA7-407AD495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6E71-E51B-4D55-AC94-4432CD7A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5314-45DF-4494-9ED6-45D0FDE7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0A96-2FAE-4EEC-82E2-7CF16DCD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0FB6-DAC4-416F-B27C-CFB1CC9D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40EB-E4E7-43B9-A567-AE210CA7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799E-4842-4E99-9E59-3CF0E7B6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FFA4-E145-4FF7-9AED-4B70C6E4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E291-71C8-4595-B8E8-DEE37CD9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6FF8-818E-4027-A150-455DC363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A934-26D8-4006-96DB-14720CCA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097A-E35B-4676-ABF7-5FFB4E0E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47C6-FEC4-4E0F-A69C-4F771307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D2F1-9606-4A4E-9034-274A52C1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6676-E791-40E5-BB13-96D2DEA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7F2C-A96F-4A21-BA16-F20FE381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18C8-4A99-4185-97D0-DC915BD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4F6F-983C-4D1F-84E3-D4215033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4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6"/>
          <p:cNvSpPr/>
          <p:nvPr/>
        </p:nvSpPr>
        <p:spPr>
          <a:xfrm>
            <a:off x="845784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>
            <a:off x="56916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42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363360" y="6356520"/>
            <a:ext cx="20854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9A911EC-82DA-4CCE-8210-998110455EF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659160" y="6356520"/>
            <a:ext cx="28476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4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784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16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363360" y="6356520"/>
            <a:ext cx="20854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59160" y="6356520"/>
            <a:ext cx="28476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6A9B601-CA6A-4B85-8682-BBD5D3EBDFD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4880" y="2853000"/>
            <a:ext cx="871272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зована система керування блоком живлення промислового робота-маніпулятора з сервоприводами постійного струму  (АКБ)</a:t>
            </a:r>
            <a:endParaRPr b="0" lang="ru-RU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9680" y="4581000"/>
            <a:ext cx="5223960" cy="118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ерівник: к.т.н., доц. Конох І.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нав: студ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упи АКІТ-16-2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лощенко Д.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163160" y="329400"/>
            <a:ext cx="6817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еменчуць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ціональний університет імені Михайла Остроградсь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афедра автоматизації та інформаційн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051640" y="1845000"/>
            <a:ext cx="561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пускна робота бакалав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509640" y="2493000"/>
            <a:ext cx="21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84280" y="6309720"/>
            <a:ext cx="122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1600" spc="-1" strike="noStrike">
                <a:solidFill>
                  <a:srgbClr val="000000"/>
                </a:solidFill>
                <a:latin typeface="Palatino Linotype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62240" y="-27360"/>
            <a:ext cx="6696360" cy="69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240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Б. Алгоритм роботи мікроконтролерної системи захисту блоку живлення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18"/>
          </p:nvPr>
        </p:nvSpPr>
        <p:spPr>
          <a:xfrm>
            <a:off x="8582040" y="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9351D02-AA99-4DD3-8A83-D9461D02476F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1835640" y="602640"/>
            <a:ext cx="5384880" cy="62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0" y="2520"/>
            <a:ext cx="8632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КБ. Вихідний код процедур ініціалізації і обробки перерив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Num" idx="19"/>
          </p:nvPr>
        </p:nvSpPr>
        <p:spPr>
          <a:xfrm>
            <a:off x="8632800" y="2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41B0036-7B62-4CDF-915A-5F3AF30827D5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579960" y="633960"/>
            <a:ext cx="7520040" cy="59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640" y="188640"/>
            <a:ext cx="2088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новки :</a:t>
            </a:r>
            <a:endParaRPr b="0" lang="ru-RU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640" y="83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моделювання наочно демонструють коректність запропонованих рішень щодо застосування трансформаторного сенсору струму з коефіцієнтом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,01 В/1 А і вимірювальним підсилювачем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алізація алгоритму роботи блоку захисту демонструє формування сигналу вимикання навантаження при перевищенні струму на 20 % відносно максимально допустимого для даного трансформатору (25 А). Також сигнал вимикання навантаження успішно формується при 3 % перевищенні номінального струму на протязі 80 секунд.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іод вимірювання теплового перевантаження в 120 секунд є достатнім для умов функціонування системи живлення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моделювання показали, що до функцій систем керування електроприводу повинні входити функції обмеження кутового прискорення валу двигуна для запобігання появи високих динамічних струмів. Задача вирішується шляхом застосування шіротно-імпульсних перетворювачів напруги з процедурами плавної зміни довжини імпульсів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20"/>
          </p:nvPr>
        </p:nvSpPr>
        <p:spPr>
          <a:xfrm>
            <a:off x="8582040" y="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17D6D8F-ED2C-4A46-9CF1-AB3D6CC9E011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640" y="260640"/>
            <a:ext cx="87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72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 роботи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ія процесів енергоживлення сервоприводів постійного струму робота-маніпулятора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672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вдання роботи: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електромеханічних процесів та визначення параметрів роботи системи захисту блоку живлення;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бір апаратних компонент, які забезпечують задані технічні вимоги до системи керування;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схемних рішень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алгоритмічного забезпечення системи;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програмного забезпечення систем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10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718A43A-56FB-44AF-A73C-A224AEBC16E8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251640" y="4549680"/>
            <a:ext cx="856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моги до систе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базовий варіант робота-маніпулятора: ТУР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двигуни: ПЯ-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ном. струм двигуна, А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ратність пускового струму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ном. напруга, В –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тупенів свободи робота/кількість одночасно увімкнених, од. – 4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хист – максимально струмовий, теп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Num" idx="11"/>
          </p:nvPr>
        </p:nvSpPr>
        <p:spPr>
          <a:xfrm>
            <a:off x="8582040" y="1044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5D8E9D7-D2BD-47E6-B56D-4B8567688508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44640"/>
            <a:ext cx="669636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арактеристики промислового робо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9160" y="764640"/>
            <a:ext cx="1037880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6208200" y="534240"/>
            <a:ext cx="2367360" cy="2767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132000" y="92448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6" name="Рисунок 7" descr=""/>
          <p:cNvPicPr/>
          <p:nvPr/>
        </p:nvPicPr>
        <p:blipFill>
          <a:blip r:embed="rId2"/>
          <a:stretch/>
        </p:blipFill>
        <p:spPr>
          <a:xfrm>
            <a:off x="4212000" y="3791520"/>
            <a:ext cx="4759560" cy="230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Таблица 3"/>
          <p:cNvGraphicFramePr/>
          <p:nvPr/>
        </p:nvGraphicFramePr>
        <p:xfrm>
          <a:off x="90720" y="1043280"/>
          <a:ext cx="3830760" cy="6120360"/>
        </p:xfrm>
        <a:graphic>
          <a:graphicData uri="http://schemas.openxmlformats.org/drawingml/2006/table">
            <a:tbl>
              <a:tblPr/>
              <a:tblGrid>
                <a:gridCol w="2752920"/>
                <a:gridCol w="1078200"/>
              </a:tblGrid>
              <a:tr h="32040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Число степенів рухлив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Тип пристрою, що управля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озицій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Об'єм оперативної пам'я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00 кадр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поживана потужність,к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са маніпулятора,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Вантажопідйомність,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Число мір рухлив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вертикальний хід руки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кут повороту плеча, 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кут повороту ліктя, 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кут повороту захвату, 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+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993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а швидкість вертикального переміщення руки, м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а швидкість повороту плеча, град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а швидкість повороту ліктя, град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Точність позиціонування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+0,05... +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оугольник 4"/>
          <p:cNvSpPr/>
          <p:nvPr/>
        </p:nvSpPr>
        <p:spPr>
          <a:xfrm>
            <a:off x="5134320" y="3327840"/>
            <a:ext cx="370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овнішній вигляд робота ТУР-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4684680" y="6165360"/>
            <a:ext cx="416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6720" algn="ctr">
              <a:lnSpc>
                <a:spcPct val="100000"/>
              </a:lnSpc>
              <a:tabLst>
                <a:tab algn="l" pos="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аєкторії руху промислового ро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51840" y="573480"/>
            <a:ext cx="372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і характеристики "ТУР-1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-27360"/>
            <a:ext cx="804204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7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КБ. Схема електрична структурна системи електроприводу промислового робота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Num" idx="12"/>
          </p:nvPr>
        </p:nvSpPr>
        <p:spPr>
          <a:xfrm>
            <a:off x="8582040" y="313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9917033-2ED1-4AC5-B62F-4B9CF8DB7785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3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79560" y="751320"/>
            <a:ext cx="9064080" cy="54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1640" y="63360"/>
            <a:ext cx="870552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мітаційна модель системи живлення і сервоприводів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ох ланок промислового робо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13"/>
          </p:nvPr>
        </p:nvSpPr>
        <p:spPr>
          <a:xfrm>
            <a:off x="8582040" y="2304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D3FDE74-82DD-4736-8338-33A5D0DADA16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17280" y="1340640"/>
            <a:ext cx="904104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1360" y="0"/>
            <a:ext cx="831996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модельних досліджень роботи системи захисту блоку живлення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14"/>
          </p:nvPr>
        </p:nvSpPr>
        <p:spPr>
          <a:xfrm>
            <a:off x="8582040" y="-151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5F8BB31-0DC7-4306-BBC7-B3B4803C75E3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395640" y="764640"/>
            <a:ext cx="8481240" cy="61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5"/>
          <p:cNvSpPr/>
          <p:nvPr/>
        </p:nvSpPr>
        <p:spPr>
          <a:xfrm>
            <a:off x="107640" y="5400"/>
            <a:ext cx="90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истема керування. Схема електрична з'єдн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Num" idx="15"/>
          </p:nvPr>
        </p:nvSpPr>
        <p:spPr>
          <a:xfrm>
            <a:off x="8609040" y="-216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A2E196F-6E04-48BB-A351-3A8C4D7BE0CB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107640" y="864720"/>
            <a:ext cx="895896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/>
          <p:cNvSpPr/>
          <p:nvPr/>
        </p:nvSpPr>
        <p:spPr>
          <a:xfrm>
            <a:off x="107640" y="5400"/>
            <a:ext cx="90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Блок живлення. Схема електрична структу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Num" idx="16"/>
          </p:nvPr>
        </p:nvSpPr>
        <p:spPr>
          <a:xfrm>
            <a:off x="8609040" y="-216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6C146A9-3A1E-40E9-AC5C-C9E73933530D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07640" y="620640"/>
            <a:ext cx="1281456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26" name="Объект 4"/>
          <p:cNvGraphicFramePr/>
          <p:nvPr/>
        </p:nvGraphicFramePr>
        <p:xfrm>
          <a:off x="107640" y="620640"/>
          <a:ext cx="8842320" cy="580500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12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" y="620640"/>
                    <a:ext cx="8842320" cy="58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5"/>
          <p:cNvSpPr/>
          <p:nvPr/>
        </p:nvSpPr>
        <p:spPr>
          <a:xfrm>
            <a:off x="107640" y="5400"/>
            <a:ext cx="90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Блок живлення. Схема електрична принцип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Num" idx="17"/>
          </p:nvPr>
        </p:nvSpPr>
        <p:spPr>
          <a:xfrm>
            <a:off x="8609040" y="-216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3BECFB5-31DB-4AC0-8D87-E41AE1C0F1B5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539640" y="512280"/>
            <a:ext cx="802836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xecutive</Template>
  <TotalTime>2004</TotalTime>
  <Application>LibreOffice/7.4.7.2$Linux_X86_64 LibreOffice_project/40$Build-2</Application>
  <AppVersion>15.0000</AppVersion>
  <Words>359</Words>
  <Paragraphs>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8:28:58Z</dcterms:created>
  <dc:creator>AIM</dc:creator>
  <dc:description/>
  <dc:language>en-US</dc:language>
  <cp:lastModifiedBy>Ice</cp:lastModifiedBy>
  <dcterms:modified xsi:type="dcterms:W3CDTF">2019-06-10T06:58:29Z</dcterms:modified>
  <cp:revision>16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