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7F7-EB96-4209-9984-5F81A8A9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F60-9DCD-4787-BB18-8307DE30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BEC-3EBA-4643-9372-2F9E99AB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73D-770B-494E-B642-D3BD4F0E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0449-5C9F-45C6-BF81-37FC89DE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0081-7332-4B0A-998C-D1D3027F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9BF3-F781-4254-BE6F-ED2A4782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A1A6-C55D-411E-AF71-CCCEF25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205A-FAB5-41F3-BC4E-2D2554A9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BBB2-DA59-43BF-988A-98C05B1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2F46-EB47-428D-9BD9-3892DFC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8693-759F-4AEF-BE96-11AFFE6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50C5-7859-4643-868A-137E0795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5A37-B7B4-4E5D-8D5F-F127F38F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E160-3985-4290-AD49-F36BB9E1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7B17-FDF9-4295-B410-185A7378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F9C6-CC7B-44D3-B74B-E6452E52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AA7-72E8-4FCC-8311-09036609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3A83-EBC6-4564-9C62-B227389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179-D495-429A-9344-8986F89E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66D-E552-4CF3-9241-C10B0678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A4A-75FD-455B-A7E2-E09FDCB4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FCF-E58B-4343-87D8-6A4316F6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118-9165-4A54-92E7-EA9BC67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650C-D4C2-4992-ACC3-7C884ED4600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E7F9-3FDB-4541-95DA-DE726224EAB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8132760" cy="252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Школьная неуспешность: стратегия и тактика работы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780000" y="4436640"/>
            <a:ext cx="47844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ебенкин Д.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раткосрочная психолого-педагогическая консультация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нципы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еседа с учащимся направлена на осознавание бессознательных стремлений и мотивационных факторов личности, определяющих учебное затруднение. Экономическая выгодность психологической работы с ребенком — раннее вмешательство и преодоление психологических проблем учащегося снижает необходимость более поздних и более сложных компенсаций и коррекц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ой задачей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мых консультаций является объективация учебного затруднения, его «овнешнение», выделение за пределы мотивационной структуры субъекта, что позволяет сделать учебное затруднение объектом для осознания и понимания учащим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784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цедура проведения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сихолого-педагогические консультации по работе с учебными проблемами проводятся на добровольной основе, что способствует более быстрому установлению рабочего альянса, чем в классических формах психологической и педагогической работы. По причине высокой мотивированности учащихся, а также из-за переживания ими актуальных, иногда острых, кризисных проблем учебной деятельности и экзистенциальных проблем, ослабленного в ситуации эмоционального кризиса контроля быстрее возникала установка на доверительность. Эти обстоятельства снижают вероятность сопротивления, интенсифицируют перенос и позволяют быстрее, чем обычно, приступить к прояснению и фокусированию конфликтных переживаний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480"/>
            <a:ext cx="85406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1680" y="764640"/>
            <a:ext cx="85406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учинг, тьюторство, менторство — как прецедент создания пространства диалога педагога и ребен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способ придать ученику уверенности и повысить его ожидания от обучения, что достигается путем построения отношений «взрослый – ученик»; при этом обеспечивается дополнительное («субъектное» время для концентрированного общения с ученик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пециальные измерения и способы педагогической оцен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Образовательные практики и техник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1680" y="980640"/>
            <a:ext cx="85406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уткое обучен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учитель понимает и учитывает потребности учащихся, особенности их повседневной жизни (например, учитывает информацию об их семьях, досуге, референтных группах и т.п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руктурированное обучение в команд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поощрение команд в зависимости от прогресса, который демонстрируют ее члены. В результате возникает персональная ответственность и значимость Другого для развит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формальные методы обучения в групп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методы, фокусирующие внимание на социальную динамику, проекты и дискуссии, а не на усвоение определенного конт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оды, основанные на задавании вопросов и исследован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использование значимых и реальных жизненных проблем как доказательство актуальности происходящего обуч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ый план и программы с высокими ожиданиями,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гласованные с преподаванием и оценивани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Работа школьных команд по преодолению школьной неуспеваемости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1680" y="134100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ный подход к анализу педагогической деятельности. Разноуровневый анализ системообразующих элементов образовательной системы, образовательной среды, образовательного пространства и как следствие — дифференцированный подход к различным территориям (городская/сельская школа, полно/малокомплектная и т.п.) и школьным команд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тика изменений -  цикличная коррекция действий школьных команд по выведению образовательной организации в эффективный режим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пецифика целеполагания при реализации проекта: учет уровней постановки целей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01680" y="1599840"/>
            <a:ext cx="8540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флексия стратегии и тактики вносимых изменений в деятельность шко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альный уровень цели - явная, декларируемая цел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еальный уровень цели - скрытый, неявный, часто бессознательны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                     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 — Результа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                    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ь  — Результ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конструкция, рефлек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414" name="Прямая со стрелкой 6"/>
          <p:cNvCxnSpPr/>
          <p:nvPr/>
        </p:nvCxnSpPr>
        <p:spPr>
          <a:xfrm>
            <a:off x="1116000" y="4149720"/>
            <a:ext cx="1008720" cy="720000"/>
          </a:xfrm>
          <a:prstGeom prst="straightConnector1">
            <a:avLst/>
          </a:prstGeom>
          <a:ln w="9360">
            <a:solidFill>
              <a:srgbClr val="9460fd"/>
            </a:solidFill>
            <a:miter/>
            <a:tailEnd len="med" type="arrow" w="med"/>
          </a:ln>
        </p:spPr>
      </p:cxnSp>
      <p:cxnSp>
        <p:nvCxnSpPr>
          <p:cNvPr id="415" name="Прямая со стрелкой 8"/>
          <p:cNvCxnSpPr/>
          <p:nvPr/>
        </p:nvCxnSpPr>
        <p:spPr>
          <a:xfrm flipH="1">
            <a:off x="970920" y="5373360"/>
            <a:ext cx="1369080" cy="1080"/>
          </a:xfrm>
          <a:prstGeom prst="straightConnector1">
            <a:avLst/>
          </a:prstGeom>
          <a:ln w="9360">
            <a:solidFill>
              <a:srgbClr val="9460f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86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Ключевые причины неуспеваемости учащегося — это действительно причины или следствия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530000"/>
            <a:ext cx="8447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каз от защитной позиции педагога по отношению к ребенку. На что можем/не можем влиять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ический фокус на поиск причин школьной неуспешности в личности детей (их состоянии, личностных особенностях, влиянии среды развития, особенностях функционирования мозга и т.п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наружение истинной причины явления: деконструкция причинно-следственных связей, рефлексия педагога, аналитическая позиция и т. 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сихолого-педагогическая работа по коррекции школьной неуспешности в формах педагогического консилиума и исследовательской позиции педагога и родителей учащего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ностная позиция педагога в отношении ребенка - познание и исследование ребенка, а также привлечение родителей к исследованию ребенка и его учеб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ровни психолого-педагогической работы со школьной неуспешност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1680" y="1196640"/>
            <a:ext cx="85183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ложность (учебного материала/деятельност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едагогический уровень - полюс объективных характеристик учебной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анализ образовательной среды, методика преподавания учебных предметов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Трудность (учебного материала/деятельност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лого-педагогический уровень — полюс объективно-субъективных характеристик педагогического проце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анализ образовательного пространства, индивидуально-типологических характеристик, учащегося, стиля познавательной деятельности, способы формирующего оценивания и т.п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Затруднения (в освоении учебного материала/деятельност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сихологический уровень — полюс субъективных характеристик учащего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пособы работы: поиск причин учебной неуспешности в динамике психической жизни ребенка, в личностной проблематике учащего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Учебные затруднения как психолого-педагогический феномен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1680" y="1196640"/>
            <a:ext cx="851832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ебные затруднения рассматриваются как прерывание освоения учебной информации субъективными факторами (В.Г. Казанская, Н.А. Кузнецова, Ю.Н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улюткин и др.), как нарушение коммуникации (И.А. Зимняя, В.А. Лабунская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одоление затруднений в познавательной деятельности является средством и специфическим результатом процесса обучения (С.М. Бондаренко, Дж. Брунер, В.С. Цетлин и др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ые контексты в понимании школьной неуспешности и учебных затруднений: 1) конструктивный, 2) деструктивны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Учебное затруднение отражает психологическую работу, осуществляемую субъектом учебной деятельности по освоению или преодолению сложности и трудности учебного материала и учеб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1680" y="1125360"/>
            <a:ext cx="84470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Учебное затруднение рассматривается как негативный феномен прерывания учебной деятельности. Учебные проблемы с этой точки зрения рассматриваются в качестве симптомов: неуспеваемость, агрессивность, лень, страх перед экзаменами и пр. являются выражением бессознательных конфликтов или проявлением невротических образова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им образом, школьная неуспешность как психологический феномен может быть описан как деятельность сил торможения, психозащитной деятельности, интенсивности внутрипсихического конфликта, фиксаций и сопротивлений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Стратегия и тактика психолого-педагогической работы со школьной неуспешностью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50920" y="1268280"/>
            <a:ext cx="84470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иоритет образовательных достижений и высокие ожидания педагог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отношению ко всем учащимся. Психологическая аксиома: в любом ребенке есть здоровая часть «Я», к котрой в процессе взаимодействия аппелирует взрослы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ыстраивание линии поддержки своих учеников: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ифференцированно для разных групп учащихся (с учебными, личностными затруднениями, наличием той или иной формы сопротивления и т. п.) и индивидуально для тех, кому это необходимо (краткосрочная психолого-педагогическая консультац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163800"/>
            <a:ext cx="854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0168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сное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заимодействие, сотрудничество с родителями, а также открытост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 отношению к другим образовательным учреждениям, своему окружению. В закрытой системе происходит накопление патологии, в открытой — она получает возможность компенс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зитивная культура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снованная на сотрудничестве, коллегиальности в принятии решений, общности целей для все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Учет видов и форм сопротивлений детей педагогическому воздействию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1680" y="1196640"/>
            <a:ext cx="84470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 на основе механизма вытесн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вязаны с тем, что усвоению учебного материала препятствует его ассоциативная связь с вытесненными травматическими инфантильными переживаниями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 на основе механизма переноса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д переносом понимается перемещение потребностей учащегося, его влечений, фантазий и отношений с фигур из предшествующей индивидуальной истории на фигуры настоящего. Негативный (отрицательный) перенос затрудняет или блокирует учебную деятельность, позитивный (положительный) способствует развитию учащего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00160"/>
            <a:ext cx="854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168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, связанные с вторичной выгодой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Вторичной выгодой, вторичным выигрыше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являются те практические преимущества, которые учащийся может получить, используя симптом, чтобы повлиять на окружающих или управлять ими. Неуспеваемость школьника может быть связана с получением дополнительного внимания, способом реализации агрессивных импульсов по отношению к педагогу или родителю, способом снижения нагрузки в учебной деятельности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противления, сопровождающиеся соматиз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14:36:51Z</dcterms:created>
  <dc:creator>User</dc:creator>
  <dc:description/>
  <dc:language>en-US</dc:language>
  <cp:lastModifiedBy>Гребенкин</cp:lastModifiedBy>
  <dcterms:modified xsi:type="dcterms:W3CDTF">2018-10-18T20:22:33Z</dcterms:modified>
  <cp:revision>82</cp:revision>
  <dc:subject/>
  <dc:title>Особенности переживаний телесной границы у детей с задержкой психического развития</dc:title>
</cp:coreProperties>
</file>