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9570-DB5B-4F14-B240-2085220F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9921-896C-437C-AA69-13DC102E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A9DF-50C8-41EE-A6ED-ACA47A475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FA9A-B4BD-4E26-8B0D-570547AD6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0130-475F-4C58-9FAB-0F0C397C3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05C7-2749-4F00-B456-83545C37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BBD7-C6BB-4D9F-92B4-1ECE5762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1B43-BC67-40FE-9019-0FCCE309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D8D2-5986-4A14-B73D-15CE4222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57AE-07F8-47FD-A316-6D562A29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6DD0-6BD3-4425-B552-FB0532AB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14D5-98A3-4068-8D49-1E546423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C142-DE85-44C8-B25B-115F4098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A7C6-B4DF-4426-8866-9ADB8A84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CEEC-5EF6-4D72-B012-11204DF6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21FF-CF35-4DC2-8E93-66E017FC5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BF39-A1CD-4F94-B37C-2D9311881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FEE6-D335-4BA6-91D8-3733A25C8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48DC-7310-4E99-B36C-1E22958F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FDFB-5054-4DC8-96C5-EED63A88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E8B3-16AB-450D-8629-0F7B5924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B97B-B459-4F17-9A2D-7B2A9A87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BD30-25F3-4D15-B952-3CC7525E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634B-4550-4620-B445-0C6CD48A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6E8F-5B36-42FA-B46F-50124595355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C572-CDEE-469F-8A9D-5AE6EB1D5DE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4000" y="1628280"/>
            <a:ext cx="8132760" cy="2521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ahoma"/>
              </a:rPr>
              <a:t>Школьная неуспешность: стратегия и тактика работы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3780000" y="4436640"/>
            <a:ext cx="478440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ребенкин Д.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06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Краткосрочная психолого-педагогическая консультация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01680" y="1125360"/>
            <a:ext cx="85406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сновн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инципы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Беседа с учащимся направлена на осознавание бессознательных стремлений и мотивационных факторов личности, определяющих учебное затруднение. Экономическая выгодность психологической работы с ребенком — раннее вмешательство и преодоление психологических проблем учащегося снижает необходимость более поздних и более сложных компенсаций и коррекц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сновной задачей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одимых консультаций является объективация учебного затруднения, его «овнешнение», выделение за пределы мотивационной структуры субъекта, что позволяет сделать учебное затруднение объектом для осознания и понимания учащим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78480"/>
            <a:ext cx="8540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01680" y="907920"/>
            <a:ext cx="854064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оцедура проведения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сихолого-педагогические консультации по работе с учебными проблемами проводятся на добровольной основе, что способствует более быстрому установлению рабочего альянса, чем в классических формах психологической и педагогической работы. По причине высокой мотивированности учащихся, а также из-за переживания ими актуальных, иногда острых, кризисных проблем учебной деятельности и экзистенциальных проблем, ослабленного в ситуации эмоционального кризиса контроля быстрее возникала установка на доверительность. Эти обстоятельства снижают вероятность сопротивления, интенсифицируют перенос и позволяют быстрее, чем обычно, приступить к прояснению и фокусированию конфликтных переживаний учащих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6480"/>
            <a:ext cx="8540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1680" y="764640"/>
            <a:ext cx="854064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учинг, тьюторство, менторство — как прецедент создания пространства диалога педагога и ребен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способ придать ученику уверенности и повысить его ожидания от обучения, что достигается путем построения отношений «взрослый – ученик»; при этом обеспечивается дополнительное («субъектное» время для концентрированного общения с ученик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пециальные измерения и способы педагогической оцен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Образовательные практики и техник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01680" y="980640"/>
            <a:ext cx="85406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уткое обучени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учитель понимает и учитывает потребности учащихся, особенности их повседневной жизни (например, учитывает информацию об их семьях, досуге, референтных группах и т.п.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труктурированное обучение в команд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поощрение команд в зависимости от прогресса, который демонстрируют ее члены. В результате возникает персональная ответственность и значимость Другого для развит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еформальные методы обучения в групп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методы, фокусирующие внимание на социальную динамику, проекты и дискуссии, а не на усвоение определенного контен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етоды, основанные на задавании вопросов и исследовани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использование значимых и реальных жизненных проблем как доказательство актуальности происходящего обуч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чебный план и программы с высокими ожиданиями,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гласованные с преподаванием и оценивание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Работа школьных команд по преодолению школьной неуспеваемост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1680" y="1341000"/>
            <a:ext cx="8540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стемный подход к анализу педагогической деятельности. Разноуровневый анализ системообразующих элементов образовательной системы, образовательной среды, образовательного пространства и как следствие — дифференцированный подход к различным территориям (городская/сельская школа, полно/малокомплектная и т.п.) и школьным команд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ктика изменений -  цикличная коррекция действий школьных команд по выведению образовательной организации в эффективный режим рабо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Специфика целеполагания при реализации проекта: учет уровней постановки целей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01680" y="1599840"/>
            <a:ext cx="85406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флексия стратегии и тактики вносимых изменений в деятельность школ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ормальный уровень цели - явная, декларируемая цел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альный уровень цели - скрытый, неявный, часто бессознательны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                     Ф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ль  — Результа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                    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ль  — Результа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конструкция, рефлекс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414" name="Прямая со стрелкой 6"/>
          <p:cNvCxnSpPr/>
          <p:nvPr/>
        </p:nvCxnSpPr>
        <p:spPr>
          <a:xfrm>
            <a:off x="1116000" y="4149720"/>
            <a:ext cx="1008720" cy="720000"/>
          </a:xfrm>
          <a:prstGeom prst="straightConnector1">
            <a:avLst/>
          </a:prstGeom>
          <a:ln w="9360">
            <a:solidFill>
              <a:srgbClr val="9460fd"/>
            </a:solidFill>
            <a:miter/>
            <a:tailEnd len="med" type="arrow" w="med"/>
          </a:ln>
        </p:spPr>
      </p:cxnSp>
      <p:cxnSp>
        <p:nvCxnSpPr>
          <p:cNvPr id="415" name="Прямая со стрелкой 8"/>
          <p:cNvCxnSpPr/>
          <p:nvPr/>
        </p:nvCxnSpPr>
        <p:spPr>
          <a:xfrm flipH="1">
            <a:off x="970920" y="5373360"/>
            <a:ext cx="1369080" cy="1080"/>
          </a:xfrm>
          <a:prstGeom prst="straightConnector1">
            <a:avLst/>
          </a:prstGeom>
          <a:ln w="9360">
            <a:solidFill>
              <a:srgbClr val="9460f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86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Ключевые причины неуспеваемости учащегося — это действительно причины или следствия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24000" y="1530000"/>
            <a:ext cx="84470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каз от защитной позиции педагога по отношению к ребенку. На что можем/не можем влиять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сихологический фокус на поиск причин школьной неуспешности в личности детей (их состоянии, личностных особенностях, влиянии среды развития, особенностях функционирования мозга и т.п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наружение истинной причины явления: деконструкция причинно-следственных связей, рефлексия педагога, аналитическая позиция и т. п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сихолого-педагогическая работа по коррекции школьной неуспешности в формах педагогического консилиума и исследовательской позиции педагога и родителей учащего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нностная позиция педагога в отношении ребенка - познание и исследование ребенка, а также привлечение родителей к исследованию ребенка и его учебной деятель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Уровни психолого-педагогической работы со школьной неуспешностью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01680" y="1196640"/>
            <a:ext cx="851832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Сложность (учебного материала/деятельности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дагогический уровень - полюс объективных характеристик учебной деятель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пособы работы: анализ образовательной среды, методика преподавания учебных предмет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Трудность (учебного материала/деятельности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сихолого-педагогический уровень — полюс объективно-субъективных характеристик педагогического процесс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пособы работы: анализ образовательного пространства, индивидуально-типологических характеристик, учащегося, стиля познавательной деятельности, способы формирующего оценивания и т.п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Затруднения (в освоении учебного материала/деятельност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сихологический уровень — полюс субъективных характеристик учащегос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пособы работы: поиск причин учебной неуспешности в динамике психической жизни ребенка, в личностной проблематике учащегос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Учебные затруднения как психолого-педагогический феномен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01680" y="1196640"/>
            <a:ext cx="851832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ебные затруднения рассматриваются как прерывание освоения учебной информации субъективными факторами (В.Г. Казанская, Н.А. Кузнецова, Ю.Н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улюткин и др.), как нарушение коммуникации (И.А. Зимняя, В.А. Лабунская и др.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одоление затруднений в познавательной деятельности является средством и специфическим результатом процесса обучения (С.М. Бондаренко, Дж. Брунер, В.С. Цетлин и др.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новные контексты в понимании школьной неуспешности и учебных затруднений: 1) конструктивный, 2) деструктивны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Учебное затруднение отражает психологическую работу, осуществляемую субъектом учебной деятельности по освоению или преодолению сложности и трудности учебного материала и учебной деятель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01680" y="1125360"/>
            <a:ext cx="84470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Учебное затруднение рассматривается как негативный феномен прерывания учебной деятельности. Учебные проблемы с этой точки зрения рассматриваются в качестве симптомов: неуспеваемость, агрессивность, лень, страх перед экзаменами и пр. являются выражением бессознательных конфликтов или проявлением невротических образова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ким образом, школьная неуспешность как психологический феномен может быть описан как деятельность сил торможения, психозащитной деятельности, интенсивности внутрипсихического конфликта, фиксаций и сопротивлений учащего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Стратегия и тактика психолого-педагогической работы со школьной неуспешностью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50920" y="1268280"/>
            <a:ext cx="84470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иоритет образовательных достижений и высокие ожидания педагогов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о отношению ко всем учащимся. Психологическая аксиома: в любом ребенке есть здоровая часть «Я», к котрой в процессе взаимодействия аппелирует взрослы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ыстраивание линии поддержки своих учеников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дифференцированно для разных групп учащихся (с учебными, личностными затруднениями, наличием той или иной формы сопротивления и т. п.) и индивидуально для тех, кому это необходимо (краткосрочная психолого-педагогическая консультаци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163800"/>
            <a:ext cx="854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01680" y="836280"/>
            <a:ext cx="84470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сное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заимодействие, сотрудничество с родителями, а также открытост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о отношению к другим образовательным учреждениям, своему окружению. В закрытой системе происходит накопление патологии, в открытой — она получает возможность компенс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зитивная культура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основанная на сотрудничестве, коллегиальности в принятии решений, общности целей для все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Учет видов и форм сопротивлений детей педагогическому воздействию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1680" y="1196640"/>
            <a:ext cx="844704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противления на основе механизма вытеснен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вязаны с тем, что усвоению учебного материала препятствует его ассоциативная связь с вытесненными травматическими инфантильными переживаниями учащего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противления на основе механизма переноса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од переносом понимается перемещение потребностей учащегося, его влечений, фантазий и отношений с фигур из предшествующей индивидуальной истории на фигуры настоящего. Негативный (отрицательный) перенос затрудняет или блокирует учебную деятельность, позитивный (положительный) способствует развитию учащего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00160"/>
            <a:ext cx="854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01680" y="836280"/>
            <a:ext cx="84470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противления, связанные с вторичной выгодой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Вторичной выгодой, вторичным выигрыше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являются те практические преимущества, которые учащийся может получить, используя симптом, чтобы повлиять на окружающих или управлять ими. Неуспеваемость школьника может быть связана с получением дополнительного внимания, способом реализации агрессивных импульсов по отношению к педагогу или родителю, способом снижения нагрузки в учебной деятельности и д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противления, сопровождающиеся соматизаци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4:36:51Z</dcterms:created>
  <dc:creator>User</dc:creator>
  <dc:description/>
  <dc:language>en-US</dc:language>
  <cp:lastModifiedBy>Гребенкин</cp:lastModifiedBy>
  <dcterms:modified xsi:type="dcterms:W3CDTF">2018-10-18T20:22:33Z</dcterms:modified>
  <cp:revision>82</cp:revision>
  <dc:subject/>
  <dc:title>Особенности переживаний телесной границы у детей с задержкой психического развития</dc:title>
</cp:coreProperties>
</file>