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302D-02C2-4C6B-90B2-ECB039442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AE58-2BC3-4931-B559-1894E9D4F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1D76-F02A-4D6D-A9DB-81B01C7A9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0E5B-D615-4B57-B979-C922A04A4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9C367-CD26-4093-B8B9-C4672720B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9B04E-E511-4992-AEFD-17DB8DCE2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EDB9F-EE15-4D05-A52D-479EA41B3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F24B6-8685-42CD-A613-FADE34A34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597E8-8847-4355-A214-2E0B81971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1DCAF-0B52-45C4-BF69-DB2EB0CAC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FBCD8-8C9B-4ACF-844D-C8BCE9A59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74FD-CADA-4209-B5DF-D2140E21E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2B853-E106-447B-BD74-51C9A70A1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481EB-74C3-4BC6-82C6-13F631758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87665-A29C-46AD-BD81-2F28F59DC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BCF28-43B4-4037-960E-727CDE217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F8EC7-9BD2-4C19-9F4A-DC356D4C9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E8CB-7B19-4C15-8368-62B915055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A3B8-F316-4CD8-BB1A-3261FB68C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AC56-E8EB-4CBA-BB66-3158A40F8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8708-8684-4454-8325-18C276A21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252F-D3EF-42AC-8F2E-B77763E8E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3E21-ACA3-4B68-B5AF-13828B7F5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BECB-2181-4716-AF49-3D5F091E3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>
                  <a:gd name="textAreaLeft" fmla="*/ 0 w 4469040"/>
                  <a:gd name="textAreaRight" fmla="*/ 4469400 w 4469040"/>
                  <a:gd name="textAreaTop" fmla="*/ 0 h 3349800"/>
                  <a:gd name="textAreaBottom" fmla="*/ 3350160 h 3349800"/>
                </a:gdLst>
                <a:ahLst/>
                <a:rect l="textAreaLeft" t="textAreaTop" r="textAreaRight" b="textAreaBottom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>
                  <a:gd name="textAreaLeft" fmla="*/ 0 w 6296040"/>
                  <a:gd name="textAreaRight" fmla="*/ 6296400 w 6296040"/>
                  <a:gd name="textAreaTop" fmla="*/ 0 h 3756240"/>
                  <a:gd name="textAreaBottom" fmla="*/ 3756600 h 3756240"/>
                </a:gdLst>
                <a:ahLst/>
                <a:rect l="textAreaLeft" t="textAreaTop" r="textAreaRight" b="textAreaBottom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>
                  <a:gd name="textAreaLeft" fmla="*/ 0 w 9099720"/>
                  <a:gd name="textAreaRight" fmla="*/ 9099720 w 9099720"/>
                  <a:gd name="textAreaTop" fmla="*/ 0 h 4932360"/>
                  <a:gd name="textAreaBottom" fmla="*/ 4932720 h 4932360"/>
                </a:gdLst>
                <a:ahLst/>
                <a:rect l="textAreaLeft" t="textAreaTop" r="textAreaRight" b="textAreaBottom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>
                  <a:gd name="textAreaLeft" fmla="*/ 0 w 8750520"/>
                  <a:gd name="textAreaRight" fmla="*/ 8750880 w 8750520"/>
                  <a:gd name="textAreaTop" fmla="*/ 0 h 4381560"/>
                  <a:gd name="textAreaBottom" fmla="*/ 4381920 h 4381560"/>
                </a:gdLst>
                <a:ahLst/>
                <a:rect l="textAreaLeft" t="textAreaTop" r="textAreaRight" b="textAreaBottom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>
                  <a:gd name="textAreaLeft" fmla="*/ 0 w 1254240"/>
                  <a:gd name="textAreaRight" fmla="*/ 1254600 w 1254240"/>
                  <a:gd name="textAreaTop" fmla="*/ 0 h 1887480"/>
                  <a:gd name="textAreaBottom" fmla="*/ 1887840 h 1887480"/>
                </a:gdLst>
                <a:ahLst/>
                <a:rect l="textAreaLeft" t="textAreaTop" r="textAreaRight" b="textAreaBottom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>
                  <a:gd name="textAreaLeft" fmla="*/ 0 w 919440"/>
                  <a:gd name="textAreaRight" fmla="*/ 919800 w 919440"/>
                  <a:gd name="textAreaTop" fmla="*/ 0 h 1773360"/>
                  <a:gd name="textAreaBottom" fmla="*/ 1773720 h 1773360"/>
                </a:gdLst>
                <a:ahLst/>
                <a:rect l="textAreaLeft" t="textAreaTop" r="textAreaRight" b="textAreaBottom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>
                  <a:gd name="textAreaLeft" fmla="*/ 0 w 3922920"/>
                  <a:gd name="textAreaRight" fmla="*/ 3923280 w 3922920"/>
                  <a:gd name="textAreaTop" fmla="*/ 0 h 3803400"/>
                  <a:gd name="textAreaBottom" fmla="*/ 3803760 h 3803400"/>
                </a:gdLst>
                <a:ahLst/>
                <a:rect l="textAreaLeft" t="textAreaTop" r="textAreaRight" b="textAreaBottom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>
                  <a:gd name="textAreaLeft" fmla="*/ 0 w 2221200"/>
                  <a:gd name="textAreaRight" fmla="*/ 2221560 w 2221200"/>
                  <a:gd name="textAreaTop" fmla="*/ 0 h 2141640"/>
                  <a:gd name="textAreaBottom" fmla="*/ 2142000 h 2141640"/>
                </a:gdLst>
                <a:ahLst/>
                <a:rect l="textAreaLeft" t="textAreaTop" r="textAreaRight" b="textAreaBottom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>
                  <a:gd name="textAreaLeft" fmla="*/ 0 w 1993680"/>
                  <a:gd name="textAreaRight" fmla="*/ 1994040 w 1993680"/>
                  <a:gd name="textAreaTop" fmla="*/ 0 h 1285920"/>
                  <a:gd name="textAreaBottom" fmla="*/ 1286280 h 1285920"/>
                </a:gdLst>
                <a:ahLst/>
                <a:rect l="textAreaLeft" t="textAreaTop" r="textAreaRight" b="textAreaBottom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>
                  <a:gd name="textAreaLeft" fmla="*/ 0 w 4521240"/>
                  <a:gd name="textAreaRight" fmla="*/ 4521600 w 4521240"/>
                  <a:gd name="textAreaTop" fmla="*/ 0 h 1251000"/>
                  <a:gd name="textAreaBottom" fmla="*/ 1251000 h 1251000"/>
                </a:gdLst>
                <a:ahLst/>
                <a:rect l="textAreaLeft" t="textAreaTop" r="textAreaRight" b="textAreaBottom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>
                  <a:gd name="textAreaLeft" fmla="*/ 0 w 506520"/>
                  <a:gd name="textAreaRight" fmla="*/ 506880 w 506520"/>
                  <a:gd name="textAreaTop" fmla="*/ 0 h 1355760"/>
                  <a:gd name="textAreaBottom" fmla="*/ 1356120 h 1355760"/>
                </a:gdLst>
                <a:ahLst/>
                <a:rect l="textAreaLeft" t="textAreaTop" r="textAreaRight" b="textAreaBottom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>
                  <a:gd name="textAreaLeft" fmla="*/ 0 w 1025280"/>
                  <a:gd name="textAreaRight" fmla="*/ 1025640 w 1025280"/>
                  <a:gd name="textAreaTop" fmla="*/ 0 h 622440"/>
                  <a:gd name="textAreaBottom" fmla="*/ 622800 h 622440"/>
                </a:gdLst>
                <a:ahLst/>
                <a:rect l="textAreaLeft" t="textAreaTop" r="textAreaRight" b="textAreaBottom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>
                  <a:gd name="textAreaLeft" fmla="*/ 0 w 4343400"/>
                  <a:gd name="textAreaRight" fmla="*/ 4343760 w 4343400"/>
                  <a:gd name="textAreaTop" fmla="*/ 0 h 3048120"/>
                  <a:gd name="textAreaBottom" fmla="*/ 3048480 h 3048120"/>
                </a:gdLst>
                <a:ahLst/>
                <a:rect l="textAreaLeft" t="textAreaTop" r="textAreaRight" b="textAreaBottom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>
                  <a:gd name="textAreaLeft" fmla="*/ 0 w 324000"/>
                  <a:gd name="textAreaRight" fmla="*/ 324360 w 32400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>
                  <a:gd name="textAreaLeft" fmla="*/ 0 w 160200"/>
                  <a:gd name="textAreaRight" fmla="*/ 160560 w 16020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244440"/>
                  <a:gd name="textAreaBottom" fmla="*/ 244800 h 244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>
                  <a:gd name="textAreaLeft" fmla="*/ 0 w 552600"/>
                  <a:gd name="textAreaRight" fmla="*/ 552960 w 552600"/>
                  <a:gd name="textAreaTop" fmla="*/ 0 h 2019240"/>
                  <a:gd name="textAreaBottom" fmla="*/ 2019240 h 2019240"/>
                </a:gdLst>
                <a:ahLst/>
                <a:rect l="textAreaLeft" t="textAreaTop" r="textAreaRight" b="textAreaBottom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F6706-4CF8-45FB-82A7-6AB071F6B5F2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>
                  <a:gd name="textAreaLeft" fmla="*/ 0 w 4469040"/>
                  <a:gd name="textAreaRight" fmla="*/ 4469400 w 4469040"/>
                  <a:gd name="textAreaTop" fmla="*/ 0 h 3349800"/>
                  <a:gd name="textAreaBottom" fmla="*/ 3350160 h 3349800"/>
                </a:gdLst>
                <a:ahLst/>
                <a:rect l="textAreaLeft" t="textAreaTop" r="textAreaRight" b="textAreaBottom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>
                  <a:gd name="textAreaLeft" fmla="*/ 0 w 6296040"/>
                  <a:gd name="textAreaRight" fmla="*/ 6296400 w 6296040"/>
                  <a:gd name="textAreaTop" fmla="*/ 0 h 3756240"/>
                  <a:gd name="textAreaBottom" fmla="*/ 3756600 h 3756240"/>
                </a:gdLst>
                <a:ahLst/>
                <a:rect l="textAreaLeft" t="textAreaTop" r="textAreaRight" b="textAreaBottom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>
                  <a:gd name="textAreaLeft" fmla="*/ 0 w 9099720"/>
                  <a:gd name="textAreaRight" fmla="*/ 9099720 w 9099720"/>
                  <a:gd name="textAreaTop" fmla="*/ 0 h 4932360"/>
                  <a:gd name="textAreaBottom" fmla="*/ 4932720 h 4932360"/>
                </a:gdLst>
                <a:ahLst/>
                <a:rect l="textAreaLeft" t="textAreaTop" r="textAreaRight" b="textAreaBottom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>
                  <a:gd name="textAreaLeft" fmla="*/ 0 w 8750520"/>
                  <a:gd name="textAreaRight" fmla="*/ 8750880 w 8750520"/>
                  <a:gd name="textAreaTop" fmla="*/ 0 h 4381560"/>
                  <a:gd name="textAreaBottom" fmla="*/ 4381920 h 4381560"/>
                </a:gdLst>
                <a:ahLst/>
                <a:rect l="textAreaLeft" t="textAreaTop" r="textAreaRight" b="textAreaBottom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>
                  <a:gd name="textAreaLeft" fmla="*/ 0 w 1254240"/>
                  <a:gd name="textAreaRight" fmla="*/ 1254600 w 1254240"/>
                  <a:gd name="textAreaTop" fmla="*/ 0 h 1887480"/>
                  <a:gd name="textAreaBottom" fmla="*/ 1887840 h 1887480"/>
                </a:gdLst>
                <a:ahLst/>
                <a:rect l="textAreaLeft" t="textAreaTop" r="textAreaRight" b="textAreaBottom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>
                  <a:gd name="textAreaLeft" fmla="*/ 0 w 919440"/>
                  <a:gd name="textAreaRight" fmla="*/ 919800 w 919440"/>
                  <a:gd name="textAreaTop" fmla="*/ 0 h 1773360"/>
                  <a:gd name="textAreaBottom" fmla="*/ 1773720 h 1773360"/>
                </a:gdLst>
                <a:ahLst/>
                <a:rect l="textAreaLeft" t="textAreaTop" r="textAreaRight" b="textAreaBottom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>
                  <a:gd name="textAreaLeft" fmla="*/ 0 w 3922920"/>
                  <a:gd name="textAreaRight" fmla="*/ 3923280 w 3922920"/>
                  <a:gd name="textAreaTop" fmla="*/ 0 h 3803400"/>
                  <a:gd name="textAreaBottom" fmla="*/ 3803760 h 3803400"/>
                </a:gdLst>
                <a:ahLst/>
                <a:rect l="textAreaLeft" t="textAreaTop" r="textAreaRight" b="textAreaBottom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>
                  <a:gd name="textAreaLeft" fmla="*/ 0 w 2221200"/>
                  <a:gd name="textAreaRight" fmla="*/ 2221560 w 2221200"/>
                  <a:gd name="textAreaTop" fmla="*/ 0 h 2141640"/>
                  <a:gd name="textAreaBottom" fmla="*/ 2142000 h 2141640"/>
                </a:gdLst>
                <a:ahLst/>
                <a:rect l="textAreaLeft" t="textAreaTop" r="textAreaRight" b="textAreaBottom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>
                  <a:gd name="textAreaLeft" fmla="*/ 0 w 1993680"/>
                  <a:gd name="textAreaRight" fmla="*/ 1994040 w 1993680"/>
                  <a:gd name="textAreaTop" fmla="*/ 0 h 1285920"/>
                  <a:gd name="textAreaBottom" fmla="*/ 1286280 h 1285920"/>
                </a:gdLst>
                <a:ahLst/>
                <a:rect l="textAreaLeft" t="textAreaTop" r="textAreaRight" b="textAreaBottom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>
                  <a:gd name="textAreaLeft" fmla="*/ 0 w 4521240"/>
                  <a:gd name="textAreaRight" fmla="*/ 4521600 w 4521240"/>
                  <a:gd name="textAreaTop" fmla="*/ 0 h 1251000"/>
                  <a:gd name="textAreaBottom" fmla="*/ 1251000 h 1251000"/>
                </a:gdLst>
                <a:ahLst/>
                <a:rect l="textAreaLeft" t="textAreaTop" r="textAreaRight" b="textAreaBottom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>
                  <a:gd name="textAreaLeft" fmla="*/ 0 w 506520"/>
                  <a:gd name="textAreaRight" fmla="*/ 506880 w 506520"/>
                  <a:gd name="textAreaTop" fmla="*/ 0 h 1355760"/>
                  <a:gd name="textAreaBottom" fmla="*/ 1356120 h 1355760"/>
                </a:gdLst>
                <a:ahLst/>
                <a:rect l="textAreaLeft" t="textAreaTop" r="textAreaRight" b="textAreaBottom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>
                  <a:gd name="textAreaLeft" fmla="*/ 0 w 1025280"/>
                  <a:gd name="textAreaRight" fmla="*/ 1025640 w 1025280"/>
                  <a:gd name="textAreaTop" fmla="*/ 0 h 622440"/>
                  <a:gd name="textAreaBottom" fmla="*/ 622800 h 622440"/>
                </a:gdLst>
                <a:ahLst/>
                <a:rect l="textAreaLeft" t="textAreaTop" r="textAreaRight" b="textAreaBottom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>
                  <a:gd name="textAreaLeft" fmla="*/ 0 w 4343400"/>
                  <a:gd name="textAreaRight" fmla="*/ 4343760 w 4343400"/>
                  <a:gd name="textAreaTop" fmla="*/ 0 h 3048120"/>
                  <a:gd name="textAreaBottom" fmla="*/ 3048480 h 3048120"/>
                </a:gdLst>
                <a:ahLst/>
                <a:rect l="textAreaLeft" t="textAreaTop" r="textAreaRight" b="textAreaBottom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>
                  <a:gd name="textAreaLeft" fmla="*/ 0 w 324000"/>
                  <a:gd name="textAreaRight" fmla="*/ 324360 w 32400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>
                  <a:gd name="textAreaLeft" fmla="*/ 0 w 160200"/>
                  <a:gd name="textAreaRight" fmla="*/ 160560 w 16020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244440"/>
                  <a:gd name="textAreaBottom" fmla="*/ 244800 h 244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>
                  <a:gd name="textAreaLeft" fmla="*/ 0 w 552600"/>
                  <a:gd name="textAreaRight" fmla="*/ 552960 w 552600"/>
                  <a:gd name="textAreaTop" fmla="*/ 0 h 2019240"/>
                  <a:gd name="textAreaBottom" fmla="*/ 2019240 h 2019240"/>
                </a:gdLst>
                <a:ahLst/>
                <a:rect l="textAreaLeft" t="textAreaTop" r="textAreaRight" b="textAreaBottom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5EC11-4167-4DD7-AA8D-507B9BEAFE15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4000" y="1628280"/>
            <a:ext cx="8132760" cy="2521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Tahoma"/>
              </a:rPr>
              <a:t>Школьная неуспешность: стратегия и тактика работы</a:t>
            </a:r>
            <a:br>
              <a:rPr sz="3600"/>
            </a:b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3780000" y="4436640"/>
            <a:ext cx="4784400" cy="10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ребенкин Д.Ю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4064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Краткосрочная психолого-педагогическая консультация</a:t>
            </a:r>
            <a:br>
              <a:rPr sz="2400"/>
            </a:b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301680" y="1125360"/>
            <a:ext cx="85406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Основные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ринципы.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Беседа с учащимся направлена на осознавание бессознательных стремлений и мотивационных факторов личности, определяющих учебное затруднение. Экономическая выгодность психологической работы с ребенком — раннее вмешательство и преодоление психологических проблем учащегося снижает необходимость более поздних и более сложных компенсаций и коррекци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just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Основной задачей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водимых консультаций является объективация учебного затруднения, его «овнешнение», выделение за пределы мотивационной структуры субъекта, что позволяет сделать учебное затруднение объектом для осознания и понимания учащимс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1680" y="78480"/>
            <a:ext cx="85406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301680" y="907920"/>
            <a:ext cx="8540640" cy="519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just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роцедура проведения.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Психолого-педагогические консультации по работе с учебными проблемами проводятся на добровольной основе, что способствует более быстрому установлению рабочего альянса, чем в классических формах психологической и педагогической работы. По причине высокой мотивированности учащихся, а также из-за переживания ими актуальных, иногда острых, кризисных проблем учебной деятельности и экзистенциальных проблем, ослабленного в ситуации эмоционального кризиса контроля быстрее возникала установка на доверительность. Эти обстоятельства снижают вероятность сопротивления, интенсифицируют перенос и позволяют быстрее, чем обычно, приступить к прояснению и фокусированию конфликтных переживаний учащихс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1680" y="6480"/>
            <a:ext cx="85406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301680" y="764640"/>
            <a:ext cx="8540640" cy="57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Коучинг, тьюторство, менторство — как прецедент создания пространства диалога педагога и ребенк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Это способ придать ученику уверенности и повысить его ожидания от обучения, что достигается путем построения отношений «взрослый – ученик»; при этом обеспечивается дополнительное («субъектное» время для концентрированного общения с ученикам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Специальные измерения и способы педагогической оценк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Образовательные практики и техники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301680" y="980640"/>
            <a:ext cx="854064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Чуткое обучение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– учитель понимает и учитывает потребности учащихся, особенности их повседневной жизни (например, учитывает информацию об их семьях, досуге, референтных группах и т.п.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Структурированное обучение в команде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– поощрение команд в зависимости от прогресса, который демонстрируют ее члены. В результате возникает персональная ответственность и значимость Другого для развития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Неформальные методы обучения в группе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– методы, фокусирующие внимание на социальную динамику, проекты и дискуссии, а не на усвоение определенного контент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Методы, основанные на задавании вопросов и исследовании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– использование значимых и реальных жизненных проблем как доказательство актуальности происходящего обучени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Учебный план и программы с высокими ожиданиями,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огласованные с преподаванием и оценивание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Работа школьных команд по преодолению школьной неуспеваемости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301680" y="1341000"/>
            <a:ext cx="85406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истемный подход к анализу педагогической деятельности. Разноуровневый анализ системообразующих элементов образовательной системы, образовательной среды, образовательного пространства и как следствие — дифференцированный подход к различным территориям (городская/сельская школа, полно/малокомплектная и т.п.) и школьным команда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актика изменений -  цикличная коррекция действий школьных команд по выведению образовательной организации в эффективный режим работ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Специфика целеполагания при реализации проекта: учет уровней постановки целей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301680" y="1599840"/>
            <a:ext cx="854064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ефлексия стратегии и тактики вносимых изменений в деятельность школ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Формальный уровень цели - явная, декларируемая цель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еальный уровень цели - скрытый, неявный, часто бессознательный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Ф                     Ф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Цель  — Результат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                    Р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Цель  — Результа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еконструкция, рефлекс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414" name="Прямая со стрелкой 6"/>
          <p:cNvCxnSpPr/>
          <p:nvPr/>
        </p:nvCxnSpPr>
        <p:spPr>
          <a:xfrm>
            <a:off x="1116000" y="4149720"/>
            <a:ext cx="1008720" cy="720000"/>
          </a:xfrm>
          <a:prstGeom prst="straightConnector1">
            <a:avLst/>
          </a:prstGeom>
          <a:ln w="9360">
            <a:solidFill>
              <a:srgbClr val="9460fd"/>
            </a:solidFill>
            <a:miter/>
            <a:tailEnd len="med" type="arrow" w="med"/>
          </a:ln>
        </p:spPr>
      </p:cxnSp>
      <p:cxnSp>
        <p:nvCxnSpPr>
          <p:cNvPr id="415" name="Прямая со стрелкой 8"/>
          <p:cNvCxnSpPr/>
          <p:nvPr/>
        </p:nvCxnSpPr>
        <p:spPr>
          <a:xfrm flipH="1">
            <a:off x="970920" y="5373360"/>
            <a:ext cx="1369080" cy="1080"/>
          </a:xfrm>
          <a:prstGeom prst="straightConnector1">
            <a:avLst/>
          </a:prstGeom>
          <a:ln w="9360">
            <a:solidFill>
              <a:srgbClr val="9460f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586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Спасибо за внимание!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Ключевые причины неуспеваемости учащегося — это действительно причины или следствия?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324000" y="1530000"/>
            <a:ext cx="844704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тказ от защитной позиции педагога по отношению к ребенку. На что можем/не можем влиять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сихологический фокус на поиск причин школьной неуспешности в личности детей (их состоянии, личностных особенностях, влиянии среды развития, особенностях функционирования мозга и т.п.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бнаружение истинной причины явления: деконструкция причинно-следственных связей, рефлексия педагога, аналитическая позиция и т. п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сихолого-педагогическая работа по коррекции школьной неуспешности в формах педагогического консилиума и исследовательской позиции педагога и родителей учащегос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Ценностная позиция педагога в отношении ребенка - познание и исследование ребенка, а также привлечение родителей к исследованию ребенка и его учебной деятельност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75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Уровни психолого-педагогической работы со школьной неуспешностью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301680" y="1196640"/>
            <a:ext cx="8518320" cy="49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. Сложность (учебного материала/деятельности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едагогический уровень - полюс объективных характеристик учебной деятельност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пособы работы: анализ образовательной среды, методика преподавания учебных предметов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. Трудность (учебного материала/деятельности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сихолого-педагогический уровень — полюс объективно-субъективных характеристик педагогического процесса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пособы работы: анализ образовательного пространства, индивидуально-типологических характеристик, учащегося, стиля познавательной деятельности, способы формирующего оценивания и т.п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3. Затруднения (в освоении учебного материала/деятельности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сихологический уровень — полюс субъективных характеристик учащегося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пособы работы: поиск причин учебной неуспешности в динамике психической жизни ребенка, в личностной проблематике учащегося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9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Учебные затруднения как психолого-педагогический феномен</a:t>
            </a: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301680" y="1196640"/>
            <a:ext cx="8518320" cy="49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Учебные затруднения рассматриваются как прерывание освоения учебной информации субъективными факторами (В.Г. Казанская, Н.А. Кузнецова, Ю.Н.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улюткин и др.), как нарушение коммуникации (И.А. Зимняя, В.А. Лабунская и др.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еодоление затруднений в познавательной деятельности является средством и специфическим результатом процесса обучения (С.М. Бондаренко, Дж. Брунер, В.С. Цетлин и др.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сновные контексты в понимании школьной неуспешности и учебных затруднений: 1) конструктивный, 2) деструктивны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) Учебное затруднение отражает психологическую работу, осуществляемую субъектом учебной деятельности по освоению или преодолению сложности и трудности учебного материала и учебной деятельност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301680" y="1125360"/>
            <a:ext cx="84470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2) Учебное затруднение рассматривается как негативный феномен прерывания учебной деятельности. Учебные проблемы с этой точки зрения рассматриваются в качестве симптомов: неуспеваемость, агрессивность, лень, страх перед экзаменами и пр. являются выражением бессознательных конфликтов или проявлением невротических образовани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аким образом, школьная неуспешность как психологический феномен может быть описан как деятельность сил торможения, психозащитной деятельности, интенсивности внутрипсихического конфликта, фиксаций и сопротивлений учащегос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9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Стратегия и тактика психолого-педагогической работы со школьной неуспешностью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250920" y="1268280"/>
            <a:ext cx="84470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риоритет образовательных достижений и высокие ожидания педагогов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по отношению ко всем учащимся. Психологическая аксиома: в любом ребенке есть здоровая часть «Я», к котрой в процессе взаимодействия аппелирует взрослый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Выстраивание линии поддержки своих учеников: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дифференцированно для разных групп учащихся (с учебными, личностными затруднениями, наличием той или иной формы сопротивления и т. п.) и индивидуально для тех, кому это необходимо (краткосрочная психолого-педагогическая консультация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01680" y="163800"/>
            <a:ext cx="854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301680" y="836280"/>
            <a:ext cx="844704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есное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взаимодействие, сотрудничество с родителями, а также открытость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по отношению к другим образовательным учреждениям, своему окружению. В закрытой системе происходит накопление патологии, в открытой — она получает возможность компенсац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озитивная культура,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основанная на сотрудничестве, коллегиальности в принятии решений, общности целей для всех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Учет видов и форм сопротивлений детей педагогическому воздействию.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301680" y="1196640"/>
            <a:ext cx="8447040" cy="49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just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Сопротивления на основе механизма вытеснения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связаны с тем, что усвоению учебного материала препятствует его ассоциативная связь с вытесненными травматическими инфантильными переживаниями учащегос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 algn="just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 algn="just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Сопротивления на основе механизма переноса.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Под переносом понимается перемещение потребностей учащегося, его влечений, фантазий и отношений с фигур из предшествующей индивидуальной истории на фигуры настоящего. Негативный (отрицательный) перенос затрудняет или блокирует учебную деятельность, позитивный (положительный) способствует развитию учащегос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01680" y="200160"/>
            <a:ext cx="854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301680" y="836280"/>
            <a:ext cx="844704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Сопротивления, связанные с вторичной выгодой.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Вторичной выгодой, вторичным выигрышем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являются те практические преимущества, которые учащийся может получить, используя симптом, чтобы повлиять на окружающих или управлять ими. Неуспеваемость школьника может быть связана с получением дополнительного внимания, способом реализации агрессивных импульсов по отношению к педагогу или родителю, способом снижения нагрузки в учебной деятельности и др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Сопротивления, сопровождающиеся соматизацие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6T14:36:51Z</dcterms:created>
  <dc:creator>User</dc:creator>
  <dc:description/>
  <dc:language>en-US</dc:language>
  <cp:lastModifiedBy>Гребенкин</cp:lastModifiedBy>
  <dcterms:modified xsi:type="dcterms:W3CDTF">2018-10-18T20:22:33Z</dcterms:modified>
  <cp:revision>82</cp:revision>
  <dc:subject/>
  <dc:title>Особенности переживаний телесной границы у детей с задержкой психического развития</dc:title>
</cp:coreProperties>
</file>