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C60F-3487-4B01-87F3-13ED3DD06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7816-B96E-4EF6-908B-D9A2CD00DE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9AFC-6CDA-4950-BBF1-D51E15ED7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61F5-C4A2-427E-8000-D4B541756C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0477-1510-4176-8C84-D1845784F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04EF-C375-4766-B464-6FB826F91C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3D47-FE4F-4E85-8ECD-C576842F8C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C356-B755-4A6D-B20B-A5B06A929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5443-412A-4D8B-BC85-032B7515E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5B4-D1C4-40F4-B3AB-9CFB6016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793-B39E-4210-BF58-7C641E09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A2FA-2315-4490-96D5-64793B57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0E5-5115-4FC2-870B-F1CC1BC4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086-51E3-439D-B68C-A6E13A84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66F-9527-461F-8028-2EE86F00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60E-979C-4198-9324-A7825DDE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9B3-10C7-4266-8378-A0E3E7D6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21D-ABF6-47E3-A604-59A8F7A3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5EB-F49A-4F8B-B7D5-25EF10AD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421-036D-4C57-82E9-57550641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135-530A-444D-904F-A6E8301B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F52A-05C3-456D-9A9B-1758C861C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77336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та виготовлення метеостанції на базі модуля ESP32 та Arduino Micro Pro з бездротовим зв'язком та підтримкою ОС Windows та And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084720" y="4437000"/>
            <a:ext cx="46404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2"/>
          <p:cNvSpPr/>
          <p:nvPr/>
        </p:nvSpPr>
        <p:spPr>
          <a:xfrm>
            <a:off x="1619280" y="18900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мельницький політехнічний коле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ого університе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ьвівська політехні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2"/>
          <p:cNvSpPr/>
          <p:nvPr/>
        </p:nvSpPr>
        <p:spPr>
          <a:xfrm>
            <a:off x="5435640" y="537372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   Глімбовський Б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 Данилюк П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5796000" y="1413000"/>
            <a:ext cx="316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FA View 351142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чні 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температ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волог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атмосферного ти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а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Живлення від Батарейки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.5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іна 2222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5" descr="C:\Users\User\Downloads\tfa_view_35114201_images_2137071931.jpg"/>
          <p:cNvPicPr/>
          <p:nvPr/>
        </p:nvPicPr>
        <p:blipFill>
          <a:blip r:embed="rId1"/>
          <a:stretch/>
        </p:blipFill>
        <p:spPr>
          <a:xfrm>
            <a:off x="179280" y="1424160"/>
            <a:ext cx="544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5796000" y="1413000"/>
            <a:ext cx="316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FA Spring 351129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чні 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температ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волог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атмосферного ти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ди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уди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Живлення від батарейки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.5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і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759 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C:\Users\User\Downloads\6430228_images_10201109709.jpg"/>
          <p:cNvPicPr/>
          <p:nvPr/>
        </p:nvPicPr>
        <p:blipFill>
          <a:blip r:embed="rId1"/>
          <a:stretch/>
        </p:blipFill>
        <p:spPr>
          <a:xfrm>
            <a:off x="412920" y="1438200"/>
            <a:ext cx="4895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ло вирішено розробити свою метеостанцію на базі мікроконтролера ESP32 та Arduino Pro Micro з бездротовим зв'язком яка буде мати кращі характеристиками ніж у аналогів. Обидва мікроконтролера можуть зчитувати  дані з датчи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E280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й забезпечує діапазон вимірюваного тиску: від 3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до 1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, діапазон вимірюваної температури: від -25 до +60 °C, діапазон вимірюваної вологості: від 0 до 100 %. А також розробити веб-середовище для перегляду показників в локальній мережі та з допомогою мобільного телефону на ОС Android. Підтримка перегляду показників в діаграмах та можливість їх вивантаження для подальшої обробки в форматах JSON, X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V за допомогою персонального комп'ютера на ОС Windows. Розробити гнучкі налаштування пристрою. Реалізувати можливість отримання прогнозу погоди з ОpenWeatherMap по поточним координатам, отримання курсу валют на поточну дату з ApiPrivat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7720" y="-100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хема структур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611280" y="14842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Users\User\Desktop\На диск\Документація\структурна.GIF"/>
          <p:cNvPicPr/>
          <p:nvPr/>
        </p:nvPicPr>
        <p:blipFill>
          <a:blip r:embed="rId1"/>
          <a:stretch/>
        </p:blipFill>
        <p:spPr>
          <a:xfrm>
            <a:off x="-6480" y="620640"/>
            <a:ext cx="9150480" cy="64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7720" y="-100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хема функціональ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11280" y="14842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Users\User\Desktop\На диск\Документація\Функціональна.GIF"/>
          <p:cNvPicPr/>
          <p:nvPr/>
        </p:nvPicPr>
        <p:blipFill>
          <a:blip r:embed="rId1"/>
          <a:stretch/>
        </p:blipFill>
        <p:spPr>
          <a:xfrm>
            <a:off x="231840" y="784080"/>
            <a:ext cx="880416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7720" y="-100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хема принцип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User\Desktop\На диск\Документація\принципова.GIF"/>
          <p:cNvPicPr/>
          <p:nvPr/>
        </p:nvPicPr>
        <p:blipFill>
          <a:blip r:embed="rId1"/>
          <a:stretch/>
        </p:blipFill>
        <p:spPr>
          <a:xfrm>
            <a:off x="250920" y="655560"/>
            <a:ext cx="877392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якую за уваг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79520" y="134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оповідь заверше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1:52:25Z</dcterms:created>
  <dc:creator>Бешко Михаил</dc:creator>
  <dc:description/>
  <dc:language>en-US</dc:language>
  <cp:lastModifiedBy>B0GDAH</cp:lastModifiedBy>
  <dcterms:modified xsi:type="dcterms:W3CDTF">2019-06-20T05:13:45Z</dcterms:modified>
  <cp:revision>105</cp:revision>
  <dc:subject>Апробация технологий Silverlight, LINQ, WCF для создания web-приложений, ориентированных на интенсивную обработку данных</dc:subject>
  <dc:title>Презентация дипломной работы</dc:title>
</cp:coreProperties>
</file>