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A62-2B31-4C40-A6EC-1F55A1DE6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AE7-51F7-4811-9230-00D2CED40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AA4-AC26-4279-A64E-0C6EA3129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422B-C7CC-469C-8E50-A02E9E2C5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1803-D854-41EA-BBD7-59B7D8538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1A14-F9E0-4A0A-8378-CEEC270CB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BD9F-273F-4E9E-8ACB-E643499EA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6DA8-A187-40D5-BFCD-6519A752F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A96-823E-4624-8043-F5D765AC4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792-D0B3-452C-A2DD-F7D0B516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A53-48AF-4F5E-95DD-DB79D778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700-3ED1-4635-A900-F95068EB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502-BCD5-414D-B210-96934544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C74-9755-439E-856D-D91A4AC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0A4-4651-4F64-A069-9E59E5A7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FF9-DFFF-4670-8740-5F4D31C3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314-D1CE-43E5-AF6A-FBBD750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EC9-07E3-4B57-A640-3D77750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394-144C-4D34-92B0-0845876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0A5-221F-4BE7-8A79-2B99EC8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749-FA95-401C-89A2-8276E30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268-BB36-4F15-8089-EE19F135B9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ка та виготовлення метеостанції на базі модуля ESP32 та Arduino Micro Pro з бездротовим зв'язком та підтримкою ОС Windows та An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84720" y="4437000"/>
            <a:ext cx="4640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2"/>
          <p:cNvSpPr/>
          <p:nvPr/>
        </p:nvSpPr>
        <p:spPr>
          <a:xfrm>
            <a:off x="1619280" y="189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ельницький політехнічний ко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ого університ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ьвівська політехні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2"/>
          <p:cNvSpPr/>
          <p:nvPr/>
        </p:nvSpPr>
        <p:spPr>
          <a:xfrm>
            <a:off x="5435640" y="5373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нав   Глімбовський Б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 Данилюк П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View 35114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2222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:\Users\User\Downloads\tfa_view_35114201_images_2137071931.jpg"/>
          <p:cNvPicPr/>
          <p:nvPr/>
        </p:nvPicPr>
        <p:blipFill>
          <a:blip r:embed="rId1"/>
          <a:stretch/>
        </p:blipFill>
        <p:spPr>
          <a:xfrm>
            <a:off x="179280" y="1424160"/>
            <a:ext cx="54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796000" y="1413000"/>
            <a:ext cx="316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FA Spring 35112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чні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температ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волог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мірювання атмосферного тис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ди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уди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ивлення від батарейки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.5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759 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User\Downloads\6430228_images_10201109709.jpg"/>
          <p:cNvPicPr/>
          <p:nvPr/>
        </p:nvPicPr>
        <p:blipFill>
          <a:blip r:embed="rId1"/>
          <a:stretch/>
        </p:blipFill>
        <p:spPr>
          <a:xfrm>
            <a:off x="412920" y="1438200"/>
            <a:ext cx="4895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о вирішено розробити свою метеостанцію на базі мікроконтролера ESP32 та Arduino Pro Micro з бездротовим зв'язком яка буде мати кращі характеристиками ніж у аналогів. Обидва мікроконтролера можуть зчитувати  дані з датч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E28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й забезпечує діапазон вимірюваного тиску: від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до 1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, діапазон вимірюваної температури: від -25 до +60 °C, діапазон вимірюваної вологості: від 0 до 100 %. А також розробити веб-середовище для перегляду показників в локальній мережі та з допомогою мобільного телефону на ОС Android. Підтримка перегляду показників в діаграмах та можливість їх вивантаження для подальшої обробки в форматах JSON, X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V за допомогою персонального комп'ютера на ОС Windows. Розробити гнучкі налаштування пристрою. Реалізувати можливість отримання прогнозу погоди з ОpenWeatherMap по поточним координатам, отримання курсу валют на поточну дату з ApiPrivat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структур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User\Desktop\На диск\Документація\структурна.GIF"/>
          <p:cNvPicPr/>
          <p:nvPr/>
        </p:nvPicPr>
        <p:blipFill>
          <a:blip r:embed="rId1"/>
          <a:stretch/>
        </p:blipFill>
        <p:spPr>
          <a:xfrm>
            <a:off x="-6480" y="620640"/>
            <a:ext cx="9150480" cy="64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функціональ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11280" y="148428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User\Desktop\На диск\Документація\Функціональна.GIF"/>
          <p:cNvPicPr/>
          <p:nvPr/>
        </p:nvPicPr>
        <p:blipFill>
          <a:blip r:embed="rId1"/>
          <a:stretch/>
        </p:blipFill>
        <p:spPr>
          <a:xfrm>
            <a:off x="231840" y="784080"/>
            <a:ext cx="880416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7720" y="-1004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хема принцип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User\Desktop\На диск\Документація\принципова.GIF"/>
          <p:cNvPicPr/>
          <p:nvPr/>
        </p:nvPicPr>
        <p:blipFill>
          <a:blip r:embed="rId1"/>
          <a:stretch/>
        </p:blipFill>
        <p:spPr>
          <a:xfrm>
            <a:off x="250920" y="655560"/>
            <a:ext cx="87739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якую за ува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7952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повідь заверш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1:52:25Z</dcterms:created>
  <dc:creator>Бешко Михаил</dc:creator>
  <dc:description/>
  <dc:language>en-US</dc:language>
  <cp:lastModifiedBy>B0GDAH</cp:lastModifiedBy>
  <dcterms:modified xsi:type="dcterms:W3CDTF">2019-06-20T05:13:45Z</dcterms:modified>
  <cp:revision>105</cp:revision>
  <dc:subject>Апробация технологий Silverlight, LINQ, WCF для создания web-приложений, ориентированных на интенсивную обработку данных</dc:subject>
  <dc:title>Презентация дипломной работы</dc:title>
</cp:coreProperties>
</file>