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261-18CF-40D6-BAA7-085C8522C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006-7A8B-42DC-9821-2AA4C7904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BFF-31A8-44B2-ADB6-45CBE13CF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558-CFEF-4686-A922-AA7A670A2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6EEF-8A1D-4B71-8B83-D3121BF35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FEBA-F70D-450E-ABE2-A624006E0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98F-EB5A-4F82-8580-3BA5C7E12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A72-E236-4FBB-8F38-623E98ED6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A75-D324-44F2-B0EC-341AEBEB5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113-2A49-4BA2-AE4D-D98C95C8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E5D-32B9-4561-9D0F-C9D66F2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6A5-84D0-4E41-B68B-94D88C46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447-330B-4B2D-A9DA-F77C5038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9A1-EB66-4911-B077-76817682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411-14A1-4C72-91E4-7995C57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5CE-58A7-45C5-80E6-925963A8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E9-2AA3-47B1-83B7-5E9DE92A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222-463D-4538-9503-AC42336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5E5-1689-4B49-8FE8-422BEA6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864-839D-40A2-84BF-B53B6EB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BEE-CFB6-46F0-971D-A6B55344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F21-D17E-4481-B103-2BDF58F11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та виготовлення метеостанції на базі модуля ESP32 та Arduino Micro Pro з бездротовим зв'язком та підтримкою ОС Windows та An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84720" y="4437000"/>
            <a:ext cx="4640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2"/>
          <p:cNvSpPr/>
          <p:nvPr/>
        </p:nvSpPr>
        <p:spPr>
          <a:xfrm>
            <a:off x="1619280" y="189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ий політехнічний ко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ого університ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ьвівська політехні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2"/>
          <p:cNvSpPr/>
          <p:nvPr/>
        </p:nvSpPr>
        <p:spPr>
          <a:xfrm>
            <a:off x="5435640" y="537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   Глімбовський Б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 Данилюк П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View 35114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2222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:\Users\User\Downloads\tfa_view_35114201_images_2137071931.jpg"/>
          <p:cNvPicPr/>
          <p:nvPr/>
        </p:nvPicPr>
        <p:blipFill>
          <a:blip r:embed="rId1"/>
          <a:stretch/>
        </p:blipFill>
        <p:spPr>
          <a:xfrm>
            <a:off x="179280" y="1424160"/>
            <a:ext cx="54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Spring 35112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ди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759 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User\Downloads\6430228_images_10201109709.jpg"/>
          <p:cNvPicPr/>
          <p:nvPr/>
        </p:nvPicPr>
        <p:blipFill>
          <a:blip r:embed="rId1"/>
          <a:stretch/>
        </p:blipFill>
        <p:spPr>
          <a:xfrm>
            <a:off x="412920" y="1438200"/>
            <a:ext cx="4895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вирішено розробити свою метеостанцію на базі мікроконтролера ESP32 та Arduino Pro Micro з бездротовим зв'язком яка буде мати кращі характеристиками ніж у аналогів. Обидва мікроконтролера можуть зчитувати  дані з датч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E28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й забезпечує діапазон вимірюваного тиску: від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до 1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, діапазон вимірюваної температури: від -25 до +60 °C, діапазон вимірюваної вологості: від 0 до 100 %. А також розробити веб-середовище для перегляду показників в локальній мережі та з допомогою мобільного телефону на ОС Android. Підтримка перегляду показників в діаграмах та можливість їх вивантаження для подальшої обробки в форматах JSON, X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V за допомогою персонального комп'ютера на ОС Windows. Розробити гнучкі налаштування пристрою. Реалізувати можливість отримання прогнозу погоди з ОpenWeatherMap по поточним координатам, отримання курсу валют на поточну дату з ApiPrivat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структур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На диск\Документація\структурна.GIF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64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функціональ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User\Desktop\На диск\Документація\Функціональна.GIF"/>
          <p:cNvPicPr/>
          <p:nvPr/>
        </p:nvPicPr>
        <p:blipFill>
          <a:blip r:embed="rId1"/>
          <a:stretch/>
        </p:blipFill>
        <p:spPr>
          <a:xfrm>
            <a:off x="231840" y="784080"/>
            <a:ext cx="880416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принцип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User\Desktop\На диск\Документація\принципова.GIF"/>
          <p:cNvPicPr/>
          <p:nvPr/>
        </p:nvPicPr>
        <p:blipFill>
          <a:blip r:embed="rId1"/>
          <a:stretch/>
        </p:blipFill>
        <p:spPr>
          <a:xfrm>
            <a:off x="250920" y="655560"/>
            <a:ext cx="87739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795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1:52:25Z</dcterms:created>
  <dc:creator>Бешко Михаил</dc:creator>
  <dc:description/>
  <dc:language>en-US</dc:language>
  <cp:lastModifiedBy>B0GDAH</cp:lastModifiedBy>
  <dcterms:modified xsi:type="dcterms:W3CDTF">2019-06-20T05:13:45Z</dcterms:modified>
  <cp:revision>105</cp:revision>
  <dc:subject>Апробация технологий Silverlight, LINQ, WCF для создания web-приложений, ориентированных на интенсивную обработку данных</dc:subject>
  <dc:title>Презентация дипломной работы</dc:title>
</cp:coreProperties>
</file>