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A981-CB5F-45FA-9EF1-19B27C48D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BFB2-D9DA-4658-BD72-F3EF3086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D83F-A613-4A2A-9B1F-84873D672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4F8F-FF98-4F3A-B9BF-E32D3513F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75BE-3D64-4A7C-A71E-4EA52B6DE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7108-E3D9-4F1B-B586-3F75EB27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A2FF-B1BE-49E4-AEF9-AA53431D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1782-A23D-4D73-9283-20EA82E9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33E2-B19C-412B-9634-618D562F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E485-76C8-4406-AA4E-2A643AB0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A328-DF47-4FBF-B049-1DDB373B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F96D-A117-4F4C-B096-9088A49B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C103-D575-42DD-8901-5AEC70E9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1E1A-3790-4803-878C-77289C8E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D102-3AB7-4D7C-8F18-AC14C2C0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47EF-4746-4ADF-9BEC-34B78A2EA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97A0-323F-4B55-8284-2162A8E98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21AA-CFA8-4F25-9B9F-31C77893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43BC-3AD9-4F07-B16A-5D9D7467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2D8B-48EF-482E-B9BD-C84AE993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2529-6E96-40EB-A1F5-E42145D5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E0E6-F057-4AE7-B85E-946758C4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0450-CB90-420C-92A2-FC06A006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E244-8AFA-43F2-8870-9DE772E9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Равнобедренный треугольник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FD3BE5D-29DD-42F4-824A-ED8E177A44E1}" type="slidenum"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Прямоугольник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Прямоугольник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Прямоугольник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Равнобедренный треугольник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FDD2A14-7349-4D4B-B773-F24B050B8841}" type="slidenum"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Равнобедренный треугольник 5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3640" y="692640"/>
            <a:ext cx="7414200" cy="12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ЗАДАНИЕ «ГЛУБИННОЕ ИНТЕРВЬЮ»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1187640" y="3717000"/>
            <a:ext cx="69580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Gill Sans MT"/>
              </a:rPr>
              <a:t>ТЕМА: МАРКЕТИНГОВОЕ ИССЛЕДОВАНИЕ СЕТИ КОФЕЕН «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TARBUCKS</a:t>
            </a:r>
            <a:r>
              <a:rPr b="1" lang="ru-RU" sz="2400" spc="-1" strike="noStrike">
                <a:solidFill>
                  <a:srgbClr val="000000"/>
                </a:solidFill>
                <a:latin typeface="Gill Sans MT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1023840" y="5085360"/>
            <a:ext cx="5228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ПОДГОТОВИЛА СТУДЕНТКА ГРУППЫ РС-0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КУЖЕЛЕВА ДАРЬЯ ГЕОРГИ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5" descr="1200px-Starbucks_Corporation_Logo_2011.svg.png"/>
          <p:cNvPicPr/>
          <p:nvPr/>
        </p:nvPicPr>
        <p:blipFill>
          <a:blip r:embed="rId1"/>
          <a:stretch/>
        </p:blipFill>
        <p:spPr>
          <a:xfrm>
            <a:off x="3420000" y="1340640"/>
            <a:ext cx="20469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464653"/>
                </a:solidFill>
                <a:latin typeface="Bookman Old Style"/>
              </a:rPr>
              <a:t>ВОПРОС 8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539640" y="1926360"/>
            <a:ext cx="8064360" cy="1919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Кто отвечает за работу с клиент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- Это и менеджеры кофеен, и управляющие, и весь целиком маркетинговый отдел, отвечающий за рекламу. В каждой области свои специалис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464653"/>
                </a:solidFill>
                <a:latin typeface="Bookman Old Style"/>
              </a:rPr>
              <a:t>ВОПРОС 9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Rectangle 1"/>
          <p:cNvSpPr/>
          <p:nvPr/>
        </p:nvSpPr>
        <p:spPr>
          <a:xfrm>
            <a:off x="395640" y="1998360"/>
            <a:ext cx="8532000" cy="1919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А разве кофейни нуждаются в рекла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- Полагаю, что любой, даже крупный бренд, должен время от времени о себе напоминать. Здесь и анонсы в социальных сетях, и специальные предложения для любимых кли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464653"/>
                </a:solidFill>
                <a:latin typeface="Bookman Old Style"/>
              </a:rPr>
              <a:t>ВОПРОС 10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611640" y="2001960"/>
            <a:ext cx="7884000" cy="265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делайте краткий прогноз о развитии кофейной индустрии на будущий год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- Кофейный рынок, как и любой другой, не стоит на месте. Я предполагаю, что со временем появятся такие технологии и продукты, о которых мы пока не можем и подумать. Поэтому отставать ни в коем случае нельз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464653"/>
                </a:solidFill>
                <a:latin typeface="Bookman Old Style"/>
              </a:rPr>
              <a:t>ЦЕЛИ И ЗАДАЧ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539640" y="1628640"/>
            <a:ext cx="806436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Цель: узнать отношение компании «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arbucks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» к своим прямым конкурентам, позиционирование себя на кофейном рынке, а также дальнейшие планы развития брен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106200" y="3213000"/>
            <a:ext cx="843840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ровести интервью со специалистом (Кс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Собрать информацию по теме ис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Расшифровать интерв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Составить презентацию в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ower Point 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и отчет в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icrosoft Word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464653"/>
                </a:solidFill>
                <a:latin typeface="Bookman Old Style"/>
              </a:rPr>
              <a:t>ВОПРОС 1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899640" y="1789200"/>
            <a:ext cx="7776360" cy="3382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Не секрет, что у компании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tarbucks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в настоящее время довольно много конкурентов. Но что, по вашему мнению, выгодно отличает ее от други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tarbuck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– старейшая сеть кофеен не только в России, но и по всему миру. Я думаю, что и наши клиенты должны понимать, что качество проверяется временем и добросовестной работой. Это неповторимая атмосфера кофейни, ее сотрудники, нам важна каждая дета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464653"/>
                </a:solidFill>
                <a:latin typeface="Bookman Old Style"/>
              </a:rPr>
              <a:t>ВОПРОС 2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683640" y="2576160"/>
            <a:ext cx="7632360" cy="228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Относительно аспектов внутри компании, что Вас удерживает на данной должности вот уже два го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- То же, что и наших гостей. Отсюда не хочется уходить, для персонала созданы все условия, люди приходят на работу с удовольств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464653"/>
                </a:solidFill>
                <a:latin typeface="Bookman Old Style"/>
              </a:rPr>
              <a:t>ВОПРОС 3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467640" y="2286360"/>
            <a:ext cx="8136720" cy="1919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оводятся ли тренинги для барис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-  Разумеется, ведь все должно быть в соответствии со стандартами компании. Мы не боимся быть честными со своими гостями, ведь серьезных недостатков у нас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464653"/>
                </a:solidFill>
                <a:latin typeface="Bookman Old Style"/>
              </a:rPr>
              <a:t>ВОПРОС 4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611640" y="1745280"/>
            <a:ext cx="7992360" cy="265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ерьезных? Значит, какие-то все-таки е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- Конечно, в любой крупной корпорации есть как свои сильные стороны, так и слабые. Но нельзя категорично сказать, что плохо, а что хорошо, ведь стратегии развития продумываются годами. На мой взгляд, можно слегка отойти от многолетних стандар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464653"/>
                </a:solidFill>
                <a:latin typeface="Bookman Old Style"/>
              </a:rPr>
              <a:t>ВОПРОС 5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Rectangle 1"/>
          <p:cNvSpPr/>
          <p:nvPr/>
        </p:nvSpPr>
        <p:spPr>
          <a:xfrm>
            <a:off x="755640" y="1848600"/>
            <a:ext cx="7776360" cy="265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Вы, как руководитель, не боитесь потерять клиент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- Мы не планируем кардинально менять исторические истоки компании. Речь идет о легком ребрендинге, создании новых позиций, слоганов. Возможен рестайлинг логоти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464653"/>
                </a:solidFill>
                <a:latin typeface="Bookman Old Style"/>
              </a:rPr>
              <a:t>ВОПРОС 6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Rectangle 1"/>
          <p:cNvSpPr/>
          <p:nvPr/>
        </p:nvSpPr>
        <p:spPr>
          <a:xfrm>
            <a:off x="395640" y="2072160"/>
            <a:ext cx="8316000" cy="228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Ваша целевая аудитория – люди с достатком чуть выше среднего. Отчего именно такой выбо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- Не следует забывать, что и качество кофе у нас выше, чем в других местах по городу. Отсюда и цена, вполне себя оправдывающ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464653"/>
                </a:solidFill>
                <a:latin typeface="Bookman Old Style"/>
              </a:rPr>
              <a:t>ВОПРОС 7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539640" y="2072160"/>
            <a:ext cx="7560360" cy="228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А как же точки конкурентов, где цены гораздо ниж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- У них своя целевая аудитория, у нас – своя. Не понимаю, почему их состоятельность должна мешать нашей раб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Начальная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Начальная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gin</Template>
  <TotalTime>145</TotalTime>
  <Application>LibreOffice/7.4.7.2$Linux_X86_64 LibreOffice_project/40$Build-2</Application>
  <AppVersion>15.0000</AppVersion>
  <Words>542</Words>
  <Paragraphs>5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1T11:45:09Z</dcterms:created>
  <dc:creator>Sam</dc:creator>
  <dc:description/>
  <dc:language>en-US</dc:language>
  <cp:lastModifiedBy>Sam</cp:lastModifiedBy>
  <dcterms:modified xsi:type="dcterms:W3CDTF">2019-04-01T14:21:01Z</dcterms:modified>
  <cp:revision>5</cp:revision>
  <dc:subject/>
  <dc:title>ЗАДАНИЕ «ГЛУБИННОЕ ИНТЕРВЬЮ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2</vt:r8>
  </property>
</Properties>
</file>