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CF8-5BC1-4F25-8398-9E49A650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2FB1-DA73-4D07-BAB2-C9A4D4A9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8383-695B-4EDB-AA26-20AFDE16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71F-2FE3-4277-8711-21B14F8E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4A78-90EF-4E97-B16B-5445BF53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034D-1EA2-484D-858A-5EDF9B2D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1CE0-2C1A-4F33-B436-A77B83B1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23A0-829A-44EE-A06F-77DCD4B4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5F3F-F097-43EE-9AC6-A5168A83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A2EA-2080-45B8-8D5E-7249484C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5C76-1AD7-4013-AAAF-87819631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0E3E-BF3E-4E57-8D1C-DFA35F67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0ADF-63AA-4C11-BE38-32BF73FC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0ABB-55F7-4EDE-9157-BB22A026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8807-4969-47B4-AB45-9F971CEF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56C2-602A-406E-89FE-4290EF33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661C-B4E4-499F-B8CF-DC5EE22C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85C-2751-4813-B705-925C081B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166-19FB-4A8A-8F43-6458B076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43E-E28F-4E9F-B265-E67CE90E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3CF-8B59-40BA-A54A-5F5B9C49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4A0-BC0D-4740-BEC9-C57319D1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E28D-5FF2-4EAC-9218-5855E002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B40-23C4-4CF0-9601-8234E520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88BACFC-872C-439C-ACBD-92E59E60D291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C9DFB1D-6B68-4CB7-AD6D-64950505CDC9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Равнобедренный треугольник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3640" y="692640"/>
            <a:ext cx="7414200" cy="12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ЗАДАНИЕ «ГЛУБИННОЕ ИНТЕРВЬЮ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187640" y="3717000"/>
            <a:ext cx="69580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ТЕМА: МАРКЕТИНГОВОЕ ИССЛЕДОВАНИЕ СЕТИ КОФЕЕН «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ARBUCKS</a:t>
            </a: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023840" y="5085360"/>
            <a:ext cx="5228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ПОДГОТОВИЛА СТУДЕНТКА ГРУППЫ РС-0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КУЖЕЛЕВА ДАРЬЯ ГЕОРГ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5" descr="1200px-Starbucks_Corporation_Logo_2011.svg.png"/>
          <p:cNvPicPr/>
          <p:nvPr/>
        </p:nvPicPr>
        <p:blipFill>
          <a:blip r:embed="rId1"/>
          <a:stretch/>
        </p:blipFill>
        <p:spPr>
          <a:xfrm>
            <a:off x="3420000" y="1340640"/>
            <a:ext cx="2046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8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539640" y="1926360"/>
            <a:ext cx="8064360" cy="191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то отвечает за работу с клиент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Это и менеджеры кофеен, и управляющие, и весь целиком маркетинговый отдел, отвечающий за рекламу. В каждой области свои специали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9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395640" y="1998360"/>
            <a:ext cx="8532000" cy="191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А разве кофейни нуждаются в рекла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Полагаю, что любой, даже крупный бренд, должен время от времени о себе напоминать. Здесь и анонсы в социальных сетях, и специальные предложения для любимых кли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10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611640" y="2001960"/>
            <a:ext cx="7884000" cy="265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делайте краткий прогноз о развитии кофейной индустрии на будущий го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Кофейный рынок, как и любой другой, не стоит на месте. Я предполагаю, что со временем появятся такие технологии и продукты, о которых мы пока не можем и подумать. Поэтому отставать ни в коем случае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ЦЕЛИ И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539640" y="1628640"/>
            <a:ext cx="8064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Цель: узнать отношение компании «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rbucks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» к своим прямым конкурентам, позиционирование себя на кофейном рынке, а также дальнейшие планы развития брен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106200" y="3213000"/>
            <a:ext cx="84384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овести интервью со специалистом (Кс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обрать информацию по теме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Расшифровать интерв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оставить презентацию в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wer Point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и отчет в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icrosoft Word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1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899640" y="1789200"/>
            <a:ext cx="7776360" cy="3382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 секрет, что у компании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arbucks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 настоящее время довольно много конкурентов. Но что, по вашему мнению, выгодно отличает ее от друг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arbuck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 старейшая сеть кофеен не только в России, но и по всему миру. Я думаю, что и наши клиенты должны понимать, что качество проверяется временем и добросовестной работой. Это неповторимая атмосфера кофейни, ее сотрудники, нам важна каждая дет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2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683640" y="2576160"/>
            <a:ext cx="763236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тносительно аспектов внутри компании, что Вас удерживает на данной должности вот уже два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То же, что и наших гостей. Отсюда не хочется уходить, для персонала созданы все условия, люди приходят на работу с удовольств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3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467640" y="2286360"/>
            <a:ext cx="8136720" cy="191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водятся ли тренинги для бари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 Разумеется, ведь все должно быть в соответствии со стандартами компании. Мы не боимся быть честными со своими гостями, ведь серьезных недостатков у нас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4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611640" y="1745280"/>
            <a:ext cx="7992360" cy="265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рьезных? Значит, какие-то все-таки е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Конечно, в любой крупной корпорации есть как свои сильные стороны, так и слабые. Но нельзя категорично сказать, что плохо, а что хорошо, ведь стратегии развития продумываются годами. На мой взгляд, можно слегка отойти от многолетних стандар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5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755640" y="1848600"/>
            <a:ext cx="7776360" cy="265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ы, как руководитель, не боитесь потерять клиен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Мы не планируем кардинально менять исторические истоки компании. Речь идет о легком ребрендинге, создании новых позиций, слоганов. Возможен рестайлинг логоти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6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395640" y="2072160"/>
            <a:ext cx="831600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аша целевая аудитория – люди с достатком чуть выше среднего. Отчего именно такой выб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Не следует забывать, что и качество кофе у нас выше, чем в других местах по городу. Отсюда и цена, вполне себя оправдыва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7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539640" y="2072160"/>
            <a:ext cx="756036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А как же точки конкурентов, где цены гораздо ни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У них своя целевая аудитория, у нас – своя. Не понимаю, почему их состоятельность должна мешать нашей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145</TotalTime>
  <Application>LibreOffice/7.4.7.2$Linux_X86_64 LibreOffice_project/40$Build-2</Application>
  <AppVersion>15.0000</AppVersion>
  <Words>542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1T11:45:09Z</dcterms:created>
  <dc:creator>Sam</dc:creator>
  <dc:description/>
  <dc:language>en-US</dc:language>
  <cp:lastModifiedBy>Sam</cp:lastModifiedBy>
  <dcterms:modified xsi:type="dcterms:W3CDTF">2019-04-01T14:21:01Z</dcterms:modified>
  <cp:revision>5</cp:revision>
  <dc:subject/>
  <dc:title>ЗАДАНИЕ «ГЛУБИННОЕ ИНТЕРВЬЮ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