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E3E6-6F1E-4B01-8518-D27C2203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8463-2CF4-474E-87E3-A1CB5169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00FF-0178-4EC7-8806-004B49D2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AA6C-4611-47E3-8BE5-C977FC40D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11C42-CDEC-42B6-B2C4-7DAE4996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A5FEF-F18E-4F83-A1E2-3DD0D7E5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E9F6-8B63-4F27-A21E-3755F6D6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5A06-034B-423B-BE70-C4744A20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B608-5BD1-483F-A952-26E5A215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B291-E353-4AFC-8F3E-25E13779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B4CF-2C0C-4556-A1F6-1EBF000CB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143A-B1AD-4C17-89FF-030619C76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242D-50F2-4C82-95FB-85DDB0CC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03AF5-43C5-45EB-8194-F78256CC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E921D-35D6-4D24-9EDB-5372DE08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6607-7317-4961-9038-D7D30A5CE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297C-3745-4472-9E5C-74D96B82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8151-A279-45DB-BDCB-F49E0E3E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0313-C306-4349-9642-CAB4E894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1620-BB34-4FD5-A0AF-79E33340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2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4E83-FE97-4A6B-B5F3-AEBC9D25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CA5F-4606-4E5A-AAEF-72D4584D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7575-1514-40FE-A7DB-0867BC97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E056-998F-4471-B815-B9987D47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Равнобедренный треугольник 9" hidden="1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7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00800" y="6355080"/>
            <a:ext cx="2285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98720" y="6355080"/>
            <a:ext cx="347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1216080" y="6355080"/>
            <a:ext cx="1218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C275A53-B0F7-416A-BC3B-64176B1F95C9}" type="slidenum"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20"/>
          <p:cNvSpPr/>
          <p:nvPr/>
        </p:nvSpPr>
        <p:spPr>
          <a:xfrm>
            <a:off x="905040" y="3648240"/>
            <a:ext cx="7314840" cy="1279800"/>
          </a:xfrm>
          <a:prstGeom prst="rect">
            <a:avLst/>
          </a:prstGeom>
          <a:noFill/>
          <a:ln cap="rnd" w="6350">
            <a:solidFill>
              <a:srgbClr val="727ca3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8" name="Прямоугольник 32"/>
          <p:cNvSpPr/>
          <p:nvPr/>
        </p:nvSpPr>
        <p:spPr>
          <a:xfrm>
            <a:off x="914400" y="5048280"/>
            <a:ext cx="7314840" cy="685440"/>
          </a:xfrm>
          <a:prstGeom prst="rect">
            <a:avLst/>
          </a:prstGeom>
          <a:noFill/>
          <a:ln cap="rnd" w="6350">
            <a:solidFill>
              <a:srgbClr val="9fb8cd"/>
            </a:solidFill>
            <a:round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" name="Прямоугольник 21"/>
          <p:cNvSpPr/>
          <p:nvPr/>
        </p:nvSpPr>
        <p:spPr>
          <a:xfrm>
            <a:off x="905040" y="3648240"/>
            <a:ext cx="228240" cy="1279800"/>
          </a:xfrm>
          <a:prstGeom prst="rect">
            <a:avLst/>
          </a:prstGeom>
          <a:solidFill>
            <a:schemeClr val="accent1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0" name="Прямоугольник 31"/>
          <p:cNvSpPr/>
          <p:nvPr/>
        </p:nvSpPr>
        <p:spPr>
          <a:xfrm>
            <a:off x="914400" y="5048280"/>
            <a:ext cx="228240" cy="685440"/>
          </a:xfrm>
          <a:prstGeom prst="rect">
            <a:avLst/>
          </a:prstGeom>
          <a:solidFill>
            <a:schemeClr val="accent2"/>
          </a:solidFill>
          <a:ln w="6350"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ая соединительная линия 27"/>
          <p:cNvSpPr/>
          <p:nvPr/>
        </p:nvSpPr>
        <p:spPr>
          <a:xfrm>
            <a:off x="457200" y="635292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Прямая соединительная линия 28"/>
          <p:cNvSpPr/>
          <p:nvPr/>
        </p:nvSpPr>
        <p:spPr>
          <a:xfrm>
            <a:off x="457200" y="1143000"/>
            <a:ext cx="8229600" cy="360"/>
          </a:xfrm>
          <a:prstGeom prst="line">
            <a:avLst/>
          </a:prstGeom>
          <a:ln w="9525">
            <a:solidFill>
              <a:srgbClr val="9fb8cd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Равнобедренный треугольник 9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464653"/>
                </a:solidFill>
                <a:latin typeface="Bookman Old Style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400800" y="6356520"/>
            <a:ext cx="228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2898720" y="6356520"/>
            <a:ext cx="35049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12720" y="6356520"/>
            <a:ext cx="198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36843E65-3A56-4E67-A5E2-C7F18FE9EB25}" type="slidenum">
              <a:rPr b="0" lang="ru-RU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Равнобедренный треугольник 5"/>
          <p:cNvSpPr/>
          <p:nvPr/>
        </p:nvSpPr>
        <p:spPr>
          <a:xfrm rot="5400000">
            <a:off x="419400" y="6467400"/>
            <a:ext cx="190440" cy="119880"/>
          </a:xfrm>
          <a:prstGeom prst="triangle">
            <a:avLst>
              <a:gd name="adj" fmla="val 50000"/>
            </a:avLst>
          </a:prstGeom>
          <a:solidFill>
            <a:schemeClr val="accent2"/>
          </a:solidFill>
          <a:ln>
            <a:noFill/>
          </a:ln>
          <a:effectLst>
            <a:outerShdw blurRad="38160" dir="5400000" dist="255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3640" y="692640"/>
            <a:ext cx="7414200" cy="12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ЗАДАНИЕ «ГЛУБИННОЕ ИНТЕРВЬЮ»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187640" y="3717000"/>
            <a:ext cx="69580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ТЕМА: МАРКЕТИНГОВОЕ ИССЛЕДОВАНИЕ СЕТИ КОФЕЕН «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STARBUCKS</a:t>
            </a:r>
            <a:r>
              <a:rPr b="1" lang="ru-RU" sz="2400" spc="-1" strike="noStrike">
                <a:solidFill>
                  <a:srgbClr val="000000"/>
                </a:solidFill>
                <a:latin typeface="Gill Sans MT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023840" y="5085360"/>
            <a:ext cx="5228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ПОДГОТОВИЛА СТУДЕНТКА ГРУППЫ РС-0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Gill Sans MT"/>
              </a:rPr>
              <a:t>КУЖЕЛЕВА ДАРЬЯ ГЕОРГИ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5" descr="1200px-Starbucks_Corporation_Logo_2011.svg.png"/>
          <p:cNvPicPr/>
          <p:nvPr/>
        </p:nvPicPr>
        <p:blipFill>
          <a:blip r:embed="rId1"/>
          <a:stretch/>
        </p:blipFill>
        <p:spPr>
          <a:xfrm>
            <a:off x="3420000" y="1340640"/>
            <a:ext cx="20469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ВОПРОС 8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539640" y="1926360"/>
            <a:ext cx="8064360" cy="191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Кто отвечает за работу с клиента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Это и менеджеры кофеен, и управляющие, и весь целиком маркетинговый отдел, отвечающий за рекламу. В каждой области свои специалис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ВОПРОС 9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Rectangle 1"/>
          <p:cNvSpPr/>
          <p:nvPr/>
        </p:nvSpPr>
        <p:spPr>
          <a:xfrm>
            <a:off x="395640" y="1998360"/>
            <a:ext cx="8532000" cy="191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А разве кофейни нуждаются в реклам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Полагаю, что любой, даже крупный бренд, должен время от времени о себе напоминать. Здесь и анонсы в социальных сетях, и специальные предложения для любимых кли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ВОПРОС 10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611640" y="2001960"/>
            <a:ext cx="7884000" cy="265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делайте краткий прогноз о развитии кофейной индустрии на будущий го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Кофейный рынок, как и любой другой, не стоит на месте. Я предполагаю, что со временем появятся такие технологии и продукты, о которых мы пока не можем и подумать. Поэтому отставать ни в коем случае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ЦЕЛИ И ЗАДАЧ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539640" y="1628640"/>
            <a:ext cx="80643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Цель: узнать отношение компании «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rbucks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» к своим прямым конкурентам, позиционирование себя на кофейном рынке, а также дальнейшие планы развития брен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106200" y="3213000"/>
            <a:ext cx="8438400" cy="16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ровести интервью со специалистом (Кс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Собрать информацию по теме исслед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Расшифровать интерв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Составить презентацию в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ower Point 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и отчет в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icrosoft Word</a:t>
            </a: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ВОПРОС 1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899640" y="1789200"/>
            <a:ext cx="7776360" cy="3382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е секрет, что у компании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tarbucks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 настоящее время довольно много конкурентов. Но что, по вашему мнению, выгодно отличает ее от други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tarbucks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– старейшая сеть кофеен не только в России, но и по всему миру. Я думаю, что и наши клиенты должны понимать, что качество проверяется временем и добросовестной работой. Это неповторимая атмосфера кофейни, ее сотрудники, нам важна каждая дет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ВОПРОС 2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Rectangle 1"/>
          <p:cNvSpPr/>
          <p:nvPr/>
        </p:nvSpPr>
        <p:spPr>
          <a:xfrm>
            <a:off x="683640" y="2576160"/>
            <a:ext cx="7632360" cy="228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тносительно аспектов внутри компании, что Вас удерживает на данной должности вот уже два 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То же, что и наших гостей. Отсюда не хочется уходить, для персонала созданы все условия, люди приходят на работу с удовольств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ВОПРОС 3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467640" y="2286360"/>
            <a:ext cx="8136720" cy="19195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водятся ли тренинги для барис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 Разумеется, ведь все должно быть в соответствии со стандартами компании. Мы не боимся быть честными со своими гостями, ведь серьезных недостатков у нас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ВОПРОС 4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Rectangle 1"/>
          <p:cNvSpPr/>
          <p:nvPr/>
        </p:nvSpPr>
        <p:spPr>
          <a:xfrm>
            <a:off x="611640" y="1745280"/>
            <a:ext cx="7992360" cy="265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ерьезных? Значит, какие-то все-таки ес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Конечно, в любой крупной корпорации есть как свои сильные стороны, так и слабые. Но нельзя категорично сказать, что плохо, а что хорошо, ведь стратегии развития продумываются годами. На мой взгляд, можно слегка отойти от многолетних стандар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ВОПРОС 5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Rectangle 1"/>
          <p:cNvSpPr/>
          <p:nvPr/>
        </p:nvSpPr>
        <p:spPr>
          <a:xfrm>
            <a:off x="755640" y="1848600"/>
            <a:ext cx="7776360" cy="2651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ы, как руководитель, не боитесь потерять клиент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Мы не планируем кардинально менять исторические истоки компании. Речь идет о легком ребрендинге, создании новых позиций, слоганов. Возможен рестайлинг логоти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ВОПРОС 6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Rectangle 1"/>
          <p:cNvSpPr/>
          <p:nvPr/>
        </p:nvSpPr>
        <p:spPr>
          <a:xfrm>
            <a:off x="395640" y="2072160"/>
            <a:ext cx="8316000" cy="228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аша целевая аудитория – люди с достатком чуть выше среднего. Отчего именно такой выбо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Не следует забывать, что и качество кофе у нас выше, чем в других местах по городу. Отсюда и цена, вполне себя оправдывающ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464653"/>
                </a:solidFill>
                <a:latin typeface="Bookman Old Style"/>
              </a:rPr>
              <a:t>ВОПРОС 7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539640" y="2072160"/>
            <a:ext cx="7560360" cy="228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А как же точки конкурентов, где цены гораздо ниж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- У них своя целевая аудитория, у нас – своя. Не понимаю, почему их состоятельность должна мешать нашей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Начальная">
  <a:themeElements>
    <a:clrScheme name="Начальная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igin</Template>
  <TotalTime>145</TotalTime>
  <Application>LibreOffice/7.4.7.2$Linux_X86_64 LibreOffice_project/40$Build-2</Application>
  <AppVersion>15.0000</AppVersion>
  <Words>542</Words>
  <Paragraphs>5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1T11:45:09Z</dcterms:created>
  <dc:creator>Sam</dc:creator>
  <dc:description/>
  <dc:language>en-US</dc:language>
  <cp:lastModifiedBy>Sam</cp:lastModifiedBy>
  <dcterms:modified xsi:type="dcterms:W3CDTF">2019-04-01T14:21:01Z</dcterms:modified>
  <cp:revision>5</cp:revision>
  <dc:subject/>
  <dc:title>ЗАДАНИЕ «ГЛУБИННОЕ ИНТЕРВЬЮ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2</vt:r8>
  </property>
</Properties>
</file>