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2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27.jpeg" ContentType="image/jpeg"/>
  <Override PartName="/ppt/media/image10.png" ContentType="image/png"/>
  <Override PartName="/ppt/media/image28.jpeg" ContentType="image/jpeg"/>
  <Override PartName="/ppt/media/image7.jpeg" ContentType="image/jpeg"/>
  <Override PartName="/ppt/media/image19.jpeg" ContentType="image/jpeg"/>
  <Override PartName="/ppt/media/image6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2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3246-332A-4B49-89DD-7D19ADFF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1039428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792960"/>
            <a:ext cx="1039428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AC89-7D5A-4340-8E76-40C468DA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1236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BFCE-9631-4513-B9D2-4712F923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00120" y="206352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714440" y="206352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79296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00120" y="379296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714440" y="379296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8AEE-FD41-43CC-90CC-14EEC873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4ED9-A9B7-43C3-81DA-9DF7F91A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2063520"/>
            <a:ext cx="1039428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BCE5-AC41-42D9-AF9B-1134AA6E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1039428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13BE-2008-45CB-8FF1-9D3CD786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4237-AAFE-4D7A-86DD-93011562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2E08-0AA9-400F-B433-DBB34EF0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10396440" cy="53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111D-977E-4B8B-BED8-9663B394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AD48-4140-432D-8786-3E207C86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2063520"/>
            <a:ext cx="1039428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69B-B6CC-47C1-88E1-34496D22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236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4F0F-422C-4227-AC63-0B2A7FD8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792960"/>
            <a:ext cx="1039428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9C96-35B1-47A2-9E5D-244131A6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1039428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792960"/>
            <a:ext cx="1039428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0701-1E6E-495C-BB36-843969D2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1236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C08A-2589-45C6-B58C-2ED0085A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200120" y="206352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714440" y="206352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79296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200120" y="379296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714440" y="379296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032D-B3DF-4CAB-8B28-1FFC3418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75019-80A1-4C7F-8B14-EE73C4F3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2063520"/>
            <a:ext cx="1039428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D15BC-B129-4471-BA3D-1F864D7B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1039428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8A835-BCE7-4CD5-9D5C-4F4BECCF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1AA14-B259-4C84-BB89-8A06D79E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81D59-A223-46F8-9FC1-A2774C86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1039428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C46-1C69-4251-A38E-6FF8C860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10396440" cy="53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1A9C7-492A-470B-9813-8CA61657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43DDD-4B34-4F0D-AB96-47B30AA0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236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9F9BE-B640-4455-8F5A-E678E239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92960"/>
            <a:ext cx="1039428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C026A-2F31-4296-9907-B608DB9E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1039428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792960"/>
            <a:ext cx="1039428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3EBC1-81B0-4E6F-8C8A-837E4F61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01236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48053-3779-4BCB-81C8-9807D062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00120" y="206352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714440" y="206352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79296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4200120" y="379296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7714440" y="379296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87ACD-5D6B-49C9-9E52-A4539396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BA2EA-6507-43B2-AEFE-B66BB107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2063520"/>
            <a:ext cx="1039428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44A82-055C-4CD5-B72F-44FDBAB2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1039428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93F27-4570-4025-983C-42CF578A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D419-A0EE-4842-A588-886F71CE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82344-2D8D-4E53-8827-B37426B8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A913E-4CD4-4528-B115-FE0A78E0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10396440" cy="53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2A502-853F-496B-AE5A-BCFA86B3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CE56B-62D5-4267-B06D-84BAE5F1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1236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57C79-01C8-42E2-B272-5F797463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92960"/>
            <a:ext cx="1039428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6252B-27CE-414B-9FEE-30573285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1039428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92960"/>
            <a:ext cx="1039428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7B53E-475B-44DB-B38B-3A4A2503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01236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934BA-527B-4B3A-A2D9-A1064B6F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00120" y="206352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714440" y="206352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9296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200120" y="379296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7714440" y="379296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C4D7D-3499-49BB-AED1-883E5063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50892-A079-4C02-8FC2-6F226869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1178-2780-4D62-9BEA-1C835A0C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2063520"/>
            <a:ext cx="1039428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D098B-D2BD-41B0-AAC2-611B2F55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1039428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6E466-FC76-452E-8AAD-2A97E0E1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4CCC1-D44C-48C5-84CC-C3E6D3E0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9D16F-9ED0-44A5-AEEB-12DA54B7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10396440" cy="53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07635-E5C4-45C3-AF58-435B5F86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659EA-9FAC-40DF-93DC-C7CFDB27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1236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B945F-4287-4D03-BDB3-932B1C7D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92960"/>
            <a:ext cx="1039428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D0AAA-BF60-4D31-A5AF-3ADC937F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1039428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92960"/>
            <a:ext cx="1039428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B2C62-E47C-4958-BACF-23F80809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01236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C4306-2FD1-4688-A0D4-E7224BD6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10396440" cy="53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8FAA-BC88-435F-883A-44626351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00120" y="206352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714440" y="206352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9296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4200120" y="379296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7714440" y="379296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70D9C-00DF-4DAF-AF10-CE9F8259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4F22-A0D8-4F2A-8A8C-0D2CCEC6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1236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79F8-1D52-42DE-A9EF-3BA70304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92960"/>
            <a:ext cx="1039428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C17B-1F67-4F3F-BC24-3F5B49DF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rickwork-HD-R1a.jpg"/>
          <p:cNvPicPr/>
          <p:nvPr/>
        </p:nvPicPr>
        <p:blipFill>
          <a:blip r:embed="rId3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9"/>
          <p:cNvGrpSpPr/>
          <p:nvPr/>
        </p:nvGrpSpPr>
        <p:grpSpPr>
          <a:xfrm>
            <a:off x="-25560" y="0"/>
            <a:ext cx="12005280" cy="6643800"/>
            <a:chOff x="-25560" y="0"/>
            <a:chExt cx="12005280" cy="6643800"/>
          </a:xfrm>
        </p:grpSpPr>
        <p:sp useBgFill="1">
          <p:nvSpPr>
            <p:cNvPr id="2" name="Rectangle 10"/>
            <p:cNvSpPr/>
            <p:nvPr/>
          </p:nvSpPr>
          <p:spPr>
            <a:xfrm>
              <a:off x="0" y="0"/>
              <a:ext cx="11979720" cy="6643800"/>
            </a:xfrm>
            <a:prstGeom prst="rect">
              <a:avLst/>
            </a:prstGeom>
            <a:ln>
              <a:noFill/>
            </a:ln>
            <a:effectLst>
              <a:outerShdw algn="tl" blurRad="98280" dir="4391803" dist="75963" rotWithShape="0">
                <a:srgbClr val="000000">
                  <a:alpha val="68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1"/>
            <p:cNvSpPr/>
            <p:nvPr/>
          </p:nvSpPr>
          <p:spPr>
            <a:xfrm>
              <a:off x="-25560" y="0"/>
              <a:ext cx="11773080" cy="6419160"/>
            </a:xfrm>
            <a:custGeom>
              <a:avLst/>
              <a:gdLst>
                <a:gd name="textAreaLeft" fmla="*/ 0 w 11773080"/>
                <a:gd name="textAreaRight" fmla="*/ 11773440 w 11773080"/>
                <a:gd name="textAreaTop" fmla="*/ 0 h 6419160"/>
                <a:gd name="textAreaBottom" fmla="*/ 6419520 h 6419160"/>
              </a:gdLst>
              <a:ahLst/>
              <a:rect l="textAreaLeft" t="textAreaTop" r="textAreaRight" b="textAreaBottom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550">
              <a:solidFill>
                <a:srgbClr val="000000">
                  <a:lumMod val="50000"/>
                  <a:lumOff val="50000"/>
                </a:srgbClr>
              </a:solidFill>
              <a:miter/>
            </a:ln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2"/>
            <p:cNvSpPr/>
            <p:nvPr/>
          </p:nvSpPr>
          <p:spPr>
            <a:xfrm>
              <a:off x="0" y="5600160"/>
              <a:ext cx="11706120" cy="780120"/>
            </a:xfrm>
            <a:prstGeom prst="rect">
              <a:avLst/>
            </a:prstGeom>
            <a:gradFill rotWithShape="0">
              <a:gsLst>
                <a:gs pos="0">
                  <a:srgbClr val="b80e0f"/>
                </a:gs>
                <a:gs pos="100000">
                  <a:srgbClr val="5c0707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6345000" cy="202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3600" spc="-1" strike="noStrike" cap="all">
                <a:solidFill>
                  <a:schemeClr val="accent1"/>
                </a:solidFill>
                <a:latin typeface="Impact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482240" y="0"/>
            <a:ext cx="3597840" cy="507132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Вставка рисунка</a:t>
            </a:r>
            <a:endParaRPr b="0" lang="en-US" sz="32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685800" y="2709000"/>
            <a:ext cx="6345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 cap="all">
                <a:solidFill>
                  <a:srgbClr val="000000"/>
                </a:solidFill>
                <a:latin typeface="Impact"/>
              </a:rPr>
              <a:t>Образец текста</a:t>
            </a:r>
            <a:endParaRPr b="0" lang="en-US" sz="18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1"/>
          </p:nvPr>
        </p:nvSpPr>
        <p:spPr>
          <a:xfrm>
            <a:off x="7297920" y="5757480"/>
            <a:ext cx="378432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3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2"/>
          </p:nvPr>
        </p:nvSpPr>
        <p:spPr>
          <a:xfrm>
            <a:off x="685800" y="5757480"/>
            <a:ext cx="549936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6"/>
          <p:cNvSpPr>
            <a:spLocks noGrp="1"/>
          </p:cNvSpPr>
          <p:nvPr>
            <p:ph type="sldNum" idx="3"/>
          </p:nvPr>
        </p:nvSpPr>
        <p:spPr>
          <a:xfrm>
            <a:off x="6287040" y="5757480"/>
            <a:ext cx="90684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3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B441879-C134-4356-AD00-3A9FA2F0CB7A}" type="slidenum">
              <a:rPr b="0" lang="en-US" sz="3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Brickwork-HD-R1a.jpg"/>
          <p:cNvPicPr/>
          <p:nvPr/>
        </p:nvPicPr>
        <p:blipFill>
          <a:blip r:embed="rId3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9"/>
          <p:cNvGrpSpPr/>
          <p:nvPr/>
        </p:nvGrpSpPr>
        <p:grpSpPr>
          <a:xfrm>
            <a:off x="-25560" y="0"/>
            <a:ext cx="12005280" cy="6643800"/>
            <a:chOff x="-25560" y="0"/>
            <a:chExt cx="12005280" cy="6643800"/>
          </a:xfrm>
        </p:grpSpPr>
        <p:sp useBgFill="1">
          <p:nvSpPr>
            <p:cNvPr id="49" name="Rectangle 10"/>
            <p:cNvSpPr/>
            <p:nvPr/>
          </p:nvSpPr>
          <p:spPr>
            <a:xfrm>
              <a:off x="0" y="0"/>
              <a:ext cx="11979720" cy="6643800"/>
            </a:xfrm>
            <a:prstGeom prst="rect">
              <a:avLst/>
            </a:prstGeom>
            <a:ln>
              <a:noFill/>
            </a:ln>
            <a:effectLst>
              <a:outerShdw algn="tl" blurRad="98280" dir="4391803" dist="75963" rotWithShape="0">
                <a:srgbClr val="000000">
                  <a:alpha val="68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-25560" y="0"/>
              <a:ext cx="11773080" cy="6419160"/>
            </a:xfrm>
            <a:custGeom>
              <a:avLst/>
              <a:gdLst>
                <a:gd name="textAreaLeft" fmla="*/ 0 w 11773080"/>
                <a:gd name="textAreaRight" fmla="*/ 11773440 w 11773080"/>
                <a:gd name="textAreaTop" fmla="*/ 0 h 6419160"/>
                <a:gd name="textAreaBottom" fmla="*/ 6419520 h 6419160"/>
              </a:gdLst>
              <a:ahLst/>
              <a:rect l="textAreaLeft" t="textAreaTop" r="textAreaRight" b="textAreaBottom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550">
              <a:solidFill>
                <a:srgbClr val="000000">
                  <a:lumMod val="50000"/>
                  <a:lumOff val="50000"/>
                </a:srgbClr>
              </a:solidFill>
              <a:miter/>
            </a:ln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0" y="5600160"/>
              <a:ext cx="11706120" cy="780120"/>
            </a:xfrm>
            <a:prstGeom prst="rect">
              <a:avLst/>
            </a:prstGeom>
            <a:gradFill rotWithShape="0">
              <a:gsLst>
                <a:gs pos="0">
                  <a:srgbClr val="b80e0f"/>
                </a:gs>
                <a:gs pos="100000">
                  <a:srgbClr val="5c0707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7297920" y="5757480"/>
            <a:ext cx="378432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3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685800" y="5757480"/>
            <a:ext cx="549936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6287040" y="5757480"/>
            <a:ext cx="90684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3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DF2C614-3935-4009-9915-3C610F9CE8A2}" type="slidenum">
              <a:rPr b="0" lang="en-US" sz="3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 cap="all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1600" spc="-1" strike="noStrike" cap="all">
              <a:solidFill>
                <a:srgbClr val="000000"/>
              </a:solidFill>
              <a:latin typeface="Impact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 cap="all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 cap="all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Brickwork-HD-R1a.jpg"/>
          <p:cNvPicPr/>
          <p:nvPr/>
        </p:nvPicPr>
        <p:blipFill>
          <a:blip r:embed="rId3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9"/>
          <p:cNvGrpSpPr/>
          <p:nvPr/>
        </p:nvGrpSpPr>
        <p:grpSpPr>
          <a:xfrm>
            <a:off x="-25560" y="0"/>
            <a:ext cx="12005280" cy="6643800"/>
            <a:chOff x="-25560" y="0"/>
            <a:chExt cx="12005280" cy="6643800"/>
          </a:xfrm>
        </p:grpSpPr>
        <p:sp useBgFill="1">
          <p:nvSpPr>
            <p:cNvPr id="95" name="Rectangle 10"/>
            <p:cNvSpPr/>
            <p:nvPr/>
          </p:nvSpPr>
          <p:spPr>
            <a:xfrm>
              <a:off x="0" y="0"/>
              <a:ext cx="11979720" cy="6643800"/>
            </a:xfrm>
            <a:prstGeom prst="rect">
              <a:avLst/>
            </a:prstGeom>
            <a:ln>
              <a:noFill/>
            </a:ln>
            <a:effectLst>
              <a:outerShdw algn="tl" blurRad="98280" dir="4391803" dist="75963" rotWithShape="0">
                <a:srgbClr val="000000">
                  <a:alpha val="68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1"/>
            <p:cNvSpPr/>
            <p:nvPr/>
          </p:nvSpPr>
          <p:spPr>
            <a:xfrm>
              <a:off x="-25560" y="0"/>
              <a:ext cx="11773080" cy="6419160"/>
            </a:xfrm>
            <a:custGeom>
              <a:avLst/>
              <a:gdLst>
                <a:gd name="textAreaLeft" fmla="*/ 0 w 11773080"/>
                <a:gd name="textAreaRight" fmla="*/ 11773440 w 11773080"/>
                <a:gd name="textAreaTop" fmla="*/ 0 h 6419160"/>
                <a:gd name="textAreaBottom" fmla="*/ 6419520 h 6419160"/>
              </a:gdLst>
              <a:ahLst/>
              <a:rect l="textAreaLeft" t="textAreaTop" r="textAreaRight" b="textAreaBottom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550">
              <a:solidFill>
                <a:srgbClr val="000000">
                  <a:lumMod val="50000"/>
                  <a:lumOff val="50000"/>
                </a:srgbClr>
              </a:solidFill>
              <a:miter/>
            </a:ln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0" y="5600160"/>
              <a:ext cx="11706120" cy="780120"/>
            </a:xfrm>
            <a:prstGeom prst="rect">
              <a:avLst/>
            </a:prstGeom>
            <a:gradFill rotWithShape="0">
              <a:gsLst>
                <a:gs pos="0">
                  <a:srgbClr val="b80e0f"/>
                </a:gs>
                <a:gs pos="100000">
                  <a:srgbClr val="5c0707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400" spc="-1" strike="noStrike" cap="all">
                <a:solidFill>
                  <a:schemeClr val="accent1"/>
                </a:solidFill>
                <a:latin typeface="Impact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2063520"/>
            <a:ext cx="5088240" cy="331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2000" spc="-1" strike="noStrike" cap="all">
                <a:solidFill>
                  <a:srgbClr val="000000"/>
                </a:solidFill>
                <a:latin typeface="Impact"/>
              </a:rPr>
              <a:t>Образец текста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800" spc="-1" strike="noStrike" cap="all">
                <a:solidFill>
                  <a:srgbClr val="000000"/>
                </a:solidFill>
                <a:latin typeface="Impact"/>
              </a:rPr>
              <a:t>Второй уровень</a:t>
            </a:r>
            <a:endParaRPr b="0" lang="en-US" sz="1800" spc="-1" strike="noStrike" cap="all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600" spc="-1" strike="noStrike" cap="all">
                <a:solidFill>
                  <a:srgbClr val="000000"/>
                </a:solidFill>
                <a:latin typeface="Impact"/>
              </a:rPr>
              <a:t>Третий уровень</a:t>
            </a:r>
            <a:endParaRPr b="0" lang="en-US" sz="1600" spc="-1" strike="noStrike" cap="all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Четвертый уровень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Пятый уровень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5994000" y="2063520"/>
            <a:ext cx="5086080" cy="331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2000" spc="-1" strike="noStrike" cap="all">
                <a:solidFill>
                  <a:srgbClr val="000000"/>
                </a:solidFill>
                <a:latin typeface="Impact"/>
              </a:rPr>
              <a:t>Образец текста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800" spc="-1" strike="noStrike" cap="all">
                <a:solidFill>
                  <a:srgbClr val="000000"/>
                </a:solidFill>
                <a:latin typeface="Impact"/>
              </a:rPr>
              <a:t>Второй уровень</a:t>
            </a:r>
            <a:endParaRPr b="0" lang="en-US" sz="1800" spc="-1" strike="noStrike" cap="all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600" spc="-1" strike="noStrike" cap="all">
                <a:solidFill>
                  <a:srgbClr val="000000"/>
                </a:solidFill>
                <a:latin typeface="Impact"/>
              </a:rPr>
              <a:t>Третий уровень</a:t>
            </a:r>
            <a:endParaRPr b="0" lang="en-US" sz="1600" spc="-1" strike="noStrike" cap="all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Четвертый уровень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Пятый уровень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dt" idx="7"/>
          </p:nvPr>
        </p:nvSpPr>
        <p:spPr>
          <a:xfrm>
            <a:off x="7297920" y="5757480"/>
            <a:ext cx="378432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3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685800" y="5757480"/>
            <a:ext cx="549936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6287040" y="5757480"/>
            <a:ext cx="90684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3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FDC41B2-D1CA-4696-91DF-6E6608A19A91}" type="slidenum">
              <a:rPr b="0" lang="en-US" sz="3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Brickwork-HD-R1a.jpg"/>
          <p:cNvPicPr/>
          <p:nvPr/>
        </p:nvPicPr>
        <p:blipFill>
          <a:blip r:embed="rId3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9"/>
          <p:cNvGrpSpPr/>
          <p:nvPr/>
        </p:nvGrpSpPr>
        <p:grpSpPr>
          <a:xfrm>
            <a:off x="-25560" y="0"/>
            <a:ext cx="12005280" cy="6643800"/>
            <a:chOff x="-25560" y="0"/>
            <a:chExt cx="12005280" cy="6643800"/>
          </a:xfrm>
        </p:grpSpPr>
        <p:sp useBgFill="1">
          <p:nvSpPr>
            <p:cNvPr id="142" name="Rectangle 10"/>
            <p:cNvSpPr/>
            <p:nvPr/>
          </p:nvSpPr>
          <p:spPr>
            <a:xfrm>
              <a:off x="0" y="0"/>
              <a:ext cx="11979720" cy="6643800"/>
            </a:xfrm>
            <a:prstGeom prst="rect">
              <a:avLst/>
            </a:prstGeom>
            <a:ln>
              <a:noFill/>
            </a:ln>
            <a:effectLst>
              <a:outerShdw algn="tl" blurRad="98280" dir="4391803" dist="75963" rotWithShape="0">
                <a:srgbClr val="000000">
                  <a:alpha val="68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-25560" y="0"/>
              <a:ext cx="11773080" cy="6419160"/>
            </a:xfrm>
            <a:custGeom>
              <a:avLst/>
              <a:gdLst>
                <a:gd name="textAreaLeft" fmla="*/ 0 w 11773080"/>
                <a:gd name="textAreaRight" fmla="*/ 11773440 w 11773080"/>
                <a:gd name="textAreaTop" fmla="*/ 0 h 6419160"/>
                <a:gd name="textAreaBottom" fmla="*/ 6419520 h 6419160"/>
              </a:gdLst>
              <a:ahLst/>
              <a:rect l="textAreaLeft" t="textAreaTop" r="textAreaRight" b="textAreaBottom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550">
              <a:solidFill>
                <a:srgbClr val="000000">
                  <a:lumMod val="50000"/>
                  <a:lumOff val="50000"/>
                </a:srgbClr>
              </a:solidFill>
              <a:miter/>
            </a:ln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0" y="5600160"/>
              <a:ext cx="11706120" cy="780120"/>
            </a:xfrm>
            <a:prstGeom prst="rect">
              <a:avLst/>
            </a:prstGeom>
            <a:gradFill rotWithShape="0">
              <a:gsLst>
                <a:gs pos="0">
                  <a:srgbClr val="b80e0f"/>
                </a:gs>
                <a:gs pos="100000">
                  <a:srgbClr val="5c0707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Picture 6" descr="Brickwork-HD-R1a.jpg"/>
          <p:cNvPicPr/>
          <p:nvPr/>
        </p:nvPicPr>
        <p:blipFill>
          <a:blip r:embed="rId4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 useBgFill="1">
        <p:nvSpPr>
          <p:cNvPr id="146" name="Freeform 11"/>
          <p:cNvSpPr/>
          <p:nvPr/>
        </p:nvSpPr>
        <p:spPr>
          <a:xfrm>
            <a:off x="-15840" y="0"/>
            <a:ext cx="11683440" cy="6587640"/>
          </a:xfrm>
          <a:custGeom>
            <a:avLst/>
            <a:gdLst>
              <a:gd name="textAreaLeft" fmla="*/ 0 w 11683440"/>
              <a:gd name="textAreaRight" fmla="*/ 11683800 w 11683440"/>
              <a:gd name="textAreaTop" fmla="*/ 0 h 6587640"/>
              <a:gd name="textAreaBottom" fmla="*/ 6588000 h 6587640"/>
            </a:gdLst>
            <a:ahLst/>
            <a:rect l="textAreaLeft" t="textAreaTop" r="textAreaRight" b="textAreaBottom"/>
            <a:pathLst>
              <a:path w="11683810" h="6588125">
                <a:moveTo>
                  <a:pt x="0" y="0"/>
                </a:moveTo>
                <a:lnTo>
                  <a:pt x="11318691" y="0"/>
                </a:lnTo>
                <a:lnTo>
                  <a:pt x="11683810" y="5976938"/>
                </a:lnTo>
                <a:lnTo>
                  <a:pt x="15875" y="6588125"/>
                </a:lnTo>
                <a:cubicBezTo>
                  <a:pt x="10583" y="4386792"/>
                  <a:pt x="5292" y="2185458"/>
                  <a:pt x="0" y="0"/>
                </a:cubicBezTo>
                <a:close/>
              </a:path>
            </a:pathLst>
          </a:custGeom>
          <a:ln>
            <a:noFill/>
          </a:ln>
          <a:effectLst>
            <a:outerShdw algn="tl" blurRad="101520" dir="4384010" dist="152031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3"/>
          <p:cNvSpPr/>
          <p:nvPr/>
        </p:nvSpPr>
        <p:spPr>
          <a:xfrm>
            <a:off x="0" y="4282200"/>
            <a:ext cx="11328840" cy="2028600"/>
          </a:xfrm>
          <a:custGeom>
            <a:avLst/>
            <a:gdLst>
              <a:gd name="textAreaLeft" fmla="*/ 0 w 11328840"/>
              <a:gd name="textAreaRight" fmla="*/ 11329200 w 11328840"/>
              <a:gd name="textAreaTop" fmla="*/ 0 h 2028600"/>
              <a:gd name="textAreaBottom" fmla="*/ 2028960 h 2028600"/>
            </a:gdLst>
            <a:ahLst/>
            <a:rect l="textAreaLeft" t="textAreaTop" r="textAreaRight" b="textAreaBottom"/>
            <a:pathLst>
              <a:path w="11329257" h="2028845">
                <a:moveTo>
                  <a:pt x="0" y="588520"/>
                </a:moveTo>
                <a:lnTo>
                  <a:pt x="11244075" y="0"/>
                </a:lnTo>
                <a:lnTo>
                  <a:pt x="11329257" y="1424838"/>
                </a:lnTo>
                <a:lnTo>
                  <a:pt x="0" y="2028845"/>
                </a:lnTo>
                <a:lnTo>
                  <a:pt x="0" y="588520"/>
                </a:lnTo>
                <a:close/>
              </a:path>
            </a:pathLst>
          </a:custGeom>
          <a:gradFill rotWithShape="0">
            <a:gsLst>
              <a:gs pos="0">
                <a:srgbClr val="b80e0f"/>
              </a:gs>
              <a:gs pos="100000">
                <a:srgbClr val="5c0707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5"/>
          <p:cNvSpPr/>
          <p:nvPr/>
        </p:nvSpPr>
        <p:spPr>
          <a:xfrm>
            <a:off x="0" y="0"/>
            <a:ext cx="8719200" cy="456480"/>
          </a:xfrm>
          <a:custGeom>
            <a:avLst/>
            <a:gdLst>
              <a:gd name="textAreaLeft" fmla="*/ 0 w 8719200"/>
              <a:gd name="textAreaRight" fmla="*/ 8719560 w 8719200"/>
              <a:gd name="textAreaTop" fmla="*/ 0 h 456480"/>
              <a:gd name="textAreaBottom" fmla="*/ 456840 h 456480"/>
            </a:gdLst>
            <a:ahLst/>
            <a:rect l="textAreaLeft" t="textAreaTop" r="textAreaRight" b="textAreaBottom"/>
            <a:pathLst>
              <a:path w="8719579" h="456877">
                <a:moveTo>
                  <a:pt x="0" y="0"/>
                </a:moveTo>
                <a:lnTo>
                  <a:pt x="8719579" y="0"/>
                </a:lnTo>
                <a:lnTo>
                  <a:pt x="0" y="45687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80e0f"/>
              </a:gs>
              <a:gs pos="100000">
                <a:srgbClr val="5c0707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4"/>
          <p:cNvSpPr/>
          <p:nvPr/>
        </p:nvSpPr>
        <p:spPr>
          <a:xfrm rot="21420000">
            <a:off x="-161640" y="293040"/>
            <a:ext cx="11366640" cy="5751360"/>
          </a:xfrm>
          <a:custGeom>
            <a:avLst/>
            <a:gdLst>
              <a:gd name="textAreaLeft" fmla="*/ 0 w 11366640"/>
              <a:gd name="textAreaRight" fmla="*/ 11367000 w 11366640"/>
              <a:gd name="textAreaTop" fmla="*/ 0 h 5751360"/>
              <a:gd name="textAreaBottom" fmla="*/ 5751720 h 5751360"/>
            </a:gdLst>
            <a:ahLst/>
            <a:rect l="textAreaLeft" t="textAreaTop" r="textAreaRight" b="textAreaBottom"/>
            <a:pathLst>
              <a:path w="11367116" h="5751804">
                <a:moveTo>
                  <a:pt x="11346705" y="0"/>
                </a:moveTo>
                <a:cubicBezTo>
                  <a:pt x="11353509" y="1915114"/>
                  <a:pt x="11360312" y="3830229"/>
                  <a:pt x="11367116" y="5745343"/>
                </a:cubicBezTo>
                <a:lnTo>
                  <a:pt x="0" y="5751804"/>
                </a:lnTo>
              </a:path>
            </a:pathLst>
          </a:custGeom>
          <a:noFill/>
          <a:ln w="82550">
            <a:solidFill>
              <a:srgbClr val="000000">
                <a:lumMod val="50000"/>
                <a:lumOff val="50000"/>
              </a:srgbClr>
            </a:solidFill>
            <a:miter/>
          </a:ln>
        </p:spPr>
        <p:style>
          <a:lnRef idx="2">
            <a:schemeClr val="accent1"/>
          </a:lnRef>
          <a:fillRef idx="0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 rot="21420000">
            <a:off x="891000" y="662400"/>
            <a:ext cx="9754920" cy="276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8000" spc="-1" strike="noStrike" cap="all">
                <a:solidFill>
                  <a:schemeClr val="accent1"/>
                </a:solidFill>
                <a:latin typeface="Impact"/>
              </a:rPr>
              <a:t>Образец заголовка</a:t>
            </a:r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 rot="21420000">
            <a:off x="4948200" y="4578480"/>
            <a:ext cx="6143400" cy="116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54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date/time&gt;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 rot="21420000">
            <a:off x="-5400" y="4882680"/>
            <a:ext cx="404676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 rot="21420000">
            <a:off x="9851400" y="3832560"/>
            <a:ext cx="90684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400" spc="-1" strike="noStrike" cap="all">
                <a:solidFill>
                  <a:srgbClr val="40404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79BFF70-D122-477E-8F5F-B3CFFE044E3A}" type="slidenum">
              <a:rPr b="0" lang="en-US" sz="2400" spc="-1" strike="noStrike" cap="all">
                <a:solidFill>
                  <a:srgbClr val="404040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5-Point Star 24"/>
          <p:cNvSpPr/>
          <p:nvPr/>
        </p:nvSpPr>
        <p:spPr>
          <a:xfrm rot="21420000">
            <a:off x="4221360" y="5111280"/>
            <a:ext cx="515160" cy="515160"/>
          </a:xfrm>
          <a:prstGeom prst="star5">
            <a:avLst>
              <a:gd name="adj" fmla="val 26693"/>
              <a:gd name="hf" fmla="val 105146"/>
              <a:gd name="vf" fmla="val 110557"/>
            </a:avLst>
          </a:prstGeom>
          <a:solidFill>
            <a:schemeClr val="tx1">
              <a:alpha val="40000"/>
            </a:schemeClr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 cap="all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1600" spc="-1" strike="noStrike" cap="all">
              <a:solidFill>
                <a:srgbClr val="000000"/>
              </a:solidFill>
              <a:latin typeface="Impact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 cap="all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 cap="all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rickwork-HD-R1a.jpg"/>
          <p:cNvPicPr/>
          <p:nvPr/>
        </p:nvPicPr>
        <p:blipFill>
          <a:blip r:embed="rId3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9"/>
          <p:cNvGrpSpPr/>
          <p:nvPr/>
        </p:nvGrpSpPr>
        <p:grpSpPr>
          <a:xfrm>
            <a:off x="-25560" y="0"/>
            <a:ext cx="12005280" cy="6643800"/>
            <a:chOff x="-25560" y="0"/>
            <a:chExt cx="12005280" cy="6643800"/>
          </a:xfrm>
        </p:grpSpPr>
        <p:sp useBgFill="1">
          <p:nvSpPr>
            <p:cNvPr id="194" name="Rectangle 10"/>
            <p:cNvSpPr/>
            <p:nvPr/>
          </p:nvSpPr>
          <p:spPr>
            <a:xfrm>
              <a:off x="0" y="0"/>
              <a:ext cx="11979720" cy="6643800"/>
            </a:xfrm>
            <a:prstGeom prst="rect">
              <a:avLst/>
            </a:prstGeom>
            <a:ln>
              <a:noFill/>
            </a:ln>
            <a:effectLst>
              <a:outerShdw algn="tl" blurRad="98280" dir="4391803" dist="75963" rotWithShape="0">
                <a:srgbClr val="000000">
                  <a:alpha val="68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1"/>
            <p:cNvSpPr/>
            <p:nvPr/>
          </p:nvSpPr>
          <p:spPr>
            <a:xfrm>
              <a:off x="-25560" y="0"/>
              <a:ext cx="11773080" cy="6419160"/>
            </a:xfrm>
            <a:custGeom>
              <a:avLst/>
              <a:gdLst>
                <a:gd name="textAreaLeft" fmla="*/ 0 w 11773080"/>
                <a:gd name="textAreaRight" fmla="*/ 11773440 w 11773080"/>
                <a:gd name="textAreaTop" fmla="*/ 0 h 6419160"/>
                <a:gd name="textAreaBottom" fmla="*/ 6419520 h 6419160"/>
              </a:gdLst>
              <a:ahLst/>
              <a:rect l="textAreaLeft" t="textAreaTop" r="textAreaRight" b="textAreaBottom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550">
              <a:solidFill>
                <a:srgbClr val="000000">
                  <a:lumMod val="50000"/>
                  <a:lumOff val="50000"/>
                </a:srgbClr>
              </a:solidFill>
              <a:miter/>
            </a:ln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0" y="5600160"/>
              <a:ext cx="11706120" cy="780120"/>
            </a:xfrm>
            <a:prstGeom prst="rect">
              <a:avLst/>
            </a:prstGeom>
            <a:gradFill rotWithShape="0">
              <a:gsLst>
                <a:gs pos="0">
                  <a:srgbClr val="b80e0f"/>
                </a:gs>
                <a:gs pos="100000">
                  <a:srgbClr val="5c0707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400" spc="-1" strike="noStrike" cap="all">
                <a:solidFill>
                  <a:schemeClr val="accent1"/>
                </a:solidFill>
                <a:latin typeface="Impact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2063520"/>
            <a:ext cx="10394280" cy="33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2000" spc="-1" strike="noStrike" cap="all">
                <a:solidFill>
                  <a:srgbClr val="000000"/>
                </a:solidFill>
                <a:latin typeface="Impact"/>
              </a:rPr>
              <a:t>Образец текста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800" spc="-1" strike="noStrike" cap="all">
                <a:solidFill>
                  <a:srgbClr val="000000"/>
                </a:solidFill>
                <a:latin typeface="Impact"/>
              </a:rPr>
              <a:t>Второй уровень</a:t>
            </a:r>
            <a:endParaRPr b="0" lang="en-US" sz="1800" spc="-1" strike="noStrike" cap="all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600" spc="-1" strike="noStrike" cap="all">
                <a:solidFill>
                  <a:srgbClr val="000000"/>
                </a:solidFill>
                <a:latin typeface="Impact"/>
              </a:rPr>
              <a:t>Третий уровень</a:t>
            </a:r>
            <a:endParaRPr b="0" lang="en-US" sz="1600" spc="-1" strike="noStrike" cap="all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Четвертый уровень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Пятый уровень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7297920" y="5757480"/>
            <a:ext cx="378432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3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685800" y="5757480"/>
            <a:ext cx="549936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6287040" y="5757480"/>
            <a:ext cx="90684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3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2E98977-155F-46DE-B75B-6EB8AFC8B20D}" type="slidenum">
              <a:rPr b="0" lang="en-US" sz="3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1529280"/>
            <a:ext cx="624132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lnSpc>
                <a:spcPct val="90000"/>
              </a:lnSpc>
              <a:buNone/>
            </a:pPr>
            <a:r>
              <a:rPr b="1" i="1" lang="ru-RU" sz="3600" spc="-1" strike="noStrike" cap="all">
                <a:solidFill>
                  <a:schemeClr val="accent1"/>
                </a:solidFill>
                <a:latin typeface="Impact"/>
              </a:rPr>
              <a:t>Виртуальная экскурсия:</a:t>
            </a:r>
            <a:br>
              <a:rPr sz="3600"/>
            </a:br>
            <a:r>
              <a:rPr b="1" lang="ru-RU" sz="4800" spc="-1" strike="noStrike" cap="all">
                <a:solidFill>
                  <a:schemeClr val="accent1"/>
                </a:solidFill>
                <a:latin typeface="Impact"/>
              </a:rPr>
              <a:t> </a:t>
            </a:r>
            <a:r>
              <a:rPr b="1" lang="ru-RU" sz="4400" spc="-1" strike="noStrike" cap="all">
                <a:solidFill>
                  <a:schemeClr val="accent1"/>
                </a:solidFill>
                <a:latin typeface="Impact"/>
              </a:rPr>
              <a:t>«</a:t>
            </a:r>
            <a:r>
              <a:rPr b="1" i="1" lang="ru-RU" sz="4400" spc="-1" strike="noStrike" cap="all">
                <a:solidFill>
                  <a:schemeClr val="accent1"/>
                </a:solidFill>
                <a:latin typeface="Impact"/>
              </a:rPr>
              <a:t> Живи, родник,</a:t>
            </a:r>
            <a:br>
              <a:rPr sz="4400"/>
            </a:br>
            <a:r>
              <a:rPr b="1" i="1" lang="ru-RU" sz="4400" spc="-1" strike="noStrike" cap="all">
                <a:solidFill>
                  <a:schemeClr val="accent1"/>
                </a:solidFill>
                <a:latin typeface="Impact"/>
              </a:rPr>
              <a:t> живи! </a:t>
            </a:r>
            <a:r>
              <a:rPr b="1" lang="ru-RU" sz="4400" spc="-1" strike="noStrike" cap="all">
                <a:solidFill>
                  <a:schemeClr val="accent1"/>
                </a:solidFill>
                <a:latin typeface="Impact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9" name="Рисунок 7"/>
          <p:cNvSpPr/>
          <p:nvPr/>
        </p:nvSpPr>
        <p:spPr>
          <a:xfrm>
            <a:off x="7734240" y="491040"/>
            <a:ext cx="3597840" cy="5071320"/>
          </a:xfrm>
          <a:prstGeom prst="roundRect">
            <a:avLst>
              <a:gd name="adj" fmla="val 9950"/>
            </a:avLst>
          </a:prstGeom>
          <a:blipFill rotWithShape="0">
            <a:blip r:embed="rId1"/>
            <a:srcRect/>
            <a:stretch/>
          </a:blipFill>
          <a:ln w="57150">
            <a:solidFill>
              <a:srgbClr val="ffffff">
                <a:lumMod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95280" y="3255480"/>
            <a:ext cx="6438600" cy="23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Выполнила: Шаталова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Алина Евгеньевна, 11 лет, 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Ученица 6 класса МБОУ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«Малобыковская ООШ» 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Руководитель: 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                                                                         </a:t>
            </a: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Григораш Н.А.,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учитель биологии и химии   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95280" y="507960"/>
            <a:ext cx="9600840" cy="88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400" spc="-1" strike="noStrike" cap="all">
                <a:solidFill>
                  <a:schemeClr val="accent1"/>
                </a:solidFill>
                <a:latin typeface="Impact"/>
              </a:rPr>
              <a:t>Родник Николая Стефановича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79" name="Объект 4" descr=""/>
          <p:cNvPicPr/>
          <p:nvPr/>
        </p:nvPicPr>
        <p:blipFill>
          <a:blip r:embed="rId1"/>
          <a:stretch/>
        </p:blipFill>
        <p:spPr>
          <a:xfrm>
            <a:off x="7332120" y="1387440"/>
            <a:ext cx="3729240" cy="27968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03112012234"/>
          <p:cNvPicPr/>
          <p:nvPr/>
        </p:nvPicPr>
        <p:blipFill>
          <a:blip r:embed="rId2"/>
          <a:stretch/>
        </p:blipFill>
        <p:spPr>
          <a:xfrm>
            <a:off x="4106880" y="3112920"/>
            <a:ext cx="2863440" cy="21427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2" descr=""/>
          <p:cNvPicPr/>
          <p:nvPr/>
        </p:nvPicPr>
        <p:blipFill>
          <a:blip r:embed="rId3"/>
          <a:stretch/>
        </p:blipFill>
        <p:spPr>
          <a:xfrm>
            <a:off x="729360" y="1387440"/>
            <a:ext cx="3015720" cy="22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90000"/>
              </a:lnSpc>
              <a:buNone/>
            </a:pPr>
            <a:r>
              <a:rPr b="0" lang="ru-RU" sz="5400" spc="-1" strike="noStrike" cap="all">
                <a:solidFill>
                  <a:schemeClr val="accent1"/>
                </a:solidFill>
                <a:latin typeface="Impact"/>
              </a:rPr>
              <a:t>Родник Николая Стефановича (зимой)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83" name="Объект 4" descr=""/>
          <p:cNvPicPr/>
          <p:nvPr/>
        </p:nvPicPr>
        <p:blipFill>
          <a:blip r:embed="rId1"/>
          <a:stretch/>
        </p:blipFill>
        <p:spPr>
          <a:xfrm>
            <a:off x="549000" y="2273400"/>
            <a:ext cx="3213360" cy="2145240"/>
          </a:xfrm>
          <a:prstGeom prst="rect">
            <a:avLst/>
          </a:prstGeom>
          <a:ln w="0">
            <a:noFill/>
          </a:ln>
        </p:spPr>
      </p:pic>
      <p:pic>
        <p:nvPicPr>
          <p:cNvPr id="284" name="Объект 5" descr=""/>
          <p:cNvPicPr/>
          <p:nvPr/>
        </p:nvPicPr>
        <p:blipFill>
          <a:blip r:embed="rId2"/>
          <a:stretch/>
        </p:blipFill>
        <p:spPr>
          <a:xfrm>
            <a:off x="4710240" y="1265040"/>
            <a:ext cx="2644200" cy="396108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6" descr=""/>
          <p:cNvPicPr/>
          <p:nvPr/>
        </p:nvPicPr>
        <p:blipFill>
          <a:blip r:embed="rId3"/>
          <a:stretch/>
        </p:blipFill>
        <p:spPr>
          <a:xfrm>
            <a:off x="7864560" y="2513880"/>
            <a:ext cx="3634200" cy="24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400" spc="-1" strike="noStrike" cap="all">
                <a:solidFill>
                  <a:schemeClr val="accent1"/>
                </a:solidFill>
                <a:latin typeface="Impact"/>
              </a:rPr>
              <a:t>Колодец «Журавль»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87" name="Picture 2" descr="03112012238"/>
          <p:cNvPicPr/>
          <p:nvPr/>
        </p:nvPicPr>
        <p:blipFill>
          <a:blip r:embed="rId1"/>
          <a:stretch/>
        </p:blipFill>
        <p:spPr>
          <a:xfrm>
            <a:off x="525600" y="1712880"/>
            <a:ext cx="3457440" cy="24462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03112012249"/>
          <p:cNvPicPr/>
          <p:nvPr/>
        </p:nvPicPr>
        <p:blipFill>
          <a:blip r:embed="rId2"/>
          <a:stretch/>
        </p:blipFill>
        <p:spPr>
          <a:xfrm>
            <a:off x="4265280" y="3146040"/>
            <a:ext cx="3237480" cy="24343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26102012210"/>
          <p:cNvPicPr/>
          <p:nvPr/>
        </p:nvPicPr>
        <p:blipFill>
          <a:blip r:embed="rId3"/>
          <a:stretch/>
        </p:blipFill>
        <p:spPr>
          <a:xfrm>
            <a:off x="7867080" y="2093760"/>
            <a:ext cx="3029400" cy="22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1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692440" y="2349360"/>
            <a:ext cx="681516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7000"/>
          </a:bodyPr>
          <a:p>
            <a:pPr indent="0" algn="r">
              <a:lnSpc>
                <a:spcPct val="90000"/>
              </a:lnSpc>
              <a:buNone/>
            </a:pPr>
            <a:r>
              <a:rPr b="0" lang="ru-RU" sz="8000" spc="-1" strike="noStrike" cap="all">
                <a:solidFill>
                  <a:schemeClr val="accent1"/>
                </a:solidFill>
                <a:latin typeface="Impact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 rot="21420000">
            <a:off x="982800" y="3504960"/>
            <a:ext cx="9754920" cy="5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3600" spc="-1" strike="noStrike" cap="all">
                <a:solidFill>
                  <a:srgbClr val="808080"/>
                </a:solidFill>
                <a:latin typeface="Impact"/>
              </a:rPr>
              <a:t>Экскурсия закончен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3600" spc="-1" strike="noStrike" cap="all">
                <a:solidFill>
                  <a:srgbClr val="808080"/>
                </a:solidFill>
                <a:latin typeface="Impact"/>
              </a:rPr>
              <a:t>Возвращаем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3600" spc="-1" strike="noStrike" cap="all">
                <a:solidFill>
                  <a:srgbClr val="808080"/>
                </a:solidFill>
                <a:latin typeface="Impact"/>
              </a:rPr>
              <a:t>к Малобыковской шк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400" spc="-1" strike="noStrike" cap="all">
                <a:solidFill>
                  <a:schemeClr val="accent1"/>
                </a:solidFill>
                <a:latin typeface="Impact"/>
              </a:rPr>
              <a:t>Литература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10394280" cy="33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marL="202320" indent="-20232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2000" spc="-1" strike="noStrike" cap="all">
                <a:solidFill>
                  <a:srgbClr val="000000"/>
                </a:solidFill>
                <a:latin typeface="Impact"/>
              </a:rPr>
              <a:t>1.  Бирюч. 300 лет. — г.Белгород: Областная типография, - 2005 г.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marL="202320" indent="-20232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2000" spc="-1" strike="noStrike" cap="all">
                <a:solidFill>
                  <a:srgbClr val="000000"/>
                </a:solidFill>
                <a:latin typeface="Impact"/>
              </a:rPr>
              <a:t>2. Башкатов Д.И. «Окрестные сёла»//Знамя труда. — 1992г. 4 января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marL="202320" indent="-20232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2000" spc="-1" strike="noStrike" cap="all">
                <a:solidFill>
                  <a:srgbClr val="000000"/>
                </a:solidFill>
                <a:latin typeface="Impact"/>
              </a:rPr>
              <a:t>3. Харыбин А.Т. «Апрель. Но лужицы весны…»//Бирюч. 300 лет. – г.Белгород: Областная типография-2005г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marL="202320" indent="-20232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2000" spc="-1" strike="noStrike" cap="all">
                <a:solidFill>
                  <a:srgbClr val="000000"/>
                </a:solidFill>
                <a:latin typeface="Impact"/>
              </a:rPr>
              <a:t>4. Воспоминания Чернявских Николая Стефановича, жителя села Малобыково.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marL="202320" indent="-20232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2000" spc="-1" strike="noStrike" cap="all">
                <a:solidFill>
                  <a:srgbClr val="000000"/>
                </a:solidFill>
                <a:latin typeface="Impact"/>
              </a:rPr>
              <a:t>5. Воспоминания Чернявских Валентины Пантелеймоновны, жителя села Малобыково.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marL="202320" indent="-20232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2000" spc="-1" strike="noStrike" cap="all">
                <a:solidFill>
                  <a:srgbClr val="000000"/>
                </a:solidFill>
                <a:latin typeface="Impact"/>
              </a:rPr>
              <a:t>6. Фото материалы предоставлены: Чернявских И.Н., Чернявских Л.В. Волковой Н.П., Григораш Н.А., Куркиной Л.Д. 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4" descr=""/>
          <p:cNvPicPr/>
          <p:nvPr/>
        </p:nvPicPr>
        <p:blipFill>
          <a:blip r:embed="rId1"/>
          <a:stretch/>
        </p:blipFill>
        <p:spPr>
          <a:xfrm>
            <a:off x="190440" y="44280"/>
            <a:ext cx="11366280" cy="5530320"/>
          </a:xfrm>
          <a:prstGeom prst="rect">
            <a:avLst/>
          </a:prstGeom>
          <a:ln w="0">
            <a:noFill/>
          </a:ln>
        </p:spPr>
      </p:pic>
      <p:sp>
        <p:nvSpPr>
          <p:cNvPr id="242" name="Равнобедренный треугольник 5"/>
          <p:cNvSpPr/>
          <p:nvPr/>
        </p:nvSpPr>
        <p:spPr>
          <a:xfrm>
            <a:off x="5778360" y="2997360"/>
            <a:ext cx="126720" cy="279000"/>
          </a:xfrm>
          <a:prstGeom prst="triangle">
            <a:avLst>
              <a:gd name="adj" fmla="val 50000"/>
            </a:avLst>
          </a:prstGeom>
          <a:solidFill>
            <a:srgbClr val="b80e0f"/>
          </a:solidFill>
          <a:ln>
            <a:solidFill>
              <a:srgbClr val="880a0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Impact"/>
            </a:endParaRPr>
          </a:p>
        </p:txBody>
      </p:sp>
      <p:sp>
        <p:nvSpPr>
          <p:cNvPr id="243" name="Равнобедренный треугольник 8"/>
          <p:cNvSpPr/>
          <p:nvPr/>
        </p:nvSpPr>
        <p:spPr>
          <a:xfrm>
            <a:off x="7512120" y="3755880"/>
            <a:ext cx="126720" cy="279000"/>
          </a:xfrm>
          <a:prstGeom prst="triangle">
            <a:avLst>
              <a:gd name="adj" fmla="val 50000"/>
            </a:avLst>
          </a:prstGeom>
          <a:solidFill>
            <a:srgbClr val="b80e0f"/>
          </a:solidFill>
          <a:ln>
            <a:solidFill>
              <a:srgbClr val="880a0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Impact"/>
            </a:endParaRPr>
          </a:p>
        </p:txBody>
      </p:sp>
      <p:sp>
        <p:nvSpPr>
          <p:cNvPr id="244" name="Равнобедренный треугольник 9"/>
          <p:cNvSpPr/>
          <p:nvPr/>
        </p:nvSpPr>
        <p:spPr>
          <a:xfrm>
            <a:off x="9131400" y="3803760"/>
            <a:ext cx="126720" cy="279000"/>
          </a:xfrm>
          <a:prstGeom prst="triangle">
            <a:avLst>
              <a:gd name="adj" fmla="val 50000"/>
            </a:avLst>
          </a:prstGeom>
          <a:solidFill>
            <a:srgbClr val="b80e0f"/>
          </a:solidFill>
          <a:ln>
            <a:solidFill>
              <a:srgbClr val="880a0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Impact"/>
            </a:endParaRPr>
          </a:p>
        </p:txBody>
      </p:sp>
      <p:cxnSp>
        <p:nvCxnSpPr>
          <p:cNvPr id="245" name="Прямая соединительная линия 11"/>
          <p:cNvCxnSpPr/>
          <p:nvPr/>
        </p:nvCxnSpPr>
        <p:spPr>
          <a:xfrm>
            <a:off x="6006960" y="3276360"/>
            <a:ext cx="194040" cy="360"/>
          </a:xfrm>
          <a:prstGeom prst="straightConnector1">
            <a:avLst/>
          </a:prstGeom>
          <a:ln>
            <a:solidFill>
              <a:srgbClr val="930b0b"/>
            </a:solidFill>
            <a:round/>
          </a:ln>
        </p:spPr>
      </p:cxnSp>
      <p:sp>
        <p:nvSpPr>
          <p:cNvPr id="246" name="Равнобедренный треугольник 13"/>
          <p:cNvSpPr/>
          <p:nvPr/>
        </p:nvSpPr>
        <p:spPr>
          <a:xfrm>
            <a:off x="5892840" y="3308400"/>
            <a:ext cx="126720" cy="279000"/>
          </a:xfrm>
          <a:prstGeom prst="triangle">
            <a:avLst>
              <a:gd name="adj" fmla="val 50000"/>
            </a:avLst>
          </a:prstGeom>
          <a:solidFill>
            <a:srgbClr val="b80e0f"/>
          </a:solidFill>
          <a:ln>
            <a:solidFill>
              <a:srgbClr val="880a0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Impact"/>
            </a:endParaRPr>
          </a:p>
        </p:txBody>
      </p:sp>
      <p:cxnSp>
        <p:nvCxnSpPr>
          <p:cNvPr id="247" name="Прямая соединительная линия 15"/>
          <p:cNvCxnSpPr/>
          <p:nvPr/>
        </p:nvCxnSpPr>
        <p:spPr>
          <a:xfrm>
            <a:off x="6197040" y="3308040"/>
            <a:ext cx="1207080" cy="629280"/>
          </a:xfrm>
          <a:prstGeom prst="straightConnector1">
            <a:avLst/>
          </a:prstGeom>
          <a:ln>
            <a:solidFill>
              <a:srgbClr val="930b0b"/>
            </a:solidFill>
            <a:round/>
          </a:ln>
        </p:spPr>
      </p:cxnSp>
      <p:cxnSp>
        <p:nvCxnSpPr>
          <p:cNvPr id="248" name="Прямая соединительная линия 18"/>
          <p:cNvCxnSpPr/>
          <p:nvPr/>
        </p:nvCxnSpPr>
        <p:spPr>
          <a:xfrm>
            <a:off x="7581240" y="4006800"/>
            <a:ext cx="420120" cy="70200"/>
          </a:xfrm>
          <a:prstGeom prst="straightConnector1">
            <a:avLst/>
          </a:prstGeom>
          <a:ln>
            <a:solidFill>
              <a:srgbClr val="930b0b"/>
            </a:solidFill>
            <a:round/>
          </a:ln>
        </p:spPr>
      </p:cxnSp>
      <p:cxnSp>
        <p:nvCxnSpPr>
          <p:cNvPr id="249" name="Прямая соединительная линия 24"/>
          <p:cNvCxnSpPr/>
          <p:nvPr/>
        </p:nvCxnSpPr>
        <p:spPr>
          <a:xfrm>
            <a:off x="7638840" y="4063680"/>
            <a:ext cx="1556280" cy="360"/>
          </a:xfrm>
          <a:prstGeom prst="straightConnector1">
            <a:avLst/>
          </a:prstGeom>
          <a:ln>
            <a:solidFill>
              <a:srgbClr val="930b0b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95280" y="520560"/>
            <a:ext cx="96008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3000"/>
          </a:bodyPr>
          <a:p>
            <a:pPr indent="0">
              <a:lnSpc>
                <a:spcPct val="90000"/>
              </a:lnSpc>
              <a:buNone/>
            </a:pPr>
            <a:r>
              <a:rPr b="1" lang="ru-RU" sz="4900" spc="-1" strike="noStrike" cap="all">
                <a:solidFill>
                  <a:schemeClr val="accent1"/>
                </a:solidFill>
                <a:latin typeface="Impact"/>
              </a:rPr>
              <a:t>Село Малобыково </a:t>
            </a:r>
            <a:br>
              <a:rPr sz="5400"/>
            </a:br>
            <a:r>
              <a:rPr b="0" lang="ru-RU" sz="5400" spc="-1" strike="noStrike" cap="all">
                <a:solidFill>
                  <a:schemeClr val="accent1"/>
                </a:solidFill>
                <a:latin typeface="Impact"/>
              </a:rPr>
              <a:t>(история и современность)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823160" y="2560320"/>
            <a:ext cx="3076200" cy="33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2000" spc="-1" strike="noStrike" cap="all">
                <a:solidFill>
                  <a:srgbClr val="000000"/>
                </a:solidFill>
                <a:latin typeface="Impact"/>
              </a:rPr>
              <a:t>Село в начале 20 века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2000" spc="-1" strike="noStrike" cap="all">
                <a:solidFill>
                  <a:srgbClr val="000000"/>
                </a:solidFill>
                <a:latin typeface="Impact"/>
              </a:rPr>
              <a:t>Дом Шершунова Петра Константиновича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2000" spc="-1" strike="noStrike" cap="all">
                <a:solidFill>
                  <a:srgbClr val="000000"/>
                </a:solidFill>
                <a:latin typeface="Impact"/>
              </a:rPr>
              <a:t>Современное село (вид со стороны)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681480" y="1834560"/>
            <a:ext cx="2983680" cy="17413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"/>
          <p:cNvPicPr/>
          <p:nvPr/>
        </p:nvPicPr>
        <p:blipFill>
          <a:blip r:embed="rId2"/>
          <a:stretch/>
        </p:blipFill>
        <p:spPr>
          <a:xfrm>
            <a:off x="5418720" y="1941840"/>
            <a:ext cx="1941840" cy="1842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1040350"/>
          <p:cNvPicPr/>
          <p:nvPr/>
        </p:nvPicPr>
        <p:blipFill>
          <a:blip r:embed="rId3"/>
          <a:srcRect l="0" t="-1572" r="0" b="0"/>
          <a:stretch/>
        </p:blipFill>
        <p:spPr>
          <a:xfrm>
            <a:off x="2415600" y="3669120"/>
            <a:ext cx="3003120" cy="19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>
              <a:lnSpc>
                <a:spcPct val="90000"/>
              </a:lnSpc>
              <a:buNone/>
            </a:pPr>
            <a:r>
              <a:rPr b="0" lang="ru-RU" sz="5400" spc="-1" strike="noStrike" cap="all">
                <a:solidFill>
                  <a:schemeClr val="accent1"/>
                </a:solidFill>
                <a:latin typeface="Impact"/>
              </a:rPr>
              <a:t>Здание школы </a:t>
            </a:r>
            <a:br>
              <a:rPr sz="5400"/>
            </a:br>
            <a:r>
              <a:rPr b="0" lang="ru-RU" sz="5400" spc="-1" strike="noStrike" cap="all">
                <a:solidFill>
                  <a:schemeClr val="accent1"/>
                </a:solidFill>
                <a:latin typeface="Impact"/>
              </a:rPr>
              <a:t>(старое здание и современное)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56" name="Объект 5" descr=""/>
          <p:cNvPicPr/>
          <p:nvPr/>
        </p:nvPicPr>
        <p:blipFill>
          <a:blip r:embed="rId1"/>
          <a:stretch/>
        </p:blipFill>
        <p:spPr>
          <a:xfrm>
            <a:off x="6094080" y="2628720"/>
            <a:ext cx="5170320" cy="2709720"/>
          </a:xfrm>
          <a:prstGeom prst="rect">
            <a:avLst/>
          </a:prstGeom>
          <a:ln w="0">
            <a:noFill/>
          </a:ln>
        </p:spPr>
      </p:pic>
      <p:pic>
        <p:nvPicPr>
          <p:cNvPr id="257" name="Объект 8" descr=""/>
          <p:cNvPicPr/>
          <p:nvPr/>
        </p:nvPicPr>
        <p:blipFill>
          <a:blip r:embed="rId2"/>
          <a:stretch/>
        </p:blipFill>
        <p:spPr>
          <a:xfrm>
            <a:off x="685800" y="2628720"/>
            <a:ext cx="457164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28000" y="977760"/>
            <a:ext cx="5568120" cy="13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400" spc="-1" strike="noStrike" cap="all">
                <a:solidFill>
                  <a:schemeClr val="accent1"/>
                </a:solidFill>
                <a:latin typeface="Impact"/>
              </a:rPr>
              <a:t>Харыбин А.Т.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50960" y="4084200"/>
            <a:ext cx="2776680" cy="12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526680" y="157320"/>
            <a:ext cx="3492000" cy="494424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4597200" y="3006360"/>
            <a:ext cx="3785400" cy="2322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"/>
          <p:cNvPicPr/>
          <p:nvPr/>
        </p:nvPicPr>
        <p:blipFill>
          <a:blip r:embed="rId3"/>
          <a:stretch/>
        </p:blipFill>
        <p:spPr>
          <a:xfrm>
            <a:off x="9217800" y="1493640"/>
            <a:ext cx="2422440" cy="360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9600840" cy="11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4000"/>
          </a:bodyPr>
          <a:p>
            <a:pPr indent="0">
              <a:lnSpc>
                <a:spcPct val="90000"/>
              </a:lnSpc>
              <a:buNone/>
            </a:pPr>
            <a:r>
              <a:rPr b="0" lang="ru-RU" sz="5400" spc="-1" strike="noStrike" cap="all">
                <a:solidFill>
                  <a:schemeClr val="accent1"/>
                </a:solidFill>
                <a:latin typeface="Impact"/>
              </a:rPr>
              <a:t>Дом культуры села Малобыково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64" name="Объект 4" descr=""/>
          <p:cNvPicPr/>
          <p:nvPr/>
        </p:nvPicPr>
        <p:blipFill>
          <a:blip r:embed="rId1"/>
          <a:stretch/>
        </p:blipFill>
        <p:spPr>
          <a:xfrm>
            <a:off x="495360" y="1307160"/>
            <a:ext cx="4556880" cy="3417480"/>
          </a:xfrm>
          <a:prstGeom prst="rect">
            <a:avLst/>
          </a:prstGeom>
          <a:ln w="0">
            <a:noFill/>
          </a:ln>
        </p:spPr>
      </p:pic>
      <p:pic>
        <p:nvPicPr>
          <p:cNvPr id="265" name="Объект 5" descr=""/>
          <p:cNvPicPr/>
          <p:nvPr/>
        </p:nvPicPr>
        <p:blipFill>
          <a:blip r:embed="rId2"/>
          <a:srcRect l="0" t="-299" r="-811" b="0"/>
          <a:stretch/>
        </p:blipFill>
        <p:spPr>
          <a:xfrm>
            <a:off x="7106040" y="1346040"/>
            <a:ext cx="3933360" cy="337860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6" descr=""/>
          <p:cNvPicPr/>
          <p:nvPr/>
        </p:nvPicPr>
        <p:blipFill>
          <a:blip r:embed="rId3"/>
          <a:stretch/>
        </p:blipFill>
        <p:spPr>
          <a:xfrm>
            <a:off x="4245480" y="2325240"/>
            <a:ext cx="4190400" cy="31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400" spc="-1" strike="noStrike" cap="all">
                <a:solidFill>
                  <a:schemeClr val="accent1"/>
                </a:solidFill>
                <a:latin typeface="Impact"/>
              </a:rPr>
              <a:t>Дом культуры с. Малобыково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68" name="Объект 4" descr=""/>
          <p:cNvPicPr/>
          <p:nvPr/>
        </p:nvPicPr>
        <p:blipFill>
          <a:blip r:embed="rId1"/>
          <a:stretch/>
        </p:blipFill>
        <p:spPr>
          <a:xfrm>
            <a:off x="6969960" y="2104560"/>
            <a:ext cx="4322160" cy="32418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"/>
          <p:cNvPicPr/>
          <p:nvPr/>
        </p:nvPicPr>
        <p:blipFill>
          <a:blip r:embed="rId2"/>
          <a:stretch/>
        </p:blipFill>
        <p:spPr>
          <a:xfrm>
            <a:off x="851040" y="2104560"/>
            <a:ext cx="5430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473800" y="599040"/>
            <a:ext cx="5422680" cy="15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>
              <a:lnSpc>
                <a:spcPct val="90000"/>
              </a:lnSpc>
              <a:buNone/>
            </a:pPr>
            <a:r>
              <a:rPr b="0" lang="ru-RU" sz="5400" spc="-1" strike="noStrike" cap="all">
                <a:solidFill>
                  <a:schemeClr val="accent1"/>
                </a:solidFill>
                <a:latin typeface="Impact"/>
              </a:rPr>
              <a:t>Мемориал</a:t>
            </a:r>
            <a:br>
              <a:rPr sz="5400"/>
            </a:br>
            <a:r>
              <a:rPr b="0" lang="ru-RU" sz="5400" spc="-1" strike="noStrike" cap="all">
                <a:solidFill>
                  <a:schemeClr val="accent1"/>
                </a:solidFill>
                <a:latin typeface="Impact"/>
              </a:rPr>
              <a:t> погибшим жителям села.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71" name="Объект 4" descr=""/>
          <p:cNvPicPr/>
          <p:nvPr/>
        </p:nvPicPr>
        <p:blipFill>
          <a:blip r:embed="rId1"/>
          <a:stretch/>
        </p:blipFill>
        <p:spPr>
          <a:xfrm>
            <a:off x="689040" y="601200"/>
            <a:ext cx="3374640" cy="2530800"/>
          </a:xfrm>
          <a:prstGeom prst="rect">
            <a:avLst/>
          </a:prstGeom>
          <a:ln w="0">
            <a:noFill/>
          </a:ln>
        </p:spPr>
      </p:pic>
      <p:pic>
        <p:nvPicPr>
          <p:cNvPr id="272" name="Объект 5" descr=""/>
          <p:cNvPicPr/>
          <p:nvPr/>
        </p:nvPicPr>
        <p:blipFill>
          <a:blip r:embed="rId2"/>
          <a:stretch/>
        </p:blipFill>
        <p:spPr>
          <a:xfrm>
            <a:off x="7801920" y="2413080"/>
            <a:ext cx="3569040" cy="267660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6" descr=""/>
          <p:cNvPicPr/>
          <p:nvPr/>
        </p:nvPicPr>
        <p:blipFill>
          <a:blip r:embed="rId3"/>
          <a:stretch/>
        </p:blipFill>
        <p:spPr>
          <a:xfrm>
            <a:off x="3661920" y="3301920"/>
            <a:ext cx="3623400" cy="27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95280" y="380880"/>
            <a:ext cx="9600840" cy="88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3000"/>
          </a:bodyPr>
          <a:p>
            <a:pPr indent="0">
              <a:lnSpc>
                <a:spcPct val="90000"/>
              </a:lnSpc>
              <a:buNone/>
            </a:pPr>
            <a:r>
              <a:rPr b="0" lang="ru-RU" sz="5400" spc="-1" strike="noStrike" cap="all">
                <a:solidFill>
                  <a:schemeClr val="accent1"/>
                </a:solidFill>
                <a:latin typeface="Impact"/>
              </a:rPr>
              <a:t>Родник Николая Стефановича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75" name="Объект 4" descr=""/>
          <p:cNvPicPr/>
          <p:nvPr/>
        </p:nvPicPr>
        <p:blipFill>
          <a:blip r:embed="rId1"/>
          <a:stretch/>
        </p:blipFill>
        <p:spPr>
          <a:xfrm>
            <a:off x="7715160" y="1270080"/>
            <a:ext cx="3022200" cy="2266560"/>
          </a:xfrm>
          <a:prstGeom prst="rect">
            <a:avLst/>
          </a:prstGeom>
          <a:ln w="0">
            <a:noFill/>
          </a:ln>
        </p:spPr>
      </p:pic>
      <p:pic>
        <p:nvPicPr>
          <p:cNvPr id="276" name="Объект 5" descr=""/>
          <p:cNvPicPr/>
          <p:nvPr/>
        </p:nvPicPr>
        <p:blipFill>
          <a:blip r:embed="rId2"/>
          <a:stretch/>
        </p:blipFill>
        <p:spPr>
          <a:xfrm>
            <a:off x="463680" y="1143000"/>
            <a:ext cx="3142800" cy="235692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6" descr=""/>
          <p:cNvPicPr/>
          <p:nvPr/>
        </p:nvPicPr>
        <p:blipFill>
          <a:blip r:embed="rId3"/>
          <a:stretch/>
        </p:blipFill>
        <p:spPr>
          <a:xfrm>
            <a:off x="3991320" y="3030480"/>
            <a:ext cx="2919960" cy="21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Главное мероприятие">
  <a:themeElements>
    <a:clrScheme name="Главное мероприятие">
      <a:dk1>
        <a:srgbClr val="000000"/>
      </a:dk1>
      <a:lt1>
        <a:srgbClr val="ffffff"/>
      </a:lt1>
      <a:dk2>
        <a:srgbClr val="424242"/>
      </a:dk2>
      <a:lt2>
        <a:srgbClr val="c8c8c8"/>
      </a:lt2>
      <a:accent1>
        <a:srgbClr val="b80e0f"/>
      </a:accent1>
      <a:accent2>
        <a:srgbClr val="a6987d"/>
      </a:accent2>
      <a:accent3>
        <a:srgbClr val="7f9a71"/>
      </a:accent3>
      <a:accent4>
        <a:srgbClr val="64969f"/>
      </a:accent4>
      <a:accent5>
        <a:srgbClr val="9b75b2"/>
      </a:accent5>
      <a:accent6>
        <a:srgbClr val="80737a"/>
      </a:accent6>
      <a:hlink>
        <a:srgbClr val="f21213"/>
      </a:hlink>
      <a:folHlink>
        <a:srgbClr val="b6a39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лавное мероприятие">
  <a:themeElements>
    <a:clrScheme name="Главное мероприятие">
      <a:dk1>
        <a:srgbClr val="000000"/>
      </a:dk1>
      <a:lt1>
        <a:srgbClr val="ffffff"/>
      </a:lt1>
      <a:dk2>
        <a:srgbClr val="424242"/>
      </a:dk2>
      <a:lt2>
        <a:srgbClr val="c8c8c8"/>
      </a:lt2>
      <a:accent1>
        <a:srgbClr val="b80e0f"/>
      </a:accent1>
      <a:accent2>
        <a:srgbClr val="a6987d"/>
      </a:accent2>
      <a:accent3>
        <a:srgbClr val="7f9a71"/>
      </a:accent3>
      <a:accent4>
        <a:srgbClr val="64969f"/>
      </a:accent4>
      <a:accent5>
        <a:srgbClr val="9b75b2"/>
      </a:accent5>
      <a:accent6>
        <a:srgbClr val="80737a"/>
      </a:accent6>
      <a:hlink>
        <a:srgbClr val="f21213"/>
      </a:hlink>
      <a:folHlink>
        <a:srgbClr val="b6a39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лавное мероприятие">
  <a:themeElements>
    <a:clrScheme name="Главное мероприятие">
      <a:dk1>
        <a:srgbClr val="000000"/>
      </a:dk1>
      <a:lt1>
        <a:srgbClr val="ffffff"/>
      </a:lt1>
      <a:dk2>
        <a:srgbClr val="424242"/>
      </a:dk2>
      <a:lt2>
        <a:srgbClr val="c8c8c8"/>
      </a:lt2>
      <a:accent1>
        <a:srgbClr val="b80e0f"/>
      </a:accent1>
      <a:accent2>
        <a:srgbClr val="a6987d"/>
      </a:accent2>
      <a:accent3>
        <a:srgbClr val="7f9a71"/>
      </a:accent3>
      <a:accent4>
        <a:srgbClr val="64969f"/>
      </a:accent4>
      <a:accent5>
        <a:srgbClr val="9b75b2"/>
      </a:accent5>
      <a:accent6>
        <a:srgbClr val="80737a"/>
      </a:accent6>
      <a:hlink>
        <a:srgbClr val="f21213"/>
      </a:hlink>
      <a:folHlink>
        <a:srgbClr val="b6a39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лавное мероприятие">
  <a:themeElements>
    <a:clrScheme name="Главное мероприятие">
      <a:dk1>
        <a:srgbClr val="000000"/>
      </a:dk1>
      <a:lt1>
        <a:srgbClr val="ffffff"/>
      </a:lt1>
      <a:dk2>
        <a:srgbClr val="424242"/>
      </a:dk2>
      <a:lt2>
        <a:srgbClr val="c8c8c8"/>
      </a:lt2>
      <a:accent1>
        <a:srgbClr val="b80e0f"/>
      </a:accent1>
      <a:accent2>
        <a:srgbClr val="a6987d"/>
      </a:accent2>
      <a:accent3>
        <a:srgbClr val="7f9a71"/>
      </a:accent3>
      <a:accent4>
        <a:srgbClr val="64969f"/>
      </a:accent4>
      <a:accent5>
        <a:srgbClr val="9b75b2"/>
      </a:accent5>
      <a:accent6>
        <a:srgbClr val="80737a"/>
      </a:accent6>
      <a:hlink>
        <a:srgbClr val="f21213"/>
      </a:hlink>
      <a:folHlink>
        <a:srgbClr val="b6a39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Главное мероприятие">
  <a:themeElements>
    <a:clrScheme name="Главное мероприятие">
      <a:dk1>
        <a:srgbClr val="000000"/>
      </a:dk1>
      <a:lt1>
        <a:srgbClr val="ffffff"/>
      </a:lt1>
      <a:dk2>
        <a:srgbClr val="424242"/>
      </a:dk2>
      <a:lt2>
        <a:srgbClr val="c8c8c8"/>
      </a:lt2>
      <a:accent1>
        <a:srgbClr val="b80e0f"/>
      </a:accent1>
      <a:accent2>
        <a:srgbClr val="a6987d"/>
      </a:accent2>
      <a:accent3>
        <a:srgbClr val="7f9a71"/>
      </a:accent3>
      <a:accent4>
        <a:srgbClr val="64969f"/>
      </a:accent4>
      <a:accent5>
        <a:srgbClr val="9b75b2"/>
      </a:accent5>
      <a:accent6>
        <a:srgbClr val="80737a"/>
      </a:accent6>
      <a:hlink>
        <a:srgbClr val="f21213"/>
      </a:hlink>
      <a:folHlink>
        <a:srgbClr val="b6a39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4033927[[fn=Главное мероприятие]]</Template>
  <TotalTime>178</TotalTime>
  <Application>LibreOffice/7.4.7.2$Linux_X86_64 LibreOffice_project/40$Build-2</Application>
  <AppVersion>15.0000</AppVersion>
  <Words>194</Words>
  <Paragraphs>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31T17:54:40Z</dcterms:created>
  <dc:creator>User</dc:creator>
  <dc:description/>
  <dc:language>en-US</dc:language>
  <cp:lastModifiedBy>Станция Юнатов</cp:lastModifiedBy>
  <dcterms:modified xsi:type="dcterms:W3CDTF">2016-09-23T22:22:41Z</dcterms:modified>
  <cp:revision>21</cp:revision>
  <dc:subject/>
  <dc:title>Виртуальная экскурсия:  «Родник Николая Стефанович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14</vt:r8>
  </property>
</Properties>
</file>