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2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387-1E48-4091-8A5D-D85748E9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AA3-8877-457E-9F78-34D2D5CB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4977-666D-468A-B242-CD6E2267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270-6D3E-47FB-A37C-B019B0A9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246B-D32B-4F19-80C6-314A93E4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3D9E-AB03-4AD2-AF13-D94A1AD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21FA-1773-4318-A94C-6F83061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5108-6DEA-4E10-9E00-C832A873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AAE2-8C70-4D82-9618-747A0B97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6D75-146B-4904-AEAB-D3B7BB27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2AAD-418C-4C44-9A13-EB596153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518-7125-43D5-9539-C926AEF8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9658-612A-4913-8909-83DDF1B9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5B3C-6C07-47AB-8AB3-DF337284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B028-02DA-42E9-8CE0-EE6C4D21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BD75-2BB7-4753-BD6A-85A9BFE3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634D-1F75-451E-9262-5B622483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91696-70EF-4239-A5D2-98EC07C84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80097-8C11-45E4-83CA-9AC9CDD7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AA70-6CE3-416C-AF2B-1EBAE6E3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B6BCC-F816-438F-86CA-60ABF326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6717-7EA9-4DE1-8D67-075BE13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4B62-DEF0-4335-B3CC-B040D681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C519E-BCB2-459E-A36F-8BD4B823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DF41-9E1C-4F10-9393-94F7CF72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14291-AF13-43FD-884B-FF1B059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F567-0F40-4BA5-A7F8-1F0AD6CF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00CFE-2DB0-4CFA-9C68-E2669625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F0928-79F1-49FC-9511-D33B7A10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5329-9F55-45BC-A8A2-5A6264C0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DF964-A2BB-4EF8-9F4B-DB4289A75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73CD0-D572-4DB5-A9C7-B787DCEC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17905-E5B0-43A0-89EB-EBCACE4C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352-C53B-4AB4-BF3F-936960E1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CA912-9B26-411B-9F93-07A16AEF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A847-6E2F-49F1-A83D-A2658A7B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BB8AD-3F08-4D71-8E7B-BF7EBF99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640E-3685-45F8-930D-37285C76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7933E-A0FC-44B1-9472-ABB25FEB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7E7F6-63DD-49A1-AE62-61B44D0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AA21B-D5E7-4EB4-ABF9-9DFE0BE9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7331C-F255-45F2-9088-C8E12DC9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DD43-E9B0-49BF-A212-FF958EB2C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31F88-1763-4CD8-A554-A52E02AE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78E-EA13-4D0A-9353-B924A8AB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546C2-64B4-487C-B4D9-4B72427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96D51-2046-4C4A-A55E-712075D1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59205-ED9B-445B-A9BC-7F4415FC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CDC2-FFC7-4155-9138-414FCFE2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A459-0329-4B9A-B913-1A11B7CC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2EAC8-28AC-43C4-B309-5DEFBC78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83D4-77D0-4F2E-85D5-4F5EBD7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E8540-674E-49AD-AE5E-EB84152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26981-6595-465F-8E4B-F5986A69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7CB9B-CB98-4EE1-B158-D6DB15AAB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10396440" cy="53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632D-4192-4CE4-ADB7-0B302096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0012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14440" y="206352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20012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7714440" y="3792960"/>
            <a:ext cx="334656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DF492-6ECE-497B-A78D-CD088DBA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4CD-289F-4500-9F2E-524C3662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33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12360" y="379296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D819-66A8-466C-BA2B-53608F3B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12360" y="2063520"/>
            <a:ext cx="507240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92960"/>
            <a:ext cx="10394280" cy="15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BFC-ADE7-4BDC-994E-5545A560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2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6345000" cy="202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36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482240" y="0"/>
            <a:ext cx="3597840" cy="50713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Impact"/>
              </a:rPr>
              <a:t>Вставка рисунка</a:t>
            </a:r>
            <a:endParaRPr b="0" lang="en-US" sz="32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85800" y="2709000"/>
            <a:ext cx="63450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1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2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6"/>
          <p:cNvSpPr>
            <a:spLocks noGrp="1"/>
          </p:cNvSpPr>
          <p:nvPr>
            <p:ph type="sldNum" idx="3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F50C798-77E8-47E8-B8BE-484AECD42CBE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49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4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5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6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DCCB6B5-2295-4A60-A1C5-AD0F0E11F78F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95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2063520"/>
            <a:ext cx="5088240" cy="33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5994000" y="2063520"/>
            <a:ext cx="5086080" cy="331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7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38EB320-C01A-4C02-9594-DF333F4E028E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142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6" descr="Brickwork-HD-R1a.jpg"/>
          <p:cNvPicPr/>
          <p:nvPr/>
        </p:nvPicPr>
        <p:blipFill>
          <a:blip r:embed="rId4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 useBgFill="1">
        <p:nvSpPr>
          <p:cNvPr id="146" name="Freeform 11"/>
          <p:cNvSpPr/>
          <p:nvPr/>
        </p:nvSpPr>
        <p:spPr>
          <a:xfrm>
            <a:off x="-15840" y="0"/>
            <a:ext cx="11683440" cy="6587640"/>
          </a:xfrm>
          <a:custGeom>
            <a:avLst/>
            <a:gdLst>
              <a:gd name="textAreaLeft" fmla="*/ 0 w 11683440"/>
              <a:gd name="textAreaRight" fmla="*/ 11683800 w 11683440"/>
              <a:gd name="textAreaTop" fmla="*/ 0 h 6587640"/>
              <a:gd name="textAreaBottom" fmla="*/ 6588000 h 6587640"/>
            </a:gdLst>
            <a:ahLst/>
            <a:rect l="textAreaLeft" t="textAreaTop" r="textAreaRight" b="textAreaBottom"/>
            <a:pathLst>
              <a:path w="11683810" h="6588125">
                <a:moveTo>
                  <a:pt x="0" y="0"/>
                </a:moveTo>
                <a:lnTo>
                  <a:pt x="11318691" y="0"/>
                </a:lnTo>
                <a:lnTo>
                  <a:pt x="11683810" y="5976938"/>
                </a:lnTo>
                <a:lnTo>
                  <a:pt x="15875" y="6588125"/>
                </a:lnTo>
                <a:cubicBezTo>
                  <a:pt x="10583" y="4386792"/>
                  <a:pt x="5292" y="2185458"/>
                  <a:pt x="0" y="0"/>
                </a:cubicBezTo>
                <a:close/>
              </a:path>
            </a:pathLst>
          </a:custGeom>
          <a:ln>
            <a:noFill/>
          </a:ln>
          <a:effectLst>
            <a:outerShdw algn="tl" blurRad="101520" dir="4384010" dist="152031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3"/>
          <p:cNvSpPr/>
          <p:nvPr/>
        </p:nvSpPr>
        <p:spPr>
          <a:xfrm>
            <a:off x="0" y="4282200"/>
            <a:ext cx="11328840" cy="2028600"/>
          </a:xfrm>
          <a:custGeom>
            <a:avLst/>
            <a:gdLst>
              <a:gd name="textAreaLeft" fmla="*/ 0 w 11328840"/>
              <a:gd name="textAreaRight" fmla="*/ 11329200 w 11328840"/>
              <a:gd name="textAreaTop" fmla="*/ 0 h 2028600"/>
              <a:gd name="textAreaBottom" fmla="*/ 2028960 h 2028600"/>
            </a:gdLst>
            <a:ahLst/>
            <a:rect l="textAreaLeft" t="textAreaTop" r="textAreaRight" b="textAreaBottom"/>
            <a:pathLst>
              <a:path w="11329257" h="2028845">
                <a:moveTo>
                  <a:pt x="0" y="588520"/>
                </a:moveTo>
                <a:lnTo>
                  <a:pt x="11244075" y="0"/>
                </a:lnTo>
                <a:lnTo>
                  <a:pt x="11329257" y="1424838"/>
                </a:lnTo>
                <a:lnTo>
                  <a:pt x="0" y="2028845"/>
                </a:lnTo>
                <a:lnTo>
                  <a:pt x="0" y="588520"/>
                </a:ln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5"/>
          <p:cNvSpPr/>
          <p:nvPr/>
        </p:nvSpPr>
        <p:spPr>
          <a:xfrm>
            <a:off x="0" y="0"/>
            <a:ext cx="8719200" cy="456480"/>
          </a:xfrm>
          <a:custGeom>
            <a:avLst/>
            <a:gdLst>
              <a:gd name="textAreaLeft" fmla="*/ 0 w 8719200"/>
              <a:gd name="textAreaRight" fmla="*/ 8719560 w 8719200"/>
              <a:gd name="textAreaTop" fmla="*/ 0 h 456480"/>
              <a:gd name="textAreaBottom" fmla="*/ 456840 h 456480"/>
            </a:gdLst>
            <a:ahLst/>
            <a:rect l="textAreaLeft" t="textAreaTop" r="textAreaRight" b="textAreaBottom"/>
            <a:pathLst>
              <a:path w="8719579" h="456877">
                <a:moveTo>
                  <a:pt x="0" y="0"/>
                </a:moveTo>
                <a:lnTo>
                  <a:pt x="8719579" y="0"/>
                </a:lnTo>
                <a:lnTo>
                  <a:pt x="0" y="4568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80e0f"/>
              </a:gs>
              <a:gs pos="100000">
                <a:srgbClr val="5c0707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4"/>
          <p:cNvSpPr/>
          <p:nvPr/>
        </p:nvSpPr>
        <p:spPr>
          <a:xfrm rot="21420000">
            <a:off x="-161640" y="293040"/>
            <a:ext cx="11366640" cy="5751360"/>
          </a:xfrm>
          <a:custGeom>
            <a:avLst/>
            <a:gdLst>
              <a:gd name="textAreaLeft" fmla="*/ 0 w 11366640"/>
              <a:gd name="textAreaRight" fmla="*/ 11367000 w 11366640"/>
              <a:gd name="textAreaTop" fmla="*/ 0 h 5751360"/>
              <a:gd name="textAreaBottom" fmla="*/ 5751720 h 5751360"/>
            </a:gdLst>
            <a:ahLst/>
            <a:rect l="textAreaLeft" t="textAreaTop" r="textAreaRight" b="textAreaBottom"/>
            <a:pathLst>
              <a:path w="11367116" h="5751804">
                <a:moveTo>
                  <a:pt x="11346705" y="0"/>
                </a:moveTo>
                <a:cubicBezTo>
                  <a:pt x="11353509" y="1915114"/>
                  <a:pt x="11360312" y="3830229"/>
                  <a:pt x="11367116" y="5745343"/>
                </a:cubicBezTo>
                <a:lnTo>
                  <a:pt x="0" y="5751804"/>
                </a:lnTo>
              </a:path>
            </a:pathLst>
          </a:custGeom>
          <a:noFill/>
          <a:ln w="82550">
            <a:solidFill>
              <a:srgbClr val="000000">
                <a:lumMod val="50000"/>
                <a:lumOff val="50000"/>
              </a:srgbClr>
            </a:solidFill>
            <a:miter/>
          </a:ln>
        </p:spPr>
        <p:style>
          <a:lnRef idx="2">
            <a:schemeClr val="accent1"/>
          </a:lnRef>
          <a:fillRef idx="0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 rot="21420000">
            <a:off x="891000" y="662400"/>
            <a:ext cx="9754920" cy="276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80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10"/>
          </p:nvPr>
        </p:nvSpPr>
        <p:spPr>
          <a:xfrm rot="21420000">
            <a:off x="4948200" y="4578480"/>
            <a:ext cx="6143400" cy="116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54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54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ftr" idx="11"/>
          </p:nvPr>
        </p:nvSpPr>
        <p:spPr>
          <a:xfrm rot="21420000">
            <a:off x="-5400" y="4882680"/>
            <a:ext cx="4046760" cy="11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sldNum" idx="12"/>
          </p:nvPr>
        </p:nvSpPr>
        <p:spPr>
          <a:xfrm rot="21420000">
            <a:off x="9851400" y="383256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2400" spc="-1" strike="noStrike" cap="all">
                <a:solidFill>
                  <a:srgbClr val="40404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6DEAE4A-725B-497F-BB07-B94057C0FE2C}" type="slidenum">
              <a:rPr b="0" lang="en-US" sz="2400" spc="-1" strike="noStrike" cap="all">
                <a:solidFill>
                  <a:srgbClr val="404040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5-Point Star 24"/>
          <p:cNvSpPr/>
          <p:nvPr/>
        </p:nvSpPr>
        <p:spPr>
          <a:xfrm rot="21420000">
            <a:off x="4221360" y="5111280"/>
            <a:ext cx="515160" cy="515160"/>
          </a:xfrm>
          <a:prstGeom prst="star5">
            <a:avLst>
              <a:gd name="adj" fmla="val 26693"/>
              <a:gd name="hf" fmla="val 105146"/>
              <a:gd name="vf" fmla="val 110557"/>
            </a:avLst>
          </a:prstGeom>
          <a:solidFill>
            <a:schemeClr val="tx1">
              <a:alpha val="40000"/>
            </a:schemeClr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 cap="all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 cap="all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 cap="all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Brickwork-HD-R1a.jpg"/>
          <p:cNvPicPr/>
          <p:nvPr/>
        </p:nvPicPr>
        <p:blipFill>
          <a:blip r:embed="rId3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9"/>
          <p:cNvGrpSpPr/>
          <p:nvPr/>
        </p:nvGrpSpPr>
        <p:grpSpPr>
          <a:xfrm>
            <a:off x="-25560" y="0"/>
            <a:ext cx="12005280" cy="6643800"/>
            <a:chOff x="-25560" y="0"/>
            <a:chExt cx="12005280" cy="6643800"/>
          </a:xfrm>
        </p:grpSpPr>
        <p:sp useBgFill="1">
          <p:nvSpPr>
            <p:cNvPr id="194" name="Rectangle 10"/>
            <p:cNvSpPr/>
            <p:nvPr/>
          </p:nvSpPr>
          <p:spPr>
            <a:xfrm>
              <a:off x="0" y="0"/>
              <a:ext cx="11979720" cy="6643800"/>
            </a:xfrm>
            <a:prstGeom prst="rect">
              <a:avLst/>
            </a:prstGeom>
            <a:ln>
              <a:noFill/>
            </a:ln>
            <a:effectLst>
              <a:outerShdw algn="tl" blurRad="98280" dir="4391803" dist="75963" rotWithShape="0">
                <a:srgbClr val="000000">
                  <a:alpha val="68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"/>
            <p:cNvSpPr/>
            <p:nvPr/>
          </p:nvSpPr>
          <p:spPr>
            <a:xfrm>
              <a:off x="-25560" y="0"/>
              <a:ext cx="11773080" cy="6419160"/>
            </a:xfrm>
            <a:custGeom>
              <a:avLst/>
              <a:gdLst>
                <a:gd name="textAreaLeft" fmla="*/ 0 w 11773080"/>
                <a:gd name="textAreaRight" fmla="*/ 11773440 w 11773080"/>
                <a:gd name="textAreaTop" fmla="*/ 0 h 6419160"/>
                <a:gd name="textAreaBottom" fmla="*/ 6419520 h 6419160"/>
              </a:gdLst>
              <a:ahLst/>
              <a:rect l="textAreaLeft" t="textAreaTop" r="textAreaRight" b="textAreaBottom"/>
              <a:pathLst>
                <a:path w="11773291" h="6419514">
                  <a:moveTo>
                    <a:pt x="11750059" y="0"/>
                  </a:moveTo>
                  <a:lnTo>
                    <a:pt x="11773291" y="6419514"/>
                  </a:lnTo>
                  <a:lnTo>
                    <a:pt x="0" y="6411047"/>
                  </a:lnTo>
                </a:path>
              </a:pathLst>
            </a:custGeom>
            <a:noFill/>
            <a:ln w="82550">
              <a:solidFill>
                <a:srgbClr val="000000">
                  <a:lumMod val="50000"/>
                  <a:lumOff val="50000"/>
                </a:srgbClr>
              </a:solidFill>
              <a:miter/>
            </a:ln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0" y="5600160"/>
              <a:ext cx="11706120" cy="780120"/>
            </a:xfrm>
            <a:prstGeom prst="rect">
              <a:avLst/>
            </a:prstGeom>
            <a:gradFill rotWithShape="0">
              <a:gsLst>
                <a:gs pos="0">
                  <a:srgbClr val="b80e0f"/>
                </a:gs>
                <a:gs pos="100000">
                  <a:srgbClr val="5c0707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Образец заголовк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Образец текст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800" spc="-1" strike="noStrike" cap="all">
                <a:solidFill>
                  <a:srgbClr val="000000"/>
                </a:solidFill>
                <a:latin typeface="Impact"/>
              </a:rPr>
              <a:t>Второй уровень</a:t>
            </a:r>
            <a:endParaRPr b="0" lang="en-US" sz="1800" spc="-1" strike="noStrike" cap="all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600" spc="-1" strike="noStrike" cap="all">
                <a:solidFill>
                  <a:srgbClr val="000000"/>
                </a:solidFill>
                <a:latin typeface="Impact"/>
              </a:rPr>
              <a:t>Третий уровень</a:t>
            </a:r>
            <a:endParaRPr b="0" lang="en-US" sz="1600" spc="-1" strike="noStrike" cap="all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Четвер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Пятый уровень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7297920" y="5757480"/>
            <a:ext cx="378432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685800" y="5757480"/>
            <a:ext cx="549936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287040" y="5757480"/>
            <a:ext cx="906840" cy="49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3FD37FB-DFF2-4E59-BC64-E614F76C77AE}" type="slidenum">
              <a:rPr b="0" lang="en-US" sz="3200" spc="-1" strike="noStrike" cap="all">
                <a:solidFill>
                  <a:schemeClr val="accent1">
                    <a:lumMod val="50000"/>
                  </a:schemeClr>
                </a:solidFill>
                <a:latin typeface="Impact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1529280"/>
            <a:ext cx="624132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lnSpc>
                <a:spcPct val="90000"/>
              </a:lnSpc>
              <a:buNone/>
            </a:pPr>
            <a:r>
              <a:rPr b="1" i="1" lang="ru-RU" sz="3600" spc="-1" strike="noStrike" cap="all">
                <a:solidFill>
                  <a:schemeClr val="accent1"/>
                </a:solidFill>
                <a:latin typeface="Impact"/>
              </a:rPr>
              <a:t>Виртуальная экскурсия:</a:t>
            </a:r>
            <a:br>
              <a:rPr sz="3600"/>
            </a:br>
            <a:r>
              <a:rPr b="1" lang="ru-RU" sz="4800" spc="-1" strike="noStrike" cap="all">
                <a:solidFill>
                  <a:schemeClr val="accent1"/>
                </a:solidFill>
                <a:latin typeface="Impact"/>
              </a:rPr>
              <a:t> </a:t>
            </a:r>
            <a:r>
              <a:rPr b="1" lang="ru-RU" sz="4400" spc="-1" strike="noStrike" cap="all">
                <a:solidFill>
                  <a:schemeClr val="accent1"/>
                </a:solidFill>
                <a:latin typeface="Impact"/>
              </a:rPr>
              <a:t>«</a:t>
            </a:r>
            <a:r>
              <a:rPr b="1" i="1" lang="ru-RU" sz="4400" spc="-1" strike="noStrike" cap="all">
                <a:solidFill>
                  <a:schemeClr val="accent1"/>
                </a:solidFill>
                <a:latin typeface="Impact"/>
              </a:rPr>
              <a:t> Живи, родник,</a:t>
            </a:r>
            <a:br>
              <a:rPr sz="4400"/>
            </a:br>
            <a:r>
              <a:rPr b="1" i="1" lang="ru-RU" sz="4400" spc="-1" strike="noStrike" cap="all">
                <a:solidFill>
                  <a:schemeClr val="accent1"/>
                </a:solidFill>
                <a:latin typeface="Impact"/>
              </a:rPr>
              <a:t> живи! </a:t>
            </a:r>
            <a:r>
              <a:rPr b="1" lang="ru-RU" sz="4400" spc="-1" strike="noStrike" cap="all">
                <a:solidFill>
                  <a:schemeClr val="accent1"/>
                </a:solidFill>
                <a:latin typeface="Impact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9" name="Рисунок 7"/>
          <p:cNvSpPr/>
          <p:nvPr/>
        </p:nvSpPr>
        <p:spPr>
          <a:xfrm>
            <a:off x="7734240" y="491040"/>
            <a:ext cx="3597840" cy="5071320"/>
          </a:xfrm>
          <a:prstGeom prst="roundRect">
            <a:avLst>
              <a:gd name="adj" fmla="val 9950"/>
            </a:avLst>
          </a:prstGeom>
          <a:blipFill rotWithShape="0">
            <a:blip r:embed="rId1"/>
            <a:srcRect/>
            <a:stretch/>
          </a:blipFill>
          <a:ln w="57150">
            <a:solidFill>
              <a:srgbClr val="ffffff">
                <a:lumMod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95280" y="3255480"/>
            <a:ext cx="6438600" cy="23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Выполнила: Шаталова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Алина Евгеньевна, 11 лет,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Ученица 6 класса МБОУ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«Малобыковская ООШ»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Руководитель: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                                                                       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Григораш Н.А.,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400" spc="-1" strike="noStrike" cap="all">
                <a:solidFill>
                  <a:srgbClr val="000000"/>
                </a:solidFill>
                <a:latin typeface="Impact"/>
              </a:rPr>
              <a:t>учитель биологии и химии   </a:t>
            </a:r>
            <a:endParaRPr b="0" lang="en-US" sz="14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5280" y="507960"/>
            <a:ext cx="9600840" cy="88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Родник Николая Стефанович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9" name="Объект 4" descr=""/>
          <p:cNvPicPr/>
          <p:nvPr/>
        </p:nvPicPr>
        <p:blipFill>
          <a:blip r:embed="rId1"/>
          <a:stretch/>
        </p:blipFill>
        <p:spPr>
          <a:xfrm>
            <a:off x="7332120" y="1387440"/>
            <a:ext cx="3729240" cy="27968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03112012234"/>
          <p:cNvPicPr/>
          <p:nvPr/>
        </p:nvPicPr>
        <p:blipFill>
          <a:blip r:embed="rId2"/>
          <a:stretch/>
        </p:blipFill>
        <p:spPr>
          <a:xfrm>
            <a:off x="4106880" y="3112920"/>
            <a:ext cx="2863440" cy="21427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" descr=""/>
          <p:cNvPicPr/>
          <p:nvPr/>
        </p:nvPicPr>
        <p:blipFill>
          <a:blip r:embed="rId3"/>
          <a:stretch/>
        </p:blipFill>
        <p:spPr>
          <a:xfrm>
            <a:off x="729360" y="1387440"/>
            <a:ext cx="301572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Родник Николая Стефановича (зимой)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3" name="Объект 4" descr=""/>
          <p:cNvPicPr/>
          <p:nvPr/>
        </p:nvPicPr>
        <p:blipFill>
          <a:blip r:embed="rId1"/>
          <a:stretch/>
        </p:blipFill>
        <p:spPr>
          <a:xfrm>
            <a:off x="549000" y="2273400"/>
            <a:ext cx="3213360" cy="2145240"/>
          </a:xfrm>
          <a:prstGeom prst="rect">
            <a:avLst/>
          </a:prstGeom>
          <a:ln w="0">
            <a:noFill/>
          </a:ln>
        </p:spPr>
      </p:pic>
      <p:pic>
        <p:nvPicPr>
          <p:cNvPr id="284" name="Объект 5" descr=""/>
          <p:cNvPicPr/>
          <p:nvPr/>
        </p:nvPicPr>
        <p:blipFill>
          <a:blip r:embed="rId2"/>
          <a:stretch/>
        </p:blipFill>
        <p:spPr>
          <a:xfrm>
            <a:off x="4710240" y="1265040"/>
            <a:ext cx="2644200" cy="396108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6" descr=""/>
          <p:cNvPicPr/>
          <p:nvPr/>
        </p:nvPicPr>
        <p:blipFill>
          <a:blip r:embed="rId3"/>
          <a:stretch/>
        </p:blipFill>
        <p:spPr>
          <a:xfrm>
            <a:off x="7864560" y="2513880"/>
            <a:ext cx="3634200" cy="24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Колодец «Журавль»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87" name="Picture 2" descr="03112012238"/>
          <p:cNvPicPr/>
          <p:nvPr/>
        </p:nvPicPr>
        <p:blipFill>
          <a:blip r:embed="rId1"/>
          <a:stretch/>
        </p:blipFill>
        <p:spPr>
          <a:xfrm>
            <a:off x="525600" y="1712880"/>
            <a:ext cx="3457440" cy="24462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3112012249"/>
          <p:cNvPicPr/>
          <p:nvPr/>
        </p:nvPicPr>
        <p:blipFill>
          <a:blip r:embed="rId2"/>
          <a:stretch/>
        </p:blipFill>
        <p:spPr>
          <a:xfrm>
            <a:off x="4265280" y="3146040"/>
            <a:ext cx="3237480" cy="2434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26102012210"/>
          <p:cNvPicPr/>
          <p:nvPr/>
        </p:nvPicPr>
        <p:blipFill>
          <a:blip r:embed="rId3"/>
          <a:stretch/>
        </p:blipFill>
        <p:spPr>
          <a:xfrm>
            <a:off x="7867080" y="2093760"/>
            <a:ext cx="3029400" cy="22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692440" y="2349360"/>
            <a:ext cx="681516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7000"/>
          </a:bodyPr>
          <a:p>
            <a:pPr indent="0" algn="r">
              <a:lnSpc>
                <a:spcPct val="90000"/>
              </a:lnSpc>
              <a:buNone/>
            </a:pPr>
            <a:r>
              <a:rPr b="0" lang="ru-RU" sz="8000" spc="-1" strike="noStrike" cap="all">
                <a:solidFill>
                  <a:schemeClr val="accent1"/>
                </a:solidFill>
                <a:latin typeface="Impact"/>
              </a:rPr>
              <a:t>Спасибо за внимание!</a:t>
            </a:r>
            <a:endParaRPr b="0" lang="en-US" sz="8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 rot="21420000">
            <a:off x="982800" y="3504960"/>
            <a:ext cx="9754920" cy="5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 cap="all">
                <a:solidFill>
                  <a:srgbClr val="808080"/>
                </a:solidFill>
                <a:latin typeface="Impact"/>
              </a:rPr>
              <a:t>Экскурсия законче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 cap="all">
                <a:solidFill>
                  <a:srgbClr val="808080"/>
                </a:solidFill>
                <a:latin typeface="Impact"/>
              </a:rPr>
              <a:t>Возвращаем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3600" spc="-1" strike="noStrike" cap="all">
                <a:solidFill>
                  <a:srgbClr val="808080"/>
                </a:solidFill>
                <a:latin typeface="Impact"/>
              </a:rPr>
              <a:t>к Малобыковской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Литератур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2063520"/>
            <a:ext cx="10394280" cy="33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2000"/>
          </a:bodyPr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1.  Бирюч. 300 лет. — г.Белгород: Областная типография, - 2005 г.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2. Башкатов Д.И. «Окрестные сёла»//Знамя труда. — 1992г. 4 января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3. Харыбин А.Т. «Апрель. Но лужицы весны…»//Бирюч. 300 лет. – г.Белгород: Областная типография-2005г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4. Воспоминания Чернявских Николая Стефановича, жителя села Малобыково.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5. Воспоминания Чернявских Валентины Пантелеймоновны, жителя села Малобыково.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02320" indent="-20232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6. Фото материалы предоставлены: Чернявских И.Н., Чернявских Л.В. Волковой Н.П., Григораш Н.А., Куркиной Л.Д. 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4" descr=""/>
          <p:cNvPicPr/>
          <p:nvPr/>
        </p:nvPicPr>
        <p:blipFill>
          <a:blip r:embed="rId1"/>
          <a:stretch/>
        </p:blipFill>
        <p:spPr>
          <a:xfrm>
            <a:off x="190440" y="44280"/>
            <a:ext cx="11366280" cy="5530320"/>
          </a:xfrm>
          <a:prstGeom prst="rect">
            <a:avLst/>
          </a:prstGeom>
          <a:ln w="0">
            <a:noFill/>
          </a:ln>
        </p:spPr>
      </p:pic>
      <p:sp>
        <p:nvSpPr>
          <p:cNvPr id="242" name="Равнобедренный треугольник 5"/>
          <p:cNvSpPr/>
          <p:nvPr/>
        </p:nvSpPr>
        <p:spPr>
          <a:xfrm>
            <a:off x="5778360" y="299736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sp>
        <p:nvSpPr>
          <p:cNvPr id="243" name="Равнобедренный треугольник 8"/>
          <p:cNvSpPr/>
          <p:nvPr/>
        </p:nvSpPr>
        <p:spPr>
          <a:xfrm>
            <a:off x="7512120" y="375588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sp>
        <p:nvSpPr>
          <p:cNvPr id="244" name="Равнобедренный треугольник 9"/>
          <p:cNvSpPr/>
          <p:nvPr/>
        </p:nvSpPr>
        <p:spPr>
          <a:xfrm>
            <a:off x="9131400" y="380376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cxnSp>
        <p:nvCxnSpPr>
          <p:cNvPr id="245" name="Прямая соединительная линия 11"/>
          <p:cNvCxnSpPr/>
          <p:nvPr/>
        </p:nvCxnSpPr>
        <p:spPr>
          <a:xfrm>
            <a:off x="6006960" y="3276360"/>
            <a:ext cx="194040" cy="36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  <p:sp>
        <p:nvSpPr>
          <p:cNvPr id="246" name="Равнобедренный треугольник 13"/>
          <p:cNvSpPr/>
          <p:nvPr/>
        </p:nvSpPr>
        <p:spPr>
          <a:xfrm>
            <a:off x="5892840" y="3308400"/>
            <a:ext cx="126720" cy="279000"/>
          </a:xfrm>
          <a:prstGeom prst="triangle">
            <a:avLst>
              <a:gd name="adj" fmla="val 50000"/>
            </a:avLst>
          </a:prstGeom>
          <a:solidFill>
            <a:srgbClr val="b80e0f"/>
          </a:solidFill>
          <a:ln>
            <a:solidFill>
              <a:srgbClr val="880a0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Impact"/>
            </a:endParaRPr>
          </a:p>
        </p:txBody>
      </p:sp>
      <p:cxnSp>
        <p:nvCxnSpPr>
          <p:cNvPr id="247" name="Прямая соединительная линия 15"/>
          <p:cNvCxnSpPr/>
          <p:nvPr/>
        </p:nvCxnSpPr>
        <p:spPr>
          <a:xfrm>
            <a:off x="6197040" y="3308040"/>
            <a:ext cx="1207080" cy="62928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  <p:cxnSp>
        <p:nvCxnSpPr>
          <p:cNvPr id="248" name="Прямая соединительная линия 18"/>
          <p:cNvCxnSpPr/>
          <p:nvPr/>
        </p:nvCxnSpPr>
        <p:spPr>
          <a:xfrm>
            <a:off x="7581240" y="4006800"/>
            <a:ext cx="420120" cy="7020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  <p:cxnSp>
        <p:nvCxnSpPr>
          <p:cNvPr id="249" name="Прямая соединительная линия 24"/>
          <p:cNvCxnSpPr/>
          <p:nvPr/>
        </p:nvCxnSpPr>
        <p:spPr>
          <a:xfrm>
            <a:off x="7638840" y="4063680"/>
            <a:ext cx="1556280" cy="360"/>
          </a:xfrm>
          <a:prstGeom prst="straightConnector1">
            <a:avLst/>
          </a:prstGeom>
          <a:ln>
            <a:solidFill>
              <a:srgbClr val="930b0b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5280" y="520560"/>
            <a:ext cx="9600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3000"/>
          </a:bodyPr>
          <a:p>
            <a:pPr indent="0">
              <a:lnSpc>
                <a:spcPct val="90000"/>
              </a:lnSpc>
              <a:buNone/>
            </a:pPr>
            <a:r>
              <a:rPr b="1" lang="ru-RU" sz="4900" spc="-1" strike="noStrike" cap="all">
                <a:solidFill>
                  <a:schemeClr val="accent1"/>
                </a:solidFill>
                <a:latin typeface="Impact"/>
              </a:rPr>
              <a:t>Село Малобыково </a:t>
            </a:r>
            <a:br>
              <a:rPr sz="5400"/>
            </a:b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(история и современность)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823160" y="2560320"/>
            <a:ext cx="30762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Село в начале 20 век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Дом Шершунова Петра Константиновича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80e0f"/>
              </a:buClr>
              <a:buSzPct val="160000"/>
              <a:buFont typeface="Arial"/>
              <a:buChar char="•"/>
            </a:pPr>
            <a:r>
              <a:rPr b="0" lang="ru-RU" sz="2000" spc="-1" strike="noStrike" cap="all">
                <a:solidFill>
                  <a:srgbClr val="000000"/>
                </a:solidFill>
                <a:latin typeface="Impact"/>
              </a:rPr>
              <a:t>Современное село (вид со стороны)</a:t>
            </a: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81480" y="1834560"/>
            <a:ext cx="2983680" cy="1741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5418720" y="1941840"/>
            <a:ext cx="1941840" cy="1842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1040350"/>
          <p:cNvPicPr/>
          <p:nvPr/>
        </p:nvPicPr>
        <p:blipFill>
          <a:blip r:embed="rId3"/>
          <a:srcRect l="0" t="-1572" r="0" b="0"/>
          <a:stretch/>
        </p:blipFill>
        <p:spPr>
          <a:xfrm>
            <a:off x="2415600" y="3669120"/>
            <a:ext cx="3003120" cy="19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Здание школы </a:t>
            </a:r>
            <a:br>
              <a:rPr sz="5400"/>
            </a:b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(старое здание и современное)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56" name="Объект 5" descr=""/>
          <p:cNvPicPr/>
          <p:nvPr/>
        </p:nvPicPr>
        <p:blipFill>
          <a:blip r:embed="rId1"/>
          <a:stretch/>
        </p:blipFill>
        <p:spPr>
          <a:xfrm>
            <a:off x="6094080" y="2628720"/>
            <a:ext cx="5170320" cy="2709720"/>
          </a:xfrm>
          <a:prstGeom prst="rect">
            <a:avLst/>
          </a:prstGeom>
          <a:ln w="0">
            <a:noFill/>
          </a:ln>
        </p:spPr>
      </p:pic>
      <p:pic>
        <p:nvPicPr>
          <p:cNvPr id="257" name="Объект 8" descr=""/>
          <p:cNvPicPr/>
          <p:nvPr/>
        </p:nvPicPr>
        <p:blipFill>
          <a:blip r:embed="rId2"/>
          <a:stretch/>
        </p:blipFill>
        <p:spPr>
          <a:xfrm>
            <a:off x="685800" y="2628720"/>
            <a:ext cx="457164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28000" y="977760"/>
            <a:ext cx="5568120" cy="13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Харыбин А.Т.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50960" y="4084200"/>
            <a:ext cx="2776680" cy="12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 cap="all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526680" y="157320"/>
            <a:ext cx="3492000" cy="494424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4597200" y="3006360"/>
            <a:ext cx="3785400" cy="2322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3"/>
          <a:stretch/>
        </p:blipFill>
        <p:spPr>
          <a:xfrm>
            <a:off x="9217800" y="1493640"/>
            <a:ext cx="2422440" cy="36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96008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Дом культуры села Малобыково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4" name="Объект 4" descr=""/>
          <p:cNvPicPr/>
          <p:nvPr/>
        </p:nvPicPr>
        <p:blipFill>
          <a:blip r:embed="rId1"/>
          <a:stretch/>
        </p:blipFill>
        <p:spPr>
          <a:xfrm>
            <a:off x="495360" y="1307160"/>
            <a:ext cx="4556880" cy="3417480"/>
          </a:xfrm>
          <a:prstGeom prst="rect">
            <a:avLst/>
          </a:prstGeom>
          <a:ln w="0">
            <a:noFill/>
          </a:ln>
        </p:spPr>
      </p:pic>
      <p:pic>
        <p:nvPicPr>
          <p:cNvPr id="265" name="Объект 5" descr=""/>
          <p:cNvPicPr/>
          <p:nvPr/>
        </p:nvPicPr>
        <p:blipFill>
          <a:blip r:embed="rId2"/>
          <a:srcRect l="0" t="-299" r="-811" b="0"/>
          <a:stretch/>
        </p:blipFill>
        <p:spPr>
          <a:xfrm>
            <a:off x="7106040" y="1346040"/>
            <a:ext cx="3933360" cy="33786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6" descr=""/>
          <p:cNvPicPr/>
          <p:nvPr/>
        </p:nvPicPr>
        <p:blipFill>
          <a:blip r:embed="rId3"/>
          <a:stretch/>
        </p:blipFill>
        <p:spPr>
          <a:xfrm>
            <a:off x="4245480" y="2325240"/>
            <a:ext cx="4190400" cy="31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10396440" cy="11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Дом культуры с. Малобыково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68" name="Объект 4" descr=""/>
          <p:cNvPicPr/>
          <p:nvPr/>
        </p:nvPicPr>
        <p:blipFill>
          <a:blip r:embed="rId1"/>
          <a:stretch/>
        </p:blipFill>
        <p:spPr>
          <a:xfrm>
            <a:off x="6969960" y="2104560"/>
            <a:ext cx="4322160" cy="32418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2"/>
          <a:stretch/>
        </p:blipFill>
        <p:spPr>
          <a:xfrm>
            <a:off x="851040" y="2104560"/>
            <a:ext cx="5430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473800" y="599040"/>
            <a:ext cx="542268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Мемориал</a:t>
            </a:r>
            <a:br>
              <a:rPr sz="5400"/>
            </a:b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 погибшим жителям села.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1" name="Объект 4" descr=""/>
          <p:cNvPicPr/>
          <p:nvPr/>
        </p:nvPicPr>
        <p:blipFill>
          <a:blip r:embed="rId1"/>
          <a:stretch/>
        </p:blipFill>
        <p:spPr>
          <a:xfrm>
            <a:off x="689040" y="601200"/>
            <a:ext cx="3374640" cy="2530800"/>
          </a:xfrm>
          <a:prstGeom prst="rect">
            <a:avLst/>
          </a:prstGeom>
          <a:ln w="0">
            <a:noFill/>
          </a:ln>
        </p:spPr>
      </p:pic>
      <p:pic>
        <p:nvPicPr>
          <p:cNvPr id="272" name="Объект 5" descr=""/>
          <p:cNvPicPr/>
          <p:nvPr/>
        </p:nvPicPr>
        <p:blipFill>
          <a:blip r:embed="rId2"/>
          <a:stretch/>
        </p:blipFill>
        <p:spPr>
          <a:xfrm>
            <a:off x="7801920" y="2413080"/>
            <a:ext cx="3569040" cy="26766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6" descr=""/>
          <p:cNvPicPr/>
          <p:nvPr/>
        </p:nvPicPr>
        <p:blipFill>
          <a:blip r:embed="rId3"/>
          <a:stretch/>
        </p:blipFill>
        <p:spPr>
          <a:xfrm>
            <a:off x="3661920" y="3301920"/>
            <a:ext cx="3623400" cy="27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9600840" cy="88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>
              <a:lnSpc>
                <a:spcPct val="90000"/>
              </a:lnSpc>
              <a:buNone/>
            </a:pPr>
            <a:r>
              <a:rPr b="0" lang="ru-RU" sz="5400" spc="-1" strike="noStrike" cap="all">
                <a:solidFill>
                  <a:schemeClr val="accent1"/>
                </a:solidFill>
                <a:latin typeface="Impact"/>
              </a:rPr>
              <a:t>Родник Николая Стефановича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275" name="Объект 4" descr=""/>
          <p:cNvPicPr/>
          <p:nvPr/>
        </p:nvPicPr>
        <p:blipFill>
          <a:blip r:embed="rId1"/>
          <a:stretch/>
        </p:blipFill>
        <p:spPr>
          <a:xfrm>
            <a:off x="7715160" y="1270080"/>
            <a:ext cx="3022200" cy="2266560"/>
          </a:xfrm>
          <a:prstGeom prst="rect">
            <a:avLst/>
          </a:prstGeom>
          <a:ln w="0">
            <a:noFill/>
          </a:ln>
        </p:spPr>
      </p:pic>
      <p:pic>
        <p:nvPicPr>
          <p:cNvPr id="276" name="Объект 5" descr=""/>
          <p:cNvPicPr/>
          <p:nvPr/>
        </p:nvPicPr>
        <p:blipFill>
          <a:blip r:embed="rId2"/>
          <a:stretch/>
        </p:blipFill>
        <p:spPr>
          <a:xfrm>
            <a:off x="463680" y="1143000"/>
            <a:ext cx="3142800" cy="2356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6" descr=""/>
          <p:cNvPicPr/>
          <p:nvPr/>
        </p:nvPicPr>
        <p:blipFill>
          <a:blip r:embed="rId3"/>
          <a:stretch/>
        </p:blipFill>
        <p:spPr>
          <a:xfrm>
            <a:off x="3991320" y="3030480"/>
            <a:ext cx="2919960" cy="218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66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Главное мероприятие">
  <a:themeElements>
    <a:clrScheme name="Главное мероприятие">
      <a:dk1>
        <a:srgbClr val="000000"/>
      </a:dk1>
      <a:lt1>
        <a:srgbClr val="ffffff"/>
      </a:lt1>
      <a:dk2>
        <a:srgbClr val="424242"/>
      </a:dk2>
      <a:lt2>
        <a:srgbClr val="c8c8c8"/>
      </a:lt2>
      <a:accent1>
        <a:srgbClr val="b80e0f"/>
      </a:accent1>
      <a:accent2>
        <a:srgbClr val="a6987d"/>
      </a:accent2>
      <a:accent3>
        <a:srgbClr val="7f9a71"/>
      </a:accent3>
      <a:accent4>
        <a:srgbClr val="64969f"/>
      </a:accent4>
      <a:accent5>
        <a:srgbClr val="9b75b2"/>
      </a:accent5>
      <a:accent6>
        <a:srgbClr val="80737a"/>
      </a:accent6>
      <a:hlink>
        <a:srgbClr val="f21213"/>
      </a:hlink>
      <a:folHlink>
        <a:srgbClr val="b6a39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4033927[[fn=Главное мероприятие]]</Template>
  <TotalTime>178</TotalTime>
  <Application>LibreOffice/7.4.7.2$Linux_X86_64 LibreOffice_project/40$Build-2</Application>
  <AppVersion>15.0000</AppVersion>
  <Words>194</Words>
  <Paragraphs>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7:54:40Z</dcterms:created>
  <dc:creator>User</dc:creator>
  <dc:description/>
  <dc:language>en-US</dc:language>
  <cp:lastModifiedBy>Станция Юнатов</cp:lastModifiedBy>
  <dcterms:modified xsi:type="dcterms:W3CDTF">2016-09-23T22:22:41Z</dcterms:modified>
  <cp:revision>21</cp:revision>
  <dc:subject/>
  <dc:title>Виртуальная экскурсия:  «Родник Николая Стефанович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Произвольный</vt:lpwstr>
  </property>
  <property fmtid="{D5CDD505-2E9C-101B-9397-08002B2CF9AE}" pid="3" name="Slides">
    <vt:r8>14</vt:r8>
  </property>
</Properties>
</file>