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986-545F-47B3-AF22-85A4D16E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F75-A967-4B7E-A34D-D3066C9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5F7-937D-40D9-9197-3FC6DA7C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577-5891-4977-9CE8-CF71A5C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7145-397E-4B1D-ACDD-B05C945A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6EEA-DBFA-4019-AC8D-DE7B1535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051-87EC-43C3-B90A-B84B4332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C2E-3EF9-4604-83C0-50B97F3F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F0A6-A8BC-4897-8F17-A79EE0F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CB1-BCD1-45E0-B85A-A93323D6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A574-42A0-4119-A87F-DA3EA7E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8E5-D534-4105-8583-DEE92E1D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6F4D-3E60-47AE-ABAF-4573AF8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FDB-67CC-4DD5-BCE9-1BD7D9A8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840D-10FD-4D94-BA6C-36956168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D61A-85B5-4673-B5AA-A3B5030B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FA9D-E6D5-4F3D-A9C9-5A34BFE8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260-750D-4103-8856-6F1300A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499-6E18-4584-9A52-A6F9C71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C3E-7C93-4BF7-B07A-92D2A69D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B60-C32B-4E31-B516-7E63DBD9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156-B475-425C-9A19-B582D24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131-A059-4FCA-BC2B-186A49C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CDF-2309-4E10-A16A-5CDD338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43A184B-F72F-4DB2-A277-74F3D1572D8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A2A9678-FC22-4A6C-8B6F-0D681C2EA4D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d6ecff"/>
                </a:solidFill>
                <a:latin typeface="Consolas"/>
              </a:rPr>
              <a:t>Development plan of my business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83640" y="23396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sentation was prepared by the student of the first course, Gavrilova Violet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611640" y="4114800"/>
            <a:ext cx="5851800" cy="27428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9080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3640" y="4365000"/>
            <a:ext cx="80028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39640" y="404640"/>
            <a:ext cx="3960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7. Advertizing campaign on customer acquisition in an i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Рисунок 6"/>
          <p:cNvSpPr/>
          <p:nvPr/>
        </p:nvSpPr>
        <p:spPr>
          <a:xfrm>
            <a:off x="4221720" y="836640"/>
            <a:ext cx="4824000" cy="5452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39640" y="342900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ламная кампания по привлечению клиентов в за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Рисунок 4"/>
          <p:cNvSpPr/>
          <p:nvPr/>
        </p:nvSpPr>
        <p:spPr>
          <a:xfrm>
            <a:off x="4494960" y="-99360"/>
            <a:ext cx="463428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3640" y="260640"/>
            <a:ext cx="57708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open institution of this sort, by estimates of experts, it is necessary to invest about five million rubles.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Thus profitability of business makes from 150 to 250%.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39640" y="4221000"/>
            <a:ext cx="403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ля того чтобы открыть заведение подобного рода, по оценкам специалистов, следует вложить порядка пяти миллионов рублей. При этом рентабельность бизнеса составляет от 150 до 2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360" y="332640"/>
            <a:ext cx="8531280" cy="39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ain visitors are aged people from 25 to 40 years with an average or the high income. By the way, the advantage of similar institutions is that more than a half of visitors become the regular customers making stable profi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3838320" y="3285000"/>
            <a:ext cx="5305320" cy="3536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7" name="Прямоугольник 4"/>
          <p:cNvSpPr/>
          <p:nvPr/>
        </p:nvSpPr>
        <p:spPr>
          <a:xfrm>
            <a:off x="683640" y="3213000"/>
            <a:ext cx="2897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сновными посетителями являются люди в возрасте от 25 до 40 лет со средним или высоким доходом. К слову, достоинством подобных заведений есть то, что больше половины посетителей становятся постоянными клиентами, приносящими стабильную 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840" y="33264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hanks for attention!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 am ready to answer all your questions.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67640" y="2421000"/>
            <a:ext cx="7956000" cy="425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3640" y="188640"/>
            <a:ext cx="45360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afe in style the loft is for us a novelty therefore draws attention of visitors.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Рисунок 4"/>
          <p:cNvSpPr/>
          <p:nvPr/>
        </p:nvSpPr>
        <p:spPr>
          <a:xfrm>
            <a:off x="4212000" y="1628640"/>
            <a:ext cx="4643640" cy="3105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7640" y="4725000"/>
            <a:ext cx="482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e small city there are more than opportunities in respect of a creative, there are real chances to interest visitors, having only opened a thematic instit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67640" y="2061000"/>
            <a:ext cx="3960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афе в стиле лофт является для нас новинкой, поэтому привлекает внимание посет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64000" y="4916520"/>
            <a:ext cx="331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маленьком городе больше возможностей в плане креатива, есть реальные шансы заинтересовать посетителей, всего лишь открыв тематическое заве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from what it is necessary to begin, to begin opening of art-cafe?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4600" y="2277000"/>
            <a:ext cx="26690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чего необходимо начать, чтобы приступить к открытию арт-кафе?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0" y="2580840"/>
            <a:ext cx="6228000" cy="4242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Opening of art cafe: business plan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Direction choice. The first on what it is necessary to decide is a format of an institution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Рисунок 3"/>
          <p:cNvSpPr/>
          <p:nvPr/>
        </p:nvSpPr>
        <p:spPr>
          <a:xfrm>
            <a:off x="10800" y="3363120"/>
            <a:ext cx="4632840" cy="3474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580000" y="2949480"/>
            <a:ext cx="309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ыбор направления. Первое, с чем следует определиться – это формат за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404640"/>
            <a:ext cx="9036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Business registration.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lecting and registration of the relevant documents and permissions to activity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Рисунок 3"/>
          <p:cNvSpPr/>
          <p:nvPr/>
        </p:nvSpPr>
        <p:spPr>
          <a:xfrm>
            <a:off x="4356000" y="3573000"/>
            <a:ext cx="4579200" cy="3067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7640" y="3717000"/>
            <a:ext cx="3600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егистрация бизнеса. Сбор и оформление соответствующих документов и разрешений на дея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4200" y="16200"/>
            <a:ext cx="6048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640" y="116640"/>
            <a:ext cx="5349600" cy="32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Search of the room, signing of the lease contract, repair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Рисунок 3"/>
          <p:cNvSpPr/>
          <p:nvPr/>
        </p:nvSpPr>
        <p:spPr>
          <a:xfrm>
            <a:off x="5567400" y="836640"/>
            <a:ext cx="3576240" cy="45208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39640" y="1268640"/>
            <a:ext cx="37440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иск помещения, подписание договора аренды, ремо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1640" y="2205000"/>
            <a:ext cx="439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e city in which I open a cafe, there is only one such institution, on the outskirts. but my will demand better because it is in the center of Ana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39640" y="4437000"/>
            <a:ext cx="439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городе, в котором я открываю кафе, есть всего одно такое заведение, на окраине. но мое будет пользоваться спросом лучше, потому что находится в центре Ана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640" y="112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Рисунок 3"/>
          <p:cNvSpPr/>
          <p:nvPr/>
        </p:nvSpPr>
        <p:spPr>
          <a:xfrm>
            <a:off x="899640" y="3933000"/>
            <a:ext cx="7532280" cy="2692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123640" y="188640"/>
            <a:ext cx="4896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Purchase of th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060000" y="764640"/>
            <a:ext cx="280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купка обору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83640" y="1196640"/>
            <a:ext cx="396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quipment purchased high-quality, inexpensive and easy. This refrigerators, electric stoves, hoods, furniture for the hall and the kitchen, and other small details. it will be released approximately four-five m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860000" y="1340640"/>
            <a:ext cx="3528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борудование закупается качественное, недорогое и простое. это холодильники, электрические плиты, вытяжки, мебель для зала и кухни и другие мелкие детали. это выйдет примерно на четыре-пять милл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Рисунок 3"/>
          <p:cNvSpPr/>
          <p:nvPr/>
        </p:nvSpPr>
        <p:spPr>
          <a:xfrm>
            <a:off x="0" y="3904200"/>
            <a:ext cx="6192360" cy="2953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115640" y="116640"/>
            <a:ext cx="752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Search and employment of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123640" y="692640"/>
            <a:ext cx="46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иск и прием на работу сотруд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9640" y="1268640"/>
            <a:ext cx="5688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number of personnel exceeds approximately twenty-five to thirty people. We need a variety of employees, from the genera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 ending with the staff cleaning the room. the cost of the earned fee per month will be equal to four hundred thousand per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372360" y="980640"/>
            <a:ext cx="2520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ичество персонала превышает, примерно, двадцать пять-тридцать человек. нам необходимы разнообразные сотрудники, начиная от генерального директора и заканчивая персоналом по уборке помещения. расходы на заработанную плату в месяц будут равны четырёхсот тысячам в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76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403640" y="72972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. Formations of the me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Рисунок 5"/>
          <p:cNvSpPr/>
          <p:nvPr/>
        </p:nvSpPr>
        <p:spPr>
          <a:xfrm>
            <a:off x="179640" y="1845000"/>
            <a:ext cx="4723200" cy="3151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исунок 6"/>
          <p:cNvSpPr/>
          <p:nvPr/>
        </p:nvSpPr>
        <p:spPr>
          <a:xfrm>
            <a:off x="4969800" y="2765880"/>
            <a:ext cx="3752640" cy="3752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244120" y="2133000"/>
            <a:ext cx="27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ормирование мен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67</TotalTime>
  <Application>LibreOffice/7.4.7.2$Linux_X86_64 LibreOffice_project/40$Build-2</Application>
  <AppVersion>15.0000</AppVersion>
  <Words>620</Words>
  <Paragraphs>51</Paragraphs>
  <Company>ФинУнивер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6:40:46Z</dcterms:created>
  <dc:creator>student</dc:creator>
  <dc:description/>
  <dc:language>en-US</dc:language>
  <cp:lastModifiedBy>student</cp:lastModifiedBy>
  <dcterms:modified xsi:type="dcterms:W3CDTF">2016-03-22T11:26:40Z</dcterms:modified>
  <cp:revision>10</cp:revision>
  <dc:subject/>
  <dc:title>Development plan of my busi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