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210-A951-4B35-BDDC-182EA059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D6A-8ABC-428D-8412-27837DC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D0B-8DEC-497B-8810-F3AE0722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6EC-37D3-491C-824F-1226D8D3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73A4-6C22-448E-94A9-0524250D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86DE-1EBE-46B9-A1A2-E14F10B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A17-916E-4C17-897F-DE4E018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E169-7EA1-43E0-A249-19D0772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9B68-609C-4DEC-AE41-CFFA1D4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0CA9-1C67-4DC8-A5B9-E1AD65FD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EFE-7A57-43F8-B523-A26E739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CA0-7191-48C2-BC58-EE1BD2F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0E0-27FD-4C74-950F-53194BD2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73DA-488D-4EB6-9E78-1992B93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3247-BC71-4652-BE90-6ECDD288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38D-E371-449C-8005-DF107EEE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A4F-F752-45F9-A72E-C2944EC7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357-A23F-4893-AEB2-8A3DC993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810-D993-4D40-8F5C-02C4A5B4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DDC-E51F-4877-841D-9DC827F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1F1-3E19-4210-BA22-91210BEF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E99-97AA-428B-BD8D-9886CDB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DD9-6708-4B2E-B58D-2783266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4C6-4E9C-4DF2-B573-E81605D8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73B2B07-F3DE-431D-A3E4-3D166D4CADF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CBD50F-B42F-483F-A64A-D029F9AA44F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d6ecff"/>
                </a:solidFill>
                <a:latin typeface="Consolas"/>
              </a:rPr>
              <a:t>Development plan of my business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3640" y="23396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sentation was prepared by the student of the first course, Gavrilova Violet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11640" y="4114800"/>
            <a:ext cx="5851800" cy="27428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9080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4365000"/>
            <a:ext cx="80028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39640" y="404640"/>
            <a:ext cx="3960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7. Advertizing campaign on customer acquisition in an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Рисунок 6"/>
          <p:cNvSpPr/>
          <p:nvPr/>
        </p:nvSpPr>
        <p:spPr>
          <a:xfrm>
            <a:off x="4221720" y="836640"/>
            <a:ext cx="4824000" cy="5452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39640" y="342900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ламная кампания по привлечению клиентов в за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Рисунок 4"/>
          <p:cNvSpPr/>
          <p:nvPr/>
        </p:nvSpPr>
        <p:spPr>
          <a:xfrm>
            <a:off x="4494960" y="-99360"/>
            <a:ext cx="463428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3640" y="260640"/>
            <a:ext cx="57708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open institution of this sort, by estimates of experts, it is necessary to invest about five million rubles.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Thus profitability of business makes from 150 to 250%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39640" y="4221000"/>
            <a:ext cx="403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ля того чтобы открыть заведение подобного рода, по оценкам специалистов, следует вложить порядка пяти миллионов рублей. При этом рентабельность бизнеса составляет от 150 до 2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360" y="332640"/>
            <a:ext cx="8531280" cy="39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ain visitors are aged people from 25 to 40 years with an average or the high income. By the way, the advantage of similar institutions is that more than a half of visitors become the regular customers making stable profi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838320" y="3285000"/>
            <a:ext cx="5305320" cy="353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7" name="Прямоугольник 4"/>
          <p:cNvSpPr/>
          <p:nvPr/>
        </p:nvSpPr>
        <p:spPr>
          <a:xfrm>
            <a:off x="683640" y="3213000"/>
            <a:ext cx="2897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сновными посетителями являются люди в возрасте от 25 до 40 лет со средним или высоким доходом. К слову, достоинством подобных заведений есть то, что больше половины посетителей становятся постоянными клиентами, приносящими стабильную 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840" y="33264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hanks for attention!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 am ready to answer all your questions.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67640" y="2421000"/>
            <a:ext cx="7956000" cy="425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3640" y="188640"/>
            <a:ext cx="45360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afe in style the loft is for us a novelty therefore draws attention of visitors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Рисунок 4"/>
          <p:cNvSpPr/>
          <p:nvPr/>
        </p:nvSpPr>
        <p:spPr>
          <a:xfrm>
            <a:off x="4212000" y="1628640"/>
            <a:ext cx="4643640" cy="3105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7640" y="4725000"/>
            <a:ext cx="482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small city there are more than opportunities in respect of a creative, there are real chances to interest visitors, having only opened a thematic i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67640" y="2061000"/>
            <a:ext cx="3960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афе в стиле лофт является для нас новинкой, поэтому привлекает внимание посет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64000" y="4916520"/>
            <a:ext cx="33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маленьком городе больше возможностей в плане креатива, есть реальные шансы заинтересовать посетителей, всего лишь открыв тематическое за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from what it is necessary to begin, to begin opening of art-cafe?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4600" y="2277000"/>
            <a:ext cx="26690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чего необходимо начать, чтобы приступить к открытию арт-кафе?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0" y="2580840"/>
            <a:ext cx="6228000" cy="4242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Opening of art cafe: business plan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Direction choice. The first on what it is necessary to decide is a format of an institution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Рисунок 3"/>
          <p:cNvSpPr/>
          <p:nvPr/>
        </p:nvSpPr>
        <p:spPr>
          <a:xfrm>
            <a:off x="10800" y="3363120"/>
            <a:ext cx="4632840" cy="3474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580000" y="2949480"/>
            <a:ext cx="30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бор направления. Первое, с чем следует определиться – это формат за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9036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Business registration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lecting and registration of the relevant documents and permissions to activity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Рисунок 3"/>
          <p:cNvSpPr/>
          <p:nvPr/>
        </p:nvSpPr>
        <p:spPr>
          <a:xfrm>
            <a:off x="4356000" y="3573000"/>
            <a:ext cx="4579200" cy="3067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7640" y="3717000"/>
            <a:ext cx="3600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егистрация бизнеса. Сбор и оформление соответствующих документов и разрешений на дея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4200" y="16200"/>
            <a:ext cx="6048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116640"/>
            <a:ext cx="5349600" cy="32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Search of the room, signing of the lease contract, repair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Рисунок 3"/>
          <p:cNvSpPr/>
          <p:nvPr/>
        </p:nvSpPr>
        <p:spPr>
          <a:xfrm>
            <a:off x="5567400" y="836640"/>
            <a:ext cx="3576240" cy="45208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39640" y="1268640"/>
            <a:ext cx="37440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иск помещения, подписание договора аренды, ремо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1640" y="2205000"/>
            <a:ext cx="439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city in which I open a cafe, there is only one such institution, on the outskirts. but my will demand better because it is in the center of Ana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39640" y="4437000"/>
            <a:ext cx="439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городе, в котором я открываю кафе, есть всего одно такое заведение, на окраине. но мое будет пользоваться спросом лучше, потому что находится в центре Ана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Рисунок 3"/>
          <p:cNvSpPr/>
          <p:nvPr/>
        </p:nvSpPr>
        <p:spPr>
          <a:xfrm>
            <a:off x="899640" y="3933000"/>
            <a:ext cx="7532280" cy="2692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23640" y="188640"/>
            <a:ext cx="4896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Purchase of th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060000" y="764640"/>
            <a:ext cx="28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купка обору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83640" y="1196640"/>
            <a:ext cx="396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quipment purchased high-quality, inexpensive and easy. This refrigerators, electric stoves, hoods, furniture for the hall and the kitchen, and other small details. it will be released approximately four-five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860000" y="1340640"/>
            <a:ext cx="3528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борудование закупается качественное, недорогое и простое. это холодильники, электрические плиты, вытяжки, мебель для зала и кухни и другие мелкие детали. это выйдет примерно на четыре-пять милл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Рисунок 3"/>
          <p:cNvSpPr/>
          <p:nvPr/>
        </p:nvSpPr>
        <p:spPr>
          <a:xfrm>
            <a:off x="0" y="3904200"/>
            <a:ext cx="6192360" cy="2953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115640" y="116640"/>
            <a:ext cx="752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Search and employment of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123640" y="69264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иск и прием на работу сотруд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9640" y="1268640"/>
            <a:ext cx="5688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number of personnel exceeds approximately twenty-five to thirty people. We need a variety of employees, from the genera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 ending with the staff cleaning the room. the cost of the earned fee per month will be equal to four hundred thousand per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372360" y="980640"/>
            <a:ext cx="2520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ичество персонала превышает, примерно, двадцать пять-тридцать человек. нам необходимы разнообразные сотрудники, начиная от генерального директора и заканчивая персоналом по уборке помещения. расходы на заработанную плату в месяц будут равны четырёхсот тысячам в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76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403640" y="72972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. Formations of the me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исунок 5"/>
          <p:cNvSpPr/>
          <p:nvPr/>
        </p:nvSpPr>
        <p:spPr>
          <a:xfrm>
            <a:off x="179640" y="1845000"/>
            <a:ext cx="4723200" cy="3151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исунок 6"/>
          <p:cNvSpPr/>
          <p:nvPr/>
        </p:nvSpPr>
        <p:spPr>
          <a:xfrm>
            <a:off x="4969800" y="2765880"/>
            <a:ext cx="3752640" cy="3752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244120" y="2133000"/>
            <a:ext cx="27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ормирование мен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67</TotalTime>
  <Application>LibreOffice/7.4.7.2$Linux_X86_64 LibreOffice_project/40$Build-2</Application>
  <AppVersion>15.0000</AppVersion>
  <Words>620</Words>
  <Paragraphs>51</Paragraphs>
  <Company>ФинУнивер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40:46Z</dcterms:created>
  <dc:creator>student</dc:creator>
  <dc:description/>
  <dc:language>en-US</dc:language>
  <cp:lastModifiedBy>student</cp:lastModifiedBy>
  <dcterms:modified xsi:type="dcterms:W3CDTF">2016-03-22T11:26:40Z</dcterms:modified>
  <cp:revision>10</cp:revision>
  <dc:subject/>
  <dc:title>Development plan of my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