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9E1-A18F-4A11-AD18-91890C24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A85-056F-4289-BAF5-71EF8931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852-5A21-400B-A6E6-753B83CB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34D-BB77-4BE0-952B-00CD53CF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94D0-CEBD-49CD-BFB6-F17675EF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651D-5A38-42BD-99BF-8A871B48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DB41-EAA8-4A21-9E73-006122DA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F32-F999-4AE7-B162-FB6298AD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AE99-74A2-4257-B0A1-115B98D7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23C-1B30-41B4-9556-980316E3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857F-2C37-4C3F-A1FE-1D7BB6EA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E5A-00C7-4D69-92CA-1D460651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1B21-6D67-46C8-9557-784B65D9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3DCA-2819-4378-B581-2B86A00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A72B-6917-4709-A14E-910D547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3C96-7028-4211-91E0-C865E1C1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3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16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2345-A468-46A3-8944-D1BFA6BA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6F6-E9EF-4B6E-9352-92AC1C8F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7A8-9873-42B4-A904-9739845E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4CC-3B9C-4CFF-93D2-331F56C0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14400" y="511920"/>
            <a:ext cx="7772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ECD8-B2D1-4B84-9E3F-1FAE4493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659E-4E34-46C6-B45D-0B391B4D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97080" y="41716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D2A-02F4-4B2A-B385-616A4AAA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97080" y="1783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14400" y="4171680"/>
            <a:ext cx="77720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C2B-FF31-41E8-9362-31FBD7C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 hidden="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" name="Прямоугольник 7" hidden="1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" name="Прямоугольник 8" hidden="1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" name="Прямоугольник 9" hidden="1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" name="Прямоугольник 10" hidden="1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Прямоугольник 11" hidden="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" name="Прямоугольник 14" hidden="1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7" name="Прямоугольник 15" hidden="1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" name="Прямоугольник 16" hidden="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49A5E5C-BBAB-4C73-A5F7-1C9A54515C8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Прямоугольник 31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" name="Прямоугольник 38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4" name="Прямоугольник 39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5" name="Прямоугольник 40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6" name="Прямоугольник 41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04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Прямоугольник 55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9" name="Прямоугольник 64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0" name="Прямоугольник 65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1" name="Прямоугольник 66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6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A17521-578A-4FC9-B0EC-0B0E6BBC6E08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3640" y="47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d6ecff"/>
                </a:solidFill>
                <a:latin typeface="Consolas"/>
              </a:rPr>
              <a:t>Development plan of my business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483640" y="233964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5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presentation was prepared by the student of the first course, Gavrilova Violet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611640" y="4114800"/>
            <a:ext cx="5851800" cy="2742840"/>
          </a:xfrm>
          <a:prstGeom prst="rect">
            <a:avLst/>
          </a:prstGeom>
          <a:ln w="0">
            <a:noFill/>
          </a:ln>
          <a:effectLst>
            <a:outerShdw algn="tl" blurRad="19044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9080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3640" y="4365000"/>
            <a:ext cx="80028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39640" y="404640"/>
            <a:ext cx="3960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7. Advertizing campaign on customer acquisition in an i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Рисунок 6"/>
          <p:cNvSpPr/>
          <p:nvPr/>
        </p:nvSpPr>
        <p:spPr>
          <a:xfrm>
            <a:off x="4221720" y="836640"/>
            <a:ext cx="4824000" cy="5452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539640" y="3429000"/>
            <a:ext cx="352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Рекламная кампания по привлечению клиентов в заве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Рисунок 4"/>
          <p:cNvSpPr/>
          <p:nvPr/>
        </p:nvSpPr>
        <p:spPr>
          <a:xfrm>
            <a:off x="4494960" y="-99360"/>
            <a:ext cx="463428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3640" y="260640"/>
            <a:ext cx="5770800" cy="36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open institution of this sort, by estimates of experts, it is necessary to invest about five million rubles.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Thus profitability of business makes from 150 to 250%.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39640" y="4221000"/>
            <a:ext cx="403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Для того чтобы открыть заведение подобного рода, по оценкам специалистов, следует вложить порядка пяти миллионов рублей. При этом рентабельность бизнеса составляет от 150 до 2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360" y="332640"/>
            <a:ext cx="8531280" cy="39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ain visitors are aged people from 25 to 40 years with an average or the high income. By the way, the advantage of similar institutions is that more than a half of visitors become the regular customers making stable profit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3838320" y="3285000"/>
            <a:ext cx="5305320" cy="3536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7" name="Прямоугольник 4"/>
          <p:cNvSpPr/>
          <p:nvPr/>
        </p:nvSpPr>
        <p:spPr>
          <a:xfrm>
            <a:off x="683640" y="3213000"/>
            <a:ext cx="2897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сновными посетителями являются люди в возрасте от 25 до 40 лет со средним или высоким доходом. К слову, достоинством подобных заведений есть то, что больше половины посетителей становятся постоянными клиентами, приносящими стабильную прибы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0840" y="33264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hanks for attention!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 am ready to answer all your questions.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67640" y="2421000"/>
            <a:ext cx="7956000" cy="4259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3640" y="188640"/>
            <a:ext cx="45360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afe in style the loft is for us a novelty therefore draws attention of visitors.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Рисунок 4"/>
          <p:cNvSpPr/>
          <p:nvPr/>
        </p:nvSpPr>
        <p:spPr>
          <a:xfrm>
            <a:off x="4212000" y="1628640"/>
            <a:ext cx="4643640" cy="3105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7640" y="4725000"/>
            <a:ext cx="482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e small city there are more than opportunities in respect of a creative, there are real chances to interest visitors, having only opened a thematic instit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67640" y="2061000"/>
            <a:ext cx="3960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афе в стиле лофт является для нас новинкой, поэтому привлекает внимание посетител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64000" y="4916520"/>
            <a:ext cx="331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 маленьком городе больше возможностей в плане креатива, есть реальные шансы заинтересовать посетителей, всего лишь открыв тематическое заве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from what it is necessary to begin, to begin opening of art-cafe?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4600" y="2277000"/>
            <a:ext cx="26690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 чего необходимо начать, чтобы приступить к открытию арт-кафе?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0" y="2580840"/>
            <a:ext cx="6228000" cy="42426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Opening of art cafe: business plan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. Direction choice. The first on what it is necessary to decide is a format of an institution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Рисунок 3"/>
          <p:cNvSpPr/>
          <p:nvPr/>
        </p:nvSpPr>
        <p:spPr>
          <a:xfrm>
            <a:off x="10800" y="3363120"/>
            <a:ext cx="4632840" cy="34743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580000" y="2949480"/>
            <a:ext cx="3096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Выбор направления. Первое, с чем следует определиться – это формат завед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404640"/>
            <a:ext cx="903600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2. Business registration.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marL="137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lecting and registration of the relevant documents and permissions to activity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Рисунок 3"/>
          <p:cNvSpPr/>
          <p:nvPr/>
        </p:nvSpPr>
        <p:spPr>
          <a:xfrm>
            <a:off x="4356000" y="3573000"/>
            <a:ext cx="4579200" cy="3067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7640" y="3717000"/>
            <a:ext cx="3600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егистрация бизнеса. Сбор и оформление соответствующих документов и разрешений на дея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4200" y="16200"/>
            <a:ext cx="6048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640" y="116640"/>
            <a:ext cx="5349600" cy="32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3. Search of the room, signing of the lease contract, repair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Рисунок 3"/>
          <p:cNvSpPr/>
          <p:nvPr/>
        </p:nvSpPr>
        <p:spPr>
          <a:xfrm>
            <a:off x="5567400" y="836640"/>
            <a:ext cx="3576240" cy="45208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39640" y="1268640"/>
            <a:ext cx="374400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оиск помещения, подписание договора аренды, ремо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1640" y="2205000"/>
            <a:ext cx="439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n the city in which I open a cafe, there is only one such institution, on the outskirts. but my will demand better because it is in the center of Anap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39640" y="4437000"/>
            <a:ext cx="439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 городе, в котором я открываю кафе, есть всего одно такое заведение, на окраине. но мое будет пользоваться спросом лучше, потому что находится в центре Ана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640" y="112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Рисунок 3"/>
          <p:cNvSpPr/>
          <p:nvPr/>
        </p:nvSpPr>
        <p:spPr>
          <a:xfrm>
            <a:off x="899640" y="3933000"/>
            <a:ext cx="7532280" cy="2692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123640" y="188640"/>
            <a:ext cx="4896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Purchase of the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3060000" y="764640"/>
            <a:ext cx="280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купка обору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83640" y="1196640"/>
            <a:ext cx="396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quipment purchased high-quality, inexpensive and easy. This refrigerators, electric stoves, hoods, furniture for the hall and the kitchen, and other small details. it will be released approximately four-five mill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860000" y="1340640"/>
            <a:ext cx="3528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оборудование закупается качественное, недорогое и простое. это холодильники, электрические плиты, вытяжки, мебель для зала и кухни и другие мелкие детали. это выйдет примерно на четыре-пять милл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Рисунок 3"/>
          <p:cNvSpPr/>
          <p:nvPr/>
        </p:nvSpPr>
        <p:spPr>
          <a:xfrm>
            <a:off x="0" y="3904200"/>
            <a:ext cx="6192360" cy="29534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1115640" y="116640"/>
            <a:ext cx="752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Search and employment of employ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2123640" y="692640"/>
            <a:ext cx="460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Поиск и прием на работу сотруд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39640" y="1268640"/>
            <a:ext cx="568836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number of personnel exceeds approximately twenty-five to thirty people. We need a variety of employees, from the genera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 ending with the staff cleaning the room. the cost of the earned fee per month will be equal to four hundred thousand per mon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372360" y="980640"/>
            <a:ext cx="2520000" cy="67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количество персонала превышает, примерно, двадцать пять-тридцать человек. нам необходимы разнообразные сотрудники, начиная от генерального директора и заканчивая персоналом по уборке помещения. расходы на заработанную плату в месяц будут равны четырёхсот тысячам в меся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76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d6ecff"/>
                </a:solidFill>
                <a:latin typeface="Consolas"/>
              </a:rPr>
              <a:t> 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403640" y="729720"/>
            <a:ext cx="669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6. Formations of the me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Рисунок 5"/>
          <p:cNvSpPr/>
          <p:nvPr/>
        </p:nvSpPr>
        <p:spPr>
          <a:xfrm>
            <a:off x="179640" y="1845000"/>
            <a:ext cx="4723200" cy="3151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исунок 6"/>
          <p:cNvSpPr/>
          <p:nvPr/>
        </p:nvSpPr>
        <p:spPr>
          <a:xfrm>
            <a:off x="4969800" y="2765880"/>
            <a:ext cx="3752640" cy="3752640"/>
          </a:xfrm>
          <a:prstGeom prst="roundRect">
            <a:avLst>
              <a:gd name="adj" fmla="val 8594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7"/>
          <p:cNvSpPr/>
          <p:nvPr/>
        </p:nvSpPr>
        <p:spPr>
          <a:xfrm>
            <a:off x="5244120" y="2133000"/>
            <a:ext cx="273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Формирование мен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etro</Template>
  <TotalTime>67</TotalTime>
  <Application>LibreOffice/7.4.7.2$Linux_X86_64 LibreOffice_project/40$Build-2</Application>
  <AppVersion>15.0000</AppVersion>
  <Words>620</Words>
  <Paragraphs>51</Paragraphs>
  <Company>ФинУнивер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6:40:46Z</dcterms:created>
  <dc:creator>student</dc:creator>
  <dc:description/>
  <dc:language>en-US</dc:language>
  <cp:lastModifiedBy>student</cp:lastModifiedBy>
  <dcterms:modified xsi:type="dcterms:W3CDTF">2016-03-22T11:26:40Z</dcterms:modified>
  <cp:revision>10</cp:revision>
  <dc:subject/>
  <dc:title>Development plan of my busi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