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F38B66B-59E8-4A4D-8819-D2F01F73875A}" type="doc">
      <dgm:prSet loTypeId="urn:microsoft.com/office/officeart/2009/3/layout/IncreasingArrows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A581810-1A33-4A3A-BA9C-5F5778A9C6AF}">
      <dgm:prSet phldrT="[Текст]"/>
      <dgm:spPr/>
      <dgm:t>
        <a:bodyPr/>
        <a:lstStyle/>
        <a:p>
          <a:r>
            <a:rPr lang="ru-RU" dirty="0" smtClean="0"/>
            <a:t>Регистрация</a:t>
          </a:r>
          <a:endParaRPr lang="ru-RU" dirty="0"/>
        </a:p>
      </dgm:t>
    </dgm:pt>
    <dgm:pt modelId="{48001846-488C-4E36-A694-A4E6A542F234}" type="parTrans" cxnId="{A223234E-F1AD-4C05-9B25-F835DC4A96B4}">
      <dgm:prSet/>
      <dgm:spPr/>
      <dgm:t>
        <a:bodyPr/>
        <a:lstStyle/>
        <a:p>
          <a:endParaRPr lang="ru-RU"/>
        </a:p>
      </dgm:t>
    </dgm:pt>
    <dgm:pt modelId="{2FAC346C-06AA-474B-98AF-8F233F1CC302}" type="sibTrans" cxnId="{A223234E-F1AD-4C05-9B25-F835DC4A96B4}">
      <dgm:prSet/>
      <dgm:spPr/>
      <dgm:t>
        <a:bodyPr/>
        <a:lstStyle/>
        <a:p>
          <a:endParaRPr lang="ru-RU"/>
        </a:p>
      </dgm:t>
    </dgm:pt>
    <dgm:pt modelId="{685A7036-A86E-4FFF-8C99-C778C8CFAA23}">
      <dgm:prSet phldrT="[Текст]" custT="1"/>
      <dgm:spPr/>
      <dgm:t>
        <a:bodyPr/>
        <a:lstStyle/>
        <a:p>
          <a:pPr algn="ctr"/>
          <a:r>
            <a:rPr lang="ru-RU" sz="2400" dirty="0" smtClean="0"/>
            <a:t>Составление устава;</a:t>
          </a:r>
        </a:p>
        <a:p>
          <a:pPr algn="ctr"/>
          <a:r>
            <a:rPr lang="ru-RU" sz="2400" dirty="0" smtClean="0"/>
            <a:t>Предоставление документов</a:t>
          </a:r>
          <a:endParaRPr lang="ru-RU" sz="2400" dirty="0"/>
        </a:p>
      </dgm:t>
    </dgm:pt>
    <dgm:pt modelId="{E7F099DD-E4A6-4DF0-9DDA-036E689DD4D0}" type="parTrans" cxnId="{5C7144B4-642F-4A7B-B6D5-EEBDD5017E9C}">
      <dgm:prSet/>
      <dgm:spPr/>
      <dgm:t>
        <a:bodyPr/>
        <a:lstStyle/>
        <a:p>
          <a:endParaRPr lang="ru-RU"/>
        </a:p>
      </dgm:t>
    </dgm:pt>
    <dgm:pt modelId="{85BB79DF-B2C7-4D03-8865-567A94CA4BE5}" type="sibTrans" cxnId="{5C7144B4-642F-4A7B-B6D5-EEBDD5017E9C}">
      <dgm:prSet/>
      <dgm:spPr/>
      <dgm:t>
        <a:bodyPr/>
        <a:lstStyle/>
        <a:p>
          <a:endParaRPr lang="ru-RU"/>
        </a:p>
      </dgm:t>
    </dgm:pt>
    <dgm:pt modelId="{6676A957-9C52-40FD-B4C6-3DB9017A2246}">
      <dgm:prSet phldrT="[Текст]"/>
      <dgm:spPr/>
      <dgm:t>
        <a:bodyPr/>
        <a:lstStyle/>
        <a:p>
          <a:r>
            <a:rPr lang="ru-RU" dirty="0" smtClean="0"/>
            <a:t>Финансирование</a:t>
          </a:r>
          <a:endParaRPr lang="ru-RU" dirty="0"/>
        </a:p>
      </dgm:t>
    </dgm:pt>
    <dgm:pt modelId="{31E55939-046C-461B-841A-D02573BF4765}" type="parTrans" cxnId="{7DDE6841-FD09-4953-A079-3E027325FE96}">
      <dgm:prSet/>
      <dgm:spPr/>
      <dgm:t>
        <a:bodyPr/>
        <a:lstStyle/>
        <a:p>
          <a:endParaRPr lang="ru-RU"/>
        </a:p>
      </dgm:t>
    </dgm:pt>
    <dgm:pt modelId="{AC92A85C-1ABB-4A5B-876D-ECB8000AC625}" type="sibTrans" cxnId="{7DDE6841-FD09-4953-A079-3E027325FE96}">
      <dgm:prSet/>
      <dgm:spPr/>
      <dgm:t>
        <a:bodyPr/>
        <a:lstStyle/>
        <a:p>
          <a:endParaRPr lang="ru-RU"/>
        </a:p>
      </dgm:t>
    </dgm:pt>
    <dgm:pt modelId="{6CCACBC2-F515-4178-9768-9FFB15E58776}">
      <dgm:prSet phldrT="[Текст]" custT="1"/>
      <dgm:spPr/>
      <dgm:t>
        <a:bodyPr/>
        <a:lstStyle/>
        <a:p>
          <a:pPr algn="ctr"/>
          <a:r>
            <a:rPr lang="ru-RU" sz="2400" dirty="0" smtClean="0"/>
            <a:t>Внесение взносов учредителей;</a:t>
          </a:r>
        </a:p>
        <a:p>
          <a:pPr algn="ctr"/>
          <a:r>
            <a:rPr lang="ru-RU" sz="2400" dirty="0" smtClean="0"/>
            <a:t>Поиск иных источников</a:t>
          </a:r>
          <a:endParaRPr lang="ru-RU" sz="2400" dirty="0"/>
        </a:p>
      </dgm:t>
    </dgm:pt>
    <dgm:pt modelId="{1984A8CA-1564-4ADE-950E-FBE057500975}" type="parTrans" cxnId="{33F19AFB-CE46-4B6D-B8B0-F8EEDF407CF9}">
      <dgm:prSet/>
      <dgm:spPr/>
      <dgm:t>
        <a:bodyPr/>
        <a:lstStyle/>
        <a:p>
          <a:endParaRPr lang="ru-RU"/>
        </a:p>
      </dgm:t>
    </dgm:pt>
    <dgm:pt modelId="{A25EB152-3641-4E1B-B33B-DF73B9DD6807}" type="sibTrans" cxnId="{33F19AFB-CE46-4B6D-B8B0-F8EEDF407CF9}">
      <dgm:prSet/>
      <dgm:spPr/>
      <dgm:t>
        <a:bodyPr/>
        <a:lstStyle/>
        <a:p>
          <a:endParaRPr lang="ru-RU"/>
        </a:p>
      </dgm:t>
    </dgm:pt>
    <dgm:pt modelId="{51FDE60D-6C5B-49E0-A98C-765AD03DCB11}">
      <dgm:prSet phldrT="[Текст]"/>
      <dgm:spPr/>
      <dgm:t>
        <a:bodyPr/>
        <a:lstStyle/>
        <a:p>
          <a:r>
            <a:rPr lang="ru-RU" dirty="0" smtClean="0"/>
            <a:t>Материальная часть</a:t>
          </a:r>
        </a:p>
      </dgm:t>
    </dgm:pt>
    <dgm:pt modelId="{A35DF0D2-3172-4F40-ADD0-9D9E8B7C9D20}" type="parTrans" cxnId="{93C62FFD-06D4-43B6-A30D-DDDFC159CC59}">
      <dgm:prSet/>
      <dgm:spPr/>
      <dgm:t>
        <a:bodyPr/>
        <a:lstStyle/>
        <a:p>
          <a:endParaRPr lang="ru-RU"/>
        </a:p>
      </dgm:t>
    </dgm:pt>
    <dgm:pt modelId="{5036CCAA-AD4A-42E1-91A5-B11E7FD5958D}" type="sibTrans" cxnId="{93C62FFD-06D4-43B6-A30D-DDDFC159CC59}">
      <dgm:prSet/>
      <dgm:spPr/>
      <dgm:t>
        <a:bodyPr/>
        <a:lstStyle/>
        <a:p>
          <a:endParaRPr lang="ru-RU"/>
        </a:p>
      </dgm:t>
    </dgm:pt>
    <dgm:pt modelId="{D3A6FE3B-B790-4249-80FC-20E103F7F0F6}">
      <dgm:prSet phldrT="[Текст]" custT="1"/>
      <dgm:spPr/>
      <dgm:t>
        <a:bodyPr/>
        <a:lstStyle/>
        <a:p>
          <a:pPr algn="ctr"/>
          <a:r>
            <a:rPr lang="ru-RU" sz="2400" dirty="0" smtClean="0"/>
            <a:t>Строительство;</a:t>
          </a:r>
        </a:p>
        <a:p>
          <a:pPr algn="ctr"/>
          <a:r>
            <a:rPr lang="ru-RU" sz="2400" dirty="0" smtClean="0"/>
            <a:t>Оснащение оборудованием</a:t>
          </a:r>
        </a:p>
      </dgm:t>
    </dgm:pt>
    <dgm:pt modelId="{7A6FB58D-A4F0-4F99-BFE3-11AFCD6D085F}" type="parTrans" cxnId="{394AB81B-5C4E-4976-99CD-B289CCAD9411}">
      <dgm:prSet/>
      <dgm:spPr/>
      <dgm:t>
        <a:bodyPr/>
        <a:lstStyle/>
        <a:p>
          <a:endParaRPr lang="ru-RU"/>
        </a:p>
      </dgm:t>
    </dgm:pt>
    <dgm:pt modelId="{D72D398E-AB1F-471D-A280-8EDB46AC8147}" type="sibTrans" cxnId="{394AB81B-5C4E-4976-99CD-B289CCAD9411}">
      <dgm:prSet/>
      <dgm:spPr/>
      <dgm:t>
        <a:bodyPr/>
        <a:lstStyle/>
        <a:p>
          <a:endParaRPr lang="ru-RU"/>
        </a:p>
      </dgm:t>
    </dgm:pt>
    <dgm:pt modelId="{F4EB03A8-ADBD-4241-A95C-F12E8BEBDF65}" type="pres">
      <dgm:prSet presAssocID="{5F38B66B-59E8-4A4D-8819-D2F01F73875A}" presName="Name0" presStyleCnt="0">
        <dgm:presLayoutVars>
          <dgm:chMax val="5"/>
          <dgm:chPref val="5"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5B7AA231-5100-4D9A-B53A-3760A7CC36C8}" type="pres">
      <dgm:prSet presAssocID="{CA581810-1A33-4A3A-BA9C-5F5778A9C6AF}" presName="parentText1" presStyleLbl="node1" presStyleIdx="0" presStyleCnt="3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B50B9B-83BF-4316-8620-C29E2EE09F0B}" type="pres">
      <dgm:prSet presAssocID="{CA581810-1A33-4A3A-BA9C-5F5778A9C6AF}" presName="childText1" presStyleLbl="solidAlignAcc1" presStyleIdx="0" presStyleCnt="3" custScaleY="92449" custLinFactNeighborY="-6487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D740F1A-015B-484E-A682-7D5322EC6FC6}" type="pres">
      <dgm:prSet presAssocID="{6676A957-9C52-40FD-B4C6-3DB9017A2246}" presName="parentText2" presStyleLbl="node1" presStyleIdx="1" presStyleCnt="3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7BCCDFF-858E-4070-8AD5-FDFE76F01B77}" type="pres">
      <dgm:prSet presAssocID="{6676A957-9C52-40FD-B4C6-3DB9017A2246}" presName="childText2" presStyleLbl="solidAlignAcc1" presStyleIdx="1" presStyleCnt="3" custScaleY="92901" custLinFactNeighborX="1128" custLinFactNeighborY="-895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531B6A3-F5E1-4AB7-98E7-2C6CA23201FA}" type="pres">
      <dgm:prSet presAssocID="{51FDE60D-6C5B-49E0-A98C-765AD03DCB11}" presName="parentText3" presStyleLbl="node1" presStyleIdx="2" presStyleCnt="3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DC485E8-ACAB-479A-ACBB-7E4EC13C1643}" type="pres">
      <dgm:prSet presAssocID="{51FDE60D-6C5B-49E0-A98C-765AD03DCB11}" presName="childText3" presStyleLbl="solidAlignAcc1" presStyleIdx="2" presStyleCnt="3" custScaleY="89763" custLinFactNeighborX="2257" custLinFactNeighborY="-7411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94894A3-F90D-480C-B362-EF6CF65D54AE}" type="presOf" srcId="{6CCACBC2-F515-4178-9768-9FFB15E58776}" destId="{D7BCCDFF-858E-4070-8AD5-FDFE76F01B77}" srcOrd="0" destOrd="0" presId="urn:microsoft.com/office/officeart/2009/3/layout/IncreasingArrowsProcess"/>
    <dgm:cxn modelId="{7DDE6841-FD09-4953-A079-3E027325FE96}" srcId="{5F38B66B-59E8-4A4D-8819-D2F01F73875A}" destId="{6676A957-9C52-40FD-B4C6-3DB9017A2246}" srcOrd="1" destOrd="0" parTransId="{31E55939-046C-461B-841A-D02573BF4765}" sibTransId="{AC92A85C-1ABB-4A5B-876D-ECB8000AC625}"/>
    <dgm:cxn modelId="{A59F8B47-E326-4505-B82C-A58BDAD51047}" type="presOf" srcId="{5F38B66B-59E8-4A4D-8819-D2F01F73875A}" destId="{F4EB03A8-ADBD-4241-A95C-F12E8BEBDF65}" srcOrd="0" destOrd="0" presId="urn:microsoft.com/office/officeart/2009/3/layout/IncreasingArrowsProcess"/>
    <dgm:cxn modelId="{A223234E-F1AD-4C05-9B25-F835DC4A96B4}" srcId="{5F38B66B-59E8-4A4D-8819-D2F01F73875A}" destId="{CA581810-1A33-4A3A-BA9C-5F5778A9C6AF}" srcOrd="0" destOrd="0" parTransId="{48001846-488C-4E36-A694-A4E6A542F234}" sibTransId="{2FAC346C-06AA-474B-98AF-8F233F1CC302}"/>
    <dgm:cxn modelId="{2896F8BA-DD73-411B-BE75-484DD6D065B8}" type="presOf" srcId="{CA581810-1A33-4A3A-BA9C-5F5778A9C6AF}" destId="{5B7AA231-5100-4D9A-B53A-3760A7CC36C8}" srcOrd="0" destOrd="0" presId="urn:microsoft.com/office/officeart/2009/3/layout/IncreasingArrowsProcess"/>
    <dgm:cxn modelId="{31CA594E-5EED-45F3-A50C-FC78EB365016}" type="presOf" srcId="{D3A6FE3B-B790-4249-80FC-20E103F7F0F6}" destId="{FDC485E8-ACAB-479A-ACBB-7E4EC13C1643}" srcOrd="0" destOrd="0" presId="urn:microsoft.com/office/officeart/2009/3/layout/IncreasingArrowsProcess"/>
    <dgm:cxn modelId="{394AB81B-5C4E-4976-99CD-B289CCAD9411}" srcId="{51FDE60D-6C5B-49E0-A98C-765AD03DCB11}" destId="{D3A6FE3B-B790-4249-80FC-20E103F7F0F6}" srcOrd="0" destOrd="0" parTransId="{7A6FB58D-A4F0-4F99-BFE3-11AFCD6D085F}" sibTransId="{D72D398E-AB1F-471D-A280-8EDB46AC8147}"/>
    <dgm:cxn modelId="{5C7144B4-642F-4A7B-B6D5-EEBDD5017E9C}" srcId="{CA581810-1A33-4A3A-BA9C-5F5778A9C6AF}" destId="{685A7036-A86E-4FFF-8C99-C778C8CFAA23}" srcOrd="0" destOrd="0" parTransId="{E7F099DD-E4A6-4DF0-9DDA-036E689DD4D0}" sibTransId="{85BB79DF-B2C7-4D03-8865-567A94CA4BE5}"/>
    <dgm:cxn modelId="{8179F2EB-B88C-4B9F-B68C-E1857F3C57F4}" type="presOf" srcId="{685A7036-A86E-4FFF-8C99-C778C8CFAA23}" destId="{4CB50B9B-83BF-4316-8620-C29E2EE09F0B}" srcOrd="0" destOrd="0" presId="urn:microsoft.com/office/officeart/2009/3/layout/IncreasingArrowsProcess"/>
    <dgm:cxn modelId="{7CAC7DBE-DF27-4920-BC4F-A7FB632469C2}" type="presOf" srcId="{6676A957-9C52-40FD-B4C6-3DB9017A2246}" destId="{5D740F1A-015B-484E-A682-7D5322EC6FC6}" srcOrd="0" destOrd="0" presId="urn:microsoft.com/office/officeart/2009/3/layout/IncreasingArrowsProcess"/>
    <dgm:cxn modelId="{33F19AFB-CE46-4B6D-B8B0-F8EEDF407CF9}" srcId="{6676A957-9C52-40FD-B4C6-3DB9017A2246}" destId="{6CCACBC2-F515-4178-9768-9FFB15E58776}" srcOrd="0" destOrd="0" parTransId="{1984A8CA-1564-4ADE-950E-FBE057500975}" sibTransId="{A25EB152-3641-4E1B-B33B-DF73B9DD6807}"/>
    <dgm:cxn modelId="{93C62FFD-06D4-43B6-A30D-DDDFC159CC59}" srcId="{5F38B66B-59E8-4A4D-8819-D2F01F73875A}" destId="{51FDE60D-6C5B-49E0-A98C-765AD03DCB11}" srcOrd="2" destOrd="0" parTransId="{A35DF0D2-3172-4F40-ADD0-9D9E8B7C9D20}" sibTransId="{5036CCAA-AD4A-42E1-91A5-B11E7FD5958D}"/>
    <dgm:cxn modelId="{DD7A85CE-0E35-4B55-9C65-90B59DD968BA}" type="presOf" srcId="{51FDE60D-6C5B-49E0-A98C-765AD03DCB11}" destId="{8531B6A3-F5E1-4AB7-98E7-2C6CA23201FA}" srcOrd="0" destOrd="0" presId="urn:microsoft.com/office/officeart/2009/3/layout/IncreasingArrowsProcess"/>
    <dgm:cxn modelId="{4F3770D8-92F4-49CF-B0F7-EE0229E8448D}" type="presParOf" srcId="{F4EB03A8-ADBD-4241-A95C-F12E8BEBDF65}" destId="{5B7AA231-5100-4D9A-B53A-3760A7CC36C8}" srcOrd="0" destOrd="0" presId="urn:microsoft.com/office/officeart/2009/3/layout/IncreasingArrowsProcess"/>
    <dgm:cxn modelId="{1CF6A1FB-077A-4DBC-B651-2A77402358E4}" type="presParOf" srcId="{F4EB03A8-ADBD-4241-A95C-F12E8BEBDF65}" destId="{4CB50B9B-83BF-4316-8620-C29E2EE09F0B}" srcOrd="1" destOrd="0" presId="urn:microsoft.com/office/officeart/2009/3/layout/IncreasingArrowsProcess"/>
    <dgm:cxn modelId="{54DA0A36-C736-4911-8923-87A9D938BF02}" type="presParOf" srcId="{F4EB03A8-ADBD-4241-A95C-F12E8BEBDF65}" destId="{5D740F1A-015B-484E-A682-7D5322EC6FC6}" srcOrd="2" destOrd="0" presId="urn:microsoft.com/office/officeart/2009/3/layout/IncreasingArrowsProcess"/>
    <dgm:cxn modelId="{6FEF0F9F-BD4D-4A36-91E7-27FA34DAE705}" type="presParOf" srcId="{F4EB03A8-ADBD-4241-A95C-F12E8BEBDF65}" destId="{D7BCCDFF-858E-4070-8AD5-FDFE76F01B77}" srcOrd="3" destOrd="0" presId="urn:microsoft.com/office/officeart/2009/3/layout/IncreasingArrowsProcess"/>
    <dgm:cxn modelId="{73DE3567-5943-421A-9DEF-394261C871C1}" type="presParOf" srcId="{F4EB03A8-ADBD-4241-A95C-F12E8BEBDF65}" destId="{8531B6A3-F5E1-4AB7-98E7-2C6CA23201FA}" srcOrd="4" destOrd="0" presId="urn:microsoft.com/office/officeart/2009/3/layout/IncreasingArrowsProcess"/>
    <dgm:cxn modelId="{F9D6D453-E845-400F-B579-CED369E5F921}" type="presParOf" srcId="{F4EB03A8-ADBD-4241-A95C-F12E8BEBDF65}" destId="{FDC485E8-ACAB-479A-ACBB-7E4EC13C1643}" srcOrd="5" destOrd="0" presId="urn:microsoft.com/office/officeart/2009/3/layout/IncreasingArrows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945C9F9-4ED9-4776-9B1D-C0922FFC08F0}" type="doc">
      <dgm:prSet loTypeId="urn:microsoft.com/office/officeart/2009/3/layout/IncreasingArrows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CF902C7-47B8-477C-A5EB-1BD6FCC70C66}">
      <dgm:prSet phldrT="[Текст]"/>
      <dgm:spPr/>
      <dgm:t>
        <a:bodyPr/>
        <a:lstStyle/>
        <a:p>
          <a:r>
            <a:rPr lang="ru-RU" dirty="0" smtClean="0"/>
            <a:t>Организационная часть</a:t>
          </a:r>
          <a:endParaRPr lang="ru-RU" dirty="0"/>
        </a:p>
      </dgm:t>
    </dgm:pt>
    <dgm:pt modelId="{EF787F20-6F62-4B9C-875E-C550E1F4A586}" type="parTrans" cxnId="{B00C4600-7534-458E-91F5-121A37B743DC}">
      <dgm:prSet/>
      <dgm:spPr/>
      <dgm:t>
        <a:bodyPr/>
        <a:lstStyle/>
        <a:p>
          <a:endParaRPr lang="ru-RU"/>
        </a:p>
      </dgm:t>
    </dgm:pt>
    <dgm:pt modelId="{145BEDE6-CD1B-4FE0-A77D-DA0F57E80CA8}" type="sibTrans" cxnId="{B00C4600-7534-458E-91F5-121A37B743DC}">
      <dgm:prSet/>
      <dgm:spPr/>
      <dgm:t>
        <a:bodyPr/>
        <a:lstStyle/>
        <a:p>
          <a:endParaRPr lang="ru-RU"/>
        </a:p>
      </dgm:t>
    </dgm:pt>
    <dgm:pt modelId="{CD79D494-A43D-44E8-800F-C62EB4D965C2}">
      <dgm:prSet phldrT="[Текст]" custT="1"/>
      <dgm:spPr/>
      <dgm:t>
        <a:bodyPr/>
        <a:lstStyle/>
        <a:p>
          <a:pPr algn="ctr"/>
          <a:endParaRPr lang="ru-RU" sz="2000" dirty="0" smtClean="0"/>
        </a:p>
        <a:p>
          <a:pPr algn="ctr"/>
          <a:r>
            <a:rPr lang="ru-RU" sz="2400" dirty="0" smtClean="0"/>
            <a:t>Набор персонала</a:t>
          </a:r>
          <a:endParaRPr lang="ru-RU" sz="2400" dirty="0"/>
        </a:p>
      </dgm:t>
    </dgm:pt>
    <dgm:pt modelId="{E8269119-2362-413E-82BF-77C9C3AE5210}" type="parTrans" cxnId="{607ECA12-4A8E-48B3-849C-FAC17B00BCFA}">
      <dgm:prSet/>
      <dgm:spPr/>
      <dgm:t>
        <a:bodyPr/>
        <a:lstStyle/>
        <a:p>
          <a:endParaRPr lang="ru-RU"/>
        </a:p>
      </dgm:t>
    </dgm:pt>
    <dgm:pt modelId="{A57E3F17-39A2-4B39-A062-D0807C27D9C5}" type="sibTrans" cxnId="{607ECA12-4A8E-48B3-849C-FAC17B00BCFA}">
      <dgm:prSet/>
      <dgm:spPr/>
      <dgm:t>
        <a:bodyPr/>
        <a:lstStyle/>
        <a:p>
          <a:endParaRPr lang="ru-RU"/>
        </a:p>
      </dgm:t>
    </dgm:pt>
    <dgm:pt modelId="{4685930E-73E7-4426-BA65-30519E6349A6}">
      <dgm:prSet phldrT="[Текст]"/>
      <dgm:spPr/>
      <dgm:t>
        <a:bodyPr/>
        <a:lstStyle/>
        <a:p>
          <a:r>
            <a:rPr lang="ru-RU" dirty="0" smtClean="0"/>
            <a:t>Заключительный этап</a:t>
          </a:r>
          <a:endParaRPr lang="ru-RU" dirty="0"/>
        </a:p>
      </dgm:t>
    </dgm:pt>
    <dgm:pt modelId="{D2A5E413-FD7D-4408-BF33-B4576AA5E9C2}" type="parTrans" cxnId="{61F93322-5197-411F-B633-257C4745451C}">
      <dgm:prSet/>
      <dgm:spPr/>
      <dgm:t>
        <a:bodyPr/>
        <a:lstStyle/>
        <a:p>
          <a:endParaRPr lang="ru-RU"/>
        </a:p>
      </dgm:t>
    </dgm:pt>
    <dgm:pt modelId="{81264ACD-9082-4F97-A990-7E293169B35C}" type="sibTrans" cxnId="{61F93322-5197-411F-B633-257C4745451C}">
      <dgm:prSet/>
      <dgm:spPr/>
      <dgm:t>
        <a:bodyPr/>
        <a:lstStyle/>
        <a:p>
          <a:endParaRPr lang="ru-RU"/>
        </a:p>
      </dgm:t>
    </dgm:pt>
    <dgm:pt modelId="{BF43AB21-B4CD-403F-8348-BC5430151171}">
      <dgm:prSet phldrT="[Текст]" custT="1"/>
      <dgm:spPr/>
      <dgm:t>
        <a:bodyPr/>
        <a:lstStyle/>
        <a:p>
          <a:pPr algn="ctr"/>
          <a:endParaRPr lang="ru-RU" sz="2000" dirty="0" smtClean="0"/>
        </a:p>
        <a:p>
          <a:pPr algn="ctr"/>
          <a:r>
            <a:rPr lang="ru-RU" sz="2400" dirty="0" smtClean="0"/>
            <a:t>Набор учеников</a:t>
          </a:r>
          <a:endParaRPr lang="ru-RU" sz="2400" dirty="0"/>
        </a:p>
      </dgm:t>
    </dgm:pt>
    <dgm:pt modelId="{7BB1D216-EC3E-41F0-8754-F0B8147043A8}" type="parTrans" cxnId="{4F8BE35E-B31C-4707-9E77-9BE268AAFC4E}">
      <dgm:prSet/>
      <dgm:spPr/>
      <dgm:t>
        <a:bodyPr/>
        <a:lstStyle/>
        <a:p>
          <a:endParaRPr lang="ru-RU"/>
        </a:p>
      </dgm:t>
    </dgm:pt>
    <dgm:pt modelId="{770CF173-7B16-40C8-9B35-50F5A6D2B978}" type="sibTrans" cxnId="{4F8BE35E-B31C-4707-9E77-9BE268AAFC4E}">
      <dgm:prSet/>
      <dgm:spPr/>
      <dgm:t>
        <a:bodyPr/>
        <a:lstStyle/>
        <a:p>
          <a:endParaRPr lang="ru-RU"/>
        </a:p>
      </dgm:t>
    </dgm:pt>
    <dgm:pt modelId="{656D2F17-BC04-4D45-9C94-DC865BF6BC31}" type="pres">
      <dgm:prSet presAssocID="{8945C9F9-4ED9-4776-9B1D-C0922FFC08F0}" presName="Name0" presStyleCnt="0">
        <dgm:presLayoutVars>
          <dgm:chMax val="5"/>
          <dgm:chPref val="5"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5D085E51-751D-4FEF-8D44-A5AEB8C4E7A3}" type="pres">
      <dgm:prSet presAssocID="{0CF902C7-47B8-477C-A5EB-1BD6FCC70C66}" presName="parentText1" presStyleLbl="node1" presStyleIdx="0" presStyleCnt="2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971A0C-E23E-416D-98D6-9B7930BA6960}" type="pres">
      <dgm:prSet presAssocID="{0CF902C7-47B8-477C-A5EB-1BD6FCC70C66}" presName="childText1" presStyleLbl="solidAlignAcc1" presStyleIdx="0" presStyleCnt="2" custScaleY="58039" custLinFactNeighborX="2962" custLinFactNeighborY="-20951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4424951-AE87-4E71-A28A-6E75198A98AB}" type="pres">
      <dgm:prSet presAssocID="{4685930E-73E7-4426-BA65-30519E6349A6}" presName="parentText2" presStyleLbl="node1" presStyleIdx="1" presStyleCnt="2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B05FB4-FC50-4648-820B-AEC7D625CF3E}" type="pres">
      <dgm:prSet presAssocID="{4685930E-73E7-4426-BA65-30519E6349A6}" presName="childText2" presStyleLbl="solidAlignAcc1" presStyleIdx="1" presStyleCnt="2" custScaleY="50280" custLinFactNeighborX="621" custLinFactNeighborY="-24331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1888F75-F4AC-4806-80DF-46793832AE27}" type="presOf" srcId="{8945C9F9-4ED9-4776-9B1D-C0922FFC08F0}" destId="{656D2F17-BC04-4D45-9C94-DC865BF6BC31}" srcOrd="0" destOrd="0" presId="urn:microsoft.com/office/officeart/2009/3/layout/IncreasingArrowsProcess"/>
    <dgm:cxn modelId="{4F8BE35E-B31C-4707-9E77-9BE268AAFC4E}" srcId="{4685930E-73E7-4426-BA65-30519E6349A6}" destId="{BF43AB21-B4CD-403F-8348-BC5430151171}" srcOrd="0" destOrd="0" parTransId="{7BB1D216-EC3E-41F0-8754-F0B8147043A8}" sibTransId="{770CF173-7B16-40C8-9B35-50F5A6D2B978}"/>
    <dgm:cxn modelId="{41381CB6-C77D-4520-BEC8-9F869532A387}" type="presOf" srcId="{BF43AB21-B4CD-403F-8348-BC5430151171}" destId="{ECB05FB4-FC50-4648-820B-AEC7D625CF3E}" srcOrd="0" destOrd="0" presId="urn:microsoft.com/office/officeart/2009/3/layout/IncreasingArrowsProcess"/>
    <dgm:cxn modelId="{607ECA12-4A8E-48B3-849C-FAC17B00BCFA}" srcId="{0CF902C7-47B8-477C-A5EB-1BD6FCC70C66}" destId="{CD79D494-A43D-44E8-800F-C62EB4D965C2}" srcOrd="0" destOrd="0" parTransId="{E8269119-2362-413E-82BF-77C9C3AE5210}" sibTransId="{A57E3F17-39A2-4B39-A062-D0807C27D9C5}"/>
    <dgm:cxn modelId="{B00C4600-7534-458E-91F5-121A37B743DC}" srcId="{8945C9F9-4ED9-4776-9B1D-C0922FFC08F0}" destId="{0CF902C7-47B8-477C-A5EB-1BD6FCC70C66}" srcOrd="0" destOrd="0" parTransId="{EF787F20-6F62-4B9C-875E-C550E1F4A586}" sibTransId="{145BEDE6-CD1B-4FE0-A77D-DA0F57E80CA8}"/>
    <dgm:cxn modelId="{B710CE97-6951-4BD5-990D-5AC103FDEFA9}" type="presOf" srcId="{4685930E-73E7-4426-BA65-30519E6349A6}" destId="{B4424951-AE87-4E71-A28A-6E75198A98AB}" srcOrd="0" destOrd="0" presId="urn:microsoft.com/office/officeart/2009/3/layout/IncreasingArrowsProcess"/>
    <dgm:cxn modelId="{3B878942-C0B4-4181-9917-803F63C724F0}" type="presOf" srcId="{CD79D494-A43D-44E8-800F-C62EB4D965C2}" destId="{3D971A0C-E23E-416D-98D6-9B7930BA6960}" srcOrd="0" destOrd="0" presId="urn:microsoft.com/office/officeart/2009/3/layout/IncreasingArrowsProcess"/>
    <dgm:cxn modelId="{34107C48-2346-4F62-9246-64E9BCA72598}" type="presOf" srcId="{0CF902C7-47B8-477C-A5EB-1BD6FCC70C66}" destId="{5D085E51-751D-4FEF-8D44-A5AEB8C4E7A3}" srcOrd="0" destOrd="0" presId="urn:microsoft.com/office/officeart/2009/3/layout/IncreasingArrowsProcess"/>
    <dgm:cxn modelId="{61F93322-5197-411F-B633-257C4745451C}" srcId="{8945C9F9-4ED9-4776-9B1D-C0922FFC08F0}" destId="{4685930E-73E7-4426-BA65-30519E6349A6}" srcOrd="1" destOrd="0" parTransId="{D2A5E413-FD7D-4408-BF33-B4576AA5E9C2}" sibTransId="{81264ACD-9082-4F97-A990-7E293169B35C}"/>
    <dgm:cxn modelId="{E1913484-B7CE-4A09-BB93-91D8B20ADC9D}" type="presParOf" srcId="{656D2F17-BC04-4D45-9C94-DC865BF6BC31}" destId="{5D085E51-751D-4FEF-8D44-A5AEB8C4E7A3}" srcOrd="0" destOrd="0" presId="urn:microsoft.com/office/officeart/2009/3/layout/IncreasingArrowsProcess"/>
    <dgm:cxn modelId="{AAFE6183-BAF5-457A-9AEE-92DAC88CA1E2}" type="presParOf" srcId="{656D2F17-BC04-4D45-9C94-DC865BF6BC31}" destId="{3D971A0C-E23E-416D-98D6-9B7930BA6960}" srcOrd="1" destOrd="0" presId="urn:microsoft.com/office/officeart/2009/3/layout/IncreasingArrowsProcess"/>
    <dgm:cxn modelId="{D23D7FCE-F510-4C28-AD62-5D4B4FCA5212}" type="presParOf" srcId="{656D2F17-BC04-4D45-9C94-DC865BF6BC31}" destId="{B4424951-AE87-4E71-A28A-6E75198A98AB}" srcOrd="2" destOrd="0" presId="urn:microsoft.com/office/officeart/2009/3/layout/IncreasingArrowsProcess"/>
    <dgm:cxn modelId="{2A5A51FE-2CEC-468D-B249-05E512A0A273}" type="presParOf" srcId="{656D2F17-BC04-4D45-9C94-DC865BF6BC31}" destId="{ECB05FB4-FC50-4648-820B-AEC7D625CF3E}" srcOrd="3" destOrd="0" presId="urn:microsoft.com/office/officeart/2009/3/layout/IncreasingArrows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B7AA231-5100-4D9A-B53A-3760A7CC36C8}">
      <dsp:nvSpPr>
        <dsp:cNvPr id="0" name=""/>
        <dsp:cNvSpPr/>
      </dsp:nvSpPr>
      <dsp:spPr>
        <a:xfrm>
          <a:off x="0" y="376348"/>
          <a:ext cx="8784975" cy="1279427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254000" bIns="203109" numCol="1" spcCol="1270" anchor="ctr" anchorCtr="0">
          <a:noAutofit/>
        </a:bodyPr>
        <a:lstStyle/>
        <a:p>
          <a:pPr lvl="0" algn="l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Регистрация</a:t>
          </a:r>
          <a:endParaRPr lang="ru-RU" sz="2200" kern="1200" dirty="0"/>
        </a:p>
      </dsp:txBody>
      <dsp:txXfrm>
        <a:off x="0" y="696205"/>
        <a:ext cx="8465118" cy="639713"/>
      </dsp:txXfrm>
    </dsp:sp>
    <dsp:sp modelId="{4CB50B9B-83BF-4316-8620-C29E2EE09F0B}">
      <dsp:nvSpPr>
        <dsp:cNvPr id="0" name=""/>
        <dsp:cNvSpPr/>
      </dsp:nvSpPr>
      <dsp:spPr>
        <a:xfrm>
          <a:off x="0" y="1296142"/>
          <a:ext cx="2705772" cy="227854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t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Составление устава;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Предоставление документов</a:t>
          </a:r>
          <a:endParaRPr lang="ru-RU" sz="2400" kern="1200" dirty="0"/>
        </a:p>
      </dsp:txBody>
      <dsp:txXfrm>
        <a:off x="0" y="1296142"/>
        <a:ext cx="2705772" cy="2278542"/>
      </dsp:txXfrm>
    </dsp:sp>
    <dsp:sp modelId="{5D740F1A-015B-484E-A682-7D5322EC6FC6}">
      <dsp:nvSpPr>
        <dsp:cNvPr id="0" name=""/>
        <dsp:cNvSpPr/>
      </dsp:nvSpPr>
      <dsp:spPr>
        <a:xfrm>
          <a:off x="2705772" y="802824"/>
          <a:ext cx="6079202" cy="1279427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254000" bIns="203109" numCol="1" spcCol="1270" anchor="ctr" anchorCtr="0">
          <a:noAutofit/>
        </a:bodyPr>
        <a:lstStyle/>
        <a:p>
          <a:pPr lvl="0" algn="l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Финансирование</a:t>
          </a:r>
          <a:endParaRPr lang="ru-RU" sz="2200" kern="1200" dirty="0"/>
        </a:p>
      </dsp:txBody>
      <dsp:txXfrm>
        <a:off x="2705772" y="1122681"/>
        <a:ext cx="5759345" cy="639713"/>
      </dsp:txXfrm>
    </dsp:sp>
    <dsp:sp modelId="{D7BCCDFF-858E-4070-8AD5-FDFE76F01B77}">
      <dsp:nvSpPr>
        <dsp:cNvPr id="0" name=""/>
        <dsp:cNvSpPr/>
      </dsp:nvSpPr>
      <dsp:spPr>
        <a:xfrm>
          <a:off x="2736293" y="1656196"/>
          <a:ext cx="2705772" cy="228968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t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Внесение взносов учредителей;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Поиск иных источников</a:t>
          </a:r>
          <a:endParaRPr lang="ru-RU" sz="2400" kern="1200" dirty="0"/>
        </a:p>
      </dsp:txBody>
      <dsp:txXfrm>
        <a:off x="2736293" y="1656196"/>
        <a:ext cx="2705772" cy="2289682"/>
      </dsp:txXfrm>
    </dsp:sp>
    <dsp:sp modelId="{8531B6A3-F5E1-4AB7-98E7-2C6CA23201FA}">
      <dsp:nvSpPr>
        <dsp:cNvPr id="0" name=""/>
        <dsp:cNvSpPr/>
      </dsp:nvSpPr>
      <dsp:spPr>
        <a:xfrm>
          <a:off x="5411544" y="1229300"/>
          <a:ext cx="3373430" cy="1279427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254000" bIns="203109" numCol="1" spcCol="1270" anchor="ctr" anchorCtr="0">
          <a:noAutofit/>
        </a:bodyPr>
        <a:lstStyle/>
        <a:p>
          <a:pPr lvl="0" algn="l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Материальная часть</a:t>
          </a:r>
        </a:p>
      </dsp:txBody>
      <dsp:txXfrm>
        <a:off x="5411544" y="1549157"/>
        <a:ext cx="3053573" cy="639713"/>
      </dsp:txXfrm>
    </dsp:sp>
    <dsp:sp modelId="{FDC485E8-ACAB-479A-ACBB-7E4EC13C1643}">
      <dsp:nvSpPr>
        <dsp:cNvPr id="0" name=""/>
        <dsp:cNvSpPr/>
      </dsp:nvSpPr>
      <dsp:spPr>
        <a:xfrm>
          <a:off x="5472613" y="2160248"/>
          <a:ext cx="2705772" cy="2179964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t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Строительство;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Оснащение оборудованием</a:t>
          </a:r>
        </a:p>
      </dsp:txBody>
      <dsp:txXfrm>
        <a:off x="5472613" y="2160248"/>
        <a:ext cx="2705772" cy="217996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D085E51-751D-4FEF-8D44-A5AEB8C4E7A3}">
      <dsp:nvSpPr>
        <dsp:cNvPr id="0" name=""/>
        <dsp:cNvSpPr/>
      </dsp:nvSpPr>
      <dsp:spPr>
        <a:xfrm>
          <a:off x="0" y="1071706"/>
          <a:ext cx="6862663" cy="999546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254000" bIns="158678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Организационная часть</a:t>
          </a:r>
          <a:endParaRPr lang="ru-RU" sz="2000" kern="1200" dirty="0"/>
        </a:p>
      </dsp:txBody>
      <dsp:txXfrm>
        <a:off x="0" y="1321593"/>
        <a:ext cx="6612777" cy="499773"/>
      </dsp:txXfrm>
    </dsp:sp>
    <dsp:sp modelId="{3D971A0C-E23E-416D-98D6-9B7930BA6960}">
      <dsp:nvSpPr>
        <dsp:cNvPr id="0" name=""/>
        <dsp:cNvSpPr/>
      </dsp:nvSpPr>
      <dsp:spPr>
        <a:xfrm>
          <a:off x="93911" y="1845636"/>
          <a:ext cx="3170550" cy="1294874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t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 smtClean="0"/>
        </a:p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Набор персонала</a:t>
          </a:r>
          <a:endParaRPr lang="ru-RU" sz="2400" kern="1200" dirty="0"/>
        </a:p>
      </dsp:txBody>
      <dsp:txXfrm>
        <a:off x="93911" y="1845636"/>
        <a:ext cx="3170550" cy="1294874"/>
      </dsp:txXfrm>
    </dsp:sp>
    <dsp:sp modelId="{B4424951-AE87-4E71-A28A-6E75198A98AB}">
      <dsp:nvSpPr>
        <dsp:cNvPr id="0" name=""/>
        <dsp:cNvSpPr/>
      </dsp:nvSpPr>
      <dsp:spPr>
        <a:xfrm>
          <a:off x="3170550" y="1404777"/>
          <a:ext cx="3692112" cy="999546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254000" bIns="158678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ключительный этап</a:t>
          </a:r>
          <a:endParaRPr lang="ru-RU" sz="2000" kern="1200" dirty="0"/>
        </a:p>
      </dsp:txBody>
      <dsp:txXfrm>
        <a:off x="3170550" y="1654664"/>
        <a:ext cx="3442226" cy="499773"/>
      </dsp:txXfrm>
    </dsp:sp>
    <dsp:sp modelId="{ECB05FB4-FC50-4648-820B-AEC7D625CF3E}">
      <dsp:nvSpPr>
        <dsp:cNvPr id="0" name=""/>
        <dsp:cNvSpPr/>
      </dsp:nvSpPr>
      <dsp:spPr>
        <a:xfrm>
          <a:off x="3190239" y="2189851"/>
          <a:ext cx="3170550" cy="112176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t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 smtClean="0"/>
        </a:p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Набор учеников</a:t>
          </a:r>
          <a:endParaRPr lang="ru-RU" sz="2400" kern="1200" dirty="0"/>
        </a:p>
      </dsp:txBody>
      <dsp:txXfrm>
        <a:off x="3190239" y="2189851"/>
        <a:ext cx="3170550" cy="112176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9/3/layout/IncreasingArrowsProcess">
  <dgm:title val=""/>
  <dgm:desc val=""/>
  <dgm:catLst>
    <dgm:cat type="process" pri="5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clrData>
  <dgm:layoutNode name="Name0">
    <dgm:varLst>
      <dgm:chMax val="5"/>
      <dgm:chPref val="5"/>
      <dgm:dir/>
      <dgm:animLvl val="lvl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choose name="Name3">
          <dgm:if name="Name4" axis="ch ch" ptType="node node" func="cnt" op="equ" val="0">
            <dgm:alg type="composite">
              <dgm:param type="ar" val="6.8662"/>
            </dgm:alg>
            <dgm:choose name="Name5">
              <dgm:if name="Name6" func="var" arg="dir" op="equ" val="norm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if>
              <dgm:else name="Name7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else>
            </dgm:choose>
          </dgm:if>
          <dgm:else name="Name8">
            <dgm:alg type="composite">
              <dgm:param type="ar" val="1.9864"/>
            </dgm:alg>
            <dgm:choose name="Name9">
              <dgm:if name="Name1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if>
              <dgm:else name="Name1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.076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else>
            </dgm:choose>
          </dgm:else>
        </dgm:choose>
      </dgm:if>
      <dgm:if name="Name12" axis="ch" ptType="node" func="cnt" op="equ" val="2">
        <dgm:choose name="Name13">
          <dgm:if name="Name14" axis="ch ch" ptType="node node" func="cnt" op="equ" val="0">
            <dgm:alg type="composite">
              <dgm:param type="ar" val="5.1498"/>
            </dgm:alg>
            <dgm:choose name="Name15">
              <dgm:if name="Name1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.462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if>
              <dgm:else name="Name1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else>
            </dgm:choose>
          </dgm:if>
          <dgm:else name="Name18">
            <dgm:alg type="composite">
              <dgm:param type="ar" val="2.0563"/>
            </dgm:alg>
            <dgm:choose name="Name19">
              <dgm:if name="Name2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.462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462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if>
              <dgm:else name="Name2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.538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076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else>
            </dgm:choose>
          </dgm:else>
        </dgm:choose>
      </dgm:if>
      <dgm:if name="Name22" axis="ch" ptType="node" func="cnt" op="equ" val="3">
        <dgm:choose name="Name23">
          <dgm:if name="Name24" axis="ch ch" ptType="node node" func="cnt" op="equ" val="0">
            <dgm:alg type="composite">
              <dgm:param type="ar" val="4.1198"/>
            </dgm:alg>
            <dgm:choose name="Name25">
              <dgm:if name="Name2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.308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.616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if>
              <dgm:else name="Name2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else>
            </dgm:choose>
          </dgm:if>
          <dgm:else name="Name28">
            <dgm:alg type="composite">
              <dgm:param type="ar" val="2.0702"/>
            </dgm:alg>
            <dgm:choose name="Name29">
              <dgm:if name="Name3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08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61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.308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.616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if>
              <dgm:else name="Name3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.692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84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07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else>
            </dgm:choose>
          </dgm:else>
        </dgm:choose>
      </dgm:if>
      <dgm:if name="Name32" axis="ch" ptType="node" func="cnt" op="equ" val="4">
        <dgm:choose name="Name33">
          <dgm:if name="Name34" axis="ch ch" ptType="node node" func="cnt" op="equ" val="0">
            <dgm:alg type="composite">
              <dgm:param type="ar" val="3.435"/>
            </dgm:alg>
            <dgm:choose name="Name35">
              <dgm:if name="Name3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.2305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.461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.6915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if>
              <dgm:else name="Name3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else>
            </dgm:choose>
          </dgm:if>
          <dgm:else name="Name38">
            <dgm:alg type="composite">
              <dgm:param type="ar" val="1.9377"/>
            </dgm:alg>
            <dgm:choose name="Name39">
              <dgm:if name="Name4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2305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461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6915"/>
                  <dgm:constr type="t" for="ch" forName="childText4" refType="h" fact="0.5"/>
                  <dgm:constr type="w" for="ch" forName="childText4" refType="w" fact="0.232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.2305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.461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.6915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if>
              <dgm:else name="Name4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.7695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539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3085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076"/>
                  <dgm:constr type="t" for="ch" forName="childText4" refType="h" fact="0.5"/>
                  <dgm:constr type="w" for="ch" forName="childText4" refType="w" fact="0.234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else>
            </dgm:choose>
          </dgm:else>
        </dgm:choose>
      </dgm:if>
      <dgm:else name="Name42">
        <dgm:choose name="Name43">
          <dgm:if name="Name44" axis="ch ch" ptType="node node" func="cnt" op="equ" val="0">
            <dgm:alg type="composite">
              <dgm:param type="ar" val="2.9463"/>
            </dgm:alg>
            <dgm:choose name="Name45">
              <dgm:if name="Name4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.1848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.3696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.5545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.7393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if>
              <dgm:else name="Name4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else>
            </dgm:choose>
          </dgm:if>
          <dgm:else name="Name48">
            <dgm:alg type="composite">
              <dgm:param type="ar" val="1.7837"/>
            </dgm:alg>
            <dgm:choose name="Name49">
              <dgm:if name="Name5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1848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3696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5545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7393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.1848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.3696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.5545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.7393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if>
              <dgm:else name="Name5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.81518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63036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44554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26072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0759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else>
            </dgm:choose>
          </dgm:else>
        </dgm:choose>
      </dgm:else>
    </dgm:choose>
    <dgm:forEach name="Name52" axis="ch" ptType="node" cnt="1">
      <dgm:layoutNode name="parentText1" styleLbl="node1">
        <dgm:varLst>
          <dgm:chMax/>
          <dgm:chPref val="3"/>
          <dgm:bulletEnabled val="1"/>
        </dgm:varLst>
        <dgm:choose name="Name53">
          <dgm:if name="Name54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55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56">
        <dgm:if name="Name57" axis="ch" ptType="node" func="cnt" op="gte" val="1">
          <dgm:layoutNode name="childText1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58"/>
      </dgm:choose>
    </dgm:forEach>
    <dgm:forEach name="Name59" axis="ch" ptType="node" st="2" cnt="1">
      <dgm:layoutNode name="parentText2" styleLbl="node1">
        <dgm:varLst>
          <dgm:chMax/>
          <dgm:chPref val="3"/>
          <dgm:bulletEnabled val="1"/>
        </dgm:varLst>
        <dgm:choose name="Name60">
          <dgm:if name="Name61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2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63">
        <dgm:if name="Name64" axis="ch" ptType="node" func="cnt" op="gte" val="1">
          <dgm:layoutNode name="childText2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5"/>
      </dgm:choose>
    </dgm:forEach>
    <dgm:forEach name="Name66" axis="ch" ptType="node" st="3" cnt="1">
      <dgm:layoutNode name="parentText3" styleLbl="node1">
        <dgm:varLst>
          <dgm:chMax/>
          <dgm:chPref val="3"/>
          <dgm:bulletEnabled val="1"/>
        </dgm:varLst>
        <dgm:choose name="Name67">
          <dgm:if name="Name68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9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0">
        <dgm:if name="Name71" axis="ch" ptType="node" func="cnt" op="gte" val="1">
          <dgm:layoutNode name="childText3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2"/>
      </dgm:choose>
    </dgm:forEach>
    <dgm:forEach name="Name73" axis="ch" ptType="node" st="4" cnt="1">
      <dgm:layoutNode name="parentText4" styleLbl="node1">
        <dgm:varLst>
          <dgm:chMax/>
          <dgm:chPref val="3"/>
          <dgm:bulletEnabled val="1"/>
        </dgm:varLst>
        <dgm:choose name="Name74">
          <dgm:if name="Name75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76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7">
        <dgm:if name="Name78" axis="ch" ptType="node" func="cnt" op="gte" val="1">
          <dgm:layoutNode name="childText4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9"/>
      </dgm:choose>
    </dgm:forEach>
    <dgm:forEach name="Name80" axis="ch" ptType="node" st="5" cnt="1">
      <dgm:layoutNode name="parentText5" styleLbl="node1">
        <dgm:varLst>
          <dgm:chMax/>
          <dgm:chPref val="3"/>
          <dgm:bulletEnabled val="1"/>
        </dgm:varLst>
        <dgm:choose name="Name81">
          <dgm:if name="Name82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83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84">
        <dgm:if name="Name85" axis="ch" ptType="node" func="cnt" op="gte" val="1">
          <dgm:layoutNode name="childText5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86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IncreasingArrowsProcess">
  <dgm:title val=""/>
  <dgm:desc val=""/>
  <dgm:catLst>
    <dgm:cat type="process" pri="5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clrData>
  <dgm:layoutNode name="Name0">
    <dgm:varLst>
      <dgm:chMax val="5"/>
      <dgm:chPref val="5"/>
      <dgm:dir/>
      <dgm:animLvl val="lvl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choose name="Name3">
          <dgm:if name="Name4" axis="ch ch" ptType="node node" func="cnt" op="equ" val="0">
            <dgm:alg type="composite">
              <dgm:param type="ar" val="6.8662"/>
            </dgm:alg>
            <dgm:choose name="Name5">
              <dgm:if name="Name6" func="var" arg="dir" op="equ" val="norm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if>
              <dgm:else name="Name7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else>
            </dgm:choose>
          </dgm:if>
          <dgm:else name="Name8">
            <dgm:alg type="composite">
              <dgm:param type="ar" val="1.9864"/>
            </dgm:alg>
            <dgm:choose name="Name9">
              <dgm:if name="Name1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if>
              <dgm:else name="Name1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.076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else>
            </dgm:choose>
          </dgm:else>
        </dgm:choose>
      </dgm:if>
      <dgm:if name="Name12" axis="ch" ptType="node" func="cnt" op="equ" val="2">
        <dgm:choose name="Name13">
          <dgm:if name="Name14" axis="ch ch" ptType="node node" func="cnt" op="equ" val="0">
            <dgm:alg type="composite">
              <dgm:param type="ar" val="5.1498"/>
            </dgm:alg>
            <dgm:choose name="Name15">
              <dgm:if name="Name1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.462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if>
              <dgm:else name="Name1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else>
            </dgm:choose>
          </dgm:if>
          <dgm:else name="Name18">
            <dgm:alg type="composite">
              <dgm:param type="ar" val="2.0563"/>
            </dgm:alg>
            <dgm:choose name="Name19">
              <dgm:if name="Name2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.462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462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if>
              <dgm:else name="Name2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.538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076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else>
            </dgm:choose>
          </dgm:else>
        </dgm:choose>
      </dgm:if>
      <dgm:if name="Name22" axis="ch" ptType="node" func="cnt" op="equ" val="3">
        <dgm:choose name="Name23">
          <dgm:if name="Name24" axis="ch ch" ptType="node node" func="cnt" op="equ" val="0">
            <dgm:alg type="composite">
              <dgm:param type="ar" val="4.1198"/>
            </dgm:alg>
            <dgm:choose name="Name25">
              <dgm:if name="Name2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.308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.616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if>
              <dgm:else name="Name2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else>
            </dgm:choose>
          </dgm:if>
          <dgm:else name="Name28">
            <dgm:alg type="composite">
              <dgm:param type="ar" val="2.0702"/>
            </dgm:alg>
            <dgm:choose name="Name29">
              <dgm:if name="Name3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08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61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.308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.616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if>
              <dgm:else name="Name3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.692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84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07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else>
            </dgm:choose>
          </dgm:else>
        </dgm:choose>
      </dgm:if>
      <dgm:if name="Name32" axis="ch" ptType="node" func="cnt" op="equ" val="4">
        <dgm:choose name="Name33">
          <dgm:if name="Name34" axis="ch ch" ptType="node node" func="cnt" op="equ" val="0">
            <dgm:alg type="composite">
              <dgm:param type="ar" val="3.435"/>
            </dgm:alg>
            <dgm:choose name="Name35">
              <dgm:if name="Name3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.2305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.461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.6915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if>
              <dgm:else name="Name3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else>
            </dgm:choose>
          </dgm:if>
          <dgm:else name="Name38">
            <dgm:alg type="composite">
              <dgm:param type="ar" val="1.9377"/>
            </dgm:alg>
            <dgm:choose name="Name39">
              <dgm:if name="Name4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2305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461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6915"/>
                  <dgm:constr type="t" for="ch" forName="childText4" refType="h" fact="0.5"/>
                  <dgm:constr type="w" for="ch" forName="childText4" refType="w" fact="0.232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.2305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.461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.6915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if>
              <dgm:else name="Name4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.7695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539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3085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076"/>
                  <dgm:constr type="t" for="ch" forName="childText4" refType="h" fact="0.5"/>
                  <dgm:constr type="w" for="ch" forName="childText4" refType="w" fact="0.234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else>
            </dgm:choose>
          </dgm:else>
        </dgm:choose>
      </dgm:if>
      <dgm:else name="Name42">
        <dgm:choose name="Name43">
          <dgm:if name="Name44" axis="ch ch" ptType="node node" func="cnt" op="equ" val="0">
            <dgm:alg type="composite">
              <dgm:param type="ar" val="2.9463"/>
            </dgm:alg>
            <dgm:choose name="Name45">
              <dgm:if name="Name4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.1848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.3696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.5545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.7393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if>
              <dgm:else name="Name4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else>
            </dgm:choose>
          </dgm:if>
          <dgm:else name="Name48">
            <dgm:alg type="composite">
              <dgm:param type="ar" val="1.7837"/>
            </dgm:alg>
            <dgm:choose name="Name49">
              <dgm:if name="Name5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1848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3696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5545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7393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.1848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.3696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.5545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.7393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if>
              <dgm:else name="Name5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.81518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63036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44554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26072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0759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else>
            </dgm:choose>
          </dgm:else>
        </dgm:choose>
      </dgm:else>
    </dgm:choose>
    <dgm:forEach name="Name52" axis="ch" ptType="node" cnt="1">
      <dgm:layoutNode name="parentText1" styleLbl="node1">
        <dgm:varLst>
          <dgm:chMax/>
          <dgm:chPref val="3"/>
          <dgm:bulletEnabled val="1"/>
        </dgm:varLst>
        <dgm:choose name="Name53">
          <dgm:if name="Name54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55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56">
        <dgm:if name="Name57" axis="ch" ptType="node" func="cnt" op="gte" val="1">
          <dgm:layoutNode name="childText1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58"/>
      </dgm:choose>
    </dgm:forEach>
    <dgm:forEach name="Name59" axis="ch" ptType="node" st="2" cnt="1">
      <dgm:layoutNode name="parentText2" styleLbl="node1">
        <dgm:varLst>
          <dgm:chMax/>
          <dgm:chPref val="3"/>
          <dgm:bulletEnabled val="1"/>
        </dgm:varLst>
        <dgm:choose name="Name60">
          <dgm:if name="Name61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2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63">
        <dgm:if name="Name64" axis="ch" ptType="node" func="cnt" op="gte" val="1">
          <dgm:layoutNode name="childText2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5"/>
      </dgm:choose>
    </dgm:forEach>
    <dgm:forEach name="Name66" axis="ch" ptType="node" st="3" cnt="1">
      <dgm:layoutNode name="parentText3" styleLbl="node1">
        <dgm:varLst>
          <dgm:chMax/>
          <dgm:chPref val="3"/>
          <dgm:bulletEnabled val="1"/>
        </dgm:varLst>
        <dgm:choose name="Name67">
          <dgm:if name="Name68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9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0">
        <dgm:if name="Name71" axis="ch" ptType="node" func="cnt" op="gte" val="1">
          <dgm:layoutNode name="childText3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2"/>
      </dgm:choose>
    </dgm:forEach>
    <dgm:forEach name="Name73" axis="ch" ptType="node" st="4" cnt="1">
      <dgm:layoutNode name="parentText4" styleLbl="node1">
        <dgm:varLst>
          <dgm:chMax/>
          <dgm:chPref val="3"/>
          <dgm:bulletEnabled val="1"/>
        </dgm:varLst>
        <dgm:choose name="Name74">
          <dgm:if name="Name75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76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7">
        <dgm:if name="Name78" axis="ch" ptType="node" func="cnt" op="gte" val="1">
          <dgm:layoutNode name="childText4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9"/>
      </dgm:choose>
    </dgm:forEach>
    <dgm:forEach name="Name80" axis="ch" ptType="node" st="5" cnt="1">
      <dgm:layoutNode name="parentText5" styleLbl="node1">
        <dgm:varLst>
          <dgm:chMax/>
          <dgm:chPref val="3"/>
          <dgm:bulletEnabled val="1"/>
        </dgm:varLst>
        <dgm:choose name="Name81">
          <dgm:if name="Name82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83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84">
        <dgm:if name="Name85" axis="ch" ptType="node" func="cnt" op="gte" val="1">
          <dgm:layoutNode name="childText5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86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A20-D529-4B9E-BB71-6FB5FCF2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E98-FA26-43DD-A951-9579A15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A2D-E82F-487F-931C-EA497A86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2C7-8B48-4AC1-9881-509FA7B7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780E1-33AD-48F6-95B0-3F970633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4703C-D141-4363-A5C3-76C51CA9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A6201-C555-4EFF-89E2-814D96B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355B9-1C7D-4133-8F5B-0DF74692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95BA4-3DF5-43EC-BF88-1C81413B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5FDAC-3E7E-4DF2-B571-7A1BC200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6B319-E80C-4F60-834D-2D854B58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360-EF7D-4703-BE2C-48431C65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7E63D-1889-4F45-A098-C3A1FAE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E1285-5C0D-4D82-AAAF-570B6C9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A23F7-769E-49EE-8EE7-8826E1AC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DE2C7-D35D-48C6-9669-710DFA8C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FA8B0-8054-439E-AB1C-37BA86B2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A875-EB3E-4CBD-A7EB-5789BD44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9636-A671-432F-9ECC-7F9F7F2D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9DCE-F32F-4606-AE08-A68845C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18AB-9C62-4CAF-9678-83AEE79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87CC-1609-445C-A6CE-36C3468A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253-DEC8-4463-BD9C-70C4DB1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1AD8-A5AC-4E41-9E4F-E7DCD17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15E4-7210-4919-8FA5-511FC57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F0C9-3549-4887-8FD1-E84E2CC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A9D2-7D7C-4A59-A7B4-90799D2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D12A-3CDF-4040-AD32-82708D26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8643-BF77-4AF7-A38C-307497AB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97C1-7195-43C2-8872-A0904FBB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DB14-A62B-4235-A075-0289B871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4BC2-B33D-404F-A9D0-9E853071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CBFA-6EC2-420C-BBEC-876B0DC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15F-6402-4E41-AE0D-B13D620D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A7D2-00B2-44FA-8C42-5EBA7D37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FBDF-4257-4FB0-AC24-77A82F2B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FBCA-F032-4CEF-A252-611E88F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16DD-3414-4E41-9A2C-377032D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F593-CA28-432E-BA61-2B587D2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A0BD-4958-4ED2-A93B-E2C924D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0ED5-759F-4026-9A01-3CF9C77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B928-C831-44C5-B1A2-127DEDA0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6CBF-3C10-4098-8810-519C79FE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326C-4C5C-4914-9E70-937BE19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0C7-6F2A-4E8E-BCE7-B67D7A5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35C8-767B-49A3-B851-3BE409E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0D8FC-CFCE-4F27-AEFC-E36D50A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3028B-409A-461F-A8CC-3F06695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24C5-C766-4BCB-9A06-79E11AF3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9C44-00F4-42BC-ADE7-25087568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2FEA-FAB4-4B53-ACDF-428A2A49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ADD9-82BD-4A4E-976C-EB8132B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37A1-61E3-4FF3-8248-C344BA4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56C6D-AAE4-48C3-806A-24ECDB43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8E93-3765-44D3-9F2E-2F33F53B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6C5-ADD7-4EEC-BE33-7464E32B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3B56-0CCC-4F35-971A-BE75793E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766-7903-4B82-8C09-3D400BB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16D-9BDD-4185-A5FA-A1B05920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8FE-18DF-4E67-ADAB-629F4AC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0ED561-0809-42E3-AF3D-66669C225BAF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152280" y="152280"/>
            <a:ext cx="8832600" cy="30456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0" y="0"/>
            <a:ext cx="9143640" cy="118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Образец заголовка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236196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Прямая соединительная линия 8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3124080" y="6858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Овал 9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0" name="Овал 10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4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3A7003-7C1B-4017-810A-D52B7A1B69AB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0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5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ftr" idx="6"/>
          </p:nvPr>
        </p:nvSpPr>
        <p:spPr>
          <a:xfrm>
            <a:off x="301680" y="6410880"/>
            <a:ext cx="3382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8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Овал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3" name="Овал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9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F60C65-9D1D-4773-B9E8-B5110E6F1815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063741-25DD-4ABA-8DC0-DA5CEA6D565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4343400" y="103608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1818C7-DE5C-4438-AEAA-B083EA44157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555640" y="3933000"/>
            <a:ext cx="656388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Выполн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Студенты гр. Ист: ИМО - 101 1 курса ВШПУ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Абитова К., Бербенец Е., Дуккардт К., Кольцова Ц., Синявский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323543"/>
                </a:solidFill>
                <a:latin typeface="Georgia"/>
              </a:rPr>
              <a:t>Научный руководитель</a:t>
            </a:r>
            <a:r>
              <a:rPr b="1" lang="ru-RU" sz="1800" spc="248" strike="noStrike" cap="all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Кандидат социологических наук, Доцент кафедры креативно-инновационного управления и права </a:t>
            </a:r>
            <a:r>
              <a:rPr b="1" lang="ru-RU" sz="2800" spc="248" strike="noStrike" cap="all">
                <a:solidFill>
                  <a:srgbClr val="000000"/>
                </a:solidFill>
                <a:latin typeface="Georgia"/>
              </a:rPr>
              <a:t>Мхеидзе Л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3640" y="476640"/>
            <a:ext cx="792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323543"/>
                </a:solidFill>
                <a:latin typeface="Georgia"/>
              </a:rPr>
              <a:t>«ОБРАЗОВАНИЕ ЧЕРЕЗ ВСЮ ЖИЗНЬ»</a:t>
            </a: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Рисунок 4" descr=""/>
          <p:cNvPicPr/>
          <p:nvPr/>
        </p:nvPicPr>
        <p:blipFill>
          <a:blip r:embed="rId1"/>
          <a:stretch/>
        </p:blipFill>
        <p:spPr>
          <a:xfrm>
            <a:off x="3204000" y="1917000"/>
            <a:ext cx="2592000" cy="15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WOT-</a:t>
            </a: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АНАЛИЗ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07" name="Объект 3"/>
          <p:cNvGraphicFramePr/>
          <p:nvPr/>
        </p:nvGraphicFramePr>
        <p:xfrm>
          <a:off x="899640" y="1628640"/>
          <a:ext cx="7272360" cy="4680000"/>
        </p:xfrm>
        <a:graphic>
          <a:graphicData uri="http://schemas.openxmlformats.org/drawingml/2006/table">
            <a:tbl>
              <a:tblPr/>
              <a:tblGrid>
                <a:gridCol w="3636360"/>
                <a:gridCol w="3636360"/>
              </a:tblGrid>
              <a:tr h="234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Сильные сторо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обеспечение населению доступа к качественному образова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повышение общего фона образованности насе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1152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9360">
                      <a:solidFill>
                        <a:srgbClr val="8c7b70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Слабые сторо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малый опы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ограниченность бюдже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слабая поддержка со стороны государ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936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1152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</a:tr>
              <a:tr h="234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Возмож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сотрудничество с компаниями, которые будут направлять своих сотрудников в качестве обучающих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привлечение инвесто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1152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9360">
                      <a:solidFill>
                        <a:srgbClr val="8c7b70"/>
                      </a:solidFill>
                    </a:lnB>
                    <a:solidFill>
                      <a:srgbClr val="d5d1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Угроз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Низкий спро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Снижение  финанс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936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9360">
                      <a:solidFill>
                        <a:srgbClr val="8c7b70"/>
                      </a:solidFill>
                    </a:lnB>
                    <a:solidFill>
                      <a:schemeClr val="accent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Бюджет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09" name="Объект 3"/>
          <p:cNvGraphicFramePr/>
          <p:nvPr/>
        </p:nvGraphicFramePr>
        <p:xfrm>
          <a:off x="467640" y="1412640"/>
          <a:ext cx="8280720" cy="4968360"/>
        </p:xfrm>
        <a:graphic>
          <a:graphicData uri="http://schemas.openxmlformats.org/drawingml/2006/table">
            <a:tbl>
              <a:tblPr/>
              <a:tblGrid>
                <a:gridCol w="1074600"/>
                <a:gridCol w="4445280"/>
                <a:gridCol w="2760840"/>
              </a:tblGrid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8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100008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Строительство здания (оплата услуг строителей, строительные материа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10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88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Мебель (парты, столы, стулья, шкафы, дос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5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9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Канцелярские тов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500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Учебные пособия,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2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9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Компьютерные устр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6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1068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Заработная плата персоналу (преподаватели, охрана, технические работники, администрация) 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3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3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Расходы на рекламу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1 млн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3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Налоги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1млн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3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Други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2 млн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недрение результатов в жизнь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34745286"/>
              </p:ext>
            </p:extLst>
          </p:nvPr>
        </p:nvGraphicFramePr>
        <p:xfrm>
          <a:off x="179640" y="1412640"/>
          <a:ext cx="8784720" cy="4896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547926688"/>
              </p:ext>
            </p:extLst>
          </p:nvPr>
        </p:nvGraphicFramePr>
        <p:xfrm>
          <a:off x="301680" y="1527120"/>
          <a:ext cx="6862320" cy="49258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12" name="Прямоугольник 4"/>
          <p:cNvSpPr/>
          <p:nvPr/>
        </p:nvSpPr>
        <p:spPr>
          <a:xfrm>
            <a:off x="7308360" y="1484640"/>
            <a:ext cx="1583640" cy="482400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Georgia"/>
              </a:rPr>
              <a:t>ЗАДАЧА ВЫПОЛНЕ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314" name="Объект 3" descr=""/>
          <p:cNvPicPr/>
          <p:nvPr/>
        </p:nvPicPr>
        <p:blipFill>
          <a:blip r:embed="rId1"/>
          <a:stretch/>
        </p:blipFill>
        <p:spPr>
          <a:xfrm>
            <a:off x="179640" y="332640"/>
            <a:ext cx="8847000" cy="61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640" y="76464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Цели проекта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917000"/>
            <a:ext cx="273600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- повысить качество образованности населения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- помочь людям, желающим продолжить  образование или начать обучаться новой специальност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Объект 3" descr=""/>
          <p:cNvPicPr/>
          <p:nvPr/>
        </p:nvPicPr>
        <p:blipFill>
          <a:blip r:embed="rId1"/>
          <a:stretch/>
        </p:blipFill>
        <p:spPr>
          <a:xfrm>
            <a:off x="2915640" y="1196640"/>
            <a:ext cx="6050880" cy="4536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88" name="Текст 5"/>
          <p:cNvSpPr/>
          <p:nvPr/>
        </p:nvSpPr>
        <p:spPr>
          <a:xfrm>
            <a:off x="3396240" y="5700960"/>
            <a:ext cx="54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5">
                    <a:lumMod val="50000"/>
                  </a:schemeClr>
                </a:solidFill>
                <a:latin typeface="Georgia"/>
              </a:rPr>
              <a:t>«Хороший лидер никогда не перестает обучать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лавная задач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7640" y="2349000"/>
            <a:ext cx="2808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- создание  некоммерческого образовательного частного учреждения «Образование через всю жизнь»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Объект 6" descr=""/>
          <p:cNvPicPr/>
          <p:nvPr/>
        </p:nvPicPr>
        <p:blipFill>
          <a:blip r:embed="rId1"/>
          <a:srcRect l="10741" t="0" r="10400" b="0"/>
          <a:stretch/>
        </p:blipFill>
        <p:spPr>
          <a:xfrm>
            <a:off x="2915640" y="1124640"/>
            <a:ext cx="606636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95640" y="332640"/>
            <a:ext cx="8424720" cy="17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Целевая аудитория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– все молодое и взрослое население, желающее повысить уровень своей образованности.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Рисунок 6" descr=""/>
          <p:cNvPicPr/>
          <p:nvPr/>
        </p:nvPicPr>
        <p:blipFill>
          <a:blip r:embed="rId1"/>
          <a:stretch/>
        </p:blipFill>
        <p:spPr>
          <a:xfrm>
            <a:off x="755640" y="2349000"/>
            <a:ext cx="7738560" cy="4344840"/>
          </a:xfrm>
          <a:prstGeom prst="rect">
            <a:avLst/>
          </a:prstGeom>
          <a:ln w="0">
            <a:noFill/>
          </a:ln>
          <a:effectLst>
            <a:reflection algn="bl" blurRad="6350" dir="5400000" dist="101600" endA="300" endPos="55500" rotWithShape="0" stA="50000" sy="-100000"/>
          </a:effectLst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b9899"/>
                </a:solidFill>
                <a:latin typeface="Georgia"/>
              </a:rPr>
              <a:t>Основные результаты проект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8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Мы предлагаем создание в городе Пятигорск частного специализированного образовательного учреждения «Обучение через всю жизнь», которое будет помогать молодым и взрослым людям получать качественные знания по необходимому им направлению.</a:t>
            </a:r>
            <a:endParaRPr b="0" lang="ru-RU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640" y="57333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323543"/>
                </a:solidFill>
                <a:latin typeface="Georgia"/>
              </a:rPr>
              <a:t>Учреждение будет находиться в трехэтажном здании.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Объект 6" descr=""/>
          <p:cNvPicPr/>
          <p:nvPr/>
        </p:nvPicPr>
        <p:blipFill>
          <a:blip r:embed="rId1"/>
          <a:srcRect l="0" t="9006" r="0" b="0"/>
          <a:stretch/>
        </p:blipFill>
        <p:spPr>
          <a:xfrm>
            <a:off x="971640" y="260640"/>
            <a:ext cx="7560360" cy="520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640" y="54864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323543"/>
                </a:solidFill>
                <a:latin typeface="Georgia"/>
              </a:rPr>
              <a:t>Внутри будут расположены по 4 учебные аудитории на 2 и 3 этажах, оснащенные 10-ю ученическими столами и стульями, а также учительским столом и стулом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0" name="Объект 3" descr=""/>
          <p:cNvPicPr/>
          <p:nvPr/>
        </p:nvPicPr>
        <p:blipFill>
          <a:blip r:embed="rId1"/>
          <a:stretch/>
        </p:blipFill>
        <p:spPr>
          <a:xfrm>
            <a:off x="179640" y="1484640"/>
            <a:ext cx="8712720" cy="5127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087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323543"/>
                </a:solidFill>
                <a:latin typeface="Georgia"/>
              </a:rPr>
              <a:t>Кабинет информационных технологий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2" name="Объект 3" descr=""/>
          <p:cNvPicPr/>
          <p:nvPr/>
        </p:nvPicPr>
        <p:blipFill>
          <a:blip r:embed="rId1"/>
          <a:stretch/>
        </p:blipFill>
        <p:spPr>
          <a:xfrm>
            <a:off x="395640" y="1340640"/>
            <a:ext cx="849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8000" y="5517360"/>
            <a:ext cx="4711680" cy="11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Перестав однажды учиться, вы начинаете умирать.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Эйнштейн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437840"/>
            <a:ext cx="4341960" cy="49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нятия будут проходить в вечернее время 5 дней в неделю по 2 занятия. Будут так же проводиться общие семинаров, тренинги, мероприятия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учение будет проводиться на платной основе, размер которой будет определяться согласно учебной программе и ее длительности. По окончании обучения обучающийся получит диплом о повышении квалификации или переквалификации по выбранной специальности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tretch/>
        </p:blipFill>
        <p:spPr>
          <a:xfrm>
            <a:off x="4716000" y="1412640"/>
            <a:ext cx="4063680" cy="4151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35</TotalTime>
  <Application>LibreOffice/7.4.7.2$Linux_X86_64 LibreOffice_project/40$Build-2</Application>
  <AppVersion>15.0000</AppVersion>
  <Words>429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20:52:56Z</dcterms:created>
  <dc:creator>Цагана Кольцова</dc:creator>
  <dc:description/>
  <dc:language>en-US</dc:language>
  <cp:lastModifiedBy>Цагана</cp:lastModifiedBy>
  <dcterms:modified xsi:type="dcterms:W3CDTF">2016-03-02T23:34:34Z</dcterms:modified>
  <cp:revision>14</cp:revision>
  <dc:subject/>
  <dc:title>«ОБРАЗОВАНИЕ ЧЕРЕЗ ВСЮ ЖИЗНЬ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