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47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hdphoto2.wdp" ContentType="image/vnd.ms-photo"/>
  <Override PartName="/ppt/media/image12.png" ContentType="image/png"/>
  <Override PartName="/ppt/media/image28.png" ContentType="image/png"/>
  <Override PartName="/ppt/media/image1.wmf" ContentType="image/x-wmf"/>
  <Override PartName="/ppt/media/image52.png" ContentType="image/png"/>
  <Override PartName="/ppt/media/image51.png" ContentType="image/png"/>
  <Override PartName="/ppt/media/image49.jpeg" ContentType="image/jpeg"/>
  <Override PartName="/ppt/media/image50.png" ContentType="image/png"/>
  <Override PartName="/ppt/media/image35.png" ContentType="image/png"/>
  <Override PartName="/ppt/media/hdphoto5.wdp" ContentType="image/vnd.ms-photo"/>
  <Override PartName="/ppt/media/image22.png" ContentType="image/png"/>
  <Override PartName="/ppt/media/hdphoto4.wdp" ContentType="image/vnd.ms-photo"/>
  <Override PartName="/ppt/media/image21.png" ContentType="image/png"/>
  <Override PartName="/ppt/media/image15.jpeg" ContentType="image/jpeg"/>
  <Override PartName="/ppt/media/image13.jpeg" ContentType="image/jpeg"/>
  <Override PartName="/ppt/media/image44.png" ContentType="image/png"/>
  <Override PartName="/ppt/media/image53.jpeg" ContentType="image/jpeg"/>
  <Override PartName="/ppt/media/image23.png" ContentType="image/png"/>
  <Override PartName="/ppt/media/image33.png" ContentType="image/png"/>
  <Override PartName="/ppt/media/hdphoto3.wdp" ContentType="image/vnd.ms-photo"/>
  <Override PartName="/ppt/media/image20.png" ContentType="image/png"/>
  <Override PartName="/ppt/media/hdphoto6.wdp" ContentType="image/vnd.ms-photo"/>
  <Override PartName="/ppt/media/image36.png" ContentType="image/png"/>
  <Override PartName="/ppt/media/image19.jpeg" ContentType="image/jpeg"/>
  <Override PartName="/ppt/media/image25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hdphoto8.wdp" ContentType="image/vnd.ms-photo"/>
  <Override PartName="/ppt/media/image38.png" ContentType="image/png"/>
  <Override PartName="/ppt/media/image16.jpeg" ContentType="image/jpeg"/>
  <Override PartName="/ppt/media/image9.png" ContentType="image/png"/>
  <Override PartName="/ppt/media/image24.png" ContentType="image/png"/>
  <Override PartName="/ppt/media/image37.png" ContentType="image/png"/>
  <Override PartName="/ppt/media/hdphoto7.wdp" ContentType="image/vnd.ms-photo"/>
  <Override PartName="/ppt/media/image26.png" ContentType="image/png"/>
  <Override PartName="/ppt/media/image27.png" ContentType="image/png"/>
  <Override PartName="/ppt/media/image39.png" ContentType="image/png"/>
  <Override PartName="/ppt/media/hdphoto9.wdp" ContentType="image/vnd.ms-photo"/>
  <Override PartName="/ppt/media/hdphoto10.wdp" ContentType="image/vnd.ms-photo"/>
  <Override PartName="/ppt/media/image40.png" ContentType="image/png"/>
  <Override PartName="/ppt/media/image29.png" ContentType="image/png"/>
  <Override PartName="/ppt/media/image30.png" ContentType="image/png"/>
  <Override PartName="/ppt/media/hdphoto1.wdp" ContentType="image/vnd.ms-photo"/>
  <Override PartName="/ppt/media/image31.png" ContentType="image/png"/>
  <Override PartName="/ppt/media/hdphoto11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B0241E-38F8-4D9C-B899-6EB3186CC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15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676C95-D161-4D5D-9F98-B28C4D5A677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18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09B42B-D3BF-4209-AA99-3EBE6B64205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9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61D75C-8A1B-4E40-9416-F4AFC72DB63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16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0A77AB-39E9-4586-8A77-DA42FE948D4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7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0F609F-5F04-4793-94E5-DA88FFCED53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668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500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668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500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966B-7F9E-4702-A853-675F5E59A7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06E3-0689-41D9-BF4B-6F123F15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C45B-5D37-4B3B-8139-75C542F0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EF9F-07AC-4592-B71C-99DE5090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6B97F-F126-4729-AE9F-EC7AA10C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8AA5-9DE7-49BD-8787-A729D8AB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C1E3-2DF0-4B51-A7C5-8106D71A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592D-7594-4BD7-8C85-6EA86112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B887-E9B2-4F4F-BBB6-E90D809C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2216-C7F7-4860-BEF8-D8E20B78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ADEB-5143-4BED-A0DB-4F1463ED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00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00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2DFE-9057-4493-8F19-CFBB4D594C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Прямая соединительная линия 9"/>
          <p:cNvCxnSpPr/>
          <p:nvPr/>
        </p:nvCxnSpPr>
        <p:spPr>
          <a:xfrm>
            <a:off x="0" y="6597000"/>
            <a:ext cx="6012360" cy="360"/>
          </a:xfrm>
          <a:prstGeom prst="straightConnector1">
            <a:avLst/>
          </a:prstGeom>
          <a:ln w="63500">
            <a:solidFill>
              <a:srgbClr val="0070c1"/>
            </a:solidFill>
            <a:round/>
          </a:ln>
        </p:spPr>
      </p:cxnSp>
      <p:sp>
        <p:nvSpPr>
          <p:cNvPr id="1" name="TextBox 4"/>
          <p:cNvSpPr/>
          <p:nvPr/>
        </p:nvSpPr>
        <p:spPr>
          <a:xfrm>
            <a:off x="2051640" y="6597360"/>
            <a:ext cx="597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инистерство экономического развития и инвестиций 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Прямая соединительная линия 11"/>
          <p:cNvCxnSpPr/>
          <p:nvPr/>
        </p:nvCxnSpPr>
        <p:spPr>
          <a:xfrm>
            <a:off x="6012000" y="6597000"/>
            <a:ext cx="3132360" cy="360"/>
          </a:xfrm>
          <a:prstGeom prst="straightConnector1">
            <a:avLst/>
          </a:prstGeom>
          <a:ln w="63500">
            <a:solidFill>
              <a:srgbClr val="ff0000"/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8457840" cy="1469520"/>
          </a:xfrm>
          <a:prstGeom prst="rect">
            <a:avLst/>
          </a:prstGeom>
          <a:solidFill>
            <a:srgbClr val="0070c1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 итогах и перспективах работы министерства экономического развития и инвестиций Самарской области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самара2"/>
          <p:cNvPicPr/>
          <p:nvPr/>
        </p:nvPicPr>
        <p:blipFill>
          <a:blip r:embed="rId2"/>
          <a:stretch/>
        </p:blipFill>
        <p:spPr>
          <a:xfrm>
            <a:off x="107640" y="44640"/>
            <a:ext cx="575640" cy="625680"/>
          </a:xfrm>
          <a:prstGeom prst="rect">
            <a:avLst/>
          </a:prstGeom>
          <a:ln w="0">
            <a:noFill/>
          </a:ln>
        </p:spPr>
      </p:pic>
      <p:cxnSp>
        <p:nvCxnSpPr>
          <p:cNvPr id="5" name="Прямая соединительная линия 5"/>
          <p:cNvCxnSpPr/>
          <p:nvPr/>
        </p:nvCxnSpPr>
        <p:spPr>
          <a:xfrm>
            <a:off x="683280" y="3284640"/>
            <a:ext cx="8461080" cy="360"/>
          </a:xfrm>
          <a:prstGeom prst="straightConnector1">
            <a:avLst/>
          </a:prstGeom>
          <a:ln w="63500">
            <a:solidFill>
              <a:srgbClr val="ff0000"/>
            </a:solidFill>
            <a:round/>
          </a:ln>
        </p:spPr>
      </p:cxnSp>
      <p:sp>
        <p:nvSpPr>
          <p:cNvPr id="6" name="Прямоугольник 3"/>
          <p:cNvSpPr/>
          <p:nvPr/>
        </p:nvSpPr>
        <p:spPr>
          <a:xfrm>
            <a:off x="2123640" y="6669360"/>
            <a:ext cx="5616360" cy="14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" name="Прямая соединительная линия 9"/>
          <p:cNvCxnSpPr/>
          <p:nvPr/>
        </p:nvCxnSpPr>
        <p:spPr>
          <a:xfrm>
            <a:off x="0" y="6597000"/>
            <a:ext cx="6012360" cy="360"/>
          </a:xfrm>
          <a:prstGeom prst="straightConnector1">
            <a:avLst/>
          </a:prstGeom>
          <a:ln w="63500">
            <a:solidFill>
              <a:srgbClr val="0070c1"/>
            </a:solidFill>
            <a:round/>
          </a:ln>
        </p:spPr>
      </p:cxnSp>
      <p:sp>
        <p:nvSpPr>
          <p:cNvPr id="45" name="TextBox 4"/>
          <p:cNvSpPr/>
          <p:nvPr/>
        </p:nvSpPr>
        <p:spPr>
          <a:xfrm>
            <a:off x="2051640" y="6597360"/>
            <a:ext cx="597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инистерство экономического развития и инвестиций 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единительная линия 11"/>
          <p:cNvCxnSpPr/>
          <p:nvPr/>
        </p:nvCxnSpPr>
        <p:spPr>
          <a:xfrm>
            <a:off x="6012000" y="6597000"/>
            <a:ext cx="3132360" cy="360"/>
          </a:xfrm>
          <a:prstGeom prst="straightConnector1">
            <a:avLst/>
          </a:prstGeom>
          <a:ln w="63500">
            <a:solidFill>
              <a:srgbClr val="ff0000"/>
            </a:solidFill>
            <a:round/>
          </a:ln>
        </p:spPr>
      </p:cxnSp>
      <p:sp>
        <p:nvSpPr>
          <p:cNvPr id="47" name="Заголовок 1"/>
          <p:cNvSpPr/>
          <p:nvPr/>
        </p:nvSpPr>
        <p:spPr>
          <a:xfrm>
            <a:off x="0" y="0"/>
            <a:ext cx="9143640" cy="764280"/>
          </a:xfrm>
          <a:prstGeom prst="rect">
            <a:avLst/>
          </a:prstGeom>
          <a:solidFill>
            <a:srgbClr val="007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7" descr="самара2"/>
          <p:cNvPicPr/>
          <p:nvPr/>
        </p:nvPicPr>
        <p:blipFill>
          <a:blip r:embed="rId2"/>
          <a:stretch/>
        </p:blipFill>
        <p:spPr>
          <a:xfrm>
            <a:off x="107640" y="44640"/>
            <a:ext cx="575640" cy="625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457200" y="6513840"/>
            <a:ext cx="1378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2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BB83D48-6B07-4225-A99A-D96077292223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b05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microsoft.com/office/2007/relationships/hdphoto" Target="../media/hdphoto11.wdp"/><Relationship Id="rId8" Type="http://schemas.openxmlformats.org/officeDocument/2006/relationships/image" Target="../media/image41.pn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31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microsoft.com/office/2007/relationships/hdphoto" Target="../media/hdphoto1.wdp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microsoft.com/office/2007/relationships/hdphoto" Target="../media/hdphoto2.wdp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microsoft.com/office/2007/relationships/hdphoto" Target="../media/hdphoto3.wdp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hyperlink" Target="http://molpred63.ru/istorii-uspeha/" TargetMode="External"/><Relationship Id="rId4" Type="http://schemas.openxmlformats.org/officeDocument/2006/relationships/hyperlink" Target="http://molpred63.ru/istorii-uspeha/" TargetMode="External"/><Relationship Id="rId5" Type="http://schemas.openxmlformats.org/officeDocument/2006/relationships/hyperlink" Target="http://molpred63.ru/istorii-uspeha/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s://tvsamara.ru/news/53404/" TargetMode="Externa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microsoft.com/office/2007/relationships/hdphoto" Target="../media/hdphoto4.wdp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microsoft.com/office/2007/relationships/hdphoto" Target="../media/hdphoto5.wdp"/><Relationship Id="rId8" Type="http://schemas.openxmlformats.org/officeDocument/2006/relationships/image" Target="../media/image23.png"/><Relationship Id="rId9" Type="http://schemas.microsoft.com/office/2007/relationships/hdphoto" Target="../media/hdphoto6.wdp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microsoft.com/office/2007/relationships/hdphoto" Target="../media/hdphoto7.wdp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microsoft.com/office/2007/relationships/hdphoto" Target="../media/hdphoto8.wdp"/><Relationship Id="rId10" Type="http://schemas.openxmlformats.org/officeDocument/2006/relationships/image" Target="../media/image27.png"/><Relationship Id="rId11" Type="http://schemas.microsoft.com/office/2007/relationships/hdphoto" Target="../media/hdphoto9.wdp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microsoft.com/office/2007/relationships/hdphoto" Target="../media/hdphoto10.wdp"/><Relationship Id="rId3" Type="http://schemas.openxmlformats.org/officeDocument/2006/relationships/image" Target="../media/image3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3640" y="1484640"/>
            <a:ext cx="8460000" cy="1685520"/>
          </a:xfrm>
          <a:prstGeom prst="rect">
            <a:avLst/>
          </a:prstGeom>
          <a:solidFill>
            <a:srgbClr val="0070c1"/>
          </a:solidFill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циональный проек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алое и среднее предпринимательство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оддержка индивидуальной предпринимательской инициативы»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99640" y="3717000"/>
            <a:ext cx="618444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экономического развит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инвести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6"/>
          <p:cNvSpPr/>
          <p:nvPr/>
        </p:nvSpPr>
        <p:spPr>
          <a:xfrm>
            <a:off x="4572000" y="4797000"/>
            <a:ext cx="4312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кладчик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нистр экономического развит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инвестиций Сама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митрий Юрьевич Богд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27640" y="44640"/>
            <a:ext cx="600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Num" idx="8"/>
          </p:nvPr>
        </p:nvSpPr>
        <p:spPr>
          <a:xfrm>
            <a:off x="8188200" y="649296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1D527EB-8B0A-4EA8-9779-8FD35932A46A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0"/>
          <p:cNvSpPr/>
          <p:nvPr/>
        </p:nvSpPr>
        <p:spPr>
          <a:xfrm>
            <a:off x="1337040" y="1072080"/>
            <a:ext cx="7214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ие о мерах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196640" y="1998000"/>
            <a:ext cx="28328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КУ СО «Информацион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онсалтинговое агент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марской област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ИКАС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3" descr=""/>
          <p:cNvPicPr/>
          <p:nvPr/>
        </p:nvPicPr>
        <p:blipFill>
          <a:blip r:embed="rId2"/>
          <a:stretch/>
        </p:blipFill>
        <p:spPr>
          <a:xfrm>
            <a:off x="251640" y="2118600"/>
            <a:ext cx="931680" cy="5896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1201680" y="3049920"/>
            <a:ext cx="3475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7 927 900 40 65 (правовые вопрос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9"/>
          <p:cNvSpPr/>
          <p:nvPr/>
        </p:nvSpPr>
        <p:spPr>
          <a:xfrm>
            <a:off x="1184760" y="3306600"/>
            <a:ext cx="3489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7 927 900 40 66 (экономич. вопрос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0"/>
          <p:cNvSpPr/>
          <p:nvPr/>
        </p:nvSpPr>
        <p:spPr>
          <a:xfrm>
            <a:off x="1225440" y="3566160"/>
            <a:ext cx="206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http://www.ikaso63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2"/>
          <p:cNvSpPr/>
          <p:nvPr/>
        </p:nvSpPr>
        <p:spPr>
          <a:xfrm>
            <a:off x="6189120" y="1998000"/>
            <a:ext cx="198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-нави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11" descr=""/>
          <p:cNvPicPr/>
          <p:nvPr/>
        </p:nvPicPr>
        <p:blipFill>
          <a:blip r:embed="rId3"/>
          <a:stretch/>
        </p:blipFill>
        <p:spPr>
          <a:xfrm>
            <a:off x="5392800" y="2058120"/>
            <a:ext cx="732600" cy="7102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5"/>
          <p:cNvSpPr/>
          <p:nvPr/>
        </p:nvSpPr>
        <p:spPr>
          <a:xfrm>
            <a:off x="6189480" y="2473560"/>
            <a:ext cx="170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s://smbn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318680" y="4437000"/>
            <a:ext cx="234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йт поддержки 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ния-успеха.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17" descr=""/>
          <p:cNvPicPr/>
          <p:nvPr/>
        </p:nvPicPr>
        <p:blipFill>
          <a:blip r:embed="rId4"/>
          <a:stretch/>
        </p:blipFill>
        <p:spPr>
          <a:xfrm>
            <a:off x="280080" y="440532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261" name="Равнобедренный треугольник 28"/>
          <p:cNvSpPr/>
          <p:nvPr/>
        </p:nvSpPr>
        <p:spPr>
          <a:xfrm rot="5400000">
            <a:off x="3845160" y="4804920"/>
            <a:ext cx="1457280" cy="250920"/>
          </a:xfrm>
          <a:prstGeom prst="triangle">
            <a:avLst>
              <a:gd name="adj" fmla="val 46733"/>
            </a:avLst>
          </a:prstGeom>
          <a:solidFill>
            <a:srgbClr val="ff0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29"/>
          <p:cNvSpPr/>
          <p:nvPr/>
        </p:nvSpPr>
        <p:spPr>
          <a:xfrm>
            <a:off x="6142680" y="4368240"/>
            <a:ext cx="25128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Единый порт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ддержки и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ybiz63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5"/>
          <a:stretch/>
        </p:blipFill>
        <p:spPr>
          <a:xfrm>
            <a:off x="5422680" y="436824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0"/>
          <p:cNvSpPr/>
          <p:nvPr/>
        </p:nvSpPr>
        <p:spPr>
          <a:xfrm>
            <a:off x="3947760" y="5786280"/>
            <a:ext cx="995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авгус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6177960" y="3040920"/>
            <a:ext cx="2806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йт УФНС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s://www.nalog.ru/rn6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логовые кальк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21" descr=""/>
          <p:cNvPicPr/>
          <p:nvPr/>
        </p:nvPicPr>
        <p:blipFill>
          <a:blip r:embed="rId6"/>
          <a:stretch/>
        </p:blipFill>
        <p:spPr>
          <a:xfrm>
            <a:off x="5422680" y="3075120"/>
            <a:ext cx="648000" cy="6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67760" y="920880"/>
            <a:ext cx="8370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уляризация предпринимательств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 камп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0" y="2386080"/>
            <a:ext cx="7164000" cy="4041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2"/>
          <p:cNvSpPr/>
          <p:nvPr/>
        </p:nvSpPr>
        <p:spPr>
          <a:xfrm>
            <a:off x="2915640" y="1614600"/>
            <a:ext cx="279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1f497d"/>
                </a:solidFill>
                <a:uFillTx/>
                <a:latin typeface="Tahoma"/>
                <a:ea typeface="Tahoma"/>
              </a:rPr>
              <a:t>mybiz63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5724000" y="3789000"/>
            <a:ext cx="3419640" cy="26380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5853600" y="4077360"/>
            <a:ext cx="32688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  <a:ea typeface="Tahoma"/>
              </a:rPr>
              <a:t>«Единая точка вх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лучения государ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ддер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  <a:ea typeface="Tahoma"/>
              </a:rPr>
              <a:t>Информация обо все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  <a:ea typeface="Tahoma"/>
              </a:rPr>
              <a:t>мерах и институ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  <a:ea typeface="Tahoma"/>
              </a:rPr>
              <a:t>поддержк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 терри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0206-3117-4F69-86B0-39836D3676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Num" idx="9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9CB81F1-EA69-44F1-ABE4-33D99420A688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4"/>
          <p:cNvSpPr/>
          <p:nvPr/>
        </p:nvSpPr>
        <p:spPr>
          <a:xfrm>
            <a:off x="1115640" y="947160"/>
            <a:ext cx="705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ый аккаунт для всех социальных с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6"/>
          <p:cNvSpPr/>
          <p:nvPr/>
        </p:nvSpPr>
        <p:spPr>
          <a:xfrm>
            <a:off x="3398760" y="1294560"/>
            <a:ext cx="249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1f497d"/>
                </a:solidFill>
                <a:uFillTx/>
                <a:latin typeface="Tahoma"/>
                <a:ea typeface="Tahoma"/>
              </a:rPr>
              <a:t>mybiz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31" descr=""/>
          <p:cNvPicPr/>
          <p:nvPr/>
        </p:nvPicPr>
        <p:blipFill>
          <a:blip r:embed="rId2"/>
          <a:stretch/>
        </p:blipFill>
        <p:spPr>
          <a:xfrm>
            <a:off x="251640" y="31060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32" descr=""/>
          <p:cNvPicPr/>
          <p:nvPr/>
        </p:nvPicPr>
        <p:blipFill>
          <a:blip r:embed="rId3"/>
          <a:stretch/>
        </p:blipFill>
        <p:spPr>
          <a:xfrm>
            <a:off x="284400" y="50526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33" descr=""/>
          <p:cNvPicPr/>
          <p:nvPr/>
        </p:nvPicPr>
        <p:blipFill>
          <a:blip r:embed="rId4"/>
          <a:stretch/>
        </p:blipFill>
        <p:spPr>
          <a:xfrm>
            <a:off x="251640" y="4079520"/>
            <a:ext cx="10796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282" name="Группа 37"/>
          <p:cNvGrpSpPr/>
          <p:nvPr/>
        </p:nvGrpSpPr>
        <p:grpSpPr>
          <a:xfrm>
            <a:off x="251640" y="2133000"/>
            <a:ext cx="1079640" cy="1079640"/>
            <a:chOff x="251640" y="2133000"/>
            <a:chExt cx="1079640" cy="1079640"/>
          </a:xfrm>
        </p:grpSpPr>
        <p:pic>
          <p:nvPicPr>
            <p:cNvPr id="283" name="Рисунок 35" descr=""/>
            <p:cNvPicPr/>
            <p:nvPr/>
          </p:nvPicPr>
          <p:blipFill>
            <a:blip r:embed="rId5"/>
            <a:stretch/>
          </p:blipFill>
          <p:spPr>
            <a:xfrm>
              <a:off x="251640" y="2133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Рисунок 36" descr=""/>
            <p:cNvPicPr/>
            <p:nvPr/>
          </p:nvPicPr>
          <p:blipFill>
            <a:blip r:embed="rId6">
              <a:extLst>
                <a:ext uri="{BEBA8EAE-BF5A-486C-A8C5-ECC9F3942E4B}">
                  <a14:imgProps xmlns:a14="http://schemas.microsoft.com/office/drawing/2010/main">
                    <a14:imgLayer r:embed="rId7">
                      <a14:imgEffect>
                        <a14:saturation sat="3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301680" y="2192760"/>
              <a:ext cx="65556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Прямоугольник 38"/>
          <p:cNvSpPr/>
          <p:nvPr/>
        </p:nvSpPr>
        <p:spPr>
          <a:xfrm>
            <a:off x="1135440" y="2336040"/>
            <a:ext cx="193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k.com/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9"/>
          <p:cNvSpPr/>
          <p:nvPr/>
        </p:nvSpPr>
        <p:spPr>
          <a:xfrm>
            <a:off x="1132200" y="5246280"/>
            <a:ext cx="130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@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0"/>
          <p:cNvSpPr/>
          <p:nvPr/>
        </p:nvSpPr>
        <p:spPr>
          <a:xfrm>
            <a:off x="1136880" y="4293000"/>
            <a:ext cx="235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witter.com/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1"/>
          <p:cNvSpPr/>
          <p:nvPr/>
        </p:nvSpPr>
        <p:spPr>
          <a:xfrm>
            <a:off x="1139040" y="3280320"/>
            <a:ext cx="268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acebook.com/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2229120" y="5905800"/>
            <a:ext cx="3084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#МойБизнес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4"/>
          <p:cNvSpPr/>
          <p:nvPr/>
        </p:nvSpPr>
        <p:spPr>
          <a:xfrm>
            <a:off x="5375880" y="5877360"/>
            <a:ext cx="3732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#БизнесЭтоПро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5" descr=""/>
          <p:cNvPicPr/>
          <p:nvPr/>
        </p:nvPicPr>
        <p:blipFill>
          <a:blip r:embed="rId8"/>
          <a:stretch/>
        </p:blipFill>
        <p:spPr>
          <a:xfrm>
            <a:off x="3771360" y="2061000"/>
            <a:ext cx="2783880" cy="278388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6" descr=""/>
          <p:cNvPicPr/>
          <p:nvPr/>
        </p:nvPicPr>
        <p:blipFill>
          <a:blip r:embed="rId9"/>
          <a:stretch/>
        </p:blipFill>
        <p:spPr>
          <a:xfrm>
            <a:off x="6607080" y="2252520"/>
            <a:ext cx="2500920" cy="24483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7"/>
          <p:cNvSpPr/>
          <p:nvPr/>
        </p:nvSpPr>
        <p:spPr>
          <a:xfrm>
            <a:off x="4395960" y="4790160"/>
            <a:ext cx="132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онта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0"/>
          <p:cNvSpPr/>
          <p:nvPr/>
        </p:nvSpPr>
        <p:spPr>
          <a:xfrm>
            <a:off x="7115760" y="4786920"/>
            <a:ext cx="127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Num" idx="10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43AA343-2050-4DB9-9365-09538F9A5CA0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043640" y="941760"/>
            <a:ext cx="7704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rcRect l="6367" t="257" r="3086" b="2970"/>
          <a:stretch/>
        </p:blipFill>
        <p:spPr>
          <a:xfrm>
            <a:off x="0" y="1700640"/>
            <a:ext cx="3779640" cy="33778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5"/>
          <p:cNvSpPr/>
          <p:nvPr/>
        </p:nvSpPr>
        <p:spPr>
          <a:xfrm>
            <a:off x="258480" y="1052640"/>
            <a:ext cx="86414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нтры оказания услуг для предпринимателей  «Мой бизн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3924000" y="1928520"/>
            <a:ext cx="511236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2 700 кв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оябрь 201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олее 15 организац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казывающих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олее 200 услуг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СМС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нсультации по вопросам ведения бизн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бу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мощь в составлении бизнес-план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инансовая поддерж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tarSymbol"/>
              <a:buChar char="-"/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формление разрешительной документ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tarSymbol"/>
              <a:buChar char="-"/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 юридического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3977640" y="1556640"/>
            <a:ext cx="4745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ональный центр «Мой бизнес» г. Сам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2078640" y="5313960"/>
            <a:ext cx="46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ниципальные центры «Мой бизн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486000" y="5805360"/>
            <a:ext cx="28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Сызр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– сентябрь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5731920" y="5800320"/>
            <a:ext cx="28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– сентябрь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26"/>
          <p:cNvSpPr/>
          <p:nvPr/>
        </p:nvSpPr>
        <p:spPr>
          <a:xfrm>
            <a:off x="4428000" y="4797000"/>
            <a:ext cx="4715640" cy="158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Num" idx="11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03D959C-1B98-4F71-AFF8-F17B082F413E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258480" y="1052640"/>
            <a:ext cx="86414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ущественная поддержка М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1431000" y="1628640"/>
            <a:ext cx="20937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-инкуб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.о. 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s://biznes-63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6 руб./ кв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12" descr=""/>
          <p:cNvPicPr/>
          <p:nvPr/>
        </p:nvPicPr>
        <p:blipFill>
          <a:blip r:embed="rId1"/>
          <a:stretch/>
        </p:blipFill>
        <p:spPr>
          <a:xfrm>
            <a:off x="531000" y="1628640"/>
            <a:ext cx="854280" cy="719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5"/>
          <p:cNvSpPr/>
          <p:nvPr/>
        </p:nvSpPr>
        <p:spPr>
          <a:xfrm>
            <a:off x="5986800" y="1628640"/>
            <a:ext cx="23986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-инкуб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.о. Сам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://samarabiznes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30 руб./ кв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Рисунок 16" descr=""/>
          <p:cNvPicPr/>
          <p:nvPr/>
        </p:nvPicPr>
        <p:blipFill>
          <a:blip r:embed="rId3"/>
          <a:stretch/>
        </p:blipFill>
        <p:spPr>
          <a:xfrm>
            <a:off x="4892040" y="1628640"/>
            <a:ext cx="1076760" cy="107676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7"/>
          <p:cNvSpPr/>
          <p:nvPr/>
        </p:nvSpPr>
        <p:spPr>
          <a:xfrm>
            <a:off x="1430640" y="2997000"/>
            <a:ext cx="250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Технопар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Жигулевская доли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8" descr=""/>
          <p:cNvPicPr/>
          <p:nvPr/>
        </p:nvPicPr>
        <p:blipFill>
          <a:blip r:embed="rId4"/>
          <a:stretch/>
        </p:blipFill>
        <p:spPr>
          <a:xfrm>
            <a:off x="649080" y="3037320"/>
            <a:ext cx="648000" cy="6188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19"/>
          <p:cNvSpPr/>
          <p:nvPr/>
        </p:nvSpPr>
        <p:spPr>
          <a:xfrm>
            <a:off x="1431720" y="3543840"/>
            <a:ext cx="1843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://dolinatlt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1392480" y="3882600"/>
            <a:ext cx="2415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то строитель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парка «Жигулев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ина-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1"/>
          <p:cNvSpPr/>
          <p:nvPr/>
        </p:nvSpPr>
        <p:spPr>
          <a:xfrm>
            <a:off x="5984280" y="3037320"/>
            <a:ext cx="2508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Индустриальный пар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Чапае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ОСЭ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5969520" y="3876120"/>
            <a:ext cx="280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http://i-parks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"/>
          <p:cNvPicPr/>
          <p:nvPr/>
        </p:nvPicPr>
        <p:blipFill>
          <a:blip r:embed="rId5"/>
          <a:stretch/>
        </p:blipFill>
        <p:spPr>
          <a:xfrm>
            <a:off x="4892040" y="3020040"/>
            <a:ext cx="1137600" cy="91116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22"/>
          <p:cNvSpPr/>
          <p:nvPr/>
        </p:nvSpPr>
        <p:spPr>
          <a:xfrm>
            <a:off x="1397520" y="4869000"/>
            <a:ext cx="1862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ОСЭР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1417680" y="5207760"/>
            <a:ext cx="219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http://www.invest.tgl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8"/>
          <p:cNvSpPr/>
          <p:nvPr/>
        </p:nvSpPr>
        <p:spPr>
          <a:xfrm>
            <a:off x="4500000" y="4893120"/>
            <a:ext cx="4277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имущества резидента ТОСЭ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недвижимое имущество: 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прибыль – 2% – 5 л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% – 6-10 лет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землю: 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ховые выплаты: 7,6% годо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25" descr=""/>
          <p:cNvPicPr/>
          <p:nvPr/>
        </p:nvPicPr>
        <p:blipFill>
          <a:blip r:embed="rId6"/>
          <a:stretch/>
        </p:blipFill>
        <p:spPr>
          <a:xfrm>
            <a:off x="671040" y="4869000"/>
            <a:ext cx="672120" cy="8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Num" idx="12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71F9FB5-B3B8-44DA-B073-CA2C18A9A386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258480" y="1052640"/>
            <a:ext cx="86414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 инфраструктуры поддержки 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533160" y="2485440"/>
            <a:ext cx="25707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стерство экономическог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я и инвестици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партамент разви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6) 263-43-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http://economy.samregio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Рисунок 5" descr=""/>
          <p:cNvPicPr/>
          <p:nvPr/>
        </p:nvPicPr>
        <p:blipFill>
          <a:blip r:embed="rId1"/>
          <a:stretch/>
        </p:blipFill>
        <p:spPr>
          <a:xfrm>
            <a:off x="1458360" y="1750320"/>
            <a:ext cx="650880" cy="71100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8"/>
          <p:cNvSpPr/>
          <p:nvPr/>
        </p:nvSpPr>
        <p:spPr>
          <a:xfrm>
            <a:off x="3402360" y="2485440"/>
            <a:ext cx="22510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КУ С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о-консалтинговое агентство Самарской област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+7 927 900 40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+7 927 900 40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ikaso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63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9" descr=""/>
          <p:cNvPicPr/>
          <p:nvPr/>
        </p:nvPicPr>
        <p:blipFill>
          <a:blip r:embed="rId2"/>
          <a:stretch/>
        </p:blipFill>
        <p:spPr>
          <a:xfrm>
            <a:off x="4113360" y="1871280"/>
            <a:ext cx="931680" cy="5896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0"/>
          <p:cNvSpPr/>
          <p:nvPr/>
        </p:nvSpPr>
        <p:spPr>
          <a:xfrm>
            <a:off x="5868000" y="2577600"/>
            <a:ext cx="295200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О Микрокредитная комп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Гарантийный фон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» (АО«ГФСО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 (846) 989-50-77 (Сама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82) 555-219 (Тольят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gfso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11" descr=""/>
          <p:cNvPicPr/>
          <p:nvPr/>
        </p:nvPicPr>
        <p:blipFill>
          <a:blip r:embed="rId3"/>
          <a:stretch/>
        </p:blipFill>
        <p:spPr>
          <a:xfrm>
            <a:off x="6605640" y="2105640"/>
            <a:ext cx="1476720" cy="3290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2"/>
          <p:cNvSpPr/>
          <p:nvPr/>
        </p:nvSpPr>
        <p:spPr>
          <a:xfrm>
            <a:off x="452880" y="5077800"/>
            <a:ext cx="27439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нд «Региональный 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я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6) 205 71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fond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samara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13" descr=""/>
          <p:cNvPicPr/>
          <p:nvPr/>
        </p:nvPicPr>
        <p:blipFill>
          <a:blip r:embed="rId4"/>
          <a:stretch/>
        </p:blipFill>
        <p:spPr>
          <a:xfrm>
            <a:off x="1389240" y="4293360"/>
            <a:ext cx="789120" cy="78372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14"/>
          <p:cNvSpPr/>
          <p:nvPr/>
        </p:nvSpPr>
        <p:spPr>
          <a:xfrm>
            <a:off x="3330000" y="5077800"/>
            <a:ext cx="249840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к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6) 205-71-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rus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63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15" descr=""/>
          <p:cNvPicPr/>
          <p:nvPr/>
        </p:nvPicPr>
        <p:blipFill>
          <a:blip r:embed="rId5"/>
          <a:stretch/>
        </p:blipFill>
        <p:spPr>
          <a:xfrm>
            <a:off x="4065840" y="4291200"/>
            <a:ext cx="924120" cy="7858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6"/>
          <p:cNvSpPr/>
          <p:nvPr/>
        </p:nvSpPr>
        <p:spPr>
          <a:xfrm>
            <a:off x="6309360" y="5077800"/>
            <a:ext cx="20696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парк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Жигулевская долина» (Тольят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82) 93 00 93 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dolinatlt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18" descr=""/>
          <p:cNvPicPr/>
          <p:nvPr/>
        </p:nvPicPr>
        <p:blipFill>
          <a:blip r:embed="rId6"/>
          <a:stretch/>
        </p:blipFill>
        <p:spPr>
          <a:xfrm>
            <a:off x="7020360" y="4458600"/>
            <a:ext cx="6480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Num" idx="13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A99E9C8-6A5C-44B9-9512-F35710B05893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"/>
          <p:cNvSpPr/>
          <p:nvPr/>
        </p:nvSpPr>
        <p:spPr>
          <a:xfrm>
            <a:off x="3084120" y="1052640"/>
            <a:ext cx="58388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е бизнеса и органов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222480" y="3107160"/>
            <a:ext cx="33130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ору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Линия успеха» (ма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орум развития моногор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орум молодеж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в конце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203400" y="4975560"/>
            <a:ext cx="30463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тратегические се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 вопросам развития МС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апрель 2019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юль 2019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ентябрь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6" descr=""/>
          <p:cNvPicPr/>
          <p:nvPr/>
        </p:nvPicPr>
        <p:blipFill>
          <a:blip r:embed="rId1"/>
          <a:stretch/>
        </p:blipFill>
        <p:spPr>
          <a:xfrm>
            <a:off x="0" y="908640"/>
            <a:ext cx="3081240" cy="205416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7"/>
          <p:cNvSpPr/>
          <p:nvPr/>
        </p:nvSpPr>
        <p:spPr>
          <a:xfrm>
            <a:off x="3924000" y="1556640"/>
            <a:ext cx="457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щественный совет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и министерстве экономического развития и инвестиций 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3890880" y="2565000"/>
            <a:ext cx="457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изнес-завтра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кое сообщество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 представителями органов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3876480" y="3573000"/>
            <a:ext cx="45716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siness&amp;Talks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(Бизнес с толк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Дискусионные площадки о бизнесе и для бизнеса в муниципальных образова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3872160" y="4869000"/>
            <a:ext cx="45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крытые диалоги с вла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в формате: вопрос-отв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3876480" y="5661360"/>
            <a:ext cx="45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ормирование бизнес-сообществ для решения профессиональных вопро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Num" idx="14"/>
          </p:nvPr>
        </p:nvSpPr>
        <p:spPr>
          <a:xfrm>
            <a:off x="8629560" y="649296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8FDD40F-76AF-4B59-A475-89DB9E2F437B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1"/>
          <p:cNvSpPr/>
          <p:nvPr/>
        </p:nvSpPr>
        <p:spPr>
          <a:xfrm>
            <a:off x="561960" y="0"/>
            <a:ext cx="8568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ый и средний бизнес 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0"/>
          <p:cNvSpPr/>
          <p:nvPr/>
        </p:nvSpPr>
        <p:spPr>
          <a:xfrm>
            <a:off x="0" y="451080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552480" y="1897920"/>
            <a:ext cx="2038680" cy="21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823760" y="1072080"/>
            <a:ext cx="6242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Целевые показатели для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384560" y="2192760"/>
            <a:ext cx="381384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Численность занятых в сфере мало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и среднего предпринимательств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в Самарской обла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384560" y="3275640"/>
            <a:ext cx="3851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Доля малого и среднего предпринима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тельства в ВР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1384560" y="3992400"/>
            <a:ext cx="3888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Доля экспортеров, являющихся субъекта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ми малого и среднего предприниматель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ства, включая индивидуальных предпринимателей, в общем объеме несырьевого экспор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384560" y="5446800"/>
            <a:ext cx="38516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Финансовое обеспе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2"/>
          <p:cNvSpPr/>
          <p:nvPr/>
        </p:nvSpPr>
        <p:spPr>
          <a:xfrm>
            <a:off x="5399640" y="246240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трелка вправо 13"/>
          <p:cNvSpPr/>
          <p:nvPr/>
        </p:nvSpPr>
        <p:spPr>
          <a:xfrm>
            <a:off x="5388120" y="346680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4"/>
          <p:cNvSpPr/>
          <p:nvPr/>
        </p:nvSpPr>
        <p:spPr>
          <a:xfrm>
            <a:off x="5399640" y="447156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трелка вправо 15"/>
          <p:cNvSpPr/>
          <p:nvPr/>
        </p:nvSpPr>
        <p:spPr>
          <a:xfrm>
            <a:off x="5399640" y="548532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5355720" y="1981080"/>
            <a:ext cx="1205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к 2024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6660720" y="2251080"/>
            <a:ext cx="198108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0000"/>
              </a:lnSpc>
            </a:pPr>
            <a:r>
              <a:rPr b="1" lang="ru-RU" sz="5400" spc="-151" strike="noStrike">
                <a:solidFill>
                  <a:srgbClr val="1f497d"/>
                </a:solidFill>
                <a:latin typeface="Arial Black"/>
                <a:ea typeface="Tahoma"/>
              </a:rPr>
              <a:t>535</a:t>
            </a:r>
            <a:r>
              <a:rPr b="1" lang="en-US" sz="20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тыс.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6656040" y="5248800"/>
            <a:ext cx="18284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0000"/>
              </a:lnSpc>
            </a:pPr>
            <a:r>
              <a:rPr b="1" lang="ru-RU" sz="3600" spc="-151" strike="noStrike">
                <a:solidFill>
                  <a:srgbClr val="1f497d"/>
                </a:solidFill>
                <a:latin typeface="Arial Black"/>
                <a:ea typeface="Tahoma"/>
              </a:rPr>
              <a:t>2671,6</a:t>
            </a:r>
            <a:r>
              <a:rPr b="1" lang="en-US" sz="20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6768000" y="3401640"/>
            <a:ext cx="199836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0000"/>
              </a:lnSpc>
            </a:pPr>
            <a:r>
              <a:rPr b="1" lang="ru-RU" sz="5400" spc="-151" strike="noStrike">
                <a:solidFill>
                  <a:srgbClr val="1f497d"/>
                </a:solidFill>
                <a:latin typeface="Arial Black"/>
                <a:ea typeface="Tahoma"/>
              </a:rPr>
              <a:t>32,5</a:t>
            </a:r>
            <a:r>
              <a:rPr b="1" lang="ru-RU" sz="4400" spc="-1" strike="noStrike">
                <a:solidFill>
                  <a:srgbClr val="1f497d"/>
                </a:solidFill>
                <a:latin typeface="Arial Black"/>
                <a:ea typeface="Tahoma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6680880" y="4353480"/>
            <a:ext cx="144972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0000"/>
              </a:lnSpc>
            </a:pPr>
            <a:r>
              <a:rPr b="1" lang="en-US" sz="5400" spc="-151" strike="noStrike">
                <a:solidFill>
                  <a:srgbClr val="1f497d"/>
                </a:solidFill>
                <a:latin typeface="Arial Black"/>
                <a:ea typeface="Tahoma"/>
              </a:rPr>
              <a:t>10</a:t>
            </a:r>
            <a:r>
              <a:rPr b="1" lang="ru-RU" sz="4400" spc="-1" strike="noStrike">
                <a:solidFill>
                  <a:srgbClr val="1f497d"/>
                </a:solidFill>
                <a:latin typeface="Arial Black"/>
                <a:ea typeface="Tahoma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2" descr=""/>
          <p:cNvPicPr/>
          <p:nvPr/>
        </p:nvPicPr>
        <p:blipFill>
          <a:blip r:embed="rId2"/>
          <a:stretch/>
        </p:blipFill>
        <p:spPr>
          <a:xfrm>
            <a:off x="364320" y="2162520"/>
            <a:ext cx="866520" cy="847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3" descr=""/>
          <p:cNvPicPr/>
          <p:nvPr/>
        </p:nvPicPr>
        <p:blipFill>
          <a:blip r:embed="rId3"/>
          <a:stretch/>
        </p:blipFill>
        <p:spPr>
          <a:xfrm>
            <a:off x="364320" y="3121920"/>
            <a:ext cx="866520" cy="8474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4" descr=""/>
          <p:cNvPicPr/>
          <p:nvPr/>
        </p:nvPicPr>
        <p:blipFill>
          <a:blip r:embed="rId4"/>
          <a:stretch/>
        </p:blipFill>
        <p:spPr>
          <a:xfrm>
            <a:off x="364320" y="4163760"/>
            <a:ext cx="866520" cy="8474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5" descr=""/>
          <p:cNvPicPr/>
          <p:nvPr/>
        </p:nvPicPr>
        <p:blipFill>
          <a:blip r:embed="rId5"/>
          <a:stretch/>
        </p:blipFill>
        <p:spPr>
          <a:xfrm>
            <a:off x="364320" y="5173560"/>
            <a:ext cx="866520" cy="84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7C93-81D5-4D3D-A4A4-2C8092193F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9"/>
          <p:cNvSpPr/>
          <p:nvPr/>
        </p:nvSpPr>
        <p:spPr>
          <a:xfrm>
            <a:off x="0" y="5598720"/>
            <a:ext cx="9143640" cy="903960"/>
          </a:xfrm>
          <a:prstGeom prst="rect">
            <a:avLst/>
          </a:prstGeom>
          <a:solidFill>
            <a:srgbClr val="99ffcc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8034840" y="559872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нутый угол 51"/>
          <p:cNvSpPr/>
          <p:nvPr/>
        </p:nvSpPr>
        <p:spPr>
          <a:xfrm>
            <a:off x="0" y="5598720"/>
            <a:ext cx="54356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323640" y="5826600"/>
            <a:ext cx="4824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Популяризация предприниматель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5"/>
          <p:cNvSpPr/>
          <p:nvPr/>
        </p:nvSpPr>
        <p:spPr>
          <a:xfrm>
            <a:off x="-18720" y="4716720"/>
            <a:ext cx="9138600" cy="903960"/>
          </a:xfrm>
          <a:prstGeom prst="rect">
            <a:avLst/>
          </a:prstGeom>
          <a:solidFill>
            <a:srgbClr val="ffcccc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757800" y="472536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нутый угол 47"/>
          <p:cNvSpPr/>
          <p:nvPr/>
        </p:nvSpPr>
        <p:spPr>
          <a:xfrm flipH="1">
            <a:off x="2715840" y="4708800"/>
            <a:ext cx="64220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3039120" y="4829040"/>
            <a:ext cx="5972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Создание системы поддержки фермеров и развитие сельской кооп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2"/>
          <p:cNvSpPr/>
          <p:nvPr/>
        </p:nvSpPr>
        <p:spPr>
          <a:xfrm>
            <a:off x="0" y="3798720"/>
            <a:ext cx="9143640" cy="903960"/>
          </a:xfrm>
          <a:prstGeom prst="rect">
            <a:avLst/>
          </a:prstGeom>
          <a:solidFill>
            <a:srgbClr val="ff0000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8" name="TextBox 44"/>
          <p:cNvSpPr/>
          <p:nvPr/>
        </p:nvSpPr>
        <p:spPr>
          <a:xfrm>
            <a:off x="8032320" y="374472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нутый угол 43"/>
          <p:cNvSpPr/>
          <p:nvPr/>
        </p:nvSpPr>
        <p:spPr>
          <a:xfrm>
            <a:off x="-13680" y="3798720"/>
            <a:ext cx="544932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258840" y="3934080"/>
            <a:ext cx="517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Акселерация субъектов малого и среднего предприниматель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0" y="2853360"/>
            <a:ext cx="9143640" cy="9450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TextBox 41"/>
          <p:cNvSpPr/>
          <p:nvPr/>
        </p:nvSpPr>
        <p:spPr>
          <a:xfrm>
            <a:off x="777240" y="283356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нутый угол 40"/>
          <p:cNvSpPr/>
          <p:nvPr/>
        </p:nvSpPr>
        <p:spPr>
          <a:xfrm flipH="1">
            <a:off x="2717280" y="2853360"/>
            <a:ext cx="64256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3060000" y="2959560"/>
            <a:ext cx="60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Расширение доступа субъектов МСП к финансовым ресурсам, в том числе к льготному финансировани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0" y="1772640"/>
            <a:ext cx="9143640" cy="1089360"/>
          </a:xfrm>
          <a:prstGeom prst="rect">
            <a:avLst/>
          </a:prstGeom>
          <a:solidFill>
            <a:srgbClr val="0070c0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7964280" y="178236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нутый угол 4"/>
          <p:cNvSpPr/>
          <p:nvPr/>
        </p:nvSpPr>
        <p:spPr>
          <a:xfrm>
            <a:off x="0" y="1782360"/>
            <a:ext cx="54356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323640" y="1888920"/>
            <a:ext cx="56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Улучшение условий ведения предпринимательской 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Num" idx="6"/>
          </p:nvPr>
        </p:nvSpPr>
        <p:spPr>
          <a:xfrm>
            <a:off x="8100360" y="650340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1836C10-2EB2-4A1C-B3F6-B13BAC3CC4C9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4"/>
          <p:cNvSpPr/>
          <p:nvPr/>
        </p:nvSpPr>
        <p:spPr>
          <a:xfrm>
            <a:off x="3075840" y="1380960"/>
            <a:ext cx="3212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5 федераль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8"/>
          <p:cNvSpPr/>
          <p:nvPr/>
        </p:nvSpPr>
        <p:spPr>
          <a:xfrm>
            <a:off x="1401480" y="980640"/>
            <a:ext cx="656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Федеральные проекты националь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7640" y="4530240"/>
            <a:ext cx="863640" cy="770760"/>
          </a:xfrm>
          <a:prstGeom prst="rect">
            <a:avLst/>
          </a:prstGeom>
          <a:ln w="0">
            <a:noFill/>
          </a:ln>
        </p:spPr>
      </p:pic>
      <p:sp>
        <p:nvSpPr>
          <p:cNvPr id="145" name="Выноска 1 21"/>
          <p:cNvSpPr/>
          <p:nvPr/>
        </p:nvSpPr>
        <p:spPr>
          <a:xfrm>
            <a:off x="5652000" y="4221000"/>
            <a:ext cx="3432240" cy="2268720"/>
          </a:xfrm>
          <a:prstGeom prst="borderCallout1">
            <a:avLst>
              <a:gd name="adj1" fmla="val 21237"/>
              <a:gd name="adj2" fmla="val 516"/>
              <a:gd name="adj3" fmla="val 9651"/>
              <a:gd name="adj4" fmla="val -12197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6" name="Выноска 1 20"/>
          <p:cNvSpPr/>
          <p:nvPr/>
        </p:nvSpPr>
        <p:spPr>
          <a:xfrm>
            <a:off x="5996520" y="2172240"/>
            <a:ext cx="2936520" cy="1367640"/>
          </a:xfrm>
          <a:prstGeom prst="borderCallout1">
            <a:avLst>
              <a:gd name="adj1" fmla="val 25015"/>
              <a:gd name="adj2" fmla="val -739"/>
              <a:gd name="adj3" fmla="val 65159"/>
              <a:gd name="adj4" fmla="val -21290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7" name="Выноска 1 19"/>
          <p:cNvSpPr/>
          <p:nvPr/>
        </p:nvSpPr>
        <p:spPr>
          <a:xfrm>
            <a:off x="107640" y="4221000"/>
            <a:ext cx="2777040" cy="1367640"/>
          </a:xfrm>
          <a:prstGeom prst="borderCallout1">
            <a:avLst>
              <a:gd name="adj1" fmla="val 27104"/>
              <a:gd name="adj2" fmla="val 100088"/>
              <a:gd name="adj3" fmla="val 1805"/>
              <a:gd name="adj4" fmla="val 122063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8" name="Выноска 1 2"/>
          <p:cNvSpPr/>
          <p:nvPr/>
        </p:nvSpPr>
        <p:spPr>
          <a:xfrm>
            <a:off x="107640" y="2133000"/>
            <a:ext cx="2777040" cy="1367640"/>
          </a:xfrm>
          <a:prstGeom prst="borderCallout1">
            <a:avLst>
              <a:gd name="adj1" fmla="val 27104"/>
              <a:gd name="adj2" fmla="val 100088"/>
              <a:gd name="adj3" fmla="val 65855"/>
              <a:gd name="adj4" fmla="val 122749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28"/>
          <p:cNvGrpSpPr/>
          <p:nvPr/>
        </p:nvGrpSpPr>
        <p:grpSpPr>
          <a:xfrm>
            <a:off x="3317040" y="2277000"/>
            <a:ext cx="2232000" cy="2448000"/>
            <a:chOff x="3317040" y="2277000"/>
            <a:chExt cx="2232000" cy="2448000"/>
          </a:xfrm>
        </p:grpSpPr>
        <p:sp>
          <p:nvSpPr>
            <p:cNvPr id="152" name="Овал 3"/>
            <p:cNvSpPr/>
            <p:nvPr/>
          </p:nvSpPr>
          <p:spPr>
            <a:xfrm>
              <a:off x="3317040" y="2493000"/>
              <a:ext cx="2232000" cy="223200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3" name="TextBox 6"/>
            <p:cNvSpPr/>
            <p:nvPr/>
          </p:nvSpPr>
          <p:spPr>
            <a:xfrm>
              <a:off x="3535200" y="3789000"/>
              <a:ext cx="183492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Неуверен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в собственных</a:t>
              </a:r>
              <a:br>
                <a:rPr sz="1600"/>
              </a:b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сил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Рисунок 27" descr=""/>
            <p:cNvPicPr/>
            <p:nvPr/>
          </p:nvPicPr>
          <p:blipFill>
            <a:blip r:embed="rId4"/>
            <a:stretch/>
          </p:blipFill>
          <p:spPr>
            <a:xfrm>
              <a:off x="4090680" y="2277000"/>
              <a:ext cx="653400" cy="1517040"/>
            </a:xfrm>
            <a:prstGeom prst="rect">
              <a:avLst/>
            </a:prstGeom>
            <a:ln w="0">
              <a:noFill/>
            </a:ln>
            <a:effectLst>
              <a:outerShdw algn="bl" blurRad="76320" dir="0" kx="-1200000" rotWithShape="0" sy="23000">
                <a:srgbClr val="000000">
                  <a:alpha val="20000"/>
                </a:srgbClr>
              </a:outerShdw>
            </a:effectLst>
          </p:spPr>
        </p:pic>
      </p:grpSp>
      <p:sp>
        <p:nvSpPr>
          <p:cNvPr id="155" name="TextBox 32"/>
          <p:cNvSpPr/>
          <p:nvPr/>
        </p:nvSpPr>
        <p:spPr>
          <a:xfrm>
            <a:off x="892440" y="4612680"/>
            <a:ext cx="199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Наставничеств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менто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1296000" y="1052640"/>
            <a:ext cx="6933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а малого и среднего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834120" y="2255760"/>
            <a:ext cx="21776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Образова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ограммы для </a:t>
            </a:r>
            <a:br>
              <a:rPr sz="1600"/>
            </a:b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отенци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едприним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67640" y="2277000"/>
            <a:ext cx="22374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оек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«Професси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едприниматель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«История успе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35000" y="2504160"/>
            <a:ext cx="735480" cy="562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4" descr=""/>
          <p:cNvPicPr/>
          <p:nvPr/>
        </p:nvPicPr>
        <p:blipFill>
          <a:blip r:embed="rId7"/>
          <a:stretch/>
        </p:blipFill>
        <p:spPr>
          <a:xfrm>
            <a:off x="6033240" y="2461680"/>
            <a:ext cx="770760" cy="7102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5"/>
          <p:cNvSpPr/>
          <p:nvPr/>
        </p:nvSpPr>
        <p:spPr>
          <a:xfrm>
            <a:off x="6391800" y="4324680"/>
            <a:ext cx="27518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Tahoma"/>
              </a:rPr>
              <a:t>Конкурс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Tahoma"/>
              </a:rPr>
              <a:t>«Мама-предпринима-тель», «Экспортер года», «Молодой предприни-матель России», «Лучший предприни-мате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9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saturation colorTemp="15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5724000" y="4574520"/>
            <a:ext cx="743040" cy="7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E8C4-4186-45DD-BF0F-1566D45A3B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Num" idx="7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52AC302-2665-45FB-AC64-A8C60D3D3E42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" descr=""/>
          <p:cNvPicPr/>
          <p:nvPr/>
        </p:nvPicPr>
        <p:blipFill>
          <a:blip r:embed="rId2"/>
          <a:stretch/>
        </p:blipFill>
        <p:spPr>
          <a:xfrm>
            <a:off x="0" y="4869000"/>
            <a:ext cx="3713400" cy="1685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3"/>
          <a:stretch/>
        </p:blipFill>
        <p:spPr>
          <a:xfrm>
            <a:off x="0" y="1824480"/>
            <a:ext cx="4427640" cy="2951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4"/>
          <a:stretch/>
        </p:blipFill>
        <p:spPr>
          <a:xfrm>
            <a:off x="4572000" y="1824480"/>
            <a:ext cx="4573800" cy="2951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1406520" y="937440"/>
            <a:ext cx="70758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оект «Профессия – предпринимате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(экскурсии на частные предприятия Самарской об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9" descr=""/>
          <p:cNvPicPr/>
          <p:nvPr/>
        </p:nvPicPr>
        <p:blipFill>
          <a:blip r:embed="rId5"/>
          <a:stretch/>
        </p:blipFill>
        <p:spPr>
          <a:xfrm>
            <a:off x="3841560" y="4869000"/>
            <a:ext cx="2530080" cy="16858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"/>
          <p:cNvPicPr/>
          <p:nvPr/>
        </p:nvPicPr>
        <p:blipFill>
          <a:blip r:embed="rId6"/>
          <a:stretch/>
        </p:blipFill>
        <p:spPr>
          <a:xfrm>
            <a:off x="6516360" y="4869000"/>
            <a:ext cx="2525040" cy="16858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3"/>
          <p:cNvSpPr/>
          <p:nvPr/>
        </p:nvSpPr>
        <p:spPr>
          <a:xfrm>
            <a:off x="2627640" y="2853000"/>
            <a:ext cx="3600000" cy="2304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3201120" y="4005000"/>
            <a:ext cx="24534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более 600 зая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 у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2918520" y="3213000"/>
            <a:ext cx="3057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о </a:t>
            </a:r>
            <a:br>
              <a:rPr sz="18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экскурсионных ту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1869120"/>
            <a:ext cx="5775120" cy="27115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4"/>
          <p:cNvSpPr/>
          <p:nvPr/>
        </p:nvSpPr>
        <p:spPr>
          <a:xfrm>
            <a:off x="167760" y="920880"/>
            <a:ext cx="8977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уляризация предпринимательств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 камп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6165360" y="2011680"/>
            <a:ext cx="2617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«Истории успе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6139800" y="2719440"/>
            <a:ext cx="30056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://molpred63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4"/>
              </a:rPr>
              <a:t>istorii-uspeha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18"/>
          <p:cNvGrpSpPr/>
          <p:nvPr/>
        </p:nvGrpSpPr>
        <p:grpSpPr>
          <a:xfrm>
            <a:off x="4788000" y="4005000"/>
            <a:ext cx="4355640" cy="2512800"/>
            <a:chOff x="4788000" y="4005000"/>
            <a:chExt cx="4355640" cy="2512800"/>
          </a:xfrm>
        </p:grpSpPr>
        <p:sp>
          <p:nvSpPr>
            <p:cNvPr id="182" name="Прямоугольник 17"/>
            <p:cNvSpPr/>
            <p:nvPr/>
          </p:nvSpPr>
          <p:spPr>
            <a:xfrm>
              <a:off x="4788000" y="4005000"/>
              <a:ext cx="4355640" cy="251280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pic>
          <p:nvPicPr>
            <p:cNvPr id="183" name="Рисунок 12" descr=""/>
            <p:cNvPicPr/>
            <p:nvPr/>
          </p:nvPicPr>
          <p:blipFill>
            <a:blip r:embed="rId6"/>
            <a:stretch/>
          </p:blipFill>
          <p:spPr>
            <a:xfrm>
              <a:off x="4944600" y="4149000"/>
              <a:ext cx="4199040" cy="236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Box 19"/>
          <p:cNvSpPr/>
          <p:nvPr/>
        </p:nvSpPr>
        <p:spPr>
          <a:xfrm>
            <a:off x="518040" y="4995000"/>
            <a:ext cx="4114440" cy="10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Проект «Бизнес – это прост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на ВГТРК Россия (Сама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7"/>
              </a:rPr>
              <a:t>https://tvsamara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E9FA-8EC9-47DE-9A78-77CDB30039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9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21000" y="2341080"/>
            <a:ext cx="767880" cy="846360"/>
          </a:xfrm>
          <a:prstGeom prst="rect">
            <a:avLst/>
          </a:prstGeom>
          <a:ln w="0">
            <a:noFill/>
          </a:ln>
        </p:spPr>
      </p:pic>
      <p:sp>
        <p:nvSpPr>
          <p:cNvPr id="186" name="Выноска 1 21"/>
          <p:cNvSpPr/>
          <p:nvPr/>
        </p:nvSpPr>
        <p:spPr>
          <a:xfrm>
            <a:off x="5947920" y="4043880"/>
            <a:ext cx="2880000" cy="1151640"/>
          </a:xfrm>
          <a:prstGeom prst="borderCallout1">
            <a:avLst>
              <a:gd name="adj1" fmla="val 25015"/>
              <a:gd name="adj2" fmla="val -739"/>
              <a:gd name="adj3" fmla="val 8168"/>
              <a:gd name="adj4" fmla="val -18054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7" name="Выноска 1 20"/>
          <p:cNvSpPr/>
          <p:nvPr/>
        </p:nvSpPr>
        <p:spPr>
          <a:xfrm>
            <a:off x="6027480" y="2172240"/>
            <a:ext cx="2864520" cy="1367640"/>
          </a:xfrm>
          <a:prstGeom prst="borderCallout1">
            <a:avLst>
              <a:gd name="adj1" fmla="val 25015"/>
              <a:gd name="adj2" fmla="val -739"/>
              <a:gd name="adj3" fmla="val 65159"/>
              <a:gd name="adj4" fmla="val -21290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8" name="Выноска 1 19"/>
          <p:cNvSpPr/>
          <p:nvPr/>
        </p:nvSpPr>
        <p:spPr>
          <a:xfrm>
            <a:off x="246240" y="3935880"/>
            <a:ext cx="2777040" cy="1146240"/>
          </a:xfrm>
          <a:prstGeom prst="borderCallout1">
            <a:avLst>
              <a:gd name="adj1" fmla="val 27104"/>
              <a:gd name="adj2" fmla="val 100088"/>
              <a:gd name="adj3" fmla="val 10856"/>
              <a:gd name="adj4" fmla="val 116233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9" name="Выноска 1 2"/>
          <p:cNvSpPr/>
          <p:nvPr/>
        </p:nvSpPr>
        <p:spPr>
          <a:xfrm>
            <a:off x="221760" y="2113560"/>
            <a:ext cx="2777040" cy="1367640"/>
          </a:xfrm>
          <a:prstGeom prst="borderCallout1">
            <a:avLst>
              <a:gd name="adj1" fmla="val 41724"/>
              <a:gd name="adj2" fmla="val 100088"/>
              <a:gd name="adj3" fmla="val 61678"/>
              <a:gd name="adj4" fmla="val 118977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3"/>
          <p:cNvSpPr/>
          <p:nvPr/>
        </p:nvSpPr>
        <p:spPr>
          <a:xfrm>
            <a:off x="3348000" y="2493000"/>
            <a:ext cx="2232000" cy="2232000"/>
          </a:xfrm>
          <a:prstGeom prst="ellipse">
            <a:avLst/>
          </a:prstGeom>
          <a:solidFill>
            <a:schemeClr val="bg1"/>
          </a:solidFill>
          <a:ln w="2857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3656160" y="3789000"/>
            <a:ext cx="1633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обходи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2"/>
          <p:cNvSpPr/>
          <p:nvPr/>
        </p:nvSpPr>
        <p:spPr>
          <a:xfrm>
            <a:off x="1021680" y="4217040"/>
            <a:ext cx="19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 аксел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0"/>
          <p:cNvSpPr/>
          <p:nvPr/>
        </p:nvSpPr>
        <p:spPr>
          <a:xfrm>
            <a:off x="1326960" y="1087560"/>
            <a:ext cx="6706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малого и среднего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9"/>
          <p:cNvSpPr/>
          <p:nvPr/>
        </p:nvSpPr>
        <p:spPr>
          <a:xfrm>
            <a:off x="864360" y="2259000"/>
            <a:ext cx="2121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Образова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ограммы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действующих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3"/>
          <p:cNvSpPr/>
          <p:nvPr/>
        </p:nvSpPr>
        <p:spPr>
          <a:xfrm>
            <a:off x="6798600" y="2382120"/>
            <a:ext cx="22374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онсультирование по всем аспектам ведения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4" descr=""/>
          <p:cNvPicPr/>
          <p:nvPr/>
        </p:nvPicPr>
        <p:blipFill>
          <a:blip r:embed="rId4"/>
          <a:stretch/>
        </p:blipFill>
        <p:spPr>
          <a:xfrm>
            <a:off x="165600" y="2504160"/>
            <a:ext cx="735480" cy="5623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5"/>
          <p:cNvSpPr/>
          <p:nvPr/>
        </p:nvSpPr>
        <p:spPr>
          <a:xfrm>
            <a:off x="7014600" y="4327560"/>
            <a:ext cx="180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Экспор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аксел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8" descr=""/>
          <p:cNvPicPr/>
          <p:nvPr/>
        </p:nvPicPr>
        <p:blipFill>
          <a:blip r:embed="rId5"/>
          <a:stretch/>
        </p:blipFill>
        <p:spPr>
          <a:xfrm>
            <a:off x="4051800" y="1945080"/>
            <a:ext cx="1017000" cy="1824480"/>
          </a:xfrm>
          <a:prstGeom prst="rect">
            <a:avLst/>
          </a:prstGeom>
          <a:ln w="0"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201" name="TextBox 1"/>
          <p:cNvSpPr/>
          <p:nvPr/>
        </p:nvSpPr>
        <p:spPr>
          <a:xfrm>
            <a:off x="5947920" y="5235840"/>
            <a:ext cx="2872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вод субъекта МС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эк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0600" y="5113080"/>
            <a:ext cx="3065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шение финансово-экономической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ъекта МС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3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111360" y="4387320"/>
            <a:ext cx="793080" cy="5112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7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61080" y="4217760"/>
            <a:ext cx="704880" cy="68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74ED-62DB-433F-A4C5-1C54410CBA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Выноска 1 21"/>
          <p:cNvSpPr/>
          <p:nvPr/>
        </p:nvSpPr>
        <p:spPr>
          <a:xfrm>
            <a:off x="5892480" y="1772640"/>
            <a:ext cx="2880000" cy="1295640"/>
          </a:xfrm>
          <a:prstGeom prst="borderCallout1">
            <a:avLst>
              <a:gd name="adj1" fmla="val 25015"/>
              <a:gd name="adj2" fmla="val -739"/>
              <a:gd name="adj3" fmla="val 69071"/>
              <a:gd name="adj4" fmla="val -30621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6" name="Выноска 1 20"/>
          <p:cNvSpPr/>
          <p:nvPr/>
        </p:nvSpPr>
        <p:spPr>
          <a:xfrm>
            <a:off x="139680" y="3565800"/>
            <a:ext cx="2788200" cy="852840"/>
          </a:xfrm>
          <a:prstGeom prst="borderCallout1">
            <a:avLst>
              <a:gd name="adj1" fmla="val 20550"/>
              <a:gd name="adj2" fmla="val 100024"/>
              <a:gd name="adj3" fmla="val 15627"/>
              <a:gd name="adj4" fmla="val 113739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7" name="Выноска 1 19"/>
          <p:cNvSpPr/>
          <p:nvPr/>
        </p:nvSpPr>
        <p:spPr>
          <a:xfrm>
            <a:off x="514440" y="5236560"/>
            <a:ext cx="3508560" cy="1056600"/>
          </a:xfrm>
          <a:prstGeom prst="borderCallout1">
            <a:avLst>
              <a:gd name="adj1" fmla="val -1735"/>
              <a:gd name="adj2" fmla="val 87399"/>
              <a:gd name="adj3" fmla="val -56201"/>
              <a:gd name="adj4" fmla="val 99228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8" name="Выноска 1 2"/>
          <p:cNvSpPr/>
          <p:nvPr/>
        </p:nvSpPr>
        <p:spPr>
          <a:xfrm>
            <a:off x="182160" y="1820880"/>
            <a:ext cx="2777040" cy="769680"/>
          </a:xfrm>
          <a:prstGeom prst="borderCallout1">
            <a:avLst>
              <a:gd name="adj1" fmla="val 41724"/>
              <a:gd name="adj2" fmla="val 100088"/>
              <a:gd name="adj3" fmla="val 112409"/>
              <a:gd name="adj4" fmla="val 128580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3"/>
          <p:cNvSpPr/>
          <p:nvPr/>
        </p:nvSpPr>
        <p:spPr>
          <a:xfrm>
            <a:off x="3276000" y="2493000"/>
            <a:ext cx="2232000" cy="2232000"/>
          </a:xfrm>
          <a:prstGeom prst="ellipse">
            <a:avLst/>
          </a:prstGeom>
          <a:solidFill>
            <a:schemeClr val="bg1"/>
          </a:solidFill>
          <a:ln w="2857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629160" y="3789000"/>
            <a:ext cx="1543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нансо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983960" y="1058400"/>
            <a:ext cx="5234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поддержка субъектов 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9"/>
          <p:cNvSpPr/>
          <p:nvPr/>
        </p:nvSpPr>
        <p:spPr>
          <a:xfrm>
            <a:off x="1032840" y="1913760"/>
            <a:ext cx="191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оста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микрозай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999720" y="3710160"/>
            <a:ext cx="19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оставление поручитель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5"/>
          <p:cNvSpPr/>
          <p:nvPr/>
        </p:nvSpPr>
        <p:spPr>
          <a:xfrm>
            <a:off x="6748920" y="1745640"/>
            <a:ext cx="20235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Субсидии субъектам 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в отдельных муниципальных образова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9" descr=""/>
          <p:cNvPicPr/>
          <p:nvPr/>
        </p:nvPicPr>
        <p:blipFill>
          <a:blip r:embed="rId2"/>
          <a:stretch/>
        </p:blipFill>
        <p:spPr>
          <a:xfrm>
            <a:off x="3351240" y="1917000"/>
            <a:ext cx="2099520" cy="2099520"/>
          </a:xfrm>
          <a:prstGeom prst="rect">
            <a:avLst/>
          </a:prstGeom>
          <a:ln w="0">
            <a:noFill/>
          </a:ln>
          <a:effectLst>
            <a:outerShdw algn="bl" blurRad="76320" dir="15063038" dist="202874" kx="-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218" name="Выноска 1 41"/>
          <p:cNvSpPr/>
          <p:nvPr/>
        </p:nvSpPr>
        <p:spPr>
          <a:xfrm>
            <a:off x="6012000" y="3556080"/>
            <a:ext cx="2880000" cy="1076760"/>
          </a:xfrm>
          <a:prstGeom prst="borderCallout1">
            <a:avLst>
              <a:gd name="adj1" fmla="val 25015"/>
              <a:gd name="adj2" fmla="val -739"/>
              <a:gd name="adj3" fmla="val 19835"/>
              <a:gd name="adj4" fmla="val -17724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9" name="TextBox 42"/>
          <p:cNvSpPr/>
          <p:nvPr/>
        </p:nvSpPr>
        <p:spPr>
          <a:xfrm>
            <a:off x="6868440" y="3556080"/>
            <a:ext cx="20235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Кредиты в бан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по программе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АО «Корпорация МСП» 8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Выноска 1 43"/>
          <p:cNvSpPr/>
          <p:nvPr/>
        </p:nvSpPr>
        <p:spPr>
          <a:xfrm>
            <a:off x="4880520" y="5236920"/>
            <a:ext cx="2880000" cy="1076760"/>
          </a:xfrm>
          <a:prstGeom prst="borderCallout1">
            <a:avLst>
              <a:gd name="adj1" fmla="val -2396"/>
              <a:gd name="adj2" fmla="val 9512"/>
              <a:gd name="adj3" fmla="val -54440"/>
              <a:gd name="adj4" fmla="val -4497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1" name="TextBox 44"/>
          <p:cNvSpPr/>
          <p:nvPr/>
        </p:nvSpPr>
        <p:spPr>
          <a:xfrm>
            <a:off x="5736960" y="5236560"/>
            <a:ext cx="20235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Финансирование инвест. проектов Фондом развития моного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7454880" y="4640760"/>
            <a:ext cx="1500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61 банк-партне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5"/>
          <p:cNvSpPr/>
          <p:nvPr/>
        </p:nvSpPr>
        <p:spPr>
          <a:xfrm>
            <a:off x="5911560" y="3069000"/>
            <a:ext cx="286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.о.Тольятти, г.о. Сама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6"/>
          <p:cNvSpPr/>
          <p:nvPr/>
        </p:nvSpPr>
        <p:spPr>
          <a:xfrm>
            <a:off x="206280" y="2585160"/>
            <a:ext cx="291384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о 5 000 000 руб., срок до 3 лет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7,5% годовых. Микрозаймы для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rt-up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оектов без залогового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беспечения до 500 тыс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161640" y="4418640"/>
            <a:ext cx="297000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азмер до 50% от суммы кредита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о 25 млн. руб., срок до 10 лет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ознаграждение от 0,5% до 0,75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1189800" y="5287680"/>
            <a:ext cx="2777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Консультационная поддержка по финансовым инструментам</a:t>
            </a:r>
            <a:br>
              <a:rPr sz="1400"/>
            </a:b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ля МСП («единое окно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7"/>
          <p:cNvSpPr/>
          <p:nvPr/>
        </p:nvSpPr>
        <p:spPr>
          <a:xfrm>
            <a:off x="7760880" y="5236560"/>
            <a:ext cx="1382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10 до 1000 млн. руб.,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0 до 5% годовых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рок до 15 л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48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23640" y="196848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9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32880" y="213804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0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166440" y="384012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1" descr="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23640" y="377928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6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20000" colorTemp="11200" contrast="-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076000" y="54828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2" descr=""/>
          <p:cNvPicPr/>
          <p:nvPr/>
        </p:nvPicPr>
        <p:blipFill>
          <a:blip r:embed="rId10">
            <a:extLst>
              <a:ext uri="{BEBA8EAE-BF5A-486C-A8C5-ECC9F3942E4B}">
                <a14:imgProps xmlns:a14="http://schemas.microsoft.com/office/drawing/2010/main">
                  <a14:imgLayer r:embed="rId11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88960" y="5418000"/>
            <a:ext cx="530640" cy="60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92BD-5A30-4B55-B055-9F19B9AC7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7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39640" y="1772640"/>
            <a:ext cx="1275480" cy="669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0"/>
          <p:cNvSpPr/>
          <p:nvPr/>
        </p:nvSpPr>
        <p:spPr>
          <a:xfrm>
            <a:off x="1710360" y="1058400"/>
            <a:ext cx="566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тимизация нормативной правовой б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"/>
          <p:cNvSpPr/>
          <p:nvPr/>
        </p:nvSpPr>
        <p:spPr>
          <a:xfrm>
            <a:off x="827640" y="2421000"/>
            <a:ext cx="324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штабный анализ и пересмотр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йствующих нормативно-правовых а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1630800" y="1784520"/>
            <a:ext cx="16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егулятор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ильо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1630080" y="3357000"/>
            <a:ext cx="1760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егулирую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8" descr=""/>
          <p:cNvPicPr/>
          <p:nvPr/>
        </p:nvPicPr>
        <p:blipFill>
          <a:blip r:embed="rId4"/>
          <a:stretch/>
        </p:blipFill>
        <p:spPr>
          <a:xfrm>
            <a:off x="924840" y="3499200"/>
            <a:ext cx="679680" cy="638640"/>
          </a:xfrm>
          <a:prstGeom prst="rect">
            <a:avLst/>
          </a:prstGeom>
          <a:ln w="0">
            <a:noFill/>
          </a:ln>
        </p:spPr>
      </p:pic>
      <p:sp>
        <p:nvSpPr>
          <p:cNvPr id="242" name="Равнобедренный треугольник 37"/>
          <p:cNvSpPr/>
          <p:nvPr/>
        </p:nvSpPr>
        <p:spPr>
          <a:xfrm rot="5400000">
            <a:off x="2823480" y="3750120"/>
            <a:ext cx="4032000" cy="376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5458680" y="2369520"/>
            <a:ext cx="36162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празднение НПА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тративших акт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Снижение нагрузки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су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малого и среднего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луч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инвестицио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лимата в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636920" y="4581000"/>
            <a:ext cx="2512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Национальная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инициа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827640" y="5360760"/>
            <a:ext cx="360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егулярные опросы предпринимателей Агентством стратегических инициатив (АСИ) для объективной оценки эффективности принимаемых мер по улучшению инвестиционного клима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18" descr=""/>
          <p:cNvPicPr/>
          <p:nvPr/>
        </p:nvPicPr>
        <p:blipFill>
          <a:blip r:embed="rId5"/>
          <a:stretch/>
        </p:blipFill>
        <p:spPr>
          <a:xfrm>
            <a:off x="947160" y="4761000"/>
            <a:ext cx="657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3346-5AA9-48DE-9D54-3554C1BC49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_ШАБЛОН_МЭР_СО - коп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_ШАБЛОН_МЭР_СО - коп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8</TotalTime>
  <Application>LibreOffice/7.4.7.2$Linux_X86_64 LibreOffice_project/40$Build-2</Application>
  <AppVersion>15.0000</AppVersion>
  <Words>992</Words>
  <Paragraphs>2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33:00Z</dcterms:created>
  <dc:creator>Реште</dc:creator>
  <dc:description/>
  <dc:language>en-US</dc:language>
  <cp:lastModifiedBy>Лисиченко </cp:lastModifiedBy>
  <cp:lastPrinted>2019-07-24T16:04:49Z</cp:lastPrinted>
  <dcterms:modified xsi:type="dcterms:W3CDTF">2019-07-24T17:10:23Z</dcterms:modified>
  <cp:revision>71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