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47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hdphoto2.wdp" ContentType="image/vnd.ms-photo"/>
  <Override PartName="/ppt/media/image12.png" ContentType="image/png"/>
  <Override PartName="/ppt/media/image28.png" ContentType="image/png"/>
  <Override PartName="/ppt/media/image1.wmf" ContentType="image/x-wmf"/>
  <Override PartName="/ppt/media/image52.png" ContentType="image/png"/>
  <Override PartName="/ppt/media/image51.png" ContentType="image/png"/>
  <Override PartName="/ppt/media/image49.jpeg" ContentType="image/jpeg"/>
  <Override PartName="/ppt/media/image50.png" ContentType="image/png"/>
  <Override PartName="/ppt/media/image35.png" ContentType="image/png"/>
  <Override PartName="/ppt/media/hdphoto5.wdp" ContentType="image/vnd.ms-photo"/>
  <Override PartName="/ppt/media/image22.png" ContentType="image/png"/>
  <Override PartName="/ppt/media/hdphoto4.wdp" ContentType="image/vnd.ms-photo"/>
  <Override PartName="/ppt/media/image21.png" ContentType="image/png"/>
  <Override PartName="/ppt/media/image15.jpeg" ContentType="image/jpeg"/>
  <Override PartName="/ppt/media/image13.jpeg" ContentType="image/jpeg"/>
  <Override PartName="/ppt/media/image44.png" ContentType="image/png"/>
  <Override PartName="/ppt/media/image53.jpeg" ContentType="image/jpeg"/>
  <Override PartName="/ppt/media/image23.png" ContentType="image/png"/>
  <Override PartName="/ppt/media/image33.png" ContentType="image/png"/>
  <Override PartName="/ppt/media/hdphoto3.wdp" ContentType="image/vnd.ms-photo"/>
  <Override PartName="/ppt/media/image20.png" ContentType="image/png"/>
  <Override PartName="/ppt/media/hdphoto6.wdp" ContentType="image/vnd.ms-photo"/>
  <Override PartName="/ppt/media/image36.png" ContentType="image/png"/>
  <Override PartName="/ppt/media/image19.jpeg" ContentType="image/jpeg"/>
  <Override PartName="/ppt/media/image25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hdphoto8.wdp" ContentType="image/vnd.ms-photo"/>
  <Override PartName="/ppt/media/image38.png" ContentType="image/png"/>
  <Override PartName="/ppt/media/image16.jpeg" ContentType="image/jpeg"/>
  <Override PartName="/ppt/media/image9.png" ContentType="image/png"/>
  <Override PartName="/ppt/media/image24.png" ContentType="image/png"/>
  <Override PartName="/ppt/media/image37.png" ContentType="image/png"/>
  <Override PartName="/ppt/media/hdphoto7.wdp" ContentType="image/vnd.ms-photo"/>
  <Override PartName="/ppt/media/image26.png" ContentType="image/png"/>
  <Override PartName="/ppt/media/image27.png" ContentType="image/png"/>
  <Override PartName="/ppt/media/image39.png" ContentType="image/png"/>
  <Override PartName="/ppt/media/hdphoto9.wdp" ContentType="image/vnd.ms-photo"/>
  <Override PartName="/ppt/media/hdphoto10.wdp" ContentType="image/vnd.ms-photo"/>
  <Override PartName="/ppt/media/image40.png" ContentType="image/png"/>
  <Override PartName="/ppt/media/image29.png" ContentType="image/png"/>
  <Override PartName="/ppt/media/image30.png" ContentType="image/png"/>
  <Override PartName="/ppt/media/hdphoto1.wdp" ContentType="image/vnd.ms-photo"/>
  <Override PartName="/ppt/media/image31.png" ContentType="image/png"/>
  <Override PartName="/ppt/media/hdphoto11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3919C-2105-46BC-83C9-18D6E16D7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5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1F93C0-0A25-476F-8A53-BE9214267C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693BD-C0ED-43CB-828A-7BF94A7395C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9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68AEBE-E029-4EBA-9FFB-C150E3E00A4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6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664EE0-030B-4C7E-8E34-8E4A832F362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7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F77ECF-5905-4DF8-AFA2-4F5FD3839D9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668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00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668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00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861B-2045-4430-AD66-2C3FD5079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5F25-0EAE-4B2D-B07C-B76307E6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9519-BBAF-44B9-B70F-53057A4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086A-C4FD-4B98-9DA3-06EAC122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3604-8B4C-41E9-956D-ADCB4EB0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E929-A72B-4A4C-9658-71BC1254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68AD-5965-42AF-A4F6-D32D455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59EE-8C03-4628-B253-7C20723C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8581-F5BE-4A38-9470-5873EE0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1BEA-6506-4EFB-81A0-C492457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D4CC-5ECC-497C-974D-7C290DA1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00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00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88C7-19CE-43B2-A248-BBD2CF015E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Прямая соединительная линия 9"/>
          <p:cNvCxnSpPr/>
          <p:nvPr/>
        </p:nvCxnSpPr>
        <p:spPr>
          <a:xfrm>
            <a:off x="0" y="6597000"/>
            <a:ext cx="6012360" cy="360"/>
          </a:xfrm>
          <a:prstGeom prst="straightConnector1">
            <a:avLst/>
          </a:prstGeom>
          <a:ln w="63500">
            <a:solidFill>
              <a:srgbClr val="0070c1"/>
            </a:solidFill>
            <a:round/>
          </a:ln>
        </p:spPr>
      </p:cxnSp>
      <p:sp>
        <p:nvSpPr>
          <p:cNvPr id="1" name="TextBox 4"/>
          <p:cNvSpPr/>
          <p:nvPr/>
        </p:nvSpPr>
        <p:spPr>
          <a:xfrm>
            <a:off x="2051640" y="6597360"/>
            <a:ext cx="597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инистерство экономического развития и инвестиц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Прямая соединительная линия 11"/>
          <p:cNvCxnSpPr/>
          <p:nvPr/>
        </p:nvCxnSpPr>
        <p:spPr>
          <a:xfrm>
            <a:off x="6012000" y="6597000"/>
            <a:ext cx="313236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8457840" cy="146952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 итогах и перспективах работы министерства экономического развития и инвестиций Самарской област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самара2"/>
          <p:cNvPicPr/>
          <p:nvPr/>
        </p:nvPicPr>
        <p:blipFill>
          <a:blip r:embed="rId2"/>
          <a:stretch/>
        </p:blipFill>
        <p:spPr>
          <a:xfrm>
            <a:off x="107640" y="44640"/>
            <a:ext cx="575640" cy="625680"/>
          </a:xfrm>
          <a:prstGeom prst="rect">
            <a:avLst/>
          </a:prstGeom>
          <a:ln w="0">
            <a:noFill/>
          </a:ln>
        </p:spPr>
      </p:pic>
      <p:cxnSp>
        <p:nvCxnSpPr>
          <p:cNvPr id="5" name="Прямая соединительная линия 5"/>
          <p:cNvCxnSpPr/>
          <p:nvPr/>
        </p:nvCxnSpPr>
        <p:spPr>
          <a:xfrm>
            <a:off x="683280" y="3284640"/>
            <a:ext cx="846108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6" name="Прямоугольник 3"/>
          <p:cNvSpPr/>
          <p:nvPr/>
        </p:nvSpPr>
        <p:spPr>
          <a:xfrm>
            <a:off x="2123640" y="6669360"/>
            <a:ext cx="5616360" cy="14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Прямая соединительная линия 9"/>
          <p:cNvCxnSpPr/>
          <p:nvPr/>
        </p:nvCxnSpPr>
        <p:spPr>
          <a:xfrm>
            <a:off x="0" y="6597000"/>
            <a:ext cx="6012360" cy="360"/>
          </a:xfrm>
          <a:prstGeom prst="straightConnector1">
            <a:avLst/>
          </a:prstGeom>
          <a:ln w="63500">
            <a:solidFill>
              <a:srgbClr val="0070c1"/>
            </a:solidFill>
            <a:round/>
          </a:ln>
        </p:spPr>
      </p:cxnSp>
      <p:sp>
        <p:nvSpPr>
          <p:cNvPr id="45" name="TextBox 4"/>
          <p:cNvSpPr/>
          <p:nvPr/>
        </p:nvSpPr>
        <p:spPr>
          <a:xfrm>
            <a:off x="2051640" y="6597360"/>
            <a:ext cx="597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инистерство экономического развития и инвестиц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единительная линия 11"/>
          <p:cNvCxnSpPr/>
          <p:nvPr/>
        </p:nvCxnSpPr>
        <p:spPr>
          <a:xfrm>
            <a:off x="6012000" y="6597000"/>
            <a:ext cx="313236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47" name="Заголовок 1"/>
          <p:cNvSpPr/>
          <p:nvPr/>
        </p:nvSpPr>
        <p:spPr>
          <a:xfrm>
            <a:off x="0" y="0"/>
            <a:ext cx="9143640" cy="76428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7" descr="самара2"/>
          <p:cNvPicPr/>
          <p:nvPr/>
        </p:nvPicPr>
        <p:blipFill>
          <a:blip r:embed="rId2"/>
          <a:stretch/>
        </p:blipFill>
        <p:spPr>
          <a:xfrm>
            <a:off x="107640" y="44640"/>
            <a:ext cx="575640" cy="625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7200" y="6513840"/>
            <a:ext cx="1378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2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8653C4F-80F5-410C-9464-8565328D0401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b05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microsoft.com/office/2007/relationships/hdphoto" Target="../media/hdphoto11.wdp"/><Relationship Id="rId8" Type="http://schemas.openxmlformats.org/officeDocument/2006/relationships/image" Target="../media/image41.pn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1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1.wdp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microsoft.com/office/2007/relationships/hdphoto" Target="../media/hdphoto2.wdp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microsoft.com/office/2007/relationships/hdphoto" Target="../media/hdphoto3.wdp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hyperlink" Target="http://molpred63.ru/istorii-uspeha/" TargetMode="External"/><Relationship Id="rId4" Type="http://schemas.openxmlformats.org/officeDocument/2006/relationships/hyperlink" Target="http://molpred63.ru/istorii-uspeha/" TargetMode="External"/><Relationship Id="rId5" Type="http://schemas.openxmlformats.org/officeDocument/2006/relationships/hyperlink" Target="http://molpred63.ru/istorii-uspeha/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s://tvsamara.ru/news/53404/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microsoft.com/office/2007/relationships/hdphoto" Target="../media/hdphoto4.wdp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microsoft.com/office/2007/relationships/hdphoto" Target="../media/hdphoto5.wdp"/><Relationship Id="rId8" Type="http://schemas.openxmlformats.org/officeDocument/2006/relationships/image" Target="../media/image23.png"/><Relationship Id="rId9" Type="http://schemas.microsoft.com/office/2007/relationships/hdphoto" Target="../media/hdphoto6.wdp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microsoft.com/office/2007/relationships/hdphoto" Target="../media/hdphoto7.wdp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microsoft.com/office/2007/relationships/hdphoto" Target="../media/hdphoto8.wdp"/><Relationship Id="rId10" Type="http://schemas.openxmlformats.org/officeDocument/2006/relationships/image" Target="../media/image27.png"/><Relationship Id="rId11" Type="http://schemas.microsoft.com/office/2007/relationships/hdphoto" Target="../media/hdphoto9.wdp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microsoft.com/office/2007/relationships/hdphoto" Target="../media/hdphoto10.wdp"/><Relationship Id="rId3" Type="http://schemas.openxmlformats.org/officeDocument/2006/relationships/image" Target="../media/image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3640" y="1484640"/>
            <a:ext cx="8460000" cy="168552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циональный проек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алое и среднее предпринимательств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ддержка индивидуальной предпринимательской инициативы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99640" y="3717000"/>
            <a:ext cx="618444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экономического развит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нвести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6"/>
          <p:cNvSpPr/>
          <p:nvPr/>
        </p:nvSpPr>
        <p:spPr>
          <a:xfrm>
            <a:off x="4572000" y="4797000"/>
            <a:ext cx="4312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ладчи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нистр экономического развит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нвестиций Сама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митрий Юрьевич Бог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27640" y="44640"/>
            <a:ext cx="600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Num" idx="8"/>
          </p:nvPr>
        </p:nvSpPr>
        <p:spPr>
          <a:xfrm>
            <a:off x="8188200" y="649296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35198B-6698-4419-867C-41D27AEE29C9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1337040" y="1072080"/>
            <a:ext cx="7214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о мерах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196640" y="1998000"/>
            <a:ext cx="28328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КУ СО «Информацион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алтинговое аген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ИКАС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3" descr=""/>
          <p:cNvPicPr/>
          <p:nvPr/>
        </p:nvPicPr>
        <p:blipFill>
          <a:blip r:embed="rId2"/>
          <a:stretch/>
        </p:blipFill>
        <p:spPr>
          <a:xfrm>
            <a:off x="251640" y="2118600"/>
            <a:ext cx="931680" cy="5896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1201680" y="3049920"/>
            <a:ext cx="347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7 927 900 40 65 (правовые вопрос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9"/>
          <p:cNvSpPr/>
          <p:nvPr/>
        </p:nvSpPr>
        <p:spPr>
          <a:xfrm>
            <a:off x="1184760" y="3306600"/>
            <a:ext cx="3489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7 927 900 40 66 (экономич. вопрос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0"/>
          <p:cNvSpPr/>
          <p:nvPr/>
        </p:nvSpPr>
        <p:spPr>
          <a:xfrm>
            <a:off x="1225440" y="3566160"/>
            <a:ext cx="206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www.ikaso63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"/>
          <p:cNvSpPr/>
          <p:nvPr/>
        </p:nvSpPr>
        <p:spPr>
          <a:xfrm>
            <a:off x="6189120" y="1998000"/>
            <a:ext cx="198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нави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11" descr=""/>
          <p:cNvPicPr/>
          <p:nvPr/>
        </p:nvPicPr>
        <p:blipFill>
          <a:blip r:embed="rId3"/>
          <a:stretch/>
        </p:blipFill>
        <p:spPr>
          <a:xfrm>
            <a:off x="5392800" y="2058120"/>
            <a:ext cx="732600" cy="7102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5"/>
          <p:cNvSpPr/>
          <p:nvPr/>
        </p:nvSpPr>
        <p:spPr>
          <a:xfrm>
            <a:off x="6189480" y="2473560"/>
            <a:ext cx="170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smbn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318680" y="4437000"/>
            <a:ext cx="234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йт поддержки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ния-успеха.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17" descr=""/>
          <p:cNvPicPr/>
          <p:nvPr/>
        </p:nvPicPr>
        <p:blipFill>
          <a:blip r:embed="rId4"/>
          <a:stretch/>
        </p:blipFill>
        <p:spPr>
          <a:xfrm>
            <a:off x="280080" y="440532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261" name="Равнобедренный треугольник 28"/>
          <p:cNvSpPr/>
          <p:nvPr/>
        </p:nvSpPr>
        <p:spPr>
          <a:xfrm rot="5400000">
            <a:off x="3845160" y="4804920"/>
            <a:ext cx="1457280" cy="250920"/>
          </a:xfrm>
          <a:prstGeom prst="triangle">
            <a:avLst>
              <a:gd name="adj" fmla="val 46733"/>
            </a:avLst>
          </a:prstGeom>
          <a:solidFill>
            <a:srgbClr val="ff0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29"/>
          <p:cNvSpPr/>
          <p:nvPr/>
        </p:nvSpPr>
        <p:spPr>
          <a:xfrm>
            <a:off x="6142680" y="4368240"/>
            <a:ext cx="25128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Единый порт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ддержки и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ybiz63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5"/>
          <a:stretch/>
        </p:blipFill>
        <p:spPr>
          <a:xfrm>
            <a:off x="5422680" y="436824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0"/>
          <p:cNvSpPr/>
          <p:nvPr/>
        </p:nvSpPr>
        <p:spPr>
          <a:xfrm>
            <a:off x="3947760" y="5786280"/>
            <a:ext cx="995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авгу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6177960" y="3040920"/>
            <a:ext cx="2806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йт УФНС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www.nalog.ru/rn6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логовые кальк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1" descr=""/>
          <p:cNvPicPr/>
          <p:nvPr/>
        </p:nvPicPr>
        <p:blipFill>
          <a:blip r:embed="rId6"/>
          <a:stretch/>
        </p:blipFill>
        <p:spPr>
          <a:xfrm>
            <a:off x="5422680" y="3075120"/>
            <a:ext cx="648000" cy="6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67760" y="920880"/>
            <a:ext cx="8370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изация предприниматель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0" y="2386080"/>
            <a:ext cx="7164000" cy="4041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2"/>
          <p:cNvSpPr/>
          <p:nvPr/>
        </p:nvSpPr>
        <p:spPr>
          <a:xfrm>
            <a:off x="2915640" y="1614600"/>
            <a:ext cx="279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1f497d"/>
                </a:solidFill>
                <a:uFillTx/>
                <a:latin typeface="Tahoma"/>
                <a:ea typeface="Tahoma"/>
              </a:rPr>
              <a:t>mybiz63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5724000" y="3789000"/>
            <a:ext cx="3419640" cy="26380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5853600" y="4077360"/>
            <a:ext cx="326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«Единая точка вх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лучения государ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дер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Информация обо все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мерах и институ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поддержк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7135-849D-4EE0-9263-EB56A71306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9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BF1753-0790-467E-8732-CC094B3C3FB4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4"/>
          <p:cNvSpPr/>
          <p:nvPr/>
        </p:nvSpPr>
        <p:spPr>
          <a:xfrm>
            <a:off x="1115640" y="947160"/>
            <a:ext cx="705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ый аккаунт для всех социальных 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6"/>
          <p:cNvSpPr/>
          <p:nvPr/>
        </p:nvSpPr>
        <p:spPr>
          <a:xfrm>
            <a:off x="3398760" y="1294560"/>
            <a:ext cx="249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1f497d"/>
                </a:solidFill>
                <a:uFillTx/>
                <a:latin typeface="Tahoma"/>
                <a:ea typeface="Tahoma"/>
              </a:rPr>
              <a:t>mybiz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31" descr=""/>
          <p:cNvPicPr/>
          <p:nvPr/>
        </p:nvPicPr>
        <p:blipFill>
          <a:blip r:embed="rId2"/>
          <a:stretch/>
        </p:blipFill>
        <p:spPr>
          <a:xfrm>
            <a:off x="251640" y="31060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32" descr=""/>
          <p:cNvPicPr/>
          <p:nvPr/>
        </p:nvPicPr>
        <p:blipFill>
          <a:blip r:embed="rId3"/>
          <a:stretch/>
        </p:blipFill>
        <p:spPr>
          <a:xfrm>
            <a:off x="284400" y="50526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3" descr=""/>
          <p:cNvPicPr/>
          <p:nvPr/>
        </p:nvPicPr>
        <p:blipFill>
          <a:blip r:embed="rId4"/>
          <a:stretch/>
        </p:blipFill>
        <p:spPr>
          <a:xfrm>
            <a:off x="251640" y="4079520"/>
            <a:ext cx="10796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82" name="Группа 37"/>
          <p:cNvGrpSpPr/>
          <p:nvPr/>
        </p:nvGrpSpPr>
        <p:grpSpPr>
          <a:xfrm>
            <a:off x="251640" y="2133000"/>
            <a:ext cx="1079640" cy="1079640"/>
            <a:chOff x="251640" y="2133000"/>
            <a:chExt cx="1079640" cy="1079640"/>
          </a:xfrm>
        </p:grpSpPr>
        <p:pic>
          <p:nvPicPr>
            <p:cNvPr id="283" name="Рисунок 35" descr=""/>
            <p:cNvPicPr/>
            <p:nvPr/>
          </p:nvPicPr>
          <p:blipFill>
            <a:blip r:embed="rId5"/>
            <a:stretch/>
          </p:blipFill>
          <p:spPr>
            <a:xfrm>
              <a:off x="251640" y="2133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Рисунок 36" descr=""/>
            <p:cNvPicPr/>
            <p:nvPr/>
          </p:nvPicPr>
          <p:blipFill>
            <a:blip r:embed="rId6">
              <a:extLst>
                <a:ext uri="{BEBA8EAE-BF5A-486C-A8C5-ECC9F3942E4B}">
                  <a14:imgProps xmlns:a14="http://schemas.microsoft.com/office/drawing/2010/main">
                    <a14:imgLayer r:embed="rId7">
                      <a14:imgEffect>
                        <a14:saturation sat="3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301680" y="2192760"/>
              <a:ext cx="65556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Прямоугольник 38"/>
          <p:cNvSpPr/>
          <p:nvPr/>
        </p:nvSpPr>
        <p:spPr>
          <a:xfrm>
            <a:off x="1135440" y="2336040"/>
            <a:ext cx="193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k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9"/>
          <p:cNvSpPr/>
          <p:nvPr/>
        </p:nvSpPr>
        <p:spPr>
          <a:xfrm>
            <a:off x="1132200" y="5246280"/>
            <a:ext cx="130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@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0"/>
          <p:cNvSpPr/>
          <p:nvPr/>
        </p:nvSpPr>
        <p:spPr>
          <a:xfrm>
            <a:off x="1136880" y="4293000"/>
            <a:ext cx="23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witter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1"/>
          <p:cNvSpPr/>
          <p:nvPr/>
        </p:nvSpPr>
        <p:spPr>
          <a:xfrm>
            <a:off x="1139040" y="3280320"/>
            <a:ext cx="268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acebook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2229120" y="5905800"/>
            <a:ext cx="308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#МойБизнес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5375880" y="5877360"/>
            <a:ext cx="3732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#БизнесЭтоПро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5" descr=""/>
          <p:cNvPicPr/>
          <p:nvPr/>
        </p:nvPicPr>
        <p:blipFill>
          <a:blip r:embed="rId8"/>
          <a:stretch/>
        </p:blipFill>
        <p:spPr>
          <a:xfrm>
            <a:off x="3771360" y="2061000"/>
            <a:ext cx="2783880" cy="27838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6" descr=""/>
          <p:cNvPicPr/>
          <p:nvPr/>
        </p:nvPicPr>
        <p:blipFill>
          <a:blip r:embed="rId9"/>
          <a:stretch/>
        </p:blipFill>
        <p:spPr>
          <a:xfrm>
            <a:off x="6607080" y="2252520"/>
            <a:ext cx="2500920" cy="2448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4395960" y="4790160"/>
            <a:ext cx="132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онта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0"/>
          <p:cNvSpPr/>
          <p:nvPr/>
        </p:nvSpPr>
        <p:spPr>
          <a:xfrm>
            <a:off x="7115760" y="4786920"/>
            <a:ext cx="127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Num" idx="10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AA121F-1EEC-44BC-94B2-7B25409AD2A5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043640" y="941760"/>
            <a:ext cx="7704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6367" t="257" r="3086" b="2970"/>
          <a:stretch/>
        </p:blipFill>
        <p:spPr>
          <a:xfrm>
            <a:off x="0" y="1700640"/>
            <a:ext cx="3779640" cy="33778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нтры оказания услуг для предпринимателей 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3924000" y="1928520"/>
            <a:ext cx="511236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2 700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оябрь 201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олее 15 организац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казывающих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олее 200 услуг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СМ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нсультации по вопросам ведения бизн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бу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мощь в составлении бизнес-пла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инансовая поддерж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tarSymbol"/>
              <a:buChar char="-"/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формление разрешительной докумен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tarSymbol"/>
              <a:buChar char="-"/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 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3977640" y="1556640"/>
            <a:ext cx="4745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ональный центр «Мой бизнес» г. Сам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2078640" y="5313960"/>
            <a:ext cx="46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ниципальные центры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486000" y="580536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ызр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5731920" y="580032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26"/>
          <p:cNvSpPr/>
          <p:nvPr/>
        </p:nvSpPr>
        <p:spPr>
          <a:xfrm>
            <a:off x="4428000" y="4797000"/>
            <a:ext cx="4715640" cy="158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Num" idx="11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1F35701-46E4-4CC9-9198-736C22B5FB0D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ущественная поддержка М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1431000" y="1628640"/>
            <a:ext cx="20937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инкуб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.о. 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biznes-63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6 руб./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12" descr=""/>
          <p:cNvPicPr/>
          <p:nvPr/>
        </p:nvPicPr>
        <p:blipFill>
          <a:blip r:embed="rId1"/>
          <a:stretch/>
        </p:blipFill>
        <p:spPr>
          <a:xfrm>
            <a:off x="531000" y="1628640"/>
            <a:ext cx="854280" cy="71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986800" y="1628640"/>
            <a:ext cx="2398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инкуб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.о. Сам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://samarabiznes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30 руб./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16" descr=""/>
          <p:cNvPicPr/>
          <p:nvPr/>
        </p:nvPicPr>
        <p:blipFill>
          <a:blip r:embed="rId3"/>
          <a:stretch/>
        </p:blipFill>
        <p:spPr>
          <a:xfrm>
            <a:off x="4892040" y="1628640"/>
            <a:ext cx="1076760" cy="1076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1430640" y="2997000"/>
            <a:ext cx="250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ехнопар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Жигулевская доли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8" descr=""/>
          <p:cNvPicPr/>
          <p:nvPr/>
        </p:nvPicPr>
        <p:blipFill>
          <a:blip r:embed="rId4"/>
          <a:stretch/>
        </p:blipFill>
        <p:spPr>
          <a:xfrm>
            <a:off x="649080" y="3037320"/>
            <a:ext cx="648000" cy="6188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19"/>
          <p:cNvSpPr/>
          <p:nvPr/>
        </p:nvSpPr>
        <p:spPr>
          <a:xfrm>
            <a:off x="1431720" y="3543840"/>
            <a:ext cx="1843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://dolinatlt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1392480" y="3882600"/>
            <a:ext cx="2415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то строитель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парка «Жигулев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ина-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1"/>
          <p:cNvSpPr/>
          <p:nvPr/>
        </p:nvSpPr>
        <p:spPr>
          <a:xfrm>
            <a:off x="5984280" y="3037320"/>
            <a:ext cx="2508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Индустриальный пар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Чапае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СЭ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5969520" y="3876120"/>
            <a:ext cx="280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i-parks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"/>
          <p:cNvPicPr/>
          <p:nvPr/>
        </p:nvPicPr>
        <p:blipFill>
          <a:blip r:embed="rId5"/>
          <a:stretch/>
        </p:blipFill>
        <p:spPr>
          <a:xfrm>
            <a:off x="4892040" y="3020040"/>
            <a:ext cx="1137600" cy="9111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22"/>
          <p:cNvSpPr/>
          <p:nvPr/>
        </p:nvSpPr>
        <p:spPr>
          <a:xfrm>
            <a:off x="1397520" y="4869000"/>
            <a:ext cx="1862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СЭР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1417680" y="5207760"/>
            <a:ext cx="219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www.invest.tgl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8"/>
          <p:cNvSpPr/>
          <p:nvPr/>
        </p:nvSpPr>
        <p:spPr>
          <a:xfrm>
            <a:off x="4500000" y="4893120"/>
            <a:ext cx="4277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имущества резидента ТОСЭ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недвижимое имущество: 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прибыль – 2% – 5 л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% – 6-10 лет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землю: 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ховые выплаты: 7,6% год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25" descr=""/>
          <p:cNvPicPr/>
          <p:nvPr/>
        </p:nvPicPr>
        <p:blipFill>
          <a:blip r:embed="rId6"/>
          <a:stretch/>
        </p:blipFill>
        <p:spPr>
          <a:xfrm>
            <a:off x="671040" y="4869000"/>
            <a:ext cx="672120" cy="8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Num" idx="12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7874A4F-DDE1-4D5D-A2AE-0EEF7B43E32A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инфраструктуры поддержки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533160" y="2485440"/>
            <a:ext cx="25707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стерство экономическо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и инвестиц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партамент разви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 263-43-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http://economy.samregio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Рисунок 5" descr=""/>
          <p:cNvPicPr/>
          <p:nvPr/>
        </p:nvPicPr>
        <p:blipFill>
          <a:blip r:embed="rId1"/>
          <a:stretch/>
        </p:blipFill>
        <p:spPr>
          <a:xfrm>
            <a:off x="1458360" y="1750320"/>
            <a:ext cx="650880" cy="71100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8"/>
          <p:cNvSpPr/>
          <p:nvPr/>
        </p:nvSpPr>
        <p:spPr>
          <a:xfrm>
            <a:off x="3402360" y="2485440"/>
            <a:ext cx="22510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КУ С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о-консалтинговое агентство Самарской област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+7 927 900 40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+7 927 900 40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ikaso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63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9" descr=""/>
          <p:cNvPicPr/>
          <p:nvPr/>
        </p:nvPicPr>
        <p:blipFill>
          <a:blip r:embed="rId2"/>
          <a:stretch/>
        </p:blipFill>
        <p:spPr>
          <a:xfrm>
            <a:off x="4113360" y="1871280"/>
            <a:ext cx="931680" cy="589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0"/>
          <p:cNvSpPr/>
          <p:nvPr/>
        </p:nvSpPr>
        <p:spPr>
          <a:xfrm>
            <a:off x="5868000" y="2577600"/>
            <a:ext cx="29520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О Микрокредитная комп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Гарантийный фон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» (АО«ГФСО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 (846) 989-50-77 (Сама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82) 555-219 (Тольят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gfso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11" descr=""/>
          <p:cNvPicPr/>
          <p:nvPr/>
        </p:nvPicPr>
        <p:blipFill>
          <a:blip r:embed="rId3"/>
          <a:stretch/>
        </p:blipFill>
        <p:spPr>
          <a:xfrm>
            <a:off x="6605640" y="2105640"/>
            <a:ext cx="1476720" cy="329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2"/>
          <p:cNvSpPr/>
          <p:nvPr/>
        </p:nvSpPr>
        <p:spPr>
          <a:xfrm>
            <a:off x="452880" y="5077800"/>
            <a:ext cx="2743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нд «Региональный 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 205 71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fond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samara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3" descr=""/>
          <p:cNvPicPr/>
          <p:nvPr/>
        </p:nvPicPr>
        <p:blipFill>
          <a:blip r:embed="rId4"/>
          <a:stretch/>
        </p:blipFill>
        <p:spPr>
          <a:xfrm>
            <a:off x="1389240" y="4293360"/>
            <a:ext cx="789120" cy="78372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14"/>
          <p:cNvSpPr/>
          <p:nvPr/>
        </p:nvSpPr>
        <p:spPr>
          <a:xfrm>
            <a:off x="3330000" y="5077800"/>
            <a:ext cx="24984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к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 205-71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s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63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15" descr=""/>
          <p:cNvPicPr/>
          <p:nvPr/>
        </p:nvPicPr>
        <p:blipFill>
          <a:blip r:embed="rId5"/>
          <a:stretch/>
        </p:blipFill>
        <p:spPr>
          <a:xfrm>
            <a:off x="4065840" y="4291200"/>
            <a:ext cx="924120" cy="7858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6"/>
          <p:cNvSpPr/>
          <p:nvPr/>
        </p:nvSpPr>
        <p:spPr>
          <a:xfrm>
            <a:off x="6309360" y="5077800"/>
            <a:ext cx="20696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парк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Жигулевская долина» (Тольят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82) 93 00 93 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dolinatlt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8" descr=""/>
          <p:cNvPicPr/>
          <p:nvPr/>
        </p:nvPicPr>
        <p:blipFill>
          <a:blip r:embed="rId6"/>
          <a:stretch/>
        </p:blipFill>
        <p:spPr>
          <a:xfrm>
            <a:off x="7020360" y="4458600"/>
            <a:ext cx="6480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Num" idx="13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92411F-353E-45B8-A971-9F242A1F73EA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3084120" y="1052640"/>
            <a:ext cx="58388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е бизнеса и органов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222480" y="3107160"/>
            <a:ext cx="33130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ору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Линия успеха» (ма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орум развития моногор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орум молодеж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в конце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203400" y="4975560"/>
            <a:ext cx="3046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тратегические се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 вопросам развития М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апрель 201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юль 201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6" descr=""/>
          <p:cNvPicPr/>
          <p:nvPr/>
        </p:nvPicPr>
        <p:blipFill>
          <a:blip r:embed="rId1"/>
          <a:stretch/>
        </p:blipFill>
        <p:spPr>
          <a:xfrm>
            <a:off x="0" y="908640"/>
            <a:ext cx="3081240" cy="20541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7"/>
          <p:cNvSpPr/>
          <p:nvPr/>
        </p:nvSpPr>
        <p:spPr>
          <a:xfrm>
            <a:off x="3924000" y="155664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щественный совет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и министерстве экономического развития и инвестиций 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3890880" y="256500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изнес-завтра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кое сообщество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 представителями органов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3876480" y="3573000"/>
            <a:ext cx="45716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siness&amp;Talks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Бизнес с толк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искусионные площадки о бизнесе и для бизнеса в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3872160" y="486900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крытые диалоги с вла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в формате: вопрос-отв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876480" y="566136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ормирование бизнес-сообществ для решения профессиональных вопро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14"/>
          </p:nvPr>
        </p:nvSpPr>
        <p:spPr>
          <a:xfrm>
            <a:off x="8629560" y="649296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0333CA-BD12-472D-897C-EB3244383208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561960" y="0"/>
            <a:ext cx="8568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ый и средний бизнес 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0"/>
          <p:cNvSpPr/>
          <p:nvPr/>
        </p:nvSpPr>
        <p:spPr>
          <a:xfrm>
            <a:off x="0" y="451080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552480" y="1897920"/>
            <a:ext cx="2038680" cy="21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823760" y="1072080"/>
            <a:ext cx="6242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Целевые показатели для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384560" y="2192760"/>
            <a:ext cx="381384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занятых в сфере мало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 среднего предпринимательств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в Самарской обла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384560" y="3275640"/>
            <a:ext cx="3851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Доля малого и среднего предпринима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тельства в ВР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384560" y="3992400"/>
            <a:ext cx="3888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Доля экспортеров, являющихся субъекта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ми малого и среднего предприниматель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ства, включая индивидуальных предпринимателей, в общем объеме несырьевого экспор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384560" y="5446800"/>
            <a:ext cx="3851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Финансов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2"/>
          <p:cNvSpPr/>
          <p:nvPr/>
        </p:nvSpPr>
        <p:spPr>
          <a:xfrm>
            <a:off x="5399640" y="246240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трелка вправо 13"/>
          <p:cNvSpPr/>
          <p:nvPr/>
        </p:nvSpPr>
        <p:spPr>
          <a:xfrm>
            <a:off x="5388120" y="346680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>
            <a:off x="5399640" y="447156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трелка вправо 15"/>
          <p:cNvSpPr/>
          <p:nvPr/>
        </p:nvSpPr>
        <p:spPr>
          <a:xfrm>
            <a:off x="5399640" y="548532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5355720" y="1981080"/>
            <a:ext cx="1205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к 2024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660720" y="2251080"/>
            <a:ext cx="198108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ru-RU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535</a:t>
            </a:r>
            <a:r>
              <a:rPr b="1" lang="en-US" sz="20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тыс.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6656040" y="5248800"/>
            <a:ext cx="18284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0000"/>
              </a:lnSpc>
            </a:pPr>
            <a:r>
              <a:rPr b="1" lang="ru-RU" sz="3600" spc="-151" strike="noStrike">
                <a:solidFill>
                  <a:srgbClr val="1f497d"/>
                </a:solidFill>
                <a:latin typeface="Arial Black"/>
                <a:ea typeface="Tahoma"/>
              </a:rPr>
              <a:t>2671,6</a:t>
            </a:r>
            <a:r>
              <a:rPr b="1" lang="en-US" sz="20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6768000" y="3401640"/>
            <a:ext cx="199836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ru-RU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32,5</a:t>
            </a:r>
            <a:r>
              <a:rPr b="1" lang="ru-RU" sz="4400" spc="-1" strike="noStrike">
                <a:solidFill>
                  <a:srgbClr val="1f497d"/>
                </a:solidFill>
                <a:latin typeface="Arial Black"/>
                <a:ea typeface="Tahoma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6680880" y="4353480"/>
            <a:ext cx="14497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en-US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10</a:t>
            </a:r>
            <a:r>
              <a:rPr b="1" lang="ru-RU" sz="4400" spc="-1" strike="noStrike">
                <a:solidFill>
                  <a:srgbClr val="1f497d"/>
                </a:solidFill>
                <a:latin typeface="Arial Black"/>
                <a:ea typeface="Tahoma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2" descr=""/>
          <p:cNvPicPr/>
          <p:nvPr/>
        </p:nvPicPr>
        <p:blipFill>
          <a:blip r:embed="rId2"/>
          <a:stretch/>
        </p:blipFill>
        <p:spPr>
          <a:xfrm>
            <a:off x="364320" y="216252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3" descr=""/>
          <p:cNvPicPr/>
          <p:nvPr/>
        </p:nvPicPr>
        <p:blipFill>
          <a:blip r:embed="rId3"/>
          <a:stretch/>
        </p:blipFill>
        <p:spPr>
          <a:xfrm>
            <a:off x="364320" y="312192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4" descr=""/>
          <p:cNvPicPr/>
          <p:nvPr/>
        </p:nvPicPr>
        <p:blipFill>
          <a:blip r:embed="rId4"/>
          <a:stretch/>
        </p:blipFill>
        <p:spPr>
          <a:xfrm>
            <a:off x="364320" y="416376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5" descr=""/>
          <p:cNvPicPr/>
          <p:nvPr/>
        </p:nvPicPr>
        <p:blipFill>
          <a:blip r:embed="rId5"/>
          <a:stretch/>
        </p:blipFill>
        <p:spPr>
          <a:xfrm>
            <a:off x="364320" y="5173560"/>
            <a:ext cx="866520" cy="84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3E82-83DD-4757-AB6D-23C4B3B2D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9"/>
          <p:cNvSpPr/>
          <p:nvPr/>
        </p:nvSpPr>
        <p:spPr>
          <a:xfrm>
            <a:off x="0" y="5598720"/>
            <a:ext cx="9143640" cy="903960"/>
          </a:xfrm>
          <a:prstGeom prst="rect">
            <a:avLst/>
          </a:prstGeom>
          <a:solidFill>
            <a:srgbClr val="99ffcc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8034840" y="559872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нутый угол 51"/>
          <p:cNvSpPr/>
          <p:nvPr/>
        </p:nvSpPr>
        <p:spPr>
          <a:xfrm>
            <a:off x="0" y="5598720"/>
            <a:ext cx="543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323640" y="5826600"/>
            <a:ext cx="4824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Популяризация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5"/>
          <p:cNvSpPr/>
          <p:nvPr/>
        </p:nvSpPr>
        <p:spPr>
          <a:xfrm>
            <a:off x="-18720" y="4716720"/>
            <a:ext cx="9138600" cy="903960"/>
          </a:xfrm>
          <a:prstGeom prst="rect">
            <a:avLst/>
          </a:prstGeom>
          <a:solidFill>
            <a:srgbClr val="ffcccc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57800" y="47253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нутый угол 47"/>
          <p:cNvSpPr/>
          <p:nvPr/>
        </p:nvSpPr>
        <p:spPr>
          <a:xfrm flipH="1">
            <a:off x="2715840" y="4708800"/>
            <a:ext cx="64220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3039120" y="4829040"/>
            <a:ext cx="5972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Создание системы поддержки фермеров и развитие сельск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2"/>
          <p:cNvSpPr/>
          <p:nvPr/>
        </p:nvSpPr>
        <p:spPr>
          <a:xfrm>
            <a:off x="0" y="3798720"/>
            <a:ext cx="9143640" cy="903960"/>
          </a:xfrm>
          <a:prstGeom prst="rect">
            <a:avLst/>
          </a:prstGeom>
          <a:solidFill>
            <a:srgbClr val="ff0000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8032320" y="374472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нутый угол 43"/>
          <p:cNvSpPr/>
          <p:nvPr/>
        </p:nvSpPr>
        <p:spPr>
          <a:xfrm>
            <a:off x="-13680" y="3798720"/>
            <a:ext cx="544932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258840" y="3934080"/>
            <a:ext cx="517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Акселерация субъектов малого и среднего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0" y="2853360"/>
            <a:ext cx="9143640" cy="9450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TextBox 41"/>
          <p:cNvSpPr/>
          <p:nvPr/>
        </p:nvSpPr>
        <p:spPr>
          <a:xfrm>
            <a:off x="777240" y="28335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нутый угол 40"/>
          <p:cNvSpPr/>
          <p:nvPr/>
        </p:nvSpPr>
        <p:spPr>
          <a:xfrm flipH="1">
            <a:off x="2717280" y="2853360"/>
            <a:ext cx="642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3060000" y="29595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Расширение доступа субъектов МСП к финансовым ресурсам, в том числе к льготному финансировани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0" y="1772640"/>
            <a:ext cx="9143640" cy="108936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7964280" y="17823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нутый угол 4"/>
          <p:cNvSpPr/>
          <p:nvPr/>
        </p:nvSpPr>
        <p:spPr>
          <a:xfrm>
            <a:off x="0" y="1782360"/>
            <a:ext cx="543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323640" y="1888920"/>
            <a:ext cx="56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Улучшение условий ведения предпринимательск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Num" idx="6"/>
          </p:nvPr>
        </p:nvSpPr>
        <p:spPr>
          <a:xfrm>
            <a:off x="8100360" y="650340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4D741F0-0784-454D-A368-B10FC23B4931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3075840" y="1380960"/>
            <a:ext cx="321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5 федераль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8"/>
          <p:cNvSpPr/>
          <p:nvPr/>
        </p:nvSpPr>
        <p:spPr>
          <a:xfrm>
            <a:off x="1401480" y="980640"/>
            <a:ext cx="656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едеральные проекты национа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7640" y="4530240"/>
            <a:ext cx="863640" cy="770760"/>
          </a:xfrm>
          <a:prstGeom prst="rect">
            <a:avLst/>
          </a:prstGeom>
          <a:ln w="0">
            <a:noFill/>
          </a:ln>
        </p:spPr>
      </p:pic>
      <p:sp>
        <p:nvSpPr>
          <p:cNvPr id="145" name="Выноска 1 21"/>
          <p:cNvSpPr/>
          <p:nvPr/>
        </p:nvSpPr>
        <p:spPr>
          <a:xfrm>
            <a:off x="5652000" y="4221000"/>
            <a:ext cx="3432240" cy="2268720"/>
          </a:xfrm>
          <a:prstGeom prst="borderCallout1">
            <a:avLst>
              <a:gd name="adj1" fmla="val 21237"/>
              <a:gd name="adj2" fmla="val 516"/>
              <a:gd name="adj3" fmla="val 9651"/>
              <a:gd name="adj4" fmla="val -12197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6" name="Выноска 1 20"/>
          <p:cNvSpPr/>
          <p:nvPr/>
        </p:nvSpPr>
        <p:spPr>
          <a:xfrm>
            <a:off x="5996520" y="2172240"/>
            <a:ext cx="2936520" cy="1367640"/>
          </a:xfrm>
          <a:prstGeom prst="borderCallout1">
            <a:avLst>
              <a:gd name="adj1" fmla="val 25015"/>
              <a:gd name="adj2" fmla="val -739"/>
              <a:gd name="adj3" fmla="val 65159"/>
              <a:gd name="adj4" fmla="val -21290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7" name="Выноска 1 19"/>
          <p:cNvSpPr/>
          <p:nvPr/>
        </p:nvSpPr>
        <p:spPr>
          <a:xfrm>
            <a:off x="107640" y="4221000"/>
            <a:ext cx="2777040" cy="1367640"/>
          </a:xfrm>
          <a:prstGeom prst="borderCallout1">
            <a:avLst>
              <a:gd name="adj1" fmla="val 27104"/>
              <a:gd name="adj2" fmla="val 100088"/>
              <a:gd name="adj3" fmla="val 1805"/>
              <a:gd name="adj4" fmla="val 122063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8" name="Выноска 1 2"/>
          <p:cNvSpPr/>
          <p:nvPr/>
        </p:nvSpPr>
        <p:spPr>
          <a:xfrm>
            <a:off x="107640" y="2133000"/>
            <a:ext cx="2777040" cy="1367640"/>
          </a:xfrm>
          <a:prstGeom prst="borderCallout1">
            <a:avLst>
              <a:gd name="adj1" fmla="val 27104"/>
              <a:gd name="adj2" fmla="val 100088"/>
              <a:gd name="adj3" fmla="val 65855"/>
              <a:gd name="adj4" fmla="val 122749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28"/>
          <p:cNvGrpSpPr/>
          <p:nvPr/>
        </p:nvGrpSpPr>
        <p:grpSpPr>
          <a:xfrm>
            <a:off x="3317040" y="2277000"/>
            <a:ext cx="2232000" cy="2448000"/>
            <a:chOff x="3317040" y="2277000"/>
            <a:chExt cx="2232000" cy="2448000"/>
          </a:xfrm>
        </p:grpSpPr>
        <p:sp>
          <p:nvSpPr>
            <p:cNvPr id="152" name="Овал 3"/>
            <p:cNvSpPr/>
            <p:nvPr/>
          </p:nvSpPr>
          <p:spPr>
            <a:xfrm>
              <a:off x="3317040" y="2493000"/>
              <a:ext cx="2232000" cy="22320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3" name="TextBox 6"/>
            <p:cNvSpPr/>
            <p:nvPr/>
          </p:nvSpPr>
          <p:spPr>
            <a:xfrm>
              <a:off x="3535200" y="3789000"/>
              <a:ext cx="183492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Неуверен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в собственных</a:t>
              </a:r>
              <a:br>
                <a:rPr sz="1600"/>
              </a:b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ил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Рисунок 27" descr=""/>
            <p:cNvPicPr/>
            <p:nvPr/>
          </p:nvPicPr>
          <p:blipFill>
            <a:blip r:embed="rId4"/>
            <a:stretch/>
          </p:blipFill>
          <p:spPr>
            <a:xfrm>
              <a:off x="4090680" y="2277000"/>
              <a:ext cx="653400" cy="1517040"/>
            </a:xfrm>
            <a:prstGeom prst="rect">
              <a:avLst/>
            </a:prstGeom>
            <a:ln w="0">
              <a:noFill/>
            </a:ln>
            <a:effectLst>
              <a:outerShdw algn="bl" blurRad="76320" dir="0" kx="-1200000" rotWithShape="0" sy="23000">
                <a:srgbClr val="000000">
                  <a:alpha val="20000"/>
                </a:srgbClr>
              </a:outerShdw>
            </a:effectLst>
          </p:spPr>
        </p:pic>
      </p:grpSp>
      <p:sp>
        <p:nvSpPr>
          <p:cNvPr id="155" name="TextBox 32"/>
          <p:cNvSpPr/>
          <p:nvPr/>
        </p:nvSpPr>
        <p:spPr>
          <a:xfrm>
            <a:off x="892440" y="4612680"/>
            <a:ext cx="199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Наставниче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менто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1296000" y="1052640"/>
            <a:ext cx="693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малого и среднего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834120" y="2255760"/>
            <a:ext cx="21776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ограммы для </a:t>
            </a:r>
            <a:br>
              <a:rPr sz="1600"/>
            </a:b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отенци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едприним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67640" y="2277000"/>
            <a:ext cx="22374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ое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«Професс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едприниматель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«История успе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5000" y="2504160"/>
            <a:ext cx="735480" cy="562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4" descr=""/>
          <p:cNvPicPr/>
          <p:nvPr/>
        </p:nvPicPr>
        <p:blipFill>
          <a:blip r:embed="rId7"/>
          <a:stretch/>
        </p:blipFill>
        <p:spPr>
          <a:xfrm>
            <a:off x="6033240" y="2461680"/>
            <a:ext cx="770760" cy="710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5"/>
          <p:cNvSpPr/>
          <p:nvPr/>
        </p:nvSpPr>
        <p:spPr>
          <a:xfrm>
            <a:off x="6391800" y="4324680"/>
            <a:ext cx="27518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Tahoma"/>
              </a:rPr>
              <a:t>Конкур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Tahoma"/>
              </a:rPr>
              <a:t>«Мама-предпринима-тель», «Экспортер года», «Молодой предприни-матель России», «Лучший предприни-мат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9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saturation colorTemp="15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5724000" y="4574520"/>
            <a:ext cx="743040" cy="7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47A8-6AC1-40CF-8BA2-24B236B69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Num" idx="7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B3A5EE6-1F6D-45AD-922C-DB9FD2AB5F9F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" descr=""/>
          <p:cNvPicPr/>
          <p:nvPr/>
        </p:nvPicPr>
        <p:blipFill>
          <a:blip r:embed="rId2"/>
          <a:stretch/>
        </p:blipFill>
        <p:spPr>
          <a:xfrm>
            <a:off x="0" y="4869000"/>
            <a:ext cx="371340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3"/>
          <a:stretch/>
        </p:blipFill>
        <p:spPr>
          <a:xfrm>
            <a:off x="0" y="1824480"/>
            <a:ext cx="4427640" cy="2951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4"/>
          <a:stretch/>
        </p:blipFill>
        <p:spPr>
          <a:xfrm>
            <a:off x="4572000" y="1824480"/>
            <a:ext cx="4573800" cy="2951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1406520" y="937440"/>
            <a:ext cx="7075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оект «Профессия – предпринимат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экскурсии на частные предприятия Самар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"/>
          <p:cNvPicPr/>
          <p:nvPr/>
        </p:nvPicPr>
        <p:blipFill>
          <a:blip r:embed="rId5"/>
          <a:stretch/>
        </p:blipFill>
        <p:spPr>
          <a:xfrm>
            <a:off x="3841560" y="4869000"/>
            <a:ext cx="2530080" cy="16858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"/>
          <p:cNvPicPr/>
          <p:nvPr/>
        </p:nvPicPr>
        <p:blipFill>
          <a:blip r:embed="rId6"/>
          <a:stretch/>
        </p:blipFill>
        <p:spPr>
          <a:xfrm>
            <a:off x="6516360" y="4869000"/>
            <a:ext cx="2525040" cy="16858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3"/>
          <p:cNvSpPr/>
          <p:nvPr/>
        </p:nvSpPr>
        <p:spPr>
          <a:xfrm>
            <a:off x="2627640" y="2853000"/>
            <a:ext cx="3600000" cy="2304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3201120" y="4005000"/>
            <a:ext cx="24534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более 600 зая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 у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2918520" y="3213000"/>
            <a:ext cx="3057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о </a:t>
            </a:r>
            <a:br>
              <a:rPr sz="1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экскурсионных т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1869120"/>
            <a:ext cx="5775120" cy="27115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4"/>
          <p:cNvSpPr/>
          <p:nvPr/>
        </p:nvSpPr>
        <p:spPr>
          <a:xfrm>
            <a:off x="167760" y="920880"/>
            <a:ext cx="8977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изация предприниматель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6165360" y="2011680"/>
            <a:ext cx="2617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«Истории успе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6139800" y="2719440"/>
            <a:ext cx="30056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://molpred63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4"/>
              </a:rPr>
              <a:t>istorii-uspeha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18"/>
          <p:cNvGrpSpPr/>
          <p:nvPr/>
        </p:nvGrpSpPr>
        <p:grpSpPr>
          <a:xfrm>
            <a:off x="4788000" y="4005000"/>
            <a:ext cx="4355640" cy="2512800"/>
            <a:chOff x="4788000" y="4005000"/>
            <a:chExt cx="4355640" cy="2512800"/>
          </a:xfrm>
        </p:grpSpPr>
        <p:sp>
          <p:nvSpPr>
            <p:cNvPr id="182" name="Прямоугольник 17"/>
            <p:cNvSpPr/>
            <p:nvPr/>
          </p:nvSpPr>
          <p:spPr>
            <a:xfrm>
              <a:off x="4788000" y="4005000"/>
              <a:ext cx="4355640" cy="25128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pic>
          <p:nvPicPr>
            <p:cNvPr id="183" name="Рисунок 12" descr=""/>
            <p:cNvPicPr/>
            <p:nvPr/>
          </p:nvPicPr>
          <p:blipFill>
            <a:blip r:embed="rId6"/>
            <a:stretch/>
          </p:blipFill>
          <p:spPr>
            <a:xfrm>
              <a:off x="4944600" y="4149000"/>
              <a:ext cx="4199040" cy="236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Box 19"/>
          <p:cNvSpPr/>
          <p:nvPr/>
        </p:nvSpPr>
        <p:spPr>
          <a:xfrm>
            <a:off x="518040" y="4995000"/>
            <a:ext cx="4114440" cy="10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Проект «Бизнес – это прос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на ВГТРК Россия (Сам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7"/>
              </a:rPr>
              <a:t>https://tvsamar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A982-FFE0-468E-8A9A-C7B9E33FE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9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21000" y="2341080"/>
            <a:ext cx="767880" cy="846360"/>
          </a:xfrm>
          <a:prstGeom prst="rect">
            <a:avLst/>
          </a:prstGeom>
          <a:ln w="0">
            <a:noFill/>
          </a:ln>
        </p:spPr>
      </p:pic>
      <p:sp>
        <p:nvSpPr>
          <p:cNvPr id="186" name="Выноска 1 21"/>
          <p:cNvSpPr/>
          <p:nvPr/>
        </p:nvSpPr>
        <p:spPr>
          <a:xfrm>
            <a:off x="5947920" y="4043880"/>
            <a:ext cx="2880000" cy="1151640"/>
          </a:xfrm>
          <a:prstGeom prst="borderCallout1">
            <a:avLst>
              <a:gd name="adj1" fmla="val 25015"/>
              <a:gd name="adj2" fmla="val -739"/>
              <a:gd name="adj3" fmla="val 8168"/>
              <a:gd name="adj4" fmla="val -18054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Выноска 1 20"/>
          <p:cNvSpPr/>
          <p:nvPr/>
        </p:nvSpPr>
        <p:spPr>
          <a:xfrm>
            <a:off x="6027480" y="2172240"/>
            <a:ext cx="2864520" cy="1367640"/>
          </a:xfrm>
          <a:prstGeom prst="borderCallout1">
            <a:avLst>
              <a:gd name="adj1" fmla="val 25015"/>
              <a:gd name="adj2" fmla="val -739"/>
              <a:gd name="adj3" fmla="val 65159"/>
              <a:gd name="adj4" fmla="val -21290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8" name="Выноска 1 19"/>
          <p:cNvSpPr/>
          <p:nvPr/>
        </p:nvSpPr>
        <p:spPr>
          <a:xfrm>
            <a:off x="246240" y="3935880"/>
            <a:ext cx="2777040" cy="1146240"/>
          </a:xfrm>
          <a:prstGeom prst="borderCallout1">
            <a:avLst>
              <a:gd name="adj1" fmla="val 27104"/>
              <a:gd name="adj2" fmla="val 100088"/>
              <a:gd name="adj3" fmla="val 10856"/>
              <a:gd name="adj4" fmla="val 116233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9" name="Выноска 1 2"/>
          <p:cNvSpPr/>
          <p:nvPr/>
        </p:nvSpPr>
        <p:spPr>
          <a:xfrm>
            <a:off x="221760" y="2113560"/>
            <a:ext cx="2777040" cy="1367640"/>
          </a:xfrm>
          <a:prstGeom prst="borderCallout1">
            <a:avLst>
              <a:gd name="adj1" fmla="val 41724"/>
              <a:gd name="adj2" fmla="val 100088"/>
              <a:gd name="adj3" fmla="val 61678"/>
              <a:gd name="adj4" fmla="val 118977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3348000" y="2493000"/>
            <a:ext cx="2232000" cy="223200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3656160" y="3789000"/>
            <a:ext cx="1633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обходи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1021680" y="4217040"/>
            <a:ext cx="19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 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0"/>
          <p:cNvSpPr/>
          <p:nvPr/>
        </p:nvSpPr>
        <p:spPr>
          <a:xfrm>
            <a:off x="1326960" y="1087560"/>
            <a:ext cx="670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алого и среднего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864360" y="2259000"/>
            <a:ext cx="2121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ограммы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ействующих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3"/>
          <p:cNvSpPr/>
          <p:nvPr/>
        </p:nvSpPr>
        <p:spPr>
          <a:xfrm>
            <a:off x="6798600" y="2382120"/>
            <a:ext cx="2237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ультирование по всем аспектам ведения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"/>
          <p:cNvPicPr/>
          <p:nvPr/>
        </p:nvPicPr>
        <p:blipFill>
          <a:blip r:embed="rId4"/>
          <a:stretch/>
        </p:blipFill>
        <p:spPr>
          <a:xfrm>
            <a:off x="165600" y="2504160"/>
            <a:ext cx="735480" cy="5623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5"/>
          <p:cNvSpPr/>
          <p:nvPr/>
        </p:nvSpPr>
        <p:spPr>
          <a:xfrm>
            <a:off x="7014600" y="4327560"/>
            <a:ext cx="180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Экспор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8" descr=""/>
          <p:cNvPicPr/>
          <p:nvPr/>
        </p:nvPicPr>
        <p:blipFill>
          <a:blip r:embed="rId5"/>
          <a:stretch/>
        </p:blipFill>
        <p:spPr>
          <a:xfrm>
            <a:off x="4051800" y="1945080"/>
            <a:ext cx="1017000" cy="1824480"/>
          </a:xfrm>
          <a:prstGeom prst="rect">
            <a:avLst/>
          </a:prstGeom>
          <a:ln w="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201" name="TextBox 1"/>
          <p:cNvSpPr/>
          <p:nvPr/>
        </p:nvSpPr>
        <p:spPr>
          <a:xfrm>
            <a:off x="5947920" y="5235840"/>
            <a:ext cx="2872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вод субъекта МС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эк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0600" y="5113080"/>
            <a:ext cx="3065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финансово-экономической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а МС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3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11360" y="4387320"/>
            <a:ext cx="79308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7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61080" y="4217760"/>
            <a:ext cx="704880" cy="68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5BAB-FF8A-4AD2-A2AB-EA725B1178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Выноска 1 21"/>
          <p:cNvSpPr/>
          <p:nvPr/>
        </p:nvSpPr>
        <p:spPr>
          <a:xfrm>
            <a:off x="5892480" y="1772640"/>
            <a:ext cx="2880000" cy="1295640"/>
          </a:xfrm>
          <a:prstGeom prst="borderCallout1">
            <a:avLst>
              <a:gd name="adj1" fmla="val 25015"/>
              <a:gd name="adj2" fmla="val -739"/>
              <a:gd name="adj3" fmla="val 69071"/>
              <a:gd name="adj4" fmla="val -30621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Выноска 1 20"/>
          <p:cNvSpPr/>
          <p:nvPr/>
        </p:nvSpPr>
        <p:spPr>
          <a:xfrm>
            <a:off x="139680" y="3565800"/>
            <a:ext cx="2788200" cy="852840"/>
          </a:xfrm>
          <a:prstGeom prst="borderCallout1">
            <a:avLst>
              <a:gd name="adj1" fmla="val 20550"/>
              <a:gd name="adj2" fmla="val 100024"/>
              <a:gd name="adj3" fmla="val 15627"/>
              <a:gd name="adj4" fmla="val 113739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7" name="Выноска 1 19"/>
          <p:cNvSpPr/>
          <p:nvPr/>
        </p:nvSpPr>
        <p:spPr>
          <a:xfrm>
            <a:off x="514440" y="5236560"/>
            <a:ext cx="3508560" cy="1056600"/>
          </a:xfrm>
          <a:prstGeom prst="borderCallout1">
            <a:avLst>
              <a:gd name="adj1" fmla="val -1735"/>
              <a:gd name="adj2" fmla="val 87399"/>
              <a:gd name="adj3" fmla="val -56201"/>
              <a:gd name="adj4" fmla="val 99228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8" name="Выноска 1 2"/>
          <p:cNvSpPr/>
          <p:nvPr/>
        </p:nvSpPr>
        <p:spPr>
          <a:xfrm>
            <a:off x="182160" y="1820880"/>
            <a:ext cx="2777040" cy="769680"/>
          </a:xfrm>
          <a:prstGeom prst="borderCallout1">
            <a:avLst>
              <a:gd name="adj1" fmla="val 41724"/>
              <a:gd name="adj2" fmla="val 100088"/>
              <a:gd name="adj3" fmla="val 112409"/>
              <a:gd name="adj4" fmla="val 128580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3"/>
          <p:cNvSpPr/>
          <p:nvPr/>
        </p:nvSpPr>
        <p:spPr>
          <a:xfrm>
            <a:off x="3276000" y="2493000"/>
            <a:ext cx="2232000" cy="223200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629160" y="3789000"/>
            <a:ext cx="1543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нансо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983960" y="1058400"/>
            <a:ext cx="523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поддержка субъектов 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9"/>
          <p:cNvSpPr/>
          <p:nvPr/>
        </p:nvSpPr>
        <p:spPr>
          <a:xfrm>
            <a:off x="1032840" y="1913760"/>
            <a:ext cx="19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о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микрозай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999720" y="3710160"/>
            <a:ext cx="19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оставление поручитель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6748920" y="1745640"/>
            <a:ext cx="20235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Субсидии субъектам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в отдельных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9" descr=""/>
          <p:cNvPicPr/>
          <p:nvPr/>
        </p:nvPicPr>
        <p:blipFill>
          <a:blip r:embed="rId2"/>
          <a:stretch/>
        </p:blipFill>
        <p:spPr>
          <a:xfrm>
            <a:off x="3351240" y="1917000"/>
            <a:ext cx="2099520" cy="2099520"/>
          </a:xfrm>
          <a:prstGeom prst="rect">
            <a:avLst/>
          </a:prstGeom>
          <a:ln w="0">
            <a:noFill/>
          </a:ln>
          <a:effectLst>
            <a:outerShdw algn="bl" blurRad="76320" dir="15063038" dist="202874" kx="-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218" name="Выноска 1 41"/>
          <p:cNvSpPr/>
          <p:nvPr/>
        </p:nvSpPr>
        <p:spPr>
          <a:xfrm>
            <a:off x="6012000" y="3556080"/>
            <a:ext cx="2880000" cy="1076760"/>
          </a:xfrm>
          <a:prstGeom prst="borderCallout1">
            <a:avLst>
              <a:gd name="adj1" fmla="val 25015"/>
              <a:gd name="adj2" fmla="val -739"/>
              <a:gd name="adj3" fmla="val 19835"/>
              <a:gd name="adj4" fmla="val -17724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9" name="TextBox 42"/>
          <p:cNvSpPr/>
          <p:nvPr/>
        </p:nvSpPr>
        <p:spPr>
          <a:xfrm>
            <a:off x="6868440" y="3556080"/>
            <a:ext cx="2023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Кредиты в бан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по программе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АО «Корпорация МСП» 8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носка 1 43"/>
          <p:cNvSpPr/>
          <p:nvPr/>
        </p:nvSpPr>
        <p:spPr>
          <a:xfrm>
            <a:off x="4880520" y="5236920"/>
            <a:ext cx="2880000" cy="1076760"/>
          </a:xfrm>
          <a:prstGeom prst="borderCallout1">
            <a:avLst>
              <a:gd name="adj1" fmla="val -2396"/>
              <a:gd name="adj2" fmla="val 9512"/>
              <a:gd name="adj3" fmla="val -54440"/>
              <a:gd name="adj4" fmla="val -4497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TextBox 44"/>
          <p:cNvSpPr/>
          <p:nvPr/>
        </p:nvSpPr>
        <p:spPr>
          <a:xfrm>
            <a:off x="5736960" y="5236560"/>
            <a:ext cx="2023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Финансирование инвест. проектов Фондом развития моного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7454880" y="4640760"/>
            <a:ext cx="1500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61 банк-партне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5911560" y="3069000"/>
            <a:ext cx="286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.о.Тольятти, г.о. Сам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206280" y="2585160"/>
            <a:ext cx="29138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5 000 000 руб., срок до 3 лет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7,5% годовых. Микрозаймы для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-up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ектов без залоговог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еспечения до 500 тыс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161640" y="4418640"/>
            <a:ext cx="297000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змер до 50% от суммы кредит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25 млн. руб., срок до 10 лет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ознаграждение от 0,5% до 0,7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1189800" y="5287680"/>
            <a:ext cx="277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Консультационная поддержка по финансовым инструментам</a:t>
            </a: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ля МСП («единое окно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7"/>
          <p:cNvSpPr/>
          <p:nvPr/>
        </p:nvSpPr>
        <p:spPr>
          <a:xfrm>
            <a:off x="7760880" y="5236560"/>
            <a:ext cx="1382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10 до 1000 млн. руб.,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0 до 5% годовых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рок до 1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8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3640" y="196848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9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32880" y="213804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0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66440" y="384012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1" descr="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3640" y="377928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6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20000" colorTemp="11200" contrast="-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076000" y="54828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2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11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88960" y="5418000"/>
            <a:ext cx="530640" cy="60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3A69-BCC3-4E3F-A438-1956C14006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9640" y="1772640"/>
            <a:ext cx="1275480" cy="669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1710360" y="1058400"/>
            <a:ext cx="566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мизация нормативной правовой б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"/>
          <p:cNvSpPr/>
          <p:nvPr/>
        </p:nvSpPr>
        <p:spPr>
          <a:xfrm>
            <a:off x="827640" y="2421000"/>
            <a:ext cx="324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штабный анализ и пересмотр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о-правовых а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1630800" y="1784520"/>
            <a:ext cx="16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егулятор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ильо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1630080" y="3357000"/>
            <a:ext cx="1760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егулир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8" descr=""/>
          <p:cNvPicPr/>
          <p:nvPr/>
        </p:nvPicPr>
        <p:blipFill>
          <a:blip r:embed="rId4"/>
          <a:stretch/>
        </p:blipFill>
        <p:spPr>
          <a:xfrm>
            <a:off x="924840" y="3499200"/>
            <a:ext cx="679680" cy="638640"/>
          </a:xfrm>
          <a:prstGeom prst="rect">
            <a:avLst/>
          </a:prstGeom>
          <a:ln w="0">
            <a:noFill/>
          </a:ln>
        </p:spPr>
      </p:pic>
      <p:sp>
        <p:nvSpPr>
          <p:cNvPr id="242" name="Равнобедренный треугольник 37"/>
          <p:cNvSpPr/>
          <p:nvPr/>
        </p:nvSpPr>
        <p:spPr>
          <a:xfrm rot="5400000">
            <a:off x="2823480" y="3750120"/>
            <a:ext cx="4032000" cy="37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5458680" y="2369520"/>
            <a:ext cx="36162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празднение НПА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тративших 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Снижение нагрузки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су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малого и среднего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луч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нвестицио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лимата в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636920" y="4581000"/>
            <a:ext cx="2512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ациональная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инициа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827640" y="5360760"/>
            <a:ext cx="360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егулярные опросы предпринимателей Агентством стратегических инициатив (АСИ) для объективной оценки эффективности принимаемых мер по улучшению инвестиционного клим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8" descr=""/>
          <p:cNvPicPr/>
          <p:nvPr/>
        </p:nvPicPr>
        <p:blipFill>
          <a:blip r:embed="rId5"/>
          <a:stretch/>
        </p:blipFill>
        <p:spPr>
          <a:xfrm>
            <a:off x="947160" y="4761000"/>
            <a:ext cx="657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36FF-4821-4BE1-B2B5-627E63539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_ШАБЛОН_МЭР_СО - коп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_ШАБЛОН_МЭР_СО - коп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  <Words>992</Words>
  <Paragraphs>2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33:00Z</dcterms:created>
  <dc:creator>Реште</dc:creator>
  <dc:description/>
  <dc:language>en-US</dc:language>
  <cp:lastModifiedBy>Лисиченко </cp:lastModifiedBy>
  <cp:lastPrinted>2019-07-24T16:04:49Z</cp:lastPrinted>
  <dcterms:modified xsi:type="dcterms:W3CDTF">2019-07-24T17:10:23Z</dcterms:modified>
  <cp:revision>7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