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47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hdphoto2.wdp" ContentType="image/vnd.ms-photo"/>
  <Override PartName="/ppt/media/image12.png" ContentType="image/png"/>
  <Override PartName="/ppt/media/image28.png" ContentType="image/png"/>
  <Override PartName="/ppt/media/image1.wmf" ContentType="image/x-wmf"/>
  <Override PartName="/ppt/media/image52.png" ContentType="image/png"/>
  <Override PartName="/ppt/media/image51.png" ContentType="image/png"/>
  <Override PartName="/ppt/media/image49.jpeg" ContentType="image/jpeg"/>
  <Override PartName="/ppt/media/image50.png" ContentType="image/png"/>
  <Override PartName="/ppt/media/image35.png" ContentType="image/png"/>
  <Override PartName="/ppt/media/hdphoto5.wdp" ContentType="image/vnd.ms-photo"/>
  <Override PartName="/ppt/media/image22.png" ContentType="image/png"/>
  <Override PartName="/ppt/media/hdphoto4.wdp" ContentType="image/vnd.ms-photo"/>
  <Override PartName="/ppt/media/image21.png" ContentType="image/png"/>
  <Override PartName="/ppt/media/image15.jpeg" ContentType="image/jpeg"/>
  <Override PartName="/ppt/media/image13.jpeg" ContentType="image/jpeg"/>
  <Override PartName="/ppt/media/image44.png" ContentType="image/png"/>
  <Override PartName="/ppt/media/image53.jpeg" ContentType="image/jpeg"/>
  <Override PartName="/ppt/media/image23.png" ContentType="image/png"/>
  <Override PartName="/ppt/media/image33.png" ContentType="image/png"/>
  <Override PartName="/ppt/media/hdphoto3.wdp" ContentType="image/vnd.ms-photo"/>
  <Override PartName="/ppt/media/image20.png" ContentType="image/png"/>
  <Override PartName="/ppt/media/hdphoto6.wdp" ContentType="image/vnd.ms-photo"/>
  <Override PartName="/ppt/media/image36.png" ContentType="image/png"/>
  <Override PartName="/ppt/media/image19.jpeg" ContentType="image/jpeg"/>
  <Override PartName="/ppt/media/image25.png" ContentType="image/png"/>
  <Override PartName="/ppt/media/image6.png" ContentType="image/png"/>
  <Override PartName="/ppt/media/image42.jpeg" ContentType="image/jpeg"/>
  <Override PartName="/ppt/media/image18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34.jpeg" ContentType="image/jpeg"/>
  <Override PartName="/ppt/media/image14.jpeg" ContentType="image/jpeg"/>
  <Override PartName="/ppt/media/image8.png" ContentType="image/png"/>
  <Override PartName="/ppt/media/hdphoto8.wdp" ContentType="image/vnd.ms-photo"/>
  <Override PartName="/ppt/media/image38.png" ContentType="image/png"/>
  <Override PartName="/ppt/media/image16.jpeg" ContentType="image/jpeg"/>
  <Override PartName="/ppt/media/image9.png" ContentType="image/png"/>
  <Override PartName="/ppt/media/image24.png" ContentType="image/png"/>
  <Override PartName="/ppt/media/image37.png" ContentType="image/png"/>
  <Override PartName="/ppt/media/hdphoto7.wdp" ContentType="image/vnd.ms-photo"/>
  <Override PartName="/ppt/media/image26.png" ContentType="image/png"/>
  <Override PartName="/ppt/media/image27.png" ContentType="image/png"/>
  <Override PartName="/ppt/media/image39.png" ContentType="image/png"/>
  <Override PartName="/ppt/media/hdphoto9.wdp" ContentType="image/vnd.ms-photo"/>
  <Override PartName="/ppt/media/hdphoto10.wdp" ContentType="image/vnd.ms-photo"/>
  <Override PartName="/ppt/media/image40.png" ContentType="image/png"/>
  <Override PartName="/ppt/media/image29.png" ContentType="image/png"/>
  <Override PartName="/ppt/media/image30.png" ContentType="image/png"/>
  <Override PartName="/ppt/media/hdphoto1.wdp" ContentType="image/vnd.ms-photo"/>
  <Override PartName="/ppt/media/image31.png" ContentType="image/png"/>
  <Override PartName="/ppt/media/hdphoto11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5EB4C-0501-4124-98D3-3EA76EBDF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15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9D233D-0DE9-4CE9-9B9C-13985ADEEC2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18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2836E5-4603-469C-B08A-E47FE220FA0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9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BEB0C5-B2CD-4A42-B032-3FDA9FCD354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16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623A62-6456-44FB-9278-7190056A024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680" y="4715280"/>
            <a:ext cx="5437800" cy="446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7"/>
          </p:nvPr>
        </p:nvSpPr>
        <p:spPr>
          <a:xfrm>
            <a:off x="3850560" y="9428760"/>
            <a:ext cx="294516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2DA91E-5AFD-4DF7-A4B4-BF56AB3F007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668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500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668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500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E64B-B105-4244-9157-F87C86F3AB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9989-5D22-4BA4-B879-619CABF2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B1AD-9747-4272-980C-6454A7F3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A8FC-9802-4566-A52C-174EAD4F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8C2E-56C4-419C-904B-DF4B9FF8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EC061-E8FC-4FB2-8744-BD3B65B8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6E7F1-DFF5-4CE1-BD64-8144B82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9173-F9CA-4092-9CA8-2D6AE7C2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E94F-DAEF-4DAE-9F65-711B805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D856-AFFC-4E97-8EFD-D4FAA0B3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B86C-E58C-4677-86ED-842776E0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668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65000" y="98100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668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65000" y="3801960"/>
            <a:ext cx="27122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F6CE-BBC7-4636-B634-425BEAA733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5120" y="380196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5120" y="981000"/>
            <a:ext cx="41108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42436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Прямая соединительная линия 9"/>
          <p:cNvCxnSpPr/>
          <p:nvPr/>
        </p:nvCxnSpPr>
        <p:spPr>
          <a:xfrm>
            <a:off x="0" y="6597000"/>
            <a:ext cx="6012360" cy="360"/>
          </a:xfrm>
          <a:prstGeom prst="straightConnector1">
            <a:avLst/>
          </a:prstGeom>
          <a:ln w="63500">
            <a:solidFill>
              <a:srgbClr val="0070c1"/>
            </a:solidFill>
            <a:round/>
          </a:ln>
        </p:spPr>
      </p:cxnSp>
      <p:sp>
        <p:nvSpPr>
          <p:cNvPr id="1" name="TextBox 4"/>
          <p:cNvSpPr/>
          <p:nvPr/>
        </p:nvSpPr>
        <p:spPr>
          <a:xfrm>
            <a:off x="2051640" y="6597360"/>
            <a:ext cx="597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инистерство экономического развития и инвестиц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Прямая соединительная линия 11"/>
          <p:cNvCxnSpPr/>
          <p:nvPr/>
        </p:nvCxnSpPr>
        <p:spPr>
          <a:xfrm>
            <a:off x="6012000" y="6597000"/>
            <a:ext cx="313236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8457840" cy="146952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 итогах и перспективах работы министерства экономического развития и инвестиций Самарской области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самара2"/>
          <p:cNvPicPr/>
          <p:nvPr/>
        </p:nvPicPr>
        <p:blipFill>
          <a:blip r:embed="rId2"/>
          <a:stretch/>
        </p:blipFill>
        <p:spPr>
          <a:xfrm>
            <a:off x="107640" y="44640"/>
            <a:ext cx="575640" cy="625680"/>
          </a:xfrm>
          <a:prstGeom prst="rect">
            <a:avLst/>
          </a:prstGeom>
          <a:ln w="0">
            <a:noFill/>
          </a:ln>
        </p:spPr>
      </p:pic>
      <p:cxnSp>
        <p:nvCxnSpPr>
          <p:cNvPr id="5" name="Прямая соединительная линия 5"/>
          <p:cNvCxnSpPr/>
          <p:nvPr/>
        </p:nvCxnSpPr>
        <p:spPr>
          <a:xfrm>
            <a:off x="683280" y="3284640"/>
            <a:ext cx="846108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6" name="Прямоугольник 3"/>
          <p:cNvSpPr/>
          <p:nvPr/>
        </p:nvSpPr>
        <p:spPr>
          <a:xfrm>
            <a:off x="2123640" y="6669360"/>
            <a:ext cx="5616360" cy="14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ff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4" name="Прямая соединительная линия 9"/>
          <p:cNvCxnSpPr/>
          <p:nvPr/>
        </p:nvCxnSpPr>
        <p:spPr>
          <a:xfrm>
            <a:off x="0" y="6597000"/>
            <a:ext cx="6012360" cy="360"/>
          </a:xfrm>
          <a:prstGeom prst="straightConnector1">
            <a:avLst/>
          </a:prstGeom>
          <a:ln w="63500">
            <a:solidFill>
              <a:srgbClr val="0070c1"/>
            </a:solidFill>
            <a:round/>
          </a:ln>
        </p:spPr>
      </p:cxnSp>
      <p:sp>
        <p:nvSpPr>
          <p:cNvPr id="45" name="TextBox 4"/>
          <p:cNvSpPr/>
          <p:nvPr/>
        </p:nvSpPr>
        <p:spPr>
          <a:xfrm>
            <a:off x="2051640" y="6597360"/>
            <a:ext cx="597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Министерство экономического развития и инвестиций 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единительная линия 11"/>
          <p:cNvCxnSpPr/>
          <p:nvPr/>
        </p:nvCxnSpPr>
        <p:spPr>
          <a:xfrm>
            <a:off x="6012000" y="6597000"/>
            <a:ext cx="3132360" cy="360"/>
          </a:xfrm>
          <a:prstGeom prst="straightConnector1">
            <a:avLst/>
          </a:prstGeom>
          <a:ln w="63500">
            <a:solidFill>
              <a:srgbClr val="ff0000"/>
            </a:solidFill>
            <a:round/>
          </a:ln>
        </p:spPr>
      </p:cxnSp>
      <p:sp>
        <p:nvSpPr>
          <p:cNvPr id="47" name="Заголовок 1"/>
          <p:cNvSpPr/>
          <p:nvPr/>
        </p:nvSpPr>
        <p:spPr>
          <a:xfrm>
            <a:off x="0" y="0"/>
            <a:ext cx="9143640" cy="76428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7" descr="самара2"/>
          <p:cNvPicPr/>
          <p:nvPr/>
        </p:nvPicPr>
        <p:blipFill>
          <a:blip r:embed="rId2"/>
          <a:stretch/>
        </p:blipFill>
        <p:spPr>
          <a:xfrm>
            <a:off x="107640" y="44640"/>
            <a:ext cx="575640" cy="625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457200" y="6513840"/>
            <a:ext cx="1378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2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EB1C2AB-9BEF-4FBB-A1D1-2B5FB59FC6F2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68360" y="981000"/>
            <a:ext cx="842436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b05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microsoft.com/office/2007/relationships/hdphoto" Target="../media/hdphoto11.wdp"/><Relationship Id="rId8" Type="http://schemas.openxmlformats.org/officeDocument/2006/relationships/image" Target="../media/image41.png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31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1.wdp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microsoft.com/office/2007/relationships/hdphoto" Target="../media/hdphoto2.wdp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microsoft.com/office/2007/relationships/hdphoto" Target="../media/hdphoto3.wdp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hyperlink" Target="http://molpred63.ru/istorii-uspeha/" TargetMode="External"/><Relationship Id="rId4" Type="http://schemas.openxmlformats.org/officeDocument/2006/relationships/hyperlink" Target="http://molpred63.ru/istorii-uspeha/" TargetMode="External"/><Relationship Id="rId5" Type="http://schemas.openxmlformats.org/officeDocument/2006/relationships/hyperlink" Target="http://molpred63.ru/istorii-uspeha/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s://tvsamara.ru/news/53404/" TargetMode="Externa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microsoft.com/office/2007/relationships/hdphoto" Target="../media/hdphoto4.wdp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microsoft.com/office/2007/relationships/hdphoto" Target="../media/hdphoto5.wdp"/><Relationship Id="rId8" Type="http://schemas.openxmlformats.org/officeDocument/2006/relationships/image" Target="../media/image23.png"/><Relationship Id="rId9" Type="http://schemas.microsoft.com/office/2007/relationships/hdphoto" Target="../media/hdphoto6.wdp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microsoft.com/office/2007/relationships/hdphoto" Target="../media/hdphoto7.wdp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microsoft.com/office/2007/relationships/hdphoto" Target="../media/hdphoto8.wdp"/><Relationship Id="rId10" Type="http://schemas.openxmlformats.org/officeDocument/2006/relationships/image" Target="../media/image27.png"/><Relationship Id="rId11" Type="http://schemas.microsoft.com/office/2007/relationships/hdphoto" Target="../media/hdphoto9.wdp"/><Relationship Id="rId1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microsoft.com/office/2007/relationships/hdphoto" Target="../media/hdphoto10.wdp"/><Relationship Id="rId3" Type="http://schemas.openxmlformats.org/officeDocument/2006/relationships/image" Target="../media/image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3640" y="1484640"/>
            <a:ext cx="8460000" cy="1685520"/>
          </a:xfrm>
          <a:prstGeom prst="rect">
            <a:avLst/>
          </a:prstGeom>
          <a:solidFill>
            <a:srgbClr val="0070c1"/>
          </a:solidFill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циональный проек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алое и среднее предпринимательство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оддержка индивидуальной предпринимательской инициативы»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99640" y="3717000"/>
            <a:ext cx="6184440" cy="7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экономического развит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нвести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6"/>
          <p:cNvSpPr/>
          <p:nvPr/>
        </p:nvSpPr>
        <p:spPr>
          <a:xfrm>
            <a:off x="4572000" y="4797000"/>
            <a:ext cx="4312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кладчик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нистр экономического развит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инвестиций Сама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митрий Юрьевич Богда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27640" y="44640"/>
            <a:ext cx="600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Num" idx="8"/>
          </p:nvPr>
        </p:nvSpPr>
        <p:spPr>
          <a:xfrm>
            <a:off x="8188200" y="649296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F5B6F07-C28E-4EE6-84D3-CE89B174468F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1337040" y="1072080"/>
            <a:ext cx="7214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о мерах государственной поддерж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196640" y="1998000"/>
            <a:ext cx="28328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КУ СО «Информацион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алтинговое агент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ИКАС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3" descr=""/>
          <p:cNvPicPr/>
          <p:nvPr/>
        </p:nvPicPr>
        <p:blipFill>
          <a:blip r:embed="rId2"/>
          <a:stretch/>
        </p:blipFill>
        <p:spPr>
          <a:xfrm>
            <a:off x="251640" y="2118600"/>
            <a:ext cx="931680" cy="5896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4"/>
          <p:cNvSpPr/>
          <p:nvPr/>
        </p:nvSpPr>
        <p:spPr>
          <a:xfrm>
            <a:off x="1201680" y="3049920"/>
            <a:ext cx="3475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7 927 900 40 65 (правовые вопрос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9"/>
          <p:cNvSpPr/>
          <p:nvPr/>
        </p:nvSpPr>
        <p:spPr>
          <a:xfrm>
            <a:off x="1184760" y="3306600"/>
            <a:ext cx="34898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7 927 900 40 66 (экономич. вопрос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0"/>
          <p:cNvSpPr/>
          <p:nvPr/>
        </p:nvSpPr>
        <p:spPr>
          <a:xfrm>
            <a:off x="1225440" y="3566160"/>
            <a:ext cx="2069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www.ikaso63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2"/>
          <p:cNvSpPr/>
          <p:nvPr/>
        </p:nvSpPr>
        <p:spPr>
          <a:xfrm>
            <a:off x="6189120" y="1998000"/>
            <a:ext cx="198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нави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11" descr=""/>
          <p:cNvPicPr/>
          <p:nvPr/>
        </p:nvPicPr>
        <p:blipFill>
          <a:blip r:embed="rId3"/>
          <a:stretch/>
        </p:blipFill>
        <p:spPr>
          <a:xfrm>
            <a:off x="5392800" y="2058120"/>
            <a:ext cx="732600" cy="71028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5"/>
          <p:cNvSpPr/>
          <p:nvPr/>
        </p:nvSpPr>
        <p:spPr>
          <a:xfrm>
            <a:off x="6189480" y="2473560"/>
            <a:ext cx="1709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smbn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318680" y="4437000"/>
            <a:ext cx="234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йт поддержки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ния-успеха.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17" descr=""/>
          <p:cNvPicPr/>
          <p:nvPr/>
        </p:nvPicPr>
        <p:blipFill>
          <a:blip r:embed="rId4"/>
          <a:stretch/>
        </p:blipFill>
        <p:spPr>
          <a:xfrm>
            <a:off x="280080" y="4405320"/>
            <a:ext cx="971640" cy="647640"/>
          </a:xfrm>
          <a:prstGeom prst="rect">
            <a:avLst/>
          </a:prstGeom>
          <a:ln w="0">
            <a:noFill/>
          </a:ln>
        </p:spPr>
      </p:pic>
      <p:sp>
        <p:nvSpPr>
          <p:cNvPr id="261" name="Равнобедренный треугольник 28"/>
          <p:cNvSpPr/>
          <p:nvPr/>
        </p:nvSpPr>
        <p:spPr>
          <a:xfrm rot="5400000">
            <a:off x="3845160" y="4804920"/>
            <a:ext cx="1457280" cy="250920"/>
          </a:xfrm>
          <a:prstGeom prst="triangle">
            <a:avLst>
              <a:gd name="adj" fmla="val 46733"/>
            </a:avLst>
          </a:prstGeom>
          <a:solidFill>
            <a:srgbClr val="ff0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Box 29"/>
          <p:cNvSpPr/>
          <p:nvPr/>
        </p:nvSpPr>
        <p:spPr>
          <a:xfrm>
            <a:off x="6142680" y="4368240"/>
            <a:ext cx="25128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Единый порт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оддержки и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ybiz63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5"/>
          <a:stretch/>
        </p:blipFill>
        <p:spPr>
          <a:xfrm>
            <a:off x="5422680" y="436824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0"/>
          <p:cNvSpPr/>
          <p:nvPr/>
        </p:nvSpPr>
        <p:spPr>
          <a:xfrm>
            <a:off x="3947760" y="5786280"/>
            <a:ext cx="9950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авгу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2"/>
          <p:cNvSpPr/>
          <p:nvPr/>
        </p:nvSpPr>
        <p:spPr>
          <a:xfrm>
            <a:off x="6177960" y="3040920"/>
            <a:ext cx="2806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йт УФНС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www.nalog.ru/rn6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алоговые калькуля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1" descr=""/>
          <p:cNvPicPr/>
          <p:nvPr/>
        </p:nvPicPr>
        <p:blipFill>
          <a:blip r:embed="rId6"/>
          <a:stretch/>
        </p:blipFill>
        <p:spPr>
          <a:xfrm>
            <a:off x="5422680" y="3075120"/>
            <a:ext cx="648000" cy="6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167760" y="920880"/>
            <a:ext cx="8370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изация предприниматель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0" y="2386080"/>
            <a:ext cx="7164000" cy="40410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2"/>
          <p:cNvSpPr/>
          <p:nvPr/>
        </p:nvSpPr>
        <p:spPr>
          <a:xfrm>
            <a:off x="2915640" y="1614600"/>
            <a:ext cx="279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1f497d"/>
                </a:solidFill>
                <a:uFillTx/>
                <a:latin typeface="Tahoma"/>
                <a:ea typeface="Tahoma"/>
              </a:rPr>
              <a:t>mybiz63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5724000" y="3789000"/>
            <a:ext cx="3419640" cy="26380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73" name="TextBox 7"/>
          <p:cNvSpPr/>
          <p:nvPr/>
        </p:nvSpPr>
        <p:spPr>
          <a:xfrm>
            <a:off x="5853600" y="4077360"/>
            <a:ext cx="32688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  <a:ea typeface="Tahoma"/>
              </a:rPr>
              <a:t>«Единая точка вход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лучения государстве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поддерж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Информация обо все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мерах и институ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Tahoma"/>
                <a:ea typeface="Tahoma"/>
              </a:rPr>
              <a:t>поддержк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на терри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3D60-B3F4-4975-98B7-8284CD8F60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Num" idx="9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D8D072E-B452-4AF2-B202-A6E72694E98C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4"/>
          <p:cNvSpPr/>
          <p:nvPr/>
        </p:nvSpPr>
        <p:spPr>
          <a:xfrm>
            <a:off x="1115640" y="947160"/>
            <a:ext cx="705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ый аккаунт для всех социальных 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26"/>
          <p:cNvSpPr/>
          <p:nvPr/>
        </p:nvSpPr>
        <p:spPr>
          <a:xfrm>
            <a:off x="3398760" y="1294560"/>
            <a:ext cx="2490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1f497d"/>
                </a:solidFill>
                <a:uFillTx/>
                <a:latin typeface="Tahoma"/>
                <a:ea typeface="Tahoma"/>
              </a:rPr>
              <a:t>mybiz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31" descr=""/>
          <p:cNvPicPr/>
          <p:nvPr/>
        </p:nvPicPr>
        <p:blipFill>
          <a:blip r:embed="rId2"/>
          <a:stretch/>
        </p:blipFill>
        <p:spPr>
          <a:xfrm>
            <a:off x="251640" y="310608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32" descr=""/>
          <p:cNvPicPr/>
          <p:nvPr/>
        </p:nvPicPr>
        <p:blipFill>
          <a:blip r:embed="rId3"/>
          <a:stretch/>
        </p:blipFill>
        <p:spPr>
          <a:xfrm>
            <a:off x="284400" y="505260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33" descr=""/>
          <p:cNvPicPr/>
          <p:nvPr/>
        </p:nvPicPr>
        <p:blipFill>
          <a:blip r:embed="rId4"/>
          <a:stretch/>
        </p:blipFill>
        <p:spPr>
          <a:xfrm>
            <a:off x="251640" y="4079520"/>
            <a:ext cx="107964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82" name="Группа 37"/>
          <p:cNvGrpSpPr/>
          <p:nvPr/>
        </p:nvGrpSpPr>
        <p:grpSpPr>
          <a:xfrm>
            <a:off x="251640" y="2133000"/>
            <a:ext cx="1079640" cy="1079640"/>
            <a:chOff x="251640" y="2133000"/>
            <a:chExt cx="1079640" cy="1079640"/>
          </a:xfrm>
        </p:grpSpPr>
        <p:pic>
          <p:nvPicPr>
            <p:cNvPr id="283" name="Рисунок 35" descr=""/>
            <p:cNvPicPr/>
            <p:nvPr/>
          </p:nvPicPr>
          <p:blipFill>
            <a:blip r:embed="rId5"/>
            <a:stretch/>
          </p:blipFill>
          <p:spPr>
            <a:xfrm>
              <a:off x="251640" y="2133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Рисунок 36" descr=""/>
            <p:cNvPicPr/>
            <p:nvPr/>
          </p:nvPicPr>
          <p:blipFill>
            <a:blip r:embed="rId6">
              <a:extLst>
                <a:ext uri="{BEBA8EAE-BF5A-486C-A8C5-ECC9F3942E4B}">
                  <a14:imgProps xmlns:a14="http://schemas.microsoft.com/office/drawing/2010/main">
                    <a14:imgLayer r:embed="rId7">
                      <a14:imgEffect>
                        <a14:saturation sat="3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301680" y="2192760"/>
              <a:ext cx="65556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Прямоугольник 38"/>
          <p:cNvSpPr/>
          <p:nvPr/>
        </p:nvSpPr>
        <p:spPr>
          <a:xfrm>
            <a:off x="1135440" y="2336040"/>
            <a:ext cx="193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k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9"/>
          <p:cNvSpPr/>
          <p:nvPr/>
        </p:nvSpPr>
        <p:spPr>
          <a:xfrm>
            <a:off x="1132200" y="5246280"/>
            <a:ext cx="130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@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40"/>
          <p:cNvSpPr/>
          <p:nvPr/>
        </p:nvSpPr>
        <p:spPr>
          <a:xfrm>
            <a:off x="1136880" y="4293000"/>
            <a:ext cx="235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witter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41"/>
          <p:cNvSpPr/>
          <p:nvPr/>
        </p:nvSpPr>
        <p:spPr>
          <a:xfrm>
            <a:off x="1139040" y="3280320"/>
            <a:ext cx="268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facebook.com/mybiz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2229120" y="5905800"/>
            <a:ext cx="3084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#МойБизнес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4"/>
          <p:cNvSpPr/>
          <p:nvPr/>
        </p:nvSpPr>
        <p:spPr>
          <a:xfrm>
            <a:off x="5375880" y="5877360"/>
            <a:ext cx="3732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#БизнесЭтоПро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5" descr=""/>
          <p:cNvPicPr/>
          <p:nvPr/>
        </p:nvPicPr>
        <p:blipFill>
          <a:blip r:embed="rId8"/>
          <a:stretch/>
        </p:blipFill>
        <p:spPr>
          <a:xfrm>
            <a:off x="3771360" y="2061000"/>
            <a:ext cx="2783880" cy="2783880"/>
          </a:xfrm>
          <a:prstGeom prst="rect">
            <a:avLst/>
          </a:prstGeom>
          <a:ln w="0">
            <a:noFill/>
          </a:ln>
        </p:spPr>
      </p:pic>
      <p:pic>
        <p:nvPicPr>
          <p:cNvPr id="292" name="Рисунок 6" descr=""/>
          <p:cNvPicPr/>
          <p:nvPr/>
        </p:nvPicPr>
        <p:blipFill>
          <a:blip r:embed="rId9"/>
          <a:stretch/>
        </p:blipFill>
        <p:spPr>
          <a:xfrm>
            <a:off x="6607080" y="2252520"/>
            <a:ext cx="2500920" cy="2448360"/>
          </a:xfrm>
          <a:prstGeom prst="rect">
            <a:avLst/>
          </a:prstGeom>
          <a:ln w="0">
            <a:noFill/>
          </a:ln>
        </p:spPr>
      </p:pic>
      <p:sp>
        <p:nvSpPr>
          <p:cNvPr id="293" name="TextBox 7"/>
          <p:cNvSpPr/>
          <p:nvPr/>
        </p:nvSpPr>
        <p:spPr>
          <a:xfrm>
            <a:off x="4395960" y="4790160"/>
            <a:ext cx="132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онта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0"/>
          <p:cNvSpPr/>
          <p:nvPr/>
        </p:nvSpPr>
        <p:spPr>
          <a:xfrm>
            <a:off x="7115760" y="4786920"/>
            <a:ext cx="1272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Num" idx="10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B86B1CC-D712-4726-9161-454800063D15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043640" y="941760"/>
            <a:ext cx="7704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rcRect l="6367" t="257" r="3086" b="2970"/>
          <a:stretch/>
        </p:blipFill>
        <p:spPr>
          <a:xfrm>
            <a:off x="0" y="1700640"/>
            <a:ext cx="3779640" cy="33778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нтры оказания услуг для предпринимателей 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"/>
          <p:cNvSpPr/>
          <p:nvPr/>
        </p:nvSpPr>
        <p:spPr>
          <a:xfrm>
            <a:off x="3924000" y="1928520"/>
            <a:ext cx="5112360" cy="35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2 700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оябрь 2019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олее 15 организаци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оказывающих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олее 200 услуг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СМ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консультации по вопросам ведения бизн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буч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мощь в составлении бизнес-пла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инансовая поддерж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tarSymbol"/>
              <a:buChar char="-"/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формление разрешительной документ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StarSymbol"/>
              <a:buChar char="-"/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ация юридического л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3977640" y="1556640"/>
            <a:ext cx="4745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ональный центр «Мой бизнес» г. Сам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2078640" y="5313960"/>
            <a:ext cx="462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униципальные центры «Мой бизне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8"/>
          <p:cNvSpPr/>
          <p:nvPr/>
        </p:nvSpPr>
        <p:spPr>
          <a:xfrm>
            <a:off x="486000" y="580536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Сызр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5731920" y="5800320"/>
            <a:ext cx="280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ие – 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26"/>
          <p:cNvSpPr/>
          <p:nvPr/>
        </p:nvSpPr>
        <p:spPr>
          <a:xfrm>
            <a:off x="4428000" y="4797000"/>
            <a:ext cx="4715640" cy="158364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Num" idx="11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64D27DC-CD66-4B55-94FB-62936BE275D4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ущественная поддержка М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1431000" y="1628640"/>
            <a:ext cx="20937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инкуб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.о. 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s://biznes-63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6 руб./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12" descr=""/>
          <p:cNvPicPr/>
          <p:nvPr/>
        </p:nvPicPr>
        <p:blipFill>
          <a:blip r:embed="rId1"/>
          <a:stretch/>
        </p:blipFill>
        <p:spPr>
          <a:xfrm>
            <a:off x="531000" y="1628640"/>
            <a:ext cx="854280" cy="719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5"/>
          <p:cNvSpPr/>
          <p:nvPr/>
        </p:nvSpPr>
        <p:spPr>
          <a:xfrm>
            <a:off x="5986800" y="1628640"/>
            <a:ext cx="239868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-инкуб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.о. Сам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://samarabiznes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30 руб./ кв. 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16" descr=""/>
          <p:cNvPicPr/>
          <p:nvPr/>
        </p:nvPicPr>
        <p:blipFill>
          <a:blip r:embed="rId3"/>
          <a:stretch/>
        </p:blipFill>
        <p:spPr>
          <a:xfrm>
            <a:off x="4892040" y="1628640"/>
            <a:ext cx="1076760" cy="107676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17"/>
          <p:cNvSpPr/>
          <p:nvPr/>
        </p:nvSpPr>
        <p:spPr>
          <a:xfrm>
            <a:off x="1430640" y="2997000"/>
            <a:ext cx="250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ехнопар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Жигулевская доли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Рисунок 18" descr=""/>
          <p:cNvPicPr/>
          <p:nvPr/>
        </p:nvPicPr>
        <p:blipFill>
          <a:blip r:embed="rId4"/>
          <a:stretch/>
        </p:blipFill>
        <p:spPr>
          <a:xfrm>
            <a:off x="649080" y="3037320"/>
            <a:ext cx="648000" cy="6188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19"/>
          <p:cNvSpPr/>
          <p:nvPr/>
        </p:nvSpPr>
        <p:spPr>
          <a:xfrm>
            <a:off x="1431720" y="3543840"/>
            <a:ext cx="1843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http://dolinatlt.r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0"/>
          <p:cNvSpPr/>
          <p:nvPr/>
        </p:nvSpPr>
        <p:spPr>
          <a:xfrm>
            <a:off x="1392480" y="3882600"/>
            <a:ext cx="24152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то строитель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парка «Жигулевск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ина-2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1"/>
          <p:cNvSpPr/>
          <p:nvPr/>
        </p:nvSpPr>
        <p:spPr>
          <a:xfrm>
            <a:off x="5984280" y="3037320"/>
            <a:ext cx="2508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Индустриальный пар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Чапаевс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СЭ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"/>
          <p:cNvSpPr/>
          <p:nvPr/>
        </p:nvSpPr>
        <p:spPr>
          <a:xfrm>
            <a:off x="5969520" y="3876120"/>
            <a:ext cx="280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i-parks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"/>
          <p:cNvPicPr/>
          <p:nvPr/>
        </p:nvPicPr>
        <p:blipFill>
          <a:blip r:embed="rId5"/>
          <a:stretch/>
        </p:blipFill>
        <p:spPr>
          <a:xfrm>
            <a:off x="4892040" y="3020040"/>
            <a:ext cx="1137600" cy="9111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22"/>
          <p:cNvSpPr/>
          <p:nvPr/>
        </p:nvSpPr>
        <p:spPr>
          <a:xfrm>
            <a:off x="1397520" y="4869000"/>
            <a:ext cx="1862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ТОСЭР</a:t>
            </a: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Тольят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7"/>
          <p:cNvSpPr/>
          <p:nvPr/>
        </p:nvSpPr>
        <p:spPr>
          <a:xfrm>
            <a:off x="1417680" y="5207760"/>
            <a:ext cx="219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http://www.invest.tgl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8"/>
          <p:cNvSpPr/>
          <p:nvPr/>
        </p:nvSpPr>
        <p:spPr>
          <a:xfrm>
            <a:off x="4500000" y="4893120"/>
            <a:ext cx="4277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еимущества резидента ТОСЭ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недвижимое имущество: 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прибыль – 2% – 5 л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2% – 6-10 лет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 на землю: 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ховые выплаты: 7,6% годов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Рисунок 25" descr=""/>
          <p:cNvPicPr/>
          <p:nvPr/>
        </p:nvPicPr>
        <p:blipFill>
          <a:blip r:embed="rId6"/>
          <a:stretch/>
        </p:blipFill>
        <p:spPr>
          <a:xfrm>
            <a:off x="671040" y="4869000"/>
            <a:ext cx="672120" cy="8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Num" idx="12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6F0827E-8C22-4775-8D97-152C16F58B37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258480" y="1052640"/>
            <a:ext cx="86414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инфраструктуры поддержки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"/>
          <p:cNvSpPr/>
          <p:nvPr/>
        </p:nvSpPr>
        <p:spPr>
          <a:xfrm>
            <a:off x="533160" y="2485440"/>
            <a:ext cx="257076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нистерство экономического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и инвестиц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партамент разви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 263-43-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http://economy.samregio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Рисунок 5" descr=""/>
          <p:cNvPicPr/>
          <p:nvPr/>
        </p:nvPicPr>
        <p:blipFill>
          <a:blip r:embed="rId1"/>
          <a:stretch/>
        </p:blipFill>
        <p:spPr>
          <a:xfrm>
            <a:off x="1458360" y="1750320"/>
            <a:ext cx="650880" cy="711000"/>
          </a:xfrm>
          <a:prstGeom prst="rect">
            <a:avLst/>
          </a:prstGeom>
          <a:ln w="0">
            <a:noFill/>
          </a:ln>
        </p:spPr>
      </p:pic>
      <p:sp>
        <p:nvSpPr>
          <p:cNvPr id="330" name="Прямоугольник 8"/>
          <p:cNvSpPr/>
          <p:nvPr/>
        </p:nvSpPr>
        <p:spPr>
          <a:xfrm>
            <a:off x="3402360" y="2485440"/>
            <a:ext cx="22510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КУ С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о-консалтинговое агентство Самарской области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+7 927 900 40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+7 927 900 40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ikaso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63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9" descr=""/>
          <p:cNvPicPr/>
          <p:nvPr/>
        </p:nvPicPr>
        <p:blipFill>
          <a:blip r:embed="rId2"/>
          <a:stretch/>
        </p:blipFill>
        <p:spPr>
          <a:xfrm>
            <a:off x="4113360" y="1871280"/>
            <a:ext cx="931680" cy="5896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10"/>
          <p:cNvSpPr/>
          <p:nvPr/>
        </p:nvSpPr>
        <p:spPr>
          <a:xfrm>
            <a:off x="5868000" y="2577600"/>
            <a:ext cx="295200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О Микрокредитная комп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Гарантийный фон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» (АО«ГФСО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 (846) 989-50-77 (Сама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82) 555-219 (Тольят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gfso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11" descr=""/>
          <p:cNvPicPr/>
          <p:nvPr/>
        </p:nvPicPr>
        <p:blipFill>
          <a:blip r:embed="rId3"/>
          <a:stretch/>
        </p:blipFill>
        <p:spPr>
          <a:xfrm>
            <a:off x="6605640" y="2105640"/>
            <a:ext cx="1476720" cy="3290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12"/>
          <p:cNvSpPr/>
          <p:nvPr/>
        </p:nvSpPr>
        <p:spPr>
          <a:xfrm>
            <a:off x="452880" y="5077800"/>
            <a:ext cx="274392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нд «Региональный 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ития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 205 71 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fond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samara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Рисунок 13" descr=""/>
          <p:cNvPicPr/>
          <p:nvPr/>
        </p:nvPicPr>
        <p:blipFill>
          <a:blip r:embed="rId4"/>
          <a:stretch/>
        </p:blipFill>
        <p:spPr>
          <a:xfrm>
            <a:off x="1389240" y="4293360"/>
            <a:ext cx="789120" cy="78372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14"/>
          <p:cNvSpPr/>
          <p:nvPr/>
        </p:nvSpPr>
        <p:spPr>
          <a:xfrm>
            <a:off x="3330000" y="5077800"/>
            <a:ext cx="24984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ки экспор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ар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6) 205-71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s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63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15" descr=""/>
          <p:cNvPicPr/>
          <p:nvPr/>
        </p:nvPicPr>
        <p:blipFill>
          <a:blip r:embed="rId5"/>
          <a:stretch/>
        </p:blipFill>
        <p:spPr>
          <a:xfrm>
            <a:off x="4065840" y="4291200"/>
            <a:ext cx="924120" cy="78588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6"/>
          <p:cNvSpPr/>
          <p:nvPr/>
        </p:nvSpPr>
        <p:spPr>
          <a:xfrm>
            <a:off x="6309360" y="5077800"/>
            <a:ext cx="20696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парк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Жигулевская долина» (Тольят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8 (8482) 93 00 93 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dolinatlt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1f497d"/>
                </a:solidFill>
                <a:latin typeface="Arial"/>
              </a:rPr>
              <a:t>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Рисунок 18" descr=""/>
          <p:cNvPicPr/>
          <p:nvPr/>
        </p:nvPicPr>
        <p:blipFill>
          <a:blip r:embed="rId6"/>
          <a:stretch/>
        </p:blipFill>
        <p:spPr>
          <a:xfrm>
            <a:off x="7020360" y="4458600"/>
            <a:ext cx="6480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Num" idx="13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1A9EAAB-B3F9-4991-9523-D924801E5161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"/>
          <p:cNvSpPr/>
          <p:nvPr/>
        </p:nvSpPr>
        <p:spPr>
          <a:xfrm>
            <a:off x="3084120" y="1052640"/>
            <a:ext cx="5838840" cy="3553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аимодействие бизнеса и органов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"/>
          <p:cNvSpPr/>
          <p:nvPr/>
        </p:nvSpPr>
        <p:spPr>
          <a:xfrm>
            <a:off x="222480" y="3107160"/>
            <a:ext cx="33130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ору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«Линия успеха» (ма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орум развития моногород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Форум молодеж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в конце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"/>
          <p:cNvSpPr/>
          <p:nvPr/>
        </p:nvSpPr>
        <p:spPr>
          <a:xfrm>
            <a:off x="203400" y="4975560"/>
            <a:ext cx="30463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тратегические се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 вопросам развития МСП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апрель 201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юль 2019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ентябрь 20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6" descr=""/>
          <p:cNvPicPr/>
          <p:nvPr/>
        </p:nvPicPr>
        <p:blipFill>
          <a:blip r:embed="rId1"/>
          <a:stretch/>
        </p:blipFill>
        <p:spPr>
          <a:xfrm>
            <a:off x="0" y="908640"/>
            <a:ext cx="3081240" cy="205416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7"/>
          <p:cNvSpPr/>
          <p:nvPr/>
        </p:nvSpPr>
        <p:spPr>
          <a:xfrm>
            <a:off x="3924000" y="155664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бщественный совет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и министерстве экономического развития и инвестиций 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3890880" y="2565000"/>
            <a:ext cx="4571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Бизнес-завтра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кое сообщество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 представителями органов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3876480" y="3573000"/>
            <a:ext cx="45716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siness&amp;Talks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(Бизнес с толк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искусионные площадки о бизнесе и для бизнеса в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ама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3872160" y="486900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крытые диалоги с вла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(в формате: вопрос-отв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876480" y="5661360"/>
            <a:ext cx="45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ормирование бизнес-сообществ для решения профессиональных вопро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Num" idx="14"/>
          </p:nvPr>
        </p:nvSpPr>
        <p:spPr>
          <a:xfrm>
            <a:off x="8629560" y="649296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18305D8-DAF7-4C11-A75C-881AC3E02015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"/>
          <p:cNvSpPr/>
          <p:nvPr/>
        </p:nvSpPr>
        <p:spPr>
          <a:xfrm>
            <a:off x="561960" y="0"/>
            <a:ext cx="8568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ый и средний бизнес 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0"/>
          <p:cNvSpPr/>
          <p:nvPr/>
        </p:nvSpPr>
        <p:spPr>
          <a:xfrm>
            <a:off x="0" y="4510800"/>
            <a:ext cx="914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3552480" y="1897920"/>
            <a:ext cx="2038680" cy="21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1823760" y="1072080"/>
            <a:ext cx="6242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Целевые показатели для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384560" y="2192760"/>
            <a:ext cx="381384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Численность занятых в сфере малог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и среднего предпринимательств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в Самарской обла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1384560" y="3275640"/>
            <a:ext cx="3851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Доля малого и среднего предпринима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тельства в ВР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1384560" y="3992400"/>
            <a:ext cx="3888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Доля экспортеров, являющихся субъекта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ми малого и среднего предприниматель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  <a:ea typeface="Tahoma"/>
              </a:rPr>
              <a:t>-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ства, включая индивидуальных предпринимателей, в общем объеме несырьевого экспор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384560" y="5446800"/>
            <a:ext cx="3851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  <a:ea typeface="Tahoma"/>
              </a:rPr>
              <a:t>Финансовое обеспеч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право 12"/>
          <p:cNvSpPr/>
          <p:nvPr/>
        </p:nvSpPr>
        <p:spPr>
          <a:xfrm>
            <a:off x="5399640" y="246240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трелка вправо 13"/>
          <p:cNvSpPr/>
          <p:nvPr/>
        </p:nvSpPr>
        <p:spPr>
          <a:xfrm>
            <a:off x="5388120" y="346680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4"/>
          <p:cNvSpPr/>
          <p:nvPr/>
        </p:nvSpPr>
        <p:spPr>
          <a:xfrm>
            <a:off x="5399640" y="447156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трелка вправо 15"/>
          <p:cNvSpPr/>
          <p:nvPr/>
        </p:nvSpPr>
        <p:spPr>
          <a:xfrm>
            <a:off x="5399640" y="5485320"/>
            <a:ext cx="1104840" cy="230760"/>
          </a:xfrm>
          <a:prstGeom prst="rightArrow">
            <a:avLst>
              <a:gd name="adj1" fmla="val 50000"/>
              <a:gd name="adj2" fmla="val 125701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5355720" y="1981080"/>
            <a:ext cx="1205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  <a:ea typeface="Tahoma"/>
              </a:rPr>
              <a:t>к 2024 го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6660720" y="2251080"/>
            <a:ext cx="198108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ru-RU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535</a:t>
            </a:r>
            <a:r>
              <a:rPr b="1" lang="en-US" sz="20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тыс.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9"/>
          <p:cNvSpPr/>
          <p:nvPr/>
        </p:nvSpPr>
        <p:spPr>
          <a:xfrm>
            <a:off x="6656040" y="5248800"/>
            <a:ext cx="182844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0000"/>
              </a:lnSpc>
            </a:pPr>
            <a:r>
              <a:rPr b="1" lang="ru-RU" sz="3600" spc="-151" strike="noStrike">
                <a:solidFill>
                  <a:srgbClr val="1f497d"/>
                </a:solidFill>
                <a:latin typeface="Arial Black"/>
                <a:ea typeface="Tahoma"/>
              </a:rPr>
              <a:t>2671,6</a:t>
            </a:r>
            <a:r>
              <a:rPr b="1" lang="en-US" sz="2000" spc="-1" strike="noStrike">
                <a:solidFill>
                  <a:srgbClr val="1f497d"/>
                </a:solidFill>
                <a:latin typeface="Tahoma"/>
                <a:ea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Tahoma"/>
                <a:ea typeface="Tahoma"/>
              </a:rPr>
              <a:t>млн.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6768000" y="3401640"/>
            <a:ext cx="199836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ru-RU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32,5</a:t>
            </a:r>
            <a:r>
              <a:rPr b="1" lang="ru-RU" sz="4400" spc="-1" strike="noStrike">
                <a:solidFill>
                  <a:srgbClr val="1f497d"/>
                </a:solidFill>
                <a:latin typeface="Arial Black"/>
                <a:ea typeface="Tahoma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1"/>
          <p:cNvSpPr/>
          <p:nvPr/>
        </p:nvSpPr>
        <p:spPr>
          <a:xfrm>
            <a:off x="6680880" y="4353480"/>
            <a:ext cx="144972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60000"/>
              </a:lnSpc>
            </a:pPr>
            <a:r>
              <a:rPr b="1" lang="en-US" sz="5400" spc="-151" strike="noStrike">
                <a:solidFill>
                  <a:srgbClr val="1f497d"/>
                </a:solidFill>
                <a:latin typeface="Arial Black"/>
                <a:ea typeface="Tahoma"/>
              </a:rPr>
              <a:t>10</a:t>
            </a:r>
            <a:r>
              <a:rPr b="1" lang="ru-RU" sz="4400" spc="-1" strike="noStrike">
                <a:solidFill>
                  <a:srgbClr val="1f497d"/>
                </a:solidFill>
                <a:latin typeface="Arial Black"/>
                <a:ea typeface="Tahoma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2" descr=""/>
          <p:cNvPicPr/>
          <p:nvPr/>
        </p:nvPicPr>
        <p:blipFill>
          <a:blip r:embed="rId2"/>
          <a:stretch/>
        </p:blipFill>
        <p:spPr>
          <a:xfrm>
            <a:off x="364320" y="216252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3" descr=""/>
          <p:cNvPicPr/>
          <p:nvPr/>
        </p:nvPicPr>
        <p:blipFill>
          <a:blip r:embed="rId3"/>
          <a:stretch/>
        </p:blipFill>
        <p:spPr>
          <a:xfrm>
            <a:off x="364320" y="312192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4" descr=""/>
          <p:cNvPicPr/>
          <p:nvPr/>
        </p:nvPicPr>
        <p:blipFill>
          <a:blip r:embed="rId4"/>
          <a:stretch/>
        </p:blipFill>
        <p:spPr>
          <a:xfrm>
            <a:off x="364320" y="4163760"/>
            <a:ext cx="866520" cy="8474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5" descr=""/>
          <p:cNvPicPr/>
          <p:nvPr/>
        </p:nvPicPr>
        <p:blipFill>
          <a:blip r:embed="rId5"/>
          <a:stretch/>
        </p:blipFill>
        <p:spPr>
          <a:xfrm>
            <a:off x="364320" y="5173560"/>
            <a:ext cx="866520" cy="84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B03E-5578-432D-9748-DF19F39CCB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49"/>
          <p:cNvSpPr/>
          <p:nvPr/>
        </p:nvSpPr>
        <p:spPr>
          <a:xfrm>
            <a:off x="0" y="5598720"/>
            <a:ext cx="9143640" cy="903960"/>
          </a:xfrm>
          <a:prstGeom prst="rect">
            <a:avLst/>
          </a:prstGeom>
          <a:solidFill>
            <a:srgbClr val="99ffcc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0" name="TextBox 52"/>
          <p:cNvSpPr/>
          <p:nvPr/>
        </p:nvSpPr>
        <p:spPr>
          <a:xfrm>
            <a:off x="8034840" y="559872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Загнутый угол 51"/>
          <p:cNvSpPr/>
          <p:nvPr/>
        </p:nvSpPr>
        <p:spPr>
          <a:xfrm>
            <a:off x="0" y="5598720"/>
            <a:ext cx="543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323640" y="5826600"/>
            <a:ext cx="4824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Популяризация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5"/>
          <p:cNvSpPr/>
          <p:nvPr/>
        </p:nvSpPr>
        <p:spPr>
          <a:xfrm>
            <a:off x="-18720" y="4716720"/>
            <a:ext cx="9138600" cy="903960"/>
          </a:xfrm>
          <a:prstGeom prst="rect">
            <a:avLst/>
          </a:prstGeom>
          <a:solidFill>
            <a:srgbClr val="ffcccc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4" name="TextBox 48"/>
          <p:cNvSpPr/>
          <p:nvPr/>
        </p:nvSpPr>
        <p:spPr>
          <a:xfrm>
            <a:off x="757800" y="47253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нутый угол 47"/>
          <p:cNvSpPr/>
          <p:nvPr/>
        </p:nvSpPr>
        <p:spPr>
          <a:xfrm flipH="1">
            <a:off x="2715840" y="4708800"/>
            <a:ext cx="64220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6" name="TextBox 19"/>
          <p:cNvSpPr/>
          <p:nvPr/>
        </p:nvSpPr>
        <p:spPr>
          <a:xfrm>
            <a:off x="3039120" y="4829040"/>
            <a:ext cx="5972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Создание системы поддержки фермеров и развитие сельской коопер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2"/>
          <p:cNvSpPr/>
          <p:nvPr/>
        </p:nvSpPr>
        <p:spPr>
          <a:xfrm>
            <a:off x="0" y="3798720"/>
            <a:ext cx="9143640" cy="903960"/>
          </a:xfrm>
          <a:prstGeom prst="rect">
            <a:avLst/>
          </a:prstGeom>
          <a:solidFill>
            <a:srgbClr val="ff0000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8032320" y="374472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Загнутый угол 43"/>
          <p:cNvSpPr/>
          <p:nvPr/>
        </p:nvSpPr>
        <p:spPr>
          <a:xfrm>
            <a:off x="-13680" y="3798720"/>
            <a:ext cx="544932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0" name="TextBox 17"/>
          <p:cNvSpPr/>
          <p:nvPr/>
        </p:nvSpPr>
        <p:spPr>
          <a:xfrm>
            <a:off x="258840" y="3934080"/>
            <a:ext cx="517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Акселерация субъектов малого и среднего предпринимательст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0" y="2853360"/>
            <a:ext cx="9143640" cy="94500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TextBox 41"/>
          <p:cNvSpPr/>
          <p:nvPr/>
        </p:nvSpPr>
        <p:spPr>
          <a:xfrm>
            <a:off x="777240" y="28335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нутый угол 40"/>
          <p:cNvSpPr/>
          <p:nvPr/>
        </p:nvSpPr>
        <p:spPr>
          <a:xfrm flipH="1">
            <a:off x="2717280" y="2853360"/>
            <a:ext cx="642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3060000" y="2959560"/>
            <a:ext cx="60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Расширение доступа субъектов МСП к финансовым ресурсам, в том числе к льготному финансировани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0" y="1772640"/>
            <a:ext cx="9143640" cy="1089360"/>
          </a:xfrm>
          <a:prstGeom prst="rect">
            <a:avLst/>
          </a:prstGeom>
          <a:solidFill>
            <a:srgbClr val="0070c0"/>
          </a:soli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7964280" y="1782360"/>
            <a:ext cx="51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Загнутый угол 4"/>
          <p:cNvSpPr/>
          <p:nvPr/>
        </p:nvSpPr>
        <p:spPr>
          <a:xfrm>
            <a:off x="0" y="1782360"/>
            <a:ext cx="5435640" cy="797400"/>
          </a:xfrm>
          <a:prstGeom prst="foldedCorner">
            <a:avLst>
              <a:gd name="adj" fmla="val 36322"/>
            </a:avLst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323640" y="1888920"/>
            <a:ext cx="56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«Улучшение условий ведения предпринимательской деятель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Num" idx="6"/>
          </p:nvPr>
        </p:nvSpPr>
        <p:spPr>
          <a:xfrm>
            <a:off x="8100360" y="650340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429C2F2-F783-4A99-8ACC-8B078686E715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42" name="TextBox 14"/>
          <p:cNvSpPr/>
          <p:nvPr/>
        </p:nvSpPr>
        <p:spPr>
          <a:xfrm>
            <a:off x="3075840" y="1380960"/>
            <a:ext cx="3212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5 федераль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8"/>
          <p:cNvSpPr/>
          <p:nvPr/>
        </p:nvSpPr>
        <p:spPr>
          <a:xfrm>
            <a:off x="1401480" y="980640"/>
            <a:ext cx="6560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Федеральные проекты национа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07640" y="4530240"/>
            <a:ext cx="863640" cy="770760"/>
          </a:xfrm>
          <a:prstGeom prst="rect">
            <a:avLst/>
          </a:prstGeom>
          <a:ln w="0">
            <a:noFill/>
          </a:ln>
        </p:spPr>
      </p:pic>
      <p:sp>
        <p:nvSpPr>
          <p:cNvPr id="145" name="Выноска 1 21"/>
          <p:cNvSpPr/>
          <p:nvPr/>
        </p:nvSpPr>
        <p:spPr>
          <a:xfrm>
            <a:off x="5652000" y="4221000"/>
            <a:ext cx="3432240" cy="2268720"/>
          </a:xfrm>
          <a:prstGeom prst="borderCallout1">
            <a:avLst>
              <a:gd name="adj1" fmla="val 21237"/>
              <a:gd name="adj2" fmla="val 516"/>
              <a:gd name="adj3" fmla="val 9651"/>
              <a:gd name="adj4" fmla="val -12197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6" name="Выноска 1 20"/>
          <p:cNvSpPr/>
          <p:nvPr/>
        </p:nvSpPr>
        <p:spPr>
          <a:xfrm>
            <a:off x="5996520" y="2172240"/>
            <a:ext cx="2936520" cy="1367640"/>
          </a:xfrm>
          <a:prstGeom prst="borderCallout1">
            <a:avLst>
              <a:gd name="adj1" fmla="val 25015"/>
              <a:gd name="adj2" fmla="val -739"/>
              <a:gd name="adj3" fmla="val 65159"/>
              <a:gd name="adj4" fmla="val -21290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7" name="Выноска 1 19"/>
          <p:cNvSpPr/>
          <p:nvPr/>
        </p:nvSpPr>
        <p:spPr>
          <a:xfrm>
            <a:off x="107640" y="4221000"/>
            <a:ext cx="2777040" cy="1367640"/>
          </a:xfrm>
          <a:prstGeom prst="borderCallout1">
            <a:avLst>
              <a:gd name="adj1" fmla="val 27104"/>
              <a:gd name="adj2" fmla="val 100088"/>
              <a:gd name="adj3" fmla="val 1805"/>
              <a:gd name="adj4" fmla="val 122063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8" name="Выноска 1 2"/>
          <p:cNvSpPr/>
          <p:nvPr/>
        </p:nvSpPr>
        <p:spPr>
          <a:xfrm>
            <a:off x="107640" y="2133000"/>
            <a:ext cx="2777040" cy="1367640"/>
          </a:xfrm>
          <a:prstGeom prst="borderCallout1">
            <a:avLst>
              <a:gd name="adj1" fmla="val 27104"/>
              <a:gd name="adj2" fmla="val 100088"/>
              <a:gd name="adj3" fmla="val 65855"/>
              <a:gd name="adj4" fmla="val 122749"/>
            </a:avLst>
          </a:prstGeom>
          <a:noFill/>
          <a:ln>
            <a:solidFill>
              <a:srgbClr val="4f81bd">
                <a:lumMod val="75000"/>
              </a:srgbClr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28"/>
          <p:cNvGrpSpPr/>
          <p:nvPr/>
        </p:nvGrpSpPr>
        <p:grpSpPr>
          <a:xfrm>
            <a:off x="3317040" y="2277000"/>
            <a:ext cx="2232000" cy="2448000"/>
            <a:chOff x="3317040" y="2277000"/>
            <a:chExt cx="2232000" cy="2448000"/>
          </a:xfrm>
        </p:grpSpPr>
        <p:sp>
          <p:nvSpPr>
            <p:cNvPr id="152" name="Овал 3"/>
            <p:cNvSpPr/>
            <p:nvPr/>
          </p:nvSpPr>
          <p:spPr>
            <a:xfrm>
              <a:off x="3317040" y="2493000"/>
              <a:ext cx="2232000" cy="2232000"/>
            </a:xfrm>
            <a:prstGeom prst="ellipse">
              <a:avLst/>
            </a:prstGeom>
            <a:solidFill>
              <a:schemeClr val="bg1"/>
            </a:solidFill>
            <a:ln w="285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3" name="TextBox 6"/>
            <p:cNvSpPr/>
            <p:nvPr/>
          </p:nvSpPr>
          <p:spPr>
            <a:xfrm>
              <a:off x="3535200" y="3789000"/>
              <a:ext cx="183492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Неувереннос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в собственных</a:t>
              </a:r>
              <a:br>
                <a:rPr sz="1600"/>
              </a:b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сила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Рисунок 27" descr=""/>
            <p:cNvPicPr/>
            <p:nvPr/>
          </p:nvPicPr>
          <p:blipFill>
            <a:blip r:embed="rId4"/>
            <a:stretch/>
          </p:blipFill>
          <p:spPr>
            <a:xfrm>
              <a:off x="4090680" y="2277000"/>
              <a:ext cx="653400" cy="1517040"/>
            </a:xfrm>
            <a:prstGeom prst="rect">
              <a:avLst/>
            </a:prstGeom>
            <a:ln w="0">
              <a:noFill/>
            </a:ln>
            <a:effectLst>
              <a:outerShdw algn="bl" blurRad="76320" dir="0" kx="-1200000" rotWithShape="0" sy="23000">
                <a:srgbClr val="000000">
                  <a:alpha val="20000"/>
                </a:srgbClr>
              </a:outerShdw>
            </a:effectLst>
          </p:spPr>
        </p:pic>
      </p:grpSp>
      <p:sp>
        <p:nvSpPr>
          <p:cNvPr id="155" name="TextBox 32"/>
          <p:cNvSpPr/>
          <p:nvPr/>
        </p:nvSpPr>
        <p:spPr>
          <a:xfrm>
            <a:off x="892440" y="4612680"/>
            <a:ext cx="199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Наставничеств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менто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1296000" y="1052640"/>
            <a:ext cx="6933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держка малого и среднего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9"/>
          <p:cNvSpPr/>
          <p:nvPr/>
        </p:nvSpPr>
        <p:spPr>
          <a:xfrm>
            <a:off x="834120" y="2255760"/>
            <a:ext cx="21776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ограммы для </a:t>
            </a:r>
            <a:br>
              <a:rPr sz="1600"/>
            </a:b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отенци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едприним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67640" y="2277000"/>
            <a:ext cx="22374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оек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«Профессия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предприниматель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</a:rPr>
              <a:t>«История успех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5000" y="2504160"/>
            <a:ext cx="735480" cy="56232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24" descr=""/>
          <p:cNvPicPr/>
          <p:nvPr/>
        </p:nvPicPr>
        <p:blipFill>
          <a:blip r:embed="rId7"/>
          <a:stretch/>
        </p:blipFill>
        <p:spPr>
          <a:xfrm>
            <a:off x="6033240" y="2461680"/>
            <a:ext cx="770760" cy="7102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5"/>
          <p:cNvSpPr/>
          <p:nvPr/>
        </p:nvSpPr>
        <p:spPr>
          <a:xfrm>
            <a:off x="6391800" y="4324680"/>
            <a:ext cx="275184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Tahoma"/>
              </a:rPr>
              <a:t>Конкур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Tahoma"/>
              </a:rPr>
              <a:t>«Мама-предпринима-тель», «Экспортер года», «Молодой предприни-матель России», «Лучший предприни-матель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39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saturation colorTemp="1500" sat="0"/>
                    </a14:imgEffect>
                  </a14:imgLayer>
                </a14:imgProps>
              </a:ext>
            </a:extLst>
          </a:blip>
          <a:stretch/>
        </p:blipFill>
        <p:spPr>
          <a:xfrm>
            <a:off x="5724000" y="4574520"/>
            <a:ext cx="743040" cy="72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4807-520E-45A4-A906-6E1EA0964B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Num" idx="7"/>
          </p:nvPr>
        </p:nvSpPr>
        <p:spPr>
          <a:xfrm>
            <a:off x="8172360" y="6513840"/>
            <a:ext cx="5140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9E4B96E-F8B1-43F5-8516-F0913A10C80F}" type="slidenum">
              <a:rPr b="0" lang="ru-RU" sz="10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" descr=""/>
          <p:cNvPicPr/>
          <p:nvPr/>
        </p:nvPicPr>
        <p:blipFill>
          <a:blip r:embed="rId2"/>
          <a:stretch/>
        </p:blipFill>
        <p:spPr>
          <a:xfrm>
            <a:off x="0" y="4869000"/>
            <a:ext cx="3713400" cy="16858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"/>
          <p:cNvPicPr/>
          <p:nvPr/>
        </p:nvPicPr>
        <p:blipFill>
          <a:blip r:embed="rId3"/>
          <a:stretch/>
        </p:blipFill>
        <p:spPr>
          <a:xfrm>
            <a:off x="0" y="1824480"/>
            <a:ext cx="4427640" cy="2951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4"/>
          <a:stretch/>
        </p:blipFill>
        <p:spPr>
          <a:xfrm>
            <a:off x="4572000" y="1824480"/>
            <a:ext cx="4573800" cy="2951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7"/>
          <p:cNvSpPr/>
          <p:nvPr/>
        </p:nvSpPr>
        <p:spPr>
          <a:xfrm>
            <a:off x="1406520" y="937440"/>
            <a:ext cx="70758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Проект «Профессия – предпринимател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(экскурсии на частные предприятия Самарской обла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9" descr=""/>
          <p:cNvPicPr/>
          <p:nvPr/>
        </p:nvPicPr>
        <p:blipFill>
          <a:blip r:embed="rId5"/>
          <a:stretch/>
        </p:blipFill>
        <p:spPr>
          <a:xfrm>
            <a:off x="3841560" y="4869000"/>
            <a:ext cx="2530080" cy="16858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"/>
          <p:cNvPicPr/>
          <p:nvPr/>
        </p:nvPicPr>
        <p:blipFill>
          <a:blip r:embed="rId6"/>
          <a:stretch/>
        </p:blipFill>
        <p:spPr>
          <a:xfrm>
            <a:off x="6516360" y="4869000"/>
            <a:ext cx="2525040" cy="16858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13"/>
          <p:cNvSpPr/>
          <p:nvPr/>
        </p:nvSpPr>
        <p:spPr>
          <a:xfrm>
            <a:off x="2627640" y="2853000"/>
            <a:ext cx="3600000" cy="2304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3201120" y="4005000"/>
            <a:ext cx="24534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более 600 зая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на учас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2918520" y="3213000"/>
            <a:ext cx="30571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о </a:t>
            </a:r>
            <a:br>
              <a:rPr sz="1800"/>
            </a:b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экскурсионных ту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1869120"/>
            <a:ext cx="5775120" cy="27115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4"/>
          <p:cNvSpPr/>
          <p:nvPr/>
        </p:nvSpPr>
        <p:spPr>
          <a:xfrm>
            <a:off x="167760" y="920880"/>
            <a:ext cx="8977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изация предпринимательства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 камп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6165360" y="2011680"/>
            <a:ext cx="2617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«Истории успех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0"/>
          <p:cNvSpPr/>
          <p:nvPr/>
        </p:nvSpPr>
        <p:spPr>
          <a:xfrm>
            <a:off x="6139800" y="2719440"/>
            <a:ext cx="30056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://molpred63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4"/>
              </a:rPr>
              <a:t>istorii-uspeha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18"/>
          <p:cNvGrpSpPr/>
          <p:nvPr/>
        </p:nvGrpSpPr>
        <p:grpSpPr>
          <a:xfrm>
            <a:off x="4788000" y="4005000"/>
            <a:ext cx="4355640" cy="2512800"/>
            <a:chOff x="4788000" y="4005000"/>
            <a:chExt cx="4355640" cy="2512800"/>
          </a:xfrm>
        </p:grpSpPr>
        <p:sp>
          <p:nvSpPr>
            <p:cNvPr id="182" name="Прямоугольник 17"/>
            <p:cNvSpPr/>
            <p:nvPr/>
          </p:nvSpPr>
          <p:spPr>
            <a:xfrm>
              <a:off x="4788000" y="4005000"/>
              <a:ext cx="4355640" cy="251280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pic>
          <p:nvPicPr>
            <p:cNvPr id="183" name="Рисунок 12" descr=""/>
            <p:cNvPicPr/>
            <p:nvPr/>
          </p:nvPicPr>
          <p:blipFill>
            <a:blip r:embed="rId6"/>
            <a:stretch/>
          </p:blipFill>
          <p:spPr>
            <a:xfrm>
              <a:off x="4944600" y="4149000"/>
              <a:ext cx="4199040" cy="236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Box 19"/>
          <p:cNvSpPr/>
          <p:nvPr/>
        </p:nvSpPr>
        <p:spPr>
          <a:xfrm>
            <a:off x="518040" y="4995000"/>
            <a:ext cx="4114440" cy="10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Проект «Бизнес – это прост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на ВГТРК Россия (Сама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7"/>
              </a:rPr>
              <a:t>https://tvsamara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F84F-49AE-49A9-BC7C-36803804DE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9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21000" y="2341080"/>
            <a:ext cx="767880" cy="846360"/>
          </a:xfrm>
          <a:prstGeom prst="rect">
            <a:avLst/>
          </a:prstGeom>
          <a:ln w="0">
            <a:noFill/>
          </a:ln>
        </p:spPr>
      </p:pic>
      <p:sp>
        <p:nvSpPr>
          <p:cNvPr id="186" name="Выноска 1 21"/>
          <p:cNvSpPr/>
          <p:nvPr/>
        </p:nvSpPr>
        <p:spPr>
          <a:xfrm>
            <a:off x="5947920" y="4043880"/>
            <a:ext cx="2880000" cy="1151640"/>
          </a:xfrm>
          <a:prstGeom prst="borderCallout1">
            <a:avLst>
              <a:gd name="adj1" fmla="val 25015"/>
              <a:gd name="adj2" fmla="val -739"/>
              <a:gd name="adj3" fmla="val 8168"/>
              <a:gd name="adj4" fmla="val -18054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7" name="Выноска 1 20"/>
          <p:cNvSpPr/>
          <p:nvPr/>
        </p:nvSpPr>
        <p:spPr>
          <a:xfrm>
            <a:off x="6027480" y="2172240"/>
            <a:ext cx="2864520" cy="1367640"/>
          </a:xfrm>
          <a:prstGeom prst="borderCallout1">
            <a:avLst>
              <a:gd name="adj1" fmla="val 25015"/>
              <a:gd name="adj2" fmla="val -739"/>
              <a:gd name="adj3" fmla="val 65159"/>
              <a:gd name="adj4" fmla="val -21290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8" name="Выноска 1 19"/>
          <p:cNvSpPr/>
          <p:nvPr/>
        </p:nvSpPr>
        <p:spPr>
          <a:xfrm>
            <a:off x="246240" y="3935880"/>
            <a:ext cx="2777040" cy="1146240"/>
          </a:xfrm>
          <a:prstGeom prst="borderCallout1">
            <a:avLst>
              <a:gd name="adj1" fmla="val 27104"/>
              <a:gd name="adj2" fmla="val 100088"/>
              <a:gd name="adj3" fmla="val 10856"/>
              <a:gd name="adj4" fmla="val 116233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9" name="Выноска 1 2"/>
          <p:cNvSpPr/>
          <p:nvPr/>
        </p:nvSpPr>
        <p:spPr>
          <a:xfrm>
            <a:off x="221760" y="2113560"/>
            <a:ext cx="2777040" cy="1367640"/>
          </a:xfrm>
          <a:prstGeom prst="borderCallout1">
            <a:avLst>
              <a:gd name="adj1" fmla="val 41724"/>
              <a:gd name="adj2" fmla="val 100088"/>
              <a:gd name="adj3" fmla="val 61678"/>
              <a:gd name="adj4" fmla="val 118977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3348000" y="2493000"/>
            <a:ext cx="2232000" cy="223200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3656160" y="3789000"/>
            <a:ext cx="1633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обходим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2"/>
          <p:cNvSpPr/>
          <p:nvPr/>
        </p:nvSpPr>
        <p:spPr>
          <a:xfrm>
            <a:off x="1021680" y="4217040"/>
            <a:ext cx="19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Бизнес 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0"/>
          <p:cNvSpPr/>
          <p:nvPr/>
        </p:nvSpPr>
        <p:spPr>
          <a:xfrm>
            <a:off x="1326960" y="1087560"/>
            <a:ext cx="670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ие малого и среднего предприним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9"/>
          <p:cNvSpPr/>
          <p:nvPr/>
        </p:nvSpPr>
        <p:spPr>
          <a:xfrm>
            <a:off x="864360" y="2259000"/>
            <a:ext cx="21211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бразов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ограммы 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ействующих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3"/>
          <p:cNvSpPr/>
          <p:nvPr/>
        </p:nvSpPr>
        <p:spPr>
          <a:xfrm>
            <a:off x="6798600" y="2382120"/>
            <a:ext cx="2237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Консультирование по всем аспектам ведения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"/>
          <p:cNvPicPr/>
          <p:nvPr/>
        </p:nvPicPr>
        <p:blipFill>
          <a:blip r:embed="rId4"/>
          <a:stretch/>
        </p:blipFill>
        <p:spPr>
          <a:xfrm>
            <a:off x="165600" y="2504160"/>
            <a:ext cx="735480" cy="5623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5"/>
          <p:cNvSpPr/>
          <p:nvPr/>
        </p:nvSpPr>
        <p:spPr>
          <a:xfrm>
            <a:off x="7014600" y="4327560"/>
            <a:ext cx="180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Экспор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акселер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8" descr=""/>
          <p:cNvPicPr/>
          <p:nvPr/>
        </p:nvPicPr>
        <p:blipFill>
          <a:blip r:embed="rId5"/>
          <a:stretch/>
        </p:blipFill>
        <p:spPr>
          <a:xfrm>
            <a:off x="4051800" y="1945080"/>
            <a:ext cx="1017000" cy="1824480"/>
          </a:xfrm>
          <a:prstGeom prst="rect">
            <a:avLst/>
          </a:prstGeom>
          <a:ln w="0"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201" name="TextBox 1"/>
          <p:cNvSpPr/>
          <p:nvPr/>
        </p:nvSpPr>
        <p:spPr>
          <a:xfrm>
            <a:off x="5947920" y="5235840"/>
            <a:ext cx="2872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вод субъекта МС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экспо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10600" y="5113080"/>
            <a:ext cx="3065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финансово-экономической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бъекта МС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3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7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11360" y="4387320"/>
            <a:ext cx="793080" cy="5112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27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61080" y="4217760"/>
            <a:ext cx="704880" cy="68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02FA-E063-4590-9132-98A814B7C7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Выноска 1 21"/>
          <p:cNvSpPr/>
          <p:nvPr/>
        </p:nvSpPr>
        <p:spPr>
          <a:xfrm>
            <a:off x="5892480" y="1772640"/>
            <a:ext cx="2880000" cy="1295640"/>
          </a:xfrm>
          <a:prstGeom prst="borderCallout1">
            <a:avLst>
              <a:gd name="adj1" fmla="val 25015"/>
              <a:gd name="adj2" fmla="val -739"/>
              <a:gd name="adj3" fmla="val 69071"/>
              <a:gd name="adj4" fmla="val -30621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6" name="Выноска 1 20"/>
          <p:cNvSpPr/>
          <p:nvPr/>
        </p:nvSpPr>
        <p:spPr>
          <a:xfrm>
            <a:off x="139680" y="3565800"/>
            <a:ext cx="2788200" cy="852840"/>
          </a:xfrm>
          <a:prstGeom prst="borderCallout1">
            <a:avLst>
              <a:gd name="adj1" fmla="val 20550"/>
              <a:gd name="adj2" fmla="val 100024"/>
              <a:gd name="adj3" fmla="val 15627"/>
              <a:gd name="adj4" fmla="val 113739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7" name="Выноска 1 19"/>
          <p:cNvSpPr/>
          <p:nvPr/>
        </p:nvSpPr>
        <p:spPr>
          <a:xfrm>
            <a:off x="514440" y="5236560"/>
            <a:ext cx="3508560" cy="1056600"/>
          </a:xfrm>
          <a:prstGeom prst="borderCallout1">
            <a:avLst>
              <a:gd name="adj1" fmla="val -1735"/>
              <a:gd name="adj2" fmla="val 87399"/>
              <a:gd name="adj3" fmla="val -56201"/>
              <a:gd name="adj4" fmla="val 99228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08" name="Выноска 1 2"/>
          <p:cNvSpPr/>
          <p:nvPr/>
        </p:nvSpPr>
        <p:spPr>
          <a:xfrm>
            <a:off x="182160" y="1820880"/>
            <a:ext cx="2777040" cy="769680"/>
          </a:xfrm>
          <a:prstGeom prst="borderCallout1">
            <a:avLst>
              <a:gd name="adj1" fmla="val 41724"/>
              <a:gd name="adj2" fmla="val 100088"/>
              <a:gd name="adj3" fmla="val 112409"/>
              <a:gd name="adj4" fmla="val 128580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3"/>
          <p:cNvSpPr/>
          <p:nvPr/>
        </p:nvSpPr>
        <p:spPr>
          <a:xfrm>
            <a:off x="3276000" y="2493000"/>
            <a:ext cx="2232000" cy="2232000"/>
          </a:xfrm>
          <a:prstGeom prst="ellipse">
            <a:avLst/>
          </a:prstGeom>
          <a:solidFill>
            <a:schemeClr val="bg1"/>
          </a:solidFill>
          <a:ln w="28575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3629160" y="3789000"/>
            <a:ext cx="1543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финансов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983960" y="1058400"/>
            <a:ext cx="523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нансовая поддержка субъектов МС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9"/>
          <p:cNvSpPr/>
          <p:nvPr/>
        </p:nvSpPr>
        <p:spPr>
          <a:xfrm>
            <a:off x="1032840" y="1913760"/>
            <a:ext cx="191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остав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микрозай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999720" y="3710160"/>
            <a:ext cx="192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оставление поручитель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5"/>
          <p:cNvSpPr/>
          <p:nvPr/>
        </p:nvSpPr>
        <p:spPr>
          <a:xfrm>
            <a:off x="6748920" y="1745640"/>
            <a:ext cx="20235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Субсидии субъектам МС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в отдельных муниципальных образован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9" descr=""/>
          <p:cNvPicPr/>
          <p:nvPr/>
        </p:nvPicPr>
        <p:blipFill>
          <a:blip r:embed="rId2"/>
          <a:stretch/>
        </p:blipFill>
        <p:spPr>
          <a:xfrm>
            <a:off x="3351240" y="1917000"/>
            <a:ext cx="2099520" cy="2099520"/>
          </a:xfrm>
          <a:prstGeom prst="rect">
            <a:avLst/>
          </a:prstGeom>
          <a:ln w="0">
            <a:noFill/>
          </a:ln>
          <a:effectLst>
            <a:outerShdw algn="bl" blurRad="76320" dir="15063038" dist="202874" kx="-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218" name="Выноска 1 41"/>
          <p:cNvSpPr/>
          <p:nvPr/>
        </p:nvSpPr>
        <p:spPr>
          <a:xfrm>
            <a:off x="6012000" y="3556080"/>
            <a:ext cx="2880000" cy="1076760"/>
          </a:xfrm>
          <a:prstGeom prst="borderCallout1">
            <a:avLst>
              <a:gd name="adj1" fmla="val 25015"/>
              <a:gd name="adj2" fmla="val -739"/>
              <a:gd name="adj3" fmla="val 19835"/>
              <a:gd name="adj4" fmla="val -17724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9" name="TextBox 42"/>
          <p:cNvSpPr/>
          <p:nvPr/>
        </p:nvSpPr>
        <p:spPr>
          <a:xfrm>
            <a:off x="6868440" y="3556080"/>
            <a:ext cx="2023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Кредиты в бан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по программе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АО «Корпорация МСП» 8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носка 1 43"/>
          <p:cNvSpPr/>
          <p:nvPr/>
        </p:nvSpPr>
        <p:spPr>
          <a:xfrm>
            <a:off x="4880520" y="5236920"/>
            <a:ext cx="2880000" cy="1076760"/>
          </a:xfrm>
          <a:prstGeom prst="borderCallout1">
            <a:avLst>
              <a:gd name="adj1" fmla="val -2396"/>
              <a:gd name="adj2" fmla="val 9512"/>
              <a:gd name="adj3" fmla="val -54440"/>
              <a:gd name="adj4" fmla="val -4497"/>
            </a:avLst>
          </a:prstGeom>
          <a:noFill/>
          <a:ln>
            <a:solidFill>
              <a:srgbClr val="1f497d"/>
            </a:solidFill>
            <a:round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1" name="TextBox 44"/>
          <p:cNvSpPr/>
          <p:nvPr/>
        </p:nvSpPr>
        <p:spPr>
          <a:xfrm>
            <a:off x="5736960" y="5236560"/>
            <a:ext cx="20235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  <a:ea typeface="Tahoma"/>
              </a:rPr>
              <a:t>Финансирование инвест. проектов Фондом развития моного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7454880" y="4640760"/>
            <a:ext cx="1500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61 банк-партне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45"/>
          <p:cNvSpPr/>
          <p:nvPr/>
        </p:nvSpPr>
        <p:spPr>
          <a:xfrm>
            <a:off x="5911560" y="3069000"/>
            <a:ext cx="28609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г.о.Тольятти, г.о. Сама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6"/>
          <p:cNvSpPr/>
          <p:nvPr/>
        </p:nvSpPr>
        <p:spPr>
          <a:xfrm>
            <a:off x="206280" y="2585160"/>
            <a:ext cx="291384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5 000 000 руб., срок до 3 лет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7,5% годовых. Микрозаймы для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tart-up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роектов без залоговог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беспечения до 500 тыс. руб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161640" y="4418640"/>
            <a:ext cx="297000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азмер до 50% от суммы кредита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о 25 млн. руб., срок до 10 лет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ознаграждение от 0,5% до 0,7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1189800" y="5287680"/>
            <a:ext cx="277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Консультационная поддержка по финансовым инструментам</a:t>
            </a:r>
            <a:br>
              <a:rPr sz="1400"/>
            </a:b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ля МСП («единое окно»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7"/>
          <p:cNvSpPr/>
          <p:nvPr/>
        </p:nvSpPr>
        <p:spPr>
          <a:xfrm>
            <a:off x="7760880" y="5236560"/>
            <a:ext cx="1382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10 до 1000 млн. руб., 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т 0 до 5% годовых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рок до 15 ле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48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3640" y="196848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9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32880" y="213804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50" descr=""/>
          <p:cNvPicPr/>
          <p:nvPr/>
        </p:nvPicPr>
        <p:blipFill>
          <a:blip r:embed="rId6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166440" y="384012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51" descr="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23640" y="3779280"/>
            <a:ext cx="575640" cy="4464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6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20000" colorTemp="11200" contrast="-40000"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076000" y="54828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2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11">
                    <a14:imgEffect>
                      <a14:brightnessContrast bright="-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88960" y="5418000"/>
            <a:ext cx="530640" cy="60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D504-1265-4C1B-AAE5-4A852668B0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4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39640" y="1772640"/>
            <a:ext cx="1275480" cy="669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tretch/>
        </p:blipFill>
        <p:spPr>
          <a:xfrm>
            <a:off x="138600" y="929520"/>
            <a:ext cx="634680" cy="6847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"/>
          <p:cNvSpPr/>
          <p:nvPr/>
        </p:nvSpPr>
        <p:spPr>
          <a:xfrm>
            <a:off x="773280" y="37080"/>
            <a:ext cx="83419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Национальный проект «Малое и среднее предпринимательство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MS Mincho"/>
              </a:rPr>
              <a:t>и поддержка индивидуальной предпринимательской инициатив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0"/>
          <p:cNvSpPr/>
          <p:nvPr/>
        </p:nvSpPr>
        <p:spPr>
          <a:xfrm>
            <a:off x="1710360" y="1058400"/>
            <a:ext cx="5661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тимизация нормативной правовой б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"/>
          <p:cNvSpPr/>
          <p:nvPr/>
        </p:nvSpPr>
        <p:spPr>
          <a:xfrm>
            <a:off x="827640" y="2421000"/>
            <a:ext cx="324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сштабный анализ и пересмотр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йствующих нормативно-правовых а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1630800" y="1784520"/>
            <a:ext cx="16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егулятор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гильо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1630080" y="3357000"/>
            <a:ext cx="1760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регулирующ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8" descr=""/>
          <p:cNvPicPr/>
          <p:nvPr/>
        </p:nvPicPr>
        <p:blipFill>
          <a:blip r:embed="rId4"/>
          <a:stretch/>
        </p:blipFill>
        <p:spPr>
          <a:xfrm>
            <a:off x="924840" y="3499200"/>
            <a:ext cx="679680" cy="638640"/>
          </a:xfrm>
          <a:prstGeom prst="rect">
            <a:avLst/>
          </a:prstGeom>
          <a:ln w="0">
            <a:noFill/>
          </a:ln>
        </p:spPr>
      </p:pic>
      <p:sp>
        <p:nvSpPr>
          <p:cNvPr id="242" name="Равнобедренный треугольник 37"/>
          <p:cNvSpPr/>
          <p:nvPr/>
        </p:nvSpPr>
        <p:spPr>
          <a:xfrm rot="5400000">
            <a:off x="2823480" y="3750120"/>
            <a:ext cx="4032000" cy="376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Box 13"/>
          <p:cNvSpPr/>
          <p:nvPr/>
        </p:nvSpPr>
        <p:spPr>
          <a:xfrm>
            <a:off x="5458680" y="2369520"/>
            <a:ext cx="361620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празднение НПА,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тративших акту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Снижение нагрузки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на су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малого и среднего </a:t>
            </a:r>
            <a:br>
              <a:rPr sz="1800"/>
            </a:b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луч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нвестицио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климата в Сама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9"/>
          <p:cNvSpPr/>
          <p:nvPr/>
        </p:nvSpPr>
        <p:spPr>
          <a:xfrm>
            <a:off x="1636920" y="4581000"/>
            <a:ext cx="2512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Национальная </a:t>
            </a:r>
            <a:br>
              <a:rPr sz="1600"/>
            </a:b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предприниматель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инициа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827640" y="5360760"/>
            <a:ext cx="3600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егулярные опросы предпринимателей Агентством стратегических инициатив (АСИ) для объективной оценки эффективности принимаемых мер по улучшению инвестиционного клим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18" descr=""/>
          <p:cNvPicPr/>
          <p:nvPr/>
        </p:nvPicPr>
        <p:blipFill>
          <a:blip r:embed="rId5"/>
          <a:stretch/>
        </p:blipFill>
        <p:spPr>
          <a:xfrm>
            <a:off x="947160" y="4761000"/>
            <a:ext cx="657000" cy="51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F913-2E01-4AB1-A7CD-EB4B7D260D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_ШАБЛОН_МЭР_СО - коп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_ШАБЛОН_МЭР_СО - копия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  <Words>992</Words>
  <Paragraphs>2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33:00Z</dcterms:created>
  <dc:creator>Реште</dc:creator>
  <dc:description/>
  <dc:language>en-US</dc:language>
  <cp:lastModifiedBy>Лисиченко </cp:lastModifiedBy>
  <cp:lastPrinted>2019-07-24T16:04:49Z</cp:lastPrinted>
  <dcterms:modified xsi:type="dcterms:W3CDTF">2019-07-24T17:10:23Z</dcterms:modified>
  <cp:revision>71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