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Click to move the slide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dt" idx="7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ftr" idx="8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 type="sldNum" idx="9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9967B41-572E-4791-A70E-68E79BA969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 type="sldNum" idx="1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B23A19B-BEB4-43FD-99D2-9DF6067DCC5D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8EB13-8590-453D-A66C-8D5D2E431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01680" y="3915360"/>
            <a:ext cx="8503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60A9D-55B0-48B2-97C4-F4E6CD6AE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59120" y="152712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301680" y="391536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59120" y="391536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E5426-6641-4FB6-9A5F-F787905E2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2737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176640" y="1527120"/>
            <a:ext cx="2737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51960" y="1527120"/>
            <a:ext cx="2737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301680" y="3915360"/>
            <a:ext cx="2737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176640" y="3915360"/>
            <a:ext cx="2737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51960" y="3915360"/>
            <a:ext cx="2737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2BE7C-6915-47A6-83C8-EFE5877D3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DD498-2495-4240-8FE1-B360B7487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DCD08-AD2C-4094-838A-B5B4D2D0C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1E3E1-146D-433F-886D-6234EDA53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414972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59120" y="1527120"/>
            <a:ext cx="414972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3145F-47A3-4731-A1D5-1736282D0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16B96-4FD1-4449-8195-38D58DCC5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34160" cy="351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FC0D3-68B6-4230-BE42-715AD7076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59120" y="1527120"/>
            <a:ext cx="414972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1680" y="391536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7916C-FCF1-40AF-A47E-86A733E0D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7DD27-4CFA-43A0-AD61-48DFE5AB4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414972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59120" y="152712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59120" y="391536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A91DF-8D3D-4574-9716-11CE8B62F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59120" y="152712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301680" y="3915360"/>
            <a:ext cx="8503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A3425-CAA1-42F6-B835-35ADB6DB7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01680" y="3915360"/>
            <a:ext cx="8503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FC7BA-0150-4BC1-B3D7-1E60ECE01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59120" y="152712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01680" y="391536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59120" y="391536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028F5-7E35-4F2C-ABBD-C8997B669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2737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176640" y="1527120"/>
            <a:ext cx="2737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51960" y="1527120"/>
            <a:ext cx="2737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301680" y="3915360"/>
            <a:ext cx="2737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176640" y="3915360"/>
            <a:ext cx="2737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051960" y="3915360"/>
            <a:ext cx="2737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BA03C-4168-422F-B88D-2CDDB1AC5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56D1D-D680-4BD7-BBD9-5D9B7F47A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414972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59120" y="1527120"/>
            <a:ext cx="414972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82C36-F0A7-4D3A-AECB-D336D49A2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4F05A-5A43-4A9B-B8D0-C72EAC320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34160" cy="351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B9228-4588-4068-8CE1-B1D611F49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59120" y="1527120"/>
            <a:ext cx="414972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01680" y="391536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6FE7A-6D0D-4CBD-9F10-B36993451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414972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59120" y="152712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59120" y="391536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4A61F-923B-4D39-86AC-22EE09BF6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59120" y="152712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301680" y="3915360"/>
            <a:ext cx="8503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97199-6A83-4861-807E-410CF53AA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16" hidden="1"/>
          <p:cNvSpPr/>
          <p:nvPr/>
        </p:nvSpPr>
        <p:spPr>
          <a:xfrm>
            <a:off x="0" y="6705720"/>
            <a:ext cx="9143640" cy="15192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Прямоугольник 15" hidden="1"/>
          <p:cNvSpPr/>
          <p:nvPr/>
        </p:nvSpPr>
        <p:spPr>
          <a:xfrm>
            <a:off x="0" y="0"/>
            <a:ext cx="9143640" cy="13928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Прямоугольник 17" hidden="1"/>
          <p:cNvSpPr/>
          <p:nvPr/>
        </p:nvSpPr>
        <p:spPr>
          <a:xfrm>
            <a:off x="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Прямоугольник 18" hidden="1"/>
          <p:cNvSpPr/>
          <p:nvPr/>
        </p:nvSpPr>
        <p:spPr>
          <a:xfrm>
            <a:off x="899172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Прямоугольник 8" hidden="1"/>
          <p:cNvSpPr/>
          <p:nvPr/>
        </p:nvSpPr>
        <p:spPr>
          <a:xfrm>
            <a:off x="149400" y="6388560"/>
            <a:ext cx="8832600" cy="309240"/>
          </a:xfrm>
          <a:prstGeom prst="rect">
            <a:avLst/>
          </a:prstGeom>
          <a:solidFill>
            <a:schemeClr val="accent3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Прямоугольник 7" hidden="1"/>
          <p:cNvSpPr/>
          <p:nvPr/>
        </p:nvSpPr>
        <p:spPr>
          <a:xfrm>
            <a:off x="152280" y="155520"/>
            <a:ext cx="8832600" cy="6546600"/>
          </a:xfrm>
          <a:prstGeom prst="rect">
            <a:avLst/>
          </a:prstGeom>
          <a:noFill/>
          <a:ln w="9525">
            <a:solidFill>
              <a:srgbClr val="8cadae">
                <a:shade val="7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Прямая соединительная линия 9"/>
          <p:cNvSpPr/>
          <p:nvPr/>
        </p:nvSpPr>
        <p:spPr>
          <a:xfrm>
            <a:off x="152280" y="1276560"/>
            <a:ext cx="8832960" cy="360"/>
          </a:xfrm>
          <a:prstGeom prst="line">
            <a:avLst/>
          </a:prstGeom>
          <a:ln w="9525">
            <a:solidFill>
              <a:srgbClr val="8cadae">
                <a:shade val="75000"/>
              </a:srgbClr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Овал 11" hidden="1"/>
          <p:cNvSpPr/>
          <p:nvPr/>
        </p:nvSpPr>
        <p:spPr>
          <a:xfrm>
            <a:off x="4267080" y="956160"/>
            <a:ext cx="609120" cy="609120"/>
          </a:xfrm>
          <a:prstGeom prst="ellipse">
            <a:avLst/>
          </a:prstGeom>
          <a:solidFill>
            <a:srgbClr val="ffffff"/>
          </a:solidFill>
          <a:ln w="15875">
            <a:noFill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8" name="Овал 14" hidden="1"/>
          <p:cNvSpPr/>
          <p:nvPr/>
        </p:nvSpPr>
        <p:spPr>
          <a:xfrm>
            <a:off x="4361760" y="1050480"/>
            <a:ext cx="420120" cy="420120"/>
          </a:xfrm>
          <a:prstGeom prst="ellipse">
            <a:avLst/>
          </a:prstGeom>
          <a:solidFill>
            <a:srgbClr val="ffffff"/>
          </a:solidFill>
          <a:ln cap="rnd" w="50800">
            <a:solidFill>
              <a:srgbClr val="8cadae">
                <a:shade val="75000"/>
              </a:srgbClr>
            </a:solidFill>
            <a:round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9" name="Прямоугольник 14"/>
          <p:cNvSpPr/>
          <p:nvPr/>
        </p:nvSpPr>
        <p:spPr>
          <a:xfrm>
            <a:off x="0" y="6705720"/>
            <a:ext cx="9143640" cy="15192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Прямоугольник 18"/>
          <p:cNvSpPr/>
          <p:nvPr/>
        </p:nvSpPr>
        <p:spPr>
          <a:xfrm>
            <a:off x="8991720" y="288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" name="Прямоугольник 17"/>
          <p:cNvSpPr/>
          <p:nvPr/>
        </p:nvSpPr>
        <p:spPr>
          <a:xfrm>
            <a:off x="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" name="Прямоугольник 15"/>
          <p:cNvSpPr/>
          <p:nvPr/>
        </p:nvSpPr>
        <p:spPr>
          <a:xfrm>
            <a:off x="0" y="0"/>
            <a:ext cx="9143640" cy="25142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" name="Прямоугольник 11"/>
          <p:cNvSpPr/>
          <p:nvPr/>
        </p:nvSpPr>
        <p:spPr>
          <a:xfrm>
            <a:off x="146160" y="6391800"/>
            <a:ext cx="8832600" cy="309240"/>
          </a:xfrm>
          <a:prstGeom prst="rect">
            <a:avLst/>
          </a:prstGeom>
          <a:solidFill>
            <a:schemeClr val="accent3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" name="PlaceHolder 1"/>
          <p:cNvSpPr>
            <a:spLocks noGrp="1"/>
          </p:cNvSpPr>
          <p:nvPr>
            <p:ph type="dt" idx="1"/>
          </p:nvPr>
        </p:nvSpPr>
        <p:spPr>
          <a:xfrm>
            <a:off x="5791320" y="6405120"/>
            <a:ext cx="3044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ftr" idx="2"/>
          </p:nvPr>
        </p:nvSpPr>
        <p:spPr>
          <a:xfrm>
            <a:off x="304920" y="6410880"/>
            <a:ext cx="35809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Прямая соединительная линия 6"/>
          <p:cNvSpPr/>
          <p:nvPr/>
        </p:nvSpPr>
        <p:spPr>
          <a:xfrm>
            <a:off x="155160" y="2419920"/>
            <a:ext cx="8833320" cy="360"/>
          </a:xfrm>
          <a:prstGeom prst="line">
            <a:avLst/>
          </a:prstGeom>
          <a:ln w="11430">
            <a:solidFill>
              <a:srgbClr val="8cadae">
                <a:shade val="75000"/>
              </a:srgbClr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" name="Прямоугольник 9"/>
          <p:cNvSpPr/>
          <p:nvPr/>
        </p:nvSpPr>
        <p:spPr>
          <a:xfrm>
            <a:off x="152280" y="152280"/>
            <a:ext cx="8832600" cy="6546600"/>
          </a:xfrm>
          <a:prstGeom prst="rect">
            <a:avLst/>
          </a:prstGeom>
          <a:noFill/>
          <a:ln w="9525">
            <a:solidFill>
              <a:srgbClr val="8cadae">
                <a:shade val="7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" name="Овал 12"/>
          <p:cNvSpPr/>
          <p:nvPr/>
        </p:nvSpPr>
        <p:spPr>
          <a:xfrm>
            <a:off x="4267080" y="2115360"/>
            <a:ext cx="609120" cy="609120"/>
          </a:xfrm>
          <a:prstGeom prst="ellipse">
            <a:avLst/>
          </a:prstGeom>
          <a:solidFill>
            <a:srgbClr val="ffffff"/>
          </a:solidFill>
          <a:ln w="15875">
            <a:noFill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9" name="Овал 13"/>
          <p:cNvSpPr/>
          <p:nvPr/>
        </p:nvSpPr>
        <p:spPr>
          <a:xfrm>
            <a:off x="4361760" y="2209680"/>
            <a:ext cx="420120" cy="420120"/>
          </a:xfrm>
          <a:prstGeom prst="ellipse">
            <a:avLst/>
          </a:prstGeom>
          <a:solidFill>
            <a:srgbClr val="ffffff"/>
          </a:solidFill>
          <a:ln cap="rnd" w="50800">
            <a:solidFill>
              <a:srgbClr val="8cadae">
                <a:shade val="75000"/>
              </a:srgbClr>
            </a:solidFill>
            <a:round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 type="sldNum" idx="3"/>
          </p:nvPr>
        </p:nvSpPr>
        <p:spPr>
          <a:xfrm>
            <a:off x="4343400" y="2199600"/>
            <a:ext cx="45684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600" spc="-1" strike="noStrike">
                <a:solidFill>
                  <a:srgbClr val="6d8687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C4EE0412-1A77-4CE5-A84D-EC78CC3FB2B4}" type="slidenum">
              <a:rPr b="0" lang="en-US" sz="1600" spc="-1" strike="noStrike">
                <a:solidFill>
                  <a:srgbClr val="6d8687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040" cy="175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200" spc="-1" strike="noStrike">
                <a:solidFill>
                  <a:schemeClr val="accent1"/>
                </a:solidFill>
                <a:latin typeface="Georgia"/>
              </a:rPr>
              <a:t>Образец заголовка</a:t>
            </a:r>
            <a:endParaRPr b="0" lang="en-US" sz="4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646b86"/>
                </a:solidFill>
                <a:latin typeface="Georgia"/>
              </a:rPr>
              <a:t>Third Outline Level</a:t>
            </a: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Прямоугольник 16"/>
          <p:cNvSpPr/>
          <p:nvPr/>
        </p:nvSpPr>
        <p:spPr>
          <a:xfrm>
            <a:off x="0" y="6705720"/>
            <a:ext cx="9143640" cy="15192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Прямоугольник 15"/>
          <p:cNvSpPr/>
          <p:nvPr/>
        </p:nvSpPr>
        <p:spPr>
          <a:xfrm>
            <a:off x="0" y="0"/>
            <a:ext cx="9143640" cy="13928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Прямоугольник 17"/>
          <p:cNvSpPr/>
          <p:nvPr/>
        </p:nvSpPr>
        <p:spPr>
          <a:xfrm>
            <a:off x="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" name="Прямоугольник 18"/>
          <p:cNvSpPr/>
          <p:nvPr/>
        </p:nvSpPr>
        <p:spPr>
          <a:xfrm>
            <a:off x="899172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" name="Прямоугольник 8"/>
          <p:cNvSpPr/>
          <p:nvPr/>
        </p:nvSpPr>
        <p:spPr>
          <a:xfrm>
            <a:off x="149400" y="6388560"/>
            <a:ext cx="8832600" cy="309240"/>
          </a:xfrm>
          <a:prstGeom prst="rect">
            <a:avLst/>
          </a:prstGeom>
          <a:solidFill>
            <a:schemeClr val="accent3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Прямоугольник 7"/>
          <p:cNvSpPr/>
          <p:nvPr/>
        </p:nvSpPr>
        <p:spPr>
          <a:xfrm>
            <a:off x="152280" y="155520"/>
            <a:ext cx="8832600" cy="6546600"/>
          </a:xfrm>
          <a:prstGeom prst="rect">
            <a:avLst/>
          </a:prstGeom>
          <a:noFill/>
          <a:ln w="9525">
            <a:solidFill>
              <a:srgbClr val="8cadae">
                <a:shade val="7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Прямая соединительная линия 9"/>
          <p:cNvSpPr/>
          <p:nvPr/>
        </p:nvSpPr>
        <p:spPr>
          <a:xfrm>
            <a:off x="152280" y="1276560"/>
            <a:ext cx="8832960" cy="360"/>
          </a:xfrm>
          <a:prstGeom prst="line">
            <a:avLst/>
          </a:prstGeom>
          <a:ln w="9525">
            <a:solidFill>
              <a:srgbClr val="8cadae">
                <a:shade val="75000"/>
              </a:srgbClr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" name="Овал 11"/>
          <p:cNvSpPr/>
          <p:nvPr/>
        </p:nvSpPr>
        <p:spPr>
          <a:xfrm>
            <a:off x="4267080" y="956160"/>
            <a:ext cx="609120" cy="609120"/>
          </a:xfrm>
          <a:prstGeom prst="ellipse">
            <a:avLst/>
          </a:prstGeom>
          <a:solidFill>
            <a:srgbClr val="ffffff"/>
          </a:solidFill>
          <a:ln w="15875">
            <a:noFill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67" name="Овал 14"/>
          <p:cNvSpPr/>
          <p:nvPr/>
        </p:nvSpPr>
        <p:spPr>
          <a:xfrm>
            <a:off x="4361760" y="1050480"/>
            <a:ext cx="420120" cy="420120"/>
          </a:xfrm>
          <a:prstGeom prst="ellipse">
            <a:avLst/>
          </a:prstGeom>
          <a:solidFill>
            <a:srgbClr val="ffffff"/>
          </a:solidFill>
          <a:ln cap="rnd" w="50800">
            <a:solidFill>
              <a:srgbClr val="8cadae">
                <a:shade val="75000"/>
              </a:srgbClr>
            </a:solidFill>
            <a:round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Образец заголовка</a:t>
            </a: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5791320" y="6405120"/>
            <a:ext cx="3044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04920" y="6410880"/>
            <a:ext cx="35809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4361760" y="1026360"/>
            <a:ext cx="45684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F25C2654-B09F-45E9-90A9-B47A5E58650C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Образец текста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8640" indent="-274320">
              <a:lnSpc>
                <a:spcPct val="100000"/>
              </a:lnSpc>
              <a:spcBef>
                <a:spcPts val="439"/>
              </a:spcBef>
              <a:buClr>
                <a:srgbClr val="ccb400"/>
              </a:buClr>
              <a:buSzPct val="70000"/>
              <a:buFont typeface="Wingdings" charset="2"/>
              <a:buChar char=""/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Второй уровень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lvl="2" marL="822960" indent="-228600">
              <a:lnSpc>
                <a:spcPct val="100000"/>
              </a:lnSpc>
              <a:spcBef>
                <a:spcPts val="400"/>
              </a:spcBef>
              <a:buClr>
                <a:srgbClr val="8cadae"/>
              </a:buClr>
              <a:buSzPct val="75000"/>
              <a:buFont typeface="Wingdings 2" charset="2"/>
              <a:buChar char=""/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Третий уровень</a:t>
            </a: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  <a:p>
            <a:pPr lvl="3" marL="1097280" indent="-228600">
              <a:lnSpc>
                <a:spcPct val="100000"/>
              </a:lnSpc>
              <a:spcBef>
                <a:spcPts val="400"/>
              </a:spcBef>
              <a:buClr>
                <a:srgbClr val="8c7b70"/>
              </a:buClr>
              <a:buSzPct val="70000"/>
              <a:buFont typeface="Wingdings" charset="2"/>
              <a:buChar char=""/>
            </a:pPr>
            <a:r>
              <a:rPr b="0" lang="en-US" sz="2000" spc="-1" strike="noStrike">
                <a:solidFill>
                  <a:srgbClr val="646b86"/>
                </a:solidFill>
                <a:latin typeface="Georgia"/>
              </a:rPr>
              <a:t>Четвертый уровень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lnSpc>
                <a:spcPct val="100000"/>
              </a:lnSpc>
              <a:spcBef>
                <a:spcPts val="360"/>
              </a:spcBef>
              <a:buClr>
                <a:srgbClr val="8fb08c"/>
              </a:buClr>
              <a:buFont typeface="Symbol" charset="2"/>
              <a:buChar char=""/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Пятый уровень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440" cy="175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320"/>
              </a:spcBef>
              <a:tabLst>
                <a:tab algn="l" pos="0"/>
              </a:tabLst>
            </a:pPr>
            <a:r>
              <a:rPr b="1" lang="ru-RU" sz="1600" spc="248" strike="noStrike" cap="all">
                <a:solidFill>
                  <a:srgbClr val="646b86"/>
                </a:solidFill>
                <a:latin typeface="Georgia"/>
              </a:rPr>
              <a:t>Галеева Эвели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20"/>
              </a:spcBef>
              <a:tabLst>
                <a:tab algn="l" pos="0"/>
              </a:tabLst>
            </a:pPr>
            <a:r>
              <a:rPr b="1" lang="ru-RU" sz="1600" spc="248" strike="noStrike" cap="all">
                <a:solidFill>
                  <a:srgbClr val="646b86"/>
                </a:solidFill>
                <a:latin typeface="Georgia"/>
              </a:rPr>
              <a:t>124 групп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title"/>
          </p:nvPr>
        </p:nvSpPr>
        <p:spPr>
          <a:xfrm>
            <a:off x="685800" y="778680"/>
            <a:ext cx="7772040" cy="175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68000"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8000" spc="-1" strike="noStrike">
                <a:solidFill>
                  <a:schemeClr val="accent1"/>
                </a:solidFill>
                <a:latin typeface="Georgia"/>
              </a:rPr>
              <a:t>13 </a:t>
            </a:r>
            <a:r>
              <a:rPr b="0" lang="ru-RU" sz="8000" spc="-1" strike="noStrike">
                <a:solidFill>
                  <a:schemeClr val="accent1"/>
                </a:solidFill>
                <a:latin typeface="Georgia"/>
              </a:rPr>
              <a:t>вопрос</a:t>
            </a:r>
            <a:br>
              <a:rPr sz="8000"/>
            </a:br>
            <a:endParaRPr b="0" lang="en-US" sz="8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buNone/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3" name="Прямоугольник 3"/>
          <p:cNvSpPr/>
          <p:nvPr/>
        </p:nvSpPr>
        <p:spPr>
          <a:xfrm>
            <a:off x="550800" y="1346760"/>
            <a:ext cx="8047800" cy="50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Капиллярными вискозиметрами измеряют вязкость от значений 10-5 Па • с, свойственных газам, до значений 104 Па • с, ха­рактерных для консистентных смазо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Метод падающего шарика используется в вискозиметрах, осно­ванных на законе Стокса. Из формулы (7.15) находи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Таким образом, зная величины, входящие в правую часть этой формулы, и измеряя скорость равномерного падения шарика, можно найти вязкость данной жидк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Предел измерений вискозиметров с движущимся шариком со­ставляет 6 • 104- 250 Па•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Применяются также ротационные вискозиметры, в которых жидкость находится в зазоре между двумя соосными телами, на­пример цилиндрами. Один из цилиндров (ротор) вращается, а другой неподвижен. Вязкость измеряется по угловой скорости ро­тора, создающего опре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Прямоугольник 3"/>
          <p:cNvSpPr/>
          <p:nvPr/>
        </p:nvSpPr>
        <p:spPr>
          <a:xfrm>
            <a:off x="244800" y="2013840"/>
            <a:ext cx="8393760" cy="420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С помощью ротационных вискозиметров определяют вязкость жидкостей в интервале 1—105 Па • с, т. е. смазочных масел, рас­плавленных силикатов и металлов, высоковязких лаков и клеев, глинистых растворов и т. п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В ротационных вискозиметрах можно менять градиент скорости, задавая разные угловые скорости вращения ротора. Это позволяет измерять вязкость при разных градиентах и установить зависимость η = f(dv/dx), которая характерна для неньютоновских жидкост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В настоящее время в клинике для определения вязкости крови используют вискозиметр Гесса с двумя капиллярам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440" cy="175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algn="ctr"/>
            <a:endParaRPr b="1" lang="en-US" sz="1600" spc="248" strike="noStrike" cap="all">
              <a:solidFill>
                <a:srgbClr val="646b86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040" cy="175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200" spc="-1" strike="noStrike">
                <a:solidFill>
                  <a:schemeClr val="accent1"/>
                </a:solidFill>
                <a:latin typeface="Georgia"/>
              </a:rPr>
              <a:t>ВОПРОС 14</a:t>
            </a:r>
            <a:endParaRPr b="0" lang="en-US" sz="4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Прямоугольник 3"/>
          <p:cNvSpPr/>
          <p:nvPr/>
        </p:nvSpPr>
        <p:spPr>
          <a:xfrm>
            <a:off x="0" y="228600"/>
            <a:ext cx="9143640" cy="69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Georgia"/>
              </a:rPr>
              <a:t>Режимы движения жидкости и основы гидродинамического подоб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Georgia"/>
              </a:rPr>
              <a:t>Ламинарный и турбулентный режимы движения жидк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Опыты показывают, что возможны два режима (вида) движения жидкости в гидравлических линиях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Georgia"/>
              </a:rPr>
              <a:t>ламинарный (от латинского слова lamina – слой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Georgia"/>
              </a:rPr>
              <a:t>турбулентный (от латинского слова turbulentus – возмущенный, беспорядочный)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Ламинарным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называют слоистое течение без перемешивания частиц жидкости и без пульсаций скоростей и давлений. При ламинарном движении жидкости в прямой трубе постоянного сечения все линии тока направлены параллельно оси трубы, то есть поперечные перемещения жидкости отсутствуют. Такое движение является вполне упорядоченным и при постоянном давлении строго установившим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Турбулентным 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называют течение, сопровождающееся интенсивным перемешиванием жидкости и пульсациями скоростей и давлений. При таком движении векторы скоростей имеют не только осевые, но и нормальные к оси трубы составляющие, поэтому вместе с основным продольным движением жидкости вдоль трубы происходят поперечные перемещения (перемешивание) и вращение отдельных объемов жидкости. Этим объясняются пульсации скоростей и давле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Прямоугольник 3"/>
          <p:cNvSpPr/>
          <p:nvPr/>
        </p:nvSpPr>
        <p:spPr>
          <a:xfrm>
            <a:off x="176040" y="0"/>
            <a:ext cx="8967600" cy="63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Georgia"/>
              </a:rPr>
              <a:t>Число Рейнольд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Режим движения жидкости в трубе изменяется примерно при определенной средней по сечению скорости , которую называют критической. Значение этой скорости прямо пропорционально кинематической вязкости и обратно пропорционально диаметру труб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Входящий в эту формулу безразмерный коэффициент пропорциональности  (критическое число Рейнольдса) одинаков для всех жидкостей и газов, а также для любых диаметров труб. Это означает, что изменение режима течения происходит при определенном соотношении между скоростью, диаметром и кинематической вязкостью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для труб круглого сечения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С физической точки зрения, критерий Рейнольдса  есть отношение сил инерции потока к силам трения при движении жидк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При                          движение жидкости является ламинарным, при    турбулентны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оугольник 4"/>
          <p:cNvSpPr/>
          <p:nvPr/>
        </p:nvSpPr>
        <p:spPr>
          <a:xfrm>
            <a:off x="1193400" y="1989000"/>
            <a:ext cx="30884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Изображение 7" descr=""/>
          <p:cNvPicPr/>
          <p:nvPr/>
        </p:nvPicPr>
        <p:blipFill>
          <a:blip r:embed="rId1"/>
          <a:stretch/>
        </p:blipFill>
        <p:spPr>
          <a:xfrm>
            <a:off x="1002960" y="1980720"/>
            <a:ext cx="2485440" cy="580320"/>
          </a:xfrm>
          <a:prstGeom prst="rect">
            <a:avLst/>
          </a:prstGeom>
          <a:ln w="0">
            <a:noFill/>
          </a:ln>
        </p:spPr>
      </p:pic>
      <p:pic>
        <p:nvPicPr>
          <p:cNvPr id="141" name="Изображение 8" descr=""/>
          <p:cNvPicPr/>
          <p:nvPr/>
        </p:nvPicPr>
        <p:blipFill>
          <a:blip r:embed="rId2"/>
          <a:stretch/>
        </p:blipFill>
        <p:spPr>
          <a:xfrm>
            <a:off x="3708360" y="3929400"/>
            <a:ext cx="2591640" cy="614160"/>
          </a:xfrm>
          <a:prstGeom prst="rect">
            <a:avLst/>
          </a:prstGeom>
          <a:ln w="0">
            <a:noFill/>
          </a:ln>
        </p:spPr>
      </p:pic>
      <p:pic>
        <p:nvPicPr>
          <p:cNvPr id="142" name="Изображение 9" descr=""/>
          <p:cNvPicPr/>
          <p:nvPr/>
        </p:nvPicPr>
        <p:blipFill>
          <a:blip r:embed="rId3"/>
          <a:stretch/>
        </p:blipFill>
        <p:spPr>
          <a:xfrm>
            <a:off x="845280" y="5398200"/>
            <a:ext cx="1155240" cy="406080"/>
          </a:xfrm>
          <a:prstGeom prst="rect">
            <a:avLst/>
          </a:prstGeom>
          <a:ln w="0">
            <a:noFill/>
          </a:ln>
        </p:spPr>
      </p:pic>
      <p:pic>
        <p:nvPicPr>
          <p:cNvPr id="143" name="Изображение 10" descr=""/>
          <p:cNvPicPr/>
          <p:nvPr/>
        </p:nvPicPr>
        <p:blipFill>
          <a:blip r:embed="rId4"/>
          <a:stretch/>
        </p:blipFill>
        <p:spPr>
          <a:xfrm>
            <a:off x="7491600" y="5398200"/>
            <a:ext cx="1155240" cy="40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Прямоугольник 3"/>
          <p:cNvSpPr/>
          <p:nvPr/>
        </p:nvSpPr>
        <p:spPr>
          <a:xfrm>
            <a:off x="749880" y="1682280"/>
            <a:ext cx="7099200" cy="420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Артериальное давл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Артериальное давление (АД) является важнейшим параметром состояния здоровья человека. Различают систолическое (максимальное) давление, диастолическое (минимальное) давление, среднее давление и пульсовое давл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АД прямо пропорционально зависит от величины сердечного выброса, объема циркулирующей крови и сосудистого сопротивления, причем взаимоотношение сердечного выброса и сопротивления в крупных артериях определяет в основном систолическое давление, а взаимоотношение сердечного выброса с периферическим сопротивлением в артериолах – диастолическое давление. Пульсовым давлением является разность между систолическим и диастолическим давлени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Прямоугольник 4"/>
          <p:cNvSpPr/>
          <p:nvPr/>
        </p:nvSpPr>
        <p:spPr>
          <a:xfrm>
            <a:off x="2321640" y="472680"/>
            <a:ext cx="42728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uk-UA" sz="2800" spc="-1" strike="noStrike">
                <a:solidFill>
                  <a:srgbClr val="3366ff"/>
                </a:solidFill>
                <a:latin typeface="Georgia"/>
              </a:rPr>
              <a:t>МЕТОД КОРОТКО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Прямоугольник 3"/>
          <p:cNvSpPr/>
          <p:nvPr/>
        </p:nvSpPr>
        <p:spPr>
          <a:xfrm>
            <a:off x="443880" y="2237760"/>
            <a:ext cx="7741800" cy="40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Коротков выделил следующие 5 фаз звуков при постепенном уменьшении давления в сдавливающей плечо манжет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Georgia"/>
              </a:rPr>
              <a:t>1 фаза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. Как только давление в манжете приближается к систолическому, появляются тоны, которые постепенно нарастают в громк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Georgia"/>
              </a:rPr>
              <a:t>2 фаза.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При дальнейшем сдувании манжеты появляются «шуршащие» зву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Georgia"/>
              </a:rPr>
              <a:t>3 фаза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. Вновь появляются тоны которые возрастают в интенсив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Georgia"/>
              </a:rPr>
              <a:t>4 фаза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. Громкие тоны внезапно переходят в тихие то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Georgia"/>
              </a:rPr>
              <a:t>5 фаза.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Тихие тоны полностью исчезаю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Прямоугольник 3"/>
          <p:cNvSpPr/>
          <p:nvPr/>
        </p:nvSpPr>
        <p:spPr>
          <a:xfrm>
            <a:off x="765000" y="1697400"/>
            <a:ext cx="754272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Метод Короткова, несмотря на то, что в дальнейшем были разработаны другие методы бескровного измерения АД, например, электронные процессорные тонометры, основанные на анализе осцилляторных колебаний артерий, является единственным методом измерения артериального давления, который утвержден Всемирной Организацией Здравоохранения (ВОЗ) и рекомендован для применения врачам всего ми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Учитывая значимость квалифицированного определения артериального давления у человека, приводим методику измерения артериального давления, утвержденную ВОЗ (1999 г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Методика измерения артериального давления аускультативным методом Короткова (рекомендации экспертов ВОЗ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440" cy="175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algn="ctr"/>
            <a:endParaRPr b="1" lang="en-US" sz="1600" spc="248" strike="noStrike" cap="all">
              <a:solidFill>
                <a:srgbClr val="646b86"/>
              </a:solidFill>
              <a:latin typeface="Georgi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040" cy="175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7200" spc="-1" strike="noStrike">
                <a:solidFill>
                  <a:schemeClr val="accent1"/>
                </a:solidFill>
                <a:latin typeface="Georgia"/>
              </a:rPr>
              <a:t>15 вопрос</a:t>
            </a:r>
            <a:endParaRPr b="0" lang="en-US" sz="7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3"/>
          <p:cNvSpPr/>
          <p:nvPr/>
        </p:nvSpPr>
        <p:spPr>
          <a:xfrm>
            <a:off x="1046520" y="182160"/>
            <a:ext cx="689400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 u="sng">
                <a:solidFill>
                  <a:srgbClr val="3366ff"/>
                </a:solidFill>
                <a:uFillTx/>
                <a:latin typeface="Georgia"/>
              </a:rPr>
              <a:t>Механические колебания: виды колебаний, форма, параметры. Гармонические колебания. Шкала механических  колебан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ик 4"/>
          <p:cNvSpPr/>
          <p:nvPr/>
        </p:nvSpPr>
        <p:spPr>
          <a:xfrm>
            <a:off x="505080" y="1145160"/>
            <a:ext cx="8415000" cy="58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Колебательное движ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Особый вид неравномерного движения - колебательное. Это движение, которое повторяется с течением времени. Механические колебания - это движения, которые повторяются через определенные промежутки времени. Если промежутки времени одинаковые, то такие колебания называются периодически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Колебательная систе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Это система взаимодействующих тел (минимум два тела), которые способны совершать колебания. Простейшими колебательными системами являются маятни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Характеристика колеба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Фаза определяет состояние системы, а именно координату, скорость, ускорение, энергию и д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Циклическая частота характеризует скорость изменения фазы колеба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300" spc="-1" strike="noStrike">
                <a:solidFill>
                  <a:srgbClr val="7b9899"/>
                </a:solidFill>
                <a:latin typeface="Georgia"/>
              </a:rPr>
              <a:t>ЖИДКОСТЬ</a:t>
            </a: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Прямоугольник 3"/>
          <p:cNvSpPr/>
          <p:nvPr/>
        </p:nvSpPr>
        <p:spPr>
          <a:xfrm>
            <a:off x="1025280" y="1644480"/>
            <a:ext cx="7297920" cy="447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К жидкостям относят вещества, которые по своим свойствам занимают промежуточное положение между газами и твердыми телами. Жидкие среды составляют наибольшую часть организма, их перемещение обеспечивает обмен веществ и снабжение клеток кислородом, поэтому механические свойства и течение жидкостей представляют особый интерес для медиков и биолог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Материал, изложенный в главе, имеет отношение к гидродинамике - разделу физики, в котором изучают вопросы движения несжимаемых жидкостей и взаимодействие их при этом с окружающими твердыми телами, и к реологии - учению о деформациях и текучести вещест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Изображение 3" descr=""/>
          <p:cNvPicPr/>
          <p:nvPr/>
        </p:nvPicPr>
        <p:blipFill>
          <a:blip r:embed="rId1"/>
          <a:stretch/>
        </p:blipFill>
        <p:spPr>
          <a:xfrm>
            <a:off x="301680" y="1473480"/>
            <a:ext cx="3737160" cy="2090880"/>
          </a:xfrm>
          <a:prstGeom prst="rect">
            <a:avLst/>
          </a:prstGeom>
          <a:ln w="0">
            <a:noFill/>
          </a:ln>
        </p:spPr>
      </p:pic>
      <p:sp>
        <p:nvSpPr>
          <p:cNvPr id="153" name="Прямоугольник 4"/>
          <p:cNvSpPr/>
          <p:nvPr/>
        </p:nvSpPr>
        <p:spPr>
          <a:xfrm>
            <a:off x="4168080" y="312480"/>
            <a:ext cx="4767120" cy="420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Начальное состояние колебательной системы характеризует начальная фаз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Амплитуда колебаний A - это наибольшее смещение из положения равновес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Период T - это промежуток времени, в течение которого точка выполняет одно полное колеба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Частота колебаний - это число полных колебаний в единицу времени 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Изображение 5" descr=""/>
          <p:cNvPicPr/>
          <p:nvPr/>
        </p:nvPicPr>
        <p:blipFill>
          <a:blip r:embed="rId2"/>
          <a:stretch/>
        </p:blipFill>
        <p:spPr>
          <a:xfrm>
            <a:off x="301680" y="4166280"/>
            <a:ext cx="4722480" cy="1647000"/>
          </a:xfrm>
          <a:prstGeom prst="rect">
            <a:avLst/>
          </a:prstGeom>
          <a:ln w="0">
            <a:noFill/>
          </a:ln>
        </p:spPr>
      </p:pic>
      <p:pic>
        <p:nvPicPr>
          <p:cNvPr id="155" name="Изображение 6" descr=""/>
          <p:cNvPicPr/>
          <p:nvPr/>
        </p:nvPicPr>
        <p:blipFill>
          <a:blip r:embed="rId3"/>
          <a:stretch/>
        </p:blipFill>
        <p:spPr>
          <a:xfrm>
            <a:off x="5502600" y="4989240"/>
            <a:ext cx="1168200" cy="1180800"/>
          </a:xfrm>
          <a:prstGeom prst="rect">
            <a:avLst/>
          </a:prstGeom>
          <a:ln w="0">
            <a:noFill/>
          </a:ln>
        </p:spPr>
      </p:pic>
      <p:pic>
        <p:nvPicPr>
          <p:cNvPr id="156" name="Изображение 7" descr=""/>
          <p:cNvPicPr/>
          <p:nvPr/>
        </p:nvPicPr>
        <p:blipFill>
          <a:blip r:embed="rId4"/>
          <a:stretch/>
        </p:blipFill>
        <p:spPr>
          <a:xfrm>
            <a:off x="7670880" y="5002200"/>
            <a:ext cx="1472760" cy="1168200"/>
          </a:xfrm>
          <a:prstGeom prst="rect">
            <a:avLst/>
          </a:prstGeom>
          <a:ln w="0">
            <a:noFill/>
          </a:ln>
        </p:spPr>
      </p:pic>
      <p:sp>
        <p:nvSpPr>
          <p:cNvPr id="157" name="Прямоугольник 8"/>
          <p:cNvSpPr/>
          <p:nvPr/>
        </p:nvSpPr>
        <p:spPr>
          <a:xfrm>
            <a:off x="4384800" y="4023720"/>
            <a:ext cx="45716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Частота, циклическая частота и период колебаний соотносятся ка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66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300" spc="-1" strike="noStrike">
                <a:solidFill>
                  <a:srgbClr val="7b9899"/>
                </a:solidFill>
                <a:latin typeface="Georgia"/>
              </a:rPr>
              <a:t>Виды колебаний</a:t>
            </a:r>
            <a:br>
              <a:rPr sz="3300"/>
            </a:b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Прямоугольник 4"/>
          <p:cNvSpPr/>
          <p:nvPr/>
        </p:nvSpPr>
        <p:spPr>
          <a:xfrm>
            <a:off x="533520" y="987480"/>
            <a:ext cx="8363160" cy="53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Колебания, которые происходят в замкнутых системах называются свободными илисобственными колебаниями. Колебания, которые происходят под действием внешних сил, называют вынужденными. Встречаются также автоколебания (вынуждаются автоматически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Если рассматривать колебания согласно изменяющихся характеристик (амплитуда, частота, период и др.), то их можно разделить на гармонические, затухающие, нарастающие (а также пилообразные, прямоугольные, сложные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При свободных колебаниях в реальных системах всегда происходят потери энергии. Механическая энергия расходуется, например, на совершение работы по преодолению сил сопротивления воздуха. Под влиянием силы трения происходит уменьшение амплитуды колебаний, и через некоторое время колебания прекращаются. Очевидно, что чем больше силы сопротивления движению, тем быстрее прекращаются колеб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Прямоугольник 3"/>
          <p:cNvSpPr/>
          <p:nvPr/>
        </p:nvSpPr>
        <p:spPr>
          <a:xfrm>
            <a:off x="301680" y="268560"/>
            <a:ext cx="8373240" cy="66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Вынужденные колебания. Резонан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Вынужденные колебания являются незатухающими. Поэтому необходимо восполнять потери энергии за каждый период колебаний. Для этого необходимо воздействовать на колеблющееся тело периодически изменяющейся силой. Вынужденные колебания совершаются с частотой, равной частоте изменения внешней сил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Вынужденные колеб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Амплитуда вынужденных механических колебаний достигает наибольшего значения в том случае, если частота вынуждающей силы совпадает с частотой колебательной системы. Это явление называется резонанс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Например, если периодически дергать шнур в такт его собственным колебаниям, то мы заметим увеличение амплитуды его колеба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Изображение 4" descr=""/>
          <p:cNvPicPr/>
          <p:nvPr/>
        </p:nvPicPr>
        <p:blipFill>
          <a:blip r:embed="rId1"/>
          <a:stretch/>
        </p:blipFill>
        <p:spPr>
          <a:xfrm>
            <a:off x="3247200" y="2732760"/>
            <a:ext cx="4020120" cy="21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300" spc="-1" strike="noStrike">
                <a:solidFill>
                  <a:srgbClr val="7b9899"/>
                </a:solidFill>
                <a:latin typeface="Georgia"/>
              </a:rPr>
              <a:t>Гармонические колебания</a:t>
            </a: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Прямоугольник 3"/>
          <p:cNvSpPr/>
          <p:nvPr/>
        </p:nvSpPr>
        <p:spPr>
          <a:xfrm>
            <a:off x="448200" y="1209600"/>
            <a:ext cx="8387640" cy="594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Самым простым колебательным движением тела является гармоническое колебание. Гармоническим называют колебание, в процессе которого величины, характеризующие движение (смещение, скорость, ускорение и др.), изменяются по закону синуса или косинуса (гармоническому закону). В общем виде этот закон задается формулой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x(t)=Asin(ωt+φ0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где x(t) — значение изменяющейся величины в момент времени t, A — амплитуда колебаний, ω — циклическая (круговая) частота колебаний, φ0 — начальная фаза колеба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Гармонические колебания 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являются периодическими. Период T этих колебаний равен периоду функции 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sin(ωt+φ0), то е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T=2πω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Очень часто как свободные, так и вынужденные колебания в различных механических колебательных системах имеют форму гармонических колебаний.  Поведение тела, совершающего колебания по гармоническому закону, описывается дифференциальным уравнением ви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x′′+ω2x=0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где x′′ — вторая производная координаты x тела по времени t , то есть проекция ax его ускорения на ось x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buNone/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165" name="Изображение 3" descr=""/>
          <p:cNvPicPr/>
          <p:nvPr/>
        </p:nvPicPr>
        <p:blipFill>
          <a:blip r:embed="rId1"/>
          <a:stretch/>
        </p:blipFill>
        <p:spPr>
          <a:xfrm>
            <a:off x="1056240" y="2162160"/>
            <a:ext cx="7403400" cy="391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440" cy="175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algn="ctr"/>
            <a:endParaRPr b="1" lang="en-US" sz="1600" spc="248" strike="noStrike" cap="all">
              <a:solidFill>
                <a:srgbClr val="646b86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040" cy="175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200" spc="-1" strike="noStrike">
                <a:solidFill>
                  <a:schemeClr val="accent1"/>
                </a:solidFill>
                <a:latin typeface="Georgia"/>
              </a:rPr>
              <a:t>16</a:t>
            </a:r>
            <a:r>
              <a:rPr b="0" lang="ru-RU" sz="4200" spc="-1" strike="noStrike">
                <a:solidFill>
                  <a:schemeClr val="accent1"/>
                </a:solidFill>
                <a:latin typeface="Georgia"/>
              </a:rPr>
              <a:t> вопрос</a:t>
            </a:r>
            <a:endParaRPr b="0" lang="en-US" sz="4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Прямоугольник 3"/>
          <p:cNvSpPr/>
          <p:nvPr/>
        </p:nvSpPr>
        <p:spPr>
          <a:xfrm>
            <a:off x="0" y="0"/>
            <a:ext cx="9143640" cy="41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3366ff"/>
                </a:solidFill>
                <a:latin typeface="Georgia"/>
              </a:rPr>
              <a:t>Механические вол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Если в каком-нибудь месте твердой, жидкой или газообразной среды возбуждены колебания частиц, то вследствие взаимодействия атомов и молекул среды колебания начинают передаваться от одной точки к другой с конечной скоростью. Процесс распространения колебаний в среде называется волн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Механические волны бывают разных видов. Если в волне частицы среды испытывают смещение в направлении, перпендикулярном направлению распространения, то волна называется поперечной. Примером волны такого рода могут служить волны, бегущие по натянутому резиновому жгуту (рис. 2.6.1) или по струн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Прямоугольник 3"/>
          <p:cNvSpPr/>
          <p:nvPr/>
        </p:nvSpPr>
        <p:spPr>
          <a:xfrm>
            <a:off x="285840" y="309240"/>
            <a:ext cx="8534160" cy="420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Если смещение частиц среды происходит в направлении распространения волны, то волна называется продольной. Волны в упругом стержне (рис. 2.6.2) или звуковые волны в газе являются примерами таких вол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Волны на поверхности жидкости имеют как поперечную, так и продольную компонент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Как в поперечных, так и в продольных волнах переноса вещества в направлении распространения волны не происходит. В процессе распространения частицы среды лишь совершают колебания около положений равновесия. Однако волны переносят энергию колебаний от одной точки среды к друг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Изображение 4" descr=""/>
          <p:cNvPicPr/>
          <p:nvPr/>
        </p:nvPicPr>
        <p:blipFill>
          <a:blip r:embed="rId1"/>
          <a:stretch/>
        </p:blipFill>
        <p:spPr>
          <a:xfrm>
            <a:off x="285840" y="3968640"/>
            <a:ext cx="3904920" cy="2539800"/>
          </a:xfrm>
          <a:prstGeom prst="rect">
            <a:avLst/>
          </a:prstGeom>
          <a:ln w="0">
            <a:noFill/>
          </a:ln>
        </p:spPr>
      </p:pic>
      <p:pic>
        <p:nvPicPr>
          <p:cNvPr id="171" name="Изображение 5" descr=""/>
          <p:cNvPicPr/>
          <p:nvPr/>
        </p:nvPicPr>
        <p:blipFill>
          <a:blip r:embed="rId2"/>
          <a:stretch/>
        </p:blipFill>
        <p:spPr>
          <a:xfrm>
            <a:off x="4524480" y="3968640"/>
            <a:ext cx="4438440" cy="253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01680" y="412920"/>
            <a:ext cx="8534160" cy="7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41000"/>
          </a:bodyPr>
          <a:p>
            <a:pPr indent="0" algn="ctr">
              <a:lnSpc>
                <a:spcPct val="100000"/>
              </a:lnSpc>
              <a:buNone/>
            </a:pPr>
            <a:br>
              <a:rPr sz="3300"/>
            </a:br>
            <a:r>
              <a:rPr b="0" lang="ru-RU" sz="3300" spc="-1" strike="noStrike">
                <a:solidFill>
                  <a:srgbClr val="7b9899"/>
                </a:solidFill>
                <a:latin typeface="Georgia"/>
              </a:rPr>
              <a:t>Уравнение волны.</a:t>
            </a:r>
            <a:br>
              <a:rPr sz="3300"/>
            </a:b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3" name="Прямоугольник 3"/>
          <p:cNvSpPr/>
          <p:nvPr/>
        </p:nvSpPr>
        <p:spPr>
          <a:xfrm>
            <a:off x="358920" y="1443960"/>
            <a:ext cx="8476920" cy="420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Если в источнике волн изменение колеблющейся величины происходит по закону 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то колебания частиц фронта плоской волны отстают на Dt: 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если не происходит затухания. Тогда: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Если ввести волновое число 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то получим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- </a:t>
            </a: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Georgia"/>
              </a:rPr>
              <a:t>уравнение  волны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Изображение 4" descr=""/>
          <p:cNvPicPr/>
          <p:nvPr/>
        </p:nvPicPr>
        <p:blipFill>
          <a:blip r:embed="rId1"/>
          <a:stretch/>
        </p:blipFill>
        <p:spPr>
          <a:xfrm>
            <a:off x="2111400" y="1778040"/>
            <a:ext cx="2507760" cy="501120"/>
          </a:xfrm>
          <a:prstGeom prst="rect">
            <a:avLst/>
          </a:prstGeom>
          <a:ln w="0">
            <a:noFill/>
          </a:ln>
        </p:spPr>
      </p:pic>
      <p:pic>
        <p:nvPicPr>
          <p:cNvPr id="175" name="Изображение 5" descr=""/>
          <p:cNvPicPr/>
          <p:nvPr/>
        </p:nvPicPr>
        <p:blipFill>
          <a:blip r:embed="rId2"/>
          <a:stretch/>
        </p:blipFill>
        <p:spPr>
          <a:xfrm>
            <a:off x="3540240" y="2460600"/>
            <a:ext cx="4340160" cy="612360"/>
          </a:xfrm>
          <a:prstGeom prst="rect">
            <a:avLst/>
          </a:prstGeom>
          <a:ln w="0">
            <a:noFill/>
          </a:ln>
        </p:spPr>
      </p:pic>
      <p:pic>
        <p:nvPicPr>
          <p:cNvPr id="176" name="Изображение 6" descr=""/>
          <p:cNvPicPr/>
          <p:nvPr/>
        </p:nvPicPr>
        <p:blipFill>
          <a:blip r:embed="rId3"/>
          <a:stretch/>
        </p:blipFill>
        <p:spPr>
          <a:xfrm>
            <a:off x="4619520" y="3273480"/>
            <a:ext cx="3174480" cy="662400"/>
          </a:xfrm>
          <a:prstGeom prst="rect">
            <a:avLst/>
          </a:prstGeom>
          <a:ln w="0">
            <a:noFill/>
          </a:ln>
        </p:spPr>
      </p:pic>
      <p:pic>
        <p:nvPicPr>
          <p:cNvPr id="177" name="Изображение 7" descr=""/>
          <p:cNvPicPr/>
          <p:nvPr/>
        </p:nvPicPr>
        <p:blipFill>
          <a:blip r:embed="rId4"/>
          <a:stretch/>
        </p:blipFill>
        <p:spPr>
          <a:xfrm>
            <a:off x="1390680" y="4603680"/>
            <a:ext cx="3752640" cy="62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300" spc="-1" strike="noStrike">
                <a:solidFill>
                  <a:srgbClr val="7b9899"/>
                </a:solidFill>
                <a:latin typeface="Georgia"/>
              </a:rPr>
              <a:t>Интенсивность волны</a:t>
            </a: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79" name="Изображение 4" descr=""/>
          <p:cNvPicPr/>
          <p:nvPr/>
        </p:nvPicPr>
        <p:blipFill>
          <a:blip r:embed="rId1"/>
          <a:stretch/>
        </p:blipFill>
        <p:spPr>
          <a:xfrm>
            <a:off x="2705040" y="3276720"/>
            <a:ext cx="4693680" cy="882360"/>
          </a:xfrm>
          <a:prstGeom prst="rect">
            <a:avLst/>
          </a:prstGeom>
          <a:ln w="0">
            <a:noFill/>
          </a:ln>
        </p:spPr>
      </p:pic>
      <p:sp>
        <p:nvSpPr>
          <p:cNvPr id="180" name="Прямоугольник 5"/>
          <p:cNvSpPr/>
          <p:nvPr/>
        </p:nvSpPr>
        <p:spPr>
          <a:xfrm>
            <a:off x="706680" y="2339280"/>
            <a:ext cx="2808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Интенсивность вол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Прямоугольник 3"/>
          <p:cNvSpPr/>
          <p:nvPr/>
        </p:nvSpPr>
        <p:spPr>
          <a:xfrm>
            <a:off x="1285200" y="534600"/>
            <a:ext cx="6704640" cy="53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Georgia"/>
              </a:rPr>
              <a:t>НЬЮТОНОВСКИЕ И НЕНЬЮТОНОВСКИЕ ЖИДК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При течении реальной жидкости отдельные слои ее воздействуют друг на друга с силами, касательными к слоям. Это явление называют внутренним трением или вязкость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Рассмотрим течение вязкой жидкости между двумя твердыми пластинками (рис. 9.1), из которых нижняя неподвижна, а верхняя движется со скоростью υΒ. Условно представим жидкость в виде нескольких слоев 1, 2, 3 и т.д. Слой, «прилипший» ко дну, неподвижен. По мере удаления от дна (нижняя пластинка) слои жидкости имеют все большие скорости (υ1&lt; υ2&lt; υ3 &lt;... и т.д), максимальная скорость υΒ будет у слоя, который «прилип» к верхней пластинк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300" spc="-1" strike="noStrike">
                <a:solidFill>
                  <a:srgbClr val="7b9899"/>
                </a:solidFill>
                <a:latin typeface="Georgia"/>
              </a:rPr>
              <a:t>ВЕКТОР УМОВА</a:t>
            </a: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Прямоугольник 3"/>
          <p:cNvSpPr/>
          <p:nvPr/>
        </p:nvSpPr>
        <p:spPr>
          <a:xfrm>
            <a:off x="301680" y="2055240"/>
            <a:ext cx="8032320" cy="447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Вектор Пойнтинга (также вектор Умова — Пойнтинга) — вектор плотности потока энергии электромагнитного поля, один из компонент тензора энергии-импульса электромагнитного поля. Вектор Пойнтинга S можно определить через векторное произведение двух векторов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(в Международной системе единиц (СИ)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где E и H — векторы напряжённости электрического и магнитного полей соответствен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Изображение 5" descr=""/>
          <p:cNvPicPr/>
          <p:nvPr/>
        </p:nvPicPr>
        <p:blipFill>
          <a:blip r:embed="rId1"/>
          <a:stretch/>
        </p:blipFill>
        <p:spPr>
          <a:xfrm>
            <a:off x="730080" y="3902040"/>
            <a:ext cx="1638000" cy="469440"/>
          </a:xfrm>
          <a:prstGeom prst="rect">
            <a:avLst/>
          </a:prstGeom>
          <a:ln w="0">
            <a:noFill/>
          </a:ln>
        </p:spPr>
      </p:pic>
      <p:pic>
        <p:nvPicPr>
          <p:cNvPr id="184" name="Изображение 6" descr=""/>
          <p:cNvPicPr/>
          <p:nvPr/>
        </p:nvPicPr>
        <p:blipFill>
          <a:blip r:embed="rId2"/>
          <a:stretch/>
        </p:blipFill>
        <p:spPr>
          <a:xfrm>
            <a:off x="730080" y="4683240"/>
            <a:ext cx="2250000" cy="428400"/>
          </a:xfrm>
          <a:prstGeom prst="rect">
            <a:avLst/>
          </a:prstGeom>
          <a:ln w="0">
            <a:noFill/>
          </a:ln>
        </p:spPr>
      </p:pic>
      <p:pic>
        <p:nvPicPr>
          <p:cNvPr id="185" name="Изображение 7" descr=""/>
          <p:cNvPicPr/>
          <p:nvPr/>
        </p:nvPicPr>
        <p:blipFill>
          <a:blip r:embed="rId3"/>
          <a:stretch/>
        </p:blipFill>
        <p:spPr>
          <a:xfrm>
            <a:off x="5540400" y="3279600"/>
            <a:ext cx="2793600" cy="21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Изображение 4" descr=""/>
          <p:cNvPicPr/>
          <p:nvPr/>
        </p:nvPicPr>
        <p:blipFill>
          <a:blip r:embed="rId1"/>
          <a:stretch/>
        </p:blipFill>
        <p:spPr>
          <a:xfrm>
            <a:off x="3871440" y="752040"/>
            <a:ext cx="4971960" cy="3960720"/>
          </a:xfrm>
          <a:prstGeom prst="rect">
            <a:avLst/>
          </a:prstGeom>
          <a:ln w="0">
            <a:noFill/>
          </a:ln>
        </p:spPr>
      </p:pic>
      <p:sp>
        <p:nvSpPr>
          <p:cNvPr id="121" name="Прямоугольник 3"/>
          <p:cNvSpPr/>
          <p:nvPr/>
        </p:nvSpPr>
        <p:spPr>
          <a:xfrm>
            <a:off x="413280" y="309960"/>
            <a:ext cx="7007400" cy="61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Georgia"/>
              </a:rPr>
              <a:t>ВЯЗКОСТЬ ЖИДК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Georgia"/>
              </a:rPr>
              <a:t>УРАВНЕНИЕ НЬЮТО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Слои воздействуют друг на друга. Так, например, третий слой стремится ускорить движение второго, но сам испытывает торможение с его стороны, а ускоряется четвертым слоем и т.д. Сила внутреннего трения пропорциональна площади S взаимодействующих слоев и тем больше, чем больше их относительная скор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buNone/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123" name="Изображение 5" descr=""/>
          <p:cNvPicPr/>
          <p:nvPr/>
        </p:nvPicPr>
        <p:blipFill>
          <a:blip r:embed="rId1"/>
          <a:stretch/>
        </p:blipFill>
        <p:spPr>
          <a:xfrm>
            <a:off x="514440" y="2379240"/>
            <a:ext cx="8321400" cy="20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buNone/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5" name="Прямоугольник 3"/>
          <p:cNvSpPr/>
          <p:nvPr/>
        </p:nvSpPr>
        <p:spPr>
          <a:xfrm>
            <a:off x="434520" y="1599480"/>
            <a:ext cx="7919280" cy="447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Это уравнение Ньютона. Здесь η - коэффициент пропорциональности, называемый коэффициентом внутреннего трения или динамической с вязкостью (или просто вязкостью). Вязкость зависит от состояния и молекулярных свойств жидкости (или газа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Единицей вязкости является паскаль-секунда (Пах). В системе СГС вязкость выражают в пуазах (П): 1 Пах = 10 П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Для многих жидкостей вязкость не зависит от градиента скорости, такие жидкости подчиняются уравнению Ньютона (9.1) и их называют ньютоновскими. Жидкости, не подчиняющиеся уравнению (9.1), относят к неньютоновским. Иногда вязкость ньютоновских жидкостей называют нормальной, а неньютоновской - аномальн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buNone/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7" name="Прямоугольник 3"/>
          <p:cNvSpPr/>
          <p:nvPr/>
        </p:nvSpPr>
        <p:spPr>
          <a:xfrm>
            <a:off x="658080" y="1901160"/>
            <a:ext cx="7527600" cy="33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Жидкости, состоящие из сложных и крупных молекул, например растворы полимеров, и образующие благодаря сцеплению молекул или частиц пространственные структуры, являются неньютоновскими. Их вязкость при прочих равных условиях много больше, чем у простых жидкост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Увеличение вязкости происходит потому, что при течении этих жидкостей работа внешней силы затрачивается не только на преодоление истинной, ньютоновской, вязкости, но и на разрушение структуры. Кровь является неньютоновской жидкость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300" spc="-1" strike="noStrike">
                <a:solidFill>
                  <a:srgbClr val="7b9899"/>
                </a:solidFill>
                <a:latin typeface="Georgia"/>
              </a:rPr>
              <a:t>Вязкость крови</a:t>
            </a: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Прямоугольник 3"/>
          <p:cNvSpPr/>
          <p:nvPr/>
        </p:nvSpPr>
        <p:spPr>
          <a:xfrm>
            <a:off x="648720" y="1880280"/>
            <a:ext cx="7138800" cy="33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Вязкость крови – это соотношение объема жидкой части крови (плазмы) и числа ее форменных элементов (клеток крови). Является очень важным показателем состояния крови, определяющим максимальный срок нормального функционирования сердца и сосуд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Georgia"/>
              </a:rPr>
              <a:t>Свойства физиологического процес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Для нормального кровообращения вязкость крови имеет большое значение, так как связана с сопротивлением, которое приходится преодолевать при работе мышце сердца. В течение дня происходят только незначительные колебания вязкости кров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Прямоугольник 5"/>
          <p:cNvSpPr/>
          <p:nvPr/>
        </p:nvSpPr>
        <p:spPr>
          <a:xfrm>
            <a:off x="474480" y="381600"/>
            <a:ext cx="852192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400" spc="-1" strike="noStrike" u="sng">
                <a:solidFill>
                  <a:srgbClr val="3366ff"/>
                </a:solidFill>
                <a:uFillTx/>
                <a:latin typeface="Georgia"/>
              </a:rPr>
              <a:t>Методы определения вязкости жидкости. Клинический метод определения вязкости кров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Прямоугольник 6"/>
          <p:cNvSpPr/>
          <p:nvPr/>
        </p:nvSpPr>
        <p:spPr>
          <a:xfrm>
            <a:off x="1055880" y="1912320"/>
            <a:ext cx="7160400" cy="420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Совокупность методов измерения вязкости называют вискози­метрией, а приборы, используемые для таких целей, — вискозиметрами. Рассмотрим наиболее распространенные методы вискозиметрии. Капиллярный метод основан на формуле Пуазейля и заключается в измерении времени протекания через капилляр жидкости известной массы под действием силы тяжести при определенном' перепаде давлений. Капиллярные вискозиметры различной формы показаны на рис. 7.7, а, б (1 — измерительные резервуары, М1 и М2 — метки, обозначающие границы этих резервуаров, 2 — капилляры, 3 — приемные сосуды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Капиллярный вискозиметр применяется для определения вяз­к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Официальная">
  <a:themeElements>
    <a:clrScheme name="Civic">
      <a:dk1>
        <a:srgbClr val="000000"/>
      </a:dk1>
      <a:lt1>
        <a:srgbClr val="ffffff"/>
      </a:lt1>
      <a:dk2>
        <a:srgbClr val="646b86"/>
      </a:dk2>
      <a:lt2>
        <a:srgbClr val="c5d1d7"/>
      </a:lt2>
      <a:accent1>
        <a:srgbClr val="d16349"/>
      </a:accent1>
      <a:accent2>
        <a:srgbClr val="ccb400"/>
      </a:accent2>
      <a:accent3>
        <a:srgbClr val="8cadae"/>
      </a:accent3>
      <a:accent4>
        <a:srgbClr val="8c7b70"/>
      </a:accent4>
      <a:accent5>
        <a:srgbClr val="8fb08c"/>
      </a:accent5>
      <a:accent6>
        <a:srgbClr val="d19049"/>
      </a:accent6>
      <a:hlink>
        <a:srgbClr val="00a3d6"/>
      </a:hlink>
      <a:folHlink>
        <a:srgbClr val="694f07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Официальная">
  <a:themeElements>
    <a:clrScheme name="Civic">
      <a:dk1>
        <a:srgbClr val="000000"/>
      </a:dk1>
      <a:lt1>
        <a:srgbClr val="ffffff"/>
      </a:lt1>
      <a:dk2>
        <a:srgbClr val="646b86"/>
      </a:dk2>
      <a:lt2>
        <a:srgbClr val="c5d1d7"/>
      </a:lt2>
      <a:accent1>
        <a:srgbClr val="d16349"/>
      </a:accent1>
      <a:accent2>
        <a:srgbClr val="ccb400"/>
      </a:accent2>
      <a:accent3>
        <a:srgbClr val="8cadae"/>
      </a:accent3>
      <a:accent4>
        <a:srgbClr val="8c7b70"/>
      </a:accent4>
      <a:accent5>
        <a:srgbClr val="8fb08c"/>
      </a:accent5>
      <a:accent6>
        <a:srgbClr val="d19049"/>
      </a:accent6>
      <a:hlink>
        <a:srgbClr val="00a3d6"/>
      </a:hlink>
      <a:folHlink>
        <a:srgbClr val="694f07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646b86"/>
      </a:dk2>
      <a:lt2>
        <a:srgbClr val="c5d1d7"/>
      </a:lt2>
      <a:accent1>
        <a:srgbClr val="d16349"/>
      </a:accent1>
      <a:accent2>
        <a:srgbClr val="ccb400"/>
      </a:accent2>
      <a:accent3>
        <a:srgbClr val="8cadae"/>
      </a:accent3>
      <a:accent4>
        <a:srgbClr val="8c7b70"/>
      </a:accent4>
      <a:accent5>
        <a:srgbClr val="8fb08c"/>
      </a:accent5>
      <a:accent6>
        <a:srgbClr val="d19049"/>
      </a:accent6>
      <a:hlink>
        <a:srgbClr val="00a3d6"/>
      </a:hlink>
      <a:folHlink>
        <a:srgbClr val="694f07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Официальная.thmx</Template>
  <TotalTime>83</TotalTime>
  <Application>LibreOffice/7.4.7.2$Linux_X86_64 LibreOffice_project/40$Build-2</Application>
  <AppVersion>15.0000</AppVersion>
  <Words>2263</Words>
  <Paragraphs>203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06T19:27:34Z</dcterms:created>
  <dc:creator>user</dc:creator>
  <dc:description/>
  <dc:language>en-US</dc:language>
  <cp:lastModifiedBy>user</cp:lastModifiedBy>
  <dcterms:modified xsi:type="dcterms:W3CDTF">2015-12-06T20:51:26Z</dcterms:modified>
  <cp:revision>8</cp:revision>
  <dc:subject/>
  <dc:title>13 вопрос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</vt:r8>
  </property>
  <property fmtid="{D5CDD505-2E9C-101B-9397-08002B2CF9AE}" pid="3" name="PresentationFormat">
    <vt:lpwstr>Экран (4:3)</vt:lpwstr>
  </property>
  <property fmtid="{D5CDD505-2E9C-101B-9397-08002B2CF9AE}" pid="4" name="Slides">
    <vt:r8>30</vt:r8>
  </property>
</Properties>
</file>