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403BDE-74B5-4FC9-AF49-994BE5988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9CB0D1-61C0-4AC7-973D-EDC6E4FF578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F42-22ED-4320-9784-AD3A5E89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370-E577-4563-89D0-12A27B6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B06-BD92-46AB-BD9D-1B0B6C26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E9B-A574-4FB6-80B0-7C3F770F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EFB-97CB-46F1-A7D9-4DF93DE7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C225-8F91-4161-838D-C137760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E6E-C89E-4353-B509-C05AD85F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A355-8FDE-4FB6-BDB2-49F1CC66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B23-48C3-4CAA-8C24-99ABFB4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45B-97A2-4224-BBA9-5927C948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DCB-C5B4-4060-9ADC-F21B086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03D-6231-4F53-BECE-A717930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22C1-45EF-461C-8636-B79AEBFA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9E47-11C3-43AC-8D44-68735FAF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D01E-CFE0-4C00-83F0-F36D61D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CA73-4937-44C3-8764-C5552883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D611-5A70-47AB-9B22-8A4D4372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AB88-3B6A-42C5-9DB5-89A69862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899-EEC6-4DC4-98B0-3CB22C5A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930-9D57-44B1-AF81-1F0B0829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ED2-2A98-48FE-8FC7-34917BBA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3F9-5A5E-47FD-9C03-CDA4651B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970-232A-4176-8B1B-A648629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E0F-A1E5-4AD6-840A-F5A82B3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182E6B-D43B-401C-8BB6-463A19F95F5E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1A9266-06B6-4E28-A4D0-431376DF1D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Галеева Эв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124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7786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8000" spc="-1" strike="noStrike">
                <a:solidFill>
                  <a:schemeClr val="accent1"/>
                </a:solidFill>
                <a:latin typeface="Georgia"/>
              </a:rPr>
              <a:t>13 </a:t>
            </a:r>
            <a:r>
              <a:rPr b="0" lang="ru-RU" sz="8000" spc="-1" strike="noStrike">
                <a:solidFill>
                  <a:schemeClr val="accent1"/>
                </a:solidFill>
                <a:latin typeface="Georgia"/>
              </a:rPr>
              <a:t>вопрос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50800" y="1346760"/>
            <a:ext cx="8047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пиллярными вискозиметрами измеряют вязкость от значений 10-5 Па • с, свойственных газам, до значений 104 Па • с, ха­рактерных для консистентных см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 падающего шарика используется в вискозиметрах, осно­ванных на законе Стокса. Из формулы (7.15) нахо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аким образом, зная величины, входящие в правую часть этой формулы, и измеряя скорость равномерного падения шарика, можно найти вязкость данной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дел измерений вискозиметров с движущимся шариком со­ставляет 6 • 104- 250 Па•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меняются также ротационные вискозиметры, в которых жидкость находится в зазоре между двумя соосными телами, на­пример цилиндрами. Один из цилиндров (ротор) вращается, а другой неподвижен. Вязкость измеряется по угловой скорости ро­тора, создающего оп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244800" y="2013840"/>
            <a:ext cx="83937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помощью ротационных вискозиметров определяют вязкость жидкостей в интервале 1—105 Па • с, т. е. смазочных масел, рас­плавленных силикатов и металлов, высоковязких лаков и клеев, глинистых раствор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ротационных вискозиметрах можно менять градиент скорости, задавая разные угловые скорости вращения ротора. Это позволяет измерять вязкость при разных градиентах и установить зависимость η = f(dv/dx), которая характерна для неньютоновских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настоящее время в клинике для определения вязкости крови используют вискозиметр Гесса с двумя капилля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ВОПРОС 14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228600"/>
            <a:ext cx="914364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ежимы движения жидкости и основы гидродинамического подо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Ламинарный и турбулентный режимы движения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пыты показывают, что возможны два режима (вида) движения жидкости в гидравлических ли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ламинарный (от латинского слова lamina – слой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турбулентный (от латинского слова turbulentus – возмущенный, беспорядочный)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аминарным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зывают слоистое течение без перемешивания частиц жидкости и без пульсаций скоростей и давлений. При ламинарном движении жидкости в прямой трубе постоянного сечения все линии тока направлены параллельно оси трубы, то есть поперечные перемещения жидкости отсутствуют. Такое движение является вполне упорядоченным и при постоянном давлении строго установивш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урбулентным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ывают течение, сопровождающееся интенсивным перемешиванием жидкости и пульсациями скоростей и давлений. При таком движении векторы скоростей имеют не только осевые, но и нормальные к оси трубы составляющие, поэтому вместе с основным продольным движением жидкости вдоль трубы происходят поперечные перемещения (перемешивание) и вращение отдельных объемов жидкости. Этим объясняются пульсации скоростей и д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176040" y="0"/>
            <a:ext cx="896760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Число Рейнольд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жим движения жидкости в трубе изменяется примерно при определенной средней по сечению скорости , которую называют критической. Значение этой скорости прямо пропорционально кинематической вязкости и обратно пропорционально диаметру тру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ходящий в эту формулу безразмерный коэффициент пропорциональности  (критическое число Рейнольдса) одинаков для всех жидкостей и газов, а также для любых диаметров труб. Это означает, что изменение режима течения происходит при определенном соотношении между скоростью, диаметром и кинематической вязкост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труб круглого сеч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 физической точки зрения, критерий Рейнольдса  есть отношение сил инерции потока к силам трения при движении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                         движение жидкости является ламинарным, при    турбулен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1193400" y="1989000"/>
            <a:ext cx="308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Изображение 7" descr=""/>
          <p:cNvPicPr/>
          <p:nvPr/>
        </p:nvPicPr>
        <p:blipFill>
          <a:blip r:embed="rId1"/>
          <a:stretch/>
        </p:blipFill>
        <p:spPr>
          <a:xfrm>
            <a:off x="1002960" y="1980720"/>
            <a:ext cx="2485440" cy="580320"/>
          </a:xfrm>
          <a:prstGeom prst="rect">
            <a:avLst/>
          </a:prstGeom>
          <a:ln w="0">
            <a:noFill/>
          </a:ln>
        </p:spPr>
      </p:pic>
      <p:pic>
        <p:nvPicPr>
          <p:cNvPr id="141" name="Изображение 8" descr=""/>
          <p:cNvPicPr/>
          <p:nvPr/>
        </p:nvPicPr>
        <p:blipFill>
          <a:blip r:embed="rId2"/>
          <a:stretch/>
        </p:blipFill>
        <p:spPr>
          <a:xfrm>
            <a:off x="3708360" y="3929400"/>
            <a:ext cx="2591640" cy="614160"/>
          </a:xfrm>
          <a:prstGeom prst="rect">
            <a:avLst/>
          </a:prstGeom>
          <a:ln w="0">
            <a:noFill/>
          </a:ln>
        </p:spPr>
      </p:pic>
      <p:pic>
        <p:nvPicPr>
          <p:cNvPr id="142" name="Изображение 9" descr=""/>
          <p:cNvPicPr/>
          <p:nvPr/>
        </p:nvPicPr>
        <p:blipFill>
          <a:blip r:embed="rId3"/>
          <a:stretch/>
        </p:blipFill>
        <p:spPr>
          <a:xfrm>
            <a:off x="845280" y="5398200"/>
            <a:ext cx="1155240" cy="406080"/>
          </a:xfrm>
          <a:prstGeom prst="rect">
            <a:avLst/>
          </a:prstGeom>
          <a:ln w="0">
            <a:noFill/>
          </a:ln>
        </p:spPr>
      </p:pic>
      <p:pic>
        <p:nvPicPr>
          <p:cNvPr id="143" name="Изображение 10" descr=""/>
          <p:cNvPicPr/>
          <p:nvPr/>
        </p:nvPicPr>
        <p:blipFill>
          <a:blip r:embed="rId4"/>
          <a:stretch/>
        </p:blipFill>
        <p:spPr>
          <a:xfrm>
            <a:off x="7491600" y="5398200"/>
            <a:ext cx="115524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3"/>
          <p:cNvSpPr/>
          <p:nvPr/>
        </p:nvSpPr>
        <p:spPr>
          <a:xfrm>
            <a:off x="749880" y="1682280"/>
            <a:ext cx="70992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териальн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ртериальное давление (АД) является важнейшим параметром состояния здоровья человека. Различают систолическое (максимальное) давление, диастолическое (минимальное) давление, среднее давление и пульсовое д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Д прямо пропорционально зависит от величины сердечного выброса, объема циркулирующей крови и сосудистого сопротивления, причем взаимоотношение сердечного выброса и сопротивления в крупных артериях определяет в основном систолическое давление, а взаимоотношение сердечного выброса с периферическим сопротивлением в артериолах – диастолическое давление. Пульсовым давлением является разность между систолическим и диастолическим дав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321640" y="472680"/>
            <a:ext cx="4272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uk-UA" sz="2800" spc="-1" strike="noStrike">
                <a:solidFill>
                  <a:srgbClr val="3366ff"/>
                </a:solidFill>
                <a:latin typeface="Georgia"/>
              </a:rPr>
              <a:t>МЕТОД КОРОТ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443880" y="2237760"/>
            <a:ext cx="77418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ротков выделил следующие 5 фаз звуков при постепенном уменьшении давления в сдавливающей плечо манж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1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Как только давление в манжете приближается к систолическому, появляются тоны, которые постепенно нарастают в гром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2 фаза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 дальнейшем сдувании манжеты появляются «шуршащие»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3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Вновь появляются тоны которые возрастают в интенси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4 фа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Громкие тоны внезапно переходят в тихие т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5 фаза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хие тоны полностью исчез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765000" y="1697400"/>
            <a:ext cx="7542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 Короткова, несмотря на то, что в дальнейшем были разработаны другие методы бескровного измерения АД, например, электронные процессорные тонометры, основанные на анализе осцилляторных колебаний артерий, является единственным методом измерения артериального давления, который утвержден Всемирной Организацией Здравоохранения (ВОЗ) и рекомендован для применения врачам все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итывая значимость квалифицированного определения артериального давления у человека, приводим методику измерения артериального давления, утвержденную ВОЗ (1999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тодика измерения артериального давления аускультативным методом Короткова (рекомендации экспертов ВО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chemeClr val="accent1"/>
                </a:solidFill>
                <a:latin typeface="Georgia"/>
              </a:rPr>
              <a:t>15 вопрос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3"/>
          <p:cNvSpPr/>
          <p:nvPr/>
        </p:nvSpPr>
        <p:spPr>
          <a:xfrm>
            <a:off x="1046520" y="182160"/>
            <a:ext cx="689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3366ff"/>
                </a:solidFill>
                <a:uFillTx/>
                <a:latin typeface="Georgia"/>
              </a:rPr>
              <a:t>Механические колебания: виды колебаний, форма, параметры. Гармонические колебания. Шкала механических  колеб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505080" y="1145160"/>
            <a:ext cx="84150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лебатель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собый вид неравномерного движения - колебательное. Это движение, которое повторяется с течением времени. Механические колебания - это движения, которые повторяются через определенные промежутки времени. Если промежутки времени одинаковые, то такие колебания называются периодичес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леб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система взаимодействующих тел (минимум два тела), которые способны совершать колебания. Простейшими колебательными системами являются мая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Характеристика колеб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аза определяет состояние системы, а именно координату, скорость, ускорение, энергию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Циклическая частота характеризует скорость изменения фазы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ЖИДКОСТЬ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025280" y="1644480"/>
            <a:ext cx="72979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 жидкостям относят вещества, которые по своим свойствам занимают промежуточное положение между газами и твердыми телами. Жидкие среды составляют наибольшую часть организма, их перемещение обеспечивает обмен веществ и снабжение клеток кислородом, поэтому механические свойства и течение жидкостей представляют особый интерес для медиков и биол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атериал, изложенный в главе, имеет отношение к гидродинамике - разделу физики, в котором изучают вопросы движения несжимаемых жидкостей и взаимодействие их при этом с окружающими твердыми телами, и к реологии - учению о деформациях и текучести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Изображение 3" descr=""/>
          <p:cNvPicPr/>
          <p:nvPr/>
        </p:nvPicPr>
        <p:blipFill>
          <a:blip r:embed="rId1"/>
          <a:stretch/>
        </p:blipFill>
        <p:spPr>
          <a:xfrm>
            <a:off x="301680" y="1473480"/>
            <a:ext cx="3737160" cy="2090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4168080" y="312480"/>
            <a:ext cx="47671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чальное состояние колебательной системы характеризует начальная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мплитуда колебаний A - это наибольшее смещение из положения равнов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иод T - это промежуток времени, в течение которого точка выполняет одно полное колеб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астота колебаний - это число полных колебаний в единицу времени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Изображение 5" descr=""/>
          <p:cNvPicPr/>
          <p:nvPr/>
        </p:nvPicPr>
        <p:blipFill>
          <a:blip r:embed="rId2"/>
          <a:stretch/>
        </p:blipFill>
        <p:spPr>
          <a:xfrm>
            <a:off x="301680" y="4166280"/>
            <a:ext cx="4722480" cy="1647000"/>
          </a:xfrm>
          <a:prstGeom prst="rect">
            <a:avLst/>
          </a:prstGeom>
          <a:ln w="0">
            <a:noFill/>
          </a:ln>
        </p:spPr>
      </p:pic>
      <p:pic>
        <p:nvPicPr>
          <p:cNvPr id="155" name="Изображение 6" descr=""/>
          <p:cNvPicPr/>
          <p:nvPr/>
        </p:nvPicPr>
        <p:blipFill>
          <a:blip r:embed="rId3"/>
          <a:stretch/>
        </p:blipFill>
        <p:spPr>
          <a:xfrm>
            <a:off x="5502600" y="4989240"/>
            <a:ext cx="1168200" cy="1180800"/>
          </a:xfrm>
          <a:prstGeom prst="rect">
            <a:avLst/>
          </a:prstGeom>
          <a:ln w="0">
            <a:noFill/>
          </a:ln>
        </p:spPr>
      </p:pic>
      <p:pic>
        <p:nvPicPr>
          <p:cNvPr id="156" name="Изображение 7" descr=""/>
          <p:cNvPicPr/>
          <p:nvPr/>
        </p:nvPicPr>
        <p:blipFill>
          <a:blip r:embed="rId4"/>
          <a:stretch/>
        </p:blipFill>
        <p:spPr>
          <a:xfrm>
            <a:off x="7670880" y="5002200"/>
            <a:ext cx="1472760" cy="1168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8"/>
          <p:cNvSpPr/>
          <p:nvPr/>
        </p:nvSpPr>
        <p:spPr>
          <a:xfrm>
            <a:off x="4384800" y="402372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астота, циклическая частота и период колебаний соотнося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иды колебаний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533520" y="987480"/>
            <a:ext cx="83631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олебания, которые происходят в замкнутых системах называются свободными илисобственными колебаниями. Колебания, которые происходят под действием внешних сил, называют вынужденными. Встречаются также автоколебания (вынуждаются автоматичес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рассматривать колебания согласно изменяющихся характеристик (амплитуда, частота, период и др.), то их можно разделить на гармонические, затухающие, нарастающие (а также пилообразные, прямоугольные, сложн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свободных колебаниях в реальных системах всегда происходят потери энергии. Механическая энергия расходуется, например, на совершение работы по преодолению сил сопротивления воздуха. Под влиянием силы трения происходит уменьшение амплитуды колебаний, и через некоторое время колебания прекращаются. Очевидно, что чем больше силы сопротивления движению, тем быстрее прекращаются колеб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301680" y="268560"/>
            <a:ext cx="83732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. Резон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 являются незатухающими. Поэтому необходимо восполнять потери энергии за каждый период колебаний. Для этого необходимо воздействовать на колеблющееся тело периодически изменяющейся силой. Вынужденные колебания совершаются с частотой, равной частоте изменения внешн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нужденные колеб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мплитуда вынужденных механических колебаний достигает наибольшего значения в том случае, если частота вынуждающей силы совпадает с частотой колебательной системы. Это явление называется резонан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пример, если периодически дергать шнур в такт его собственным колебаниям, то мы заметим увеличение амплитуды его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Изображение 4" descr=""/>
          <p:cNvPicPr/>
          <p:nvPr/>
        </p:nvPicPr>
        <p:blipFill>
          <a:blip r:embed="rId1"/>
          <a:stretch/>
        </p:blipFill>
        <p:spPr>
          <a:xfrm>
            <a:off x="3247200" y="2732760"/>
            <a:ext cx="4020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Гармонические колебания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448200" y="1209600"/>
            <a:ext cx="838764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ым простым колебательным движением тела является гармоническое колебание. Гармоническим называют колебание, в процессе которого величины, характеризующие движение (смещение, скорость, ускорение и др.), изменяются по закону синуса или косинуса (гармоническому закону). В общем виде этот закон задается формул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x(t)=Asin(ωt+φ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x(t) — значение изменяющейся величины в момент времени t, A — амплитуда колебаний, ω — циклическая (круговая) частота колебаний, φ0 — начальная фаза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армонические колебания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являются периодическими. Период T этих колебаний равен периоду функции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sin(ωt+φ0), то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T=2π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чень часто как свободные, так и вынужденные колебания в различных механических колебательных системах имеют форму гармонических колебаний.  Поведение тела, совершающего колебания по гармоническому закону, описывается дифференциальным уравнением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x′′+ω2x=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x′′ — вторая производная координаты x тела по времени t , то есть проекция ax его ускорения на ось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65" name="Изображение 3" descr=""/>
          <p:cNvPicPr/>
          <p:nvPr/>
        </p:nvPicPr>
        <p:blipFill>
          <a:blip r:embed="rId1"/>
          <a:stretch/>
        </p:blipFill>
        <p:spPr>
          <a:xfrm>
            <a:off x="1056240" y="2162160"/>
            <a:ext cx="7403400" cy="39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16</a:t>
            </a: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 вопрос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0"/>
            <a:ext cx="9143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66ff"/>
                </a:solidFill>
                <a:latin typeface="Georgia"/>
              </a:rPr>
              <a:t>Механические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каком-нибудь месте твердой, жидкой или газообразной среды возбуждены колебания частиц, то вследствие взаимодействия атомов и молекул среды колебания начинают передаваться от одной точки к другой с конечной скоростью. Процесс распространения колебаний в среде называется вол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ханические волны бывают разных видов. Если в волне частицы среды испытывают смещение в направлении, перпендикулярном направлению распространения, то волна называется поперечной. Примером волны такого рода могут служить волны, бегущие по натянутому резиновому жгуту (рис. 2.6.1) или по стру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3"/>
          <p:cNvSpPr/>
          <p:nvPr/>
        </p:nvSpPr>
        <p:spPr>
          <a:xfrm>
            <a:off x="285840" y="309240"/>
            <a:ext cx="85341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смещение частиц среды происходит в направлении распространения волны, то волна называется продольной. Волны в упругом стержне (рис. 2.6.2) или звуковые волны в газе являются примерами таки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лны на поверхности жидкости имеют как поперечную, так и продольную компон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к в поперечных, так и в продольных волнах переноса вещества в направлении распространения волны не происходит. В процессе распространения частицы среды лишь совершают колебания около положений равновесия. Однако волны переносят энергию колебаний от одной точки среды к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Изображение 4" descr=""/>
          <p:cNvPicPr/>
          <p:nvPr/>
        </p:nvPicPr>
        <p:blipFill>
          <a:blip r:embed="rId1"/>
          <a:stretch/>
        </p:blipFill>
        <p:spPr>
          <a:xfrm>
            <a:off x="285840" y="3968640"/>
            <a:ext cx="3904920" cy="2539800"/>
          </a:xfrm>
          <a:prstGeom prst="rect">
            <a:avLst/>
          </a:prstGeom>
          <a:ln w="0">
            <a:noFill/>
          </a:ln>
        </p:spPr>
      </p:pic>
      <p:pic>
        <p:nvPicPr>
          <p:cNvPr id="171" name="Изображение 5" descr=""/>
          <p:cNvPicPr/>
          <p:nvPr/>
        </p:nvPicPr>
        <p:blipFill>
          <a:blip r:embed="rId2"/>
          <a:stretch/>
        </p:blipFill>
        <p:spPr>
          <a:xfrm>
            <a:off x="4524480" y="3968640"/>
            <a:ext cx="44384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412920"/>
            <a:ext cx="85341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равнение волны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358920" y="1443960"/>
            <a:ext cx="84769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 источнике волн изменение колеблющейся величины происходит по закону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о колебания частиц фронта плоской волны отстают на Dt: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не происходит затухания. Тогда: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сли ввести волновое число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о 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равнение  волн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Изображение 4" descr=""/>
          <p:cNvPicPr/>
          <p:nvPr/>
        </p:nvPicPr>
        <p:blipFill>
          <a:blip r:embed="rId1"/>
          <a:stretch/>
        </p:blipFill>
        <p:spPr>
          <a:xfrm>
            <a:off x="2111400" y="1778040"/>
            <a:ext cx="2507760" cy="501120"/>
          </a:xfrm>
          <a:prstGeom prst="rect">
            <a:avLst/>
          </a:prstGeom>
          <a:ln w="0">
            <a:noFill/>
          </a:ln>
        </p:spPr>
      </p:pic>
      <p:pic>
        <p:nvPicPr>
          <p:cNvPr id="175" name="Изображение 5" descr=""/>
          <p:cNvPicPr/>
          <p:nvPr/>
        </p:nvPicPr>
        <p:blipFill>
          <a:blip r:embed="rId2"/>
          <a:stretch/>
        </p:blipFill>
        <p:spPr>
          <a:xfrm>
            <a:off x="3540240" y="2460600"/>
            <a:ext cx="4340160" cy="612360"/>
          </a:xfrm>
          <a:prstGeom prst="rect">
            <a:avLst/>
          </a:prstGeom>
          <a:ln w="0">
            <a:noFill/>
          </a:ln>
        </p:spPr>
      </p:pic>
      <p:pic>
        <p:nvPicPr>
          <p:cNvPr id="176" name="Изображение 6" descr=""/>
          <p:cNvPicPr/>
          <p:nvPr/>
        </p:nvPicPr>
        <p:blipFill>
          <a:blip r:embed="rId3"/>
          <a:stretch/>
        </p:blipFill>
        <p:spPr>
          <a:xfrm>
            <a:off x="4619520" y="3273480"/>
            <a:ext cx="3174480" cy="662400"/>
          </a:xfrm>
          <a:prstGeom prst="rect">
            <a:avLst/>
          </a:prstGeom>
          <a:ln w="0">
            <a:noFill/>
          </a:ln>
        </p:spPr>
      </p:pic>
      <p:pic>
        <p:nvPicPr>
          <p:cNvPr id="177" name="Изображение 7" descr=""/>
          <p:cNvPicPr/>
          <p:nvPr/>
        </p:nvPicPr>
        <p:blipFill>
          <a:blip r:embed="rId4"/>
          <a:stretch/>
        </p:blipFill>
        <p:spPr>
          <a:xfrm>
            <a:off x="1390680" y="4603680"/>
            <a:ext cx="3752640" cy="6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нтенсивность волны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9" name="Изображение 4" descr=""/>
          <p:cNvPicPr/>
          <p:nvPr/>
        </p:nvPicPr>
        <p:blipFill>
          <a:blip r:embed="rId1"/>
          <a:stretch/>
        </p:blipFill>
        <p:spPr>
          <a:xfrm>
            <a:off x="2705040" y="3276720"/>
            <a:ext cx="4693680" cy="882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5"/>
          <p:cNvSpPr/>
          <p:nvPr/>
        </p:nvSpPr>
        <p:spPr>
          <a:xfrm>
            <a:off x="706680" y="2339280"/>
            <a:ext cx="280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тенсивность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285200" y="534600"/>
            <a:ext cx="6704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НЬЮТОНОВСКИЕ И НЕНЬЮТОНОВСКИЕ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течении реальной жидкости отдельные слои ее воздействуют друг на друга с силами, касательными к слоям. Это явление называют внутренним трением или вяз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смотрим течение вязкой жидкости между двумя твердыми пластинками (рис. 9.1), из которых нижняя неподвижна, а верхняя движется со скоростью υΒ. Условно представим жидкость в виде нескольких слоев 1, 2, 3 и т.д. Слой, «прилипший» ко дну, неподвижен. По мере удаления от дна (нижняя пластинка) слои жидкости имеют все большие скорости (υ1&lt; υ2&lt; υ3 &lt;... и т.д), максимальная скорость υΒ будет у слоя, который «прилип» к верхней пласти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ЕКТОР УМОВА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301680" y="2055240"/>
            <a:ext cx="8032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ектор Пойнтинга (также вектор Умова — Пойнтинга) — вектор плотности потока энергии электромагнитного поля, один из компонент тензора энергии-импульса электромагнитного поля. Вектор Пойнтинга S можно определить через векторное произведение двух вект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в Международной системе единиц (СИ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де E и H — векторы напряжённости электрического и магнитного полей соответст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Изображение 5" descr=""/>
          <p:cNvPicPr/>
          <p:nvPr/>
        </p:nvPicPr>
        <p:blipFill>
          <a:blip r:embed="rId1"/>
          <a:stretch/>
        </p:blipFill>
        <p:spPr>
          <a:xfrm>
            <a:off x="730080" y="3902040"/>
            <a:ext cx="1638000" cy="469440"/>
          </a:xfrm>
          <a:prstGeom prst="rect">
            <a:avLst/>
          </a:prstGeom>
          <a:ln w="0">
            <a:noFill/>
          </a:ln>
        </p:spPr>
      </p:pic>
      <p:pic>
        <p:nvPicPr>
          <p:cNvPr id="184" name="Изображение 6" descr=""/>
          <p:cNvPicPr/>
          <p:nvPr/>
        </p:nvPicPr>
        <p:blipFill>
          <a:blip r:embed="rId2"/>
          <a:stretch/>
        </p:blipFill>
        <p:spPr>
          <a:xfrm>
            <a:off x="730080" y="4683240"/>
            <a:ext cx="2250000" cy="428400"/>
          </a:xfrm>
          <a:prstGeom prst="rect">
            <a:avLst/>
          </a:prstGeom>
          <a:ln w="0">
            <a:noFill/>
          </a:ln>
        </p:spPr>
      </p:pic>
      <p:pic>
        <p:nvPicPr>
          <p:cNvPr id="185" name="Изображение 7" descr=""/>
          <p:cNvPicPr/>
          <p:nvPr/>
        </p:nvPicPr>
        <p:blipFill>
          <a:blip r:embed="rId3"/>
          <a:stretch/>
        </p:blipFill>
        <p:spPr>
          <a:xfrm>
            <a:off x="5540400" y="3279600"/>
            <a:ext cx="27936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Изображение 4" descr=""/>
          <p:cNvPicPr/>
          <p:nvPr/>
        </p:nvPicPr>
        <p:blipFill>
          <a:blip r:embed="rId1"/>
          <a:stretch/>
        </p:blipFill>
        <p:spPr>
          <a:xfrm>
            <a:off x="3871440" y="752040"/>
            <a:ext cx="4971960" cy="3960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413280" y="309960"/>
            <a:ext cx="70074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ЯЗКОСТЬ ЖИД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УРАВНЕНИЕ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и воздействуют друг на друга. Так, например, третий слой стремится ускорить движение второго, но сам испытывает торможение с его стороны, а ускоряется четвертым слоем и т.д. Сила внутреннего трения пропорциональна площади S взаимодействующих слоев и тем больше, чем больше их относительная ско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23" name="Изображение 5" descr=""/>
          <p:cNvPicPr/>
          <p:nvPr/>
        </p:nvPicPr>
        <p:blipFill>
          <a:blip r:embed="rId1"/>
          <a:stretch/>
        </p:blipFill>
        <p:spPr>
          <a:xfrm>
            <a:off x="514440" y="2379240"/>
            <a:ext cx="832140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434520" y="1599480"/>
            <a:ext cx="7919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о уравнение Ньютона. Здесь η - коэффициент пропорциональности, называемый коэффициентом внутреннего трения или динамической с вязкостью (или просто вязкостью). Вязкость зависит от состояния и молекулярных свойств жидкости (или га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Единицей вязкости является паскаль-секунда (Пах). В системе СГС вязкость выражают в пуазах (П): 1 Пах = 10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многих жидкостей вязкость не зависит от градиента скорости, такие жидкости подчиняются уравнению Ньютона (9.1) и их называют ньютоновскими. Жидкости, не подчиняющиеся уравнению (9.1), относят к неньютоновским. Иногда вязкость ньютоновских жидкостей называют нормальной, а неньютоновской - ано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658080" y="1901160"/>
            <a:ext cx="7527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Жидкости, состоящие из сложных и крупных молекул, например растворы полимеров, и образующие благодаря сцеплению молекул или частиц пространственные структуры, являются неньютоновскими. Их вязкость при прочих равных условиях много больше, чем у простых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величение вязкости происходит потому, что при течении этих жидкостей работа внешней силы затрачивается не только на преодоление истинной, ньютоновской, вязкости, но и на разрушение структуры. Кровь является неньютоновской жид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Вязкость крови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8720" y="1880280"/>
            <a:ext cx="7138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язкость крови – это соотношение объема жидкой части крови (плазмы) и числа ее форменных элементов (клеток крови). Является очень важным показателем состояния крови, определяющим максимальный срок нормального функционирования сердца и сосу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Свойства физиол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ля нормального кровообращения вязкость крови имеет большое значение, так как связана с сопротивлением, которое приходится преодолевать при работе мышце сердца. В течение дня происходят только незначительные колебания вязкости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474480" y="381600"/>
            <a:ext cx="8521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3366ff"/>
                </a:solidFill>
                <a:uFillTx/>
                <a:latin typeface="Georgia"/>
              </a:rPr>
              <a:t>Методы определения вязкости жидкости. Клинический метод определения вязкост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055880" y="1912320"/>
            <a:ext cx="716040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вокупность методов измерения вязкости называют вискози­метрией, а приборы, используемые для таких целей, — вискозиметрами. Рассмотрим наиболее распространенные методы вискозиметрии. Капиллярный метод основан на формуле Пуазейля и заключается в измерении времени протекания через капилляр жидкости известной массы под действием силы тяжести при определенном' перепаде давлений. Капиллярные вискозиметры различной формы показаны на рис. 7.7, а, б (1 — измерительные резервуары, М1 и М2 — метки, обозначающие границы этих резервуаров, 2 — капилляры, 3 — приемные сос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пиллярный вискозиметр применяется для определения вяз­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Официальная.thmx</Template>
  <TotalTime>83</TotalTime>
  <Application>LibreOffice/7.4.7.2$Linux_X86_64 LibreOffice_project/40$Build-2</Application>
  <AppVersion>15.0000</AppVersion>
  <Words>2263</Words>
  <Paragraphs>2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19:27:34Z</dcterms:created>
  <dc:creator>user</dc:creator>
  <dc:description/>
  <dc:language>en-US</dc:language>
  <cp:lastModifiedBy>user</cp:lastModifiedBy>
  <dcterms:modified xsi:type="dcterms:W3CDTF">2015-12-06T20:51:26Z</dcterms:modified>
  <cp:revision>8</cp:revision>
  <dc:subject/>
  <dc:title>13 вопро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