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6C6-90D3-4AE9-9400-1B4385B5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11C-11DE-4926-B9CB-1EA89601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10E7-ED67-43FC-9D49-ABD964428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7AD-52D4-4556-B17B-DE5E7A84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E9F-11B9-4509-BA5D-5818F7BB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E10F-3AC2-4E8F-AB13-F887350F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22BE-F133-4C31-BAE6-3EF1FBF3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D519-77E7-46DE-BA76-0B6FC61B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7355-6627-4BCF-A6B8-FE118D78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9313-B801-4412-87EB-654B9714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8C34-A462-43B3-9C81-B6657FE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4EE-9232-49C9-9E94-A4BDF2EB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1EA-1A2F-4BEA-868A-A0328DC0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5297-8DBE-4014-9421-B5A29CB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8358-683D-4A7D-A309-A9A70548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C932-E3FD-4829-AA4A-238802B9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6B5B-2638-4434-A0B1-BB158A05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F8789-A65A-4CBB-8634-42F296A0B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3621-9A7B-4262-BDE4-C9061A8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B9F3-0919-440D-B660-CB45A313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C839-826E-45B4-AB70-6DE64301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4C10C-DB3C-487E-B98A-51ABB9C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3B4-4A06-4C45-BB56-99D53526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637A-A7C1-4D53-A965-D0A001BC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0C8E0-3D91-4DEF-A280-6833CE7A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49211-5D20-42A4-BF14-757C7551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86CC1-F4E4-4D11-8A2B-950B5DE3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59A2-FFD2-4CAD-AFF0-054269E1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3FC1-3A0F-4513-B139-B786C928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64A32-461B-4D97-B231-957F19D7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CC315-FCF8-4E8C-92ED-DF734552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3D5C3-7ED5-4240-8A75-6F43554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CE5F-8D23-4672-ADB3-C2CE1E38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487-706A-422E-BFCE-247887A9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FA5F-3DDA-4E1F-B805-494CDAF8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F56F0-63A5-4EF9-BC2D-2CC9F4EE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DAAF-4C44-457D-A95B-6BCD7358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1252-6285-4835-9312-C8007678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19B8-3449-4E80-AA6B-655DD7C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B7658-B3CF-449E-97EB-ADFA320D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E330-B0A4-4ED3-9E8D-89554F30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F171-B74B-4CE2-8412-D6C0BC92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9B42-9001-4560-A294-C3E0C414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E89-B576-4509-9070-BF598B0C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05D-593E-46F9-B652-BCB9FC2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0C6-FF82-4E3B-9DB9-2DC3401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B19-C516-418F-825A-7E1BE993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E30-B969-4666-8FBD-55CFD497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407C8C-FF08-4BFE-BF63-A0FF0CC790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188DF3-43CA-49D2-96A4-277ECB5B8C1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A72C4F-AEB7-485E-8518-12C5D8E24CA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9AE2ED-E24B-4968-A53C-D57FF303E4D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Знакомство со средой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2677320" y="3602160"/>
            <a:ext cx="1018800" cy="11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3" descr=""/>
          <p:cNvPicPr/>
          <p:nvPr/>
        </p:nvPicPr>
        <p:blipFill>
          <a:blip r:embed="rId1"/>
          <a:stretch/>
        </p:blipFill>
        <p:spPr>
          <a:xfrm>
            <a:off x="0" y="32760"/>
            <a:ext cx="9187560" cy="68248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с двумя скругленными противолежащими углами 4"/>
          <p:cNvSpPr/>
          <p:nvPr/>
        </p:nvSpPr>
        <p:spPr>
          <a:xfrm>
            <a:off x="3012120" y="2649240"/>
            <a:ext cx="2877480" cy="102168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 дл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с двумя скругленными противолежащими углами 5"/>
          <p:cNvSpPr/>
          <p:nvPr/>
        </p:nvSpPr>
        <p:spPr>
          <a:xfrm>
            <a:off x="7099920" y="528912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с двумя скругленными противолежащими углами 6"/>
          <p:cNvSpPr/>
          <p:nvPr/>
        </p:nvSpPr>
        <p:spPr>
          <a:xfrm>
            <a:off x="6391800" y="111168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>
              <a:alpha val="4000"/>
            </a:schemeClr>
          </a:solidFill>
          <a:ln>
            <a:solidFill>
              <a:srgbClr val="5b9bd5">
                <a:shade val="50000"/>
                <a:alpha val="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с двумя скругленными противолежащими углами 7"/>
          <p:cNvSpPr/>
          <p:nvPr/>
        </p:nvSpPr>
        <p:spPr>
          <a:xfrm>
            <a:off x="1801800" y="504720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с двумя скругленными противолежащими углами 8"/>
          <p:cNvSpPr/>
          <p:nvPr/>
        </p:nvSpPr>
        <p:spPr>
          <a:xfrm>
            <a:off x="0" y="331560"/>
            <a:ext cx="141624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с двумя скругленными противолежащими углами 9"/>
          <p:cNvSpPr/>
          <p:nvPr/>
        </p:nvSpPr>
        <p:spPr>
          <a:xfrm>
            <a:off x="2505600" y="1737000"/>
            <a:ext cx="313380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люч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кно объект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Рисунок 4" descr=""/>
          <p:cNvPicPr/>
          <p:nvPr/>
        </p:nvPicPr>
        <p:blipFill>
          <a:blip r:embed="rId1"/>
          <a:stretch/>
        </p:blipFill>
        <p:spPr>
          <a:xfrm>
            <a:off x="477720" y="1967400"/>
            <a:ext cx="8037360" cy="4106160"/>
          </a:xfrm>
          <a:prstGeom prst="rect">
            <a:avLst/>
          </a:prstGeom>
          <a:ln w="0">
            <a:noFill/>
          </a:ln>
        </p:spPr>
      </p:pic>
      <p:cxnSp>
        <p:nvCxnSpPr>
          <p:cNvPr id="176" name="Прямая со стрелкой 6"/>
          <p:cNvCxnSpPr/>
          <p:nvPr/>
        </p:nvCxnSpPr>
        <p:spPr>
          <a:xfrm flipV="1">
            <a:off x="1519200" y="3912840"/>
            <a:ext cx="753480" cy="403920"/>
          </a:xfrm>
          <a:prstGeom prst="straightConnector1">
            <a:avLst/>
          </a:prstGeom>
          <a:ln w="66675">
            <a:solidFill>
              <a:srgbClr val="ffffff"/>
            </a:solidFill>
            <a:headEnd len="med" type="triangle" w="med"/>
            <a:tailEnd len="med" type="triangle" w="med"/>
          </a:ln>
        </p:spPr>
      </p:cxnSp>
      <p:sp>
        <p:nvSpPr>
          <p:cNvPr id="177" name="Скругленная прямоугольная выноска 9"/>
          <p:cNvSpPr/>
          <p:nvPr/>
        </p:nvSpPr>
        <p:spPr>
          <a:xfrm>
            <a:off x="2030400" y="4558680"/>
            <a:ext cx="190908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ключение между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ая прямоугольная выноска 10"/>
          <p:cNvSpPr/>
          <p:nvPr/>
        </p:nvSpPr>
        <p:spPr>
          <a:xfrm>
            <a:off x="2985120" y="3092760"/>
            <a:ext cx="115596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ая прямоугольная выноска 11"/>
          <p:cNvSpPr/>
          <p:nvPr/>
        </p:nvSpPr>
        <p:spPr>
          <a:xfrm>
            <a:off x="4496400" y="1419120"/>
            <a:ext cx="1155960" cy="820080"/>
          </a:xfrm>
          <a:prstGeom prst="wedgeRoundRectCallout">
            <a:avLst>
              <a:gd name="adj1" fmla="val -137194"/>
              <a:gd name="adj2" fmla="val 49385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ая прямоугольная выноска 12"/>
          <p:cNvSpPr/>
          <p:nvPr/>
        </p:nvSpPr>
        <p:spPr>
          <a:xfrm>
            <a:off x="5653080" y="2787840"/>
            <a:ext cx="1742760" cy="820080"/>
          </a:xfrm>
          <a:prstGeom prst="wedgeRoundRectCallout">
            <a:avLst>
              <a:gd name="adj1" fmla="val -173240"/>
              <a:gd name="adj2" fmla="val -86681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случай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це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Рисунок 2" descr=""/>
          <p:cNvPicPr/>
          <p:nvPr/>
        </p:nvPicPr>
        <p:blipFill>
          <a:blip r:embed="rId1"/>
          <a:stretch/>
        </p:blipFill>
        <p:spPr>
          <a:xfrm>
            <a:off x="319680" y="1327680"/>
            <a:ext cx="8504280" cy="47350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3" descr=""/>
          <p:cNvPicPr/>
          <p:nvPr/>
        </p:nvPicPr>
        <p:blipFill>
          <a:blip r:embed="rId2"/>
          <a:stretch/>
        </p:blipFill>
        <p:spPr>
          <a:xfrm>
            <a:off x="628560" y="5728320"/>
            <a:ext cx="5892840" cy="1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Костю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2" descr=""/>
          <p:cNvPicPr/>
          <p:nvPr/>
        </p:nvPicPr>
        <p:blipFill>
          <a:blip r:embed="rId1"/>
          <a:stretch/>
        </p:blipFill>
        <p:spPr>
          <a:xfrm>
            <a:off x="310680" y="1690560"/>
            <a:ext cx="8522280" cy="47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Зада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ть картинку по одной из тем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расота природ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бята давай жить дружн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 люблю спор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льная тем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бова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фо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 менее 4 спрайт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спрайт должен быть собственного изготовлени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пись на картин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31</TotalTime>
  <Application>LibreOffice/7.4.7.2$Linux_X86_64 LibreOffice_project/40$Build-2</Application>
  <AppVersion>15.0000</AppVersion>
  <Words>63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3:43:05Z</dcterms:created>
  <dc:creator>Мария Берестюк</dc:creator>
  <dc:description/>
  <dc:language>en-US</dc:language>
  <cp:lastModifiedBy>Мария Берестюк</cp:lastModifiedBy>
  <dcterms:modified xsi:type="dcterms:W3CDTF">2014-11-30T00:14:36Z</dcterms:modified>
  <cp:revision>4</cp:revision>
  <dc:subject/>
  <dc:title>Знакомство со сред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