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F25-7880-4134-AF73-3BDDECD3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42A-089B-4B45-8996-D67C857D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AD8-6A51-4D40-8BC6-4B4F6FC1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373-8674-4576-9436-CF13739E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8CBE-6E33-400E-B41A-42966BF9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9D47-5234-45DA-83E8-BF911204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8EBB-333C-49CD-869A-48A0A14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E4E4-CC3D-48F4-9EC3-5239C8BE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C18-D631-4C38-8536-C9B325A8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4398-723F-47E7-8438-4C1FB35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9983-14C3-4E84-995D-F272267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EC9-322F-479B-93F2-2160D577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B1C-8990-4E7B-BB81-F578662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9E48-2F53-46A0-A696-3AD5011F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EC66-6562-4983-95C9-EDEF0F1D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B661-AD09-4E45-B3A9-D75B3605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68B-D322-4E53-BBE1-7EC8F7D6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FF22-0A6F-40FB-95C6-BC8DACE3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106B-71A0-432F-BC14-E104EFC3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43CC-5357-4AEA-8F64-88BA5301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64A6-C67B-4DF6-A0A1-31446D6F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2447-425D-45E8-AA3F-1DD262E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AB6-1B2E-40FC-8839-527F4E7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5F49-25D7-40AD-B530-17835013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8C46-7982-44C2-8E2D-9B9826AC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8819-2503-45C6-91C3-E6FFEC3B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94F8-C3B6-442F-BBFF-DAAB8783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4F1C-7AB6-4C50-A289-191FDE6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6B70-9836-4AE5-8787-B8046EB3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319F-6851-4FCB-AB4B-A1054A93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493F-3F34-4DAD-BAB9-7EA46837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8B93-1208-4A04-87FA-3FA0CD89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9543-3EA3-45A3-9FD8-DD5F36DC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0A9-090F-4841-BA2D-63095C21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3CDF-0B4A-413C-B1EB-2F4B84FC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1A5C-AB5A-4BD5-8509-3AFAE86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8CBA-4A65-4699-A4FD-E309131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8BF3E-D55C-43E3-89BE-1DEC2A88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C34C-BEB5-417C-B4BA-FD2B9C5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4CC9C-8937-47D8-B550-60F5B1CB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156C-35A7-4616-9826-73ADC3D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8536-09F1-4F16-99ED-39D4E13C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8618-BE9F-4E91-934C-89D831F3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AC8-95E1-4689-9022-0F4A2A24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339-033C-42B1-AF46-57C2778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DEC-FDF4-4C71-ABF2-41E4BA0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492-2615-4DF7-8B73-20AA0BA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B4E-70E3-4225-AA54-23FF941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38BF39-0CA7-4AED-B455-1DA0A61C5AC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956817-1D46-4ABF-BEB7-AF005E89AFE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26312A-393E-4879-A003-C2C1DCA97E8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4AB077-9525-48BA-AB72-3487A840FF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Знакомство со средой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r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2677320" y="3602160"/>
            <a:ext cx="1018800" cy="11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>
            <a:off x="0" y="32760"/>
            <a:ext cx="9187560" cy="68248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с двумя скругленными противолежащими углами 4"/>
          <p:cNvSpPr/>
          <p:nvPr/>
        </p:nvSpPr>
        <p:spPr>
          <a:xfrm>
            <a:off x="3012120" y="2649240"/>
            <a:ext cx="2877480" cy="102168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 для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с двумя скругленными противолежащими углами 5"/>
          <p:cNvSpPr/>
          <p:nvPr/>
        </p:nvSpPr>
        <p:spPr>
          <a:xfrm>
            <a:off x="7099920" y="528912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с двумя скругленными противолежащими углами 6"/>
          <p:cNvSpPr/>
          <p:nvPr/>
        </p:nvSpPr>
        <p:spPr>
          <a:xfrm>
            <a:off x="6391800" y="111168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>
              <a:alpha val="4000"/>
            </a:schemeClr>
          </a:solidFill>
          <a:ln>
            <a:solidFill>
              <a:srgbClr val="5b9bd5">
                <a:shade val="50000"/>
                <a:alpha val="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противолежащими углами 7"/>
          <p:cNvSpPr/>
          <p:nvPr/>
        </p:nvSpPr>
        <p:spPr>
          <a:xfrm>
            <a:off x="1801800" y="504720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противолежащими углами 8"/>
          <p:cNvSpPr/>
          <p:nvPr/>
        </p:nvSpPr>
        <p:spPr>
          <a:xfrm>
            <a:off x="0" y="331560"/>
            <a:ext cx="141624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с двумя скругленными противолежащими углами 9"/>
          <p:cNvSpPr/>
          <p:nvPr/>
        </p:nvSpPr>
        <p:spPr>
          <a:xfrm>
            <a:off x="2505600" y="1737000"/>
            <a:ext cx="313380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люча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кно объект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4" descr=""/>
          <p:cNvPicPr/>
          <p:nvPr/>
        </p:nvPicPr>
        <p:blipFill>
          <a:blip r:embed="rId1"/>
          <a:stretch/>
        </p:blipFill>
        <p:spPr>
          <a:xfrm>
            <a:off x="477720" y="1967400"/>
            <a:ext cx="8037360" cy="4106160"/>
          </a:xfrm>
          <a:prstGeom prst="rect">
            <a:avLst/>
          </a:prstGeom>
          <a:ln w="0">
            <a:noFill/>
          </a:ln>
        </p:spPr>
      </p:pic>
      <p:cxnSp>
        <p:nvCxnSpPr>
          <p:cNvPr id="176" name="Прямая со стрелкой 6"/>
          <p:cNvCxnSpPr/>
          <p:nvPr/>
        </p:nvCxnSpPr>
        <p:spPr>
          <a:xfrm flipV="1">
            <a:off x="1519200" y="3912840"/>
            <a:ext cx="753480" cy="403920"/>
          </a:xfrm>
          <a:prstGeom prst="straightConnector1">
            <a:avLst/>
          </a:prstGeom>
          <a:ln w="66675">
            <a:solidFill>
              <a:srgbClr val="ffffff"/>
            </a:solidFill>
            <a:headEnd len="med" type="triangle" w="med"/>
            <a:tailEnd len="med" type="triangle" w="med"/>
          </a:ln>
        </p:spPr>
      </p:cxnSp>
      <p:sp>
        <p:nvSpPr>
          <p:cNvPr id="177" name="Скругленная прямоугольная выноска 9"/>
          <p:cNvSpPr/>
          <p:nvPr/>
        </p:nvSpPr>
        <p:spPr>
          <a:xfrm>
            <a:off x="2030400" y="4558680"/>
            <a:ext cx="190908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ключение между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ая прямоугольная выноска 10"/>
          <p:cNvSpPr/>
          <p:nvPr/>
        </p:nvSpPr>
        <p:spPr>
          <a:xfrm>
            <a:off x="2985120" y="3092760"/>
            <a:ext cx="115596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ая прямоугольная выноска 11"/>
          <p:cNvSpPr/>
          <p:nvPr/>
        </p:nvSpPr>
        <p:spPr>
          <a:xfrm>
            <a:off x="4496400" y="1419120"/>
            <a:ext cx="1155960" cy="820080"/>
          </a:xfrm>
          <a:prstGeom prst="wedgeRoundRectCallout">
            <a:avLst>
              <a:gd name="adj1" fmla="val -137194"/>
              <a:gd name="adj2" fmla="val 49385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ая прямоугольная выноска 12"/>
          <p:cNvSpPr/>
          <p:nvPr/>
        </p:nvSpPr>
        <p:spPr>
          <a:xfrm>
            <a:off x="5653080" y="2787840"/>
            <a:ext cx="1742760" cy="820080"/>
          </a:xfrm>
          <a:prstGeom prst="wedgeRoundRectCallout">
            <a:avLst>
              <a:gd name="adj1" fmla="val -173240"/>
              <a:gd name="adj2" fmla="val -86681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случай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це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2" descr=""/>
          <p:cNvPicPr/>
          <p:nvPr/>
        </p:nvPicPr>
        <p:blipFill>
          <a:blip r:embed="rId1"/>
          <a:stretch/>
        </p:blipFill>
        <p:spPr>
          <a:xfrm>
            <a:off x="319680" y="1327680"/>
            <a:ext cx="8504280" cy="47350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"/>
          <p:cNvPicPr/>
          <p:nvPr/>
        </p:nvPicPr>
        <p:blipFill>
          <a:blip r:embed="rId2"/>
          <a:stretch/>
        </p:blipFill>
        <p:spPr>
          <a:xfrm>
            <a:off x="628560" y="5728320"/>
            <a:ext cx="5892840" cy="1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остю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2" descr=""/>
          <p:cNvPicPr/>
          <p:nvPr/>
        </p:nvPicPr>
        <p:blipFill>
          <a:blip r:embed="rId1"/>
          <a:stretch/>
        </p:blipFill>
        <p:spPr>
          <a:xfrm>
            <a:off x="310680" y="1690560"/>
            <a:ext cx="8522280" cy="47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а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картинку по одной из те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ота природ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ята давай жить дружн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люблю спорт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льная тем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ова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фо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енее 4 спрай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спрайт должен быть собственного изготовле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пись на картин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1</TotalTime>
  <Application>LibreOffice/7.4.7.2$Linux_X86_64 LibreOffice_project/40$Build-2</Application>
  <AppVersion>15.0000</AppVersion>
  <Words>63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3:43:05Z</dcterms:created>
  <dc:creator>Мария Берестюк</dc:creator>
  <dc:description/>
  <dc:language>en-US</dc:language>
  <cp:lastModifiedBy>Мария Берестюк</cp:lastModifiedBy>
  <dcterms:modified xsi:type="dcterms:W3CDTF">2014-11-30T00:14:36Z</dcterms:modified>
  <cp:revision>4</cp:revision>
  <dc:subject/>
  <dc:title>Знакомство со сред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