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0608-D984-43CE-AF66-304FCFDB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92CEA-2583-4E5B-A6B3-EBF4C7A0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28F6-6AED-4005-B7EE-FE0269CE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593F-3A35-430E-833E-2D4FE3E1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B7AD7-26E0-4486-94CA-D6CA0BA8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F7DD3-689D-4C11-89D9-48DEA608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BBE92-0EA0-4C62-AC04-55909410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158B0-9990-4220-92D3-DE5431DD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3714F-3779-468B-A18F-7A1BE768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2385C-90AA-46CD-B885-A5B4DD9B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30152-7106-43C1-AB1A-0FFEB624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8924-DB1F-4210-8792-2B308AC1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F125D-8942-45F0-87B0-CE11B97A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66AA7-0AE8-48E4-9D4B-197A2055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492B9-EBDA-4FDC-8EC3-83C00CD5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6EE22-5010-46CE-A6A9-C4569714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9C932-0512-4E27-AB82-64D1D79D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CF48-E402-4004-BB8F-344997CB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8462-361C-4DF2-BCA4-95CC2B68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FA34-07D7-4226-B391-B07064F3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59B4-554C-4E55-9639-EE37BD90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FD7E-C1D0-4BEE-A55B-745630A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0466-5B6F-41EA-827A-362D5EFD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1BAD-9BA5-4D79-A151-3CB8F44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A9ABFC0-4A54-46C7-A507-BDCB9AB6629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5F5BB16-8EDC-472A-A7E9-ADF693DCCFD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7640" y="2205000"/>
            <a:ext cx="8280720" cy="863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00" strike="noStrike">
                <a:solidFill>
                  <a:srgbClr val="ffff00"/>
                </a:solidFill>
                <a:latin typeface="Constantia"/>
              </a:rPr>
              <a:t>Застосування комп'ютерів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944240" y="5517360"/>
            <a:ext cx="3745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Виконав: курсант к-225 групи</a:t>
            </a:r>
            <a:br>
              <a:rPr sz="1800"/>
            </a:b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Топтигін Дмит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1043640" y="3573000"/>
            <a:ext cx="9576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5400" spc="-1" strike="noStrike">
                <a:solidFill>
                  <a:srgbClr val="ffff00"/>
                </a:solidFill>
                <a:latin typeface="Constantia"/>
              </a:rPr>
              <a:t>Комп'ютерна система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3640" y="1556640"/>
            <a:ext cx="8002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на система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повний набір комп'ютерного обладнання, до якого належать: комп'ютери, периферійне обладнання та програмне забезпечення, зокрема, операційна система. 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Комп</a:t>
            </a:r>
            <a:r>
              <a:rPr b="0" lang="en-US" sz="4200" spc="-100" strike="noStrike">
                <a:solidFill>
                  <a:srgbClr val="ffc000"/>
                </a:solidFill>
                <a:latin typeface="Constantia"/>
              </a:rPr>
              <a:t>’</a:t>
            </a: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ютерна систем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31" name="Группа 6"/>
          <p:cNvGrpSpPr/>
          <p:nvPr/>
        </p:nvGrpSpPr>
        <p:grpSpPr>
          <a:xfrm>
            <a:off x="5004000" y="3717000"/>
            <a:ext cx="3240000" cy="2304000"/>
            <a:chOff x="5004000" y="3717000"/>
            <a:chExt cx="3240000" cy="2304000"/>
          </a:xfrm>
        </p:grpSpPr>
        <p:sp>
          <p:nvSpPr>
            <p:cNvPr id="132" name="Скругленный прямоугольник 5"/>
            <p:cNvSpPr/>
            <p:nvPr/>
          </p:nvSpPr>
          <p:spPr>
            <a:xfrm>
              <a:off x="5004000" y="3717000"/>
              <a:ext cx="3240000" cy="2304000"/>
            </a:xfrm>
            <a:prstGeom prst="roundRect">
              <a:avLst>
                <a:gd name="adj" fmla="val 11336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33" name="Picture 2" descr="http://oblosvita.com/uploads/posts/2012-02/1328365475_inform1.jpg"/>
            <p:cNvPicPr/>
            <p:nvPr/>
          </p:nvPicPr>
          <p:blipFill>
            <a:blip r:embed="rId1"/>
            <a:stretch/>
          </p:blipFill>
          <p:spPr>
            <a:xfrm>
              <a:off x="5220000" y="3861000"/>
              <a:ext cx="2825280" cy="197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4" descr="http://do.ngs.ru/preview/market/5843af9aad7b97b87ecca1bee6625b98_1412850769_153_153_c.png"/>
          <p:cNvPicPr/>
          <p:nvPr/>
        </p:nvPicPr>
        <p:blipFill>
          <a:blip r:embed="rId2"/>
          <a:stretch/>
        </p:blipFill>
        <p:spPr>
          <a:xfrm>
            <a:off x="1547640" y="3573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Системний блок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—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орпус комп'ютера, функціональний елемент, який захищає внутрішні компоненти комп'ютера від зовнішнього впливу та механічних пошкоджень, підтримує необхідний температурний режим в середині системного блоку, екранує створені внутрішніми компонентами електромагнітні випромінення та є основою для подальшого розширення системи.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1540080" y="332640"/>
            <a:ext cx="6182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ffc000"/>
                </a:solidFill>
                <a:latin typeface="Constantia"/>
              </a:rPr>
              <a:t>Системний бло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2195640" y="3058200"/>
            <a:ext cx="8141040" cy="379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it.ros-kit.ru/upload/medialibrary/68b/68b86f209779e4917070fcecf4ceb740.png"/>
          <p:cNvPicPr/>
          <p:nvPr/>
        </p:nvPicPr>
        <p:blipFill>
          <a:blip r:embed="rId2"/>
          <a:stretch/>
        </p:blipFill>
        <p:spPr>
          <a:xfrm>
            <a:off x="1403640" y="3645000"/>
            <a:ext cx="2160000" cy="280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новою ПК є центральне процесорний пристрій (ЦПУ, 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PU)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бо просто процесор. Процесор - це мікросхема, яка вставляєтьсяв спеціальний роз'єм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і служить для обробки інформації та двох видів операцій: числові операції та операції з плаваючою точкою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2351880" y="476640"/>
            <a:ext cx="3953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299" strike="noStrike">
                <a:solidFill>
                  <a:srgbClr val="ffc000"/>
                </a:solidFill>
                <a:latin typeface="Constantia"/>
              </a:rPr>
              <a:t>Процес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979640" y="3933000"/>
            <a:ext cx="5541120" cy="25858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4"/>
          <p:cNvSpPr/>
          <p:nvPr/>
        </p:nvSpPr>
        <p:spPr>
          <a:xfrm>
            <a:off x="395640" y="1412640"/>
            <a:ext cx="777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перативна пам'ять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— швидкодіюча пам'ять, призначена для запису, зберігання та читання інформації у процесі її оброб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550440" y="332640"/>
            <a:ext cx="7642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ffc000"/>
                </a:solidFill>
                <a:latin typeface="Constantia"/>
              </a:rPr>
              <a:t>Оперативна пам</a:t>
            </a:r>
            <a:r>
              <a:rPr b="1" lang="en-US" sz="5400" spc="-1" strike="noStrike">
                <a:solidFill>
                  <a:srgbClr val="ffc000"/>
                </a:solidFill>
                <a:latin typeface="Constantia"/>
              </a:rPr>
              <a:t>’</a:t>
            </a:r>
            <a:r>
              <a:rPr b="1" lang="uk-UA" sz="5400" spc="-1" strike="noStrike">
                <a:solidFill>
                  <a:srgbClr val="ffc000"/>
                </a:solidFill>
                <a:latin typeface="Constantia"/>
              </a:rPr>
              <a:t>я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467640" y="2493000"/>
            <a:ext cx="7560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 обчисленні, 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ам'ять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відноситься до комп'ютерних пристроїв, що використовуються для зберігання інформації для негайного використання в комп'ютер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115640" y="2421000"/>
            <a:ext cx="10512720" cy="490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 rot="9751200">
            <a:off x="-2993760" y="2885040"/>
            <a:ext cx="11593080" cy="54104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611640" y="1700640"/>
            <a:ext cx="82807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новним пристроєм зберігання інформації у комп'ютерній системі є жорсткий диск. Великий обсяг і енергонезалежність зробили його найбільш придатним для зберігання програм і даних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вна назва жорсткого диска — НЖМД — накопичувач на жорстких магнітних дисках. Іноді його ще називають вінчесте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1782360" y="404640"/>
            <a:ext cx="53229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Жосткий дис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3453120" y="2493000"/>
            <a:ext cx="11381400" cy="5311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>
            <a:off x="0" y="3429000"/>
            <a:ext cx="6480360" cy="3024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"/>
          <p:cNvSpPr/>
          <p:nvPr/>
        </p:nvSpPr>
        <p:spPr>
          <a:xfrm>
            <a:off x="2005560" y="476640"/>
            <a:ext cx="4204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Відеокарт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4428000" y="908640"/>
            <a:ext cx="529956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5"/>
          <p:cNvSpPr/>
          <p:nvPr/>
        </p:nvSpPr>
        <p:spPr>
          <a:xfrm>
            <a:off x="323640" y="1700640"/>
            <a:ext cx="5435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ідеокарта – це пристрій, призначений для обробки і генерації зображень з подальшим їхнім виведенням на екран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6"/>
          <p:cNvSpPr/>
          <p:nvPr/>
        </p:nvSpPr>
        <p:spPr>
          <a:xfrm>
            <a:off x="395640" y="2853000"/>
            <a:ext cx="45716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учасні відеокарти не обмежуються лише звичайним виведенням зображень, вони мають вбудований графічний мікропроцесор, котрий може здійснювати додаткову їх обробку, звільняючи від цих задач центральний процесор. Також процесор і відокарта працюють разом і є залежними один від одного. Наприклад, усі сучасні відеокарти, що застосовують 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onstantia"/>
              </a:rPr>
              <a:t>відеопроцесори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MD/ATi 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і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VIDIA 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ідтримують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penGL 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 апаратному рів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 rot="20536200">
            <a:off x="3135600" y="3291120"/>
            <a:ext cx="7693200" cy="3590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979640" y="-603360"/>
            <a:ext cx="11898360" cy="5553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2638440" y="0"/>
            <a:ext cx="32212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Моніт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251640" y="908640"/>
            <a:ext cx="6048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онітор - пристрій, призначений для відтворення відеосигналу і візуального відображення інформації, отриманої від комп'ютера. Принципова відмінність від телевізора полягає у відсутності вбудованого тюнера, призначеного для прийому високочастотних сигналів ефірного (наземного) телемовлення. Крім того, у більшості моніторів відсутній звуковідтворювальний  тракт і гучномовц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486520" y="2997000"/>
            <a:ext cx="42440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Клавіатур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467640" y="4005000"/>
            <a:ext cx="5256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vi-VN" sz="1800" spc="-1" strike="noStrike">
                <a:solidFill>
                  <a:srgbClr val="ffffff"/>
                </a:solidFill>
                <a:latin typeface="Constantia"/>
              </a:rPr>
              <a:t>Клавіату́ра</a:t>
            </a:r>
            <a:r>
              <a:rPr b="0" lang="vi-VN" sz="1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lang="vi-VN" sz="1800" spc="-1" strike="noStrike">
                <a:solidFill>
                  <a:srgbClr val="ffffff"/>
                </a:solidFill>
                <a:latin typeface="Constantia"/>
              </a:rPr>
              <a:t>сукупність розміщених у певному порядку клавіш пристрою, що використовується для введення і редагування даних, а також керування виконанням окремих операці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vi-VN" sz="1800" spc="-1" strike="noStrike">
                <a:solidFill>
                  <a:srgbClr val="ffffff"/>
                </a:solidFill>
                <a:latin typeface="Constantia"/>
              </a:rPr>
              <a:t>Клавіша тут виступає як елемент клавіатури, натисканням якого генерується код відповідного знака або ініціюється деяка ді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3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 rot="20539800">
            <a:off x="5377320" y="3393000"/>
            <a:ext cx="4859280" cy="226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Domitorio\Рабочий стол\ыва.png"/>
          <p:cNvPicPr/>
          <p:nvPr/>
        </p:nvPicPr>
        <p:blipFill>
          <a:blip r:embed="rId1"/>
          <a:stretch/>
        </p:blipFill>
        <p:spPr>
          <a:xfrm>
            <a:off x="1691640" y="-819360"/>
            <a:ext cx="10229040" cy="7677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3"/>
          <p:cNvSpPr/>
          <p:nvPr/>
        </p:nvSpPr>
        <p:spPr>
          <a:xfrm>
            <a:off x="251640" y="1556640"/>
            <a:ext cx="5832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иш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 (англ. 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mous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, 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нгл. 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mouse device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) —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дин із вказівних пристрій введення (англ. 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pointing devic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),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який дає змогу користувачеві через інтерфейс взаємодіяти з комп'юте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2986200" y="260640"/>
            <a:ext cx="2403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/>
                </a:solidFill>
                <a:latin typeface="Constantia"/>
              </a:rPr>
              <a:t>Миш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:\Documents and Settings\Domitorio\Рабочий стол\ыва.png"/>
          <p:cNvPicPr/>
          <p:nvPr/>
        </p:nvPicPr>
        <p:blipFill>
          <a:blip r:embed="rId2"/>
          <a:stretch/>
        </p:blipFill>
        <p:spPr>
          <a:xfrm>
            <a:off x="2988000" y="2637000"/>
            <a:ext cx="8064360" cy="60526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9"/>
          <p:cNvSpPr/>
          <p:nvPr/>
        </p:nvSpPr>
        <p:spPr>
          <a:xfrm>
            <a:off x="251640" y="4509000"/>
            <a:ext cx="5760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кустична система - пристрій для відтворення звуку, складається з акустичного оформлення і вмонтованих в нього випромінюючих головок (зазвичай динамічни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10"/>
          <p:cNvSpPr/>
          <p:nvPr/>
        </p:nvSpPr>
        <p:spPr>
          <a:xfrm>
            <a:off x="2400480" y="3069000"/>
            <a:ext cx="4039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Constantia"/>
              </a:rPr>
              <a:t>Аккусти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971640" y="1989000"/>
            <a:ext cx="763236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ffe7d8"/>
                </a:solidFill>
                <a:latin typeface="Constantia"/>
              </a:rPr>
              <a:t>Дякую за увагу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Documents and Settings\Domitorio\Рабочий стол\епепе.png"/>
          <p:cNvPicPr/>
          <p:nvPr/>
        </p:nvPicPr>
        <p:blipFill>
          <a:blip r:embed="rId1"/>
          <a:stretch/>
        </p:blipFill>
        <p:spPr>
          <a:xfrm>
            <a:off x="5148000" y="188640"/>
            <a:ext cx="3744000" cy="32126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395640" y="764640"/>
            <a:ext cx="446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c000"/>
                </a:solidFill>
                <a:latin typeface="Constantia"/>
              </a:rPr>
              <a:t>Персона́льний комп'ю́тер</a:t>
            </a: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 (</a:t>
            </a:r>
            <a:r>
              <a:rPr b="0" i="1" lang="ru-RU" sz="2000" spc="-1" strike="noStrike">
                <a:solidFill>
                  <a:srgbClr val="ffc000"/>
                </a:solidFill>
                <a:latin typeface="Constantia"/>
              </a:rPr>
              <a:t>ПК</a:t>
            </a: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) — електронна обчислювальна машина, призначена для особистого використання, ціна, розміри та можливості якого задовольняють потреби багатьо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</a:rPr>
              <a:t>Ще у 1968 році дослідник Дуглас Енгельбарт показав те, що стало звичним на початку 21 століття — електронну пошту, гіпертекст, текстовий процесор, відеоконференції та маніпулятора «мишу». Разом з тим у той час використання комп'ютера було занадто дорогими для індивідуального користування (у бізнесі чи освіті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7" descr="http://www.itnotebook.ru/theme/images/sborka.png"/>
          <p:cNvPicPr/>
          <p:nvPr/>
        </p:nvPicPr>
        <p:blipFill>
          <a:blip r:embed="rId2"/>
          <a:stretch/>
        </p:blipFill>
        <p:spPr>
          <a:xfrm>
            <a:off x="4572000" y="2997000"/>
            <a:ext cx="5024520" cy="3456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7640" y="1628640"/>
            <a:ext cx="8352720" cy="44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chemeClr val="accent5">
                    <a:lumMod val="40000"/>
                    <a:lumOff val="60000"/>
                  </a:schemeClr>
                </a:solidFill>
                <a:latin typeface="Constantia"/>
              </a:rPr>
              <a:t>   </a:t>
            </a:r>
            <a:r>
              <a:rPr b="0" lang="uk-UA" sz="2800" spc="-1" strike="noStrike">
                <a:solidFill>
                  <a:schemeClr val="accent5">
                    <a:lumMod val="40000"/>
                    <a:lumOff val="60000"/>
                  </a:schemeClr>
                </a:solidFill>
                <a:latin typeface="Constantia"/>
              </a:rPr>
              <a:t>На сьогоднішній момент комп</a:t>
            </a:r>
            <a:r>
              <a:rPr b="0" lang="ru-RU" sz="2800" spc="-1" strike="noStrike">
                <a:solidFill>
                  <a:schemeClr val="accent5">
                    <a:lumMod val="40000"/>
                    <a:lumOff val="60000"/>
                  </a:schemeClr>
                </a:solidFill>
                <a:latin typeface="Constantia"/>
              </a:rPr>
              <a:t>'ютери застосовують майже у всіх сферах науки. Це наша невід‘ємна частина, без якої ми не можемо існувати на цій землі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2" name="Picture 4" descr="C:\Documents and Settings\Domitorio\Рабочий стол\фото2.png"/>
          <p:cNvPicPr/>
          <p:nvPr/>
        </p:nvPicPr>
        <p:blipFill>
          <a:blip r:embed="rId1"/>
          <a:stretch/>
        </p:blipFill>
        <p:spPr>
          <a:xfrm>
            <a:off x="4932000" y="3501000"/>
            <a:ext cx="3096000" cy="309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Domitorio\Рабочий стол\цукцу.png"/>
          <p:cNvPicPr/>
          <p:nvPr/>
        </p:nvPicPr>
        <p:blipFill>
          <a:blip r:embed="rId2"/>
          <a:stretch/>
        </p:blipFill>
        <p:spPr>
          <a:xfrm>
            <a:off x="611640" y="3861000"/>
            <a:ext cx="4680000" cy="23482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-34560" y="548640"/>
            <a:ext cx="902448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4400" spc="299" strike="noStrike">
                <a:solidFill>
                  <a:srgbClr val="ffc000"/>
                </a:solidFill>
                <a:latin typeface="Constantia"/>
              </a:rPr>
              <a:t>Застосування комп</a:t>
            </a:r>
            <a:r>
              <a:rPr b="1" lang="ru-RU" sz="4400" spc="299" strike="noStrike">
                <a:solidFill>
                  <a:srgbClr val="ffc000"/>
                </a:solidFill>
                <a:latin typeface="Constantia"/>
              </a:rPr>
              <a:t>'ютер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буть головним фактором у застосуванн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і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ів є математичні розрахунки.  Адже майже у всіх компаніях потрібно швидко рахувати . Саме тому це здійснюється за допомогою електронних таблиць. Недарма кажуть, що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 називають обчислювальною машиною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96" name="Группа 7"/>
          <p:cNvGrpSpPr/>
          <p:nvPr/>
        </p:nvGrpSpPr>
        <p:grpSpPr>
          <a:xfrm>
            <a:off x="467640" y="3717000"/>
            <a:ext cx="8064360" cy="2376000"/>
            <a:chOff x="467640" y="3717000"/>
            <a:chExt cx="8064360" cy="2376000"/>
          </a:xfrm>
        </p:grpSpPr>
        <p:sp>
          <p:nvSpPr>
            <p:cNvPr id="97" name="Скругленный прямоугольник 6"/>
            <p:cNvSpPr/>
            <p:nvPr/>
          </p:nvSpPr>
          <p:spPr>
            <a:xfrm>
              <a:off x="467640" y="3717000"/>
              <a:ext cx="8064360" cy="2376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98" name="Picture 2" descr="http://internet-technologies.ru/uploads/articles/201412/simvoli-na-klaviature-ho-280614.png"/>
            <p:cNvPicPr/>
            <p:nvPr/>
          </p:nvPicPr>
          <p:blipFill>
            <a:blip r:embed="rId1"/>
            <a:stretch/>
          </p:blipFill>
          <p:spPr>
            <a:xfrm>
              <a:off x="765360" y="3933000"/>
              <a:ext cx="3590280" cy="19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http://soroka-vorona.info/soroka-vorona.info/images/stories/psychology/mat_samoocin.jpg"/>
            <p:cNvPicPr/>
            <p:nvPr/>
          </p:nvPicPr>
          <p:blipFill>
            <a:blip r:embed="rId2"/>
            <a:stretch/>
          </p:blipFill>
          <p:spPr>
            <a:xfrm>
              <a:off x="4788000" y="3933000"/>
              <a:ext cx="3513600" cy="193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200" spc="299" strike="noStrike">
                <a:solidFill>
                  <a:srgbClr val="ffc000"/>
                </a:solidFill>
                <a:latin typeface="Constantia"/>
              </a:rPr>
              <a:t>Інженерна та комп</a:t>
            </a:r>
            <a:r>
              <a:rPr b="1" lang="en-US" sz="4200" spc="299" strike="noStrike">
                <a:solidFill>
                  <a:srgbClr val="ffc000"/>
                </a:solidFill>
                <a:latin typeface="Constantia"/>
              </a:rPr>
              <a:t>’</a:t>
            </a:r>
            <a:r>
              <a:rPr b="1" lang="uk-UA" sz="4200" spc="299" strike="noStrike">
                <a:solidFill>
                  <a:srgbClr val="ffc000"/>
                </a:solidFill>
                <a:latin typeface="Constantia"/>
              </a:rPr>
              <a:t>ютерна      графі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1" name="Группа 8"/>
          <p:cNvGrpSpPr/>
          <p:nvPr/>
        </p:nvGrpSpPr>
        <p:grpSpPr>
          <a:xfrm>
            <a:off x="5148000" y="3429000"/>
            <a:ext cx="3672000" cy="2736000"/>
            <a:chOff x="5148000" y="3429000"/>
            <a:chExt cx="3672000" cy="2736000"/>
          </a:xfrm>
        </p:grpSpPr>
        <p:sp>
          <p:nvSpPr>
            <p:cNvPr id="102" name="Скругленный прямоугольник 7"/>
            <p:cNvSpPr/>
            <p:nvPr/>
          </p:nvSpPr>
          <p:spPr>
            <a:xfrm>
              <a:off x="5148000" y="3429000"/>
              <a:ext cx="3672000" cy="2736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03" name="Picture 2" descr="http://vv74.stroika.dp.ua/upload/products/16900/s/16900_1390156486.jpg"/>
            <p:cNvPicPr/>
            <p:nvPr/>
          </p:nvPicPr>
          <p:blipFill>
            <a:blip r:embed="rId1"/>
            <a:stretch/>
          </p:blipFill>
          <p:spPr>
            <a:xfrm>
              <a:off x="5364000" y="3645000"/>
              <a:ext cx="3240000" cy="231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Прямоугольник 4"/>
          <p:cNvSpPr/>
          <p:nvPr/>
        </p:nvSpPr>
        <p:spPr>
          <a:xfrm>
            <a:off x="395640" y="1700640"/>
            <a:ext cx="8064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Інженерна графіка — наука створення проекційних зображень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395640" y="2277000"/>
            <a:ext cx="806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мп'ютерна гра́фіка — розділ інформатики, який вивчає методи цифрового синтезу і обробки візуального контен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755640" y="3501000"/>
            <a:ext cx="4104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Саме за допомогою комп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Constantia"/>
              </a:rPr>
              <a:t>ютерів можна швидко і корректно вигонувати заготовки  або проектувати  креслення в електронний форм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78680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Цей фактор здійснюється також за допомогою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а. Він охоплює усі сфери життєдіяльності людини. У всіх галузях праці використовуються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и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Робота с текстовими матеріалами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683640" y="4005000"/>
            <a:ext cx="3888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Видавництво і поліграфія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Створення документів, переклад. Видавець створює електронні макети книг та журналів, для підготовки майбутніх друкованих матеріал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6"/>
          <p:cNvGrpSpPr/>
          <p:nvPr/>
        </p:nvGrpSpPr>
        <p:grpSpPr>
          <a:xfrm>
            <a:off x="4500000" y="3573000"/>
            <a:ext cx="4104000" cy="2592000"/>
            <a:chOff x="4500000" y="3573000"/>
            <a:chExt cx="4104000" cy="2592000"/>
          </a:xfrm>
        </p:grpSpPr>
        <p:sp>
          <p:nvSpPr>
            <p:cNvPr id="111" name="Скругленный прямоугольник 5"/>
            <p:cNvSpPr/>
            <p:nvPr/>
          </p:nvSpPr>
          <p:spPr>
            <a:xfrm>
              <a:off x="4500000" y="3573000"/>
              <a:ext cx="4104000" cy="2592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12" name="Picture 2" descr="http://img06.olx.kz/images_slandokz/139099636_2_261x203_avtoshkola-skidki-vse-kategorii-po-10000-tenge-za-ves-kurs-obucheniya-fotografii_rev001.jpg"/>
            <p:cNvPicPr/>
            <p:nvPr/>
          </p:nvPicPr>
          <p:blipFill>
            <a:blip r:embed="rId1"/>
            <a:stretch/>
          </p:blipFill>
          <p:spPr>
            <a:xfrm>
              <a:off x="4932000" y="3789000"/>
              <a:ext cx="3277800" cy="2160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7640" y="134064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Стосовно бази і банків даних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они створюються в різних галузях людської діяльності: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- законодавство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- медицин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- бізнес та інш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907640" y="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200" spc="-100" strike="noStrike">
                <a:solidFill>
                  <a:srgbClr val="ffc000"/>
                </a:solidFill>
                <a:latin typeface="Constantia"/>
              </a:rPr>
              <a:t>Бази і банки даних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5" name="Picture 2" descr="http://omgkitteh.ru/wp-content/uploads/2015/02/369844_v2.jpg"/>
          <p:cNvPicPr/>
          <p:nvPr/>
        </p:nvPicPr>
        <p:blipFill>
          <a:blip r:embed="rId1"/>
          <a:stretch/>
        </p:blipFill>
        <p:spPr>
          <a:xfrm>
            <a:off x="1763640" y="4077000"/>
            <a:ext cx="5904360" cy="19645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7640" y="1917000"/>
            <a:ext cx="475200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Щодо розваг і дозвілля. Усі дорослі і діти обожнюють сидіти за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ом: дивитись новини, грати в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ні ігри.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часн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і диск-жокеї використовують комп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ютерні програми для запису чи відтворювання музик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051640" y="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200" spc="-100" strike="noStrike">
                <a:solidFill>
                  <a:srgbClr val="ffc000"/>
                </a:solidFill>
                <a:latin typeface="Constantia"/>
              </a:rPr>
              <a:t>Розваги і дозвілля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18" name="Группа 5"/>
          <p:cNvGrpSpPr/>
          <p:nvPr/>
        </p:nvGrpSpPr>
        <p:grpSpPr>
          <a:xfrm>
            <a:off x="5004000" y="1340640"/>
            <a:ext cx="3744000" cy="2088000"/>
            <a:chOff x="5004000" y="1340640"/>
            <a:chExt cx="3744000" cy="2088000"/>
          </a:xfrm>
        </p:grpSpPr>
        <p:sp>
          <p:nvSpPr>
            <p:cNvPr id="119" name="Скругленный прямоугольник 4"/>
            <p:cNvSpPr/>
            <p:nvPr/>
          </p:nvSpPr>
          <p:spPr>
            <a:xfrm>
              <a:off x="5004000" y="1340640"/>
              <a:ext cx="3744000" cy="2088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20" name="Picture 2" descr="http://news.city.zt.ua/uploads/posts/2011-07/thumbs/1309536036_kompyuternye-igry.jpg"/>
            <p:cNvPicPr/>
            <p:nvPr/>
          </p:nvPicPr>
          <p:blipFill>
            <a:blip r:embed="rId1"/>
            <a:srcRect l="2016" t="2984" r="3082" b="19296"/>
            <a:stretch/>
          </p:blipFill>
          <p:spPr>
            <a:xfrm>
              <a:off x="5220000" y="1484640"/>
              <a:ext cx="3384000" cy="18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Группа 8"/>
          <p:cNvGrpSpPr/>
          <p:nvPr/>
        </p:nvGrpSpPr>
        <p:grpSpPr>
          <a:xfrm>
            <a:off x="5364000" y="3861000"/>
            <a:ext cx="3384000" cy="2376000"/>
            <a:chOff x="5364000" y="3861000"/>
            <a:chExt cx="3384000" cy="2376000"/>
          </a:xfrm>
        </p:grpSpPr>
        <p:sp>
          <p:nvSpPr>
            <p:cNvPr id="122" name="Скругленный прямоугольник 7"/>
            <p:cNvSpPr/>
            <p:nvPr/>
          </p:nvSpPr>
          <p:spPr>
            <a:xfrm>
              <a:off x="5364000" y="3861000"/>
              <a:ext cx="3384000" cy="237600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23" name="Picture 4" descr="http://digitaldjtips.com/wp-content/uploads/2012/10/Virtual-DJ-8.jpg"/>
            <p:cNvPicPr/>
            <p:nvPr/>
          </p:nvPicPr>
          <p:blipFill>
            <a:blip r:embed="rId2"/>
            <a:stretch/>
          </p:blipFill>
          <p:spPr>
            <a:xfrm>
              <a:off x="5580000" y="4077000"/>
              <a:ext cx="2916000" cy="194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252360" y="764640"/>
            <a:ext cx="9792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Тяжко представити сьогодні наше життя без комп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i="1" lang="uk-UA" sz="2600" spc="-1" strike="noStrike">
                <a:solidFill>
                  <a:srgbClr val="ffffff"/>
                </a:solidFill>
                <a:latin typeface="Constantia"/>
              </a:rPr>
              <a:t>ютера. Ми його зустрічаємо майже повсюду, його застосовують у всіх сферах. Він став тією самою невідємною частиною у нашому житті. Кожен день комп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0" i="1" lang="uk-UA" sz="2600" spc="-1" strike="noStrike">
                <a:solidFill>
                  <a:srgbClr val="ffffff"/>
                </a:solidFill>
                <a:latin typeface="Constantia"/>
              </a:rPr>
              <a:t>ютери модернізують і роблять їх для нас зручнішими, потужнішими та практичними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988000" y="0"/>
            <a:ext cx="8229240" cy="786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4200" spc="-100" strike="noStrike">
                <a:solidFill>
                  <a:srgbClr val="ffc000"/>
                </a:solidFill>
                <a:latin typeface="Constantia"/>
              </a:rPr>
              <a:t>Висновок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26" name="Группа 5"/>
          <p:cNvGrpSpPr/>
          <p:nvPr/>
        </p:nvGrpSpPr>
        <p:grpSpPr>
          <a:xfrm>
            <a:off x="1475640" y="3213000"/>
            <a:ext cx="6552360" cy="3644640"/>
            <a:chOff x="1475640" y="3213000"/>
            <a:chExt cx="6552360" cy="3644640"/>
          </a:xfrm>
        </p:grpSpPr>
        <p:sp>
          <p:nvSpPr>
            <p:cNvPr id="127" name="Скругленный прямоугольник 4"/>
            <p:cNvSpPr/>
            <p:nvPr/>
          </p:nvSpPr>
          <p:spPr>
            <a:xfrm>
              <a:off x="1475640" y="3213000"/>
              <a:ext cx="6552360" cy="364464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>
              <a:solidFill>
                <a:srgbClr val="7a856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onstantia"/>
              </a:endParaRPr>
            </a:p>
          </p:txBody>
        </p:sp>
        <p:pic>
          <p:nvPicPr>
            <p:cNvPr id="128" name="Picture 2" descr="http://s.pikabu.ru/post_img/big/2013/09/23/8/1379934724_767639139.jpeg"/>
            <p:cNvPicPr/>
            <p:nvPr/>
          </p:nvPicPr>
          <p:blipFill>
            <a:blip r:embed="rId1"/>
            <a:stretch/>
          </p:blipFill>
          <p:spPr>
            <a:xfrm>
              <a:off x="1907640" y="3429000"/>
              <a:ext cx="5710320" cy="30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415</TotalTime>
  <Application>LibreOffice/7.4.7.2$Linux_X86_64 LibreOffice_project/40$Build-2</Application>
  <AppVersion>15.0000</AppVersion>
  <Words>441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7-01-29T17:19:57Z</dcterms:modified>
  <cp:revision>59</cp:revision>
  <dc:subject/>
  <dc:title>Застосування комп'ютерів  Комп'ютерна систем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