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17.jpeg" ContentType="image/jpeg"/>
  <Override PartName="/ppt/media/image11.wmf" ContentType="image/x-wmf"/>
  <Override PartName="/ppt/media/image5.jpeg" ContentType="image/jpeg"/>
  <Override PartName="/ppt/media/image9.wmf" ContentType="image/x-wmf"/>
  <Override PartName="/ppt/media/image4.jpeg" ContentType="image/jpeg"/>
  <Override PartName="/ppt/media/image10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30.wmf" ContentType="image/x-wmf"/>
  <Override PartName="/ppt/media/image29.jpeg" ContentType="image/jpeg"/>
  <Override PartName="/ppt/media/image8.jpeg" ContentType="image/jpeg"/>
  <Override PartName="/ppt/media/image13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E7DB-33C2-4561-83FB-D2C834205A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BBED-E6FD-4C8A-BE69-959A8EE675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9463-EF01-4506-A96D-4CE220E1C1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1E03-F9E1-4D38-97E4-4C3EDCE748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2349-9FE7-4349-AADD-8C63E899CA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1504-FE73-4689-B2E8-22EDCC3AD2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6222-E3DE-44BA-A105-6512FB0F4D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3722-9111-4510-A756-D04FA39512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FA50-9F88-46B4-8C44-23202561EB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B86E-C08C-4F25-B880-562A51609B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321C-055E-4ACB-9F5B-BC4CAC06A2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B58A-7994-442C-B3CB-FE38EAC61A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183F-C658-452A-A4E7-1E130BFBA7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816C-71E0-4492-A61C-FB5D51C88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6DA1-C0F6-4A42-AC42-4C07BD3B8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BDEB-5E3E-4637-B54B-1D640859E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84C9-650B-440C-8423-B71C49CA3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FF5A-E2A6-40B2-8C5B-C5FFCA675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4BAB-32D9-48F9-B97E-044C203CF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CFE6-79E8-417C-9B71-88A568021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97CE-4CED-43B3-B500-93ACC8D62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6F5E-223A-4439-895A-49D1941A6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D26A-F603-4D69-85EC-D7D11B8D9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5374-ED8B-4634-A587-2B0D88F59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3E9D-BF27-440B-BB97-FF08518A4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20160" y="6609960"/>
            <a:ext cx="93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40E4-7008-444B-AD68-4C42AED2C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6"/>
          <p:cNvSpPr/>
          <p:nvPr/>
        </p:nvSpPr>
        <p:spPr>
          <a:xfrm>
            <a:off x="925560" y="0"/>
            <a:ext cx="74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tisse ITC"/>
              </a:rPr>
              <a:t>Л.Л. Босова, УМК по информатике для 5-7 клас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Text Box 7"/>
          <p:cNvSpPr/>
          <p:nvPr/>
        </p:nvSpPr>
        <p:spPr>
          <a:xfrm>
            <a:off x="4002120" y="6645240"/>
            <a:ext cx="112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Matisse ITC"/>
              </a:rPr>
              <a:t>Москва,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jpe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1840" y="76500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Comic Sans MS"/>
              </a:rPr>
              <a:t>Объекты и их имена</a:t>
            </a:r>
            <a:endParaRPr b="1" lang="en-US" sz="6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7" name="Picture 6" descr="MPj04021530000[1]"/>
          <p:cNvPicPr/>
          <p:nvPr/>
        </p:nvPicPr>
        <p:blipFill>
          <a:blip r:embed="rId1"/>
          <a:stretch/>
        </p:blipFill>
        <p:spPr>
          <a:xfrm>
            <a:off x="635040" y="3213000"/>
            <a:ext cx="2136600" cy="21607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88" name="Picture 8" descr="MPj04022600000[1]"/>
          <p:cNvPicPr/>
          <p:nvPr/>
        </p:nvPicPr>
        <p:blipFill>
          <a:blip r:embed="rId2"/>
          <a:stretch/>
        </p:blipFill>
        <p:spPr>
          <a:xfrm>
            <a:off x="4788000" y="3213000"/>
            <a:ext cx="3902040" cy="26035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pic>
        <p:nvPicPr>
          <p:cNvPr id="89" name="Picture 9" descr="MPj04021160000[1]"/>
          <p:cNvPicPr/>
          <p:nvPr/>
        </p:nvPicPr>
        <p:blipFill>
          <a:blip r:embed="rId3"/>
          <a:stretch/>
        </p:blipFill>
        <p:spPr>
          <a:xfrm rot="1216800">
            <a:off x="2916000" y="2421000"/>
            <a:ext cx="2081160" cy="3120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omic Sans MS"/>
              </a:rPr>
              <a:t>Собственные имен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42" name="Picture 4" descr="j0415554[1]"/>
          <p:cNvPicPr/>
          <p:nvPr/>
        </p:nvPicPr>
        <p:blipFill>
          <a:blip r:embed="rId1"/>
          <a:srcRect l="40399" t="0" r="8501" b="19199"/>
          <a:stretch/>
        </p:blipFill>
        <p:spPr>
          <a:xfrm>
            <a:off x="324000" y="1197000"/>
            <a:ext cx="2158920" cy="2265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j0415232[1]"/>
          <p:cNvPicPr/>
          <p:nvPr/>
        </p:nvPicPr>
        <p:blipFill>
          <a:blip r:embed="rId2"/>
          <a:srcRect l="0" t="0" r="36960" b="0"/>
          <a:stretch/>
        </p:blipFill>
        <p:spPr>
          <a:xfrm>
            <a:off x="2050920" y="3284640"/>
            <a:ext cx="2368800" cy="2519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j0415556[1]"/>
          <p:cNvPicPr/>
          <p:nvPr/>
        </p:nvPicPr>
        <p:blipFill>
          <a:blip r:embed="rId3"/>
          <a:srcRect l="0" t="0" r="50904" b="21733"/>
          <a:stretch/>
        </p:blipFill>
        <p:spPr>
          <a:xfrm>
            <a:off x="6588000" y="1413000"/>
            <a:ext cx="2257560" cy="2305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8"/>
          <p:cNvSpPr/>
          <p:nvPr/>
        </p:nvSpPr>
        <p:spPr>
          <a:xfrm>
            <a:off x="2411280" y="1484280"/>
            <a:ext cx="2232000" cy="94716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лександр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ушк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 flipV="1" rot="10790400">
            <a:off x="4210920" y="5117760"/>
            <a:ext cx="2305080" cy="94716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ихаил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ермон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076720" y="3213000"/>
            <a:ext cx="1871640" cy="94716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иколай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ого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omic Sans MS"/>
              </a:rPr>
              <a:t>Самое главно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Объект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- это любая часть окружающей нас действительности (предмет, процесс, явление), воспринимаемая человеком как единое цел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аждый объект имеет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имя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, которое позволяет отличать его от других объе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мена бывают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общими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единичными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777240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ст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орепла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рфограм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атематический зак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Форму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э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Бас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j0405812[1]"/>
          <p:cNvPicPr/>
          <p:nvPr/>
        </p:nvPicPr>
        <p:blipFill>
          <a:blip r:embed="rId1"/>
          <a:stretch/>
        </p:blipFill>
        <p:spPr>
          <a:xfrm>
            <a:off x="6372360" y="1484280"/>
            <a:ext cx="1955520" cy="19242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52" name="Picture 5" descr="j0250044[1]"/>
          <p:cNvPicPr/>
          <p:nvPr/>
        </p:nvPicPr>
        <p:blipFill>
          <a:blip r:embed="rId2"/>
          <a:stretch/>
        </p:blipFill>
        <p:spPr>
          <a:xfrm>
            <a:off x="3492360" y="2341440"/>
            <a:ext cx="2551320" cy="137484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 rot="769800">
            <a:off x="6516360" y="3860280"/>
            <a:ext cx="2305080" cy="1644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54" name="Picture 7" descr="j0233727[1]"/>
          <p:cNvPicPr/>
          <p:nvPr/>
        </p:nvPicPr>
        <p:blipFill>
          <a:blip r:embed="rId4"/>
          <a:stretch/>
        </p:blipFill>
        <p:spPr>
          <a:xfrm>
            <a:off x="3117960" y="4437000"/>
            <a:ext cx="3182760" cy="2133720"/>
          </a:xfrm>
          <a:prstGeom prst="rect">
            <a:avLst/>
          </a:prstGeom>
          <a:ln w="38160">
            <a:solidFill>
              <a:srgbClr val="d60093"/>
            </a:solidFill>
            <a:miter/>
          </a:ln>
        </p:spPr>
      </p:pic>
      <p:sp>
        <p:nvSpPr>
          <p:cNvPr id="155" name="Text Box 11"/>
          <p:cNvSpPr/>
          <p:nvPr/>
        </p:nvSpPr>
        <p:spPr>
          <a:xfrm>
            <a:off x="395280" y="140328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азовите по одному объекту из следующих множест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Давайте обсудим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omic Sans MS"/>
              </a:rPr>
              <a:t>Объект</a:t>
            </a: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 -</a:t>
            </a:r>
            <a:endParaRPr b="1" lang="en-US" sz="36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это любая часть окружающей нас действительности, воспринимаемая как единое цел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5148360" y="3789360"/>
            <a:ext cx="3168720" cy="21366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93" name="Picture 8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3657600" cy="24447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MPj03989250000[1]"/>
          <p:cNvPicPr/>
          <p:nvPr/>
        </p:nvPicPr>
        <p:blipFill>
          <a:blip r:embed="rId1"/>
          <a:stretch/>
        </p:blipFill>
        <p:spPr>
          <a:xfrm>
            <a:off x="6012000" y="800280"/>
            <a:ext cx="2695320" cy="2557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omic Sans MS"/>
              </a:rPr>
              <a:t>Объекты-предметы</a:t>
            </a:r>
            <a:endParaRPr b="1" lang="en-US" sz="40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96" name="Picture 6" descr="MPj04093840000[1]"/>
          <p:cNvPicPr/>
          <p:nvPr/>
        </p:nvPicPr>
        <p:blipFill>
          <a:blip r:embed="rId2"/>
          <a:stretch/>
        </p:blipFill>
        <p:spPr>
          <a:xfrm>
            <a:off x="539640" y="2133720"/>
            <a:ext cx="3961080" cy="35906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97" name="Text Box 8"/>
          <p:cNvSpPr/>
          <p:nvPr/>
        </p:nvSpPr>
        <p:spPr>
          <a:xfrm>
            <a:off x="1403280" y="5734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д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380360" y="350028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с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7020000" y="5516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оба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11" descr="an01300_[1]"/>
          <p:cNvPicPr/>
          <p:nvPr/>
        </p:nvPicPr>
        <p:blipFill>
          <a:blip r:embed="rId3"/>
          <a:stretch/>
        </p:blipFill>
        <p:spPr>
          <a:xfrm>
            <a:off x="5076720" y="3789360"/>
            <a:ext cx="205740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omic Sans MS"/>
              </a:rPr>
              <a:t>Объекты-процессы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02" name="Picture 4" descr="MCj04061000000[1]"/>
          <p:cNvPicPr/>
          <p:nvPr/>
        </p:nvPicPr>
        <p:blipFill>
          <a:blip r:embed="rId1"/>
          <a:stretch/>
        </p:blipFill>
        <p:spPr>
          <a:xfrm>
            <a:off x="395280" y="2060640"/>
            <a:ext cx="2089080" cy="230508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pic>
        <p:nvPicPr>
          <p:cNvPr id="103" name="Picture 10" descr="MCj03967860000[1]"/>
          <p:cNvPicPr/>
          <p:nvPr/>
        </p:nvPicPr>
        <p:blipFill>
          <a:blip r:embed="rId2"/>
          <a:stretch/>
        </p:blipFill>
        <p:spPr>
          <a:xfrm>
            <a:off x="6443640" y="2924280"/>
            <a:ext cx="2266920" cy="216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MPj04069260000[1]"/>
          <p:cNvPicPr/>
          <p:nvPr/>
        </p:nvPicPr>
        <p:blipFill>
          <a:blip r:embed="rId3"/>
          <a:stretch/>
        </p:blipFill>
        <p:spPr>
          <a:xfrm rot="421800">
            <a:off x="3203640" y="2349000"/>
            <a:ext cx="2881080" cy="23050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05" name="Text Box 12"/>
          <p:cNvSpPr/>
          <p:nvPr/>
        </p:nvSpPr>
        <p:spPr>
          <a:xfrm>
            <a:off x="395280" y="458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ыб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419640" y="4941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стопа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6516720" y="53006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гу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541680" cy="28321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686040" cy="29480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3203640" y="3213000"/>
            <a:ext cx="3679920" cy="29448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000" y="429840"/>
            <a:ext cx="514836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omic Sans MS"/>
              </a:rPr>
              <a:t>Объекты-явления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68360" y="4797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ака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7020000" y="3645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ол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948360" y="537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ум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6049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ждый объект имеет </a:t>
            </a:r>
            <a:r>
              <a:rPr b="1" lang="ru-RU" sz="4000" spc="-1" strike="noStrike">
                <a:solidFill>
                  <a:srgbClr val="990033"/>
                </a:solidFill>
                <a:latin typeface="Comic Sans MS"/>
              </a:rPr>
              <a:t>имя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, отличающее его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 других объектов.</a:t>
            </a:r>
            <a:endParaRPr b="1" lang="en-US" sz="32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16" name="Picture 4"/>
          <p:cNvSpPr/>
          <p:nvPr/>
        </p:nvSpPr>
        <p:spPr>
          <a:xfrm>
            <a:off x="324000" y="2179800"/>
            <a:ext cx="4932360" cy="3985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195640" y="5805360"/>
            <a:ext cx="3671640" cy="52056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Фонтан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«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амсон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7" descr="Питер 2006 04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156360" y="620640"/>
            <a:ext cx="2652840" cy="37004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119" name="Text Box 8"/>
          <p:cNvSpPr/>
          <p:nvPr/>
        </p:nvSpPr>
        <p:spPr>
          <a:xfrm>
            <a:off x="5219640" y="4005360"/>
            <a:ext cx="3529080" cy="52056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имский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фонтан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6"/>
          <p:cNvSpPr/>
          <p:nvPr/>
        </p:nvSpPr>
        <p:spPr>
          <a:xfrm>
            <a:off x="1187280" y="1197000"/>
            <a:ext cx="648180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1" name="_s60433"/>
          <p:cNvCxnSpPr>
            <a:stCxn id="122" idx="0"/>
            <a:endCxn id="123" idx="2"/>
          </p:cNvCxnSpPr>
          <p:nvPr/>
        </p:nvCxnSpPr>
        <p:spPr>
          <a:xfrm flipV="1">
            <a:off x="6173280" y="3900240"/>
            <a:ext cx="3960" cy="527760"/>
          </a:xfrm>
          <a:prstGeom prst="straightConnector1">
            <a:avLst/>
          </a:prstGeom>
          <a:ln w="28440">
            <a:solidFill>
              <a:srgbClr val="663d00"/>
            </a:solidFill>
            <a:miter/>
          </a:ln>
        </p:spPr>
      </p:cxnSp>
      <p:cxnSp>
        <p:nvCxnSpPr>
          <p:cNvPr id="124" name="_s60429"/>
          <p:cNvCxnSpPr>
            <a:stCxn id="123" idx="0"/>
            <a:endCxn id="125" idx="2"/>
          </p:cNvCxnSpPr>
          <p:nvPr/>
        </p:nvCxnSpPr>
        <p:spPr>
          <a:xfrm flipV="1" rot="16200000">
            <a:off x="5046840" y="1673280"/>
            <a:ext cx="508680" cy="1745280"/>
          </a:xfrm>
          <a:prstGeom prst="bentConnector3">
            <a:avLst>
              <a:gd name="adj1" fmla="val 19830"/>
            </a:avLst>
          </a:prstGeom>
          <a:ln w="28440">
            <a:solidFill>
              <a:srgbClr val="663d00"/>
            </a:solidFill>
            <a:miter/>
          </a:ln>
        </p:spPr>
      </p:cxnSp>
      <p:cxnSp>
        <p:nvCxnSpPr>
          <p:cNvPr id="126" name="_s60428"/>
          <p:cNvCxnSpPr>
            <a:stCxn id="127" idx="0"/>
            <a:endCxn id="125" idx="2"/>
          </p:cNvCxnSpPr>
          <p:nvPr/>
        </p:nvCxnSpPr>
        <p:spPr>
          <a:xfrm flipH="1" flipV="1" rot="5400000">
            <a:off x="3301560" y="1672560"/>
            <a:ext cx="508680" cy="1747080"/>
          </a:xfrm>
          <a:prstGeom prst="bentConnector3">
            <a:avLst>
              <a:gd name="adj1" fmla="val 19830"/>
            </a:avLst>
          </a:prstGeom>
          <a:ln w="28440">
            <a:solidFill>
              <a:srgbClr val="663d00"/>
            </a:solidFill>
            <a:miter/>
          </a:ln>
        </p:spPr>
      </p:cxnSp>
      <p:sp>
        <p:nvSpPr>
          <p:cNvPr id="125" name="_s60424"/>
          <p:cNvSpPr/>
          <p:nvPr/>
        </p:nvSpPr>
        <p:spPr>
          <a:xfrm>
            <a:off x="2932200" y="1197000"/>
            <a:ext cx="2992320" cy="1076400"/>
          </a:xfrm>
          <a:prstGeom prst="roundRect">
            <a:avLst>
              <a:gd name="adj" fmla="val 16667"/>
            </a:avLst>
          </a:prstGeom>
          <a:solidFill>
            <a:srgbClr val="ffc266"/>
          </a:solidFill>
          <a:ln w="38160">
            <a:solidFill>
              <a:srgbClr val="663d00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ahoma"/>
              </a:rPr>
              <a:t>Имена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_s60425">
            <a:hlinkClick r:id="rId1" action="ppaction://hlinksldjump"/>
          </p:cNvPr>
          <p:cNvSpPr/>
          <p:nvPr/>
        </p:nvSpPr>
        <p:spPr>
          <a:xfrm>
            <a:off x="1187280" y="2811600"/>
            <a:ext cx="2990880" cy="10778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663d00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Общие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_s60426"/>
          <p:cNvSpPr/>
          <p:nvPr/>
        </p:nvSpPr>
        <p:spPr>
          <a:xfrm>
            <a:off x="4678200" y="2811600"/>
            <a:ext cx="2990880" cy="10778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663d00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Единичные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_s60432"/>
          <p:cNvSpPr/>
          <p:nvPr/>
        </p:nvSpPr>
        <p:spPr>
          <a:xfrm>
            <a:off x="4678200" y="4427640"/>
            <a:ext cx="2990880" cy="1076400"/>
          </a:xfrm>
          <a:prstGeom prst="roundRect">
            <a:avLst>
              <a:gd name="adj" fmla="val 16667"/>
            </a:avLst>
          </a:prstGeom>
          <a:solidFill>
            <a:srgbClr val="eb8d00"/>
          </a:solidFill>
          <a:ln w="3240">
            <a:solidFill>
              <a:srgbClr val="663d00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Собственные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omic Sans MS"/>
              </a:rPr>
              <a:t>Общие имена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означают множество объектов</a:t>
            </a:r>
            <a:endParaRPr b="1" lang="en-US" sz="32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580000" y="1844640"/>
            <a:ext cx="2822760" cy="22575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30" name="Text Box 8"/>
          <p:cNvSpPr/>
          <p:nvPr/>
        </p:nvSpPr>
        <p:spPr>
          <a:xfrm>
            <a:off x="250920" y="2133720"/>
            <a:ext cx="496872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ор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вропейский гор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толичный гор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4140360" y="3860640"/>
            <a:ext cx="3095640" cy="24638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132" name="Freeform 12"/>
          <p:cNvSpPr/>
          <p:nvPr/>
        </p:nvSpPr>
        <p:spPr>
          <a:xfrm>
            <a:off x="3540240" y="1398600"/>
            <a:ext cx="5316480" cy="5172120"/>
          </a:xfrm>
          <a:prstGeom prst="pie">
            <a:avLst/>
          </a:prstGeom>
          <a:noFill/>
          <a:ln w="381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340000" y="5516640"/>
            <a:ext cx="2449440" cy="52056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адри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932360" y="2060640"/>
            <a:ext cx="1943280" cy="52056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ондо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5948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omic Sans MS"/>
              </a:rPr>
              <a:t>Единичные имена</a:t>
            </a:r>
            <a:r>
              <a:rPr b="0" i="1" lang="ru-RU" sz="36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означают  конкретный  объект в некотором множестве</a:t>
            </a:r>
            <a:endParaRPr b="1" lang="en-US" sz="32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136" name="Picture 8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29440" y="623736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1882983"/>
          <p:cNvPicPr/>
          <p:nvPr/>
        </p:nvPicPr>
        <p:blipFill>
          <a:blip r:embed="rId3"/>
          <a:stretch/>
        </p:blipFill>
        <p:spPr>
          <a:xfrm>
            <a:off x="5867280" y="2637000"/>
            <a:ext cx="2416320" cy="32191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39" name="Picture 12" descr="j0409051"/>
          <p:cNvPicPr/>
          <p:nvPr/>
        </p:nvPicPr>
        <p:blipFill>
          <a:blip r:embed="rId4"/>
          <a:stretch/>
        </p:blipFill>
        <p:spPr>
          <a:xfrm>
            <a:off x="826920" y="2205000"/>
            <a:ext cx="3878280" cy="39337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40" name="Picture 13" descr="кнопка возврата в меню"/>
          <p:cNvPicPr/>
          <p:nvPr/>
        </p:nvPicPr>
        <p:blipFill>
          <a:blip r:embed="rId5"/>
          <a:stretch/>
        </p:blipFill>
        <p:spPr>
          <a:xfrm>
            <a:off x="4149720" y="6222960"/>
            <a:ext cx="863640" cy="37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2:56:15Z</dcterms:created>
  <dc:creator>IDm@n</dc:creator>
  <dc:description/>
  <dc:language>en-US</dc:language>
  <cp:lastModifiedBy>User</cp:lastModifiedBy>
  <dcterms:modified xsi:type="dcterms:W3CDTF">2016-08-04T10:05:27Z</dcterms:modified>
  <cp:revision>27</cp:revision>
  <dc:subject/>
  <dc:title>Объекты и их имена</dc:title>
</cp:coreProperties>
</file>