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2CC-5D3D-4B5B-9768-53F2EF6B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4CCB-EAA5-460E-8972-4761E611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05F-02AD-4520-919F-0B518AD0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C0A9-3237-4CF8-9118-FD59FBFD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DFAC-8E82-4417-A97A-4CCC0254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E300-55C5-4BEB-A146-51D05C89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D130-AECF-4987-9EFA-8C5F7F65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D911-E09D-4561-B9F1-67F303EA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A949-79D8-464F-B046-A5A178CF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7E65-112B-4774-8103-29E4CCF0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EFB8-4928-4982-95C7-53F3D2B1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3BDD-5985-44DE-8E46-94ED1743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B389-24E8-461C-AEBD-57FCEC77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0650-359F-447E-812F-4E4AB18B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41ED-596D-442A-A6C8-0F75B3DB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CAE8-C00E-4FEB-A051-B3513A9C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650B-F1B2-4E91-849E-00BCCE02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855-7A2E-421F-8EB3-08DD48E6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F112-5454-465E-9030-1C56300E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1849-4E8B-44BF-96DC-72A34B86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6EDC-7AC8-4CE8-8E29-0E6A5D1E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AB34-E332-4656-B061-A24B37EF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6A5-363B-43C1-8E63-A3386500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E042-D3C2-4A55-A20A-7F2BE7FD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0B2D70-B53F-4861-A14B-B3153A6684F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9B73F6-89A7-4796-BE6B-2857CE068C3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7640" y="548640"/>
            <a:ext cx="7772040" cy="252000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Проверочный тест № 1 </a:t>
            </a:r>
            <a:br>
              <a:rPr sz="4400"/>
            </a:b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на тему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ЧЕЛОВЕК И ИНФОРМАЦ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Можаева О.П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Вопрос № 1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Каким органом чувств мы воспринимаем информацию о вкусе?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Картинки по запросу каша"/>
          <p:cNvPicPr/>
          <p:nvPr/>
        </p:nvPicPr>
        <p:blipFill>
          <a:blip r:embed="rId1"/>
          <a:stretch/>
        </p:blipFill>
        <p:spPr>
          <a:xfrm>
            <a:off x="4284000" y="3141000"/>
            <a:ext cx="3721320" cy="217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Можаева О.П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7640" y="188640"/>
            <a:ext cx="8229240" cy="114264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Вопрос № 2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68640"/>
            <a:ext cx="8229240" cy="48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Чем человек воспринимает звуки?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9" descr="Картинки по запросу слушает музыку рисунок"/>
          <p:cNvPicPr/>
          <p:nvPr/>
        </p:nvPicPr>
        <p:blipFill>
          <a:blip r:embed="rId1"/>
          <a:stretch/>
        </p:blipFill>
        <p:spPr>
          <a:xfrm>
            <a:off x="3708000" y="2277000"/>
            <a:ext cx="1662480" cy="364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Можаева О.П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Вопрос № 3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47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Продолжи фразу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еловек с завязанными глазами НЕ может воспринимать…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9" descr="Картинки по запросу с завязанными глазами"/>
          <p:cNvPicPr/>
          <p:nvPr/>
        </p:nvPicPr>
        <p:blipFill>
          <a:blip r:embed="rId1"/>
          <a:stretch/>
        </p:blipFill>
        <p:spPr>
          <a:xfrm>
            <a:off x="5436000" y="3069000"/>
            <a:ext cx="2961000" cy="181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Можаева О.П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lt1"/>
                </a:solidFill>
                <a:latin typeface="Calibri"/>
              </a:rPr>
              <a:t>Вопрос № 4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Укажи источник информац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Картинки по запросу бабушка читает письмо"/>
          <p:cNvPicPr/>
          <p:nvPr/>
        </p:nvPicPr>
        <p:blipFill>
          <a:blip r:embed="rId1"/>
          <a:stretch/>
        </p:blipFill>
        <p:spPr>
          <a:xfrm>
            <a:off x="4788000" y="2781000"/>
            <a:ext cx="2808000" cy="311436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Можаева О.П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Вопрос № 5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Укажи приемник информаци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Картинки по запросу"/>
          <p:cNvPicPr/>
          <p:nvPr/>
        </p:nvPicPr>
        <p:blipFill>
          <a:blip r:embed="rId1"/>
          <a:stretch/>
        </p:blipFill>
        <p:spPr>
          <a:xfrm>
            <a:off x="5868000" y="3069000"/>
            <a:ext cx="1487160" cy="246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Можаева О.П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2e5f99"/>
              </a:gs>
              <a:gs pos="100000">
                <a:srgbClr val="3c7ac7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Результаты теста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Можаева О.П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  <Words>74</Words>
  <Paragraphs>20</Paragraphs>
  <Company>Krokoz™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1T09:39:03Z</dcterms:created>
  <dc:creator>оля</dc:creator>
  <dc:description/>
  <dc:language>en-US</dc:language>
  <cp:lastModifiedBy>оля</cp:lastModifiedBy>
  <dcterms:modified xsi:type="dcterms:W3CDTF">2016-11-05T11:23:58Z</dcterms:modified>
  <cp:revision>4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7</vt:r8>
  </property>
</Properties>
</file>