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E8F-BD36-4409-B24C-4246352E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8E9-9D48-4C26-816D-8FDF1D2B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076-48A9-4E3E-9114-EAE68575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0DD-5315-4F0E-9D70-AA8B83B5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7654-5075-401D-B813-FB1CDA17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12EB-B438-4874-BCE6-B80758D7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A782-BF3E-43F1-A364-81C5C11A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0886-0185-4BE2-9579-059C4CFF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2192-A7B5-4F6C-B289-DEF37895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07E0-5024-4976-BB23-94C5EFF7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6FA6-D5F3-45CB-935D-2B5D282C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F17-4B4C-4978-9863-CD351E66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B962-A743-4240-A890-8E8107A0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78CF-9267-40FB-840A-95764C2F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8135-B1B0-43A8-B442-0CD35437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CAEA-6BE4-41E0-91C2-63AEC6D1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0997-2EB7-4876-91FA-BFE2A1AC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FCE-B053-4E85-A281-922816C6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CC3-4771-48B4-B80B-1134E9A6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929-79BD-4731-87F9-1FE944DE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682-52DF-4B2D-A4AB-E61C4EC7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7E6-1E18-4088-A3A6-EF2D8333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0CE-A42B-4383-9C6A-EC259722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7EF-0CD4-458B-93F3-01A04073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DB28FF-9534-4BDF-8779-02E41AC4E99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F5F48D-4332-4B82-86B5-7C392DED8D3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7640" y="548640"/>
            <a:ext cx="7772040" cy="252000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Проверочный тест № 1 </a:t>
            </a:r>
            <a:br>
              <a:rPr sz="4400"/>
            </a:b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на тему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ЧЕЛОВЕК И ИНФОРМАЦ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Вопрос № 1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Каким органом чувств мы воспринимаем информацию о вкусе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Картинки по запросу каша"/>
          <p:cNvPicPr/>
          <p:nvPr/>
        </p:nvPicPr>
        <p:blipFill>
          <a:blip r:embed="rId1"/>
          <a:stretch/>
        </p:blipFill>
        <p:spPr>
          <a:xfrm>
            <a:off x="4284000" y="3141000"/>
            <a:ext cx="3721320" cy="217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Вопрос № 2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Чем человек воспринимает звуки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Картинки по запросу слушает музыку рисунок"/>
          <p:cNvPicPr/>
          <p:nvPr/>
        </p:nvPicPr>
        <p:blipFill>
          <a:blip r:embed="rId1"/>
          <a:stretch/>
        </p:blipFill>
        <p:spPr>
          <a:xfrm>
            <a:off x="3708000" y="2277000"/>
            <a:ext cx="1662480" cy="364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Вопрос № 3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Продолжи фразу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ловек с завязанными глазами НЕ может воспринимать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Картинки по запросу с завязанными глазами"/>
          <p:cNvPicPr/>
          <p:nvPr/>
        </p:nvPicPr>
        <p:blipFill>
          <a:blip r:embed="rId1"/>
          <a:stretch/>
        </p:blipFill>
        <p:spPr>
          <a:xfrm>
            <a:off x="5436000" y="3069000"/>
            <a:ext cx="2961000" cy="18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lt1"/>
                </a:solidFill>
                <a:latin typeface="Calibri"/>
              </a:rPr>
              <a:t>Вопрос № 4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Укажи источник информ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Картинки по запросу бабушка читает письмо"/>
          <p:cNvPicPr/>
          <p:nvPr/>
        </p:nvPicPr>
        <p:blipFill>
          <a:blip r:embed="rId1"/>
          <a:stretch/>
        </p:blipFill>
        <p:spPr>
          <a:xfrm>
            <a:off x="4788000" y="2781000"/>
            <a:ext cx="2808000" cy="311436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Вопрос № 5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Укажи приемник информаци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Картинки по запросу"/>
          <p:cNvPicPr/>
          <p:nvPr/>
        </p:nvPicPr>
        <p:blipFill>
          <a:blip r:embed="rId1"/>
          <a:stretch/>
        </p:blipFill>
        <p:spPr>
          <a:xfrm>
            <a:off x="5868000" y="3069000"/>
            <a:ext cx="1487160" cy="246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Результаты теста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  <Words>74</Words>
  <Paragraphs>20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1T09:39:03Z</dcterms:created>
  <dc:creator>оля</dc:creator>
  <dc:description/>
  <dc:language>en-US</dc:language>
  <cp:lastModifiedBy>оля</cp:lastModifiedBy>
  <dcterms:modified xsi:type="dcterms:W3CDTF">2016-11-05T11:23:58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