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485-17DC-4CD1-9F1C-1EFAEE83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88C-E310-488F-A562-5480D6AD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266-3D76-44F5-BF49-0F97C5A9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322-E037-41C4-B823-D51A6B12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A8BD-48BD-49DB-8762-5ADBB0C8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7DED-85AD-448D-BAD5-D6905C5E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F1E2-C4BA-4648-A679-3F16AEEA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60F6-1EE5-4518-B4A2-4D1F5E7B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8599-FFB6-45BC-80D6-4167C38A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192A-D530-4C95-B532-E1AF7DB8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1156-8DA8-458F-8E8A-90F1A90B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80A-B311-48B0-BA7D-2CFE20A3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F3C7-384B-4802-9561-FB5BD9BF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C424-3D5B-4C5C-BB60-D246981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1921-10C5-409A-81DB-CA0B567B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512A-D568-45DC-B274-75D56D07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6CFD-A2B9-4DB6-9477-F4121F03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807FC-6EDB-4436-82F2-09AAC70C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060E-CA70-4E9B-A0A6-9E076A86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BC6F-2F81-4807-BC12-4E577F16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C229-4DA7-4015-AB15-9FF80E2D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4926-54D3-402C-9384-78F784E6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669-72B9-435B-89F0-FB1DCC5C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84BC-0B04-46DE-8F23-2BDC5302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5B5D-56B0-4FC5-8CAB-F146F968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3435-3D46-4FB4-8106-BBB1B49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06E6F-8BE2-4EBF-8C24-0546ED0C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A7D5-8BCD-45BF-AE52-2E5E72B7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2E01-758E-418F-BD1B-7F9BA2E7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305B-F3A3-4336-8C89-D994AF50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560B3-C7C4-4805-93A8-015666A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42E6-DEEB-451A-B0D5-E7ECE51A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2CBE-24BB-45EC-8394-B386FC8A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693-063C-4425-A24D-A0D8645A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5D39-DE25-46BD-BA23-86C5354B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A52A-62EC-41EF-8E34-6863AF8C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449C3-5005-432B-A0ED-0471BF95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6D1A-5EFA-445D-B87F-48881BB4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033A-475F-4C51-8C08-B62CFC4C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1A36-BE2D-4F55-9AA1-9326D78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9F7DF-FE97-48D8-96BF-B1F6C937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0423-843C-4447-B36F-4D19DF2E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43AC-33DE-4A78-8C8F-5C860395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A1A-995E-40FC-9C59-0EBA1869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807-A999-4864-B61C-99EAFDD3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EFD-8316-4ADD-9C72-912C151A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606-B2D3-4684-AAB5-E2CFC43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1FD-A9B6-421A-9844-5EA5800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A68EDD-8688-4C55-A8BC-121E229938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D53571-B1C1-435A-8AC0-67EC51AE63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D60E09-ECD6-4CB1-A66C-DF3C612FB0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6120D3-5E1C-415A-85AF-2F7484F677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chemeClr val="accent4">
                    <a:lumMod val="95000"/>
                    <a:lumOff val="5000"/>
                  </a:schemeClr>
                </a:solidFill>
                <a:latin typeface="Arial"/>
              </a:rPr>
              <a:t>Work and Study</a:t>
            </a:r>
            <a:endParaRPr b="0" lang="es-E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71760" y="235728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агетная рамка 5"/>
          <p:cNvSpPr/>
          <p:nvPr/>
        </p:nvSpPr>
        <p:spPr>
          <a:xfrm>
            <a:off x="7643880" y="6643800"/>
            <a:ext cx="1499760" cy="2138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ture Simple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l +V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edictions about the future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ually with the verb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pe, think, believe, expect, imag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expression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’m sure, I’m afraid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adverb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robably, perha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believe he will pass the exam.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He will be  probably late.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omises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promise I’ll do it. 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on- the –spot decisions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’m so tired I’ll take a break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Багетная рамка 5"/>
          <p:cNvSpPr/>
          <p:nvPr/>
        </p:nvSpPr>
        <p:spPr>
          <a:xfrm>
            <a:off x="7643880" y="6643800"/>
            <a:ext cx="1499760" cy="2138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857800" cy="621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rea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f you don’t study hard you will fail your  exams.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opes, fears, offers, promises, warnings, requests, predictions, comments, etc.   especially with: expec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hope, believe,  I’m sure, I’m afraid, probab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hope she will help me tomorrow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ings you are not yet sure about or we haven’t  decided to do it ye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May be I’ll go to the theatre on Sunday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/we –sha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used in the interrogative for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when we make suggestions, offers or asking for advice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                       Shall we go out later?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expressions: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tomorrow, the day after tomorrow,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             next week/month/year, tonight, soon, in a week/month, 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             year.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715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ture Continuou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l be+Ving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35776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ctions which will be in progress at a stated futur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This time next year I will be sunbathing in Barb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ctions which will definitely happen in the future as a result of a routine or arran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She will be driving to the Crimea to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we asking politely about someon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s for the near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Will you be watching the show tonigh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715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For the actions which will be finished before a  stated future time</a:t>
            </a:r>
            <a:br>
              <a:rPr sz="2800"/>
            </a:b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She </a:t>
            </a:r>
            <a:r>
              <a:rPr b="1" lang="en-US" sz="2000" spc="-1" strike="noStrike" cap="all">
                <a:solidFill>
                  <a:srgbClr val="c00000"/>
                </a:solidFill>
                <a:latin typeface="Times New Roman"/>
              </a:rPr>
              <a:t>will have written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her report by 5 o’clock</a:t>
            </a:r>
            <a:r>
              <a:rPr b="1" lang="en-US" sz="2000" spc="-1" strike="noStrike" cap="all">
                <a:solidFill>
                  <a:srgbClr val="7030a0"/>
                </a:solidFill>
                <a:latin typeface="Arial"/>
              </a:rPr>
              <a:t>.</a:t>
            </a:r>
            <a:br>
              <a:rPr sz="4000"/>
            </a:br>
            <a:r>
              <a:rPr b="1" lang="en-US" sz="2000" spc="-1" strike="noStrike" cap="all">
                <a:solidFill>
                  <a:srgbClr val="000000"/>
                </a:solidFill>
                <a:latin typeface="Times New Roman"/>
              </a:rPr>
              <a:t>Time expressions used with the future perfect tense:</a:t>
            </a:r>
            <a:br>
              <a:rPr sz="2000"/>
            </a:br>
            <a:r>
              <a:rPr b="1" lang="en-US" sz="2000" spc="-1" strike="noStrike" cap="all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before, by, by then, by the time. Till/until By the time </a:t>
            </a:r>
            <a:br>
              <a:rPr sz="2000"/>
            </a:br>
            <a:br>
              <a:rPr sz="2000"/>
            </a:br>
            <a:r>
              <a:rPr b="1" lang="en-US" sz="2000" spc="-1" strike="noStrike" cap="all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By the time she finishes her essay she </a:t>
            </a:r>
            <a:r>
              <a:rPr b="1" lang="en-US" sz="2000" spc="-1" strike="noStrike" cap="all">
                <a:solidFill>
                  <a:srgbClr val="c00000"/>
                </a:solidFill>
                <a:latin typeface="Times New Roman"/>
              </a:rPr>
              <a:t>will have worked</a:t>
            </a:r>
            <a:br>
              <a:rPr sz="2000"/>
            </a:br>
            <a:r>
              <a:rPr b="1" lang="en-US" sz="2000" spc="-1" strike="noStrike" cap="all">
                <a:solidFill>
                  <a:srgbClr val="c000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 for two hours 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The Future simple is not used after while,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  before,  until, as soon as, after, if, by the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         time, as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1" i="1" lang="en-US" sz="1800" spc="-1" strike="noStrike" cap="all">
                <a:solidFill>
                  <a:srgbClr val="000000"/>
                </a:solidFill>
                <a:latin typeface="Times New Roman"/>
              </a:rPr>
              <a:t>We use present Simple or Present Perfect instead  </a:t>
            </a:r>
            <a:br>
              <a:rPr sz="1800"/>
            </a:br>
            <a:r>
              <a:rPr b="1" i="1" lang="en-US" sz="1800" spc="-1" strike="noStrike" cap="all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800" spc="-1" strike="noStrike" cap="all">
                <a:solidFill>
                  <a:srgbClr val="7030a0"/>
                </a:solidFill>
                <a:latin typeface="Times New Roman"/>
              </a:rPr>
              <a:t>I’ll go to the cinema if I finish (have finished) </a:t>
            </a:r>
            <a:br>
              <a:rPr sz="1800"/>
            </a:br>
            <a:r>
              <a:rPr b="1" lang="en-US" sz="1800" spc="-1" strike="noStrike" cap="all">
                <a:solidFill>
                  <a:srgbClr val="7030a0"/>
                </a:solidFill>
                <a:latin typeface="Times New Roman"/>
              </a:rPr>
              <a:t>                                              cleaning  my room</a:t>
            </a:r>
            <a:r>
              <a:rPr b="1" i="1" lang="en-US" sz="1800" spc="-1" strike="noStrike" cap="all">
                <a:solidFill>
                  <a:srgbClr val="000000"/>
                </a:solidFill>
                <a:latin typeface="Times New Roman"/>
              </a:rPr>
              <a:t>.  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7120" y="214200"/>
            <a:ext cx="813708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ture Perfec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have +V3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500680" cy="535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 cap="all">
                <a:solidFill>
                  <a:srgbClr val="0070c0"/>
                </a:solidFill>
                <a:latin typeface="Arial"/>
              </a:rPr>
              <a:t>er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build –build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er 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work –work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er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teach –teach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er</a:t>
            </a:r>
            <a:br>
              <a:rPr sz="2800"/>
            </a:br>
            <a:r>
              <a:rPr b="1" lang="en-US" sz="4000" spc="-1" strike="noStrike" cap="all">
                <a:solidFill>
                  <a:srgbClr val="0070c0"/>
                </a:solidFill>
                <a:latin typeface="Arial"/>
              </a:rPr>
              <a:t>or </a:t>
            </a:r>
            <a:r>
              <a:rPr b="1" lang="en-US" sz="2800" spc="-1" strike="noStrike" cap="all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act – act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or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invent- invent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or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                  TO CONDUCT - CONDUCT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OR</a:t>
            </a:r>
            <a:br>
              <a:rPr sz="2800"/>
            </a:b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000" spc="-1" strike="noStrike" cap="all">
                <a:solidFill>
                  <a:srgbClr val="0070c0"/>
                </a:solidFill>
                <a:latin typeface="Times New Roman"/>
              </a:rPr>
              <a:t>Ist 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NOVEL –NOVEL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ST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PIANO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–PIAN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ST 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 </a:t>
            </a:r>
            <a:r>
              <a:rPr b="1" lang="en-US" sz="4000" spc="-1" strike="noStrike" cap="all">
                <a:solidFill>
                  <a:srgbClr val="0070c0"/>
                </a:solidFill>
                <a:latin typeface="Times New Roman"/>
              </a:rPr>
              <a:t>IAN  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MUSIC –MUSIC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AN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LIBRARY –LIBRAR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AN 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2087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ming Personal Nouns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  <Words>205</Words>
  <Paragraphs>29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5-01-26T11:49:49Z</dcterms:modified>
  <cp:revision>34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