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87A-37B4-4DEF-BBAB-1AE5BAFA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20D-CAE3-4E64-B49A-8DE2FC38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CFA-EF98-4296-8224-D2BEBB11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4D4-8CBB-4F12-AE6B-4AA71B75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3814-90F5-4F5A-A7CF-7D756EE6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7100-DC56-4B5E-A65C-9AB3F653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5F6-A131-4626-92CB-DBFBC51E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37F7-6A66-4B51-AE11-14F60B31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31C0-E1C4-4484-BADC-CC847135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6756-4881-4C55-A0C3-86BED7C5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12C9-9B65-4300-B3E3-7F681488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3C8-3B9A-4C02-B420-EA5D30C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46F-9343-4724-A683-E9B9B126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DED8-00BB-4D36-A46F-E0EB2FE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9D9F-196F-4FFF-A6F5-5F55A6ED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52D5-8DBF-4514-A247-63C4BFBA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6486-0E0E-4CCB-A347-1416B6E5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2B7BF-C61A-44CA-9F41-75592A21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43E30-714B-4219-8807-259F3D36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1986-44EE-40A1-8A44-662A06C4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AF6C-AC7B-4E04-AF7F-969159B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B9B8-511C-4BA5-BEB1-59471BE7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BB3-5122-4CAA-B224-24EAB5A3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DBC7-27C2-4021-91B1-65694423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D54D-5717-464B-8748-BA0C715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C8DB-2CE5-4A05-8C29-5F0E3D5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B181-1176-4860-A132-578A602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3AEC-C886-4102-950B-9B683F5B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4240-F45B-471E-BCDC-D0150F98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6C698-0970-4A1B-B49F-83D4C5D5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2531-3FFE-463B-BC16-D525E0A4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A31C5-771A-438A-92F3-E9C315CD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E915-B1AF-4B0C-B1F0-270EF167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18B-02F0-4D3F-B4FE-37B8496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C74C3-8364-4BCB-9E7C-92F59C5B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99C1-C76B-4BEB-843C-DA74150E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8F606-E1D7-4B78-B3F5-0A13B2DA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6F5E5-0387-4A13-B57B-59F3317E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703D-D0ED-41A6-B7CD-BA57BD4C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EA06-16AE-4976-A0D7-C7AD4AA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671F-F5F6-4550-AFE9-D1E09BB8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6B24-6287-430B-BEE6-13BC4447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BFAA-98A9-4CF0-BE87-AA58E3AF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9B0-DD65-47ED-BE02-AD364436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4D6-F1B4-4304-B184-BDE27EC5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28D-AC45-4DCB-B05F-4FF37EDE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CD6-9F54-4D52-9701-29E705A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41A-C2E9-4DF5-AE0A-096152E2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914631-878B-43EF-944C-5FF61CDCDE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7D09F7-27A5-4AB9-BED4-594431E5D7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5A36D1-8BFE-42E2-B33E-253BF681DC4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s-E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ECBB11-3217-4209-BB7D-687FD0B7DA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600" spc="-1" strike="noStrike">
                <a:solidFill>
                  <a:schemeClr val="accent4">
                    <a:lumMod val="95000"/>
                    <a:lumOff val="5000"/>
                  </a:schemeClr>
                </a:solidFill>
                <a:latin typeface="Arial"/>
              </a:rPr>
              <a:t>Work and Study</a:t>
            </a:r>
            <a:endParaRPr b="0" lang="es-E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71760" y="235728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5"/>
          <p:cNvSpPr/>
          <p:nvPr/>
        </p:nvSpPr>
        <p:spPr>
          <a:xfrm>
            <a:off x="7643880" y="6643800"/>
            <a:ext cx="1499760" cy="2138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ture Simple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+V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edictions about the future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sually with the verb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hope, think, believe, expect, imag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pression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I’m sure, I’m afraid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adverb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obably, perha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believe he will pass the exam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He will be  probably late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omises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promise I’ll do it. 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on- the –spot decision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’m so tired I’ll take a break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Багетная рамка 5"/>
          <p:cNvSpPr/>
          <p:nvPr/>
        </p:nvSpPr>
        <p:spPr>
          <a:xfrm>
            <a:off x="7643880" y="6643800"/>
            <a:ext cx="1499760" cy="2138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>
            <a:solidFill>
              <a:srgbClr val="8aa5a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857800" cy="621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rea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f you don’t study hard you will fail your  exams.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opes, fears, offers, promises, warnings, requests, predictions, comments, etc.   especially with: expec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hope, believe,  I’m sure, I’m afraid, probabl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 hope she will help me tomorrow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ings you are not yet sure about or we haven’t  decided to do it ye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May be I’ll go to the theatre on Sunday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/we –sha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used in the interrogative for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when we make suggestions, offers or asking for advice.</a:t>
            </a: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         Shall we go out later?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expressions: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omorrow, the day after tomorrow,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next week/month/year, tonight, soon, in a week/month, 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             year.</a:t>
            </a:r>
            <a:endParaRPr b="0" lang="es-E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715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uture Continuou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ll be+Ving</a:t>
            </a: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35776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tions which will be in progress at a stated fut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This time next year I will be sunbathing in Bar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ctions which will definitely happen in the future as a result of a routine or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She will be driving to the Crimea to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we asking politely about someon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s for the nea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Will you be watching the show tonigh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715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For the actions which will be finished before a  stated future time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She </a:t>
            </a: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will have written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her report by 5 o’clock</a:t>
            </a:r>
            <a:r>
              <a:rPr b="1" lang="en-US" sz="2000" spc="-1" strike="noStrike" cap="all">
                <a:solidFill>
                  <a:srgbClr val="7030a0"/>
                </a:solidFill>
                <a:latin typeface="Arial"/>
              </a:rPr>
              <a:t>.</a:t>
            </a:r>
            <a:br>
              <a:rPr sz="4000"/>
            </a:br>
            <a:r>
              <a:rPr b="1" lang="en-US" sz="2000" spc="-1" strike="noStrike" cap="all">
                <a:solidFill>
                  <a:srgbClr val="000000"/>
                </a:solidFill>
                <a:latin typeface="Times New Roman"/>
              </a:rPr>
              <a:t>Time expressions used with the future perfect tense:</a:t>
            </a:r>
            <a:br>
              <a:rPr sz="2000"/>
            </a:br>
            <a:r>
              <a:rPr b="1" lang="en-US" sz="2000" spc="-1" strike="noStrike" cap="all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before, by, by then, by the time. Till/until By the time </a:t>
            </a:r>
            <a:br>
              <a:rPr sz="2000"/>
            </a:br>
            <a:br>
              <a:rPr sz="2000"/>
            </a:br>
            <a:r>
              <a:rPr b="1" lang="en-US" sz="2000" spc="-1" strike="noStrike" cap="all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By the time she finishes her essay she </a:t>
            </a: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will have worked</a:t>
            </a:r>
            <a:br>
              <a:rPr sz="2000"/>
            </a:br>
            <a:r>
              <a:rPr b="1" lang="en-US" sz="2000" spc="-1" strike="noStrike" cap="all">
                <a:solidFill>
                  <a:srgbClr val="c00000"/>
                </a:solidFill>
                <a:latin typeface="Times New Roman"/>
              </a:rPr>
              <a:t>                                </a:t>
            </a:r>
            <a:r>
              <a:rPr b="1" lang="en-US" sz="2000" spc="-1" strike="noStrike" cap="all">
                <a:solidFill>
                  <a:srgbClr val="7030a0"/>
                </a:solidFill>
                <a:latin typeface="Times New Roman"/>
              </a:rPr>
              <a:t> for two hours 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The Future simple is not used after while,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before,  until, as soon as, after, if, by the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       time, as </a:t>
            </a:r>
            <a:br>
              <a:rPr sz="2000"/>
            </a:br>
            <a:r>
              <a:rPr b="1" i="1" lang="en-US" sz="2000" spc="-1" strike="noStrike" cap="all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We use present Simple or Present Perfect instead  </a:t>
            </a:r>
            <a:br>
              <a:rPr sz="1800"/>
            </a:b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1800" spc="-1" strike="noStrike" cap="all">
                <a:solidFill>
                  <a:srgbClr val="7030a0"/>
                </a:solidFill>
                <a:latin typeface="Times New Roman"/>
              </a:rPr>
              <a:t>I’ll go to the cinema if I finish (have finished) </a:t>
            </a:r>
            <a:br>
              <a:rPr sz="1800"/>
            </a:br>
            <a:r>
              <a:rPr b="1" lang="en-US" sz="1800" spc="-1" strike="noStrike" cap="all">
                <a:solidFill>
                  <a:srgbClr val="7030a0"/>
                </a:solidFill>
                <a:latin typeface="Times New Roman"/>
              </a:rPr>
              <a:t>                                              cleaning  my room</a:t>
            </a:r>
            <a:r>
              <a:rPr b="1" i="1" lang="en-US" sz="1800" spc="-1" strike="noStrike" cap="all">
                <a:solidFill>
                  <a:srgbClr val="000000"/>
                </a:solidFill>
                <a:latin typeface="Times New Roman"/>
              </a:rPr>
              <a:t>.  </a:t>
            </a:r>
            <a:endParaRPr b="0" lang="es-E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7120" y="214200"/>
            <a:ext cx="813708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uture Perfec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have +V3</a:t>
            </a: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500680" cy="5357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 cap="all">
                <a:solidFill>
                  <a:srgbClr val="0070c0"/>
                </a:solidFill>
                <a:latin typeface="Arial"/>
              </a:rPr>
              <a:t>er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build –build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work –work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teach –teach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er</a:t>
            </a:r>
            <a:br>
              <a:rPr sz="2800"/>
            </a:br>
            <a:r>
              <a:rPr b="1" lang="en-US" sz="4000" spc="-1" strike="noStrike" cap="all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2800" spc="-1" strike="noStrike" cap="all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act – ac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to invent- inven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             TO CONDUCT - CONDUCT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OR</a:t>
            </a:r>
            <a:br>
              <a:rPr sz="2800"/>
            </a:b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000" spc="-1" strike="noStrike" cap="all">
                <a:solidFill>
                  <a:srgbClr val="0070c0"/>
                </a:solidFill>
                <a:latin typeface="Times New Roman"/>
              </a:rPr>
              <a:t>Ist 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NOVEL –NOVEL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ST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PIANO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–PIAN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ST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</a:t>
            </a:r>
            <a:r>
              <a:rPr b="1" lang="en-US" sz="4000" spc="-1" strike="noStrike" cap="all">
                <a:solidFill>
                  <a:srgbClr val="0070c0"/>
                </a:solidFill>
                <a:latin typeface="Times New Roman"/>
              </a:rPr>
              <a:t>IAN  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MUSIC –MUSIC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AN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 cap="all">
                <a:solidFill>
                  <a:srgbClr val="000000"/>
                </a:solidFill>
                <a:latin typeface="Times New Roman"/>
              </a:rPr>
              <a:t>LIBRARY –LIBRAR</a:t>
            </a: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IAN </a:t>
            </a:r>
            <a:br>
              <a:rPr sz="2800"/>
            </a:br>
            <a:r>
              <a:rPr b="1" lang="en-US" sz="2800" spc="-1" strike="noStrike" cap="all">
                <a:solidFill>
                  <a:srgbClr val="0070c0"/>
                </a:solidFill>
                <a:latin typeface="Times New Roman"/>
              </a:rPr>
              <a:t>               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208720" cy="64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rming Personal Nouns</a:t>
            </a: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  <Words>205</Words>
  <Paragraphs>29</Paragraphs>
  <Company>Toshib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5-01-26T11:49:49Z</dcterms:modified>
  <cp:revision>346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