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8E5-1F5A-4377-9CF1-94764741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F30-73E6-42C7-955F-AEC1F76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5EF-888A-4183-9342-EE5DCF2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4C7-E294-4783-88FA-2275334C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CCE-08D7-4263-B0C1-489522A6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EE07-00A0-4DFE-ADCE-3941D6F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033-F98A-4816-8065-9C6BF4A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79E-CD42-43D0-99FD-404D2D3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A90-2224-405D-B588-C7D1D38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DB04-5A06-4FC3-9A9B-C26F088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BFA4-F232-4469-B5F0-E871D67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A79-4908-442B-A4A8-350C0C7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F8B-E96C-41B9-BA06-8D9D541C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8A95-4D05-44F1-A66F-EA37984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DAB0-D797-41F4-B9BE-DB5E153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3061-0230-4686-9FAA-29FE7ED0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5722-05D8-4268-A909-2C526E21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CD62E-EA5D-40CD-A216-6996632A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6C91-843A-43A3-AA0E-EECE71D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B4B9-99F9-4CD7-89D4-2C15010F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DA21-6926-4B09-A6AA-BB54F39B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82C9-8151-43BC-940A-C8D0903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074-0E2A-4BDA-A15A-C6AF4AEC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EB2D-9390-4E78-95CC-09EE76C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48FB-E478-4B63-A37E-79B398E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C2EA-C113-43BC-AB96-627644A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A76B-0373-4651-94E4-6705F29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E174-7BBD-4B49-B93C-36021DEB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D5FB-543F-40D2-8DBA-342221AE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83AB-0476-4626-8BD3-8BAB2980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9175-99AB-429E-B0B0-30564295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01D4-6E1E-41EA-9720-4E112BD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2B37-D3A2-45BB-9113-2F756DF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8B0-E1FA-4E79-AB1D-16703A84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B34F-DFB1-493C-8FF8-98961271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E8D1-AB75-4EA3-B67D-F47B6DD8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950E-75E9-4036-AD41-3F135637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C850-3BD8-4E6A-A2FF-6070A38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E94D-0184-49E8-8C94-89B2839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0F7D-BA34-43C0-AF6A-12FC6E3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5E6B-E1FE-4CBE-B2FA-72AA9153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9748-F5F7-43FF-8580-453A6011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3F14-6E04-4257-BC42-616C723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629-5DEF-4316-B57E-1138F97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A4F-6A2D-4235-8B47-1891E1F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7DE-86BD-4988-A3BF-882E9CF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0BB-AFD1-4A8A-841C-74794EC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A3B-9B67-43F2-BCCB-2F26EA3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7BF677-85A9-4A5D-B0FA-9E239EE3C6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5A3F55-50BE-4E79-B57F-6572CE74BD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FBF46-0175-4EF5-90D9-3F20D99609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75C3B2-B49C-4BA6-B238-D209EC012D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4">
                    <a:lumMod val="95000"/>
                    <a:lumOff val="5000"/>
                  </a:schemeClr>
                </a:solidFill>
                <a:latin typeface="Arial"/>
              </a:rPr>
              <a:t>Work and Study</a:t>
            </a:r>
            <a:endParaRPr b="0" lang="es-E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71760" y="235728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Simple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+V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edictions about the future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ually with the 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pe, think, believe, expect, imag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pression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’m sure, I’m afraid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ad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obably, perh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believe he will pass the exam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He will be  probably late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mises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promise I’ll do it.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on- the –spot decisio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’m so tired I’ll take a break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857800" cy="621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rea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f you don’t study hard you will fail your  exams.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opes, fears, offers, promises, warnings, requests, predictions, comments, etc.   especially with: expec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hope, believe,  I’m sure, I’m afraid, probab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hope she will help me tomorrow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ngs you are not yet sure about or we haven’t  decided to do it ye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May be I’ll go to the theatre on Sunday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/we –sh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used in the interrogative for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when we make suggestions, offers or asking for advice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       Shall we go out later?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expressions: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omorrow, the day after tomorrow,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next week/month/year, tonight, soon, in a week/month, 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year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715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Continuo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be+Ving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35776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be in progress at a stated fut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This time next year I will be sunbathing in Bar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definitely happen in the future as a result of a routine or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She will be driving to the Crimea 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e asking politely about someon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the nea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ill you be watching the show tonigh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715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For the actions which will be finished before a  stated future time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ritten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her report by 5 o’clock</a:t>
            </a:r>
            <a:r>
              <a:rPr b="1" lang="en-US" sz="2000" spc="-1" strike="noStrike" cap="all">
                <a:solidFill>
                  <a:srgbClr val="7030a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Time expressions used with the future perfect tense:</a:t>
            </a:r>
            <a:br>
              <a:rPr sz="2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before, by, by then, by the time. Till/until By the time </a:t>
            </a:r>
            <a:br>
              <a:rPr sz="2000"/>
            </a:br>
            <a:br>
              <a:rPr sz="2000"/>
            </a:br>
            <a:r>
              <a:rPr b="1" lang="en-US" sz="2000" spc="-1" strike="noStrike" cap="all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By the time she finishes her essay 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orked</a:t>
            </a:r>
            <a:br>
              <a:rPr sz="2000"/>
            </a:b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 for two hours 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The Future simple is not used after while,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before,  until, as soon as, after, if, by the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      time, as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We use present Simple or Present Perfect instead  </a:t>
            </a:r>
            <a:br>
              <a:rPr sz="1800"/>
            </a:b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I’ll go to the cinema if I finish (have finished) </a:t>
            </a:r>
            <a:br>
              <a:rPr sz="1800"/>
            </a:b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                                              cleaning  my room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.  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214200"/>
            <a:ext cx="81370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ture Perfe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have +V3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500680" cy="535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er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build –build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work –work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teach –teach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2800" spc="-1" strike="noStrike" cap="all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act – a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invent- inven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   TO CONDUCT - CONDU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NOVEL –NOVEL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PIANO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–PIAN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AN 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MUSIC –MUSIC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LIBRARY –LIBRAR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087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ming Personal Nou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  <Words>205</Words>
  <Paragraphs>29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1-26T11:49:49Z</dcterms:modified>
  <cp:revision>34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