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drawing2.xml" ContentType="application/vnd.ms-office.drawingml.diagramDrawing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drawing1.xml" ContentType="application/vnd.ms-office.drawingml.diagramDrawing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rawing5.xml" ContentType="application/vnd.ms-office.drawingml.diagramDrawing+xml"/>
  <Override PartName="/ppt/diagrams/colors5.xml" ContentType="application/vnd.openxmlformats-officedocument.drawingml.diagramColors+xml"/>
  <Override PartName="/ppt/diagrams/data1.xml" ContentType="application/vnd.openxmlformats-officedocument.drawingml.diagramData+xml"/>
  <Override PartName="/ppt/diagrams/layout5.xml" ContentType="application/vnd.openxmlformats-officedocument.drawingml.diagramLayout+xml"/>
  <Override PartName="/ppt/diagrams/data4.xml" ContentType="application/vnd.openxmlformats-officedocument.drawingml.diagramData+xml"/>
  <Override PartName="/ppt/diagrams/data5.xml" ContentType="application/vnd.openxmlformats-officedocument.drawingml.diagramData+xml"/>
  <Override PartName="/ppt/diagrams/drawing4.xml" ContentType="application/vnd.ms-office.drawingml.diagramDrawing+xml"/>
  <Override PartName="/ppt/diagrams/quickStyle5.xml" ContentType="application/vnd.openxmlformats-officedocument.drawingml.diagramStyle+xml"/>
  <Override PartName="/ppt/diagrams/colors4.xml" ContentType="application/vnd.openxmlformats-officedocument.drawingml.diagramColors+xml"/>
  <Override PartName="/ppt/diagrams/layout4.xml" ContentType="application/vnd.openxmlformats-officedocument.drawingml.diagramLayout+xml"/>
  <Override PartName="/ppt/diagrams/drawing3.xml" ContentType="application/vnd.ms-office.drawingml.diagramDrawing+xml"/>
  <Override PartName="/ppt/diagrams/quickStyle4.xml" ContentType="application/vnd.openxmlformats-officedocument.drawingml.diagramStyle+xml"/>
  <Override PartName="/ppt/diagrams/colors3.xml" ContentType="application/vnd.openxmlformats-officedocument.drawingml.diagramColor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C547F375-E0AA-4FC0-B360-5A79D78F5D2C}" type="doc">
      <dgm:prSet loTypeId="urn:microsoft.com/office/officeart/2005/8/layout/pyramid2" loCatId="list" qsTypeId="urn:microsoft.com/office/officeart/2005/8/quickstyle/simple1" qsCatId="simple" csTypeId="urn:microsoft.com/office/officeart/2005/8/colors/accent1_2" csCatId="accent1" phldr="1"/>
      <dgm:spPr/>
    </dgm:pt>
    <dgm:pt modelId="{EE6B070F-9157-4254-AE7E-B70FC3068CE5}">
      <dgm:prSet phldrT="[Текст]" custT="1"/>
      <dgm:spPr/>
      <dgm:t>
        <a:bodyPr/>
        <a:lstStyle/>
        <a:p>
          <a:r>
            <a:rPr lang="ru-RU" sz="2000" dirty="0" smtClean="0">
              <a:latin typeface="Times New Roman" pitchFamily="18" charset="0"/>
              <a:cs typeface="Times New Roman" pitchFamily="18" charset="0"/>
            </a:rPr>
            <a:t>В Китае понимают, что от того, насколько успешно удастся решить  продовольственную проблему и обеспечить продовольственную независимость страны, во многом зависят и перспективы модернизации КНР и, в конечном счете, стабильность развития китайского общества</a:t>
          </a:r>
          <a:endParaRPr lang="ru-RU" sz="2000" dirty="0">
            <a:latin typeface="Times New Roman" pitchFamily="18" charset="0"/>
            <a:cs typeface="Times New Roman" pitchFamily="18" charset="0"/>
          </a:endParaRPr>
        </a:p>
      </dgm:t>
    </dgm:pt>
    <dgm:pt modelId="{3B8C21D4-69C0-49DD-99B2-8F361A8CCFC7}" type="parTrans" cxnId="{87D31BC6-4207-4865-9EC0-E984D338DE1B}">
      <dgm:prSet/>
      <dgm:spPr/>
      <dgm:t>
        <a:bodyPr/>
        <a:lstStyle/>
        <a:p>
          <a:endParaRPr lang="ru-RU"/>
        </a:p>
      </dgm:t>
    </dgm:pt>
    <dgm:pt modelId="{43967F93-5146-41CA-85F3-FF164DE76E9A}" type="sibTrans" cxnId="{87D31BC6-4207-4865-9EC0-E984D338DE1B}">
      <dgm:prSet/>
      <dgm:spPr/>
      <dgm:t>
        <a:bodyPr/>
        <a:lstStyle/>
        <a:p>
          <a:endParaRPr lang="ru-RU"/>
        </a:p>
      </dgm:t>
    </dgm:pt>
    <dgm:pt modelId="{0271729E-C8CF-411F-94AD-896ABF1B7666}">
      <dgm:prSet phldrT="[Текст]" custT="1"/>
      <dgm:spPr/>
      <dgm:t>
        <a:bodyPr/>
        <a:lstStyle/>
        <a:p>
          <a:r>
            <a:rPr lang="ru-RU" sz="2000" dirty="0" smtClean="0">
              <a:latin typeface="Times New Roman" pitchFamily="18" charset="0"/>
              <a:cs typeface="Times New Roman" pitchFamily="18" charset="0"/>
            </a:rPr>
            <a:t>Однако если закупки за рубежом начинают превышать 20% и при этом возможности страны оплачивать поставки по импорту недостаточны, то её продовольственная безопасность оказывается под  угрозой.</a:t>
          </a:r>
          <a:endParaRPr lang="ru-RU" sz="2000" dirty="0">
            <a:latin typeface="Times New Roman" pitchFamily="18" charset="0"/>
            <a:cs typeface="Times New Roman" pitchFamily="18" charset="0"/>
          </a:endParaRPr>
        </a:p>
      </dgm:t>
    </dgm:pt>
    <dgm:pt modelId="{28E808B4-D122-4624-B48A-6FFE3A874846}" type="parTrans" cxnId="{4246CC76-CE41-460C-9F2B-B0480A3BEA16}">
      <dgm:prSet/>
      <dgm:spPr/>
      <dgm:t>
        <a:bodyPr/>
        <a:lstStyle/>
        <a:p>
          <a:endParaRPr lang="ru-RU"/>
        </a:p>
      </dgm:t>
    </dgm:pt>
    <dgm:pt modelId="{1BFC1EAA-077C-40ED-94E0-B45F691CED90}" type="sibTrans" cxnId="{4246CC76-CE41-460C-9F2B-B0480A3BEA16}">
      <dgm:prSet/>
      <dgm:spPr/>
      <dgm:t>
        <a:bodyPr/>
        <a:lstStyle/>
        <a:p>
          <a:endParaRPr lang="ru-RU"/>
        </a:p>
      </dgm:t>
    </dgm:pt>
    <dgm:pt modelId="{1C588EFA-F18D-43B0-873D-68CDECD436A5}" type="pres">
      <dgm:prSet presAssocID="{C547F375-E0AA-4FC0-B360-5A79D78F5D2C}" presName="compositeShape" presStyleCnt="0">
        <dgm:presLayoutVars>
          <dgm:dir/>
          <dgm:resizeHandles/>
        </dgm:presLayoutVars>
      </dgm:prSet>
      <dgm:spPr/>
    </dgm:pt>
    <dgm:pt modelId="{A24BE08E-7114-4A5C-940B-973A9906D4D9}" type="pres">
      <dgm:prSet presAssocID="{C547F375-E0AA-4FC0-B360-5A79D78F5D2C}" presName="pyramid" presStyleLbl="node1" presStyleIdx="0" presStyleCnt="1"/>
      <dgm:spPr>
        <a:solidFill>
          <a:srgbClr val="C00000"/>
        </a:solidFill>
      </dgm:spPr>
    </dgm:pt>
    <dgm:pt modelId="{4D08F383-9CF0-492C-8005-3B56F39AC00A}" type="pres">
      <dgm:prSet presAssocID="{C547F375-E0AA-4FC0-B360-5A79D78F5D2C}" presName="theList" presStyleCnt="0"/>
      <dgm:spPr/>
    </dgm:pt>
    <dgm:pt modelId="{E1EFD2D1-03F2-4F4F-844C-A15297A5D067}" type="pres">
      <dgm:prSet presAssocID="{EE6B070F-9157-4254-AE7E-B70FC3068CE5}" presName="aNode" presStyleLbl="fgAcc1" presStyleIdx="0" presStyleCnt="2" custScaleX="15205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FAF499B-CA99-4DEE-B1C3-3F2EA658405C}" type="pres">
      <dgm:prSet presAssocID="{EE6B070F-9157-4254-AE7E-B70FC3068CE5}" presName="aSpace" presStyleCnt="0"/>
      <dgm:spPr/>
    </dgm:pt>
    <dgm:pt modelId="{BADCE81E-C5AF-4080-BF1C-2D9294A72C29}" type="pres">
      <dgm:prSet presAssocID="{0271729E-C8CF-411F-94AD-896ABF1B7666}" presName="aNode" presStyleLbl="fgAcc1" presStyleIdx="1" presStyleCnt="2" custScaleX="12602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8CB0EBA-1606-4404-BC11-D660902999BE}" type="pres">
      <dgm:prSet presAssocID="{0271729E-C8CF-411F-94AD-896ABF1B7666}" presName="aSpace" presStyleCnt="0"/>
      <dgm:spPr/>
    </dgm:pt>
  </dgm:ptLst>
  <dgm:cxnLst>
    <dgm:cxn modelId="{87D31BC6-4207-4865-9EC0-E984D338DE1B}" srcId="{C547F375-E0AA-4FC0-B360-5A79D78F5D2C}" destId="{EE6B070F-9157-4254-AE7E-B70FC3068CE5}" srcOrd="0" destOrd="0" parTransId="{3B8C21D4-69C0-49DD-99B2-8F361A8CCFC7}" sibTransId="{43967F93-5146-41CA-85F3-FF164DE76E9A}"/>
    <dgm:cxn modelId="{97BDBF61-9F52-4071-A6E1-9AF54892F9FB}" type="presOf" srcId="{EE6B070F-9157-4254-AE7E-B70FC3068CE5}" destId="{E1EFD2D1-03F2-4F4F-844C-A15297A5D067}" srcOrd="0" destOrd="0" presId="urn:microsoft.com/office/officeart/2005/8/layout/pyramid2"/>
    <dgm:cxn modelId="{724B731D-8A2C-4B5A-86D1-7591EE9A83F5}" type="presOf" srcId="{C547F375-E0AA-4FC0-B360-5A79D78F5D2C}" destId="{1C588EFA-F18D-43B0-873D-68CDECD436A5}" srcOrd="0" destOrd="0" presId="urn:microsoft.com/office/officeart/2005/8/layout/pyramid2"/>
    <dgm:cxn modelId="{4246CC76-CE41-460C-9F2B-B0480A3BEA16}" srcId="{C547F375-E0AA-4FC0-B360-5A79D78F5D2C}" destId="{0271729E-C8CF-411F-94AD-896ABF1B7666}" srcOrd="1" destOrd="0" parTransId="{28E808B4-D122-4624-B48A-6FFE3A874846}" sibTransId="{1BFC1EAA-077C-40ED-94E0-B45F691CED90}"/>
    <dgm:cxn modelId="{CB886F9B-3413-49E3-808C-79F1E339FED0}" type="presOf" srcId="{0271729E-C8CF-411F-94AD-896ABF1B7666}" destId="{BADCE81E-C5AF-4080-BF1C-2D9294A72C29}" srcOrd="0" destOrd="0" presId="urn:microsoft.com/office/officeart/2005/8/layout/pyramid2"/>
    <dgm:cxn modelId="{EAFA6F9C-FD3F-4310-B655-FC70D82512D5}" type="presParOf" srcId="{1C588EFA-F18D-43B0-873D-68CDECD436A5}" destId="{A24BE08E-7114-4A5C-940B-973A9906D4D9}" srcOrd="0" destOrd="0" presId="urn:microsoft.com/office/officeart/2005/8/layout/pyramid2"/>
    <dgm:cxn modelId="{335DFD61-5571-4196-B5B7-915569F8B3EF}" type="presParOf" srcId="{1C588EFA-F18D-43B0-873D-68CDECD436A5}" destId="{4D08F383-9CF0-492C-8005-3B56F39AC00A}" srcOrd="1" destOrd="0" presId="urn:microsoft.com/office/officeart/2005/8/layout/pyramid2"/>
    <dgm:cxn modelId="{282CB093-0B98-4B83-9A8B-689B862562D8}" type="presParOf" srcId="{4D08F383-9CF0-492C-8005-3B56F39AC00A}" destId="{E1EFD2D1-03F2-4F4F-844C-A15297A5D067}" srcOrd="0" destOrd="0" presId="urn:microsoft.com/office/officeart/2005/8/layout/pyramid2"/>
    <dgm:cxn modelId="{D04AC325-9E3B-495E-9A76-9062E895E7E5}" type="presParOf" srcId="{4D08F383-9CF0-492C-8005-3B56F39AC00A}" destId="{1FAF499B-CA99-4DEE-B1C3-3F2EA658405C}" srcOrd="1" destOrd="0" presId="urn:microsoft.com/office/officeart/2005/8/layout/pyramid2"/>
    <dgm:cxn modelId="{85617FDF-9D6C-46B4-95C9-C6428B8022FB}" type="presParOf" srcId="{4D08F383-9CF0-492C-8005-3B56F39AC00A}" destId="{BADCE81E-C5AF-4080-BF1C-2D9294A72C29}" srcOrd="2" destOrd="0" presId="urn:microsoft.com/office/officeart/2005/8/layout/pyramid2"/>
    <dgm:cxn modelId="{6235E127-718D-44DA-A839-394035DE9051}" type="presParOf" srcId="{4D08F383-9CF0-492C-8005-3B56F39AC00A}" destId="{F8CB0EBA-1606-4404-BC11-D660902999BE}" srcOrd="3" destOrd="0" presId="urn:microsoft.com/office/officeart/2005/8/layout/pyramid2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5AC5894A-353F-4765-9C28-9B544CE2BB71}" type="doc">
      <dgm:prSet loTypeId="urn:microsoft.com/office/officeart/2005/8/layout/chevron2" loCatId="list" qsTypeId="urn:microsoft.com/office/officeart/2005/8/quickstyle/simple1" qsCatId="simple" csTypeId="urn:microsoft.com/office/officeart/2005/8/colors/colorful2" csCatId="colorful" phldr="1"/>
      <dgm:spPr/>
      <dgm:t>
        <a:bodyPr/>
        <a:lstStyle/>
        <a:p>
          <a:endParaRPr lang="ru-RU"/>
        </a:p>
      </dgm:t>
    </dgm:pt>
    <dgm:pt modelId="{A5533A86-6352-4331-AEB6-AEC6E5470BAC}">
      <dgm:prSet phldrT="[Текст]" phldr="1"/>
      <dgm:spPr/>
      <dgm:t>
        <a:bodyPr/>
        <a:lstStyle/>
        <a:p>
          <a:endParaRPr lang="ru-RU"/>
        </a:p>
      </dgm:t>
    </dgm:pt>
    <dgm:pt modelId="{AB4AAC57-1330-45BA-9ED8-E12D73E8659D}" type="parTrans" cxnId="{CA18D072-67D6-49AE-B7AF-8125B9CBFDF8}">
      <dgm:prSet/>
      <dgm:spPr/>
      <dgm:t>
        <a:bodyPr/>
        <a:lstStyle/>
        <a:p>
          <a:endParaRPr lang="ru-RU"/>
        </a:p>
      </dgm:t>
    </dgm:pt>
    <dgm:pt modelId="{CF40C703-D56B-4C2B-852C-9D9CB8778E54}" type="sibTrans" cxnId="{CA18D072-67D6-49AE-B7AF-8125B9CBFDF8}">
      <dgm:prSet/>
      <dgm:spPr/>
      <dgm:t>
        <a:bodyPr/>
        <a:lstStyle/>
        <a:p>
          <a:endParaRPr lang="ru-RU"/>
        </a:p>
      </dgm:t>
    </dgm:pt>
    <dgm:pt modelId="{24F259FA-97F7-4C06-BAAB-7C5D598F52E3}">
      <dgm:prSet phldrT="[Текст]"/>
      <dgm:spPr/>
      <dgm:t>
        <a:bodyPr/>
        <a:lstStyle/>
        <a:p>
          <a:r>
            <a:rPr lang="ru-RU" b="1" dirty="0" smtClean="0"/>
            <a:t>В Китае продовольственная безопасность в основном гарантирована. Степень самоснабжения продовольствием превышает 95%. </a:t>
          </a:r>
          <a:endParaRPr lang="ru-RU" dirty="0"/>
        </a:p>
      </dgm:t>
    </dgm:pt>
    <dgm:pt modelId="{D606E7E8-AA69-4286-A659-6144A5C8BA0A}" type="parTrans" cxnId="{4E326786-B893-437D-9F0B-FA08FB327B52}">
      <dgm:prSet/>
      <dgm:spPr/>
      <dgm:t>
        <a:bodyPr/>
        <a:lstStyle/>
        <a:p>
          <a:endParaRPr lang="ru-RU"/>
        </a:p>
      </dgm:t>
    </dgm:pt>
    <dgm:pt modelId="{2731000C-D31C-48AE-84AC-34757DEF31C9}" type="sibTrans" cxnId="{4E326786-B893-437D-9F0B-FA08FB327B52}">
      <dgm:prSet/>
      <dgm:spPr/>
      <dgm:t>
        <a:bodyPr/>
        <a:lstStyle/>
        <a:p>
          <a:endParaRPr lang="ru-RU"/>
        </a:p>
      </dgm:t>
    </dgm:pt>
    <dgm:pt modelId="{665B84F2-4AAF-4DD3-B454-9266A9D533EC}">
      <dgm:prSet phldrT="[Текст]" phldr="1"/>
      <dgm:spPr/>
      <dgm:t>
        <a:bodyPr/>
        <a:lstStyle/>
        <a:p>
          <a:endParaRPr lang="ru-RU"/>
        </a:p>
      </dgm:t>
    </dgm:pt>
    <dgm:pt modelId="{416C4AAA-2676-40CA-8903-4356E9B720AA}" type="parTrans" cxnId="{45713ADD-B700-4806-88F0-F1FAC22105BA}">
      <dgm:prSet/>
      <dgm:spPr/>
      <dgm:t>
        <a:bodyPr/>
        <a:lstStyle/>
        <a:p>
          <a:endParaRPr lang="ru-RU"/>
        </a:p>
      </dgm:t>
    </dgm:pt>
    <dgm:pt modelId="{6B8C9928-73C4-4BAA-A4D4-0E827D21EE80}" type="sibTrans" cxnId="{45713ADD-B700-4806-88F0-F1FAC22105BA}">
      <dgm:prSet/>
      <dgm:spPr/>
      <dgm:t>
        <a:bodyPr/>
        <a:lstStyle/>
        <a:p>
          <a:endParaRPr lang="ru-RU"/>
        </a:p>
      </dgm:t>
    </dgm:pt>
    <dgm:pt modelId="{E9FC57E8-EA1B-4115-BCB4-E3EF898207CB}">
      <dgm:prSet phldrT="[Текст]"/>
      <dgm:spPr/>
      <dgm:t>
        <a:bodyPr/>
        <a:lstStyle/>
        <a:p>
          <a:r>
            <a:rPr lang="ru-RU" b="1" dirty="0" smtClean="0"/>
            <a:t>Но следует принимать меры предосторожности заблаговременно, рассматривая проблему обеспечения 1,3-миллиардного населения питанием как задачу первой значимости в управлении государством. </a:t>
          </a:r>
          <a:endParaRPr lang="ru-RU" dirty="0"/>
        </a:p>
      </dgm:t>
    </dgm:pt>
    <dgm:pt modelId="{F433F0C6-1AD7-4734-977E-EB3802E069AA}" type="parTrans" cxnId="{5F1D03AE-F107-4A8A-8F38-217F3E75A45B}">
      <dgm:prSet/>
      <dgm:spPr/>
      <dgm:t>
        <a:bodyPr/>
        <a:lstStyle/>
        <a:p>
          <a:endParaRPr lang="ru-RU"/>
        </a:p>
      </dgm:t>
    </dgm:pt>
    <dgm:pt modelId="{FD37EC10-6C2A-4F44-96BC-23B546D0F05C}" type="sibTrans" cxnId="{5F1D03AE-F107-4A8A-8F38-217F3E75A45B}">
      <dgm:prSet/>
      <dgm:spPr/>
      <dgm:t>
        <a:bodyPr/>
        <a:lstStyle/>
        <a:p>
          <a:endParaRPr lang="ru-RU"/>
        </a:p>
      </dgm:t>
    </dgm:pt>
    <dgm:pt modelId="{C0B633FC-1782-4655-B297-36565DFA4897}">
      <dgm:prSet phldrT="[Текст]" phldr="1"/>
      <dgm:spPr/>
      <dgm:t>
        <a:bodyPr/>
        <a:lstStyle/>
        <a:p>
          <a:endParaRPr lang="ru-RU"/>
        </a:p>
      </dgm:t>
    </dgm:pt>
    <dgm:pt modelId="{00B4CCFD-1A82-439D-82CB-1C91A746A4D7}" type="parTrans" cxnId="{3792B8B0-84F4-4DE4-BF14-983A8164A64B}">
      <dgm:prSet/>
      <dgm:spPr/>
      <dgm:t>
        <a:bodyPr/>
        <a:lstStyle/>
        <a:p>
          <a:endParaRPr lang="ru-RU"/>
        </a:p>
      </dgm:t>
    </dgm:pt>
    <dgm:pt modelId="{D540D3C6-14AB-4605-8DE6-03DEF7E4ECE9}" type="sibTrans" cxnId="{3792B8B0-84F4-4DE4-BF14-983A8164A64B}">
      <dgm:prSet/>
      <dgm:spPr/>
      <dgm:t>
        <a:bodyPr/>
        <a:lstStyle/>
        <a:p>
          <a:endParaRPr lang="ru-RU"/>
        </a:p>
      </dgm:t>
    </dgm:pt>
    <dgm:pt modelId="{185F1714-F14A-4AF1-87C1-F98B37464A90}">
      <dgm:prSet phldrT="[Текст]"/>
      <dgm:spPr/>
      <dgm:t>
        <a:bodyPr/>
        <a:lstStyle/>
        <a:p>
          <a:r>
            <a:rPr lang="ru-RU" b="1" dirty="0" smtClean="0"/>
            <a:t>Китаю ни в коем случае нельзя рассчитывать на зарубежные страны для обеспечения себя зерном.</a:t>
          </a:r>
          <a:br>
            <a:rPr lang="ru-RU" b="1" dirty="0" smtClean="0"/>
          </a:br>
          <a:endParaRPr lang="ru-RU" dirty="0"/>
        </a:p>
      </dgm:t>
    </dgm:pt>
    <dgm:pt modelId="{B4F7339C-50CE-4699-942E-7D9EA7378F6E}" type="parTrans" cxnId="{D0332970-3E0D-4E4F-AB69-18E4CB125D75}">
      <dgm:prSet/>
      <dgm:spPr/>
      <dgm:t>
        <a:bodyPr/>
        <a:lstStyle/>
        <a:p>
          <a:endParaRPr lang="ru-RU"/>
        </a:p>
      </dgm:t>
    </dgm:pt>
    <dgm:pt modelId="{899A8DF3-7C4A-432C-941A-C89F7518B639}" type="sibTrans" cxnId="{D0332970-3E0D-4E4F-AB69-18E4CB125D75}">
      <dgm:prSet/>
      <dgm:spPr/>
      <dgm:t>
        <a:bodyPr/>
        <a:lstStyle/>
        <a:p>
          <a:endParaRPr lang="ru-RU"/>
        </a:p>
      </dgm:t>
    </dgm:pt>
    <dgm:pt modelId="{4DD105EB-B4C2-42E2-9DD1-683F01205178}" type="pres">
      <dgm:prSet presAssocID="{5AC5894A-353F-4765-9C28-9B544CE2BB71}" presName="linearFlow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F99E1A83-DA23-40CC-9C93-235DE9D47ADE}" type="pres">
      <dgm:prSet presAssocID="{A5533A86-6352-4331-AEB6-AEC6E5470BAC}" presName="composite" presStyleCnt="0"/>
      <dgm:spPr/>
    </dgm:pt>
    <dgm:pt modelId="{02033FE6-A0F4-4E47-8146-EFF6B7D92E25}" type="pres">
      <dgm:prSet presAssocID="{A5533A86-6352-4331-AEB6-AEC6E5470BAC}" presName="parentText" presStyleLbl="align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68A543C-568D-4311-BBD1-49FAB5659A1C}" type="pres">
      <dgm:prSet presAssocID="{A5533A86-6352-4331-AEB6-AEC6E5470BAC}" presName="descendantText" presStyleLbl="alignAcc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8E902DD-0691-4918-B31A-E4781DA843FC}" type="pres">
      <dgm:prSet presAssocID="{CF40C703-D56B-4C2B-852C-9D9CB8778E54}" presName="sp" presStyleCnt="0"/>
      <dgm:spPr/>
    </dgm:pt>
    <dgm:pt modelId="{0CE7B26C-27F5-4995-8D1F-FCA89D80E2C5}" type="pres">
      <dgm:prSet presAssocID="{665B84F2-4AAF-4DD3-B454-9266A9D533EC}" presName="composite" presStyleCnt="0"/>
      <dgm:spPr/>
    </dgm:pt>
    <dgm:pt modelId="{E9C8DFD3-62CA-4C3A-9C21-74513FE9EDD6}" type="pres">
      <dgm:prSet presAssocID="{665B84F2-4AAF-4DD3-B454-9266A9D533EC}" presName="parentText" presStyleLbl="align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31EFBA2-D794-4730-9483-A332380A304A}" type="pres">
      <dgm:prSet presAssocID="{665B84F2-4AAF-4DD3-B454-9266A9D533EC}" presName="descendantText" presStyleLbl="alignAcc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5E2AADD-3C14-416D-9CCE-23BF308C5D52}" type="pres">
      <dgm:prSet presAssocID="{6B8C9928-73C4-4BAA-A4D4-0E827D21EE80}" presName="sp" presStyleCnt="0"/>
      <dgm:spPr/>
    </dgm:pt>
    <dgm:pt modelId="{4E1DF57B-E405-4504-8828-FC98DF1CE684}" type="pres">
      <dgm:prSet presAssocID="{C0B633FC-1782-4655-B297-36565DFA4897}" presName="composite" presStyleCnt="0"/>
      <dgm:spPr/>
    </dgm:pt>
    <dgm:pt modelId="{3687D1DC-70C0-4C38-9C81-61D8AC48E04C}" type="pres">
      <dgm:prSet presAssocID="{C0B633FC-1782-4655-B297-36565DFA4897}" presName="parentText" presStyleLbl="align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3320F9-6CB2-4370-A1E2-8D515EFEEBD6}" type="pres">
      <dgm:prSet presAssocID="{C0B633FC-1782-4655-B297-36565DFA4897}" presName="descendantText" presStyleLbl="alignAcc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D6B941BA-D6E5-4394-B3A3-18E78D39EF2A}" type="presOf" srcId="{24F259FA-97F7-4C06-BAAB-7C5D598F52E3}" destId="{968A543C-568D-4311-BBD1-49FAB5659A1C}" srcOrd="0" destOrd="0" presId="urn:microsoft.com/office/officeart/2005/8/layout/chevron2"/>
    <dgm:cxn modelId="{80440554-9B4E-4A5D-B95C-533C0FE4DC61}" type="presOf" srcId="{C0B633FC-1782-4655-B297-36565DFA4897}" destId="{3687D1DC-70C0-4C38-9C81-61D8AC48E04C}" srcOrd="0" destOrd="0" presId="urn:microsoft.com/office/officeart/2005/8/layout/chevron2"/>
    <dgm:cxn modelId="{320234D0-B903-48B5-86B7-9569B5E97EF5}" type="presOf" srcId="{185F1714-F14A-4AF1-87C1-F98B37464A90}" destId="{8B3320F9-6CB2-4370-A1E2-8D515EFEEBD6}" srcOrd="0" destOrd="0" presId="urn:microsoft.com/office/officeart/2005/8/layout/chevron2"/>
    <dgm:cxn modelId="{4C7A7616-6F55-4DC6-8D0D-413C5D0AEBC5}" type="presOf" srcId="{E9FC57E8-EA1B-4115-BCB4-E3EF898207CB}" destId="{931EFBA2-D794-4730-9483-A332380A304A}" srcOrd="0" destOrd="0" presId="urn:microsoft.com/office/officeart/2005/8/layout/chevron2"/>
    <dgm:cxn modelId="{D0332970-3E0D-4E4F-AB69-18E4CB125D75}" srcId="{C0B633FC-1782-4655-B297-36565DFA4897}" destId="{185F1714-F14A-4AF1-87C1-F98B37464A90}" srcOrd="0" destOrd="0" parTransId="{B4F7339C-50CE-4699-942E-7D9EA7378F6E}" sibTransId="{899A8DF3-7C4A-432C-941A-C89F7518B639}"/>
    <dgm:cxn modelId="{3792B8B0-84F4-4DE4-BF14-983A8164A64B}" srcId="{5AC5894A-353F-4765-9C28-9B544CE2BB71}" destId="{C0B633FC-1782-4655-B297-36565DFA4897}" srcOrd="2" destOrd="0" parTransId="{00B4CCFD-1A82-439D-82CB-1C91A746A4D7}" sibTransId="{D540D3C6-14AB-4605-8DE6-03DEF7E4ECE9}"/>
    <dgm:cxn modelId="{4E326786-B893-437D-9F0B-FA08FB327B52}" srcId="{A5533A86-6352-4331-AEB6-AEC6E5470BAC}" destId="{24F259FA-97F7-4C06-BAAB-7C5D598F52E3}" srcOrd="0" destOrd="0" parTransId="{D606E7E8-AA69-4286-A659-6144A5C8BA0A}" sibTransId="{2731000C-D31C-48AE-84AC-34757DEF31C9}"/>
    <dgm:cxn modelId="{45713ADD-B700-4806-88F0-F1FAC22105BA}" srcId="{5AC5894A-353F-4765-9C28-9B544CE2BB71}" destId="{665B84F2-4AAF-4DD3-B454-9266A9D533EC}" srcOrd="1" destOrd="0" parTransId="{416C4AAA-2676-40CA-8903-4356E9B720AA}" sibTransId="{6B8C9928-73C4-4BAA-A4D4-0E827D21EE80}"/>
    <dgm:cxn modelId="{9B47A06E-0261-4DBF-8E42-998648AB89B7}" type="presOf" srcId="{A5533A86-6352-4331-AEB6-AEC6E5470BAC}" destId="{02033FE6-A0F4-4E47-8146-EFF6B7D92E25}" srcOrd="0" destOrd="0" presId="urn:microsoft.com/office/officeart/2005/8/layout/chevron2"/>
    <dgm:cxn modelId="{B21F9A90-E3C0-4A52-9DCA-9A66CB7E1FE0}" type="presOf" srcId="{665B84F2-4AAF-4DD3-B454-9266A9D533EC}" destId="{E9C8DFD3-62CA-4C3A-9C21-74513FE9EDD6}" srcOrd="0" destOrd="0" presId="urn:microsoft.com/office/officeart/2005/8/layout/chevron2"/>
    <dgm:cxn modelId="{CA18D072-67D6-49AE-B7AF-8125B9CBFDF8}" srcId="{5AC5894A-353F-4765-9C28-9B544CE2BB71}" destId="{A5533A86-6352-4331-AEB6-AEC6E5470BAC}" srcOrd="0" destOrd="0" parTransId="{AB4AAC57-1330-45BA-9ED8-E12D73E8659D}" sibTransId="{CF40C703-D56B-4C2B-852C-9D9CB8778E54}"/>
    <dgm:cxn modelId="{1FB2BDB7-CAA6-45A0-8FBA-491EF970C867}" type="presOf" srcId="{5AC5894A-353F-4765-9C28-9B544CE2BB71}" destId="{4DD105EB-B4C2-42E2-9DD1-683F01205178}" srcOrd="0" destOrd="0" presId="urn:microsoft.com/office/officeart/2005/8/layout/chevron2"/>
    <dgm:cxn modelId="{5F1D03AE-F107-4A8A-8F38-217F3E75A45B}" srcId="{665B84F2-4AAF-4DD3-B454-9266A9D533EC}" destId="{E9FC57E8-EA1B-4115-BCB4-E3EF898207CB}" srcOrd="0" destOrd="0" parTransId="{F433F0C6-1AD7-4734-977E-EB3802E069AA}" sibTransId="{FD37EC10-6C2A-4F44-96BC-23B546D0F05C}"/>
    <dgm:cxn modelId="{AA59869B-94C3-4AE1-8E7F-3BDCBAF79B4E}" type="presParOf" srcId="{4DD105EB-B4C2-42E2-9DD1-683F01205178}" destId="{F99E1A83-DA23-40CC-9C93-235DE9D47ADE}" srcOrd="0" destOrd="0" presId="urn:microsoft.com/office/officeart/2005/8/layout/chevron2"/>
    <dgm:cxn modelId="{40A13BAC-621E-427E-B132-C06C2B012E52}" type="presParOf" srcId="{F99E1A83-DA23-40CC-9C93-235DE9D47ADE}" destId="{02033FE6-A0F4-4E47-8146-EFF6B7D92E25}" srcOrd="0" destOrd="0" presId="urn:microsoft.com/office/officeart/2005/8/layout/chevron2"/>
    <dgm:cxn modelId="{815F7D53-BBAD-41D8-9522-FF3F6879A077}" type="presParOf" srcId="{F99E1A83-DA23-40CC-9C93-235DE9D47ADE}" destId="{968A543C-568D-4311-BBD1-49FAB5659A1C}" srcOrd="1" destOrd="0" presId="urn:microsoft.com/office/officeart/2005/8/layout/chevron2"/>
    <dgm:cxn modelId="{333493D1-3FBA-4CA7-BFDE-FEEE1F67D2E6}" type="presParOf" srcId="{4DD105EB-B4C2-42E2-9DD1-683F01205178}" destId="{C8E902DD-0691-4918-B31A-E4781DA843FC}" srcOrd="1" destOrd="0" presId="urn:microsoft.com/office/officeart/2005/8/layout/chevron2"/>
    <dgm:cxn modelId="{1244EC04-C528-4599-9C52-A8B95D0E17B1}" type="presParOf" srcId="{4DD105EB-B4C2-42E2-9DD1-683F01205178}" destId="{0CE7B26C-27F5-4995-8D1F-FCA89D80E2C5}" srcOrd="2" destOrd="0" presId="urn:microsoft.com/office/officeart/2005/8/layout/chevron2"/>
    <dgm:cxn modelId="{0E8C94AD-DD99-4970-800F-81A189629E96}" type="presParOf" srcId="{0CE7B26C-27F5-4995-8D1F-FCA89D80E2C5}" destId="{E9C8DFD3-62CA-4C3A-9C21-74513FE9EDD6}" srcOrd="0" destOrd="0" presId="urn:microsoft.com/office/officeart/2005/8/layout/chevron2"/>
    <dgm:cxn modelId="{C6BBF387-1AD5-4C34-AAED-FA0E2BB65173}" type="presParOf" srcId="{0CE7B26C-27F5-4995-8D1F-FCA89D80E2C5}" destId="{931EFBA2-D794-4730-9483-A332380A304A}" srcOrd="1" destOrd="0" presId="urn:microsoft.com/office/officeart/2005/8/layout/chevron2"/>
    <dgm:cxn modelId="{71F92F58-E8F3-4374-AD38-F1D4CC7C8911}" type="presParOf" srcId="{4DD105EB-B4C2-42E2-9DD1-683F01205178}" destId="{D5E2AADD-3C14-416D-9CCE-23BF308C5D52}" srcOrd="3" destOrd="0" presId="urn:microsoft.com/office/officeart/2005/8/layout/chevron2"/>
    <dgm:cxn modelId="{77722FAC-B30E-45CA-85E9-13B52FB3142E}" type="presParOf" srcId="{4DD105EB-B4C2-42E2-9DD1-683F01205178}" destId="{4E1DF57B-E405-4504-8828-FC98DF1CE684}" srcOrd="4" destOrd="0" presId="urn:microsoft.com/office/officeart/2005/8/layout/chevron2"/>
    <dgm:cxn modelId="{2B7119BB-6BE5-47F1-9C4C-69F0BD4952A7}" type="presParOf" srcId="{4E1DF57B-E405-4504-8828-FC98DF1CE684}" destId="{3687D1DC-70C0-4C38-9C81-61D8AC48E04C}" srcOrd="0" destOrd="0" presId="urn:microsoft.com/office/officeart/2005/8/layout/chevron2"/>
    <dgm:cxn modelId="{FC78820A-07A9-4AC9-9572-9BB1A6187864}" type="presParOf" srcId="{4E1DF57B-E405-4504-8828-FC98DF1CE684}" destId="{8B3320F9-6CB2-4370-A1E2-8D515EFEEBD6}" srcOrd="1" destOrd="0" presId="urn:microsoft.com/office/officeart/2005/8/layout/chevron2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716B423F-1F8C-4FE9-AD33-AD311424C964}" type="doc">
      <dgm:prSet loTypeId="urn:microsoft.com/office/officeart/2005/8/layout/vProcess5" loCatId="process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624644-FD0E-4463-B630-23FE7B69F0AE}">
      <dgm:prSet phldrT="[Текст]"/>
      <dgm:spPr/>
      <dgm:t>
        <a:bodyPr/>
        <a:lstStyle/>
        <a:p>
          <a:r>
            <a:rPr lang="ru-RU" dirty="0" smtClean="0"/>
            <a:t>С точки зрения совокупного объема зернового производства Китай в силах обеспечить свою продовольственную безопасность. </a:t>
          </a:r>
          <a:endParaRPr lang="ru-RU" dirty="0"/>
        </a:p>
      </dgm:t>
    </dgm:pt>
    <dgm:pt modelId="{393F217C-B402-4143-B2EB-0001CAEDF57D}" type="parTrans" cxnId="{A2FF4054-FF7D-4BC9-9EF6-8BDC5201F18D}">
      <dgm:prSet/>
      <dgm:spPr/>
      <dgm:t>
        <a:bodyPr/>
        <a:lstStyle/>
        <a:p>
          <a:endParaRPr lang="ru-RU"/>
        </a:p>
      </dgm:t>
    </dgm:pt>
    <dgm:pt modelId="{CBF93DA5-3414-4BBE-BBB9-AECAAE87BA43}" type="sibTrans" cxnId="{A2FF4054-FF7D-4BC9-9EF6-8BDC5201F18D}">
      <dgm:prSet/>
      <dgm:spPr/>
      <dgm:t>
        <a:bodyPr/>
        <a:lstStyle/>
        <a:p>
          <a:endParaRPr lang="ru-RU"/>
        </a:p>
      </dgm:t>
    </dgm:pt>
    <dgm:pt modelId="{31FE8330-02BD-4461-ACF8-EA5473A96A4B}">
      <dgm:prSet phldrT="[Текст]"/>
      <dgm:spPr/>
      <dgm:t>
        <a:bodyPr/>
        <a:lstStyle/>
        <a:p>
          <a:r>
            <a:rPr lang="ru-RU" dirty="0" smtClean="0"/>
            <a:t>В 2011 году валовой сбор зерновых в стране превысил 570 </a:t>
          </a:r>
          <a:r>
            <a:rPr lang="ru-RU" dirty="0" err="1" smtClean="0"/>
            <a:t>млн</a:t>
          </a:r>
          <a:r>
            <a:rPr lang="ru-RU" dirty="0" smtClean="0"/>
            <a:t> тонн - примерно 22 процента от общемирового показателя, а численность китайского населения составила 19 процентов от общей численности населения всей планеты.</a:t>
          </a:r>
          <a:endParaRPr lang="ru-RU" dirty="0"/>
        </a:p>
      </dgm:t>
    </dgm:pt>
    <dgm:pt modelId="{FC3F393D-CC89-4846-9AE4-659B8369DB6E}" type="parTrans" cxnId="{88A9A2BF-19DA-4BE7-8A87-8476B395EAF4}">
      <dgm:prSet/>
      <dgm:spPr/>
      <dgm:t>
        <a:bodyPr/>
        <a:lstStyle/>
        <a:p>
          <a:endParaRPr lang="ru-RU"/>
        </a:p>
      </dgm:t>
    </dgm:pt>
    <dgm:pt modelId="{B520E4E4-D4C9-46B0-A6DA-17D2262D5FF6}" type="sibTrans" cxnId="{88A9A2BF-19DA-4BE7-8A87-8476B395EAF4}">
      <dgm:prSet/>
      <dgm:spPr/>
      <dgm:t>
        <a:bodyPr/>
        <a:lstStyle/>
        <a:p>
          <a:endParaRPr lang="ru-RU"/>
        </a:p>
      </dgm:t>
    </dgm:pt>
    <dgm:pt modelId="{056F31D1-C47D-4212-8A41-F43A5216F684}">
      <dgm:prSet phldrT="[Текст]"/>
      <dgm:spPr/>
      <dgm:t>
        <a:bodyPr/>
        <a:lstStyle/>
        <a:p>
          <a:r>
            <a:rPr lang="ru-RU" dirty="0" smtClean="0"/>
            <a:t>В последние годы наблюдался значительный рост импорта соевых бобов, который в 2010 году достиг рекордного уровня - 54,8 </a:t>
          </a:r>
          <a:r>
            <a:rPr lang="ru-RU" dirty="0" err="1" smtClean="0"/>
            <a:t>млн</a:t>
          </a:r>
          <a:r>
            <a:rPr lang="ru-RU" dirty="0" smtClean="0"/>
            <a:t> тонн, а в прошлом году - около 52,6 </a:t>
          </a:r>
          <a:r>
            <a:rPr lang="ru-RU" dirty="0" err="1" smtClean="0"/>
            <a:t>млн</a:t>
          </a:r>
          <a:r>
            <a:rPr lang="ru-RU" dirty="0" smtClean="0"/>
            <a:t> тонн.</a:t>
          </a:r>
          <a:endParaRPr lang="ru-RU" dirty="0"/>
        </a:p>
      </dgm:t>
    </dgm:pt>
    <dgm:pt modelId="{67B96C5E-5E45-4F06-AE59-D421B8FEB500}" type="parTrans" cxnId="{93A6ED24-D9EE-48FB-93BB-B13CD41B93B8}">
      <dgm:prSet/>
      <dgm:spPr/>
      <dgm:t>
        <a:bodyPr/>
        <a:lstStyle/>
        <a:p>
          <a:endParaRPr lang="ru-RU"/>
        </a:p>
      </dgm:t>
    </dgm:pt>
    <dgm:pt modelId="{A161D280-4DB5-4C64-9E95-C3CF3684A04D}" type="sibTrans" cxnId="{93A6ED24-D9EE-48FB-93BB-B13CD41B93B8}">
      <dgm:prSet/>
      <dgm:spPr/>
      <dgm:t>
        <a:bodyPr/>
        <a:lstStyle/>
        <a:p>
          <a:endParaRPr lang="ru-RU"/>
        </a:p>
      </dgm:t>
    </dgm:pt>
    <dgm:pt modelId="{BA4DDFDB-E9BD-4C16-8959-DEF98529BA6D}" type="pres">
      <dgm:prSet presAssocID="{716B423F-1F8C-4FE9-AD33-AD311424C964}" presName="outerComposite" presStyleCnt="0">
        <dgm:presLayoutVars>
          <dgm:chMax val="5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051B02BC-8DFC-4FD5-9F71-2195CF0C2528}" type="pres">
      <dgm:prSet presAssocID="{716B423F-1F8C-4FE9-AD33-AD311424C964}" presName="dummyMaxCanvas" presStyleCnt="0">
        <dgm:presLayoutVars/>
      </dgm:prSet>
      <dgm:spPr/>
    </dgm:pt>
    <dgm:pt modelId="{C841B30B-0057-401D-A7BD-97719640B98D}" type="pres">
      <dgm:prSet presAssocID="{716B423F-1F8C-4FE9-AD33-AD311424C964}" presName="ThreeNodes_1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0C5A504-177B-4B1A-BB9D-19C6208AEC65}" type="pres">
      <dgm:prSet presAssocID="{716B423F-1F8C-4FE9-AD33-AD311424C964}" presName="ThreeNodes_2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8192D25-4356-4364-BE59-ECE6964857C9}" type="pres">
      <dgm:prSet presAssocID="{716B423F-1F8C-4FE9-AD33-AD311424C964}" presName="ThreeNodes_3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6D10B2B-0089-48BD-A6FF-773404C54DB5}" type="pres">
      <dgm:prSet presAssocID="{716B423F-1F8C-4FE9-AD33-AD311424C964}" presName="ThreeConn_1-2" presStyleLbl="fgAccFollowNode1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A3571D2-208A-4E30-A8F9-C7C8CC1E702C}" type="pres">
      <dgm:prSet presAssocID="{716B423F-1F8C-4FE9-AD33-AD311424C964}" presName="ThreeConn_2-3" presStyleLbl="fgAccFollow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AD7BFAB-BA8D-4F5D-A6BC-5A494EC88145}" type="pres">
      <dgm:prSet presAssocID="{716B423F-1F8C-4FE9-AD33-AD311424C964}" presName="ThreeNodes_1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E8C129A-8018-49D5-91FA-6F58292BCA5F}" type="pres">
      <dgm:prSet presAssocID="{716B423F-1F8C-4FE9-AD33-AD311424C964}" presName="ThreeNodes_2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6A78D67-D1B7-464D-BA05-2C24DE17C2F4}" type="pres">
      <dgm:prSet presAssocID="{716B423F-1F8C-4FE9-AD33-AD311424C964}" presName="ThreeNodes_3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93A6ED24-D9EE-48FB-93BB-B13CD41B93B8}" srcId="{716B423F-1F8C-4FE9-AD33-AD311424C964}" destId="{056F31D1-C47D-4212-8A41-F43A5216F684}" srcOrd="2" destOrd="0" parTransId="{67B96C5E-5E45-4F06-AE59-D421B8FEB500}" sibTransId="{A161D280-4DB5-4C64-9E95-C3CF3684A04D}"/>
    <dgm:cxn modelId="{5BAADA7B-E0F4-4338-8D36-8370E66444A6}" type="presOf" srcId="{4B624644-FD0E-4463-B630-23FE7B69F0AE}" destId="{C841B30B-0057-401D-A7BD-97719640B98D}" srcOrd="0" destOrd="0" presId="urn:microsoft.com/office/officeart/2005/8/layout/vProcess5"/>
    <dgm:cxn modelId="{04D4C9D6-1DD7-47D8-A5F0-0ED29C52460C}" type="presOf" srcId="{056F31D1-C47D-4212-8A41-F43A5216F684}" destId="{38192D25-4356-4364-BE59-ECE6964857C9}" srcOrd="0" destOrd="0" presId="urn:microsoft.com/office/officeart/2005/8/layout/vProcess5"/>
    <dgm:cxn modelId="{9D6027A7-01AF-4C4B-BAD5-261A7674066B}" type="presOf" srcId="{4B624644-FD0E-4463-B630-23FE7B69F0AE}" destId="{2AD7BFAB-BA8D-4F5D-A6BC-5A494EC88145}" srcOrd="1" destOrd="0" presId="urn:microsoft.com/office/officeart/2005/8/layout/vProcess5"/>
    <dgm:cxn modelId="{88A9A2BF-19DA-4BE7-8A87-8476B395EAF4}" srcId="{716B423F-1F8C-4FE9-AD33-AD311424C964}" destId="{31FE8330-02BD-4461-ACF8-EA5473A96A4B}" srcOrd="1" destOrd="0" parTransId="{FC3F393D-CC89-4846-9AE4-659B8369DB6E}" sibTransId="{B520E4E4-D4C9-46B0-A6DA-17D2262D5FF6}"/>
    <dgm:cxn modelId="{1A89A0D6-3199-4D68-8C6E-0113185AED26}" type="presOf" srcId="{CBF93DA5-3414-4BBE-BBB9-AECAAE87BA43}" destId="{E6D10B2B-0089-48BD-A6FF-773404C54DB5}" srcOrd="0" destOrd="0" presId="urn:microsoft.com/office/officeart/2005/8/layout/vProcess5"/>
    <dgm:cxn modelId="{739CDA2E-66CF-4A9E-92D3-3687D6F716E6}" type="presOf" srcId="{31FE8330-02BD-4461-ACF8-EA5473A96A4B}" destId="{80C5A504-177B-4B1A-BB9D-19C6208AEC65}" srcOrd="0" destOrd="0" presId="urn:microsoft.com/office/officeart/2005/8/layout/vProcess5"/>
    <dgm:cxn modelId="{D14C6534-8546-4EF2-8DB1-E8A1C8B69EA7}" type="presOf" srcId="{31FE8330-02BD-4461-ACF8-EA5473A96A4B}" destId="{DE8C129A-8018-49D5-91FA-6F58292BCA5F}" srcOrd="1" destOrd="0" presId="urn:microsoft.com/office/officeart/2005/8/layout/vProcess5"/>
    <dgm:cxn modelId="{39BE256A-678D-473A-9705-DD1E88614AD6}" type="presOf" srcId="{056F31D1-C47D-4212-8A41-F43A5216F684}" destId="{A6A78D67-D1B7-464D-BA05-2C24DE17C2F4}" srcOrd="1" destOrd="0" presId="urn:microsoft.com/office/officeart/2005/8/layout/vProcess5"/>
    <dgm:cxn modelId="{A8046EF8-41A3-4307-8D23-180DD67ADB64}" type="presOf" srcId="{B520E4E4-D4C9-46B0-A6DA-17D2262D5FF6}" destId="{0A3571D2-208A-4E30-A8F9-C7C8CC1E702C}" srcOrd="0" destOrd="0" presId="urn:microsoft.com/office/officeart/2005/8/layout/vProcess5"/>
    <dgm:cxn modelId="{A2FF4054-FF7D-4BC9-9EF6-8BDC5201F18D}" srcId="{716B423F-1F8C-4FE9-AD33-AD311424C964}" destId="{4B624644-FD0E-4463-B630-23FE7B69F0AE}" srcOrd="0" destOrd="0" parTransId="{393F217C-B402-4143-B2EB-0001CAEDF57D}" sibTransId="{CBF93DA5-3414-4BBE-BBB9-AECAAE87BA43}"/>
    <dgm:cxn modelId="{49D012C4-6242-487B-8A27-90A62D695D20}" type="presOf" srcId="{716B423F-1F8C-4FE9-AD33-AD311424C964}" destId="{BA4DDFDB-E9BD-4C16-8959-DEF98529BA6D}" srcOrd="0" destOrd="0" presId="urn:microsoft.com/office/officeart/2005/8/layout/vProcess5"/>
    <dgm:cxn modelId="{730A5DF7-DD52-4454-BBD6-DBA86B0D4306}" type="presParOf" srcId="{BA4DDFDB-E9BD-4C16-8959-DEF98529BA6D}" destId="{051B02BC-8DFC-4FD5-9F71-2195CF0C2528}" srcOrd="0" destOrd="0" presId="urn:microsoft.com/office/officeart/2005/8/layout/vProcess5"/>
    <dgm:cxn modelId="{8B4A8A16-17DE-4F3A-98E3-6AAEF9884819}" type="presParOf" srcId="{BA4DDFDB-E9BD-4C16-8959-DEF98529BA6D}" destId="{C841B30B-0057-401D-A7BD-97719640B98D}" srcOrd="1" destOrd="0" presId="urn:microsoft.com/office/officeart/2005/8/layout/vProcess5"/>
    <dgm:cxn modelId="{1F422896-0861-4D7E-84C0-B6FC8AE7832B}" type="presParOf" srcId="{BA4DDFDB-E9BD-4C16-8959-DEF98529BA6D}" destId="{80C5A504-177B-4B1A-BB9D-19C6208AEC65}" srcOrd="2" destOrd="0" presId="urn:microsoft.com/office/officeart/2005/8/layout/vProcess5"/>
    <dgm:cxn modelId="{E6EE296C-BE6E-43C9-85A3-C311DF444163}" type="presParOf" srcId="{BA4DDFDB-E9BD-4C16-8959-DEF98529BA6D}" destId="{38192D25-4356-4364-BE59-ECE6964857C9}" srcOrd="3" destOrd="0" presId="urn:microsoft.com/office/officeart/2005/8/layout/vProcess5"/>
    <dgm:cxn modelId="{B755E09F-996F-4F1E-8E1A-FC87BCF0AF85}" type="presParOf" srcId="{BA4DDFDB-E9BD-4C16-8959-DEF98529BA6D}" destId="{E6D10B2B-0089-48BD-A6FF-773404C54DB5}" srcOrd="4" destOrd="0" presId="urn:microsoft.com/office/officeart/2005/8/layout/vProcess5"/>
    <dgm:cxn modelId="{4D66EB70-7801-43DD-82A2-31CB1A0E5449}" type="presParOf" srcId="{BA4DDFDB-E9BD-4C16-8959-DEF98529BA6D}" destId="{0A3571D2-208A-4E30-A8F9-C7C8CC1E702C}" srcOrd="5" destOrd="0" presId="urn:microsoft.com/office/officeart/2005/8/layout/vProcess5"/>
    <dgm:cxn modelId="{4B66738B-05A7-42FE-A70E-8B3447171D70}" type="presParOf" srcId="{BA4DDFDB-E9BD-4C16-8959-DEF98529BA6D}" destId="{2AD7BFAB-BA8D-4F5D-A6BC-5A494EC88145}" srcOrd="6" destOrd="0" presId="urn:microsoft.com/office/officeart/2005/8/layout/vProcess5"/>
    <dgm:cxn modelId="{A784259C-3E41-4F2F-88A5-A7D3836126EE}" type="presParOf" srcId="{BA4DDFDB-E9BD-4C16-8959-DEF98529BA6D}" destId="{DE8C129A-8018-49D5-91FA-6F58292BCA5F}" srcOrd="7" destOrd="0" presId="urn:microsoft.com/office/officeart/2005/8/layout/vProcess5"/>
    <dgm:cxn modelId="{FC19D62D-1288-46D9-BBC4-65F7B048CD31}" type="presParOf" srcId="{BA4DDFDB-E9BD-4C16-8959-DEF98529BA6D}" destId="{A6A78D67-D1B7-464D-BA05-2C24DE17C2F4}" srcOrd="8" destOrd="0" presId="urn:microsoft.com/office/officeart/2005/8/layout/vProcess5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FBBF5AAF-B8BC-47DA-BF28-C4F03EE947E5}" type="doc">
      <dgm:prSet loTypeId="urn:microsoft.com/office/officeart/2005/8/layout/matrix3" loCatId="matrix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F58AFC4A-468E-4A4C-80B6-45469FDF916E}">
      <dgm:prSet phldrT="[Текст]"/>
      <dgm:spPr/>
      <dgm:t>
        <a:bodyPr/>
        <a:lstStyle/>
        <a:p>
          <a:r>
            <a:rPr lang="ru-RU" dirty="0" smtClean="0">
              <a:latin typeface="Times New Roman" pitchFamily="18" charset="0"/>
              <a:cs typeface="Times New Roman" pitchFamily="18" charset="0"/>
            </a:rPr>
            <a:t>Первоочередными мерами станет регулирование стандартов и правовых систем пищевого производства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49D0DA93-0E6B-4589-BC01-47426F7FB14E}" type="parTrans" cxnId="{534DA7A9-682F-488E-A761-93B0FA75906D}">
      <dgm:prSet/>
      <dgm:spPr/>
      <dgm:t>
        <a:bodyPr/>
        <a:lstStyle/>
        <a:p>
          <a:endParaRPr lang="ru-RU"/>
        </a:p>
      </dgm:t>
    </dgm:pt>
    <dgm:pt modelId="{FDF7153E-F8C6-49B2-B434-38E70C23A07D}" type="sibTrans" cxnId="{534DA7A9-682F-488E-A761-93B0FA75906D}">
      <dgm:prSet/>
      <dgm:spPr/>
      <dgm:t>
        <a:bodyPr/>
        <a:lstStyle/>
        <a:p>
          <a:endParaRPr lang="ru-RU"/>
        </a:p>
      </dgm:t>
    </dgm:pt>
    <dgm:pt modelId="{FD7EB53A-F3C9-40A7-BD4A-4AE19226CA05}">
      <dgm:prSet phldrT="[Текст]"/>
      <dgm:spPr/>
      <dgm:t>
        <a:bodyPr/>
        <a:lstStyle/>
        <a:p>
          <a:r>
            <a:rPr lang="ru-RU" dirty="0" smtClean="0">
              <a:latin typeface="Times New Roman" pitchFamily="18" charset="0"/>
              <a:cs typeface="Times New Roman" pitchFamily="18" charset="0"/>
            </a:rPr>
            <a:t>Госорганы начнут проверки продовольственных предприятий. 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2E25D2E3-D76D-4916-896D-FD19CA7AF542}" type="parTrans" cxnId="{410179AD-6B8F-4070-9E62-97D97832C223}">
      <dgm:prSet/>
      <dgm:spPr/>
      <dgm:t>
        <a:bodyPr/>
        <a:lstStyle/>
        <a:p>
          <a:endParaRPr lang="ru-RU"/>
        </a:p>
      </dgm:t>
    </dgm:pt>
    <dgm:pt modelId="{94ACF9E8-96B5-4D49-8437-9E7151CA1F2D}" type="sibTrans" cxnId="{410179AD-6B8F-4070-9E62-97D97832C223}">
      <dgm:prSet/>
      <dgm:spPr/>
      <dgm:t>
        <a:bodyPr/>
        <a:lstStyle/>
        <a:p>
          <a:endParaRPr lang="ru-RU"/>
        </a:p>
      </dgm:t>
    </dgm:pt>
    <dgm:pt modelId="{9173C59A-DB9A-4F67-AF15-56C1DF63A4CF}">
      <dgm:prSet phldrT="[Текст]"/>
      <dgm:spPr/>
      <dgm:t>
        <a:bodyPr/>
        <a:lstStyle/>
        <a:p>
          <a:r>
            <a:rPr lang="ru-RU" dirty="0" smtClean="0">
              <a:latin typeface="Times New Roman" pitchFamily="18" charset="0"/>
              <a:cs typeface="Times New Roman" pitchFamily="18" charset="0"/>
            </a:rPr>
            <a:t>Заводы, чья продукция несет угрозу здоровью людей, будут закрываться. 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46B01BE4-6E3A-46CF-837B-F248DAC8CA58}" type="parTrans" cxnId="{BDD24F17-D4B7-4CFB-9D37-D0FB881F44E5}">
      <dgm:prSet/>
      <dgm:spPr/>
      <dgm:t>
        <a:bodyPr/>
        <a:lstStyle/>
        <a:p>
          <a:endParaRPr lang="ru-RU"/>
        </a:p>
      </dgm:t>
    </dgm:pt>
    <dgm:pt modelId="{E022A9D8-3AF2-4DC6-ADB6-733CB335CF8D}" type="sibTrans" cxnId="{BDD24F17-D4B7-4CFB-9D37-D0FB881F44E5}">
      <dgm:prSet/>
      <dgm:spPr/>
      <dgm:t>
        <a:bodyPr/>
        <a:lstStyle/>
        <a:p>
          <a:endParaRPr lang="ru-RU"/>
        </a:p>
      </dgm:t>
    </dgm:pt>
    <dgm:pt modelId="{F6A325FB-3F58-49CB-A23D-20E4FD9921DF}">
      <dgm:prSet phldrT="[Текст]"/>
      <dgm:spPr/>
      <dgm:t>
        <a:bodyPr/>
        <a:lstStyle/>
        <a:p>
          <a:r>
            <a:rPr lang="ru-RU" dirty="0" smtClean="0">
              <a:latin typeface="Times New Roman" pitchFamily="18" charset="0"/>
              <a:cs typeface="Times New Roman" pitchFamily="18" charset="0"/>
            </a:rPr>
            <a:t>А также эффективный надзор и наказание для тех, кто нарушил закон. 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23B9F2EB-3CDC-4442-BFF0-81E7ECE7ACAF}" type="parTrans" cxnId="{6B38AE34-B921-4498-A511-2B973E5FB90E}">
      <dgm:prSet/>
      <dgm:spPr/>
      <dgm:t>
        <a:bodyPr/>
        <a:lstStyle/>
        <a:p>
          <a:endParaRPr lang="ru-RU"/>
        </a:p>
      </dgm:t>
    </dgm:pt>
    <dgm:pt modelId="{BC9D9D86-F3A8-43B9-97A0-2242C8E6E40B}" type="sibTrans" cxnId="{6B38AE34-B921-4498-A511-2B973E5FB90E}">
      <dgm:prSet/>
      <dgm:spPr/>
      <dgm:t>
        <a:bodyPr/>
        <a:lstStyle/>
        <a:p>
          <a:endParaRPr lang="ru-RU"/>
        </a:p>
      </dgm:t>
    </dgm:pt>
    <dgm:pt modelId="{E31299EA-2FCB-4CD2-8C29-1568B6CD8053}" type="pres">
      <dgm:prSet presAssocID="{FBBF5AAF-B8BC-47DA-BF28-C4F03EE947E5}" presName="matrix" presStyleCnt="0">
        <dgm:presLayoutVars>
          <dgm:chMax val="1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514A7B-C17C-483F-98D6-6A1FFEF6E173}" type="pres">
      <dgm:prSet presAssocID="{FBBF5AAF-B8BC-47DA-BF28-C4F03EE947E5}" presName="diamond" presStyleLbl="bgShp" presStyleIdx="0" presStyleCnt="1"/>
      <dgm:spPr>
        <a:solidFill>
          <a:srgbClr val="00B050"/>
        </a:solidFill>
      </dgm:spPr>
    </dgm:pt>
    <dgm:pt modelId="{BB775299-9FBF-4C7E-A39D-1BB24C98DF91}" type="pres">
      <dgm:prSet presAssocID="{FBBF5AAF-B8BC-47DA-BF28-C4F03EE947E5}" presName="quad1" presStyleLbl="node1" presStyleIdx="0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46F7566-8C3A-4605-A7E6-1964E383DCBE}" type="pres">
      <dgm:prSet presAssocID="{FBBF5AAF-B8BC-47DA-BF28-C4F03EE947E5}" presName="quad2" presStyleLbl="node1" presStyleIdx="1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78C6598-3340-45DC-8A48-F74C75AB2F66}" type="pres">
      <dgm:prSet presAssocID="{FBBF5AAF-B8BC-47DA-BF28-C4F03EE947E5}" presName="quad3" presStyleLbl="node1" presStyleIdx="2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2577A2C-7604-410D-8AEC-F8EC56EA4CDE}" type="pres">
      <dgm:prSet presAssocID="{FBBF5AAF-B8BC-47DA-BF28-C4F03EE947E5}" presName="quad4" presStyleLbl="node1" presStyleIdx="3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10179AD-6B8F-4070-9E62-97D97832C223}" srcId="{FBBF5AAF-B8BC-47DA-BF28-C4F03EE947E5}" destId="{FD7EB53A-F3C9-40A7-BD4A-4AE19226CA05}" srcOrd="1" destOrd="0" parTransId="{2E25D2E3-D76D-4916-896D-FD19CA7AF542}" sibTransId="{94ACF9E8-96B5-4D49-8437-9E7151CA1F2D}"/>
    <dgm:cxn modelId="{3DE7EA7E-4516-448A-92D8-0FE172B1EF15}" type="presOf" srcId="{9173C59A-DB9A-4F67-AF15-56C1DF63A4CF}" destId="{178C6598-3340-45DC-8A48-F74C75AB2F66}" srcOrd="0" destOrd="0" presId="urn:microsoft.com/office/officeart/2005/8/layout/matrix3"/>
    <dgm:cxn modelId="{7692DAB7-5749-4969-AD9A-AE0BBAAD82A7}" type="presOf" srcId="{F6A325FB-3F58-49CB-A23D-20E4FD9921DF}" destId="{02577A2C-7604-410D-8AEC-F8EC56EA4CDE}" srcOrd="0" destOrd="0" presId="urn:microsoft.com/office/officeart/2005/8/layout/matrix3"/>
    <dgm:cxn modelId="{D2C9A50A-5A1A-43E4-9CAB-A513A5037A42}" type="presOf" srcId="{F58AFC4A-468E-4A4C-80B6-45469FDF916E}" destId="{BB775299-9FBF-4C7E-A39D-1BB24C98DF91}" srcOrd="0" destOrd="0" presId="urn:microsoft.com/office/officeart/2005/8/layout/matrix3"/>
    <dgm:cxn modelId="{BDD24F17-D4B7-4CFB-9D37-D0FB881F44E5}" srcId="{FBBF5AAF-B8BC-47DA-BF28-C4F03EE947E5}" destId="{9173C59A-DB9A-4F67-AF15-56C1DF63A4CF}" srcOrd="2" destOrd="0" parTransId="{46B01BE4-6E3A-46CF-837B-F248DAC8CA58}" sibTransId="{E022A9D8-3AF2-4DC6-ADB6-733CB335CF8D}"/>
    <dgm:cxn modelId="{6B38AE34-B921-4498-A511-2B973E5FB90E}" srcId="{FBBF5AAF-B8BC-47DA-BF28-C4F03EE947E5}" destId="{F6A325FB-3F58-49CB-A23D-20E4FD9921DF}" srcOrd="3" destOrd="0" parTransId="{23B9F2EB-3CDC-4442-BFF0-81E7ECE7ACAF}" sibTransId="{BC9D9D86-F3A8-43B9-97A0-2242C8E6E40B}"/>
    <dgm:cxn modelId="{534DA7A9-682F-488E-A761-93B0FA75906D}" srcId="{FBBF5AAF-B8BC-47DA-BF28-C4F03EE947E5}" destId="{F58AFC4A-468E-4A4C-80B6-45469FDF916E}" srcOrd="0" destOrd="0" parTransId="{49D0DA93-0E6B-4589-BC01-47426F7FB14E}" sibTransId="{FDF7153E-F8C6-49B2-B434-38E70C23A07D}"/>
    <dgm:cxn modelId="{66EA24C9-B604-40BE-A60A-34BFE9A6580A}" type="presOf" srcId="{FD7EB53A-F3C9-40A7-BD4A-4AE19226CA05}" destId="{546F7566-8C3A-4605-A7E6-1964E383DCBE}" srcOrd="0" destOrd="0" presId="urn:microsoft.com/office/officeart/2005/8/layout/matrix3"/>
    <dgm:cxn modelId="{F2F575F4-7691-4F13-B53C-54C9C8491AC8}" type="presOf" srcId="{FBBF5AAF-B8BC-47DA-BF28-C4F03EE947E5}" destId="{E31299EA-2FCB-4CD2-8C29-1568B6CD8053}" srcOrd="0" destOrd="0" presId="urn:microsoft.com/office/officeart/2005/8/layout/matrix3"/>
    <dgm:cxn modelId="{3FE5D7F4-F2C7-4B0C-8068-F94E55F57E20}" type="presParOf" srcId="{E31299EA-2FCB-4CD2-8C29-1568B6CD8053}" destId="{34514A7B-C17C-483F-98D6-6A1FFEF6E173}" srcOrd="0" destOrd="0" presId="urn:microsoft.com/office/officeart/2005/8/layout/matrix3"/>
    <dgm:cxn modelId="{19CAF961-CB89-4463-A882-195DB75C6FCC}" type="presParOf" srcId="{E31299EA-2FCB-4CD2-8C29-1568B6CD8053}" destId="{BB775299-9FBF-4C7E-A39D-1BB24C98DF91}" srcOrd="1" destOrd="0" presId="urn:microsoft.com/office/officeart/2005/8/layout/matrix3"/>
    <dgm:cxn modelId="{FC8A6A10-F0AE-4251-9C00-C57222294CC8}" type="presParOf" srcId="{E31299EA-2FCB-4CD2-8C29-1568B6CD8053}" destId="{546F7566-8C3A-4605-A7E6-1964E383DCBE}" srcOrd="2" destOrd="0" presId="urn:microsoft.com/office/officeart/2005/8/layout/matrix3"/>
    <dgm:cxn modelId="{26D3C227-204A-4510-A28D-C0C63376E6D1}" type="presParOf" srcId="{E31299EA-2FCB-4CD2-8C29-1568B6CD8053}" destId="{178C6598-3340-45DC-8A48-F74C75AB2F66}" srcOrd="3" destOrd="0" presId="urn:microsoft.com/office/officeart/2005/8/layout/matrix3"/>
    <dgm:cxn modelId="{B8F84E6A-FB67-41F9-8CE5-085F503C8EE5}" type="presParOf" srcId="{E31299EA-2FCB-4CD2-8C29-1568B6CD8053}" destId="{02577A2C-7604-410D-8AEC-F8EC56EA4CDE}" srcOrd="4" destOrd="0" presId="urn:microsoft.com/office/officeart/2005/8/layout/matrix3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91C048FF-43FF-4E52-B094-C5558CD5D1F5}" type="doc">
      <dgm:prSet loTypeId="urn:microsoft.com/office/officeart/2005/8/layout/vProcess5" loCatId="process" qsTypeId="urn:microsoft.com/office/officeart/2005/8/quickstyle/simple5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DAD5209C-4F81-4C15-9512-7C0BD8787E08}">
      <dgm:prSet phldrT="[Текст]"/>
      <dgm:spPr/>
      <dgm:t>
        <a:bodyPr/>
        <a:lstStyle/>
        <a:p>
          <a:r>
            <a:rPr lang="ru-RU" dirty="0" smtClean="0">
              <a:latin typeface="Times New Roman" pitchFamily="18" charset="0"/>
              <a:cs typeface="Times New Roman" pitchFamily="18" charset="0"/>
            </a:rPr>
            <a:t>будут созданы механизмы эффективного регулирования стандартов пищевого производства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866B214B-3BF3-4390-B040-5912F01B4681}" type="parTrans" cxnId="{38DB9DEB-CE5D-4374-8133-B7F19356204D}">
      <dgm:prSet/>
      <dgm:spPr/>
      <dgm:t>
        <a:bodyPr/>
        <a:lstStyle/>
        <a:p>
          <a:endParaRPr lang="ru-RU"/>
        </a:p>
      </dgm:t>
    </dgm:pt>
    <dgm:pt modelId="{399BAEF9-5D50-4CEE-A58B-D22506724968}" type="sibTrans" cxnId="{38DB9DEB-CE5D-4374-8133-B7F19356204D}">
      <dgm:prSet/>
      <dgm:spPr/>
      <dgm:t>
        <a:bodyPr/>
        <a:lstStyle/>
        <a:p>
          <a:endParaRPr lang="ru-RU"/>
        </a:p>
      </dgm:t>
    </dgm:pt>
    <dgm:pt modelId="{9D3A4671-7A58-457F-A69D-1AA527B0E180}">
      <dgm:prSet phldrT="[Текст]"/>
      <dgm:spPr/>
      <dgm:t>
        <a:bodyPr/>
        <a:lstStyle/>
        <a:p>
          <a:r>
            <a:rPr lang="ru-RU" dirty="0" smtClean="0">
              <a:latin typeface="Times New Roman" pitchFamily="18" charset="0"/>
              <a:cs typeface="Times New Roman" pitchFamily="18" charset="0"/>
            </a:rPr>
            <a:t>воплощена система качественного управления безопасностью пищевых продуктов в течение последующих пяти лет.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8FBF9200-51EA-4D42-86F8-1D321A4AB68B}" type="parTrans" cxnId="{C1E3BA3D-DEB6-4C56-8CE3-7058C8633AE6}">
      <dgm:prSet/>
      <dgm:spPr/>
      <dgm:t>
        <a:bodyPr/>
        <a:lstStyle/>
        <a:p>
          <a:endParaRPr lang="ru-RU"/>
        </a:p>
      </dgm:t>
    </dgm:pt>
    <dgm:pt modelId="{9F1F4B73-6186-4D17-ACE1-942996CE0F94}" type="sibTrans" cxnId="{C1E3BA3D-DEB6-4C56-8CE3-7058C8633AE6}">
      <dgm:prSet/>
      <dgm:spPr/>
      <dgm:t>
        <a:bodyPr/>
        <a:lstStyle/>
        <a:p>
          <a:endParaRPr lang="ru-RU"/>
        </a:p>
      </dgm:t>
    </dgm:pt>
    <dgm:pt modelId="{F1833520-8AC5-45BC-821B-B0CF9C548B02}" type="pres">
      <dgm:prSet presAssocID="{91C048FF-43FF-4E52-B094-C5558CD5D1F5}" presName="outerComposite" presStyleCnt="0">
        <dgm:presLayoutVars>
          <dgm:chMax val="5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607B56F4-E968-4110-B293-A3C4016DF086}" type="pres">
      <dgm:prSet presAssocID="{91C048FF-43FF-4E52-B094-C5558CD5D1F5}" presName="dummyMaxCanvas" presStyleCnt="0">
        <dgm:presLayoutVars/>
      </dgm:prSet>
      <dgm:spPr/>
    </dgm:pt>
    <dgm:pt modelId="{04039FBA-C509-4541-800A-ECEC48817C33}" type="pres">
      <dgm:prSet presAssocID="{91C048FF-43FF-4E52-B094-C5558CD5D1F5}" presName="TwoNodes_1" presStyleLbl="node1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3005B5E-2690-4C8C-AC39-A05801342142}" type="pres">
      <dgm:prSet presAssocID="{91C048FF-43FF-4E52-B094-C5558CD5D1F5}" presName="TwoNodes_2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2EA8A72-5D6A-49A1-8A55-D171CE9A163E}" type="pres">
      <dgm:prSet presAssocID="{91C048FF-43FF-4E52-B094-C5558CD5D1F5}" presName="TwoConn_1-2" presStyleLbl="fgAccFollowNode1" presStyleIdx="0" presStyleCnt="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08E7765-B3B7-4959-A49F-D1431BA6F026}" type="pres">
      <dgm:prSet presAssocID="{91C048FF-43FF-4E52-B094-C5558CD5D1F5}" presName="TwoNodes_1_text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6DDFA8E-0A1D-4A71-ACD6-7F0F114D6247}" type="pres">
      <dgm:prSet presAssocID="{91C048FF-43FF-4E52-B094-C5558CD5D1F5}" presName="TwoNodes_2_text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16321CD-AF67-4BD8-8CFD-2F08F7DCEFAA}" type="presOf" srcId="{9D3A4671-7A58-457F-A69D-1AA527B0E180}" destId="{D3005B5E-2690-4C8C-AC39-A05801342142}" srcOrd="0" destOrd="0" presId="urn:microsoft.com/office/officeart/2005/8/layout/vProcess5"/>
    <dgm:cxn modelId="{94F2E6F5-3FFE-491D-84D8-FCB923C05AC5}" type="presOf" srcId="{9D3A4671-7A58-457F-A69D-1AA527B0E180}" destId="{16DDFA8E-0A1D-4A71-ACD6-7F0F114D6247}" srcOrd="1" destOrd="0" presId="urn:microsoft.com/office/officeart/2005/8/layout/vProcess5"/>
    <dgm:cxn modelId="{38DB9DEB-CE5D-4374-8133-B7F19356204D}" srcId="{91C048FF-43FF-4E52-B094-C5558CD5D1F5}" destId="{DAD5209C-4F81-4C15-9512-7C0BD8787E08}" srcOrd="0" destOrd="0" parTransId="{866B214B-3BF3-4390-B040-5912F01B4681}" sibTransId="{399BAEF9-5D50-4CEE-A58B-D22506724968}"/>
    <dgm:cxn modelId="{487A6906-A098-48A1-A715-350024704464}" type="presOf" srcId="{DAD5209C-4F81-4C15-9512-7C0BD8787E08}" destId="{04039FBA-C509-4541-800A-ECEC48817C33}" srcOrd="0" destOrd="0" presId="urn:microsoft.com/office/officeart/2005/8/layout/vProcess5"/>
    <dgm:cxn modelId="{F50A342E-060A-461E-8E8C-1CBA1D1923EF}" type="presOf" srcId="{91C048FF-43FF-4E52-B094-C5558CD5D1F5}" destId="{F1833520-8AC5-45BC-821B-B0CF9C548B02}" srcOrd="0" destOrd="0" presId="urn:microsoft.com/office/officeart/2005/8/layout/vProcess5"/>
    <dgm:cxn modelId="{C1E3BA3D-DEB6-4C56-8CE3-7058C8633AE6}" srcId="{91C048FF-43FF-4E52-B094-C5558CD5D1F5}" destId="{9D3A4671-7A58-457F-A69D-1AA527B0E180}" srcOrd="1" destOrd="0" parTransId="{8FBF9200-51EA-4D42-86F8-1D321A4AB68B}" sibTransId="{9F1F4B73-6186-4D17-ACE1-942996CE0F94}"/>
    <dgm:cxn modelId="{D08ED00C-DABD-47B8-8459-494D301349BC}" type="presOf" srcId="{399BAEF9-5D50-4CEE-A58B-D22506724968}" destId="{62EA8A72-5D6A-49A1-8A55-D171CE9A163E}" srcOrd="0" destOrd="0" presId="urn:microsoft.com/office/officeart/2005/8/layout/vProcess5"/>
    <dgm:cxn modelId="{A630EDD6-A642-44FD-A9B7-E1FD3F1882A7}" type="presOf" srcId="{DAD5209C-4F81-4C15-9512-7C0BD8787E08}" destId="{F08E7765-B3B7-4959-A49F-D1431BA6F026}" srcOrd="1" destOrd="0" presId="urn:microsoft.com/office/officeart/2005/8/layout/vProcess5"/>
    <dgm:cxn modelId="{98AFDB93-9DAB-488C-970D-8CEF246B7598}" type="presParOf" srcId="{F1833520-8AC5-45BC-821B-B0CF9C548B02}" destId="{607B56F4-E968-4110-B293-A3C4016DF086}" srcOrd="0" destOrd="0" presId="urn:microsoft.com/office/officeart/2005/8/layout/vProcess5"/>
    <dgm:cxn modelId="{4A8D1224-D24E-414A-A479-C54EC3AC38F3}" type="presParOf" srcId="{F1833520-8AC5-45BC-821B-B0CF9C548B02}" destId="{04039FBA-C509-4541-800A-ECEC48817C33}" srcOrd="1" destOrd="0" presId="urn:microsoft.com/office/officeart/2005/8/layout/vProcess5"/>
    <dgm:cxn modelId="{D18FE988-AAB7-45FB-B3B1-D1575E882D89}" type="presParOf" srcId="{F1833520-8AC5-45BC-821B-B0CF9C548B02}" destId="{D3005B5E-2690-4C8C-AC39-A05801342142}" srcOrd="2" destOrd="0" presId="urn:microsoft.com/office/officeart/2005/8/layout/vProcess5"/>
    <dgm:cxn modelId="{66B77432-62A8-4358-B8FC-ECFC0C4778B7}" type="presParOf" srcId="{F1833520-8AC5-45BC-821B-B0CF9C548B02}" destId="{62EA8A72-5D6A-49A1-8A55-D171CE9A163E}" srcOrd="3" destOrd="0" presId="urn:microsoft.com/office/officeart/2005/8/layout/vProcess5"/>
    <dgm:cxn modelId="{CA0ED4E8-5CAD-40A4-9F6C-B6E4ED5B042C}" type="presParOf" srcId="{F1833520-8AC5-45BC-821B-B0CF9C548B02}" destId="{F08E7765-B3B7-4959-A49F-D1431BA6F026}" srcOrd="4" destOrd="0" presId="urn:microsoft.com/office/officeart/2005/8/layout/vProcess5"/>
    <dgm:cxn modelId="{AF630EF4-ABCF-480C-88C8-87F38C086BFE}" type="presParOf" srcId="{F1833520-8AC5-45BC-821B-B0CF9C548B02}" destId="{16DDFA8E-0A1D-4A71-ACD6-7F0F114D6247}" srcOrd="5" destOrd="0" presId="urn:microsoft.com/office/officeart/2005/8/layout/vProcess5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A24BE08E-7114-4A5C-940B-973A9906D4D9}">
      <dsp:nvSpPr>
        <dsp:cNvPr id="0" name=""/>
        <dsp:cNvSpPr/>
      </dsp:nvSpPr>
      <dsp:spPr>
        <a:xfrm>
          <a:off x="162523" y="0"/>
          <a:ext cx="6143668" cy="6143668"/>
        </a:xfrm>
        <a:prstGeom prst="triangle">
          <a:avLst/>
        </a:prstGeom>
        <a:solidFill>
          <a:srgbClr val="C0000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E1EFD2D1-03F2-4F4F-844C-A15297A5D067}">
      <dsp:nvSpPr>
        <dsp:cNvPr id="0" name=""/>
        <dsp:cNvSpPr/>
      </dsp:nvSpPr>
      <dsp:spPr>
        <a:xfrm>
          <a:off x="2194939" y="614966"/>
          <a:ext cx="6072220" cy="2183881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В Китае понимают, что от того, насколько успешно удастся решить  продовольственную проблему и обеспечить продовольственную независимость страны, во многом зависят и перспективы модернизации КНР и, в конечном счете, стабильность развития китайского общества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2194939" y="614966"/>
        <a:ext cx="6072220" cy="2183881"/>
      </dsp:txXfrm>
    </dsp:sp>
    <dsp:sp modelId="{BADCE81E-C5AF-4080-BF1C-2D9294A72C29}">
      <dsp:nvSpPr>
        <dsp:cNvPr id="0" name=""/>
        <dsp:cNvSpPr/>
      </dsp:nvSpPr>
      <dsp:spPr>
        <a:xfrm>
          <a:off x="2714638" y="3071834"/>
          <a:ext cx="5032822" cy="2183881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Однако если закупки за рубежом начинают превышать 20% и при этом возможности страны оплачивать поставки по импорту недостаточны, то её продовольственная безопасность оказывается под  угрозой.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2714638" y="3071834"/>
        <a:ext cx="5032822" cy="2183881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02033FE6-A0F4-4E47-8146-EFF6B7D92E25}">
      <dsp:nvSpPr>
        <dsp:cNvPr id="0" name=""/>
        <dsp:cNvSpPr/>
      </dsp:nvSpPr>
      <dsp:spPr>
        <a:xfrm rot="5400000">
          <a:off x="-361652" y="362453"/>
          <a:ext cx="2411015" cy="1687710"/>
        </a:xfrm>
        <a:prstGeom prst="chevron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9210" tIns="29210" rIns="29210" bIns="29210" numCol="1" spcCol="1270" anchor="ctr" anchorCtr="0">
          <a:noAutofit/>
        </a:bodyPr>
        <a:lstStyle/>
        <a:p>
          <a:pPr lvl="0" algn="ctr" defTabSz="2044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600" kern="1200"/>
        </a:p>
      </dsp:txBody>
      <dsp:txXfrm rot="5400000">
        <a:off x="-361652" y="362453"/>
        <a:ext cx="2411015" cy="1687710"/>
      </dsp:txXfrm>
    </dsp:sp>
    <dsp:sp modelId="{968A543C-568D-4311-BBD1-49FAB5659A1C}">
      <dsp:nvSpPr>
        <dsp:cNvPr id="0" name=""/>
        <dsp:cNvSpPr/>
      </dsp:nvSpPr>
      <dsp:spPr>
        <a:xfrm rot="5400000">
          <a:off x="4632275" y="-2943762"/>
          <a:ext cx="1567160" cy="7456289"/>
        </a:xfrm>
        <a:prstGeom prst="round2Same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56464" tIns="13970" rIns="13970" bIns="13970" numCol="1" spcCol="1270" anchor="ctr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200" b="1" kern="1200" dirty="0" smtClean="0"/>
            <a:t>В Китае продовольственная безопасность в основном гарантирована. Степень самоснабжения продовольствием превышает 95%. </a:t>
          </a:r>
          <a:endParaRPr lang="ru-RU" sz="2200" kern="1200" dirty="0"/>
        </a:p>
      </dsp:txBody>
      <dsp:txXfrm rot="5400000">
        <a:off x="4632275" y="-2943762"/>
        <a:ext cx="1567160" cy="7456289"/>
      </dsp:txXfrm>
    </dsp:sp>
    <dsp:sp modelId="{E9C8DFD3-62CA-4C3A-9C21-74513FE9EDD6}">
      <dsp:nvSpPr>
        <dsp:cNvPr id="0" name=""/>
        <dsp:cNvSpPr/>
      </dsp:nvSpPr>
      <dsp:spPr>
        <a:xfrm rot="5400000">
          <a:off x="-361652" y="2585144"/>
          <a:ext cx="2411015" cy="1687710"/>
        </a:xfrm>
        <a:prstGeom prst="chevron">
          <a:avLst/>
        </a:prstGeom>
        <a:solidFill>
          <a:schemeClr val="accent2">
            <a:hueOff val="2340759"/>
            <a:satOff val="-2919"/>
            <a:lumOff val="686"/>
            <a:alphaOff val="0"/>
          </a:schemeClr>
        </a:solidFill>
        <a:ln w="25400" cap="flat" cmpd="sng" algn="ctr">
          <a:solidFill>
            <a:schemeClr val="accent2">
              <a:hueOff val="2340759"/>
              <a:satOff val="-2919"/>
              <a:lumOff val="686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9210" tIns="29210" rIns="29210" bIns="29210" numCol="1" spcCol="1270" anchor="ctr" anchorCtr="0">
          <a:noAutofit/>
        </a:bodyPr>
        <a:lstStyle/>
        <a:p>
          <a:pPr lvl="0" algn="ctr" defTabSz="2044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600" kern="1200"/>
        </a:p>
      </dsp:txBody>
      <dsp:txXfrm rot="5400000">
        <a:off x="-361652" y="2585144"/>
        <a:ext cx="2411015" cy="1687710"/>
      </dsp:txXfrm>
    </dsp:sp>
    <dsp:sp modelId="{931EFBA2-D794-4730-9483-A332380A304A}">
      <dsp:nvSpPr>
        <dsp:cNvPr id="0" name=""/>
        <dsp:cNvSpPr/>
      </dsp:nvSpPr>
      <dsp:spPr>
        <a:xfrm rot="5400000">
          <a:off x="4632275" y="-721072"/>
          <a:ext cx="1567160" cy="7456289"/>
        </a:xfrm>
        <a:prstGeom prst="round2Same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2340759"/>
              <a:satOff val="-2919"/>
              <a:lumOff val="686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56464" tIns="13970" rIns="13970" bIns="13970" numCol="1" spcCol="1270" anchor="ctr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200" b="1" kern="1200" dirty="0" smtClean="0"/>
            <a:t>Но следует принимать меры предосторожности заблаговременно, рассматривая проблему обеспечения 1,3-миллиардного населения питанием как задачу первой значимости в управлении государством. </a:t>
          </a:r>
          <a:endParaRPr lang="ru-RU" sz="2200" kern="1200" dirty="0"/>
        </a:p>
      </dsp:txBody>
      <dsp:txXfrm rot="5400000">
        <a:off x="4632275" y="-721072"/>
        <a:ext cx="1567160" cy="7456289"/>
      </dsp:txXfrm>
    </dsp:sp>
    <dsp:sp modelId="{3687D1DC-70C0-4C38-9C81-61D8AC48E04C}">
      <dsp:nvSpPr>
        <dsp:cNvPr id="0" name=""/>
        <dsp:cNvSpPr/>
      </dsp:nvSpPr>
      <dsp:spPr>
        <a:xfrm rot="5400000">
          <a:off x="-361652" y="4807835"/>
          <a:ext cx="2411015" cy="1687710"/>
        </a:xfrm>
        <a:prstGeom prst="chevron">
          <a:avLst/>
        </a:prstGeom>
        <a:solidFill>
          <a:schemeClr val="accent2">
            <a:hueOff val="4681519"/>
            <a:satOff val="-5839"/>
            <a:lumOff val="1373"/>
            <a:alphaOff val="0"/>
          </a:schemeClr>
        </a:solidFill>
        <a:ln w="25400" cap="flat" cmpd="sng" algn="ctr">
          <a:solidFill>
            <a:schemeClr val="accent2">
              <a:hueOff val="4681519"/>
              <a:satOff val="-5839"/>
              <a:lumOff val="1373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9210" tIns="29210" rIns="29210" bIns="29210" numCol="1" spcCol="1270" anchor="ctr" anchorCtr="0">
          <a:noAutofit/>
        </a:bodyPr>
        <a:lstStyle/>
        <a:p>
          <a:pPr lvl="0" algn="ctr" defTabSz="2044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600" kern="1200"/>
        </a:p>
      </dsp:txBody>
      <dsp:txXfrm rot="5400000">
        <a:off x="-361652" y="4807835"/>
        <a:ext cx="2411015" cy="1687710"/>
      </dsp:txXfrm>
    </dsp:sp>
    <dsp:sp modelId="{8B3320F9-6CB2-4370-A1E2-8D515EFEEBD6}">
      <dsp:nvSpPr>
        <dsp:cNvPr id="0" name=""/>
        <dsp:cNvSpPr/>
      </dsp:nvSpPr>
      <dsp:spPr>
        <a:xfrm rot="5400000">
          <a:off x="4632275" y="1501618"/>
          <a:ext cx="1567160" cy="7456289"/>
        </a:xfrm>
        <a:prstGeom prst="round2Same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4681519"/>
              <a:satOff val="-5839"/>
              <a:lumOff val="1373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56464" tIns="13970" rIns="13970" bIns="13970" numCol="1" spcCol="1270" anchor="ctr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200" b="1" kern="1200" dirty="0" smtClean="0"/>
            <a:t>Китаю ни в коем случае нельзя рассчитывать на зарубежные страны для обеспечения себя зерном.</a:t>
          </a:r>
          <a:br>
            <a:rPr lang="ru-RU" sz="2200" b="1" kern="1200" dirty="0" smtClean="0"/>
          </a:br>
          <a:endParaRPr lang="ru-RU" sz="2200" kern="1200" dirty="0"/>
        </a:p>
      </dsp:txBody>
      <dsp:txXfrm rot="5400000">
        <a:off x="4632275" y="1501618"/>
        <a:ext cx="1567160" cy="7456289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C841B30B-0057-401D-A7BD-97719640B98D}">
      <dsp:nvSpPr>
        <dsp:cNvPr id="0" name=""/>
        <dsp:cNvSpPr/>
      </dsp:nvSpPr>
      <dsp:spPr>
        <a:xfrm>
          <a:off x="0" y="0"/>
          <a:ext cx="7772400" cy="1950250"/>
        </a:xfrm>
        <a:prstGeom prst="roundRect">
          <a:avLst>
            <a:gd name="adj" fmla="val 10000"/>
          </a:avLst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0010" tIns="80010" rIns="80010" bIns="80010" numCol="1" spcCol="1270" anchor="ctr" anchorCtr="0">
          <a:noAutofit/>
        </a:bodyPr>
        <a:lstStyle/>
        <a:p>
          <a:pPr lvl="0" algn="l" defTabSz="9334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100" kern="1200" dirty="0" smtClean="0"/>
            <a:t>С точки зрения совокупного объема зернового производства Китай в силах обеспечить свою продовольственную безопасность. </a:t>
          </a:r>
          <a:endParaRPr lang="ru-RU" sz="2100" kern="1200" dirty="0"/>
        </a:p>
      </dsp:txBody>
      <dsp:txXfrm>
        <a:off x="0" y="0"/>
        <a:ext cx="5782169" cy="1950250"/>
      </dsp:txXfrm>
    </dsp:sp>
    <dsp:sp modelId="{80C5A504-177B-4B1A-BB9D-19C6208AEC65}">
      <dsp:nvSpPr>
        <dsp:cNvPr id="0" name=""/>
        <dsp:cNvSpPr/>
      </dsp:nvSpPr>
      <dsp:spPr>
        <a:xfrm>
          <a:off x="685799" y="2275291"/>
          <a:ext cx="7772400" cy="1950250"/>
        </a:xfrm>
        <a:prstGeom prst="roundRect">
          <a:avLst>
            <a:gd name="adj" fmla="val 10000"/>
          </a:avLst>
        </a:prstGeom>
        <a:solidFill>
          <a:schemeClr val="accent5">
            <a:hueOff val="-4966938"/>
            <a:satOff val="19906"/>
            <a:lumOff val="4314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0010" tIns="80010" rIns="80010" bIns="80010" numCol="1" spcCol="1270" anchor="ctr" anchorCtr="0">
          <a:noAutofit/>
        </a:bodyPr>
        <a:lstStyle/>
        <a:p>
          <a:pPr lvl="0" algn="l" defTabSz="9334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100" kern="1200" dirty="0" smtClean="0"/>
            <a:t>В 2011 году валовой сбор зерновых в стране превысил 570 </a:t>
          </a:r>
          <a:r>
            <a:rPr lang="ru-RU" sz="2100" kern="1200" dirty="0" err="1" smtClean="0"/>
            <a:t>млн</a:t>
          </a:r>
          <a:r>
            <a:rPr lang="ru-RU" sz="2100" kern="1200" dirty="0" smtClean="0"/>
            <a:t> тонн - примерно 22 процента от общемирового показателя, а численность китайского населения составила 19 процентов от общей численности населения всей планеты.</a:t>
          </a:r>
          <a:endParaRPr lang="ru-RU" sz="2100" kern="1200" dirty="0"/>
        </a:p>
      </dsp:txBody>
      <dsp:txXfrm>
        <a:off x="685799" y="2275291"/>
        <a:ext cx="5818937" cy="1950250"/>
      </dsp:txXfrm>
    </dsp:sp>
    <dsp:sp modelId="{38192D25-4356-4364-BE59-ECE6964857C9}">
      <dsp:nvSpPr>
        <dsp:cNvPr id="0" name=""/>
        <dsp:cNvSpPr/>
      </dsp:nvSpPr>
      <dsp:spPr>
        <a:xfrm>
          <a:off x="1371599" y="4550583"/>
          <a:ext cx="7772400" cy="1950250"/>
        </a:xfrm>
        <a:prstGeom prst="roundRect">
          <a:avLst>
            <a:gd name="adj" fmla="val 10000"/>
          </a:avLst>
        </a:prstGeom>
        <a:solidFill>
          <a:schemeClr val="accent5">
            <a:hueOff val="-9933876"/>
            <a:satOff val="39811"/>
            <a:lumOff val="8628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0010" tIns="80010" rIns="80010" bIns="80010" numCol="1" spcCol="1270" anchor="ctr" anchorCtr="0">
          <a:noAutofit/>
        </a:bodyPr>
        <a:lstStyle/>
        <a:p>
          <a:pPr lvl="0" algn="l" defTabSz="9334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100" kern="1200" dirty="0" smtClean="0"/>
            <a:t>В последние годы наблюдался значительный рост импорта соевых бобов, который в 2010 году достиг рекордного уровня - 54,8 </a:t>
          </a:r>
          <a:r>
            <a:rPr lang="ru-RU" sz="2100" kern="1200" dirty="0" err="1" smtClean="0"/>
            <a:t>млн</a:t>
          </a:r>
          <a:r>
            <a:rPr lang="ru-RU" sz="2100" kern="1200" dirty="0" smtClean="0"/>
            <a:t> тонн, а в прошлом году - около 52,6 </a:t>
          </a:r>
          <a:r>
            <a:rPr lang="ru-RU" sz="2100" kern="1200" dirty="0" err="1" smtClean="0"/>
            <a:t>млн</a:t>
          </a:r>
          <a:r>
            <a:rPr lang="ru-RU" sz="2100" kern="1200" dirty="0" smtClean="0"/>
            <a:t> тонн.</a:t>
          </a:r>
          <a:endParaRPr lang="ru-RU" sz="2100" kern="1200" dirty="0"/>
        </a:p>
      </dsp:txBody>
      <dsp:txXfrm>
        <a:off x="1371599" y="4550583"/>
        <a:ext cx="5818937" cy="1950250"/>
      </dsp:txXfrm>
    </dsp:sp>
    <dsp:sp modelId="{E6D10B2B-0089-48BD-A6FF-773404C54DB5}">
      <dsp:nvSpPr>
        <dsp:cNvPr id="0" name=""/>
        <dsp:cNvSpPr/>
      </dsp:nvSpPr>
      <dsp:spPr>
        <a:xfrm>
          <a:off x="6504737" y="1478939"/>
          <a:ext cx="1267662" cy="1267662"/>
        </a:xfrm>
        <a:prstGeom prst="downArrow">
          <a:avLst>
            <a:gd name="adj1" fmla="val 55000"/>
            <a:gd name="adj2" fmla="val 45000"/>
          </a:avLst>
        </a:prstGeom>
        <a:solidFill>
          <a:schemeClr val="accent5">
            <a:tint val="40000"/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45720" rIns="45720" bIns="45720" numCol="1" spcCol="1270" anchor="ctr" anchorCtr="0">
          <a:noAutofit/>
        </a:bodyPr>
        <a:lstStyle/>
        <a:p>
          <a:pPr lvl="0" algn="ctr" defTabSz="1600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3600" kern="1200"/>
        </a:p>
      </dsp:txBody>
      <dsp:txXfrm>
        <a:off x="6504737" y="1478939"/>
        <a:ext cx="1267662" cy="1267662"/>
      </dsp:txXfrm>
    </dsp:sp>
    <dsp:sp modelId="{0A3571D2-208A-4E30-A8F9-C7C8CC1E702C}">
      <dsp:nvSpPr>
        <dsp:cNvPr id="0" name=""/>
        <dsp:cNvSpPr/>
      </dsp:nvSpPr>
      <dsp:spPr>
        <a:xfrm>
          <a:off x="7190537" y="3741229"/>
          <a:ext cx="1267662" cy="1267662"/>
        </a:xfrm>
        <a:prstGeom prst="downArrow">
          <a:avLst>
            <a:gd name="adj1" fmla="val 55000"/>
            <a:gd name="adj2" fmla="val 45000"/>
          </a:avLst>
        </a:prstGeom>
        <a:solidFill>
          <a:schemeClr val="accent5">
            <a:tint val="40000"/>
            <a:alpha val="90000"/>
            <a:hueOff val="-10740482"/>
            <a:satOff val="48253"/>
            <a:lumOff val="3317"/>
            <a:alphaOff val="0"/>
          </a:schemeClr>
        </a:solidFill>
        <a:ln w="25400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45720" rIns="45720" bIns="45720" numCol="1" spcCol="1270" anchor="ctr" anchorCtr="0">
          <a:noAutofit/>
        </a:bodyPr>
        <a:lstStyle/>
        <a:p>
          <a:pPr lvl="0" algn="ctr" defTabSz="1600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3600" kern="1200"/>
        </a:p>
      </dsp:txBody>
      <dsp:txXfrm>
        <a:off x="7190537" y="3741229"/>
        <a:ext cx="1267662" cy="1267662"/>
      </dsp:txXfrm>
    </dsp:sp>
  </dsp:spTree>
</dsp:drawing>
</file>

<file path=ppt/diagrams/drawing4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34514A7B-C17C-483F-98D6-6A1FFEF6E173}">
      <dsp:nvSpPr>
        <dsp:cNvPr id="0" name=""/>
        <dsp:cNvSpPr/>
      </dsp:nvSpPr>
      <dsp:spPr>
        <a:xfrm>
          <a:off x="1143000" y="0"/>
          <a:ext cx="6858000" cy="6858000"/>
        </a:xfrm>
        <a:prstGeom prst="diamond">
          <a:avLst/>
        </a:prstGeom>
        <a:solidFill>
          <a:srgbClr val="00B050"/>
        </a:soli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0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/>
      </dsp:style>
    </dsp:sp>
    <dsp:sp modelId="{BB775299-9FBF-4C7E-A39D-1BB24C98DF91}">
      <dsp:nvSpPr>
        <dsp:cNvPr id="0" name=""/>
        <dsp:cNvSpPr/>
      </dsp:nvSpPr>
      <dsp:spPr>
        <a:xfrm>
          <a:off x="1794510" y="651509"/>
          <a:ext cx="2674620" cy="2674620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50000"/>
                <a:satMod val="300000"/>
              </a:schemeClr>
            </a:gs>
            <a:gs pos="35000">
              <a:schemeClr val="accent5">
                <a:hueOff val="0"/>
                <a:satOff val="0"/>
                <a:lumOff val="0"/>
                <a:alphaOff val="0"/>
                <a:tint val="37000"/>
                <a:satMod val="30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15000"/>
                <a:satMod val="350000"/>
              </a:schemeClr>
            </a:gs>
          </a:gsLst>
          <a:lin ang="16200000" scaled="1"/>
        </a:gra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Первоочередными мерами станет регулирование стандартов и правовых систем пищевого производства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1794510" y="651509"/>
        <a:ext cx="2674620" cy="2674620"/>
      </dsp:txXfrm>
    </dsp:sp>
    <dsp:sp modelId="{546F7566-8C3A-4605-A7E6-1964E383DCBE}">
      <dsp:nvSpPr>
        <dsp:cNvPr id="0" name=""/>
        <dsp:cNvSpPr/>
      </dsp:nvSpPr>
      <dsp:spPr>
        <a:xfrm>
          <a:off x="4674870" y="651509"/>
          <a:ext cx="2674620" cy="2674620"/>
        </a:xfrm>
        <a:prstGeom prst="roundRect">
          <a:avLst/>
        </a:prstGeom>
        <a:gradFill rotWithShape="0">
          <a:gsLst>
            <a:gs pos="0">
              <a:schemeClr val="accent5">
                <a:hueOff val="-3311292"/>
                <a:satOff val="13270"/>
                <a:lumOff val="2876"/>
                <a:alphaOff val="0"/>
                <a:tint val="50000"/>
                <a:satMod val="300000"/>
              </a:schemeClr>
            </a:gs>
            <a:gs pos="35000">
              <a:schemeClr val="accent5">
                <a:hueOff val="-3311292"/>
                <a:satOff val="13270"/>
                <a:lumOff val="2876"/>
                <a:alphaOff val="0"/>
                <a:tint val="37000"/>
                <a:satMod val="300000"/>
              </a:schemeClr>
            </a:gs>
            <a:gs pos="100000">
              <a:schemeClr val="accent5">
                <a:hueOff val="-3311292"/>
                <a:satOff val="13270"/>
                <a:lumOff val="2876"/>
                <a:alphaOff val="0"/>
                <a:tint val="15000"/>
                <a:satMod val="350000"/>
              </a:schemeClr>
            </a:gs>
          </a:gsLst>
          <a:lin ang="16200000" scaled="1"/>
        </a:gra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Госорганы начнут проверки продовольственных предприятий. 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4674870" y="651509"/>
        <a:ext cx="2674620" cy="2674620"/>
      </dsp:txXfrm>
    </dsp:sp>
    <dsp:sp modelId="{178C6598-3340-45DC-8A48-F74C75AB2F66}">
      <dsp:nvSpPr>
        <dsp:cNvPr id="0" name=""/>
        <dsp:cNvSpPr/>
      </dsp:nvSpPr>
      <dsp:spPr>
        <a:xfrm>
          <a:off x="1794510" y="3531870"/>
          <a:ext cx="2674620" cy="2674620"/>
        </a:xfrm>
        <a:prstGeom prst="roundRect">
          <a:avLst/>
        </a:prstGeom>
        <a:gradFill rotWithShape="0">
          <a:gsLst>
            <a:gs pos="0">
              <a:schemeClr val="accent5">
                <a:hueOff val="-6622584"/>
                <a:satOff val="26541"/>
                <a:lumOff val="5752"/>
                <a:alphaOff val="0"/>
                <a:tint val="50000"/>
                <a:satMod val="300000"/>
              </a:schemeClr>
            </a:gs>
            <a:gs pos="35000">
              <a:schemeClr val="accent5">
                <a:hueOff val="-6622584"/>
                <a:satOff val="26541"/>
                <a:lumOff val="5752"/>
                <a:alphaOff val="0"/>
                <a:tint val="37000"/>
                <a:satMod val="300000"/>
              </a:schemeClr>
            </a:gs>
            <a:gs pos="100000">
              <a:schemeClr val="accent5">
                <a:hueOff val="-6622584"/>
                <a:satOff val="26541"/>
                <a:lumOff val="5752"/>
                <a:alphaOff val="0"/>
                <a:tint val="15000"/>
                <a:satMod val="350000"/>
              </a:schemeClr>
            </a:gs>
          </a:gsLst>
          <a:lin ang="16200000" scaled="1"/>
        </a:gra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Заводы, чья продукция несет угрозу здоровью людей, будут закрываться. 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1794510" y="3531870"/>
        <a:ext cx="2674620" cy="2674620"/>
      </dsp:txXfrm>
    </dsp:sp>
    <dsp:sp modelId="{02577A2C-7604-410D-8AEC-F8EC56EA4CDE}">
      <dsp:nvSpPr>
        <dsp:cNvPr id="0" name=""/>
        <dsp:cNvSpPr/>
      </dsp:nvSpPr>
      <dsp:spPr>
        <a:xfrm>
          <a:off x="4674870" y="3531870"/>
          <a:ext cx="2674620" cy="2674620"/>
        </a:xfrm>
        <a:prstGeom prst="roundRect">
          <a:avLst/>
        </a:prstGeom>
        <a:gradFill rotWithShape="0">
          <a:gsLst>
            <a:gs pos="0">
              <a:schemeClr val="accent5">
                <a:hueOff val="-9933876"/>
                <a:satOff val="39811"/>
                <a:lumOff val="8628"/>
                <a:alphaOff val="0"/>
                <a:tint val="50000"/>
                <a:satMod val="300000"/>
              </a:schemeClr>
            </a:gs>
            <a:gs pos="35000">
              <a:schemeClr val="accent5">
                <a:hueOff val="-9933876"/>
                <a:satOff val="39811"/>
                <a:lumOff val="8628"/>
                <a:alphaOff val="0"/>
                <a:tint val="37000"/>
                <a:satMod val="300000"/>
              </a:schemeClr>
            </a:gs>
            <a:gs pos="100000">
              <a:schemeClr val="accent5">
                <a:hueOff val="-9933876"/>
                <a:satOff val="39811"/>
                <a:lumOff val="8628"/>
                <a:alphaOff val="0"/>
                <a:tint val="15000"/>
                <a:satMod val="350000"/>
              </a:schemeClr>
            </a:gs>
          </a:gsLst>
          <a:lin ang="16200000" scaled="1"/>
        </a:gra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А также эффективный надзор и наказание для тех, кто нарушил закон. 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4674870" y="3531870"/>
        <a:ext cx="2674620" cy="2674620"/>
      </dsp:txXfrm>
    </dsp:sp>
  </dsp:spTree>
</dsp:drawing>
</file>

<file path=ppt/diagrams/drawing5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04039FBA-C509-4541-800A-ECEC48817C33}">
      <dsp:nvSpPr>
        <dsp:cNvPr id="0" name=""/>
        <dsp:cNvSpPr/>
      </dsp:nvSpPr>
      <dsp:spPr>
        <a:xfrm>
          <a:off x="0" y="0"/>
          <a:ext cx="7772400" cy="210384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102870" tIns="102870" rIns="102870" bIns="102870" numCol="1" spcCol="1270" anchor="ctr" anchorCtr="0">
          <a:noAutofit/>
        </a:bodyPr>
        <a:lstStyle/>
        <a:p>
          <a:pPr lvl="0" algn="l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700" kern="1200" dirty="0" smtClean="0">
              <a:latin typeface="Times New Roman" pitchFamily="18" charset="0"/>
              <a:cs typeface="Times New Roman" pitchFamily="18" charset="0"/>
            </a:rPr>
            <a:t>будут созданы механизмы эффективного регулирования стандартов пищевого производства</a:t>
          </a:r>
          <a:endParaRPr lang="ru-RU" sz="27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0" y="0"/>
        <a:ext cx="5721153" cy="2103842"/>
      </dsp:txXfrm>
    </dsp:sp>
    <dsp:sp modelId="{D3005B5E-2690-4C8C-AC39-A05801342142}">
      <dsp:nvSpPr>
        <dsp:cNvPr id="0" name=""/>
        <dsp:cNvSpPr/>
      </dsp:nvSpPr>
      <dsp:spPr>
        <a:xfrm>
          <a:off x="1371599" y="2571363"/>
          <a:ext cx="7772400" cy="210384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-9933876"/>
                <a:satOff val="39811"/>
                <a:lumOff val="8628"/>
                <a:alphaOff val="0"/>
                <a:shade val="51000"/>
                <a:satMod val="130000"/>
              </a:schemeClr>
            </a:gs>
            <a:gs pos="80000">
              <a:schemeClr val="accent5">
                <a:hueOff val="-9933876"/>
                <a:satOff val="39811"/>
                <a:lumOff val="8628"/>
                <a:alphaOff val="0"/>
                <a:shade val="93000"/>
                <a:satMod val="130000"/>
              </a:schemeClr>
            </a:gs>
            <a:gs pos="100000">
              <a:schemeClr val="accent5">
                <a:hueOff val="-9933876"/>
                <a:satOff val="39811"/>
                <a:lumOff val="8628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102870" tIns="102870" rIns="102870" bIns="102870" numCol="1" spcCol="1270" anchor="ctr" anchorCtr="0">
          <a:noAutofit/>
        </a:bodyPr>
        <a:lstStyle/>
        <a:p>
          <a:pPr lvl="0" algn="l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700" kern="1200" dirty="0" smtClean="0">
              <a:latin typeface="Times New Roman" pitchFamily="18" charset="0"/>
              <a:cs typeface="Times New Roman" pitchFamily="18" charset="0"/>
            </a:rPr>
            <a:t>воплощена система качественного управления безопасностью пищевых продуктов в течение последующих пяти лет.</a:t>
          </a:r>
          <a:endParaRPr lang="ru-RU" sz="27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1371599" y="2571363"/>
        <a:ext cx="5033302" cy="2103842"/>
      </dsp:txXfrm>
    </dsp:sp>
    <dsp:sp modelId="{62EA8A72-5D6A-49A1-8A55-D171CE9A163E}">
      <dsp:nvSpPr>
        <dsp:cNvPr id="0" name=""/>
        <dsp:cNvSpPr/>
      </dsp:nvSpPr>
      <dsp:spPr>
        <a:xfrm>
          <a:off x="6404902" y="1653854"/>
          <a:ext cx="1367497" cy="1367497"/>
        </a:xfrm>
        <a:prstGeom prst="downArrow">
          <a:avLst>
            <a:gd name="adj1" fmla="val 55000"/>
            <a:gd name="adj2" fmla="val 45000"/>
          </a:avLst>
        </a:prstGeom>
        <a:solidFill>
          <a:schemeClr val="accent5">
            <a:tint val="40000"/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45720" tIns="45720" rIns="45720" bIns="45720" numCol="1" spcCol="1270" anchor="ctr" anchorCtr="0">
          <a:noAutofit/>
        </a:bodyPr>
        <a:lstStyle/>
        <a:p>
          <a:pPr lvl="0" algn="ctr" defTabSz="1600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3600" kern="1200"/>
        </a:p>
      </dsp:txBody>
      <dsp:txXfrm>
        <a:off x="6404902" y="1653854"/>
        <a:ext cx="1367497" cy="1367497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chevron2">
  <dgm:title val=""/>
  <dgm:desc val=""/>
  <dgm:catLst>
    <dgm:cat type="process" pri="12000"/>
    <dgm:cat type="list" pri="16000"/>
    <dgm:cat type="convert" pri="1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</dgm:ptLst>
      <dgm:cxnLst>
        <dgm:cxn modelId="4" srcId="0" destId="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alg type="lin">
      <dgm:param type="linDir" val="fromT"/>
      <dgm:param type="nodeHorzAlign" val="l"/>
    </dgm:alg>
    <dgm:shape xmlns:r="http://schemas.openxmlformats.org/officeDocument/2006/relationships" r:blip="">
      <dgm:adjLst/>
    </dgm:shape>
    <dgm:presOf/>
    <dgm:constrLst>
      <dgm:constr type="h" for="ch" forName="composite" refType="h"/>
      <dgm:constr type="w" for="ch" forName="composite" refType="w"/>
      <dgm:constr type="h" for="des" forName="parentText" op="equ"/>
      <dgm:constr type="h" for="ch" forName="sp" val="-14.88"/>
      <dgm:constr type="h" for="ch" forName="sp" refType="w" refFor="des" refForName="parentText" op="gte" fact="-0.3"/>
      <dgm:constr type="primFontSz" for="des" forName="parentText" op="equ" val="65"/>
      <dgm:constr type="primFontSz" for="des" forName="descendantText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t" for="ch" forName="parentText"/>
              <dgm:constr type="l" for="ch" forName="parentText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 refType="w" refFor="ch" refForName="pare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if>
          <dgm:else name="Name3">
            <dgm:constrLst>
              <dgm:constr type="t" for="ch" forName="parentText"/>
              <dgm:constr type="r" for="ch" forName="parentText" refType="w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else>
        </dgm:choose>
        <dgm:ruleLst/>
        <dgm:layoutNode name="parentText" styleLbl="alignNode1">
          <dgm:varLst>
            <dgm:chMax val="1"/>
            <dgm:bulletEnabled val="1"/>
          </dgm:varLst>
          <dgm:alg type="tx"/>
          <dgm:shape xmlns:r="http://schemas.openxmlformats.org/officeDocument/2006/relationships" rot="90" type="chevron" r:blip="">
            <dgm:adjLst/>
          </dgm:shape>
          <dgm:presOf axis="self" ptType="node"/>
          <dgm:constrLst>
            <dgm:constr type="lMarg" refType="primFontSz" fact="0.05"/>
            <dgm:constr type="rMarg" refType="primFontSz" fact="0.05"/>
            <dgm:constr type="tMarg" refType="primFontSz" fact="0.05"/>
            <dgm:constr type="bMarg" refType="primFontSz" fact="0.05"/>
          </dgm:constrLst>
          <dgm:ruleLst>
            <dgm:rule type="h" val="100" fact="NaN" max="NaN"/>
            <dgm:rule type="primFontSz" val="24" fact="NaN" max="NaN"/>
            <dgm:rule type="h" val="110" fact="NaN" max="NaN"/>
            <dgm:rule type="primFontSz" val="18" fact="NaN" max="NaN"/>
            <dgm:rule type="h" val="INF" fact="NaN" max="NaN"/>
            <dgm:rule type="primFontSz" val="5" fact="NaN" max="NaN"/>
          </dgm:ruleLst>
        </dgm:layoutNode>
        <dgm:layoutNode name="descendantText" styleLbl="alignAcc1">
          <dgm:varLst>
            <dgm:bulletEnabled val="1"/>
          </dgm:varLst>
          <dgm:choose name="Name4">
            <dgm:if name="Name5" func="var" arg="dir" op="equ" val="norm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90" type="round2SameRect" r:blip="">
                <dgm:adjLst/>
              </dgm:shape>
            </dgm:if>
            <dgm:else name="Name6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-90" type="round2SameRect" r:blip="">
                <dgm:adjLst/>
              </dgm:shape>
            </dgm:else>
          </dgm:choose>
          <dgm:presOf axis="des" ptType="node"/>
          <dgm:choose name="Name7">
            <dgm:if name="Name8" func="var" arg="dir" op="equ" val="norm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rMarg" refType="primFontSz" fact="0.05"/>
              </dgm:constrLst>
            </dgm:if>
            <dgm:else name="Name9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lMarg" refType="primFontSz" fact="0.05"/>
              </dgm:constrLst>
            </dgm:else>
          </dgm:choose>
          <dgm:ruleLst>
            <dgm:rule type="primFontSz" val="5" fact="NaN" max="NaN"/>
          </dgm:ruleLst>
        </dgm:layoutNode>
      </dgm:layoutNode>
      <dgm:forEach name="Name10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>
            <dgm:constr type="w" val="1"/>
            <dgm:constr type="h" val="37.5"/>
          </dgm:constrLst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Process5">
  <dgm:title val=""/>
  <dgm:desc val=""/>
  <dgm:catLst>
    <dgm:cat type="process" pri="1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</dgm:cxnLst>
      <dgm:bg/>
      <dgm:whole/>
    </dgm:dataModel>
  </dgm:clrData>
  <dgm:layoutNode name="outerComposite">
    <dgm:varLst>
      <dgm:chMax val="5"/>
      <dgm:dir/>
      <dgm:resizeHandles val="exact"/>
    </dgm:varLst>
    <dgm:alg type="composite"/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l" for="ch" forName="TwoNodes_1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r" for="ch" forName="TwoNodes_2" refType="w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r" for="ch" forName="TwoConn_1-2" refType="r" refFor="ch" refForName="TwoNodes_1"/>
          <dgm:constr type="r" for="ch" forName="TwoNodes_1_text" refType="l" refFor="ch" refForName="TwoConn_1-2"/>
          <dgm:constr type="rOff" for="ch" forName="TwoNodes_1_text" refType="w" refFor="ch" refForName="TwoConn_1-2" fact="-0.5"/>
          <dgm:constr type="t" for="ch" forName="TwoNodes_1_text" refType="t" refFor="ch" refForName="TwoNodes_1"/>
          <dgm:constr type="b" for="ch" forName="TwoNodes_1_text" refType="b" refFor="ch" refForName="TwoNodes_1"/>
          <dgm:constr type="l" for="ch" forName="TwoNodes_1_text" refType="l" refFor="ch" refForName="TwoNodes_1"/>
          <dgm:constr type="r" for="ch" forName="TwoNodes_2_text" refType="l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l" for="ch" forName="TwoNodes_2_text" refType="l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l" for="ch" forName="ThreeNodes_1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r" for="ch" forName="ThreeNodes_3" refType="w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r" for="ch" forName="ThreeConn_1-2" refType="r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r" for="ch" forName="ThreeConn_2-3" refType="r" refFor="ch" refForName="ThreeNodes_2"/>
          <dgm:constr type="r" for="ch" forName="ThreeNodes_1_text" refType="l" refFor="ch" refForName="ThreeConn_1-2"/>
          <dgm:constr type="rOff" for="ch" forName="ThreeNodes_1_text" refType="w" refFor="ch" refForName="ThreeConn_1-2" fact="-0.57"/>
          <dgm:constr type="t" for="ch" forName="ThreeNodes_1_text" refType="t" refFor="ch" refForName="ThreeNodes_1"/>
          <dgm:constr type="b" for="ch" forName="ThreeNodes_1_text" refType="b" refFor="ch" refForName="ThreeNodes_1"/>
          <dgm:constr type="l" for="ch" forName="ThreeNodes_1_text" refType="l" refFor="ch" refForName="ThreeNodes_1"/>
          <dgm:constr type="r" for="ch" forName="ThreeNodes_2_text" refType="l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l" for="ch" forName="ThreeNodes_2_text" refType="l" refFor="ch" refForName="ThreeNodes_2"/>
          <dgm:constr type="r" for="ch" forName="ThreeNodes_3_text" refType="l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l" for="ch" forName="ThreeNodes_3_text" refType="l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l" for="ch" forName="FourNodes_1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467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533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r" for="ch" forName="FourNodes_4" refType="w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r" for="ch" forName="FourConn_1-2" refType="r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r" for="ch" forName="FourConn_2-3" refType="r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r" for="ch" forName="FourConn_3-4" refType="r" refFor="ch" refForName="FourNodes_3"/>
          <dgm:constr type="r" for="ch" forName="FourNodes_1_text" refType="l" refFor="ch" refForName="FourConn_1-2"/>
          <dgm:constr type="rOff" for="ch" forName="FourNodes_1_text" refType="w" refFor="ch" refForName="FourConn_1-2" fact="-0.7"/>
          <dgm:constr type="t" for="ch" forName="FourNodes_1_text" refType="t" refFor="ch" refForName="FourNodes_1"/>
          <dgm:constr type="b" for="ch" forName="FourNodes_1_text" refType="b" refFor="ch" refForName="FourNodes_1"/>
          <dgm:constr type="l" for="ch" forName="FourNodes_1_text" refType="l" refFor="ch" refForName="FourNodes_1"/>
          <dgm:constr type="r" for="ch" forName="FourNodes_2_text" refType="l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l" for="ch" forName="FourNodes_2_text" refType="l" refFor="ch" refForName="FourNodes_2"/>
          <dgm:constr type="r" for="ch" forName="FourNodes_3_text" refType="l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l" for="ch" forName="FourNodes_3_text" refType="l" refFor="ch" refForName="FourNodes_3"/>
          <dgm:constr type="r" for="ch" forName="FourNodes_4_text" refType="l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l" for="ch" forName="FourNodes_4_text" refType="l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l" for="ch" forName="FiveNodes_1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442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557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r" for="ch" forName="FiveNodes_5" refType="w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r" for="ch" forName="FiveConn_1-2" refType="r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r" for="ch" forName="FiveConn_2-3" refType="r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r" for="ch" forName="FiveConn_3-4" refType="r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r" for="ch" forName="FiveConn_4-5" refType="r" refFor="ch" refForName="FiveNodes_4"/>
          <dgm:constr type="r" for="ch" forName="FiveNodes_1_text" refType="l" refFor="ch" refForName="FiveConn_1-2"/>
          <dgm:constr type="rOff" for="ch" forName="FiveNodes_1_text" refType="w" refFor="ch" refForName="FiveConn_1-2" fact="-0.75"/>
          <dgm:constr type="t" for="ch" forName="FiveNodes_1_text" refType="t" refFor="ch" refForName="FiveNodes_1"/>
          <dgm:constr type="b" for="ch" forName="FiveNodes_1_text" refType="b" refFor="ch" refForName="FiveNodes_1"/>
          <dgm:constr type="l" for="ch" forName="FiveNodes_1_text" refType="l" refFor="ch" refForName="FiveNodes_1"/>
          <dgm:constr type="r" for="ch" forName="FiveNodes_2_text" refType="l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l" for="ch" forName="FiveNodes_2_text" refType="l" refFor="ch" refForName="FiveNodes_2"/>
          <dgm:constr type="r" for="ch" forName="FiveNodes_3_text" refType="l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l" for="ch" forName="FiveNodes_3_text" refType="l" refFor="ch" refForName="FiveNodes_3"/>
          <dgm:constr type="r" for="ch" forName="FiveNodes_4_text" refType="l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l" for="ch" forName="FiveNodes_4_text" refType="l" refFor="ch" refForName="FiveNodes_4"/>
          <dgm:constr type="r" for="ch" forName="FiveNodes_5_text" refType="l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l" for="ch" forName="FiveNodes_5_text" refType="l" refFor="ch" refForName="FiveNodes_5"/>
        </dgm:constrLst>
      </dgm:if>
      <dgm:else name="Name2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r" for="ch" forName="TwoNodes_1" refType="w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l" for="ch" forName="TwoNodes_2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l" for="ch" forName="TwoConn_1-2" refType="l" refFor="ch" refForName="TwoNodes_1"/>
          <dgm:constr type="l" for="ch" forName="TwoNodes_1_text" refType="r" refFor="ch" refForName="TwoConn_1-2"/>
          <dgm:constr type="lOff" for="ch" forName="TwoNodes_1_text" refType="w" refFor="ch" refForName="TwoConn_1-2" fact="0.5"/>
          <dgm:constr type="t" for="ch" forName="TwoNodes_1_text" refType="t" refFor="ch" refForName="TwoNodes_1"/>
          <dgm:constr type="b" for="ch" forName="TwoNodes_1_text" refType="b" refFor="ch" refForName="TwoNodes_1"/>
          <dgm:constr type="r" for="ch" forName="TwoNodes_1_text" refType="r" refFor="ch" refForName="TwoNodes_1"/>
          <dgm:constr type="l" for="ch" forName="TwoNodes_2_text" refType="r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r" for="ch" forName="TwoNodes_2_text" refType="r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r" for="ch" forName="ThreeNodes_1" refType="w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l" for="ch" forName="ThreeNodes_3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l" for="ch" forName="ThreeConn_1-2" refType="l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l" for="ch" forName="ThreeConn_2-3" refType="l" refFor="ch" refForName="ThreeNodes_2"/>
          <dgm:constr type="l" for="ch" forName="ThreeNodes_1_text" refType="r" refFor="ch" refForName="ThreeConn_1-2"/>
          <dgm:constr type="lOff" for="ch" forName="ThreeNodes_1_text" refType="w" refFor="ch" refForName="ThreeConn_1-2" fact="0.55"/>
          <dgm:constr type="t" for="ch" forName="ThreeNodes_1_text" refType="t" refFor="ch" refForName="ThreeNodes_1"/>
          <dgm:constr type="b" for="ch" forName="ThreeNodes_1_text" refType="b" refFor="ch" refForName="ThreeNodes_1"/>
          <dgm:constr type="r" for="ch" forName="ThreeNodes_1_text" refType="r" refFor="ch" refForName="ThreeNodes_1"/>
          <dgm:constr type="l" for="ch" forName="ThreeNodes_2_text" refType="r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r" for="ch" forName="ThreeNodes_2_text" refType="r" refFor="ch" refForName="ThreeNodes_2"/>
          <dgm:constr type="l" for="ch" forName="ThreeNodes_3_text" refType="r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r" for="ch" forName="ThreeNodes_3_text" refType="r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r" for="ch" forName="FourNodes_1" refType="w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533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467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l" for="ch" forName="FourNodes_4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l" for="ch" forName="FourConn_1-2" refType="l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l" for="ch" forName="FourConn_2-3" refType="l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l" for="ch" forName="FourConn_3-4" refType="l" refFor="ch" refForName="FourNodes_3"/>
          <dgm:constr type="l" for="ch" forName="FourNodes_1_text" refType="r" refFor="ch" refForName="FourConn_1-2"/>
          <dgm:constr type="lOff" for="ch" forName="FourNodes_1_text" refType="w" refFor="ch" refForName="FourConn_1-2" fact="0.69"/>
          <dgm:constr type="t" for="ch" forName="FourNodes_1_text" refType="t" refFor="ch" refForName="FourNodes_1"/>
          <dgm:constr type="b" for="ch" forName="FourNodes_1_text" refType="b" refFor="ch" refForName="FourNodes_1"/>
          <dgm:constr type="r" for="ch" forName="FourNodes_1_text" refType="r" refFor="ch" refForName="FourNodes_1"/>
          <dgm:constr type="l" for="ch" forName="FourNodes_2_text" refType="r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r" for="ch" forName="FourNodes_2_text" refType="r" refFor="ch" refForName="FourNodes_2"/>
          <dgm:constr type="l" for="ch" forName="FourNodes_3_text" refType="r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r" for="ch" forName="FourNodes_3_text" refType="r" refFor="ch" refForName="FourNodes_3"/>
          <dgm:constr type="l" for="ch" forName="FourNodes_4_text" refType="r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r" for="ch" forName="FourNodes_4_text" refType="r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r" for="ch" forName="FiveNodes_1" refType="w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557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442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l" for="ch" forName="FiveNodes_5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l" for="ch" forName="FiveConn_1-2" refType="l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l" for="ch" forName="FiveConn_2-3" refType="l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l" for="ch" forName="FiveConn_3-4" refType="l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l" for="ch" forName="FiveConn_4-5" refType="l" refFor="ch" refForName="FiveNodes_4"/>
          <dgm:constr type="l" for="ch" forName="FiveNodes_1_text" refType="r" refFor="ch" refForName="FiveConn_1-2"/>
          <dgm:constr type="lOff" for="ch" forName="FiveNodes_1_text" refType="w" refFor="ch" refForName="FiveConn_1-2" fact="0.73"/>
          <dgm:constr type="t" for="ch" forName="FiveNodes_1_text" refType="t" refFor="ch" refForName="FiveNodes_1"/>
          <dgm:constr type="b" for="ch" forName="FiveNodes_1_text" refType="b" refFor="ch" refForName="FiveNodes_1"/>
          <dgm:constr type="r" for="ch" forName="FiveNodes_1_text" refType="r" refFor="ch" refForName="FiveNodes_1"/>
          <dgm:constr type="l" for="ch" forName="FiveNodes_2_text" refType="r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r" for="ch" forName="FiveNodes_2_text" refType="r" refFor="ch" refForName="FiveNodes_2"/>
          <dgm:constr type="l" for="ch" forName="FiveNodes_3_text" refType="r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r" for="ch" forName="FiveNodes_3_text" refType="r" refFor="ch" refForName="FiveNodes_3"/>
          <dgm:constr type="l" for="ch" forName="FiveNodes_4_text" refType="r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r" for="ch" forName="FiveNodes_4_text" refType="r" refFor="ch" refForName="FiveNodes_4"/>
          <dgm:constr type="l" for="ch" forName="FiveNodes_5_text" refType="r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r" for="ch" forName="FiveNodes_5_text" refType="r" refFor="ch" refForName="FiveNodes_5"/>
        </dgm:constrLst>
      </dgm:else>
    </dgm:choose>
    <dgm:ruleLst/>
    <dgm:layoutNode name="dummyMaxCanvas">
      <dgm:varLst/>
      <dgm:alg type="sp"/>
      <dgm:shape xmlns:r="http://schemas.openxmlformats.org/officeDocument/2006/relationships" r:blip="">
        <dgm:adjLst/>
      </dgm:shape>
      <dgm:presOf/>
      <dgm:constrLst/>
      <dgm:ruleLst/>
    </dgm:layoutNode>
    <dgm:choose name="Name3">
      <dgm:if name="Name4" axis="ch" ptType="node" func="cnt" op="equ" val="1">
        <dgm:layoutNode name="OneNode_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if>
      <dgm:else name="Name5">
        <dgm:choose name="Name6">
          <dgm:if name="Name7" axis="ch" ptType="node" func="cnt" op="equ" val="2">
            <dgm:layoutNode name="TwoNodes_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1 1" cnt="1 0"/>
              <dgm:constrLst/>
              <dgm:ruleLst/>
            </dgm:layoutNode>
            <dgm:layoutNode name="TwoNodes_2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2 1" cnt="1 0"/>
              <dgm:constrLst/>
              <dgm:ruleLst/>
            </dgm:layoutNode>
            <dgm:layoutNode name="TwoConn_1-2" styleLbl="fgAccFollowNode1">
              <dgm:varLst>
                <dgm:bulletEnabled val="1"/>
              </dgm:varLst>
              <dgm:alg type="tx"/>
              <dgm:shape xmlns:r="http://schemas.openxmlformats.org/officeDocument/2006/relationships" type="downArrow" r:blip="">
                <dgm:adjLst>
                  <dgm:adj idx="1" val="0.55"/>
                  <dgm:adj idx="2" val="0.45"/>
                </dgm:adjLst>
              </dgm:shape>
              <dgm:presOf axis="ch" ptType="sibTrans" cnt="1"/>
              <dgm:constrLst>
                <dgm:constr type="lMarg" refType="primFontSz" fact="0.1"/>
                <dgm:constr type="rMarg" refType="primFontSz" fact="0.1"/>
                <dgm:constr type="tMarg" refType="primFontSz" fact="0.1"/>
                <dgm:constr type="bMarg" refType="primFontSz" fact="0.1"/>
              </dgm:constrLst>
              <dgm:ruleLst>
                <dgm:rule type="primFontSz" val="5" fact="NaN" max="NaN"/>
              </dgm:ruleLst>
            </dgm:layoutNode>
            <dgm:layoutNode name="TwoNodes_1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1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  <dgm:layoutNode name="TwoNodes_2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2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if>
          <dgm:else name="Name8">
            <dgm:choose name="Name9">
              <dgm:if name="Name10" axis="ch" ptType="node" func="cnt" op="equ" val="3">
                <dgm:layoutNode name="ThreeNodes_1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1 1" cnt="1 0"/>
                  <dgm:constrLst/>
                  <dgm:ruleLst/>
                </dgm:layoutNode>
                <dgm:layoutNode name="ThreeNodes_2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2 1" cnt="1 0"/>
                  <dgm:constrLst/>
                  <dgm:ruleLst/>
                </dgm:layoutNode>
                <dgm:layoutNode name="ThreeNodes_3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3 1" cnt="1 0"/>
                  <dgm:constrLst/>
                  <dgm:ruleLst/>
                </dgm:layoutNode>
                <dgm:layoutNode name="ThreeConn_1-2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Conn_2-3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st="2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Nodes_1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1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2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2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3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3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1">
                <dgm:choose name="Name12">
                  <dgm:if name="Name13" axis="ch" ptType="node" func="cnt" op="equ" val="4">
                    <dgm:layoutNode name="FourNodes_1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/>
                      <dgm:ruleLst/>
                    </dgm:layoutNode>
                    <dgm:layoutNode name="FourNodes_2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/>
                      <dgm:ruleLst/>
                    </dgm:layoutNode>
                    <dgm:layoutNode name="FourNodes_3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/>
                      <dgm:ruleLst/>
                    </dgm:layoutNode>
                    <dgm:layoutNode name="FourNodes_4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/>
                      <dgm:ruleLst/>
                    </dgm:layoutNode>
                    <dgm:layoutNode name="FourConn_1-2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2-3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2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3-4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3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1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2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3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4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if>
                  <dgm:else name="Name14">
                    <dgm:choose name="Name15">
                      <dgm:if name="Name16" axis="ch" ptType="node" func="cnt" op="gte" val="5">
                        <dgm:layoutNode name="FiveNodes_1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/>
                          <dgm:ruleLst/>
                        </dgm:layoutNode>
                        <dgm:layoutNode name="FiveNodes_2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/>
                          <dgm:ruleLst/>
                        </dgm:layoutNode>
                        <dgm:layoutNode name="FiveNodes_3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/>
                          <dgm:ruleLst/>
                        </dgm:layoutNode>
                        <dgm:layoutNode name="FiveNodes_4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/>
                          <dgm:ruleLst/>
                        </dgm:layoutNode>
                        <dgm:layoutNode name="FiveNodes_5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/>
                          <dgm:ruleLst/>
                        </dgm:layoutNode>
                        <dgm:layoutNode name="FiveConn_1-2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2-3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2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3-4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3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4-5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4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1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2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3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4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5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</dgm:if>
                      <dgm:else name="Name17"/>
                    </dgm:choose>
                  </dgm:else>
                </dgm:choose>
              </dgm:else>
            </dgm:choose>
          </dgm:else>
        </dgm:choose>
      </dgm:else>
    </dgm:choose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matrix3">
  <dgm:title val=""/>
  <dgm:desc val=""/>
  <dgm:catLst>
    <dgm:cat type="matrix" pri="1000"/>
    <dgm:cat type="convert" pri="18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0" destOrd="0"/>
        <dgm:cxn modelId="8" srcId="0" destId="4" srcOrd="1" destOrd="0"/>
      </dgm:cxnLst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matrix">
    <dgm:varLst>
      <dgm:chMax val="1"/>
      <dgm:dir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w" for="ch" forName="diamond" refType="w"/>
          <dgm:constr type="h" for="ch" forName="diamond" refType="h"/>
          <dgm:constr type="w" for="ch" forName="quad1" refType="w" fact="0.39"/>
          <dgm:constr type="h" for="ch" forName="quad1" refType="h" fact="0.39"/>
          <dgm:constr type="ctrX" for="ch" forName="quad1" refType="w" fact="0.29"/>
          <dgm:constr type="ctrY" for="ch" forName="quad1" refType="h" fact="0.29"/>
          <dgm:constr type="w" for="ch" forName="quad2" refType="w" fact="0.39"/>
          <dgm:constr type="h" for="ch" forName="quad2" refType="h" fact="0.39"/>
          <dgm:constr type="ctrX" for="ch" forName="quad2" refType="w" fact="0.71"/>
          <dgm:constr type="ctrY" for="ch" forName="quad2" refType="h" fact="0.29"/>
          <dgm:constr type="w" for="ch" forName="quad3" refType="w" fact="0.39"/>
          <dgm:constr type="h" for="ch" forName="quad3" refType="h" fact="0.39"/>
          <dgm:constr type="ctrX" for="ch" forName="quad3" refType="w" fact="0.29"/>
          <dgm:constr type="ctrY" for="ch" forName="quad3" refType="h" fact="0.71"/>
          <dgm:constr type="w" for="ch" forName="quad4" refType="w" fact="0.39"/>
          <dgm:constr type="h" for="ch" forName="quad4" refType="h" fact="0.39"/>
          <dgm:constr type="ctrX" for="ch" forName="quad4" refType="w" fact="0.71"/>
          <dgm:constr type="ctrY" for="ch" forName="quad4" refType="h" fact="0.71"/>
          <dgm:constr type="primFontSz" for="des" ptType="node" op="equ" val="65"/>
        </dgm:constrLst>
      </dgm:if>
      <dgm:else name="Name2">
        <dgm:constrLst>
          <dgm:constr type="w" for="ch" forName="diamond" refType="w"/>
          <dgm:constr type="h" for="ch" forName="diamond" refType="h"/>
          <dgm:constr type="w" for="ch" forName="quad1" refType="w" fact="0.39"/>
          <dgm:constr type="h" for="ch" forName="quad1" refType="h" fact="0.39"/>
          <dgm:constr type="ctrX" for="ch" forName="quad1" refType="w" fact="0.71"/>
          <dgm:constr type="ctrY" for="ch" forName="quad1" refType="h" fact="0.29"/>
          <dgm:constr type="w" for="ch" forName="quad2" refType="w" fact="0.39"/>
          <dgm:constr type="h" for="ch" forName="quad2" refType="h" fact="0.39"/>
          <dgm:constr type="ctrX" for="ch" forName="quad2" refType="w" fact="0.29"/>
          <dgm:constr type="ctrY" for="ch" forName="quad2" refType="h" fact="0.29"/>
          <dgm:constr type="w" for="ch" forName="quad3" refType="w" fact="0.39"/>
          <dgm:constr type="h" for="ch" forName="quad3" refType="h" fact="0.39"/>
          <dgm:constr type="ctrX" for="ch" forName="quad3" refType="w" fact="0.71"/>
          <dgm:constr type="ctrY" for="ch" forName="quad3" refType="h" fact="0.71"/>
          <dgm:constr type="w" for="ch" forName="quad4" refType="w" fact="0.39"/>
          <dgm:constr type="h" for="ch" forName="quad4" refType="h" fact="0.39"/>
          <dgm:constr type="ctrX" for="ch" forName="quad4" refType="w" fact="0.29"/>
          <dgm:constr type="ctrY" for="ch" forName="quad4" refType="h" fact="0.71"/>
          <dgm:constr type="primFontSz" for="des" ptType="node" op="equ" val="65"/>
        </dgm:constrLst>
      </dgm:else>
    </dgm:choose>
    <dgm:ruleLst/>
    <dgm:choose name="Name3">
      <dgm:if name="Name4" axis="ch" ptType="node" func="cnt" op="gte" val="1">
        <dgm:layoutNode name="diamond" styleLbl="bgShp">
          <dgm:alg type="sp"/>
          <dgm:shape xmlns:r="http://schemas.openxmlformats.org/officeDocument/2006/relationships" type="diamond" r:blip="">
            <dgm:adjLst/>
          </dgm:shape>
          <dgm:presOf/>
          <dgm:constrLst>
            <dgm:constr type="w" refType="h" op="equ"/>
          </dgm:constrLst>
          <dgm:ruleLst/>
        </dgm:layoutNode>
        <dgm:layoutNode name="quad1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1 1" cnt="1 0"/>
          <dgm:constrLst>
            <dgm:constr type="w" refType="h" op="equ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quad2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2 1" cnt="1 0"/>
          <dgm:constrLst>
            <dgm:constr type="w" refType="h" op="equ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quad3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3 1" cnt="1 0"/>
          <dgm:constrLst>
            <dgm:constr type="w" refType="h" op="equ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quad4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4 1" cnt="1 0"/>
          <dgm:constrLst>
            <dgm:constr type="w" refType="h" op="equ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vProcess5">
  <dgm:title val=""/>
  <dgm:desc val=""/>
  <dgm:catLst>
    <dgm:cat type="process" pri="1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</dgm:cxnLst>
      <dgm:bg/>
      <dgm:whole/>
    </dgm:dataModel>
  </dgm:clrData>
  <dgm:layoutNode name="outerComposite">
    <dgm:varLst>
      <dgm:chMax val="5"/>
      <dgm:dir/>
      <dgm:resizeHandles val="exact"/>
    </dgm:varLst>
    <dgm:alg type="composite"/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l" for="ch" forName="TwoNodes_1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r" for="ch" forName="TwoNodes_2" refType="w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r" for="ch" forName="TwoConn_1-2" refType="r" refFor="ch" refForName="TwoNodes_1"/>
          <dgm:constr type="r" for="ch" forName="TwoNodes_1_text" refType="l" refFor="ch" refForName="TwoConn_1-2"/>
          <dgm:constr type="rOff" for="ch" forName="TwoNodes_1_text" refType="w" refFor="ch" refForName="TwoConn_1-2" fact="-0.5"/>
          <dgm:constr type="t" for="ch" forName="TwoNodes_1_text" refType="t" refFor="ch" refForName="TwoNodes_1"/>
          <dgm:constr type="b" for="ch" forName="TwoNodes_1_text" refType="b" refFor="ch" refForName="TwoNodes_1"/>
          <dgm:constr type="l" for="ch" forName="TwoNodes_1_text" refType="l" refFor="ch" refForName="TwoNodes_1"/>
          <dgm:constr type="r" for="ch" forName="TwoNodes_2_text" refType="l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l" for="ch" forName="TwoNodes_2_text" refType="l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l" for="ch" forName="ThreeNodes_1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r" for="ch" forName="ThreeNodes_3" refType="w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r" for="ch" forName="ThreeConn_1-2" refType="r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r" for="ch" forName="ThreeConn_2-3" refType="r" refFor="ch" refForName="ThreeNodes_2"/>
          <dgm:constr type="r" for="ch" forName="ThreeNodes_1_text" refType="l" refFor="ch" refForName="ThreeConn_1-2"/>
          <dgm:constr type="rOff" for="ch" forName="ThreeNodes_1_text" refType="w" refFor="ch" refForName="ThreeConn_1-2" fact="-0.57"/>
          <dgm:constr type="t" for="ch" forName="ThreeNodes_1_text" refType="t" refFor="ch" refForName="ThreeNodes_1"/>
          <dgm:constr type="b" for="ch" forName="ThreeNodes_1_text" refType="b" refFor="ch" refForName="ThreeNodes_1"/>
          <dgm:constr type="l" for="ch" forName="ThreeNodes_1_text" refType="l" refFor="ch" refForName="ThreeNodes_1"/>
          <dgm:constr type="r" for="ch" forName="ThreeNodes_2_text" refType="l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l" for="ch" forName="ThreeNodes_2_text" refType="l" refFor="ch" refForName="ThreeNodes_2"/>
          <dgm:constr type="r" for="ch" forName="ThreeNodes_3_text" refType="l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l" for="ch" forName="ThreeNodes_3_text" refType="l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l" for="ch" forName="FourNodes_1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467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533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r" for="ch" forName="FourNodes_4" refType="w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r" for="ch" forName="FourConn_1-2" refType="r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r" for="ch" forName="FourConn_2-3" refType="r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r" for="ch" forName="FourConn_3-4" refType="r" refFor="ch" refForName="FourNodes_3"/>
          <dgm:constr type="r" for="ch" forName="FourNodes_1_text" refType="l" refFor="ch" refForName="FourConn_1-2"/>
          <dgm:constr type="rOff" for="ch" forName="FourNodes_1_text" refType="w" refFor="ch" refForName="FourConn_1-2" fact="-0.7"/>
          <dgm:constr type="t" for="ch" forName="FourNodes_1_text" refType="t" refFor="ch" refForName="FourNodes_1"/>
          <dgm:constr type="b" for="ch" forName="FourNodes_1_text" refType="b" refFor="ch" refForName="FourNodes_1"/>
          <dgm:constr type="l" for="ch" forName="FourNodes_1_text" refType="l" refFor="ch" refForName="FourNodes_1"/>
          <dgm:constr type="r" for="ch" forName="FourNodes_2_text" refType="l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l" for="ch" forName="FourNodes_2_text" refType="l" refFor="ch" refForName="FourNodes_2"/>
          <dgm:constr type="r" for="ch" forName="FourNodes_3_text" refType="l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l" for="ch" forName="FourNodes_3_text" refType="l" refFor="ch" refForName="FourNodes_3"/>
          <dgm:constr type="r" for="ch" forName="FourNodes_4_text" refType="l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l" for="ch" forName="FourNodes_4_text" refType="l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l" for="ch" forName="FiveNodes_1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442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557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r" for="ch" forName="FiveNodes_5" refType="w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r" for="ch" forName="FiveConn_1-2" refType="r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r" for="ch" forName="FiveConn_2-3" refType="r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r" for="ch" forName="FiveConn_3-4" refType="r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r" for="ch" forName="FiveConn_4-5" refType="r" refFor="ch" refForName="FiveNodes_4"/>
          <dgm:constr type="r" for="ch" forName="FiveNodes_1_text" refType="l" refFor="ch" refForName="FiveConn_1-2"/>
          <dgm:constr type="rOff" for="ch" forName="FiveNodes_1_text" refType="w" refFor="ch" refForName="FiveConn_1-2" fact="-0.75"/>
          <dgm:constr type="t" for="ch" forName="FiveNodes_1_text" refType="t" refFor="ch" refForName="FiveNodes_1"/>
          <dgm:constr type="b" for="ch" forName="FiveNodes_1_text" refType="b" refFor="ch" refForName="FiveNodes_1"/>
          <dgm:constr type="l" for="ch" forName="FiveNodes_1_text" refType="l" refFor="ch" refForName="FiveNodes_1"/>
          <dgm:constr type="r" for="ch" forName="FiveNodes_2_text" refType="l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l" for="ch" forName="FiveNodes_2_text" refType="l" refFor="ch" refForName="FiveNodes_2"/>
          <dgm:constr type="r" for="ch" forName="FiveNodes_3_text" refType="l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l" for="ch" forName="FiveNodes_3_text" refType="l" refFor="ch" refForName="FiveNodes_3"/>
          <dgm:constr type="r" for="ch" forName="FiveNodes_4_text" refType="l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l" for="ch" forName="FiveNodes_4_text" refType="l" refFor="ch" refForName="FiveNodes_4"/>
          <dgm:constr type="r" for="ch" forName="FiveNodes_5_text" refType="l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l" for="ch" forName="FiveNodes_5_text" refType="l" refFor="ch" refForName="FiveNodes_5"/>
        </dgm:constrLst>
      </dgm:if>
      <dgm:else name="Name2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r" for="ch" forName="TwoNodes_1" refType="w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l" for="ch" forName="TwoNodes_2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l" for="ch" forName="TwoConn_1-2" refType="l" refFor="ch" refForName="TwoNodes_1"/>
          <dgm:constr type="l" for="ch" forName="TwoNodes_1_text" refType="r" refFor="ch" refForName="TwoConn_1-2"/>
          <dgm:constr type="lOff" for="ch" forName="TwoNodes_1_text" refType="w" refFor="ch" refForName="TwoConn_1-2" fact="0.5"/>
          <dgm:constr type="t" for="ch" forName="TwoNodes_1_text" refType="t" refFor="ch" refForName="TwoNodes_1"/>
          <dgm:constr type="b" for="ch" forName="TwoNodes_1_text" refType="b" refFor="ch" refForName="TwoNodes_1"/>
          <dgm:constr type="r" for="ch" forName="TwoNodes_1_text" refType="r" refFor="ch" refForName="TwoNodes_1"/>
          <dgm:constr type="l" for="ch" forName="TwoNodes_2_text" refType="r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r" for="ch" forName="TwoNodes_2_text" refType="r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r" for="ch" forName="ThreeNodes_1" refType="w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l" for="ch" forName="ThreeNodes_3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l" for="ch" forName="ThreeConn_1-2" refType="l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l" for="ch" forName="ThreeConn_2-3" refType="l" refFor="ch" refForName="ThreeNodes_2"/>
          <dgm:constr type="l" for="ch" forName="ThreeNodes_1_text" refType="r" refFor="ch" refForName="ThreeConn_1-2"/>
          <dgm:constr type="lOff" for="ch" forName="ThreeNodes_1_text" refType="w" refFor="ch" refForName="ThreeConn_1-2" fact="0.55"/>
          <dgm:constr type="t" for="ch" forName="ThreeNodes_1_text" refType="t" refFor="ch" refForName="ThreeNodes_1"/>
          <dgm:constr type="b" for="ch" forName="ThreeNodes_1_text" refType="b" refFor="ch" refForName="ThreeNodes_1"/>
          <dgm:constr type="r" for="ch" forName="ThreeNodes_1_text" refType="r" refFor="ch" refForName="ThreeNodes_1"/>
          <dgm:constr type="l" for="ch" forName="ThreeNodes_2_text" refType="r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r" for="ch" forName="ThreeNodes_2_text" refType="r" refFor="ch" refForName="ThreeNodes_2"/>
          <dgm:constr type="l" for="ch" forName="ThreeNodes_3_text" refType="r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r" for="ch" forName="ThreeNodes_3_text" refType="r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r" for="ch" forName="FourNodes_1" refType="w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533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467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l" for="ch" forName="FourNodes_4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l" for="ch" forName="FourConn_1-2" refType="l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l" for="ch" forName="FourConn_2-3" refType="l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l" for="ch" forName="FourConn_3-4" refType="l" refFor="ch" refForName="FourNodes_3"/>
          <dgm:constr type="l" for="ch" forName="FourNodes_1_text" refType="r" refFor="ch" refForName="FourConn_1-2"/>
          <dgm:constr type="lOff" for="ch" forName="FourNodes_1_text" refType="w" refFor="ch" refForName="FourConn_1-2" fact="0.69"/>
          <dgm:constr type="t" for="ch" forName="FourNodes_1_text" refType="t" refFor="ch" refForName="FourNodes_1"/>
          <dgm:constr type="b" for="ch" forName="FourNodes_1_text" refType="b" refFor="ch" refForName="FourNodes_1"/>
          <dgm:constr type="r" for="ch" forName="FourNodes_1_text" refType="r" refFor="ch" refForName="FourNodes_1"/>
          <dgm:constr type="l" for="ch" forName="FourNodes_2_text" refType="r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r" for="ch" forName="FourNodes_2_text" refType="r" refFor="ch" refForName="FourNodes_2"/>
          <dgm:constr type="l" for="ch" forName="FourNodes_3_text" refType="r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r" for="ch" forName="FourNodes_3_text" refType="r" refFor="ch" refForName="FourNodes_3"/>
          <dgm:constr type="l" for="ch" forName="FourNodes_4_text" refType="r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r" for="ch" forName="FourNodes_4_text" refType="r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r" for="ch" forName="FiveNodes_1" refType="w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557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442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l" for="ch" forName="FiveNodes_5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l" for="ch" forName="FiveConn_1-2" refType="l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l" for="ch" forName="FiveConn_2-3" refType="l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l" for="ch" forName="FiveConn_3-4" refType="l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l" for="ch" forName="FiveConn_4-5" refType="l" refFor="ch" refForName="FiveNodes_4"/>
          <dgm:constr type="l" for="ch" forName="FiveNodes_1_text" refType="r" refFor="ch" refForName="FiveConn_1-2"/>
          <dgm:constr type="lOff" for="ch" forName="FiveNodes_1_text" refType="w" refFor="ch" refForName="FiveConn_1-2" fact="0.73"/>
          <dgm:constr type="t" for="ch" forName="FiveNodes_1_text" refType="t" refFor="ch" refForName="FiveNodes_1"/>
          <dgm:constr type="b" for="ch" forName="FiveNodes_1_text" refType="b" refFor="ch" refForName="FiveNodes_1"/>
          <dgm:constr type="r" for="ch" forName="FiveNodes_1_text" refType="r" refFor="ch" refForName="FiveNodes_1"/>
          <dgm:constr type="l" for="ch" forName="FiveNodes_2_text" refType="r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r" for="ch" forName="FiveNodes_2_text" refType="r" refFor="ch" refForName="FiveNodes_2"/>
          <dgm:constr type="l" for="ch" forName="FiveNodes_3_text" refType="r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r" for="ch" forName="FiveNodes_3_text" refType="r" refFor="ch" refForName="FiveNodes_3"/>
          <dgm:constr type="l" for="ch" forName="FiveNodes_4_text" refType="r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r" for="ch" forName="FiveNodes_4_text" refType="r" refFor="ch" refForName="FiveNodes_4"/>
          <dgm:constr type="l" for="ch" forName="FiveNodes_5_text" refType="r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r" for="ch" forName="FiveNodes_5_text" refType="r" refFor="ch" refForName="FiveNodes_5"/>
        </dgm:constrLst>
      </dgm:else>
    </dgm:choose>
    <dgm:ruleLst/>
    <dgm:layoutNode name="dummyMaxCanvas">
      <dgm:varLst/>
      <dgm:alg type="sp"/>
      <dgm:shape xmlns:r="http://schemas.openxmlformats.org/officeDocument/2006/relationships" r:blip="">
        <dgm:adjLst/>
      </dgm:shape>
      <dgm:presOf/>
      <dgm:constrLst/>
      <dgm:ruleLst/>
    </dgm:layoutNode>
    <dgm:choose name="Name3">
      <dgm:if name="Name4" axis="ch" ptType="node" func="cnt" op="equ" val="1">
        <dgm:layoutNode name="OneNode_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if>
      <dgm:else name="Name5">
        <dgm:choose name="Name6">
          <dgm:if name="Name7" axis="ch" ptType="node" func="cnt" op="equ" val="2">
            <dgm:layoutNode name="TwoNodes_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1 1" cnt="1 0"/>
              <dgm:constrLst/>
              <dgm:ruleLst/>
            </dgm:layoutNode>
            <dgm:layoutNode name="TwoNodes_2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2 1" cnt="1 0"/>
              <dgm:constrLst/>
              <dgm:ruleLst/>
            </dgm:layoutNode>
            <dgm:layoutNode name="TwoConn_1-2" styleLbl="fgAccFollowNode1">
              <dgm:varLst>
                <dgm:bulletEnabled val="1"/>
              </dgm:varLst>
              <dgm:alg type="tx"/>
              <dgm:shape xmlns:r="http://schemas.openxmlformats.org/officeDocument/2006/relationships" type="downArrow" r:blip="">
                <dgm:adjLst>
                  <dgm:adj idx="1" val="0.55"/>
                  <dgm:adj idx="2" val="0.45"/>
                </dgm:adjLst>
              </dgm:shape>
              <dgm:presOf axis="ch" ptType="sibTrans" cnt="1"/>
              <dgm:constrLst>
                <dgm:constr type="lMarg" refType="primFontSz" fact="0.1"/>
                <dgm:constr type="rMarg" refType="primFontSz" fact="0.1"/>
                <dgm:constr type="tMarg" refType="primFontSz" fact="0.1"/>
                <dgm:constr type="bMarg" refType="primFontSz" fact="0.1"/>
              </dgm:constrLst>
              <dgm:ruleLst>
                <dgm:rule type="primFontSz" val="5" fact="NaN" max="NaN"/>
              </dgm:ruleLst>
            </dgm:layoutNode>
            <dgm:layoutNode name="TwoNodes_1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1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  <dgm:layoutNode name="TwoNodes_2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2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if>
          <dgm:else name="Name8">
            <dgm:choose name="Name9">
              <dgm:if name="Name10" axis="ch" ptType="node" func="cnt" op="equ" val="3">
                <dgm:layoutNode name="ThreeNodes_1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1 1" cnt="1 0"/>
                  <dgm:constrLst/>
                  <dgm:ruleLst/>
                </dgm:layoutNode>
                <dgm:layoutNode name="ThreeNodes_2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2 1" cnt="1 0"/>
                  <dgm:constrLst/>
                  <dgm:ruleLst/>
                </dgm:layoutNode>
                <dgm:layoutNode name="ThreeNodes_3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3 1" cnt="1 0"/>
                  <dgm:constrLst/>
                  <dgm:ruleLst/>
                </dgm:layoutNode>
                <dgm:layoutNode name="ThreeConn_1-2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Conn_2-3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st="2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Nodes_1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1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2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2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3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3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1">
                <dgm:choose name="Name12">
                  <dgm:if name="Name13" axis="ch" ptType="node" func="cnt" op="equ" val="4">
                    <dgm:layoutNode name="FourNodes_1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/>
                      <dgm:ruleLst/>
                    </dgm:layoutNode>
                    <dgm:layoutNode name="FourNodes_2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/>
                      <dgm:ruleLst/>
                    </dgm:layoutNode>
                    <dgm:layoutNode name="FourNodes_3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/>
                      <dgm:ruleLst/>
                    </dgm:layoutNode>
                    <dgm:layoutNode name="FourNodes_4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/>
                      <dgm:ruleLst/>
                    </dgm:layoutNode>
                    <dgm:layoutNode name="FourConn_1-2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2-3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2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3-4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3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1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2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3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4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if>
                  <dgm:else name="Name14">
                    <dgm:choose name="Name15">
                      <dgm:if name="Name16" axis="ch" ptType="node" func="cnt" op="gte" val="5">
                        <dgm:layoutNode name="FiveNodes_1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/>
                          <dgm:ruleLst/>
                        </dgm:layoutNode>
                        <dgm:layoutNode name="FiveNodes_2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/>
                          <dgm:ruleLst/>
                        </dgm:layoutNode>
                        <dgm:layoutNode name="FiveNodes_3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/>
                          <dgm:ruleLst/>
                        </dgm:layoutNode>
                        <dgm:layoutNode name="FiveNodes_4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/>
                          <dgm:ruleLst/>
                        </dgm:layoutNode>
                        <dgm:layoutNode name="FiveNodes_5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/>
                          <dgm:ruleLst/>
                        </dgm:layoutNode>
                        <dgm:layoutNode name="FiveConn_1-2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2-3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2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3-4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3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4-5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4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1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2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3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4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5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</dgm:if>
                      <dgm:else name="Name17"/>
                    </dgm:choose>
                  </dgm:else>
                </dgm:choose>
              </dgm:else>
            </dgm:choose>
          </dgm:else>
        </dgm:choose>
      </dgm:else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A855B2-D98D-4CFD-A9A5-17D9A4F74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9EC35E-FCAF-49A4-88F0-55A9C1C9A47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52AC17-FC9D-49A8-BDDE-6B173177141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4C767B-74B7-44B0-BFFB-3D4A16545C0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B7B8FD-AE6C-4F3D-86AA-78AB88FBC69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E324E2-745F-46F3-AFE9-ED254047BAF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248E58-59CF-44E6-BBA1-C91E63A0359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6264CA-33C5-4CA5-A5D4-FD4F61CEC78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C231EA-9D97-4372-8170-47848BB998B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BD0F48-50AF-4A0F-B011-47EFC7BE419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6CD9BE-3CC5-47B3-B729-C0C82EFDB4F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F490F5-926D-4007-A237-88544C44C30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296F17-4434-4ABB-A42B-2D165A2FD8C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3DE0AA-A3ED-44F3-B2D9-BD0C4E7BF22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044339-7EBD-4061-987D-EAA086DBABB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7FBEFE-703D-4AB7-B100-44CBD9DF165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90E-3E03-4A70-A4BC-85D57DBA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ECE-9DB0-4999-9722-018A7229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298-14F1-46B1-9D44-912E10FB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4BE-8FC7-4596-9318-0F032131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29C9-87B5-4C3A-9520-F6992881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D1B0-A0FE-4CA4-9F35-3F749AD0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55D8-91F5-4A45-AF78-A8F3456E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C87E-9A35-4D8D-A552-5C657E22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EC05-62DA-4D23-B0F2-E2ED8AD2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5865-EDBB-4997-897C-595D244A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9AB0-AFC1-4EA1-ABE7-D7CC5427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84D-FF9F-4745-8CCF-C07031D3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98C6-BF78-400A-8BEA-0968345E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8910-BF4C-46DB-AC23-C7C16FF9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E203-1CEE-4EE8-90C8-BAB1DE49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5BD7-215F-415A-B4F1-18FEC873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6FEB-3703-4715-BE0F-193CCA21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2804A-7AA6-4395-A4F6-87D9722C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2BABC-CAE0-4F6B-BA2D-5C851BE3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87B40-D6D4-4A23-A695-F8F81ABA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1EE3D-D102-4E5C-82B4-C624DFA7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138CF-E9A9-4AAC-B724-B0C4996B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CEC-B90D-4FB4-8E19-7AEBF299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2FDAE-9806-450E-91F2-5AA88732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8254B-7C01-42A2-8F34-A8A9A6BE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5C6E5-01F4-4779-8544-D5AE9505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A70F3-3ED1-4566-9345-1FCE8D53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C1FBB-C7D8-4B08-B41D-6BD8EFFE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796CA-97E0-4B92-B45A-06ED1C44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3FC43-5B6F-44C9-85D3-529FFC35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24E-B48C-4AFF-9F97-C2C36DCD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E9F-3C6F-401C-B4B1-505FF649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4BF-881E-416F-82CC-359DD00F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6638-34AD-420D-B5EC-FCCE6A78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77DB-58A1-4E4E-B777-C85BBA6C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AB2-3A50-4500-A3EC-8561DB4A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497A82-76D8-406B-944A-F8AF25B42C2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1DC4F4-140C-48C8-9BBB-5BB4B681B23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5A0D74-A75F-4A47-8E5F-7340ABF8FB2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diagramData" Target="../diagrams/data4.xml"/><Relationship Id="rId3" Type="http://schemas.openxmlformats.org/officeDocument/2006/relationships/diagramLayout" Target="../diagrams/layout4.xml"/><Relationship Id="rId4" Type="http://schemas.openxmlformats.org/officeDocument/2006/relationships/diagramQuickStyle" Target="../diagrams/quickStyle4.xml"/><Relationship Id="rId5" Type="http://schemas.openxmlformats.org/officeDocument/2006/relationships/diagramColors" Target="../diagrams/colors4.xml"/><Relationship Id="rId6" Type="http://schemas.microsoft.com/office/2007/relationships/diagramDrawing" Target="../diagrams/drawing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diagramData" Target="../diagrams/data5.xml"/><Relationship Id="rId3" Type="http://schemas.openxmlformats.org/officeDocument/2006/relationships/diagramLayout" Target="../diagrams/layout5.xml"/><Relationship Id="rId4" Type="http://schemas.openxmlformats.org/officeDocument/2006/relationships/diagramQuickStyle" Target="../diagrams/quickStyle5.xml"/><Relationship Id="rId5" Type="http://schemas.openxmlformats.org/officeDocument/2006/relationships/diagramColors" Target="../diagrams/colors5.xml"/><Relationship Id="rId6" Type="http://schemas.microsoft.com/office/2007/relationships/diagramDrawing" Target="../diagrams/drawing5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video" Target="file:///C:/Users/User/Downloads/&#1042;%20&#1050;&#1053;&#1056;%20&#1073;&#1091;&#1076;&#1091;&#1090;%20&#1087;&#1086;&#1086;&#1097;&#1088;&#1103;&#1090;&#1100;%20&#1089;&#1086;&#1086;&#1073;&#1097;&#1077;&#1085;&#1080;&#1103;%20&#1086;&#1073;%20&#1086;&#1090;&#1088;&#1072;&#1074;&#1083;&#1077;&#1085;&#1085;&#1086;&#1081;%20&#1077;&#1076;&#1077;.mp4" TargetMode="External"/><Relationship Id="rId2" Type="http://schemas.microsoft.com/office/2007/relationships/media" Target="file:///C:/Users/User/Downloads/&#1042;%20&#1050;&#1053;&#1056;%20&#1073;&#1091;&#1076;&#1091;&#1090;%20&#1087;&#1086;&#1086;&#1097;&#1088;&#1103;&#1090;&#1100;%20&#1089;&#1086;&#1086;&#1073;&#1097;&#1077;&#1085;&#1080;&#1103;%20&#1086;&#1073;%20&#1086;&#1090;&#1088;&#1072;&#1074;&#1083;&#1077;&#1085;&#1085;&#1086;&#1081;%20&#1077;&#1076;&#1077;.mp4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microsoft.com/office/2007/relationships/diagramDrawing" Target="../diagrams/drawing1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diagramData" Target="../diagrams/data2.xml"/><Relationship Id="rId3" Type="http://schemas.openxmlformats.org/officeDocument/2006/relationships/diagramLayout" Target="../diagrams/layout2.xml"/><Relationship Id="rId4" Type="http://schemas.openxmlformats.org/officeDocument/2006/relationships/diagramQuickStyle" Target="../diagrams/quickStyle2.xml"/><Relationship Id="rId5" Type="http://schemas.openxmlformats.org/officeDocument/2006/relationships/diagramColors" Target="../diagrams/colors2.xml"/><Relationship Id="rId6" Type="http://schemas.microsoft.com/office/2007/relationships/diagramDrawing" Target="../diagrams/drawing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diagramData" Target="../diagrams/data3.xml"/><Relationship Id="rId3" Type="http://schemas.openxmlformats.org/officeDocument/2006/relationships/diagramLayout" Target="../diagrams/layout3.xml"/><Relationship Id="rId4" Type="http://schemas.openxmlformats.org/officeDocument/2006/relationships/diagramQuickStyle" Target="../diagrams/quickStyle3.xml"/><Relationship Id="rId5" Type="http://schemas.openxmlformats.org/officeDocument/2006/relationships/diagramColors" Target="../diagrams/colors3.xml"/><Relationship Id="rId6" Type="http://schemas.microsoft.com/office/2007/relationships/diagramDrawing" Target="../diagrams/drawing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www.trust2china.com/images/f_img/poiskproizvoditelya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000240" y="0"/>
            <a:ext cx="6143400" cy="143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родовольственная безопасность Кита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album.foto.ru:8080/photos/pr0/141148/2073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"/>
          <p:cNvSpPr/>
          <p:nvPr/>
        </p:nvSpPr>
        <p:spPr>
          <a:xfrm>
            <a:off x="0" y="781560"/>
            <a:ext cx="4857480" cy="521136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ит напомнить, что самым большим скандалом в сфере продовольственной безопасности случился в Китае в 2008 году, когда в молоке, предназначенном для детского питания, обнаружили химикат миламин. Тогда пострадало 300 тысяч детей и около 6 тыс. погибло. С тех пор опасные химические вещества периодически находили в рисе, гречке, свинине, вене, лапше быстрого приготовления, булочках и других продук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http://im0-tub-ru.yandex.net/i?id=208550641-49-72&amp;n=21"/>
          <p:cNvPicPr/>
          <p:nvPr/>
        </p:nvPicPr>
        <p:blipFill>
          <a:blip r:embed="rId2"/>
          <a:stretch/>
        </p:blipFill>
        <p:spPr>
          <a:xfrm>
            <a:off x="5091120" y="0"/>
            <a:ext cx="4052520" cy="2642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53" name="Picture 3" descr="http://im4-tub-ru.yandex.net/i?id=329444118-39-72&amp;n=21"/>
          <p:cNvPicPr/>
          <p:nvPr/>
        </p:nvPicPr>
        <p:blipFill>
          <a:blip r:embed="rId3"/>
          <a:stretch/>
        </p:blipFill>
        <p:spPr>
          <a:xfrm>
            <a:off x="5643720" y="1857240"/>
            <a:ext cx="3499920" cy="3285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54" name="Picture 7" descr="http://im2-tub-ru.yandex.net/i?id=417852081-06-72&amp;n=21"/>
          <p:cNvPicPr/>
          <p:nvPr/>
        </p:nvPicPr>
        <p:blipFill>
          <a:blip r:embed="rId4"/>
          <a:stretch/>
        </p:blipFill>
        <p:spPr>
          <a:xfrm>
            <a:off x="4929120" y="4497480"/>
            <a:ext cx="3619080" cy="23601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ttp://album.foto.ru:8080/photos/pr0/141148/2073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6" name="Рамка 2"/>
          <p:cNvSpPr/>
          <p:nvPr/>
        </p:nvSpPr>
        <p:spPr>
          <a:xfrm>
            <a:off x="428760" y="3714840"/>
            <a:ext cx="8214840" cy="2857320"/>
          </a:xfrm>
          <a:prstGeom prst="frame">
            <a:avLst>
              <a:gd name="adj1" fmla="val 12500"/>
            </a:avLst>
          </a:prstGeom>
          <a:solidFill>
            <a:srgbClr val="ff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928800" y="4152600"/>
            <a:ext cx="7071840" cy="191952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Совет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т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обещал в ближайшие три года решить вопросы безопасности пищевых продуктов. Высокие риски в продовольственной сфере все чаще вызывают беспокойство в китайском 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http://spanish.peopledaily.com.cn/mediafile/200903/02/F200903020823092388941662.jpg"/>
          <p:cNvPicPr/>
          <p:nvPr/>
        </p:nvPicPr>
        <p:blipFill>
          <a:blip r:embed="rId2"/>
          <a:stretch/>
        </p:blipFill>
        <p:spPr>
          <a:xfrm>
            <a:off x="3857760" y="0"/>
            <a:ext cx="4857480" cy="3606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59" name="Rectangle 3"/>
          <p:cNvSpPr/>
          <p:nvPr/>
        </p:nvSpPr>
        <p:spPr>
          <a:xfrm>
            <a:off x="357120" y="1218240"/>
            <a:ext cx="3428640" cy="822240"/>
          </a:xfrm>
          <a:prstGeom prst="rect">
            <a:avLst/>
          </a:prstGeom>
          <a:solidFill>
            <a:srgbClr val="ff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мьер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сове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ит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энь Цзяба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album.foto.ru:8080/photos/pr0/141148/2073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385904938"/>
              </p:ext>
            </p:extLst>
          </p:nvPr>
        </p:nvGraphicFramePr>
        <p:xfrm>
          <a:off x="0" y="0"/>
          <a:ext cx="914364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http://album.foto.ru:8080/photos/pr0/141148/2073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2"/>
          <p:cNvSpPr/>
          <p:nvPr/>
        </p:nvSpPr>
        <p:spPr>
          <a:xfrm>
            <a:off x="357120" y="0"/>
            <a:ext cx="8214840" cy="106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«кнута» запланированы и стимулирующие мероприят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2219921286"/>
              </p:ext>
            </p:extLst>
          </p:nvPr>
        </p:nvGraphicFramePr>
        <p:xfrm>
          <a:off x="0" y="1397160"/>
          <a:ext cx="9143640" cy="4674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album.foto.ru:8080/photos/pr0/141148/2073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0" y="0"/>
            <a:ext cx="5714640" cy="350244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ение климата  также представляет серьезную угрозу с точки зрения продовольственной безопасности Китая, являющимся крупнейшим в мире потребителем зерновых. К 2050 году производство зерна в Китае может упасть на 5% - 20%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http://im2-tub-ru.yandex.net/i?id=189137404-24-72&amp;n=21"/>
          <p:cNvPicPr/>
          <p:nvPr/>
        </p:nvPicPr>
        <p:blipFill>
          <a:blip r:embed="rId2"/>
          <a:stretch/>
        </p:blipFill>
        <p:spPr>
          <a:xfrm>
            <a:off x="5744520" y="1928880"/>
            <a:ext cx="3399120" cy="3071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66" name="Picture 4" descr="http://im0-tub-ru.yandex.net/i?id=272249032-28-72&amp;n=21"/>
          <p:cNvPicPr/>
          <p:nvPr/>
        </p:nvPicPr>
        <p:blipFill>
          <a:blip r:embed="rId3"/>
          <a:stretch/>
        </p:blipFill>
        <p:spPr>
          <a:xfrm>
            <a:off x="1143000" y="3857760"/>
            <a:ext cx="4690800" cy="27676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57120" y="571320"/>
            <a:ext cx="8357760" cy="59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12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168"/>
                </p:tgtEl>
              </p:cMediaNode>
            </p:video>
            <p:seq>
              <p:cTn id="7" restart="whenNotActive" nodeType="interactiveSeq" fill="hold">
                <p:stCondLst>
                  <p:cond delay="0" evt="onClick">
                    <p:tgtEl>
                      <p:spTgt spid="168"/>
                    </p:tgtEl>
                  </p:cond>
                </p:stCondLst>
                <p:childTnLst>
                  <p:par>
                    <p:cTn id="8" fill="hold">
                      <p:stCondLst>
                        <p:cond delay="0"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ttp://im3-tub-ru.yandex.net/i?id=504560807-59-72&amp;n=2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14720" y="3929040"/>
            <a:ext cx="6471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ели : Амангелди к.Б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Борончиева   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Рисунок 2" descr="three-pagodas-yunnan-çin.jpg"/>
          <p:cNvPicPr/>
          <p:nvPr/>
        </p:nvPicPr>
        <p:blipFill>
          <a:blip r:embed="rId1"/>
          <a:stretch/>
        </p:blipFill>
        <p:spPr>
          <a:xfrm>
            <a:off x="285840" y="214200"/>
            <a:ext cx="4214520" cy="57182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72" name="Рисунок 3" descr="к.jpg"/>
          <p:cNvPicPr/>
          <p:nvPr/>
        </p:nvPicPr>
        <p:blipFill>
          <a:blip r:embed="rId2"/>
          <a:stretch/>
        </p:blipFill>
        <p:spPr>
          <a:xfrm>
            <a:off x="4929120" y="428760"/>
            <a:ext cx="3785760" cy="3571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img96.imageshack.us/img96/3946/chinasteelspaciality.jpg"/>
          <p:cNvPicPr/>
          <p:nvPr/>
        </p:nvPicPr>
        <p:blipFill>
          <a:blip r:embed="rId1"/>
          <a:stretch/>
        </p:blipFill>
        <p:spPr>
          <a:xfrm>
            <a:off x="2786040" y="1214280"/>
            <a:ext cx="6357600" cy="564336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1"/>
          <p:cNvSpPr/>
          <p:nvPr/>
        </p:nvSpPr>
        <p:spPr>
          <a:xfrm>
            <a:off x="0" y="0"/>
            <a:ext cx="5786280" cy="374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XXI в. аграрный комплекс Китая, преодолевая довольно сложные структурные проблемы, смог сохранить стабильные тенденции  развития. Осуществлялись урегулирование и модернизация аграрного  сектора в соответствии с изменениями требований рынка и необходимостью повышения уровня продовольственной безопасности стр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://www.siesta.kiev.ua/photos/china/f-150323195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2"/>
          <p:cNvSpPr/>
          <p:nvPr/>
        </p:nvSpPr>
        <p:spPr>
          <a:xfrm>
            <a:off x="928800" y="1357200"/>
            <a:ext cx="6286320" cy="2893320"/>
          </a:xfrm>
          <a:prstGeom prst="rect">
            <a:avLst/>
          </a:prstGeom>
          <a:gradFill rotWithShape="0">
            <a:gsLst>
              <a:gs pos="0">
                <a:srgbClr val="8e8b84"/>
              </a:gs>
              <a:gs pos="100000">
                <a:srgbClr val="eeecdf"/>
              </a:gs>
            </a:gsLst>
            <a:path path="circle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ждународной организацией при ООН ФАО продовольственная безопасность определяется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«…такое положение дел, когда люди имеют  постоянный доступ к безопасному и калорийному питанию для поддержания здорового и активного образа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www.siesta.kiev.ua/photos/china/f-150323195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459251537"/>
              </p:ext>
            </p:extLst>
          </p:nvPr>
        </p:nvGraphicFramePr>
        <p:xfrm>
          <a:off x="428760" y="357120"/>
          <a:ext cx="8429400" cy="6143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www.siesta.kiev.ua/photos/china/f-150323195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377038775"/>
              </p:ext>
            </p:extLst>
          </p:nvPr>
        </p:nvGraphicFramePr>
        <p:xfrm>
          <a:off x="0" y="0"/>
          <a:ext cx="914364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album.foto.ru:8080/photos/pr0/141148/2073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2"/>
          <p:cNvSpPr/>
          <p:nvPr/>
        </p:nvSpPr>
        <p:spPr>
          <a:xfrm>
            <a:off x="642960" y="571320"/>
            <a:ext cx="7929360" cy="1919160"/>
          </a:xfrm>
          <a:prstGeom prst="rect">
            <a:avLst/>
          </a:prstGeom>
          <a:gradFill rotWithShape="0">
            <a:gsLst>
              <a:gs pos="0">
                <a:srgbClr val="9ab4e4"/>
              </a:gs>
              <a:gs pos="100000">
                <a:srgbClr val="e0e8f5"/>
              </a:gs>
            </a:gsLst>
            <a:path path="circle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ервой половине 2008 года был отмечен динамичный рост цен на ведущих мировых фьючерсных биржах сельскохозяйственной продукции. Фьючерсные цены на рис и соевые бобы достигли самого высокого уровня за последние 20 и 34 года соответственно, а цены на пшеницу - исторического рекорда, что вызвало в более чем 40 странах мира продовольственные кризисы и беспоря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www.siesta.kiev.ua/photos/china/f-150323195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"/>
          <p:cNvSpPr/>
          <p:nvPr/>
        </p:nvSpPr>
        <p:spPr>
          <a:xfrm>
            <a:off x="285840" y="357120"/>
            <a:ext cx="5357520" cy="222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совокупному производственному потенциалу Китай занимает 7-е место после США, Японии, ФРГ, Франции, Италии и Англ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http://im0-tub-ru.yandex.net/i?id=355497396-50-72&amp;n=21"/>
          <p:cNvPicPr/>
          <p:nvPr/>
        </p:nvPicPr>
        <p:blipFill>
          <a:blip r:embed="rId2"/>
          <a:stretch/>
        </p:blipFill>
        <p:spPr>
          <a:xfrm>
            <a:off x="5810400" y="357120"/>
            <a:ext cx="3333240" cy="249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2" name="Picture 4" descr="http://im6-tub-ru.yandex.net/i?id=47520700-44-72&amp;n=21"/>
          <p:cNvPicPr/>
          <p:nvPr/>
        </p:nvPicPr>
        <p:blipFill>
          <a:blip r:embed="rId3"/>
          <a:stretch/>
        </p:blipFill>
        <p:spPr>
          <a:xfrm>
            <a:off x="5000760" y="3214800"/>
            <a:ext cx="3619080" cy="2714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3" name="Picture 6" descr="http://im7-tub-ru.yandex.net/i?id=487718840-55-72&amp;n=21"/>
          <p:cNvPicPr/>
          <p:nvPr/>
        </p:nvPicPr>
        <p:blipFill>
          <a:blip r:embed="rId4"/>
          <a:stretch/>
        </p:blipFill>
        <p:spPr>
          <a:xfrm>
            <a:off x="428760" y="3500280"/>
            <a:ext cx="3771720" cy="29998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www.siesta.kiev.ua/photos/china/f-150323195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"/>
          <p:cNvSpPr/>
          <p:nvPr/>
        </p:nvSpPr>
        <p:spPr>
          <a:xfrm>
            <a:off x="4429080" y="696240"/>
            <a:ext cx="4714560" cy="4845600"/>
          </a:xfrm>
          <a:prstGeom prst="rect">
            <a:avLst/>
          </a:prstGeom>
          <a:solidFill>
            <a:srgbClr val="c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Успехи экономического развития Китая выражаются в росте объемов промышленного производства и занятии ведущих позиций в мире по производству многих видов продукции. Китай является мировым лидером в производстве угля, стали, цемента, зерна, мяса, хлопка, находится на ведущих мировых позициях по добыче нефти, производству электроэнергии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3" descr="http://im7-tub-ru.yandex.net/i?id=72169910-48-72&amp;n=21"/>
          <p:cNvPicPr/>
          <p:nvPr/>
        </p:nvPicPr>
        <p:blipFill>
          <a:blip r:embed="rId2"/>
          <a:stretch/>
        </p:blipFill>
        <p:spPr>
          <a:xfrm>
            <a:off x="571320" y="0"/>
            <a:ext cx="3047760" cy="2285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7" name="Picture 5" descr="http://im0-tub-ru.yandex.net/i?id=410876504-02-72&amp;n=21"/>
          <p:cNvPicPr/>
          <p:nvPr/>
        </p:nvPicPr>
        <p:blipFill>
          <a:blip r:embed="rId3"/>
          <a:stretch/>
        </p:blipFill>
        <p:spPr>
          <a:xfrm>
            <a:off x="928800" y="2143080"/>
            <a:ext cx="3428640" cy="2285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8" name="Picture 7" descr="http://im8-tub-ru.yandex.net/i?id=300898756-23-72&amp;n=21"/>
          <p:cNvPicPr/>
          <p:nvPr/>
        </p:nvPicPr>
        <p:blipFill>
          <a:blip r:embed="rId4"/>
          <a:stretch/>
        </p:blipFill>
        <p:spPr>
          <a:xfrm>
            <a:off x="0" y="4286160"/>
            <a:ext cx="3428640" cy="2571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://www.siesta.kiev.ua/photos/china/f-150323195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075667570"/>
              </p:ext>
            </p:extLst>
          </p:nvPr>
        </p:nvGraphicFramePr>
        <p:xfrm>
          <a:off x="0" y="357120"/>
          <a:ext cx="9143640" cy="6500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  <Words>604</Words>
  <Paragraphs>42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09:50:36Z</dcterms:created>
  <dc:creator>Valued Acer Customer</dc:creator>
  <dc:description/>
  <dc:language>en-US</dc:language>
  <cp:lastModifiedBy>User</cp:lastModifiedBy>
  <dcterms:modified xsi:type="dcterms:W3CDTF">2016-02-26T19:29:30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5</vt:r8>
  </property>
  <property fmtid="{D5CDD505-2E9C-101B-9397-08002B2CF9AE}" pid="4" name="PresentationFormat">
    <vt:lpwstr>Экран (4:3)</vt:lpwstr>
  </property>
  <property fmtid="{D5CDD505-2E9C-101B-9397-08002B2CF9AE}" pid="5" name="Slides">
    <vt:r8>17</vt:r8>
  </property>
</Properties>
</file>