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jpeg" ContentType="image/jpeg"/>
  <Override PartName="/ppt/media/image32.png" ContentType="image/png"/>
  <Override PartName="/ppt/media/image23.png" ContentType="image/png"/>
  <Override PartName="/ppt/media/push.wav" ContentType="audio/x-wav"/>
  <Override PartName="/ppt/media/image24.png" ContentType="image/png"/>
  <Override PartName="/ppt/media/image31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7.png" ContentType="image/png"/>
  <Override PartName="/ppt/media/image16.gif" ContentType="image/gif"/>
  <Override PartName="/ppt/media/image20.png" ContentType="image/png"/>
  <Override PartName="/ppt/media/image2.jpeg" ContentType="image/jpeg"/>
  <Override PartName="/ppt/media/image18.png" ContentType="image/png"/>
  <Override PartName="/ppt/media/image15.gif" ContentType="image/gif"/>
  <Override PartName="/ppt/media/image27.gif" ContentType="image/gif"/>
  <Override PartName="/ppt/media/image22.jpeg" ContentType="image/jpeg"/>
  <Override PartName="/ppt/media/image1.jpeg" ContentType="image/jpeg"/>
  <Override PartName="/ppt/media/image10.gif" ContentType="image/gif"/>
  <Override PartName="/ppt/media/image45.gif" ContentType="image/gif"/>
  <Override PartName="/ppt/media/image12.png" ContentType="image/png"/>
  <Override PartName="/ppt/media/camera.wav" ContentType="audio/x-wav"/>
  <Override PartName="/ppt/media/image36.png" ContentType="image/png"/>
  <Override PartName="/ppt/media/image43.gif" ContentType="image/gif"/>
  <Override PartName="/ppt/media/image40.png" ContentType="image/png"/>
  <Override PartName="/ppt/media/image30.png" ContentType="image/png"/>
  <Override PartName="/ppt/media/image5.png" ContentType="image/png"/>
  <Override PartName="/ppt/media/image35.gif" ContentType="image/gif"/>
  <Override PartName="/ppt/media/image28.png" ContentType="image/png"/>
  <Override PartName="/ppt/media/image39.gif" ContentType="image/gif"/>
  <Override PartName="/ppt/media/image44.png" ContentType="image/png"/>
  <Override PartName="/ppt/media/image42.png" ContentType="image/png"/>
  <Override PartName="/ppt/media/image37.png" ContentType="image/png"/>
  <Override PartName="/ppt/media/suction.wav" ContentType="audio/x-wav"/>
  <Override PartName="/ppt/media/image26.png" ContentType="image/png"/>
  <Override PartName="/ppt/media/image46.wmf" ContentType="image/x-wmf"/>
  <Override PartName="/ppt/media/image13.gif" ContentType="image/gif"/>
  <Override PartName="/ppt/media/image8.gif" ContentType="image/gif"/>
  <Override PartName="/ppt/media/image38.gif" ContentType="image/gif"/>
  <Override PartName="/ppt/media/image7.gif" ContentType="image/gif"/>
  <Override PartName="/ppt/media/image11.gif" ContentType="image/gif"/>
  <Override PartName="/ppt/media/image9.wmf" ContentType="image/x-wmf"/>
  <Override PartName="/ppt/media/image41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39D-DEE4-433C-9DBF-3EB2886E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062-CF79-4C77-85E5-5BABEFF9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9BB-484E-45D7-A88C-7D06D50D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116-FDBD-4F26-B95E-430ADC35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2DE-E144-49F2-930E-22054DD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3E6-04D5-4FA7-BCAB-D9E642B8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78E-7EF0-4EE7-B420-15780E0F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EDD-6266-4C13-BA36-EAA9EA53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C49-C4B8-488E-93D9-B8AC55CA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AC6-B483-46E0-9A54-10F9A575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16C-D4CC-45D0-A9FF-5E4D595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99E-BA99-4C3C-8B80-062CB6E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55CC-85ED-4E92-907F-0681ADEE1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image" Target="../media/image6.gif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7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6.gif"/><Relationship Id="rId12" Type="http://schemas.openxmlformats.org/officeDocument/2006/relationships/image" Target="../media/image31.gif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7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6.gif"/><Relationship Id="rId10" Type="http://schemas.openxmlformats.org/officeDocument/2006/relationships/image" Target="../media/image34.png"/><Relationship Id="rId11" Type="http://schemas.openxmlformats.org/officeDocument/2006/relationships/image" Target="../media/image31.gif"/><Relationship Id="rId12" Type="http://schemas.openxmlformats.org/officeDocument/2006/relationships/audio" Target="../media/push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35.gif"/><Relationship Id="rId8" Type="http://schemas.openxmlformats.org/officeDocument/2006/relationships/image" Target="../media/image27.gif"/><Relationship Id="rId9" Type="http://schemas.openxmlformats.org/officeDocument/2006/relationships/image" Target="../media/image6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37.png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6.gi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6.gif"/><Relationship Id="rId6" Type="http://schemas.openxmlformats.org/officeDocument/2006/relationships/image" Target="../media/image12.png"/><Relationship Id="rId7" Type="http://schemas.openxmlformats.org/officeDocument/2006/relationships/image" Target="../media/image43.gif"/><Relationship Id="rId8" Type="http://schemas.openxmlformats.org/officeDocument/2006/relationships/image" Target="../media/image44.png"/><Relationship Id="rId9" Type="http://schemas.openxmlformats.org/officeDocument/2006/relationships/image" Target="../media/image45.gif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" Target="slide3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" Target="slide4.xml"/><Relationship Id="rId11" Type="http://schemas.openxmlformats.org/officeDocument/2006/relationships/image" Target="../media/image6.gif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7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" Target="slide5.xml"/><Relationship Id="rId12" Type="http://schemas.openxmlformats.org/officeDocument/2006/relationships/image" Target="../media/image6.gif"/><Relationship Id="rId13" Type="http://schemas.openxmlformats.org/officeDocument/2006/relationships/slide" Target="slide3.xml"/><Relationship Id="rId14" Type="http://schemas.openxmlformats.org/officeDocument/2006/relationships/image" Target="../media/image31.gif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7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" Target="slide6.xml"/><Relationship Id="rId10" Type="http://schemas.openxmlformats.org/officeDocument/2006/relationships/image" Target="../media/image6.gif"/><Relationship Id="rId11" Type="http://schemas.openxmlformats.org/officeDocument/2006/relationships/image" Target="../media/image34.png"/><Relationship Id="rId12" Type="http://schemas.openxmlformats.org/officeDocument/2006/relationships/slide" Target="slide4.xml"/><Relationship Id="rId13" Type="http://schemas.openxmlformats.org/officeDocument/2006/relationships/image" Target="../media/image31.gif"/><Relationship Id="rId14" Type="http://schemas.openxmlformats.org/officeDocument/2006/relationships/audio" Target="../media/push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35.gif"/><Relationship Id="rId8" Type="http://schemas.openxmlformats.org/officeDocument/2006/relationships/image" Target="../media/image27.gif"/><Relationship Id="rId9" Type="http://schemas.openxmlformats.org/officeDocument/2006/relationships/slide" Target="slide7.xml"/><Relationship Id="rId10" Type="http://schemas.openxmlformats.org/officeDocument/2006/relationships/image" Target="../media/image6.gif"/><Relationship Id="rId11" Type="http://schemas.openxmlformats.org/officeDocument/2006/relationships/slide" Target="slide5.xml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37.png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slide" Target="slide8.xml"/><Relationship Id="rId12" Type="http://schemas.openxmlformats.org/officeDocument/2006/relationships/image" Target="../media/image6.gif"/><Relationship Id="rId13" Type="http://schemas.openxmlformats.org/officeDocument/2006/relationships/image" Target="../media/image31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" Target="slide1.xml"/><Relationship Id="rId6" Type="http://schemas.openxmlformats.org/officeDocument/2006/relationships/image" Target="../media/image6.gif"/><Relationship Id="rId7" Type="http://schemas.openxmlformats.org/officeDocument/2006/relationships/image" Target="../media/image12.png"/><Relationship Id="rId8" Type="http://schemas.openxmlformats.org/officeDocument/2006/relationships/image" Target="../media/image43.gif"/><Relationship Id="rId9" Type="http://schemas.openxmlformats.org/officeDocument/2006/relationships/image" Target="../media/image44.png"/><Relationship Id="rId10" Type="http://schemas.openxmlformats.org/officeDocument/2006/relationships/image" Target="../media/image45.gif"/><Relationship Id="rId11" Type="http://schemas.openxmlformats.org/officeDocument/2006/relationships/audio" Target="../media/suction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" Target="slide10.xml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8"/>
          <p:cNvSpPr/>
          <p:nvPr/>
        </p:nvSpPr>
        <p:spPr>
          <a:xfrm>
            <a:off x="0" y="1357200"/>
            <a:ext cx="1143000" cy="72072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9"/>
          <p:cNvSpPr/>
          <p:nvPr/>
        </p:nvSpPr>
        <p:spPr>
          <a:xfrm>
            <a:off x="1143000" y="1357200"/>
            <a:ext cx="12384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1"/>
          <p:cNvSpPr/>
          <p:nvPr/>
        </p:nvSpPr>
        <p:spPr>
          <a:xfrm>
            <a:off x="2357280" y="1357200"/>
            <a:ext cx="128592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2"/>
          <p:cNvSpPr/>
          <p:nvPr/>
        </p:nvSpPr>
        <p:spPr>
          <a:xfrm>
            <a:off x="3643200" y="1357200"/>
            <a:ext cx="171468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4"/>
          <p:cNvSpPr/>
          <p:nvPr/>
        </p:nvSpPr>
        <p:spPr>
          <a:xfrm>
            <a:off x="535788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5"/>
          <p:cNvSpPr/>
          <p:nvPr/>
        </p:nvSpPr>
        <p:spPr>
          <a:xfrm>
            <a:off x="6715080" y="1357200"/>
            <a:ext cx="121464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0" y="0"/>
            <a:ext cx="9107640" cy="1285920"/>
          </a:xfrm>
          <a:prstGeom prst="rect">
            <a:avLst/>
          </a:prstGeom>
          <a:solidFill>
            <a:srgbClr val="336600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oday is Sunday night and Dan has had a very unlucky week…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4"/>
          <p:cNvSpPr/>
          <p:nvPr/>
        </p:nvSpPr>
        <p:spPr>
          <a:xfrm>
            <a:off x="778680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"/>
          <p:cNvPicPr/>
          <p:nvPr/>
        </p:nvPicPr>
        <p:blipFill>
          <a:blip r:embed="rId2"/>
          <a:stretch/>
        </p:blipFill>
        <p:spPr>
          <a:xfrm rot="19263000">
            <a:off x="-1950840" y="3936960"/>
            <a:ext cx="1452600" cy="21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" name="Загнутый угол 15"/>
          <p:cNvSpPr/>
          <p:nvPr/>
        </p:nvSpPr>
        <p:spPr>
          <a:xfrm>
            <a:off x="6786720" y="2500200"/>
            <a:ext cx="1071360" cy="12859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16"/>
          <p:cNvGrpSpPr/>
          <p:nvPr/>
        </p:nvGrpSpPr>
        <p:grpSpPr>
          <a:xfrm>
            <a:off x="6786720" y="2143080"/>
            <a:ext cx="1071360" cy="357120"/>
            <a:chOff x="6786720" y="2143080"/>
            <a:chExt cx="1071360" cy="357120"/>
          </a:xfrm>
        </p:grpSpPr>
        <p:grpSp>
          <p:nvGrpSpPr>
            <p:cNvPr id="54" name="Прямоугольник 20"/>
            <p:cNvGrpSpPr/>
            <p:nvPr/>
          </p:nvGrpSpPr>
          <p:grpSpPr>
            <a:xfrm>
              <a:off x="6786720" y="2143080"/>
              <a:ext cx="1071360" cy="357120"/>
              <a:chOff x="6786720" y="2143080"/>
              <a:chExt cx="1071360" cy="357120"/>
            </a:xfrm>
          </p:grpSpPr>
          <p:pic>
            <p:nvPicPr>
              <p:cNvPr id="55" name="Прямоугольник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6720" y="2143080"/>
                <a:ext cx="107136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6811200" y="2161800"/>
                <a:ext cx="101808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Овал 23"/>
            <p:cNvSpPr/>
            <p:nvPr/>
          </p:nvSpPr>
          <p:spPr>
            <a:xfrm>
              <a:off x="691380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Овал 26"/>
            <p:cNvSpPr/>
            <p:nvPr/>
          </p:nvSpPr>
          <p:spPr>
            <a:xfrm>
              <a:off x="752508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8" descr="">
            <a:hlinkClick r:id="rId4" action="ppaction://hlinksldjump"/>
          </p:cNvPr>
          <p:cNvPicPr/>
          <p:nvPr/>
        </p:nvPicPr>
        <p:blipFill>
          <a:blip r:embed="rId5"/>
          <a:srcRect l="0" t="-493" r="0" b="0"/>
          <a:stretch/>
        </p:blipFill>
        <p:spPr>
          <a:xfrm rot="6074400">
            <a:off x="5049720" y="4444920"/>
            <a:ext cx="1689120" cy="26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86760" y="4316400"/>
            <a:ext cx="1504800" cy="2541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8"/>
          <a:stretch/>
        </p:blipFill>
        <p:spPr>
          <a:xfrm>
            <a:off x="5929200" y="3429000"/>
            <a:ext cx="200052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"/>
          <p:cNvPicPr/>
          <p:nvPr/>
        </p:nvPicPr>
        <p:blipFill>
          <a:blip r:embed="rId9"/>
          <a:stretch/>
        </p:blipFill>
        <p:spPr>
          <a:xfrm>
            <a:off x="0" y="3357720"/>
            <a:ext cx="3895560" cy="3662280"/>
          </a:xfrm>
          <a:prstGeom prst="rect">
            <a:avLst/>
          </a:prstGeom>
          <a:ln w="0">
            <a:noFill/>
          </a:ln>
        </p:spPr>
      </p:pic>
      <p:sp>
        <p:nvSpPr>
          <p:cNvPr id="63" name="Выноска-облако 29"/>
          <p:cNvSpPr/>
          <p:nvPr/>
        </p:nvSpPr>
        <p:spPr>
          <a:xfrm>
            <a:off x="1214280" y="2357280"/>
            <a:ext cx="5643720" cy="16434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k at his story and practice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25"/>
          <p:cNvGraphicFramePr/>
          <p:nvPr/>
        </p:nvGraphicFramePr>
        <p:xfrm>
          <a:off x="9244080" y="2311560"/>
          <a:ext cx="914400" cy="86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" name="Object 2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244080" y="2311560"/>
                    <a:ext cx="91440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7465 0.0511 C 0.07725 0.03677 0.07899 0.03954 0.08732 0.03214 C 0.08854 0.03099 0.08941 0.02914 0.09062 0.02775 C 0.09201 0.02613 0.09375 0.02498 0.09531 0.02359 C 0.09635 0.02151 0.09704 0.01919 0.09843 0.01735 C 0.09982 0.0155 0.10208 0.01503 0.10329 0.01295 C 0.11076 0.00116 0.10173 0.00671 0.11111 0.00255 C 0.11406 -0.00832 0.12465 -0.0178 0.13177 -0.02497 C 0.13385 -0.03329 0.13576 -0.03491 0.14132 -0.03976 C 0.14583 -0.04924 0.15191 -0.05641 0.15729 -0.0652 C 0.16441 -0.07792 0.16319 -0.07653 0.16666 -0.09063 C 0.16718 -0.09318 0.17013 -0.09318 0.17152 -0.09479 C 0.1743 -0.09803 0.17673 -0.10196 0.17951 -0.10543 C 0.18107 -0.10751 0.18142 -0.11121 0.18263 -0.11375 C 0.18524 -0.11884 0.18888 -0.12439 0.19218 -0.12855 C 0.19548 -0.14242 0.20104 -0.15167 0.20937 -0.16023 C 0.21128 -0.16786 0.21458 -0.1704 0.21753 -0.17734 C 0.22118 -0.18635 0.22395 -0.19283 0.23177 -0.1963 C 0.23698 -0.20277 0.24427 -0.21225 0.25086 -0.21526 C 0.25937 -0.22682 0.27465 -0.24578 0.28576 -0.25133 C 0.29027 -0.26011 0.29409 -0.26705 0.30173 -0.27029 C 0.30798 -0.28786 0.32187 -0.29757 0.33507 -0.30404 C 0.34375 -0.30844 0.35156 -0.31514 0.36041 -0.31884 C 0.37083 -0.32832 0.35816 -0.31792 0.37152 -0.32531 C 0.39184 -0.33664 0.37569 -0.33202 0.39513 -0.33572 C 0.40954 -0.34242 0.42465 -0.34774 0.43975 -0.3526 C 0.44531 -0.36046 0.45052 -0.35953 0.45885 -0.36115 C 0.46632 -0.36439 0.47534 -0.36578 0.48263 -0.36971 C 0.50173 -0.38034 0.50816 -0.38358 0.5302 -0.38659 C 0.54757 -0.39422 0.56875 -0.39306 0.58732 -0.39491 C 0.62118 -0.39422 0.65503 -0.39375 0.68888 -0.39283 C 0.72656 -0.3919 0.7651 -0.39352 0.80173 -0.37803 C 0.8151 -0.36601 0.84357 -0.35422 0.86041 -0.35052 C 0.86406 -0.3489 0.86788 -0.3482 0.87152 -0.34635 C 0.87743 -0.34335 0.87986 -0.33826 0.88576 -0.33572 C 0.89375 -0.32809 0.90017 -0.31838 0.90798 -0.31052 C 0.91145 -0.30312 0.91163 -0.29664 0.91423 -0.28924 C 0.91788 -0.27976 0.92309 -0.27144 0.92864 -0.26381 C 0.92968 -0.25965 0.93125 -0.25572 0.93177 -0.25133 C 0.93229 -0.24647 0.93229 -0.24138 0.93333 -0.23653 C 0.93454 -0.23098 0.93784 -0.22682 0.93975 -0.22173 C 0.94166 -0.21109 0.94323 -0.2 0.94618 -0.18982 C 0.94809 -0.17479 0.94982 -0.1637 0.95086 -0.14774 C 0.9493 -0.12346 0.94722 -0.0978 0.93333 -0.08 C 0.93055 -0.06913 0.92569 -0.06589 0.91753 -0.06312 C 0.90104 -0.04555 0.91718 -0.06034 0.90329 -0.05248 C 0.89861 -0.04994 0.89288 -0.04254 0.88888 -0.03976 C 0.88524 -0.03745 0.88142 -0.03722 0.87777 -0.0356 C 0.87118 -0.02982 0.86666 -0.02427 0.85868 -0.02081 C 0.85486 -0.01572 0.85121 -0.01479 0.84618 -0.01225 C 0.83819 -0.00231 0.84774 -0.01318 0.83819 -0.00601 C 0.82968 0.00047 0.82656 0.00578 0.81753 0.00879 C 0.81284 0.01295 0.80833 0.01388 0.80312 0.01735 C 0.80156 0.0185 0.80017 0.02058 0.79826 0.02151 C 0.79531 0.02336 0.78888 0.02567 0.78888 0.0259 C 0.78298 0.03076 0.78159 0.03399 0.77465 0.0363 C 0.77239 0.03769 0.76996 0.03885 0.7684 0.04047 C 0.76718 0.04162 0.76632 0.0437 0.7651 0.04463 C 0.76388 0.04532 0.75312 0.04856 0.75191 0.04902 C 0.74288 0.05758 0.75312 0.04948 0.74097 0.05526 C 0.73854 0.05642 0.73698 0.05781 0.73489 0.05943 C 0.73368 0.06058 0.73316 0.06289 0.73125 0.06382 C 0.7276 0.06613 0.72291 0.06613 0.71909 0.06798 C 0.71267 0.07376 0.70555 0.07469 0.69843 0.07862 C 0.69618 0.07977 0.69392 0.08116 0.69218 0.08278 C 0.69097 0.08393 0.69027 0.08602 0.68888 0.08671 C 0.67083 0.0985 0.6467 0.09804 0.62864 0.09943 C 0.60677 0.10636 0.58003 0.10498 0.5585 0.1059 C 0.54757 0.1133 0.54392 0.11445 0.53177 0.11654 C 0.52222 0.1207 0.51319 0.12324 0.50329 0.12509 C 0.50104 0.12648 0.49861 0.12694 0.49687 0.12925 C 0.49479 0.13203 0.49288 0.15099 0.49201 0.15469 C 0.49184 0.15677 0.48941 0.15931 0.49062 0.1607 C 0.49184 0.16232 0.49479 0.1607 0.49531 0.15862 C 0.49583 0.157 0.49323 0.15607 0.49201 0.15469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98" name="Прямоугольник 18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9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1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2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4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5"/>
          <p:cNvSpPr/>
          <p:nvPr/>
        </p:nvSpPr>
        <p:spPr>
          <a:xfrm>
            <a:off x="6715080" y="714240"/>
            <a:ext cx="11430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7"/>
          <p:cNvSpPr/>
          <p:nvPr/>
        </p:nvSpPr>
        <p:spPr>
          <a:xfrm>
            <a:off x="0" y="0"/>
            <a:ext cx="910764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hone didn`t work on ………….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4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Выноска-облако 29"/>
          <p:cNvSpPr/>
          <p:nvPr/>
        </p:nvSpPr>
        <p:spPr>
          <a:xfrm>
            <a:off x="2214720" y="1357200"/>
            <a:ext cx="3286080" cy="1571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charge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38"/>
          <p:cNvSpPr/>
          <p:nvPr/>
        </p:nvSpPr>
        <p:spPr>
          <a:xfrm flipV="1">
            <a:off x="-4572000" y="5000760"/>
            <a:ext cx="16644960" cy="14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0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1995480" cy="2738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7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40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1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5"/>
          <a:stretch/>
        </p:blipFill>
        <p:spPr>
          <a:xfrm>
            <a:off x="2214720" y="4857840"/>
            <a:ext cx="914400" cy="1019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4" descr=""/>
          <p:cNvPicPr/>
          <p:nvPr/>
        </p:nvPicPr>
        <p:blipFill>
          <a:blip r:embed="rId6"/>
          <a:stretch/>
        </p:blipFill>
        <p:spPr>
          <a:xfrm>
            <a:off x="-1573200" y="2359080"/>
            <a:ext cx="1573200" cy="3048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7"/>
          <a:stretch/>
        </p:blipFill>
        <p:spPr>
          <a:xfrm>
            <a:off x="6291360" y="1500120"/>
            <a:ext cx="2852640" cy="3973680"/>
          </a:xfrm>
          <a:prstGeom prst="rect">
            <a:avLst/>
          </a:prstGeom>
          <a:ln w="0">
            <a:noFill/>
          </a:ln>
        </p:spPr>
      </p:pic>
      <p:grpSp>
        <p:nvGrpSpPr>
          <p:cNvPr id="319" name="Группа 34"/>
          <p:cNvGrpSpPr/>
          <p:nvPr/>
        </p:nvGrpSpPr>
        <p:grpSpPr>
          <a:xfrm>
            <a:off x="6858000" y="2357280"/>
            <a:ext cx="1857240" cy="3071880"/>
            <a:chOff x="6858000" y="2357280"/>
            <a:chExt cx="1857240" cy="3071880"/>
          </a:xfrm>
        </p:grpSpPr>
        <p:pic>
          <p:nvPicPr>
            <p:cNvPr id="320" name="Picture 2" descr=""/>
            <p:cNvPicPr/>
            <p:nvPr/>
          </p:nvPicPr>
          <p:blipFill>
            <a:blip r:embed="rId8"/>
            <a:stretch/>
          </p:blipFill>
          <p:spPr>
            <a:xfrm>
              <a:off x="7295040" y="2986560"/>
              <a:ext cx="121284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" descr=""/>
            <p:cNvPicPr/>
            <p:nvPr/>
          </p:nvPicPr>
          <p:blipFill>
            <a:blip r:embed="rId9"/>
            <a:stretch/>
          </p:blipFill>
          <p:spPr>
            <a:xfrm>
              <a:off x="6858000" y="2357280"/>
              <a:ext cx="18572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Picture 18" descr=""/>
          <p:cNvPicPr/>
          <p:nvPr/>
        </p:nvPicPr>
        <p:blipFill>
          <a:blip r:embed="rId10"/>
          <a:stretch/>
        </p:blipFill>
        <p:spPr>
          <a:xfrm>
            <a:off x="8161200" y="4672080"/>
            <a:ext cx="933480" cy="1576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11"/>
          <a:stretch/>
        </p:blipFill>
        <p:spPr>
          <a:xfrm>
            <a:off x="2786040" y="3786120"/>
            <a:ext cx="561960" cy="127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98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8092E-006 L 0.89306 -0.01341 E">
                                      <p:cBhvr>
                                        <p:cTn id="403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530360" y="1706400"/>
            <a:ext cx="6497640" cy="2872080"/>
          </a:xfrm>
          <a:prstGeom prst="rect">
            <a:avLst/>
          </a:prstGeom>
          <a:ln w="0">
            <a:noFill/>
          </a:ln>
        </p:spPr>
      </p:pic>
      <p:grpSp>
        <p:nvGrpSpPr>
          <p:cNvPr id="325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326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57260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4" descr=""/>
            <p:cNvPicPr/>
            <p:nvPr/>
          </p:nvPicPr>
          <p:blipFill>
            <a:blip r:embed="rId4"/>
            <a:stretch/>
          </p:blipFill>
          <p:spPr>
            <a:xfrm>
              <a:off x="4958640" y="3071880"/>
              <a:ext cx="144108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6" descr="curtain"/>
            <p:cNvPicPr/>
            <p:nvPr/>
          </p:nvPicPr>
          <p:blipFill>
            <a:blip r:embed="rId6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rinter broke down on ……………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7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grpSp>
        <p:nvGrpSpPr>
          <p:cNvPr id="339" name="Полилиния 45"/>
          <p:cNvGrpSpPr/>
          <p:nvPr/>
        </p:nvGrpSpPr>
        <p:grpSpPr>
          <a:xfrm>
            <a:off x="1871640" y="3968640"/>
            <a:ext cx="1719360" cy="658440"/>
            <a:chOff x="1871640" y="3968640"/>
            <a:chExt cx="1719360" cy="658440"/>
          </a:xfrm>
        </p:grpSpPr>
        <p:pic>
          <p:nvPicPr>
            <p:cNvPr id="340" name="Полилиния 45" descr=""/>
            <p:cNvPicPr/>
            <p:nvPr/>
          </p:nvPicPr>
          <p:blipFill>
            <a:blip r:embed="rId8"/>
            <a:stretch/>
          </p:blipFill>
          <p:spPr>
            <a:xfrm>
              <a:off x="2223720" y="3968640"/>
              <a:ext cx="13672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871640" y="3996360"/>
              <a:ext cx="17042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Полилиния 46"/>
          <p:cNvSpPr/>
          <p:nvPr/>
        </p:nvSpPr>
        <p:spPr>
          <a:xfrm>
            <a:off x="2200320" y="4071960"/>
            <a:ext cx="871560" cy="214200"/>
          </a:xfrm>
          <a:custGeom>
            <a:avLst/>
            <a:gdLst/>
            <a:ahLst/>
            <a:rect l="l" t="t" r="r" b="b"/>
            <a:pathLst>
              <a:path w="1062230" h="556729">
                <a:moveTo>
                  <a:pt x="0" y="348184"/>
                </a:moveTo>
                <a:cubicBezTo>
                  <a:pt x="9525" y="333897"/>
                  <a:pt x="14014" y="314423"/>
                  <a:pt x="28575" y="305322"/>
                </a:cubicBezTo>
                <a:cubicBezTo>
                  <a:pt x="73504" y="277242"/>
                  <a:pt x="150258" y="272412"/>
                  <a:pt x="200025" y="262459"/>
                </a:cubicBezTo>
                <a:cubicBezTo>
                  <a:pt x="244882" y="253488"/>
                  <a:pt x="259181" y="247503"/>
                  <a:pt x="300038" y="233884"/>
                </a:cubicBezTo>
                <a:cubicBezTo>
                  <a:pt x="304800" y="210072"/>
                  <a:pt x="303465" y="184167"/>
                  <a:pt x="314325" y="162447"/>
                </a:cubicBezTo>
                <a:cubicBezTo>
                  <a:pt x="323361" y="144374"/>
                  <a:pt x="344253" y="135106"/>
                  <a:pt x="357188" y="119584"/>
                </a:cubicBezTo>
                <a:cubicBezTo>
                  <a:pt x="368181" y="106393"/>
                  <a:pt x="376238" y="91009"/>
                  <a:pt x="385763" y="76722"/>
                </a:cubicBezTo>
                <a:cubicBezTo>
                  <a:pt x="390525" y="52909"/>
                  <a:pt x="376237" y="10047"/>
                  <a:pt x="400050" y="5284"/>
                </a:cubicBezTo>
                <a:cubicBezTo>
                  <a:pt x="426468" y="0"/>
                  <a:pt x="436745" y="44901"/>
                  <a:pt x="457200" y="62434"/>
                </a:cubicBezTo>
                <a:cubicBezTo>
                  <a:pt x="470238" y="73609"/>
                  <a:pt x="485775" y="81484"/>
                  <a:pt x="500063" y="91009"/>
                </a:cubicBezTo>
                <a:cubicBezTo>
                  <a:pt x="509588" y="105297"/>
                  <a:pt x="515446" y="122879"/>
                  <a:pt x="528638" y="133872"/>
                </a:cubicBezTo>
                <a:cubicBezTo>
                  <a:pt x="635262" y="222726"/>
                  <a:pt x="923773" y="136448"/>
                  <a:pt x="957263" y="133872"/>
                </a:cubicBezTo>
                <a:cubicBezTo>
                  <a:pt x="962025" y="114822"/>
                  <a:pt x="953318" y="84015"/>
                  <a:pt x="971550" y="76722"/>
                </a:cubicBezTo>
                <a:cubicBezTo>
                  <a:pt x="1030980" y="52950"/>
                  <a:pt x="1037624" y="140993"/>
                  <a:pt x="1042988" y="162447"/>
                </a:cubicBezTo>
                <a:cubicBezTo>
                  <a:pt x="1033463" y="219597"/>
                  <a:pt x="1062230" y="301180"/>
                  <a:pt x="1014413" y="333897"/>
                </a:cubicBezTo>
                <a:cubicBezTo>
                  <a:pt x="947478" y="379694"/>
                  <a:pt x="851884" y="337226"/>
                  <a:pt x="771525" y="348184"/>
                </a:cubicBezTo>
                <a:cubicBezTo>
                  <a:pt x="730567" y="353769"/>
                  <a:pt x="681293" y="390951"/>
                  <a:pt x="642938" y="405334"/>
                </a:cubicBezTo>
                <a:cubicBezTo>
                  <a:pt x="624552" y="412229"/>
                  <a:pt x="604838" y="414859"/>
                  <a:pt x="585788" y="419622"/>
                </a:cubicBezTo>
                <a:cubicBezTo>
                  <a:pt x="564585" y="435524"/>
                  <a:pt x="456984" y="517875"/>
                  <a:pt x="442913" y="519634"/>
                </a:cubicBezTo>
                <a:cubicBezTo>
                  <a:pt x="425874" y="521764"/>
                  <a:pt x="423863" y="491059"/>
                  <a:pt x="414338" y="476772"/>
                </a:cubicBezTo>
                <a:cubicBezTo>
                  <a:pt x="419100" y="419622"/>
                  <a:pt x="454272" y="356616"/>
                  <a:pt x="428625" y="305322"/>
                </a:cubicBezTo>
                <a:cubicBezTo>
                  <a:pt x="421563" y="291198"/>
                  <a:pt x="299930" y="355382"/>
                  <a:pt x="285750" y="362472"/>
                </a:cubicBezTo>
                <a:cubicBezTo>
                  <a:pt x="276225" y="376759"/>
                  <a:pt x="270583" y="394607"/>
                  <a:pt x="257175" y="405334"/>
                </a:cubicBezTo>
                <a:cubicBezTo>
                  <a:pt x="245415" y="414742"/>
                  <a:pt x="228156" y="413689"/>
                  <a:pt x="214313" y="419622"/>
                </a:cubicBezTo>
                <a:cubicBezTo>
                  <a:pt x="194737" y="428012"/>
                  <a:pt x="176213" y="438672"/>
                  <a:pt x="157163" y="448197"/>
                </a:cubicBezTo>
                <a:cubicBezTo>
                  <a:pt x="147638" y="462484"/>
                  <a:pt x="136267" y="475701"/>
                  <a:pt x="128588" y="491059"/>
                </a:cubicBezTo>
                <a:cubicBezTo>
                  <a:pt x="95753" y="556729"/>
                  <a:pt x="132291" y="515931"/>
                  <a:pt x="100013" y="548209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Группа 38"/>
          <p:cNvGrpSpPr/>
          <p:nvPr/>
        </p:nvGrpSpPr>
        <p:grpSpPr>
          <a:xfrm>
            <a:off x="3929040" y="2786040"/>
            <a:ext cx="1046160" cy="1690560"/>
            <a:chOff x="3929040" y="2786040"/>
            <a:chExt cx="1046160" cy="1690560"/>
          </a:xfrm>
        </p:grpSpPr>
        <p:pic>
          <p:nvPicPr>
            <p:cNvPr id="351" name="Полилиния 29" descr=""/>
            <p:cNvPicPr/>
            <p:nvPr/>
          </p:nvPicPr>
          <p:blipFill>
            <a:blip r:embed="rId9"/>
            <a:stretch/>
          </p:blipFill>
          <p:spPr>
            <a:xfrm>
              <a:off x="3929040" y="2907720"/>
              <a:ext cx="1046160" cy="8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1" descr=""/>
            <p:cNvPicPr/>
            <p:nvPr/>
          </p:nvPicPr>
          <p:blipFill>
            <a:blip r:embed="rId10"/>
            <a:stretch/>
          </p:blipFill>
          <p:spPr>
            <a:xfrm>
              <a:off x="4128120" y="2786040"/>
              <a:ext cx="74340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Выноска-облако 34"/>
          <p:cNvSpPr/>
          <p:nvPr/>
        </p:nvSpPr>
        <p:spPr>
          <a:xfrm>
            <a:off x="1357200" y="1643040"/>
            <a:ext cx="3786480" cy="1285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bought the wrong size of paper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8" descr=""/>
          <p:cNvPicPr/>
          <p:nvPr/>
        </p:nvPicPr>
        <p:blipFill>
          <a:blip r:embed="rId11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8" descr=""/>
          <p:cNvPicPr/>
          <p:nvPr/>
        </p:nvPicPr>
        <p:blipFill>
          <a:blip r:embed="rId12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3" name="camera.wav"/>
      </p:stSnd>
    </p:sndAc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51445E-007 L -0.00799 0.03168 E">
                                      <p:cBhvr>
                                        <p:cTn id="448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60116E-006 L -0.00034 0.03746 E">
                                      <p:cBhvr>
                                        <p:cTn id="450" dur="3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46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4659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357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358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omputer crashed on ……………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6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3" descr=""/>
          <p:cNvPicPr/>
          <p:nvPr/>
        </p:nvPicPr>
        <p:blipFill>
          <a:blip r:embed="rId7"/>
          <a:stretch/>
        </p:blipFill>
        <p:spPr>
          <a:xfrm>
            <a:off x="4214880" y="2500200"/>
            <a:ext cx="2619360" cy="181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8"/>
          <a:srcRect l="0" t="-6790" r="21423" b="0"/>
          <a:stretch/>
        </p:blipFill>
        <p:spPr>
          <a:xfrm>
            <a:off x="5857920" y="1428840"/>
            <a:ext cx="1500120" cy="1109520"/>
          </a:xfrm>
          <a:prstGeom prst="rect">
            <a:avLst/>
          </a:prstGeom>
          <a:ln w="0">
            <a:noFill/>
          </a:ln>
        </p:spPr>
      </p:pic>
      <p:sp>
        <p:nvSpPr>
          <p:cNvPr id="379" name="Выноска-облако 28"/>
          <p:cNvSpPr/>
          <p:nvPr/>
        </p:nvSpPr>
        <p:spPr>
          <a:xfrm>
            <a:off x="1500120" y="1785960"/>
            <a:ext cx="307188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downloaded a virus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8" descr=""/>
          <p:cNvPicPr/>
          <p:nvPr/>
        </p:nvPicPr>
        <p:blipFill>
          <a:blip r:embed="rId9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0" descr=""/>
          <p:cNvPicPr/>
          <p:nvPr/>
        </p:nvPicPr>
        <p:blipFill>
          <a:blip r:embed="rId10"/>
          <a:stretch/>
        </p:blipFill>
        <p:spPr>
          <a:xfrm>
            <a:off x="5143680" y="3000240"/>
            <a:ext cx="790560" cy="668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8" descr=""/>
          <p:cNvPicPr/>
          <p:nvPr/>
        </p:nvPicPr>
        <p:blipFill>
          <a:blip r:embed="rId11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2" name="push.wav"/>
      </p:stSnd>
    </p:sndAc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50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3597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384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385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argument with his boss on…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6"/>
          <a:stretch/>
        </p:blipFill>
        <p:spPr>
          <a:xfrm>
            <a:off x="5030640" y="2928960"/>
            <a:ext cx="1440000" cy="138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7"/>
          <a:stretch/>
        </p:blipFill>
        <p:spPr>
          <a:xfrm>
            <a:off x="3286080" y="2071800"/>
            <a:ext cx="2557440" cy="190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8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406" name="Выноска-облако 34"/>
          <p:cNvSpPr/>
          <p:nvPr/>
        </p:nvSpPr>
        <p:spPr>
          <a:xfrm>
            <a:off x="571680" y="1500120"/>
            <a:ext cx="342900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 hadn`t finished the repor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8" descr=""/>
          <p:cNvPicPr/>
          <p:nvPr/>
        </p:nvPicPr>
        <p:blipFill>
          <a:blip r:embed="rId9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8" descr=""/>
          <p:cNvPicPr/>
          <p:nvPr/>
        </p:nvPicPr>
        <p:blipFill>
          <a:blip r:embed="rId10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55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69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639800" y="1706400"/>
            <a:ext cx="6388200" cy="2872080"/>
          </a:xfrm>
          <a:prstGeom prst="rect">
            <a:avLst/>
          </a:prstGeom>
          <a:ln w="0">
            <a:noFill/>
          </a:ln>
        </p:spPr>
      </p:pic>
      <p:grpSp>
        <p:nvGrpSpPr>
          <p:cNvPr id="410" name="Группа 24"/>
          <p:cNvGrpSpPr/>
          <p:nvPr/>
        </p:nvGrpSpPr>
        <p:grpSpPr>
          <a:xfrm>
            <a:off x="0" y="1143000"/>
            <a:ext cx="9144000" cy="3786120"/>
            <a:chOff x="0" y="1143000"/>
            <a:chExt cx="9144000" cy="3786120"/>
          </a:xfrm>
        </p:grpSpPr>
        <p:pic>
          <p:nvPicPr>
            <p:cNvPr id="411" name="Picture 6" descr="curtain"/>
            <p:cNvPicPr/>
            <p:nvPr/>
          </p:nvPicPr>
          <p:blipFill>
            <a:blip r:embed="rId2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64304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headache on …………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had too much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5"/>
          <a:stretch/>
        </p:blipFill>
        <p:spPr>
          <a:xfrm>
            <a:off x="-214200" y="4214880"/>
            <a:ext cx="4572000" cy="31431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6"/>
          <a:stretch/>
        </p:blipFill>
        <p:spPr>
          <a:xfrm>
            <a:off x="8001000" y="121428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426" name="Выноска-облако 27"/>
          <p:cNvSpPr/>
          <p:nvPr/>
        </p:nvSpPr>
        <p:spPr>
          <a:xfrm>
            <a:off x="1571760" y="1857240"/>
            <a:ext cx="335736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watched too much TV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7"/>
          <a:stretch/>
        </p:blipFill>
        <p:spPr>
          <a:xfrm>
            <a:off x="642960" y="2571840"/>
            <a:ext cx="25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8"/>
          <a:stretch/>
        </p:blipFill>
        <p:spPr>
          <a:xfrm>
            <a:off x="4500720" y="3000240"/>
            <a:ext cx="3643200" cy="2857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9"/>
          <a:stretch/>
        </p:blipFill>
        <p:spPr>
          <a:xfrm>
            <a:off x="4714920" y="2286000"/>
            <a:ext cx="2357280" cy="1619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"/>
          <p:cNvPicPr/>
          <p:nvPr/>
        </p:nvPicPr>
        <p:blipFill>
          <a:blip r:embed="rId10"/>
          <a:stretch/>
        </p:blipFill>
        <p:spPr>
          <a:xfrm>
            <a:off x="5143680" y="2071800"/>
            <a:ext cx="1500120" cy="1143000"/>
          </a:xfrm>
          <a:prstGeom prst="rect">
            <a:avLst/>
          </a:prstGeom>
          <a:ln w="0">
            <a:noFill/>
          </a:ln>
        </p:spPr>
      </p:pic>
      <p:sp>
        <p:nvSpPr>
          <p:cNvPr id="431" name="Овал 41"/>
          <p:cNvSpPr/>
          <p:nvPr/>
        </p:nvSpPr>
        <p:spPr>
          <a:xfrm>
            <a:off x="4929120" y="2143080"/>
            <a:ext cx="185760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42"/>
          <p:cNvSpPr/>
          <p:nvPr/>
        </p:nvSpPr>
        <p:spPr>
          <a:xfrm rot="532200">
            <a:off x="5000760" y="1999800"/>
            <a:ext cx="185724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43"/>
          <p:cNvSpPr/>
          <p:nvPr/>
        </p:nvSpPr>
        <p:spPr>
          <a:xfrm rot="20770800">
            <a:off x="4952880" y="2001960"/>
            <a:ext cx="1857600" cy="428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4-конечная звезда 44"/>
          <p:cNvSpPr/>
          <p:nvPr/>
        </p:nvSpPr>
        <p:spPr>
          <a:xfrm>
            <a:off x="4786200" y="192888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4-конечная звезда 45"/>
          <p:cNvSpPr/>
          <p:nvPr/>
        </p:nvSpPr>
        <p:spPr>
          <a:xfrm>
            <a:off x="6072120" y="228600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4-конечная звезда 46"/>
          <p:cNvSpPr/>
          <p:nvPr/>
        </p:nvSpPr>
        <p:spPr>
          <a:xfrm>
            <a:off x="6500880" y="1785960"/>
            <a:ext cx="428400" cy="357120"/>
          </a:xfrm>
          <a:custGeom>
            <a:avLst/>
            <a:gdLst>
              <a:gd name="textAreaLeft" fmla="*/ 176400 w 428400"/>
              <a:gd name="textAreaRight" fmla="*/ 252000 w 42840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Группа 60"/>
          <p:cNvGrpSpPr/>
          <p:nvPr/>
        </p:nvGrpSpPr>
        <p:grpSpPr>
          <a:xfrm>
            <a:off x="5643720" y="2500200"/>
            <a:ext cx="217440" cy="216000"/>
            <a:chOff x="5643720" y="2500200"/>
            <a:chExt cx="217440" cy="216000"/>
          </a:xfrm>
        </p:grpSpPr>
        <p:sp>
          <p:nvSpPr>
            <p:cNvPr id="438" name="Овал 61"/>
            <p:cNvSpPr/>
            <p:nvPr/>
          </p:nvSpPr>
          <p:spPr>
            <a:xfrm>
              <a:off x="5643720" y="25002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7"/>
            <p:cNvSpPr/>
            <p:nvPr/>
          </p:nvSpPr>
          <p:spPr>
            <a:xfrm rot="21067200">
              <a:off x="58100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Группа 63"/>
          <p:cNvGrpSpPr/>
          <p:nvPr/>
        </p:nvGrpSpPr>
        <p:grpSpPr>
          <a:xfrm>
            <a:off x="5929200" y="2500200"/>
            <a:ext cx="216000" cy="216000"/>
            <a:chOff x="5929200" y="2500200"/>
            <a:chExt cx="216000" cy="216000"/>
          </a:xfrm>
        </p:grpSpPr>
        <p:sp>
          <p:nvSpPr>
            <p:cNvPr id="441" name="Овал 64"/>
            <p:cNvSpPr/>
            <p:nvPr/>
          </p:nvSpPr>
          <p:spPr>
            <a:xfrm>
              <a:off x="5929200" y="25002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7"/>
            <p:cNvSpPr/>
            <p:nvPr/>
          </p:nvSpPr>
          <p:spPr>
            <a:xfrm rot="21067200">
              <a:off x="59468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Picture 18" descr=""/>
          <p:cNvPicPr/>
          <p:nvPr/>
        </p:nvPicPr>
        <p:blipFill>
          <a:blip r:embed="rId11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watched too much T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8" descr=""/>
          <p:cNvPicPr/>
          <p:nvPr/>
        </p:nvPicPr>
        <p:blipFill>
          <a:blip r:embed="rId12"/>
          <a:stretch/>
        </p:blipFill>
        <p:spPr>
          <a:xfrm>
            <a:off x="0" y="5143680"/>
            <a:ext cx="1643040" cy="78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-0.06197 C -0.11406 -0.07376 -0.07621 -0.077 -0.03541 -0.06914 C 0.00538 -0.06104 0.04098 -0.0437 0.06372 -0.0222 C 0.03733 -0.01064 -0.00052 -0.00648 -0.04114 -0.01434 C -0.08212 -0.02266 -0.11788 -0.04047 -0.14045 -0.06197 Z">
                                      <p:cBhvr>
                                        <p:cTn id="58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1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75 0.08763 C -0.15678 0.06335 -0.12622 0.0407 -0.0894 0.0259 C -0.05295 0.0111 -0.01788 0.00694 0.00747 0.01295 C -0.01128 0.037 -0.04149 0.06012 -0.07829 0.07491 C -0.11476 0.08971 -0.14983 0.09341 -0.175 0.08763 Z">
                                      <p:cBhvr>
                                        <p:cTn id="588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17 -0.00994 C 0.00069 -0.0141 0.00261 -0.0185 0.00174 -0.02266 C 0.00122 -0.02474 -0.00295 -0.02266 -0.00295 -0.02474 C -0.00295 -0.02728 0.00034 -0.02751 0.00174 -0.02913 C 0.01389 -0.04324 0.00452 -0.03861 0.02084 -0.04162 C 0.03611 -0.04 0.05157 -0.04 0.06684 -0.03745 C 0.07726 -0.03584 0.08664 -0.03075 0.09705 -0.02913 C 0.10868 -0.02474 0.12014 -0.02011 0.13195 -0.01641 C 0.13299 -0.01364 0.13316 -0.00971 0.13507 -0.00786 C 0.13733 -0.00578 0.14045 -0.0067 0.14306 -0.00578 C 0.14462 -0.00532 0.14618 -0.00462 0.14775 -0.0037 C 0.14948 -0.00254 0.1507 -0.00023 0.15261 0.00046 C 0.1573 0.00208 0.16216 0.00208 0.16684 0.00278 C 0.17466 0.00624 0.18247 0.0074 0.19063 0.00902 C 0.19462 0.01411 0.19549 0.01965 0.19861 0.0259 C 0.19375 0.04578 0.18855 0.04208 0.17483 0.04717 C 0.1632 0.04648 0.15157 0.04648 0.13993 0.04486 C 0.12379 0.04278 0.1092 0.03307 0.09393 0.02798 C 0.08646 0.0215 0.0783 0.02289 0.06997 0.01965 C 0.06389 0.01734 0.05886 0.01318 0.05261 0.0111 C 0.04167 0.00162 0.03004 0.00046 0.01771 -0.0037 C 0.0125 -0.00809 0.0073 -0.01063 0.00174 -0.01433 C 0.00122 -0.01641 -0.00069 -0.01873 0.00017 -0.02058 C 0.00139 -0.02335 0.00504 -0.02219 0.00659 -0.02474 C 0.01111 -0.03191 0.00572 -0.04393 0.01771 -0.04393 E">
                                      <p:cBhvr>
                                        <p:cTn id="59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9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63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51" name="Прямоугольник 18"/>
          <p:cNvSpPr/>
          <p:nvPr/>
        </p:nvSpPr>
        <p:spPr>
          <a:xfrm>
            <a:off x="0" y="0"/>
            <a:ext cx="11430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9"/>
          <p:cNvSpPr/>
          <p:nvPr/>
        </p:nvSpPr>
        <p:spPr>
          <a:xfrm>
            <a:off x="1116000" y="0"/>
            <a:ext cx="12384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1"/>
          <p:cNvSpPr/>
          <p:nvPr/>
        </p:nvSpPr>
        <p:spPr>
          <a:xfrm>
            <a:off x="2325600" y="0"/>
            <a:ext cx="128592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2"/>
          <p:cNvSpPr/>
          <p:nvPr/>
        </p:nvSpPr>
        <p:spPr>
          <a:xfrm>
            <a:off x="3584520" y="0"/>
            <a:ext cx="17146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4"/>
          <p:cNvSpPr/>
          <p:nvPr/>
        </p:nvSpPr>
        <p:spPr>
          <a:xfrm>
            <a:off x="5270400" y="0"/>
            <a:ext cx="135756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5"/>
          <p:cNvSpPr/>
          <p:nvPr/>
        </p:nvSpPr>
        <p:spPr>
          <a:xfrm>
            <a:off x="6600960" y="0"/>
            <a:ext cx="12142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8" descr=""/>
          <p:cNvPicPr/>
          <p:nvPr/>
        </p:nvPicPr>
        <p:blipFill>
          <a:blip r:embed="rId5"/>
          <a:stretch/>
        </p:blipFill>
        <p:spPr>
          <a:xfrm>
            <a:off x="8001000" y="4714920"/>
            <a:ext cx="933480" cy="157644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44"/>
          <p:cNvSpPr/>
          <p:nvPr/>
        </p:nvSpPr>
        <p:spPr>
          <a:xfrm>
            <a:off x="7786800" y="0"/>
            <a:ext cx="1357200" cy="78588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6"/>
          <a:stretch/>
        </p:blipFill>
        <p:spPr>
          <a:xfrm>
            <a:off x="4857840" y="1643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"/>
          <p:cNvPicPr/>
          <p:nvPr/>
        </p:nvPicPr>
        <p:blipFill>
          <a:blip r:embed="rId7"/>
          <a:stretch/>
        </p:blipFill>
        <p:spPr>
          <a:xfrm rot="3312600">
            <a:off x="5122440" y="4624200"/>
            <a:ext cx="4046400" cy="986040"/>
          </a:xfrm>
          <a:prstGeom prst="rect">
            <a:avLst/>
          </a:prstGeom>
          <a:ln w="0">
            <a:noFill/>
          </a:ln>
        </p:spPr>
      </p:pic>
      <p:sp>
        <p:nvSpPr>
          <p:cNvPr id="467" name="Выноска-облако 29"/>
          <p:cNvSpPr/>
          <p:nvPr/>
        </p:nvSpPr>
        <p:spPr>
          <a:xfrm>
            <a:off x="2357280" y="1000080"/>
            <a:ext cx="5000760" cy="2357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Have you ever had an unlucky day or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Tell us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5" descr=""/>
          <p:cNvPicPr/>
          <p:nvPr/>
        </p:nvPicPr>
        <p:blipFill>
          <a:blip r:embed="rId8"/>
          <a:stretch/>
        </p:blipFill>
        <p:spPr>
          <a:xfrm>
            <a:off x="571680" y="3857760"/>
            <a:ext cx="3898800" cy="25002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"/>
          <p:cNvPicPr/>
          <p:nvPr/>
        </p:nvPicPr>
        <p:blipFill>
          <a:blip r:embed="rId9"/>
          <a:stretch/>
        </p:blipFill>
        <p:spPr>
          <a:xfrm>
            <a:off x="4214880" y="3571920"/>
            <a:ext cx="1819080" cy="258912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0" name="suction.wav"/>
      </p:stSnd>
    </p:sndAc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0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4" descr="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8099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8"/>
          <p:cNvSpPr/>
          <p:nvPr/>
        </p:nvSpPr>
        <p:spPr>
          <a:xfrm>
            <a:off x="0" y="1357200"/>
            <a:ext cx="1143000" cy="72072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9"/>
          <p:cNvSpPr/>
          <p:nvPr/>
        </p:nvSpPr>
        <p:spPr>
          <a:xfrm>
            <a:off x="1143000" y="1357200"/>
            <a:ext cx="12384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1"/>
          <p:cNvSpPr/>
          <p:nvPr/>
        </p:nvSpPr>
        <p:spPr>
          <a:xfrm>
            <a:off x="2357280" y="1357200"/>
            <a:ext cx="128592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2"/>
          <p:cNvSpPr/>
          <p:nvPr/>
        </p:nvSpPr>
        <p:spPr>
          <a:xfrm>
            <a:off x="3643200" y="1357200"/>
            <a:ext cx="171468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4"/>
          <p:cNvSpPr/>
          <p:nvPr/>
        </p:nvSpPr>
        <p:spPr>
          <a:xfrm>
            <a:off x="535788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25"/>
          <p:cNvSpPr/>
          <p:nvPr/>
        </p:nvSpPr>
        <p:spPr>
          <a:xfrm>
            <a:off x="6715080" y="1357200"/>
            <a:ext cx="1214640" cy="72072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7"/>
          <p:cNvSpPr/>
          <p:nvPr/>
        </p:nvSpPr>
        <p:spPr>
          <a:xfrm>
            <a:off x="0" y="0"/>
            <a:ext cx="9107640" cy="1285920"/>
          </a:xfrm>
          <a:prstGeom prst="rect">
            <a:avLst/>
          </a:prstGeom>
          <a:solidFill>
            <a:srgbClr val="336600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oday is Sunday night and Dan has had a very unlucky week…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44"/>
          <p:cNvSpPr/>
          <p:nvPr/>
        </p:nvSpPr>
        <p:spPr>
          <a:xfrm>
            <a:off x="7786800" y="1357200"/>
            <a:ext cx="1357200" cy="72072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0" descr=""/>
          <p:cNvPicPr/>
          <p:nvPr/>
        </p:nvPicPr>
        <p:blipFill>
          <a:blip r:embed="rId2"/>
          <a:stretch/>
        </p:blipFill>
        <p:spPr>
          <a:xfrm rot="19263000">
            <a:off x="-1950840" y="3936960"/>
            <a:ext cx="1452600" cy="210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81" name="Загнутый угол 15"/>
          <p:cNvSpPr/>
          <p:nvPr/>
        </p:nvSpPr>
        <p:spPr>
          <a:xfrm>
            <a:off x="6786720" y="2500200"/>
            <a:ext cx="1071360" cy="12859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6e6e6e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Группа 16"/>
          <p:cNvGrpSpPr/>
          <p:nvPr/>
        </p:nvGrpSpPr>
        <p:grpSpPr>
          <a:xfrm>
            <a:off x="6786720" y="2143080"/>
            <a:ext cx="1071360" cy="357120"/>
            <a:chOff x="6786720" y="2143080"/>
            <a:chExt cx="1071360" cy="357120"/>
          </a:xfrm>
        </p:grpSpPr>
        <p:grpSp>
          <p:nvGrpSpPr>
            <p:cNvPr id="483" name="Прямоугольник 20"/>
            <p:cNvGrpSpPr/>
            <p:nvPr/>
          </p:nvGrpSpPr>
          <p:grpSpPr>
            <a:xfrm>
              <a:off x="6786720" y="2143080"/>
              <a:ext cx="1071360" cy="357120"/>
              <a:chOff x="6786720" y="2143080"/>
              <a:chExt cx="1071360" cy="357120"/>
            </a:xfrm>
          </p:grpSpPr>
          <p:pic>
            <p:nvPicPr>
              <p:cNvPr id="484" name="Прямоугольник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6786720" y="2143080"/>
                <a:ext cx="1071360" cy="35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6811200" y="2161800"/>
                <a:ext cx="1018080" cy="31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Овал 23"/>
            <p:cNvSpPr/>
            <p:nvPr/>
          </p:nvSpPr>
          <p:spPr>
            <a:xfrm>
              <a:off x="691380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Овал 26"/>
            <p:cNvSpPr/>
            <p:nvPr/>
          </p:nvSpPr>
          <p:spPr>
            <a:xfrm>
              <a:off x="7525080" y="2266200"/>
              <a:ext cx="152280" cy="156960"/>
            </a:xfrm>
            <a:prstGeom prst="ellipse">
              <a:avLst/>
            </a:prstGeom>
            <a:solidFill>
              <a:srgbClr val="eeece1"/>
            </a:solidFill>
            <a:ln w="57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8" name="Picture 18" descr=""/>
          <p:cNvPicPr/>
          <p:nvPr/>
        </p:nvPicPr>
        <p:blipFill>
          <a:blip r:embed="rId4"/>
          <a:srcRect l="0" t="-493" r="0" b="0"/>
          <a:stretch/>
        </p:blipFill>
        <p:spPr>
          <a:xfrm rot="6074400">
            <a:off x="5049720" y="4444920"/>
            <a:ext cx="1689120" cy="26510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8" descr=""/>
          <p:cNvPicPr/>
          <p:nvPr/>
        </p:nvPicPr>
        <p:blipFill>
          <a:blip r:embed="rId5"/>
          <a:stretch/>
        </p:blipFill>
        <p:spPr>
          <a:xfrm>
            <a:off x="7286760" y="4316400"/>
            <a:ext cx="1504800" cy="2541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2" descr=""/>
          <p:cNvPicPr/>
          <p:nvPr/>
        </p:nvPicPr>
        <p:blipFill>
          <a:blip r:embed="rId6"/>
          <a:stretch/>
        </p:blipFill>
        <p:spPr>
          <a:xfrm>
            <a:off x="5929200" y="3429000"/>
            <a:ext cx="2000520" cy="1023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3" descr=""/>
          <p:cNvPicPr/>
          <p:nvPr/>
        </p:nvPicPr>
        <p:blipFill>
          <a:blip r:embed="rId7"/>
          <a:stretch/>
        </p:blipFill>
        <p:spPr>
          <a:xfrm>
            <a:off x="0" y="3357720"/>
            <a:ext cx="3895560" cy="3662280"/>
          </a:xfrm>
          <a:prstGeom prst="rect">
            <a:avLst/>
          </a:prstGeom>
          <a:ln w="0">
            <a:noFill/>
          </a:ln>
        </p:spPr>
      </p:pic>
      <p:sp>
        <p:nvSpPr>
          <p:cNvPr id="492" name="Выноска-облако 29"/>
          <p:cNvSpPr/>
          <p:nvPr/>
        </p:nvSpPr>
        <p:spPr>
          <a:xfrm>
            <a:off x="1214280" y="2357280"/>
            <a:ext cx="5643720" cy="16434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k at his story and practice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25"/>
          <p:cNvGraphicFramePr/>
          <p:nvPr/>
        </p:nvGraphicFramePr>
        <p:xfrm>
          <a:off x="9429840" y="2500200"/>
          <a:ext cx="542880" cy="4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4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429840" y="2500200"/>
                    <a:ext cx="542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7465 0.0511 C 0.07725 0.03677 0.07899 0.03954 0.08732 0.03214 C 0.08854 0.03099 0.08941 0.02914 0.09062 0.02775 C 0.09201 0.02613 0.09375 0.02498 0.09531 0.02359 C 0.09635 0.02151 0.09704 0.01919 0.09843 0.01735 C 0.09982 0.0155 0.10208 0.01503 0.10329 0.01295 C 0.11076 0.00116 0.10173 0.00671 0.11111 0.00255 C 0.11406 -0.00832 0.12465 -0.0178 0.13177 -0.02497 C 0.13385 -0.03329 0.13576 -0.03491 0.14132 -0.03976 C 0.14583 -0.04924 0.15191 -0.05641 0.15729 -0.0652 C 0.16441 -0.07792 0.16319 -0.07653 0.16666 -0.09063 C 0.16718 -0.09318 0.17013 -0.09318 0.17152 -0.09479 C 0.1743 -0.09803 0.17673 -0.10196 0.17951 -0.10543 C 0.18107 -0.10751 0.18142 -0.11121 0.18263 -0.11375 C 0.18524 -0.11884 0.18888 -0.12439 0.19218 -0.12855 C 0.19548 -0.14242 0.20104 -0.15167 0.20937 -0.16023 C 0.21128 -0.16786 0.21458 -0.1704 0.21753 -0.17734 C 0.22118 -0.18635 0.22395 -0.19283 0.23177 -0.1963 C 0.23698 -0.20277 0.24427 -0.21225 0.25086 -0.21526 C 0.25937 -0.22682 0.27465 -0.24578 0.28576 -0.25133 C 0.29027 -0.26011 0.29409 -0.26705 0.30173 -0.27029 C 0.30798 -0.28786 0.32187 -0.29757 0.33507 -0.30404 C 0.34375 -0.30844 0.35156 -0.31514 0.36041 -0.31884 C 0.37083 -0.32832 0.35816 -0.31792 0.37152 -0.32531 C 0.39184 -0.33664 0.37569 -0.33202 0.39513 -0.33572 C 0.40954 -0.34242 0.42465 -0.34774 0.43975 -0.3526 C 0.44531 -0.36046 0.45052 -0.35953 0.45885 -0.36115 C 0.46632 -0.36439 0.47534 -0.36578 0.48263 -0.36971 C 0.50173 -0.38034 0.50816 -0.38358 0.5302 -0.38659 C 0.54757 -0.39422 0.56875 -0.39306 0.58732 -0.39491 C 0.62118 -0.39422 0.65503 -0.39375 0.68888 -0.39283 C 0.72656 -0.3919 0.7651 -0.39352 0.80173 -0.37803 C 0.8151 -0.36601 0.84357 -0.35422 0.86041 -0.35052 C 0.86406 -0.3489 0.86788 -0.3482 0.87152 -0.34635 C 0.87743 -0.34335 0.87986 -0.33826 0.88576 -0.33572 C 0.89375 -0.32809 0.90017 -0.31838 0.90798 -0.31052 C 0.91145 -0.30312 0.91163 -0.29664 0.91423 -0.28924 C 0.91788 -0.27976 0.92309 -0.27144 0.92864 -0.26381 C 0.92968 -0.25965 0.93125 -0.25572 0.93177 -0.25133 C 0.93229 -0.24647 0.93229 -0.24138 0.93333 -0.23653 C 0.93454 -0.23098 0.93784 -0.22682 0.93975 -0.22173 C 0.94166 -0.21109 0.94323 -0.2 0.94618 -0.18982 C 0.94809 -0.17479 0.94982 -0.1637 0.95086 -0.14774 C 0.9493 -0.12346 0.94722 -0.0978 0.93333 -0.08 C 0.93055 -0.06913 0.92569 -0.06589 0.91753 -0.06312 C 0.90104 -0.04555 0.91718 -0.06034 0.90329 -0.05248 C 0.89861 -0.04994 0.89288 -0.04254 0.88888 -0.03976 C 0.88524 -0.03745 0.88142 -0.03722 0.87777 -0.0356 C 0.87118 -0.02982 0.86666 -0.02427 0.85868 -0.02081 C 0.85486 -0.01572 0.85121 -0.01479 0.84618 -0.01225 C 0.83819 -0.00231 0.84774 -0.01318 0.83819 -0.00601 C 0.82968 0.00047 0.82656 0.00578 0.81753 0.00879 C 0.81284 0.01295 0.80833 0.01388 0.80312 0.01735 C 0.80156 0.0185 0.80017 0.02058 0.79826 0.02151 C 0.79531 0.02336 0.78888 0.02567 0.78888 0.0259 C 0.78298 0.03076 0.78159 0.03399 0.77465 0.0363 C 0.77239 0.03769 0.76996 0.03885 0.7684 0.04047 C 0.76718 0.04162 0.76632 0.0437 0.7651 0.04463 C 0.76388 0.04532 0.75312 0.04856 0.75191 0.04902 C 0.74288 0.05758 0.75312 0.04948 0.74097 0.05526 C 0.73854 0.05642 0.73698 0.05781 0.73489 0.05943 C 0.73368 0.06058 0.73316 0.06289 0.73125 0.06382 C 0.7276 0.06613 0.72291 0.06613 0.71909 0.06798 C 0.71267 0.07376 0.70555 0.07469 0.69843 0.07862 C 0.69618 0.07977 0.69392 0.08116 0.69218 0.08278 C 0.69097 0.08393 0.69027 0.08602 0.68888 0.08671 C 0.67083 0.0985 0.6467 0.09804 0.62864 0.09943 C 0.60677 0.10636 0.58003 0.10498 0.5585 0.1059 C 0.54757 0.1133 0.54392 0.11445 0.53177 0.11654 C 0.52222 0.1207 0.51319 0.12324 0.50329 0.12509 C 0.50104 0.12648 0.49861 0.12694 0.49687 0.12925 C 0.49479 0.13203 0.49288 0.15099 0.49201 0.15469 C 0.49184 0.15677 0.48941 0.15931 0.49062 0.1607 C 0.49184 0.16232 0.49479 0.1607 0.49531 0.15862 C 0.49583 0.157 0.49323 0.15607 0.49201 0.15469 E">
                                      <p:cBhvr>
                                        <p:cTn id="677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79" dur="1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70" name="Прямоугольник 18"/>
          <p:cNvSpPr/>
          <p:nvPr/>
        </p:nvSpPr>
        <p:spPr>
          <a:xfrm>
            <a:off x="0" y="714240"/>
            <a:ext cx="11430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9"/>
          <p:cNvSpPr/>
          <p:nvPr/>
        </p:nvSpPr>
        <p:spPr>
          <a:xfrm>
            <a:off x="1116000" y="714240"/>
            <a:ext cx="12384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1"/>
          <p:cNvSpPr/>
          <p:nvPr/>
        </p:nvSpPr>
        <p:spPr>
          <a:xfrm>
            <a:off x="2325600" y="714240"/>
            <a:ext cx="128592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2"/>
          <p:cNvSpPr/>
          <p:nvPr/>
        </p:nvSpPr>
        <p:spPr>
          <a:xfrm>
            <a:off x="3584520" y="714240"/>
            <a:ext cx="17146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4"/>
          <p:cNvSpPr/>
          <p:nvPr/>
        </p:nvSpPr>
        <p:spPr>
          <a:xfrm>
            <a:off x="5270400" y="714240"/>
            <a:ext cx="135756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5"/>
          <p:cNvSpPr/>
          <p:nvPr/>
        </p:nvSpPr>
        <p:spPr>
          <a:xfrm>
            <a:off x="6600960" y="714240"/>
            <a:ext cx="12142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0" y="0"/>
            <a:ext cx="9107640" cy="64296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ar didn`t work on ………….     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Выноска-облако 29"/>
          <p:cNvSpPr/>
          <p:nvPr/>
        </p:nvSpPr>
        <p:spPr>
          <a:xfrm>
            <a:off x="3214800" y="1500120"/>
            <a:ext cx="371448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put petrol in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1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2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3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5"/>
          <a:stretch/>
        </p:blipFill>
        <p:spPr>
          <a:xfrm>
            <a:off x="1714680" y="1785960"/>
            <a:ext cx="1571400" cy="392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"/>
          <p:cNvPicPr/>
          <p:nvPr/>
        </p:nvPicPr>
        <p:blipFill>
          <a:blip r:embed="rId6"/>
          <a:stretch/>
        </p:blipFill>
        <p:spPr>
          <a:xfrm>
            <a:off x="285840" y="2928960"/>
            <a:ext cx="93348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7"/>
          <a:stretch/>
        </p:blipFill>
        <p:spPr>
          <a:xfrm>
            <a:off x="5000760" y="30718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4"/>
          <p:cNvSpPr/>
          <p:nvPr/>
        </p:nvSpPr>
        <p:spPr>
          <a:xfrm>
            <a:off x="7786800" y="714240"/>
            <a:ext cx="1357200" cy="64296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10520" y="4643280"/>
            <a:ext cx="933480" cy="15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5087E-006 L 0.53577 0.00625 E">
                                      <p:cBhvr>
                                        <p:cTn id="27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6" name="Прямоугольник 18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9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1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2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6715080" y="714240"/>
            <a:ext cx="11430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0" y="0"/>
            <a:ext cx="910764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hone didn`t work on ………….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4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Выноска-облако 29"/>
          <p:cNvSpPr/>
          <p:nvPr/>
        </p:nvSpPr>
        <p:spPr>
          <a:xfrm>
            <a:off x="2214720" y="1357200"/>
            <a:ext cx="3286080" cy="1571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charge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38"/>
          <p:cNvSpPr/>
          <p:nvPr/>
        </p:nvSpPr>
        <p:spPr>
          <a:xfrm flipV="1">
            <a:off x="-4572000" y="5000760"/>
            <a:ext cx="16644960" cy="14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0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1995480" cy="2738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7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0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1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5"/>
          <a:stretch/>
        </p:blipFill>
        <p:spPr>
          <a:xfrm>
            <a:off x="2214720" y="4857840"/>
            <a:ext cx="914400" cy="1019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4" descr=""/>
          <p:cNvPicPr/>
          <p:nvPr/>
        </p:nvPicPr>
        <p:blipFill>
          <a:blip r:embed="rId6"/>
          <a:stretch/>
        </p:blipFill>
        <p:spPr>
          <a:xfrm>
            <a:off x="-1573200" y="2359080"/>
            <a:ext cx="1573200" cy="3048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7"/>
          <a:stretch/>
        </p:blipFill>
        <p:spPr>
          <a:xfrm>
            <a:off x="6291360" y="1500120"/>
            <a:ext cx="2852640" cy="39736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4"/>
          <p:cNvGrpSpPr/>
          <p:nvPr/>
        </p:nvGrpSpPr>
        <p:grpSpPr>
          <a:xfrm>
            <a:off x="6858000" y="2357280"/>
            <a:ext cx="1857240" cy="3071880"/>
            <a:chOff x="6858000" y="2357280"/>
            <a:chExt cx="1857240" cy="3071880"/>
          </a:xfrm>
        </p:grpSpPr>
        <p:pic>
          <p:nvPicPr>
            <p:cNvPr id="118" name="Picture 2" descr=""/>
            <p:cNvPicPr/>
            <p:nvPr/>
          </p:nvPicPr>
          <p:blipFill>
            <a:blip r:embed="rId8"/>
            <a:stretch/>
          </p:blipFill>
          <p:spPr>
            <a:xfrm>
              <a:off x="7295040" y="2986560"/>
              <a:ext cx="121284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" descr=""/>
            <p:cNvPicPr/>
            <p:nvPr/>
          </p:nvPicPr>
          <p:blipFill>
            <a:blip r:embed="rId9"/>
            <a:stretch/>
          </p:blipFill>
          <p:spPr>
            <a:xfrm>
              <a:off x="6858000" y="2357280"/>
              <a:ext cx="185724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18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161200" y="4672080"/>
            <a:ext cx="933480" cy="1576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12"/>
          <a:stretch/>
        </p:blipFill>
        <p:spPr>
          <a:xfrm>
            <a:off x="2786040" y="3786120"/>
            <a:ext cx="561960" cy="127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8092E-006 L 0.89306 -0.01341 E">
                                      <p:cBhvr>
                                        <p:cTn id="7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30360" y="1706400"/>
            <a:ext cx="6497640" cy="287208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124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57260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" descr=""/>
            <p:cNvPicPr/>
            <p:nvPr/>
          </p:nvPicPr>
          <p:blipFill>
            <a:blip r:embed="rId4"/>
            <a:stretch/>
          </p:blipFill>
          <p:spPr>
            <a:xfrm>
              <a:off x="4958640" y="3071880"/>
              <a:ext cx="144108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curtain"/>
            <p:cNvPicPr/>
            <p:nvPr/>
          </p:nvPicPr>
          <p:blipFill>
            <a:blip r:embed="rId6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printer broke down on ……………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7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37" name="Полилиния 45"/>
          <p:cNvGrpSpPr/>
          <p:nvPr/>
        </p:nvGrpSpPr>
        <p:grpSpPr>
          <a:xfrm>
            <a:off x="1871640" y="3968640"/>
            <a:ext cx="1719360" cy="658440"/>
            <a:chOff x="1871640" y="3968640"/>
            <a:chExt cx="1719360" cy="658440"/>
          </a:xfrm>
        </p:grpSpPr>
        <p:pic>
          <p:nvPicPr>
            <p:cNvPr id="138" name="Полилиния 45" descr=""/>
            <p:cNvPicPr/>
            <p:nvPr/>
          </p:nvPicPr>
          <p:blipFill>
            <a:blip r:embed="rId8"/>
            <a:stretch/>
          </p:blipFill>
          <p:spPr>
            <a:xfrm>
              <a:off x="2223720" y="3968640"/>
              <a:ext cx="13672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871640" y="3996360"/>
              <a:ext cx="17042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олилиния 46"/>
          <p:cNvSpPr/>
          <p:nvPr/>
        </p:nvSpPr>
        <p:spPr>
          <a:xfrm>
            <a:off x="2200320" y="4071960"/>
            <a:ext cx="871560" cy="214200"/>
          </a:xfrm>
          <a:custGeom>
            <a:avLst/>
            <a:gdLst/>
            <a:ahLst/>
            <a:rect l="l" t="t" r="r" b="b"/>
            <a:pathLst>
              <a:path w="1062230" h="556729">
                <a:moveTo>
                  <a:pt x="0" y="348184"/>
                </a:moveTo>
                <a:cubicBezTo>
                  <a:pt x="9525" y="333897"/>
                  <a:pt x="14014" y="314423"/>
                  <a:pt x="28575" y="305322"/>
                </a:cubicBezTo>
                <a:cubicBezTo>
                  <a:pt x="73504" y="277242"/>
                  <a:pt x="150258" y="272412"/>
                  <a:pt x="200025" y="262459"/>
                </a:cubicBezTo>
                <a:cubicBezTo>
                  <a:pt x="244882" y="253488"/>
                  <a:pt x="259181" y="247503"/>
                  <a:pt x="300038" y="233884"/>
                </a:cubicBezTo>
                <a:cubicBezTo>
                  <a:pt x="304800" y="210072"/>
                  <a:pt x="303465" y="184167"/>
                  <a:pt x="314325" y="162447"/>
                </a:cubicBezTo>
                <a:cubicBezTo>
                  <a:pt x="323361" y="144374"/>
                  <a:pt x="344253" y="135106"/>
                  <a:pt x="357188" y="119584"/>
                </a:cubicBezTo>
                <a:cubicBezTo>
                  <a:pt x="368181" y="106393"/>
                  <a:pt x="376238" y="91009"/>
                  <a:pt x="385763" y="76722"/>
                </a:cubicBezTo>
                <a:cubicBezTo>
                  <a:pt x="390525" y="52909"/>
                  <a:pt x="376237" y="10047"/>
                  <a:pt x="400050" y="5284"/>
                </a:cubicBezTo>
                <a:cubicBezTo>
                  <a:pt x="426468" y="0"/>
                  <a:pt x="436745" y="44901"/>
                  <a:pt x="457200" y="62434"/>
                </a:cubicBezTo>
                <a:cubicBezTo>
                  <a:pt x="470238" y="73609"/>
                  <a:pt x="485775" y="81484"/>
                  <a:pt x="500063" y="91009"/>
                </a:cubicBezTo>
                <a:cubicBezTo>
                  <a:pt x="509588" y="105297"/>
                  <a:pt x="515446" y="122879"/>
                  <a:pt x="528638" y="133872"/>
                </a:cubicBezTo>
                <a:cubicBezTo>
                  <a:pt x="635262" y="222726"/>
                  <a:pt x="923773" y="136448"/>
                  <a:pt x="957263" y="133872"/>
                </a:cubicBezTo>
                <a:cubicBezTo>
                  <a:pt x="962025" y="114822"/>
                  <a:pt x="953318" y="84015"/>
                  <a:pt x="971550" y="76722"/>
                </a:cubicBezTo>
                <a:cubicBezTo>
                  <a:pt x="1030980" y="52950"/>
                  <a:pt x="1037624" y="140993"/>
                  <a:pt x="1042988" y="162447"/>
                </a:cubicBezTo>
                <a:cubicBezTo>
                  <a:pt x="1033463" y="219597"/>
                  <a:pt x="1062230" y="301180"/>
                  <a:pt x="1014413" y="333897"/>
                </a:cubicBezTo>
                <a:cubicBezTo>
                  <a:pt x="947478" y="379694"/>
                  <a:pt x="851884" y="337226"/>
                  <a:pt x="771525" y="348184"/>
                </a:cubicBezTo>
                <a:cubicBezTo>
                  <a:pt x="730567" y="353769"/>
                  <a:pt x="681293" y="390951"/>
                  <a:pt x="642938" y="405334"/>
                </a:cubicBezTo>
                <a:cubicBezTo>
                  <a:pt x="624552" y="412229"/>
                  <a:pt x="604838" y="414859"/>
                  <a:pt x="585788" y="419622"/>
                </a:cubicBezTo>
                <a:cubicBezTo>
                  <a:pt x="564585" y="435524"/>
                  <a:pt x="456984" y="517875"/>
                  <a:pt x="442913" y="519634"/>
                </a:cubicBezTo>
                <a:cubicBezTo>
                  <a:pt x="425874" y="521764"/>
                  <a:pt x="423863" y="491059"/>
                  <a:pt x="414338" y="476772"/>
                </a:cubicBezTo>
                <a:cubicBezTo>
                  <a:pt x="419100" y="419622"/>
                  <a:pt x="454272" y="356616"/>
                  <a:pt x="428625" y="305322"/>
                </a:cubicBezTo>
                <a:cubicBezTo>
                  <a:pt x="421563" y="291198"/>
                  <a:pt x="299930" y="355382"/>
                  <a:pt x="285750" y="362472"/>
                </a:cubicBezTo>
                <a:cubicBezTo>
                  <a:pt x="276225" y="376759"/>
                  <a:pt x="270583" y="394607"/>
                  <a:pt x="257175" y="405334"/>
                </a:cubicBezTo>
                <a:cubicBezTo>
                  <a:pt x="245415" y="414742"/>
                  <a:pt x="228156" y="413689"/>
                  <a:pt x="214313" y="419622"/>
                </a:cubicBezTo>
                <a:cubicBezTo>
                  <a:pt x="194737" y="428012"/>
                  <a:pt x="176213" y="438672"/>
                  <a:pt x="157163" y="448197"/>
                </a:cubicBezTo>
                <a:cubicBezTo>
                  <a:pt x="147638" y="462484"/>
                  <a:pt x="136267" y="475701"/>
                  <a:pt x="128588" y="491059"/>
                </a:cubicBezTo>
                <a:cubicBezTo>
                  <a:pt x="95753" y="556729"/>
                  <a:pt x="132291" y="515931"/>
                  <a:pt x="100013" y="548209"/>
                </a:cubicBezTo>
              </a:path>
            </a:pathLst>
          </a:custGeom>
          <a:noFill/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38"/>
          <p:cNvGrpSpPr/>
          <p:nvPr/>
        </p:nvGrpSpPr>
        <p:grpSpPr>
          <a:xfrm>
            <a:off x="3929040" y="2786040"/>
            <a:ext cx="1046160" cy="1690560"/>
            <a:chOff x="3929040" y="2786040"/>
            <a:chExt cx="1046160" cy="1690560"/>
          </a:xfrm>
        </p:grpSpPr>
        <p:pic>
          <p:nvPicPr>
            <p:cNvPr id="149" name="Полилиния 29" descr=""/>
            <p:cNvPicPr/>
            <p:nvPr/>
          </p:nvPicPr>
          <p:blipFill>
            <a:blip r:embed="rId9"/>
            <a:stretch/>
          </p:blipFill>
          <p:spPr>
            <a:xfrm>
              <a:off x="3929040" y="2907720"/>
              <a:ext cx="1046160" cy="8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1" descr=""/>
            <p:cNvPicPr/>
            <p:nvPr/>
          </p:nvPicPr>
          <p:blipFill>
            <a:blip r:embed="rId10"/>
            <a:stretch/>
          </p:blipFill>
          <p:spPr>
            <a:xfrm>
              <a:off x="4128120" y="2786040"/>
              <a:ext cx="74340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Выноска-облако 34"/>
          <p:cNvSpPr/>
          <p:nvPr/>
        </p:nvSpPr>
        <p:spPr>
          <a:xfrm>
            <a:off x="1357200" y="1643040"/>
            <a:ext cx="3786480" cy="1285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bought the wrong size of paper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5" name="camera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51445E-007 L -0.00799 0.03168 E">
                                      <p:cBhvr>
                                        <p:cTn id="12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60116E-006 L -0.00034 0.03746 E">
                                      <p:cBhvr>
                                        <p:cTn id="123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4659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155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156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omputer crashed on ……………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3" descr=""/>
          <p:cNvPicPr/>
          <p:nvPr/>
        </p:nvPicPr>
        <p:blipFill>
          <a:blip r:embed="rId7"/>
          <a:stretch/>
        </p:blipFill>
        <p:spPr>
          <a:xfrm>
            <a:off x="4214880" y="2500200"/>
            <a:ext cx="2619360" cy="181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8"/>
          <a:srcRect l="0" t="-6790" r="21423" b="0"/>
          <a:stretch/>
        </p:blipFill>
        <p:spPr>
          <a:xfrm>
            <a:off x="5857920" y="1428840"/>
            <a:ext cx="1500120" cy="1109520"/>
          </a:xfrm>
          <a:prstGeom prst="rect">
            <a:avLst/>
          </a:prstGeom>
          <a:ln w="0">
            <a:noFill/>
          </a:ln>
        </p:spPr>
      </p:pic>
      <p:sp>
        <p:nvSpPr>
          <p:cNvPr id="177" name="Выноска-облако 28"/>
          <p:cNvSpPr/>
          <p:nvPr/>
        </p:nvSpPr>
        <p:spPr>
          <a:xfrm>
            <a:off x="1500120" y="1785960"/>
            <a:ext cx="307188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downloaded a virus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"/>
          <p:cNvPicPr/>
          <p:nvPr/>
        </p:nvPicPr>
        <p:blipFill>
          <a:blip r:embed="rId11"/>
          <a:stretch/>
        </p:blipFill>
        <p:spPr>
          <a:xfrm>
            <a:off x="5143680" y="3000240"/>
            <a:ext cx="790560" cy="668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8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4" name="push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535040" y="1714680"/>
            <a:ext cx="6359760" cy="2857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grpSp>
        <p:nvGrpSpPr>
          <p:cNvPr id="182" name="Группа 24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pic>
          <p:nvPicPr>
            <p:cNvPr id="183" name="Picture 12" descr=""/>
            <p:cNvPicPr/>
            <p:nvPr/>
          </p:nvPicPr>
          <p:blipFill>
            <a:blip r:embed="rId2"/>
            <a:stretch/>
          </p:blipFill>
          <p:spPr>
            <a:xfrm>
              <a:off x="2172600" y="3286080"/>
              <a:ext cx="4798800" cy="30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643040"/>
              <a:ext cx="15714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6" descr="curtain"/>
            <p:cNvPicPr/>
            <p:nvPr/>
          </p:nvPicPr>
          <p:blipFill>
            <a:blip r:embed="rId5"/>
            <a:stretch/>
          </p:blipFill>
          <p:spPr>
            <a:xfrm>
              <a:off x="0" y="1143000"/>
              <a:ext cx="914400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argument with his boss on…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9"/>
          <p:cNvSpPr/>
          <p:nvPr/>
        </p:nvSpPr>
        <p:spPr>
          <a:xfrm flipV="1">
            <a:off x="2428920" y="4000680"/>
            <a:ext cx="57132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2"/>
          <p:cNvSpPr/>
          <p:nvPr/>
        </p:nvSpPr>
        <p:spPr>
          <a:xfrm>
            <a:off x="2643120" y="4071960"/>
            <a:ext cx="357120" cy="71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bought paper which was the wrong size for th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6"/>
          <a:stretch/>
        </p:blipFill>
        <p:spPr>
          <a:xfrm>
            <a:off x="5030640" y="2928960"/>
            <a:ext cx="1440000" cy="138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7"/>
          <a:stretch/>
        </p:blipFill>
        <p:spPr>
          <a:xfrm>
            <a:off x="3286080" y="2071800"/>
            <a:ext cx="25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8"/>
          <a:stretch/>
        </p:blipFill>
        <p:spPr>
          <a:xfrm>
            <a:off x="2143080" y="2857680"/>
            <a:ext cx="1805040" cy="1589040"/>
          </a:xfrm>
          <a:prstGeom prst="rect">
            <a:avLst/>
          </a:prstGeom>
          <a:ln w="0">
            <a:noFill/>
          </a:ln>
        </p:spPr>
      </p:pic>
      <p:sp>
        <p:nvSpPr>
          <p:cNvPr id="204" name="Выноска-облако 34"/>
          <p:cNvSpPr/>
          <p:nvPr/>
        </p:nvSpPr>
        <p:spPr>
          <a:xfrm>
            <a:off x="571680" y="1500120"/>
            <a:ext cx="342900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 hadn`t finished the repor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8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929120"/>
            <a:ext cx="16509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639800" y="1706400"/>
            <a:ext cx="6388200" cy="2872080"/>
          </a:xfrm>
          <a:prstGeom prst="rect">
            <a:avLst/>
          </a:prstGeom>
          <a:ln w="0">
            <a:noFill/>
          </a:ln>
        </p:spPr>
      </p:pic>
      <p:grpSp>
        <p:nvGrpSpPr>
          <p:cNvPr id="208" name="Группа 24"/>
          <p:cNvGrpSpPr/>
          <p:nvPr/>
        </p:nvGrpSpPr>
        <p:grpSpPr>
          <a:xfrm>
            <a:off x="0" y="1143000"/>
            <a:ext cx="9144000" cy="3786120"/>
            <a:chOff x="0" y="1143000"/>
            <a:chExt cx="9144000" cy="3786120"/>
          </a:xfrm>
        </p:grpSpPr>
        <p:pic>
          <p:nvPicPr>
            <p:cNvPr id="209" name="Picture 6" descr="curtain"/>
            <p:cNvPicPr/>
            <p:nvPr/>
          </p:nvPicPr>
          <p:blipFill>
            <a:blip r:embed="rId2"/>
            <a:stretch/>
          </p:blipFill>
          <p:spPr>
            <a:xfrm>
              <a:off x="7874280" y="1643040"/>
              <a:ext cx="126972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6" descr="curtain"/>
            <p:cNvPicPr/>
            <p:nvPr/>
          </p:nvPicPr>
          <p:blipFill>
            <a:blip r:embed="rId3"/>
            <a:stretch/>
          </p:blipFill>
          <p:spPr>
            <a:xfrm>
              <a:off x="0" y="1643040"/>
              <a:ext cx="164304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6" descr="curtain"/>
            <p:cNvPicPr/>
            <p:nvPr/>
          </p:nvPicPr>
          <p:blipFill>
            <a:blip r:embed="rId4"/>
            <a:stretch/>
          </p:blipFill>
          <p:spPr>
            <a:xfrm>
              <a:off x="0" y="114300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7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e had a terrible headache on …………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640872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had too much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7"/>
          <p:cNvSpPr/>
          <p:nvPr/>
        </p:nvSpPr>
        <p:spPr>
          <a:xfrm>
            <a:off x="0" y="714240"/>
            <a:ext cx="11430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8"/>
          <p:cNvSpPr/>
          <p:nvPr/>
        </p:nvSpPr>
        <p:spPr>
          <a:xfrm>
            <a:off x="1143000" y="714240"/>
            <a:ext cx="1238400" cy="50004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9"/>
          <p:cNvSpPr/>
          <p:nvPr/>
        </p:nvSpPr>
        <p:spPr>
          <a:xfrm>
            <a:off x="2357280" y="714240"/>
            <a:ext cx="128592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0"/>
          <p:cNvSpPr/>
          <p:nvPr/>
        </p:nvSpPr>
        <p:spPr>
          <a:xfrm>
            <a:off x="3643200" y="714240"/>
            <a:ext cx="171468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1"/>
          <p:cNvSpPr/>
          <p:nvPr/>
        </p:nvSpPr>
        <p:spPr>
          <a:xfrm>
            <a:off x="535788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b8a82"/>
              </a:gs>
              <a:gs pos="100000">
                <a:srgbClr val="efede0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2"/>
          <p:cNvSpPr/>
          <p:nvPr/>
        </p:nvSpPr>
        <p:spPr>
          <a:xfrm>
            <a:off x="6715080" y="714240"/>
            <a:ext cx="1214640" cy="500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3"/>
          <p:cNvSpPr/>
          <p:nvPr/>
        </p:nvSpPr>
        <p:spPr>
          <a:xfrm>
            <a:off x="7786800" y="714240"/>
            <a:ext cx="1357200" cy="500040"/>
          </a:xfrm>
          <a:prstGeom prst="rect">
            <a:avLst/>
          </a:prstGeom>
          <a:gradFill rotWithShape="0">
            <a:gsLst>
              <a:gs pos="0">
                <a:srgbClr val="8d8d8d"/>
              </a:gs>
              <a:gs pos="100000">
                <a:srgbClr val="f2f2f2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5"/>
          <a:stretch/>
        </p:blipFill>
        <p:spPr>
          <a:xfrm>
            <a:off x="-214200" y="4214880"/>
            <a:ext cx="4572000" cy="3143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6"/>
          <a:stretch/>
        </p:blipFill>
        <p:spPr>
          <a:xfrm>
            <a:off x="8001000" y="121428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224" name="Выноска-облако 27"/>
          <p:cNvSpPr/>
          <p:nvPr/>
        </p:nvSpPr>
        <p:spPr>
          <a:xfrm>
            <a:off x="1571760" y="1857240"/>
            <a:ext cx="335736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watched too much TV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7"/>
          <a:stretch/>
        </p:blipFill>
        <p:spPr>
          <a:xfrm>
            <a:off x="642960" y="2571840"/>
            <a:ext cx="2500200" cy="3200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8"/>
          <a:stretch/>
        </p:blipFill>
        <p:spPr>
          <a:xfrm>
            <a:off x="4500720" y="3000240"/>
            <a:ext cx="3643200" cy="285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9"/>
          <a:stretch/>
        </p:blipFill>
        <p:spPr>
          <a:xfrm>
            <a:off x="4714920" y="2286000"/>
            <a:ext cx="2357280" cy="1619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10"/>
          <a:stretch/>
        </p:blipFill>
        <p:spPr>
          <a:xfrm>
            <a:off x="5143680" y="2071800"/>
            <a:ext cx="1500120" cy="1143000"/>
          </a:xfrm>
          <a:prstGeom prst="rect">
            <a:avLst/>
          </a:prstGeom>
          <a:ln w="0">
            <a:noFill/>
          </a:ln>
        </p:spPr>
      </p:pic>
      <p:sp>
        <p:nvSpPr>
          <p:cNvPr id="229" name="Овал 41"/>
          <p:cNvSpPr/>
          <p:nvPr/>
        </p:nvSpPr>
        <p:spPr>
          <a:xfrm>
            <a:off x="4929120" y="2143080"/>
            <a:ext cx="185760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42"/>
          <p:cNvSpPr/>
          <p:nvPr/>
        </p:nvSpPr>
        <p:spPr>
          <a:xfrm rot="532200">
            <a:off x="5000760" y="1999800"/>
            <a:ext cx="185724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43"/>
          <p:cNvSpPr/>
          <p:nvPr/>
        </p:nvSpPr>
        <p:spPr>
          <a:xfrm rot="20770800">
            <a:off x="4952880" y="2001960"/>
            <a:ext cx="1857600" cy="428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-конечная звезда 44"/>
          <p:cNvSpPr/>
          <p:nvPr/>
        </p:nvSpPr>
        <p:spPr>
          <a:xfrm>
            <a:off x="4786200" y="192888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4-конечная звезда 45"/>
          <p:cNvSpPr/>
          <p:nvPr/>
        </p:nvSpPr>
        <p:spPr>
          <a:xfrm>
            <a:off x="6072120" y="2286000"/>
            <a:ext cx="428760" cy="357120"/>
          </a:xfrm>
          <a:custGeom>
            <a:avLst/>
            <a:gdLst>
              <a:gd name="textAreaLeft" fmla="*/ 176760 w 428760"/>
              <a:gd name="textAreaRight" fmla="*/ 252000 w 42876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4-конечная звезда 46"/>
          <p:cNvSpPr/>
          <p:nvPr/>
        </p:nvSpPr>
        <p:spPr>
          <a:xfrm>
            <a:off x="6500880" y="1785960"/>
            <a:ext cx="428400" cy="357120"/>
          </a:xfrm>
          <a:custGeom>
            <a:avLst/>
            <a:gdLst>
              <a:gd name="textAreaLeft" fmla="*/ 176400 w 428400"/>
              <a:gd name="textAreaRight" fmla="*/ 252000 w 428400"/>
              <a:gd name="textAreaTop" fmla="*/ 147240 h 357120"/>
              <a:gd name="textAreaBottom" fmla="*/ 2098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60"/>
          <p:cNvGrpSpPr/>
          <p:nvPr/>
        </p:nvGrpSpPr>
        <p:grpSpPr>
          <a:xfrm>
            <a:off x="5643720" y="2500200"/>
            <a:ext cx="217440" cy="216000"/>
            <a:chOff x="5643720" y="2500200"/>
            <a:chExt cx="217440" cy="216000"/>
          </a:xfrm>
        </p:grpSpPr>
        <p:sp>
          <p:nvSpPr>
            <p:cNvPr id="236" name="Овал 61"/>
            <p:cNvSpPr/>
            <p:nvPr/>
          </p:nvSpPr>
          <p:spPr>
            <a:xfrm>
              <a:off x="5643720" y="25002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7"/>
            <p:cNvSpPr/>
            <p:nvPr/>
          </p:nvSpPr>
          <p:spPr>
            <a:xfrm rot="21067200">
              <a:off x="58100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63"/>
          <p:cNvGrpSpPr/>
          <p:nvPr/>
        </p:nvGrpSpPr>
        <p:grpSpPr>
          <a:xfrm>
            <a:off x="5929200" y="2500200"/>
            <a:ext cx="216000" cy="216000"/>
            <a:chOff x="5929200" y="2500200"/>
            <a:chExt cx="216000" cy="216000"/>
          </a:xfrm>
        </p:grpSpPr>
        <p:sp>
          <p:nvSpPr>
            <p:cNvPr id="239" name="Овал 64"/>
            <p:cNvSpPr/>
            <p:nvPr/>
          </p:nvSpPr>
          <p:spPr>
            <a:xfrm>
              <a:off x="5929200" y="25002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7"/>
            <p:cNvSpPr/>
            <p:nvPr/>
          </p:nvSpPr>
          <p:spPr>
            <a:xfrm rot="21067200">
              <a:off x="5946840" y="2577600"/>
              <a:ext cx="4752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1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950240" y="4611600"/>
            <a:ext cx="934920" cy="15764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6"/>
          <p:cNvSpPr/>
          <p:nvPr/>
        </p:nvSpPr>
        <p:spPr>
          <a:xfrm>
            <a:off x="214200" y="6000840"/>
            <a:ext cx="273528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idn`t finish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3"/>
          <p:cNvSpPr/>
          <p:nvPr/>
        </p:nvSpPr>
        <p:spPr>
          <a:xfrm>
            <a:off x="3106800" y="6000840"/>
            <a:ext cx="3143160" cy="64764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e1e8f5"/>
              </a:gs>
            </a:gsLst>
            <a:lin ang="16200000"/>
          </a:gra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watched too much T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8" descr=""/>
          <p:cNvPicPr/>
          <p:nvPr/>
        </p:nvPicPr>
        <p:blipFill>
          <a:blip r:embed="rId13"/>
          <a:stretch/>
        </p:blipFill>
        <p:spPr>
          <a:xfrm>
            <a:off x="0" y="5143680"/>
            <a:ext cx="1643040" cy="78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45 -0.06197 C -0.11406 -0.07376 -0.07621 -0.077 -0.03541 -0.06914 C 0.00538 -0.06104 0.04098 -0.0437 0.06372 -0.0222 C 0.03733 -0.01064 -0.00052 -0.00648 -0.04114 -0.01434 C -0.08212 -0.02266 -0.11788 -0.04047 -0.14045 -0.06197 Z">
                                      <p:cBhvr>
                                        <p:cTn id="25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5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1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75 0.08763 C -0.15678 0.06335 -0.12622 0.0407 -0.0894 0.0259 C -0.05295 0.0111 -0.01788 0.00694 0.00747 0.01295 C -0.01128 0.037 -0.04149 0.06012 -0.07829 0.07491 C -0.11476 0.08971 -0.14983 0.09341 -0.175 0.08763 Z">
                                      <p:cBhvr>
                                        <p:cTn id="26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17 -0.00994 C 0.00069 -0.0141 0.00261 -0.0185 0.00174 -0.02266 C 0.00122 -0.02474 -0.00295 -0.02266 -0.00295 -0.02474 C -0.00295 -0.02728 0.00034 -0.02751 0.00174 -0.02913 C 0.01389 -0.04324 0.00452 -0.03861 0.02084 -0.04162 C 0.03611 -0.04 0.05157 -0.04 0.06684 -0.03745 C 0.07726 -0.03584 0.08664 -0.03075 0.09705 -0.02913 C 0.10868 -0.02474 0.12014 -0.02011 0.13195 -0.01641 C 0.13299 -0.01364 0.13316 -0.00971 0.13507 -0.00786 C 0.13733 -0.00578 0.14045 -0.0067 0.14306 -0.00578 C 0.14462 -0.00532 0.14618 -0.00462 0.14775 -0.0037 C 0.14948 -0.00254 0.1507 -0.00023 0.15261 0.00046 C 0.1573 0.00208 0.16216 0.00208 0.16684 0.00278 C 0.17466 0.00624 0.18247 0.0074 0.19063 0.00902 C 0.19462 0.01411 0.19549 0.01965 0.19861 0.0259 C 0.19375 0.04578 0.18855 0.04208 0.17483 0.04717 C 0.1632 0.04648 0.15157 0.04648 0.13993 0.04486 C 0.12379 0.04278 0.1092 0.03307 0.09393 0.02798 C 0.08646 0.0215 0.0783 0.02289 0.06997 0.01965 C 0.06389 0.01734 0.05886 0.01318 0.05261 0.0111 C 0.04167 0.00162 0.03004 0.00046 0.01771 -0.0037 C 0.0125 -0.00809 0.0073 -0.01063 0.00174 -0.01433 C 0.00122 -0.01641 -0.00069 -0.01873 0.00017 -0.02058 C 0.00139 -0.02335 0.00504 -0.02219 0.00659 -0.02474 C 0.01111 -0.03191 0.00572 -0.04393 0.01771 -0.04393 E">
                                      <p:cBhvr>
                                        <p:cTn id="263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49" name="Прямоугольник 18"/>
          <p:cNvSpPr/>
          <p:nvPr/>
        </p:nvSpPr>
        <p:spPr>
          <a:xfrm>
            <a:off x="0" y="0"/>
            <a:ext cx="11430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/>
          <p:cNvSpPr/>
          <p:nvPr/>
        </p:nvSpPr>
        <p:spPr>
          <a:xfrm>
            <a:off x="1116000" y="0"/>
            <a:ext cx="123840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1"/>
          <p:cNvSpPr/>
          <p:nvPr/>
        </p:nvSpPr>
        <p:spPr>
          <a:xfrm>
            <a:off x="2325600" y="0"/>
            <a:ext cx="128592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3584520" y="0"/>
            <a:ext cx="17146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4"/>
          <p:cNvSpPr/>
          <p:nvPr/>
        </p:nvSpPr>
        <p:spPr>
          <a:xfrm>
            <a:off x="5270400" y="0"/>
            <a:ext cx="135756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5"/>
          <p:cNvSpPr/>
          <p:nvPr/>
        </p:nvSpPr>
        <p:spPr>
          <a:xfrm>
            <a:off x="6600960" y="0"/>
            <a:ext cx="1214280" cy="785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4714920"/>
            <a:ext cx="933480" cy="1576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4"/>
          <p:cNvSpPr/>
          <p:nvPr/>
        </p:nvSpPr>
        <p:spPr>
          <a:xfrm>
            <a:off x="7786800" y="0"/>
            <a:ext cx="1357200" cy="78588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7"/>
          <a:stretch/>
        </p:blipFill>
        <p:spPr>
          <a:xfrm>
            <a:off x="4857840" y="1643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8"/>
          <a:stretch/>
        </p:blipFill>
        <p:spPr>
          <a:xfrm rot="3312600">
            <a:off x="5122440" y="4624200"/>
            <a:ext cx="4046400" cy="986040"/>
          </a:xfrm>
          <a:prstGeom prst="rect">
            <a:avLst/>
          </a:prstGeom>
          <a:ln w="0">
            <a:noFill/>
          </a:ln>
        </p:spPr>
      </p:pic>
      <p:sp>
        <p:nvSpPr>
          <p:cNvPr id="265" name="Выноска-облако 29"/>
          <p:cNvSpPr/>
          <p:nvPr/>
        </p:nvSpPr>
        <p:spPr>
          <a:xfrm>
            <a:off x="2357280" y="1000080"/>
            <a:ext cx="5000760" cy="2357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Have you ever had an unlucky day or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Tell us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5" descr=""/>
          <p:cNvPicPr/>
          <p:nvPr/>
        </p:nvPicPr>
        <p:blipFill>
          <a:blip r:embed="rId9"/>
          <a:stretch/>
        </p:blipFill>
        <p:spPr>
          <a:xfrm>
            <a:off x="571680" y="3857760"/>
            <a:ext cx="3898800" cy="2500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10"/>
          <a:stretch/>
        </p:blipFill>
        <p:spPr>
          <a:xfrm>
            <a:off x="4214880" y="3571920"/>
            <a:ext cx="1819080" cy="258912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11" name="suction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1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786120"/>
            <a:ext cx="9144000" cy="3071880"/>
          </a:xfrm>
          <a:prstGeom prst="rect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2"/>
          <p:cNvSpPr/>
          <p:nvPr/>
        </p:nvSpPr>
        <p:spPr>
          <a:xfrm>
            <a:off x="-142920" y="4357800"/>
            <a:ext cx="9501120" cy="114300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4714920" y="3143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786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72" name="Прямоугольник 18"/>
          <p:cNvSpPr/>
          <p:nvPr/>
        </p:nvSpPr>
        <p:spPr>
          <a:xfrm>
            <a:off x="0" y="714240"/>
            <a:ext cx="11430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9"/>
          <p:cNvSpPr/>
          <p:nvPr/>
        </p:nvSpPr>
        <p:spPr>
          <a:xfrm>
            <a:off x="1116000" y="714240"/>
            <a:ext cx="123840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1"/>
          <p:cNvSpPr/>
          <p:nvPr/>
        </p:nvSpPr>
        <p:spPr>
          <a:xfrm>
            <a:off x="2325600" y="714240"/>
            <a:ext cx="128592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2"/>
          <p:cNvSpPr/>
          <p:nvPr/>
        </p:nvSpPr>
        <p:spPr>
          <a:xfrm>
            <a:off x="3584520" y="714240"/>
            <a:ext cx="17146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4"/>
          <p:cNvSpPr/>
          <p:nvPr/>
        </p:nvSpPr>
        <p:spPr>
          <a:xfrm>
            <a:off x="5270400" y="714240"/>
            <a:ext cx="135756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5"/>
          <p:cNvSpPr/>
          <p:nvPr/>
        </p:nvSpPr>
        <p:spPr>
          <a:xfrm>
            <a:off x="6600960" y="714240"/>
            <a:ext cx="1214280" cy="64296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>
            <a:hlinkClick r:id="" action="ppaction://hlinkshowjump?jump=lastslide"/>
          </p:cNvPr>
          <p:cNvSpPr/>
          <p:nvPr/>
        </p:nvSpPr>
        <p:spPr>
          <a:xfrm>
            <a:off x="8732880" y="2428920"/>
            <a:ext cx="268200" cy="1571760"/>
          </a:xfrm>
          <a:custGeom>
            <a:avLst/>
            <a:gdLst>
              <a:gd name="textAreaLeft" fmla="*/ 17280 w 268200"/>
              <a:gd name="textAreaRight" fmla="*/ 250920 w 268200"/>
              <a:gd name="textAreaTop" fmla="*/ 17280 h 1571760"/>
              <a:gd name="textAreaBottom" fmla="*/ 1554480 h 1571760"/>
            </a:gdLst>
            <a:ahLst/>
            <a:rect l="textAreaLeft" t="textAreaTop" r="textAreaRight" b="textAreaBottom"/>
            <a:pathLst>
              <a:path w="21600" h="126444">
                <a:moveTo>
                  <a:pt x="0" y="0"/>
                </a:moveTo>
                <a:lnTo>
                  <a:pt x="21600" y="0"/>
                </a:lnTo>
                <a:lnTo>
                  <a:pt x="21600" y="126444"/>
                </a:lnTo>
                <a:lnTo>
                  <a:pt x="0" y="126444"/>
                </a:lnTo>
                <a:close/>
              </a:path>
              <a:path fill="lightenLess" w="21600" h="1264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26444">
                <a:moveTo>
                  <a:pt x="21600" y="0"/>
                </a:moveTo>
                <a:lnTo>
                  <a:pt x="21600" y="126444"/>
                </a:lnTo>
                <a:lnTo>
                  <a:pt x="20200" y="125044"/>
                </a:lnTo>
                <a:lnTo>
                  <a:pt x="20200" y="1400"/>
                </a:lnTo>
                <a:close/>
              </a:path>
              <a:path fill="darkenLess" w="21600" h="126444">
                <a:moveTo>
                  <a:pt x="21600" y="126444"/>
                </a:moveTo>
                <a:lnTo>
                  <a:pt x="0" y="126444"/>
                </a:lnTo>
                <a:lnTo>
                  <a:pt x="1400" y="125044"/>
                </a:lnTo>
                <a:lnTo>
                  <a:pt x="20200" y="125044"/>
                </a:lnTo>
                <a:close/>
              </a:path>
              <a:path fill="lighten" w="21600" h="126444">
                <a:moveTo>
                  <a:pt x="0" y="126444"/>
                </a:moveTo>
                <a:lnTo>
                  <a:pt x="0" y="0"/>
                </a:lnTo>
                <a:lnTo>
                  <a:pt x="1400" y="1400"/>
                </a:lnTo>
                <a:lnTo>
                  <a:pt x="1400" y="125044"/>
                </a:lnTo>
                <a:close/>
              </a:path>
              <a:path fill="darken" w="21600" h="126444">
                <a:moveTo>
                  <a:pt x="14299" y="63222"/>
                </a:moveTo>
                <a:lnTo>
                  <a:pt x="3794" y="70228"/>
                </a:lnTo>
                <a:lnTo>
                  <a:pt x="3794" y="56216"/>
                </a:lnTo>
                <a:close/>
              </a:path>
              <a:path fill="darken" w="21600" h="126444">
                <a:moveTo>
                  <a:pt x="16144" y="56216"/>
                </a:moveTo>
                <a:lnTo>
                  <a:pt x="16144" y="70228"/>
                </a:lnTo>
                <a:lnTo>
                  <a:pt x="17806" y="70228"/>
                </a:lnTo>
                <a:lnTo>
                  <a:pt x="17806" y="5621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7"/>
          <p:cNvSpPr/>
          <p:nvPr/>
        </p:nvSpPr>
        <p:spPr>
          <a:xfrm>
            <a:off x="0" y="0"/>
            <a:ext cx="9107640" cy="642960"/>
          </a:xfrm>
          <a:prstGeom prst="rect">
            <a:avLst/>
          </a:prstGeom>
          <a:gradFill rotWithShape="0">
            <a:gsLst>
              <a:gs pos="0">
                <a:srgbClr val="484848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s car didn`t work on ………….          Wh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Выноска-облако 29"/>
          <p:cNvSpPr/>
          <p:nvPr/>
        </p:nvSpPr>
        <p:spPr>
          <a:xfrm>
            <a:off x="3214800" y="1500120"/>
            <a:ext cx="3714480" cy="1428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he`d forgotten to put petrol in it on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38"/>
          <p:cNvSpPr/>
          <p:nvPr/>
        </p:nvSpPr>
        <p:spPr>
          <a:xfrm>
            <a:off x="-143640" y="4928400"/>
            <a:ext cx="12215880" cy="71640"/>
          </a:xfrm>
          <a:prstGeom prst="line">
            <a:avLst/>
          </a:prstGeom>
          <a:ln w="127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0" descr=""/>
          <p:cNvPicPr/>
          <p:nvPr/>
        </p:nvPicPr>
        <p:blipFill>
          <a:blip r:embed="rId2"/>
          <a:stretch/>
        </p:blipFill>
        <p:spPr>
          <a:xfrm>
            <a:off x="7148520" y="1428840"/>
            <a:ext cx="1995480" cy="2738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1" descr=""/>
          <p:cNvPicPr/>
          <p:nvPr/>
        </p:nvPicPr>
        <p:blipFill>
          <a:blip r:embed="rId3"/>
          <a:stretch/>
        </p:blipFill>
        <p:spPr>
          <a:xfrm>
            <a:off x="0" y="1571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5" descr=""/>
          <p:cNvPicPr/>
          <p:nvPr/>
        </p:nvPicPr>
        <p:blipFill>
          <a:blip r:embed="rId4"/>
          <a:stretch/>
        </p:blipFill>
        <p:spPr>
          <a:xfrm>
            <a:off x="0" y="3143160"/>
            <a:ext cx="9144000" cy="13575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39"/>
          <p:cNvSpPr/>
          <p:nvPr/>
        </p:nvSpPr>
        <p:spPr>
          <a:xfrm>
            <a:off x="0" y="5500800"/>
            <a:ext cx="9429840" cy="1440"/>
          </a:xfrm>
          <a:prstGeom prst="line">
            <a:avLst/>
          </a:prstGeom>
          <a:ln w="127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41"/>
          <p:cNvSpPr/>
          <p:nvPr/>
        </p:nvSpPr>
        <p:spPr>
          <a:xfrm>
            <a:off x="214200" y="5929200"/>
            <a:ext cx="285768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charge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2"/>
          <p:cNvSpPr/>
          <p:nvPr/>
        </p:nvSpPr>
        <p:spPr>
          <a:xfrm>
            <a:off x="3214800" y="5929200"/>
            <a:ext cx="285732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downloaded a vir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3"/>
          <p:cNvSpPr/>
          <p:nvPr/>
        </p:nvSpPr>
        <p:spPr>
          <a:xfrm>
            <a:off x="6215040" y="5929200"/>
            <a:ext cx="2714760" cy="714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1015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forgot to put petrol in it 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5"/>
          <a:stretch/>
        </p:blipFill>
        <p:spPr>
          <a:xfrm>
            <a:off x="1714680" y="1785960"/>
            <a:ext cx="1571400" cy="3929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4" descr=""/>
          <p:cNvPicPr/>
          <p:nvPr/>
        </p:nvPicPr>
        <p:blipFill>
          <a:blip r:embed="rId6"/>
          <a:stretch/>
        </p:blipFill>
        <p:spPr>
          <a:xfrm>
            <a:off x="285840" y="2928960"/>
            <a:ext cx="933480" cy="2209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7"/>
          <a:stretch/>
        </p:blipFill>
        <p:spPr>
          <a:xfrm>
            <a:off x="5000760" y="30718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44"/>
          <p:cNvSpPr/>
          <p:nvPr/>
        </p:nvSpPr>
        <p:spPr>
          <a:xfrm>
            <a:off x="7786800" y="714240"/>
            <a:ext cx="1357200" cy="642960"/>
          </a:xfrm>
          <a:prstGeom prst="rect">
            <a:avLst/>
          </a:prstGeom>
          <a:solidFill>
            <a:srgbClr val="ff0000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210520" y="4643280"/>
            <a:ext cx="933480" cy="157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2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5087E-006 L 0.53577 0.00625 E">
                                      <p:cBhvr>
                                        <p:cTn id="354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36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7:37:44Z</dcterms:created>
  <dc:creator>Inna Zhuravliova</dc:creator>
  <dc:description/>
  <dc:language>en-US</dc:language>
  <cp:lastModifiedBy>Iya Smirnova</cp:lastModifiedBy>
  <dcterms:modified xsi:type="dcterms:W3CDTF">2019-07-13T16:51:05Z</dcterms:modified>
  <cp:revision>128</cp:revision>
  <dc:subject>Past Perfect or Past Simple</dc:subject>
  <dc:title>An unlucky week</dc:title>
</cp:coreProperties>
</file>