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C43A-C4D2-4D16-94C8-211F60B0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E44B-9A65-4885-9011-9E4EFACA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6D2-CABE-426E-9CD9-A4B26914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60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0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60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0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256-4490-4047-A6FF-8E5B2044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93EE-3E44-4C63-9D9F-3123D79A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9461-3164-4370-AEAD-3537ECA6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901-E3CF-4B0F-A96F-7C70F459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BADB-D098-487B-82C2-A5ED464C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DCA0-4C51-4D17-A4E2-7EEE809C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79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B19D-766A-4C33-BCE1-65A398CF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61F8-9F46-4B73-98D8-29A34517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E3F-D035-44FE-ABF0-03734C82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0D96-DFFA-49E0-866F-9422EC70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DE17-D940-4DEC-864D-9572F3E8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081F-7594-4643-BAEA-10BFD7A9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B48F-CE75-4F94-A463-224DC967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60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080" y="16002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60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080" y="3749400"/>
            <a:ext cx="2551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19AF-E90E-4630-96B8-C465AFE2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177-C64B-45B9-96E9-C6D37E72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FC91-7623-4604-BF26-236F10A5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9CB-AAE8-4F6D-A530-13AF6D63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79243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525-5B68-4405-8DBA-948BA0F7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016-6B3D-41D1-933C-8C24E5A4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7494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A03-9606-4FE5-8451-E203AD7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866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749400"/>
            <a:ext cx="792432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5F2-1E45-48D3-8705-4895450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9000">
              <a:srgbClr val="000000"/>
            </a:gs>
            <a:gs pos="100000">
              <a:srgbClr val="3e3e3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horizon.png"/>
          <p:cNvPicPr/>
          <p:nvPr/>
        </p:nvPicPr>
        <p:blipFill>
          <a:blip r:embed="rId3"/>
          <a:srcRect l="0" t="33330" r="0" b="0"/>
          <a:stretch/>
        </p:blipFill>
        <p:spPr>
          <a:xfrm>
            <a:off x="0" y="0"/>
            <a:ext cx="9143640" cy="45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5715000" y="6356520"/>
            <a:ext cx="1523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58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58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9F7D8E-5B61-4499-A6EE-185FEFE7DE53}" type="slidenum">
              <a:rPr b="0" lang="ru-RU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49" strike="noStrike" cap="all">
                <a:solidFill>
                  <a:srgbClr val="ffffff"/>
                </a:solidFill>
                <a:latin typeface="Arial Narrow"/>
              </a:rPr>
              <a:t>Образец заголовка</a:t>
            </a:r>
            <a:endParaRPr b="0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29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ru-RU" sz="20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9000">
              <a:srgbClr val="000000"/>
            </a:gs>
            <a:gs pos="100000">
              <a:srgbClr val="3e3e3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Образец заголовк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15000" y="6356520"/>
            <a:ext cx="15235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58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58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EFDF16-EACC-41D6-8769-9CFE757192D4}" type="slidenum">
              <a:rPr b="0" lang="ru-RU" sz="11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бразец текста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торо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Трети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Четверты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ятый уровень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ru-RU" sz="1700" spc="29" strike="noStrike">
                <a:solidFill>
                  <a:srgbClr val="dc9e1f"/>
                </a:solidFill>
                <a:latin typeface="Arial Narrow"/>
              </a:rPr>
              <a:t>Р. Бевзенко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20077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49" strike="noStrike" cap="all">
                <a:solidFill>
                  <a:srgbClr val="ffffff"/>
                </a:solidFill>
                <a:latin typeface="Arial Narrow"/>
              </a:rPr>
              <a:t>Принцип договорной свободы в практике Верховного суда</a:t>
            </a:r>
            <a:endParaRPr b="0" lang="ru-RU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сходя из положений статей 1, 421 ГК РФ условия договора определяются по усмотрению сторон, кроме случаев, когда содержание соответствующего условия предписано законом или иными правовыми актами (статья 422 ГК РФ)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оложениями Гражданского кодекса Российской Федерации, на которые сослался суд округа, и законодательством в сфере оказания услуг по передаче электрической энергии не ограничено право исполнителей начислять неустойку за нарушение сроков промежуточных платежей. Условие о начислении неустойки, в том числе на плановые платежи, согласовано сторонами, в связи с чем оснований для неприменения этого условия у суда округа не имелось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5 августа 2016 г. № 305-ЭС16-4576)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условий договор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ледовательно, суды, пренебрегая волей сторон, самостоятельно разъединили судьбу строений от участка, на котором они находятся, чем существенно нарушили нормы материального права, в том числе принципы свободы договор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статья 421 Гражданского кодекса Российской Федерации) и единства судьбы участков и объектов, прочно с ними связанных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3 марта 2016 г. N 305-ЭС15-15840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условий договора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Гражданским кодексом Российской Федерации установлена свобода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а также свобода сторон в определении его условий, в связи с чем, а также учитыва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что оборудование котельной предназначалось для эксплуатации и осуществления бесперебойного производства, передачи и распределения тепловой энергии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 обеспечения теплоснабжения социально-значимых объектов, расположенных в мкрн. "15Б", подпунктом 2.1.7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тороны включили в договор условие об обязанности общества "Мортон-РСО", являвшегося собственником оборудования, за счет своих средств обеспечивать арендатора неснижаемым суточным запасом дизельного топлив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марки "Зимнее" согласно ГОСТ 305-82 в объеме 25 т и обеспечение ежемесячной поставки дизельного топлива в соответствии с графиком (Приложение N 2)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3 ноября 2015 г. N 305-ЭС15-61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орректируется разумностью и справедливостью условий договора 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ринцип свободы договора, закрепленный в статье 421 Гражданского кодекса Российской Федерации, не является безграничным. Сочетаясь с принципом добросовестного поведения участника гражданских правоотношений, он не исключает оценку разумности и справедливости условий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сно пункту 1 статьи 423 Гражданского кодекса Российской Федерации договор, по которому сторона должна получить плату или иное встречное предоставление за исполнение своих обязанностей, является возмездны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стречное предоставление не должно приводить к неосновательному обогащению одной из сторон либо иным образом нарушить основополагающие принципы разумности и добросовестности, что предполагает соблюдение баланса прав и обязанностей сторон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22560" indent="-32256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Условия договора не могут противоречить деловым обыкновениям и не могут быть явно обременительными для заемщика. Таким образом, встречное предоставление не может быть основано на несправедливых договорных условиях, наличие которых следует квалифицировать как недобросовестное поведение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9 марта 2016 г. N 83-КГ16-2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орректируется разумностью и справедливостью условий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ама по себе возможность установления размера процентов на сумму займа по соглашению сторон не может рассматриваться как нарушающая принцип свободы договора, в том числе во взаимосвязи со статьей 10 ГК РФ о пределах осуществления гражданских прав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37320" indent="-33732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месте с тем принцип свободы договора, сочетаясь с принципом добросовестного поведения участников гражданских правоотношений, не исключает обязанности суда оценивать условия конкретного договора с точки зрения их разумности и справедливости, учитывая при этом, что условия договора займа, с одной стороны, не должны быть явно обременительными для заемщика, а с другой стороны, они должны учитывать интересы кредитора как стороны, права которой нарушены в связи с неисполнением обязательства.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 Применительно к договорам займа, заключенным с микрофинансовыми организациями, это предполагает, в частности, необходимость установления судом допускаемых среднерыночных значений процентных ставок, обычно взимаемых микрофинансовыми организациями за пользование заемными денежными средствами при сравнимых обстоятельствах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пределение СК по гражданским делам Верховного Суда РФ от 12 апреля 2016 г. N 59-КГ16-4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я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Из принципов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равенства участников гражданских отношений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вободы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необходимости беспрепятственного осуществления гражданских прав (пункт 1 статьи 1 ГК РФ)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ледует, что перемена кредитора в обязательстве не должна ухудшать положение должник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 Возражения, которые должник имел против требований первоначального кредитора, существовавшие к моменту получения уведомления об уступке, могут быть заявлены новому кредитору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5 сентября 2015 г. N 307-ЭС15-6545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соответствии с пунктом 1 статьи 1 Гражданского кодекса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гражданское законодательство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сновывается на признании равенства участников регулируемых им отношений, неприкосновенности собственности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вободы договор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, недопустимости произвольного вмешательства кого-либо в частные дела, необходимости беспрепятственного осуществления гражданских прав, обеспечения восстановления нарушенных прав, их судебной защиты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настоящем деле принцип равенства был нарушен, поскольку требование гражданина, подавшего заявление в суд общей юрисдикции, было удовлетворено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тогда как аналогичное требование общества "Ремонтник", предъявленное в арбитражный суд, оставлено без удовлетворения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5 сентября 2015 г. N 305-ЭС15-361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Таким образом, реализация принципа свободы договора в отношениях с участием потребителя ограничена императивными нормами Конституции Российской Федерации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15 сентября 2015 г. N 4-КГ15-47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оскольку утрата арендатором интереса в использовании помещения не предусмотрена законом в качестве основания для расторжения договора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суды обоснованно отказали в иске, исходя из права сторон по собственному усмотрению определять условия договора (статья 421 Кодекса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1 августа 2015 г. N 310-ЭС15-400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Употребление не к месту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Принцип свободы договора применяется к указанным соглашениям сторон равным образом наряду с иными видами договорных соглашений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сно абзацу 2 пункта 2 постановления Пленума Высшего Арбитражного Суда Российской Федерации от 06.06.2014 N 35 "О последствиях расторжения договора" последствия расторжения договора, отличные от предусмотренных законом, могут быть установлены соглашением сторон с соблюдением общих ограничений свободы договора, определенных в постановлении Пленума Высшего Арбитражного Суда Российской Федерации от 14.03.2014 N 16 "О свободе договора и ее пределах"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4 августа 2015 г. N 310-ЭС15-456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Роман\Dropbox\Скриншоты\Скриншот 2016-08-16 19.15.45.png"/>
          <p:cNvPicPr/>
          <p:nvPr/>
        </p:nvPicPr>
        <p:blipFill>
          <a:blip r:embed="rId1"/>
          <a:stretch/>
        </p:blipFill>
        <p:spPr>
          <a:xfrm>
            <a:off x="81720" y="860400"/>
            <a:ext cx="9061920" cy="5376600"/>
          </a:xfrm>
          <a:prstGeom prst="rect">
            <a:avLst/>
          </a:prstGeom>
          <a:ln w="0">
            <a:noFill/>
          </a:ln>
        </p:spPr>
      </p:pic>
      <p:sp>
        <p:nvSpPr>
          <p:cNvPr id="88" name="Овал 3"/>
          <p:cNvSpPr/>
          <p:nvPr/>
        </p:nvSpPr>
        <p:spPr>
          <a:xfrm>
            <a:off x="1979640" y="3429000"/>
            <a:ext cx="4608000" cy="1452240"/>
          </a:xfrm>
          <a:prstGeom prst="ellipse">
            <a:avLst/>
          </a:prstGeom>
          <a:noFill/>
          <a:ln>
            <a:solidFill>
              <a:srgbClr val="5d6f7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 Narrow"/>
            </a:endParaRPr>
          </a:p>
        </p:txBody>
      </p:sp>
      <p:sp>
        <p:nvSpPr>
          <p:cNvPr id="89" name="Овал 4"/>
          <p:cNvSpPr/>
          <p:nvPr/>
        </p:nvSpPr>
        <p:spPr>
          <a:xfrm>
            <a:off x="2195640" y="2061000"/>
            <a:ext cx="1728000" cy="575640"/>
          </a:xfrm>
          <a:prstGeom prst="ellipse">
            <a:avLst/>
          </a:prstGeom>
          <a:noFill/>
          <a:ln>
            <a:solidFill>
              <a:srgbClr val="5d6f7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ПРАКТИКА ВАС РФ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ринцип свободы договора является фундаментальным частноправовым принципом, основополагающим началом для организации современного рыночного оборота, его ограничения могут быть допущены лишь в крайних случаях в целях защиты интересов и экономических ожиданий третьих лиц, слабой стороны договора (потребителей), основ правопорядка или нравственности или интересов общества в цело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Одним из таких случаев ограничения свободы договора является направленность сделки на причинение вреда должнику и его кредиторам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Постановление Президиума Высшего Арбитражного Суда РФ от 5 ноября 2013 г. N 9738/1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3640" y="234900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ПАСИБО ЗА ВНИМАНИЕ!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., действуя разумно и добровольно, согласился с характером повреждений принадлежащего ему транспортного средства, отраженных в акте осмотра, со стоимостью их устранения, указанной в экспертном заключении оценщика страховщика от 4 марта 2015 г. на сумму 8702 рубля, следствием чего явилось подписанное им со страховщиком соглашение о размере страховой выплаты по данному страховому случаю в сумме 8702 рубл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которое заключено с учетом принципа свободы договора по волеизъявлению сторон и закону не противоречит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 Подписанное П. соглашение, исходя из буквального его толкования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доступно пониманию гражданина, не обладающего юридическими знаниями, и не допускает каких-либо двояких толкований и формулировок. Доказательств заключения соглашения под влиянием заблуждения, обмана или под давлением не имеется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п. 18 Обзора судебной практики по ОСАГО, 22.06.2016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ри этом ссылка общества на отсутствие заявления о зачете, сделанного одной из сторон, подлежит отклонению, так как данный способ прекращения обязательств был добровольно согласован сторонами в самом договоре цессии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связи с чем в силу принципа свободы договора (статья 421 Гражданского кодекса Российской Федерации) необходимость в направлении дополнительного заявления о зачете отсутствовал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7 мая 2016 г. N 302-ЭС15-18996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в смысле «отвечай за свои действия» 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Пунктом 1 статьи 421 Гражданского кодекса Российской Федерации закреплен один из основополагающих принципов гражданского законодательства - принцип свободы договора, согласно которому граждане и юридические лица свободны в заключении договор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Как установлено судом, стороны при заключении названного договора долевого участия в строительстве жилья договорились, что истице подлежит передаче в собственность однокомнатная квартира 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.. на 8 этаже дома со следующими характеристиками по проекту: общая площадь без учета площади лоджии - ... кв.м (в том числе жилая площадь ... кв.м), площадь лоджии - 4,55 кв.м, (пункт 1.2 указанного договора) по цене ... руб. без учета НДС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Иванова С.А. подписала договор и в дальнейшем его условия в установленном законом порядке не оспаривала</a:t>
            </a: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7 октября 2015 г. N 82-КГ15-5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Регулятивная функция частного права направлена на поддержание и охрану тех отношений, которые были установлены самоопределяющимися субъектами своей волей и в своем интересе (пункт 2 статьи 1 Гражданского кодекса Российской Федерации). Исходя из такого понимания нормативного смысла гражданского законодательства должно осуществляться и толкование составляющих его содержание правовых предписаний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результате осуществления судом функции толкования закона ни одна из сторон договора не должна быть поставлена в менее выгодное положение по сравнению с тем, на что она вправе была справедливо рассчитывать, вступая в договорные отношения (за исключением случаев выхода участников отношений за пределы свободы договора)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14 июня 2016 г. N 308-ЭС16-144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Соглашение сторон, изложенное в пункте 21.8 договора, о том, что подрядчик не будет иметь прав, предусмотренных статьей 712 Гражданского кодекса,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не противоречит статье 9 Гражданского кодекса в силу диспозитивности норм статей 359, 712 Гражданского кодекс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29 марта 2016 г. N 306-ЭС15-1662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силу ст. 421 ГК Российской Федерации граждане и юридические лица свободны в заключении договора, его условия определяются по усмотрению сторон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Заключая договор поручительства, поручитель действует на свой страх и риск, и, поскольку поручительство выдаётся добровольно, с учётом принципа свободы договора, именно на поручителе лежит обязанность оценки степени риска заключения договора поручительства. 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Исходя из правовой природы договора поручительства, который заключается в обеспечение возвратности кредита заёмщиком кредитору, поручитель при заключении договора обязан проверить финансовое состояние заёмщик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гражданским делам Верховного Суда РФ от 24 ноября 2015 г. N 89-КГ15-13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432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49" strike="noStrike" cap="all">
                <a:solidFill>
                  <a:srgbClr val="ffffff"/>
                </a:solidFill>
                <a:latin typeface="Arial Narrow"/>
              </a:rPr>
              <a:t>Свобода договора как ключ к толкованию норм</a:t>
            </a:r>
            <a:endParaRPr b="0" lang="ru-RU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432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В пункте 4 постановления Пленума Высшего Арбитражного Суда Российской Федерации от 14.03.2014 N 16 "О свободе договора и ее пределах" указано, что в случаях, если норма не содержит явно выраженного запрета на установление соглашением сторон условия договора, отличного от предусмотренного в ней, и отсутствуют критерии императивности, указанные в пункте 3 настоящего постановления, она должна рассматриваться как диспозитивная. </a:t>
            </a:r>
            <a:r>
              <a:rPr b="0" lang="ru-RU" sz="1700" spc="29" strike="noStrike">
                <a:solidFill>
                  <a:srgbClr val="ff0000"/>
                </a:solidFill>
                <a:latin typeface="Arial Narrow"/>
              </a:rPr>
              <a:t>В таком случае отличие условий договора от содержания данной нормы само по себе не может служить основанием для признания этого договора или отдельных его условий недействительными по статье 168 Гражданского кодекса.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40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700" spc="29" strike="noStrike">
                <a:solidFill>
                  <a:srgbClr val="ffffff"/>
                </a:solidFill>
                <a:latin typeface="Arial Narrow"/>
              </a:rPr>
              <a:t>(Определение СК по экономическим спорам Верховного Суда РФ от 3 ноября 2015 г. N 305-ЭС15-6784)</a:t>
            </a:r>
            <a:endParaRPr b="0" lang="ru-RU" sz="1700" spc="29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Горизонт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оризонт">
  <a:themeElements>
    <a:clrScheme name="Горизонт">
      <a:dk1>
        <a:srgbClr val="000000"/>
      </a:dk1>
      <a:lt1>
        <a:srgbClr val="ffffff"/>
      </a:lt1>
      <a:dk2>
        <a:srgbClr val="1f2123"/>
      </a:dk2>
      <a:lt2>
        <a:srgbClr val="dc9e1f"/>
      </a:lt2>
      <a:accent1>
        <a:srgbClr val="7e97ad"/>
      </a:accent1>
      <a:accent2>
        <a:srgbClr val="cc8e60"/>
      </a:accent2>
      <a:accent3>
        <a:srgbClr val="7a6a60"/>
      </a:accent3>
      <a:accent4>
        <a:srgbClr val="b4936d"/>
      </a:accent4>
      <a:accent5>
        <a:srgbClr val="67787b"/>
      </a:accent5>
      <a:accent6>
        <a:srgbClr val="9d936f"/>
      </a:accent6>
      <a:hlink>
        <a:srgbClr val="646464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Horizon</Template>
  <TotalTime>1427</TotalTime>
  <Application>LibreOffice/7.4.7.2$Linux_X86_64 LibreOffice_project/40$Build-2</Application>
  <AppVersion>15.0000</AppVersion>
  <Words>1885</Words>
  <Paragraphs>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4:09:00Z</dcterms:created>
  <dc:creator>Роман</dc:creator>
  <dc:description/>
  <dc:language>en-US</dc:language>
  <cp:lastModifiedBy>ЕМТ</cp:lastModifiedBy>
  <dcterms:modified xsi:type="dcterms:W3CDTF">2016-08-17T15:10:25Z</dcterms:modified>
  <cp:revision>9</cp:revision>
  <dc:subject/>
  <dc:title>Принцип договорной свободы в практике Верховного с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21</vt:r8>
  </property>
</Properties>
</file>