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8F2-D6DD-4FCA-B518-5C7C08FB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AA2-4C16-40B0-A452-ED9F4005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572-70B2-4F3B-A719-6C5A0878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60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0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60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0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791-3A2A-4903-A9E8-D84BC062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AC74-1C16-47D6-8337-ADC91D2E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FEA0-AF4B-4357-8AAC-7B7BAE33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276E-4CE7-42AE-A27B-4D0CB6C4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808D-22CD-416E-A123-39EFD012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EDC6-7168-40A0-9686-FA301322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79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579D-CBB6-4ED0-8196-00D69B23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82E3-E753-42EC-A749-0C366DDF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9FA-B5C9-4764-B754-0A31D291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19B1-24B1-4B2A-935C-67F0B7EE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5A33-3CB4-4483-B4DB-3E39D5E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3E1C-7446-4C6A-A7A4-E4930B19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F3A9-F79C-4791-958F-0935A67E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60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0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60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0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B8BF-A6DC-42B5-A32F-4BE49214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224-BC47-477E-986B-A074B0A0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510-3EEC-4237-8D5D-F6C5A051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356-3A3E-42F1-8EA9-047AE77C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79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808-3AFE-4265-8E11-41D30707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FF1-A058-4845-AE3B-C937960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8A8-FFEC-49E8-BD4A-341CF58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8B4-6731-4E9A-9331-184BF88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9000">
              <a:srgbClr val="000000"/>
            </a:gs>
            <a:gs pos="100000">
              <a:srgbClr val="3e3e3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horizon.png"/>
          <p:cNvPicPr/>
          <p:nvPr/>
        </p:nvPicPr>
        <p:blipFill>
          <a:blip r:embed="rId3"/>
          <a:srcRect l="0" t="33330" r="0" b="0"/>
          <a:stretch/>
        </p:blipFill>
        <p:spPr>
          <a:xfrm>
            <a:off x="0" y="0"/>
            <a:ext cx="9143640" cy="45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5715000" y="6356520"/>
            <a:ext cx="1523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58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58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C91035-8258-4F28-A756-3E8067DF660F}" type="slidenum">
              <a:rPr b="0" lang="ru-RU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49" strike="noStrike" cap="all">
                <a:solidFill>
                  <a:srgbClr val="ffffff"/>
                </a:solidFill>
                <a:latin typeface="Arial Narrow"/>
              </a:rPr>
              <a:t>Образец заголовка</a:t>
            </a:r>
            <a:endParaRPr b="0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29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ru-RU" sz="2000" spc="29" strike="noStrike">
              <a:solidFill>
                <a:srgbClr val="ffffff"/>
              </a:solidFill>
              <a:latin typeface="Arial Narrow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29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ru-RU" sz="2000" spc="29" strike="noStrike">
              <a:solidFill>
                <a:srgbClr val="ffffff"/>
              </a:solidFill>
              <a:latin typeface="Arial Narrow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29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ru-RU" sz="20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9000">
              <a:srgbClr val="000000"/>
            </a:gs>
            <a:gs pos="100000">
              <a:srgbClr val="3e3e3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Образец заголовка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15000" y="6356520"/>
            <a:ext cx="1523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58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58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AF6291-5730-426B-B6CC-7CCA328CC52A}" type="slidenum">
              <a:rPr b="0" lang="ru-RU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бразец текста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торо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Трети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Четверты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яты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ru-RU" sz="1700" spc="29" strike="noStrike">
                <a:solidFill>
                  <a:srgbClr val="dc9e1f"/>
                </a:solidFill>
                <a:latin typeface="Arial Narrow"/>
              </a:rPr>
              <a:t>Р. Бевзенк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49" strike="noStrike" cap="all">
                <a:solidFill>
                  <a:srgbClr val="ffffff"/>
                </a:solidFill>
                <a:latin typeface="Arial Narrow"/>
              </a:rPr>
              <a:t>Принцип договорной свободы в практике Верховного суда</a:t>
            </a:r>
            <a:endParaRPr b="0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Исходя из положений статей 1, 421 ГК РФ условия договора определяются по усмотрению сторон, кроме случаев, когда содержание соответствующего условия предписано законом или иными правовыми актами (статья 422 ГК РФ)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Положениями Гражданского кодекса Российской Федерации, на которые сослался суд округа, и законодательством в сфере оказания услуг по передаче электрической энергии не ограничено право исполнителей начислять неустойку за нарушение сроков промежуточных платежей. Условие о начислении неустойки, в том числе на плановые платежи, согласовано сторонами, в связи с чем оснований для неприменения этого условия у суда округа не имелось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5 августа 2016 г. № 305-ЭС16-4576)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условий договора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ледовательно, суды, пренебрегая волей сторон, самостоятельно разъединили судьбу строений от участка, на котором они находятся, чем существенно нарушили нормы материального права, в том числе принципы свободы договора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статья 421 Гражданского кодекса Российской Федерации) и единства судьбы участков и объектов, прочно с ними связанных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3 марта 2016 г. N 305-ЭС15-15840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условий договора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Гражданским кодексом Российской Федерации установлена свобода договор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, а также свобода сторон в определении его условий, в связи с чем, а также учитывая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что оборудование котельной предназначалось для эксплуатации и осуществления бесперебойного производства, передачи и распределения тепловой энергии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и обеспечения теплоснабжения социально-значимых объектов, расположенных в мкрн. "15Б", подпунктом 2.1.7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тороны включили в договор условие об обязанности общества "Мортон-РСО", являвшегося собственником оборудования, за счет своих средств обеспечивать арендатора неснижаемым суточным запасом дизельного топлива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марки "Зимнее" согласно ГОСТ 305-82 в объеме 25 т и обеспечение ежемесячной поставки дизельного топлива в соответствии с графиком (Приложение N 2)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3 ноября 2015 г. N 305-ЭС15-617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орректируется разумностью и справедливостью условий договора 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Принцип свободы договора, закрепленный в статье 421 Гражданского кодекса Российской Федерации, не является безграничным. Сочетаясь с принципом добросовестного поведения участника гражданских правоотношений, он не исключает оценку разумности и справедливости условий договор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огласно пункту 1 статьи 423 Гражданского кодекса Российской Федерации договор, по которому сторона должна получить плату или иное встречное предоставление за исполнение своих обязанностей, является возмездным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стречное предоставление не должно приводить к неосновательному обогащению одной из сторон либо иным образом нарушить основополагающие принципы разумности и добросовестности, что предполагает соблюдение баланса прав и обязанностей сторон договор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Условия договора не могут противоречить деловым обыкновениям и не могут быть явно обременительными для заемщика. Таким образом, встречное предоставление не может быть основано на несправедливых договорных условиях, наличие которых следует квалифицировать как недобросовестное поведение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29 марта 2016 г. N 83-КГ16-2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орректируется разумностью и справедливостью условий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ама по себе возможность установления размера процентов на сумму займа по соглашению сторон не может рассматриваться как нарушающая принцип свободы договора, в том числе во взаимосвязи со статьей 10 ГК РФ о пределах осуществления гражданских прав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37320" indent="-33732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месте с тем принцип свободы договора, сочетаясь с принципом добросовестного поведения участников гражданских правоотношений, не исключает обязанности суда оценивать условия конкретного договора с точки зрения их разумности и справедливости, учитывая при этом, что условия договора займа, с одной стороны, не должны быть явно обременительными для заемщика, а с другой стороны, они должны учитывать интересы кредитора как стороны, права которой нарушены в связи с неисполнением обязательства.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 Применительно к договорам займа, заключенным с микрофинансовыми организациями, это предполагает, в частности, необходимость установления судом допускаемых среднерыночных значений процентных ставок, обычно взимаемых микрофинансовыми организациями за пользование заемными денежными средствами при сравнимых обстоятельствах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пределение СК по гражданским делам Верховного Суда РФ от 12 апреля 2016 г. N 59-КГ16-4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я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Из принципов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равенства участников гражданских отношений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вободы договор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, необходимости беспрепятственного осуществления гражданских прав (пункт 1 статьи 1 ГК РФ)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ледует, что перемена кредитора в обязательстве не должна ухудшать положение должник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 Возражения, которые должник имел против требований первоначального кредитора, существовавшие к моменту получения уведомления об уступке, могут быть заявлены новому кредитору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5 сентября 2015 г. N 307-ЭС15-6545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соответствии с пунктом 1 статьи 1 Гражданского кодекса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гражданское законодательство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сновывается на признании равенства участников регулируемых им отношений, неприкосновенности собственности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вободы договор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, недопустимости произвольного вмешательства кого-либо в частные дела, необходимости беспрепятственного осуществления гражданских прав, обеспечения восстановления нарушенных прав, их судебной защиты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настоящем деле принцип равенства был нарушен, поскольку требование гражданина, подавшего заявление в суд общей юрисдикции, было удовлетворено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тогда как аналогичное требование общества "Ремонтник", предъявленное в арбитражный суд, оставлено без удовлетворения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5 сентября 2015 г. N 305-ЭС15-3617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Таким образом, реализация принципа свободы договора в отношениях с участием потребителя ограничена императивными нормами Конституции Российской Федерации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15 сентября 2015 г. N 4-КГ15-47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оскольку утрата арендатором интереса в использовании помещения не предусмотрена законом в качестве основания для расторжения договора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уды обоснованно отказали в иске, исходя из права сторон по собственному усмотрению определять условия договора (статья 421 Кодекса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1 августа 2015 г. N 310-ЭС15-4004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Принцип свободы договора применяется к указанным соглашениям сторон равным образом наряду с иными видами договорных соглашений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огласно абзацу 2 пункта 2 постановления Пленума Высшего Арбитражного Суда Российской Федерации от 06.06.2014 N 35 "О последствиях расторжения договора" последствия расторжения договора, отличные от предусмотренных законом, могут быть установлены соглашением сторон с соблюдением общих ограничений свободы договора, определенных в постановлении Пленума Высшего Арбитражного Суда Российской Федерации от 14.03.2014 N 16 "О свободе договора и ее пределах"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4 августа 2015 г. N 310-ЭС15-456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Роман\Dropbox\Скриншоты\Скриншот 2016-08-16 19.15.45.png"/>
          <p:cNvPicPr/>
          <p:nvPr/>
        </p:nvPicPr>
        <p:blipFill>
          <a:blip r:embed="rId1"/>
          <a:stretch/>
        </p:blipFill>
        <p:spPr>
          <a:xfrm>
            <a:off x="81720" y="860400"/>
            <a:ext cx="9061920" cy="5376600"/>
          </a:xfrm>
          <a:prstGeom prst="rect">
            <a:avLst/>
          </a:prstGeom>
          <a:ln w="0">
            <a:noFill/>
          </a:ln>
        </p:spPr>
      </p:pic>
      <p:sp>
        <p:nvSpPr>
          <p:cNvPr id="88" name="Овал 3"/>
          <p:cNvSpPr/>
          <p:nvPr/>
        </p:nvSpPr>
        <p:spPr>
          <a:xfrm>
            <a:off x="1979640" y="3429000"/>
            <a:ext cx="4608000" cy="1452240"/>
          </a:xfrm>
          <a:prstGeom prst="ellipse">
            <a:avLst/>
          </a:prstGeom>
          <a:noFill/>
          <a:ln>
            <a:solidFill>
              <a:srgbClr val="5d6f7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 Narrow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2195640" y="2061000"/>
            <a:ext cx="1728000" cy="575640"/>
          </a:xfrm>
          <a:prstGeom prst="ellipse">
            <a:avLst/>
          </a:prstGeom>
          <a:noFill/>
          <a:ln>
            <a:solidFill>
              <a:srgbClr val="5d6f7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ПРАКТИКА ВАС РФ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ринцип свободы договора является фундаментальным частноправовым принципом, основополагающим началом для организации современного рыночного оборота, его ограничения могут быть допущены лишь в крайних случаях в целях защиты интересов и экономических ожиданий третьих лиц, слабой стороны договора (потребителей), основ правопорядка или нравственности или интересов общества в целом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дним из таких случаев ограничения свободы договора является направленность сделки на причинение вреда должнику и его кредиторам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Постановление Президиума Высшего Арбитражного Суда РФ от 5 ноября 2013 г. N 9738/1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3640" y="234900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ПАСИБО ЗА ВНИМАНИЕ!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в смысле «отвечай за свои действия»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., действуя разумно и добровольно, согласился с характером повреждений принадлежащего ему транспортного средства, отраженных в акте осмотра, со стоимостью их устранения, указанной в экспертном заключении оценщика страховщика от 4 марта 2015 г. на сумму 8702 рубля, следствием чего явилось подписанное им со страховщиком соглашение о размере страховой выплаты по данному страховому случаю в сумме 8702 рубля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которое заключено с учетом принципа свободы договора по волеизъявлению сторон и закону не противоречит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 Подписанное П. соглашение, исходя из буквального его толкования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доступно пониманию гражданина, не обладающего юридическими знаниями, и не допускает каких-либо двояких толкований и формулировок. Доказательств заключения соглашения под влиянием заблуждения, обмана или под давлением не имеется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п. 18 Обзора судебной практики по ОСАГО, 22.06.2016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в смысле «отвечай за свои действия»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ри этом ссылка общества на отсутствие заявления о зачете, сделанного одной из сторон, подлежит отклонению, так как данный способ прекращения обязательств был добровольно согласован сторонами в самом договоре цессии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 связи с чем в силу принципа свободы договора (статья 421 Гражданского кодекса Российской Федерации) необходимость в направлении дополнительного заявления о зачете отсутствовал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7 мая 2016 г. N 302-ЭС15-18996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в смысле «отвечай за свои действия» 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унктом 1 статьи 421 Гражданского кодекса Российской Федерации закреплен один из основополагающих принципов гражданского законодательства - принцип свободы договора, согласно которому граждане и юридические лица свободны в заключении договор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Как установлено судом, стороны при заключении названного договора долевого участия в строительстве жилья договорились, что истице подлежит передаче в собственность однокомнатная квартира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.. на 8 этаже дома со следующими характеристиками по проекту: общая площадь без учета площади лоджии - ... кв.м (в том числе жилая площадь ... кв.м), площадь лоджии - 4,55 кв.м, (пункт 1.2 указанного договора) по цене ... руб. без учета НДС.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Иванова С.А. подписала договор и в дальнейшем его условия в установленном законом порядке не оспаривал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27 октября 2015 г. N 82-КГ15-5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Регулятивная функция частного права направлена на поддержание и охрану тех отношений, которые были установлены самоопределяющимися субъектами своей волей и в своем интересе (пункт 2 статьи 1 Гражданского кодекса Российской Федерации). Исходя из такого понимания нормативного смысла гражданского законодательства должно осуществляться и толкование составляющих его содержание правовых предписаний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 результате осуществления судом функции толкования закона ни одна из сторон договора не должна быть поставлена в менее выгодное положение по сравнению с тем, на что она вправе была справедливо рассчитывать, вступая в договорные отношения (за исключением случаев выхода участников отношений за пределы свободы договора)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4 июня 2016 г. N 308-ЭС16-144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оглашение сторон, изложенное в пункте 21.8 договора, о том, что подрядчик не будет иметь прав, предусмотренных статьей 712 Гражданского кодекса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не противоречит статье 9 Гражданского кодекса в силу диспозитивности норм статей 359, 712 Гражданского кодекс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9 марта 2016 г. N 306-ЭС15-16624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силу ст. 421 ГК Российской Федерации граждане и юридические лица свободны в заключении договора, его условия определяются по усмотрению сторон.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Заключая договор поручительства, поручитель действует на свой страх и риск, и, поскольку поручительство выдаётся добровольно, с учётом принципа свободы договора, именно на поручителе лежит обязанность оценки степени риска заключения договора поручительств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Исходя из правовой природы договора поручительства, который заключается в обеспечение возвратности кредита заёмщиком кредитору, поручитель при заключении договора обязан проверить финансовое состояние заёмщик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24 ноября 2015 г. N 89-КГ15-1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пункте 4 постановления Пленума Высшего Арбитражного Суда Российской Федерации от 14.03.2014 N 16 "О свободе договора и ее пределах" указано, что в случаях, если норма не содержит явно выраженного запрета на установление соглашением сторон условия договора, отличного от предусмотренного в ней, и отсутствуют критерии императивности, указанные в пункте 3 настоящего постановления, она должна рассматриваться как диспозитивная.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 таком случае отличие условий договора от содержания данной нормы само по себе не может служить основанием для признания этого договора или отдельных его условий недействительными по статье 168 Гражданского кодекс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3 ноября 2015 г. N 305-ЭС15-6784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Горизонт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изонт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Horizon</Template>
  <TotalTime>1427</TotalTime>
  <Application>LibreOffice/7.4.7.2$Linux_X86_64 LibreOffice_project/40$Build-2</Application>
  <AppVersion>15.0000</AppVersion>
  <Words>1885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14:09:00Z</dcterms:created>
  <dc:creator>Роман</dc:creator>
  <dc:description/>
  <dc:language>en-US</dc:language>
  <cp:lastModifiedBy>ЕМТ</cp:lastModifiedBy>
  <dcterms:modified xsi:type="dcterms:W3CDTF">2016-08-17T15:10:25Z</dcterms:modified>
  <cp:revision>9</cp:revision>
  <dc:subject/>
  <dc:title>Принцип договорной свободы в практике Верховного с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