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2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png" ContentType="image/png"/>
  <Override PartName="/ppt/media/image3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3B2-C02C-4D7F-9B28-564F4432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F3C-72B8-4D57-B675-29848EAD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3AF-5ED5-4D25-BDD3-1DE32874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B8F-DD91-42BE-B444-E38C9EA0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28C-896C-45EE-AB5D-EF5AA5CC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C6D-9389-4C17-990B-03B83FB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FE78-616A-4A81-8677-A7A5B691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EDA9-2999-457B-B623-36F3A10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046-7BD8-4CD2-AA11-731676CB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C0B7-C153-419E-B70D-CE597DE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9817-53F8-43B5-ACB7-0C8C5D9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598-3DE4-48B9-BE70-EDB6BDC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6D17-BB7A-42D2-9660-9C205E2D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24B5-B904-477A-B60B-F939DC7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C0CD-072F-4721-AAB5-5DFD3406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7AF-9445-4245-ACD6-EE0244A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6AA-0D90-45A6-B159-2E6966E7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5E316-2F49-4126-BD6D-A68B2FDE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57877-45AF-4FD5-84BB-A8422B4B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E2629-5C8D-4415-8870-83A13657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C7012-D34C-4C92-9F91-BCD0C04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BBE49-EB52-4207-B86D-58A1D81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02E-B136-4C86-B02D-3FAC677D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DBA37-8843-46DB-B56B-B529E42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95ACE-702B-4A63-ACA4-72D6661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F6276-77F5-4F3F-8543-4B7BFDD4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F8C36-0A88-45C0-B65C-E31FC9F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0C338-FD06-4EC2-9379-3E8869CC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E5F63-6E03-4B3F-91AD-C58C9206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F5996-0F02-4A94-8E52-198DBC80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2E76-F331-4531-AAEA-036CACAC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7090-26B5-4EDE-8EFC-D900DDCC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AC9D-BF11-4A3A-9B0B-CFE53EB3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E51-CBF4-4756-BBF1-EDDC750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7586-4FC3-4D15-9DCD-3E5871A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06FF-FC22-4938-8CBE-E9ABEC8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C9BAD-863A-4D0F-940C-476FF69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2802-0CF6-4851-A28F-B2205D5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1B3E-FDC9-4AD9-B2E2-E09418B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870C-2E81-4A7F-B187-CC3A4BA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63E2-C9E4-4D6A-82FA-E387F294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2590-D196-41FA-AC71-8F4B84DB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6C03-3ACE-4359-83F3-79E8A68D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04E60-8A72-4DEA-BBC6-BAE7BDBE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8E5-C5E2-4D86-8DFD-635FDC7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78A0F-35F6-42C8-8267-78836D0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D9E5C-6BEC-4825-90C8-1755BE41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52A34-341A-47FB-9ECD-C758877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A1C69-D197-4810-A816-D3E6DA5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21D09-E68F-4628-80E5-0AACD86A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6DFB1-0615-42E7-8A98-0D378AB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5F96E-9682-4D27-8ACD-A22BDCD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E6585-BB01-4B8C-A03F-A6104AC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CA51D-8352-4F42-A7A1-E7EC372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51DC8-2266-43C6-8A78-6F2684DB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233-A25D-4FDD-8512-239DCEF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C0418-FB64-44BB-8355-DAA4546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6EFD0-EDAD-487B-82D0-49D2CCA4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BDFFE-1636-4D43-96C0-26A4A1EF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DF754-7867-41FB-ABE3-62B2A8C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6B3B4-415F-4DF7-ABB3-C51987D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DE048-D7D2-4CCA-ADFE-28B6F52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64B6B-3ED2-4A12-B263-497048A7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8F63A-E8D3-4B39-85B0-C22C988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C6C6C-6026-4EE6-BC35-ACB3BB53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07F7C-98E8-409D-A1CB-A85414D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290-C38B-4723-AA56-B185B8D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DD453-D047-4527-B462-782D3B8A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27771-4316-4D29-8265-DDF70ED6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044CF-BEA6-4B43-8E3B-C3BE786F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A4C0F-5A62-4E3C-8B8C-0B1C8399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008EA-F0DB-44ED-B075-CBF0E9B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EEFF3-5C8F-4D9B-BFE9-D27953E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83829-6305-4BA9-B6CC-FF4A2F50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21A68-5A67-473E-939C-060A12C6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68A72-C9B4-404E-904E-3B51586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D6A08-473D-4B61-AA3A-D070112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6CF-86EB-48DA-BDBE-1538EE2E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927D7-4E74-4596-A3C7-87BCB7E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6FD43-900F-43D0-BBC7-402E69A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8B0B8-4CBB-47EE-B8D1-329C88D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CD1FC-6CAA-4B71-84B5-EA908DC6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70ABE-55D6-47FB-A6B0-585AB436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F18-EA98-4A7A-99B1-32EF5F5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B36-9292-46F4-B2CE-FA0E6F570D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1E2-2BDA-4673-8ADA-2ADBAFC8EC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4E9-7C82-42E0-989F-918CAE902C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543-7EED-40C8-8240-6C18CD1E7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B02A-DD21-423A-A7F5-74F23D2AF8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7CC-0DC1-4DBF-AFEF-3571152493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365-1362-48E5-9D44-2FC7A8E3E2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inmed.ru/news3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mbryology.med.unsw.edu.au/wwwhuman/lowpower/HumA/A6L.htm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rain_human_normal_inferior_view.svg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4;&#1073;&#1088;&#1080;&#1086;&#1085;" TargetMode="External"/><Relationship Id="rId2" Type="http://schemas.openxmlformats.org/officeDocument/2006/relationships/hyperlink" Target="http://ru.wikipedia.org/wiki/&#1055;&#1083;&#1086;&#1076;_(&#1072;&#1085;&#1072;&#1090;&#1086;&#1084;&#1080;&#1103;)" TargetMode="External"/><Relationship Id="rId3" Type="http://schemas.openxmlformats.org/officeDocument/2006/relationships/hyperlink" Target="http://ru.wikipedia.org/wiki/&#1050;&#1086;&#1085;&#1077;&#1095;&#1085;&#1099;&#1081;_&#1084;&#1086;&#1079;&#1075;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OWERPOI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Мозг не дремлет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354" name="WordArt 5"/>
          <p:cNvSpPr txBox="1"/>
          <p:nvPr/>
        </p:nvSpPr>
        <p:spPr>
          <a:xfrm>
            <a:off x="755640" y="1197000"/>
            <a:ext cx="74167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вит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ловного моз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цесс развития включает не тольк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увеличение числа клето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как следствие нарастание массы тела и органов, но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ачественные их пре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обусловливающие последующую функциональную специализацию клеток. Многие свойства нервных клеток определяются их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стоположением</a:t>
            </a:r>
            <a:r>
              <a:rPr b="1" lang="ru-RU" sz="20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(топографией) в нервной трубк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и эти свойства сохраняются при всех последующих преобразованиях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4" descr="image026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355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к показано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в вентральной (или нижней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части нервной трубки, получившей название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базальной пластинки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сположены нервные клетки, которые изначально устанавливают контакт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с развивающимися мышечными элемент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и в процессе дальнейшего развития дают начало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моторным (двигательным) нейронам, или мотонейронам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 В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дорсальной (спинной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части нервной трубки, которая получила название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крыльной пластинки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сполагаются нервные клетки, которые выполняют роль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вставочных нейронов,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или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интернейронов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замыкающих связь между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чувствительными и двигательными нейрон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 Эта часть нервной трубки наиболее подвержена изменениям в процессе развития нервной системы. На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границе между базальной и крыльной пластинк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расположена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межуточная зона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 которой локализуются нейроны, связанные с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вегетативной нервной системой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иннервацией внутренних органов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image026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7710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ЭМБРИОГЕНЕЗ ГОЛОВНОГО МОЗГ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88000" y="1071360"/>
            <a:ext cx="43560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чинается с развити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ередней (ростральной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части мозговой труб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вух первичных мозговых пузыре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возникающих в результате неравномерного роста стенок нервной труб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(архэнцефалон и дейтерэнцефалон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4" descr="91 Человек: фотографии, сделанные до рождения "/>
          <p:cNvPicPr/>
          <p:nvPr/>
        </p:nvPicPr>
        <p:blipFill>
          <a:blip r:embed="rId1"/>
          <a:stretch/>
        </p:blipFill>
        <p:spPr>
          <a:xfrm>
            <a:off x="0" y="1125360"/>
            <a:ext cx="4762440" cy="5496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4929120" y="4782960"/>
            <a:ext cx="2629080" cy="2075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14240" y="3786120"/>
            <a:ext cx="7429680" cy="3071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ЭМБРИОГЕНЕЗ ГОЛОВ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785520"/>
            <a:ext cx="878688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ак и задняя часть мозговой трубки (впоследствии спинной мозг), располага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ад хорд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Арх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закладыва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переди не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Затем в начал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четвертой недел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 зародыш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ий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mes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ый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rhomb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 пузыр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арх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на этой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(трехпузырной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адии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ий мозговой пузырь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pros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нижней части переднего мозга выпяч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онятельные лопаст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(из них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онятельный эпителий носовой полости, обонятельные луковицы и тракты). Из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орсолатеральных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енок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его мозгового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ыступа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ва глазных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В дальнейшем из них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етчатка глаз, зрительные нервы и трак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7858080" cy="64296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8"/>
          <p:cNvSpPr/>
          <p:nvPr/>
        </p:nvSpPr>
        <p:spPr>
          <a:xfrm>
            <a:off x="4214880" y="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ITERENCEPH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164304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ENCEPH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6995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ХЕ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1250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hencephal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Deyterencephal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предхордовый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надхордовы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Начал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rosencephalo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n                  M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esencephalon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R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hombencephal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передний         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        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средний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            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ромбовид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недели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м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о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з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г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о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в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ы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п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з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ы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р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5-6 </a:t>
            </a:r>
            <a:r>
              <a:rPr b="0" lang="en-US" sz="1800" spc="-1" strike="noStrike">
                <a:solidFill>
                  <a:srgbClr val="9900cc"/>
                </a:solidFill>
                <a:latin typeface="Century Schoolbook"/>
              </a:rPr>
              <a:t>Telencephalon  Diencephalon                                Metencephalon  Myelencephal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8637"/>
                </a:solidFill>
                <a:latin typeface="Century Schoolbook"/>
              </a:rPr>
              <a:t>неделя 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            </a:t>
            </a:r>
            <a:r>
              <a:rPr b="0" lang="en-US" sz="1800" spc="-1" strike="noStrike">
                <a:solidFill>
                  <a:srgbClr val="9900cc"/>
                </a:solidFill>
                <a:latin typeface="Century Schoolbook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6"/>
          <p:cNvSpPr/>
          <p:nvPr/>
        </p:nvSpPr>
        <p:spPr>
          <a:xfrm flipH="1">
            <a:off x="5508360" y="1916280"/>
            <a:ext cx="43164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7164360" y="1989000"/>
            <a:ext cx="504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"/>
          <p:cNvSpPr/>
          <p:nvPr/>
        </p:nvSpPr>
        <p:spPr>
          <a:xfrm flipH="1">
            <a:off x="928800" y="3500280"/>
            <a:ext cx="792000" cy="8636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>
            <a:off x="2143080" y="3500280"/>
            <a:ext cx="93492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4500720" y="3500280"/>
            <a:ext cx="0" cy="13687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 flipH="1">
            <a:off x="6143760" y="3286080"/>
            <a:ext cx="122544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7572240" y="3286080"/>
            <a:ext cx="107964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6"/>
          <p:cNvSpPr/>
          <p:nvPr/>
        </p:nvSpPr>
        <p:spPr>
          <a:xfrm>
            <a:off x="2484360" y="1989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ижний колонтитул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1"/>
          <a:stretch/>
        </p:blipFill>
        <p:spPr>
          <a:xfrm>
            <a:off x="0" y="428760"/>
            <a:ext cx="8707320" cy="5214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8887774564"/>
          <p:cNvPicPr/>
          <p:nvPr/>
        </p:nvPicPr>
        <p:blipFill>
          <a:blip r:embed="rId1"/>
          <a:stretch/>
        </p:blipFill>
        <p:spPr>
          <a:xfrm>
            <a:off x="0" y="1378080"/>
            <a:ext cx="8891640" cy="4051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211280" y="213840"/>
            <a:ext cx="493236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шестой неделе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эмбрионального развити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ередний и ромбовидный пузыр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делятся каждый 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а</a:t>
            </a:r>
            <a:r>
              <a:rPr b="1" lang="ru-RU" sz="18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 наступае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ятипузырная стадия. Передний пузырь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i="1" lang="ru-RU" sz="1800" spc="-1" strike="noStrike">
                <a:solidFill>
                  <a:srgbClr val="0000cc"/>
                </a:solidFill>
                <a:latin typeface="Century Schoolbook"/>
              </a:rPr>
              <a:t>конечный мозг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— разделяется продольной щелью 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а полушар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Полость также делится, образу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оковые желудочк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Мозговое вещество увеличивается неравномерно, и на поверхности полушарий образуются многочисленные складки — извилины, отделенные друг от друга более или менее глубокими бороздами и щелями. Каждое полушарие разделяется на четыре доли, в соответствие с этим полости боковых желудочков делятся также на 4 части: центральный отдел и три рога желудочка. Из мезенхимы, окружающей мозг зародыша, развиваются оболочки мозга. Серое вещество располагается и на периферии, образуя кору больших полушарий, и в основании полушарий, образуя подкорковые яд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5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461"/>
          <p:cNvPicPr/>
          <p:nvPr/>
        </p:nvPicPr>
        <p:blipFill>
          <a:blip r:embed="rId1"/>
          <a:stretch/>
        </p:blipFill>
        <p:spPr>
          <a:xfrm>
            <a:off x="0" y="1071720"/>
            <a:ext cx="6249960" cy="44211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6"/>
          <p:cNvSpPr/>
          <p:nvPr/>
        </p:nvSpPr>
        <p:spPr>
          <a:xfrm>
            <a:off x="684360" y="4581360"/>
            <a:ext cx="3816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788000" y="1989000"/>
            <a:ext cx="1368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835280" y="1197000"/>
            <a:ext cx="32414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067280" y="499680"/>
            <a:ext cx="5076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яя часть переднего пузыр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стается неразделенной и называется теперь </a:t>
            </a:r>
            <a:r>
              <a:rPr b="1" i="1" lang="ru-RU" sz="1800" spc="-1" strike="noStrike">
                <a:solidFill>
                  <a:srgbClr val="0000cc"/>
                </a:solidFill>
                <a:latin typeface="Century Schoolbook"/>
              </a:rPr>
              <a:t>промежуточным мозго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Функционально и морфологически он связан с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органом зр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На стадии, когда границы с конечным мозгом слабо выражены, из базальной части боковых стенок образуются парные выросты — глазные пузыри, которые соединяются с местом их происхождения при помощи глазных стебельков, впоследствии превращающихся в зрительные нервы. Наибольшей толщины достига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оковые стенки промежуточно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которые преобразуются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рительные бугры, или таламус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В соответствии с этим полость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III желудочк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евращается в узкую сагиттальную щель.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альной области (гипоталамус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бразуется непарное выпячивание —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оронк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из нижнего конца которой происходи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яя мозговая доля гипофиз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ейрогипофиз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0" y="227664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56" name="Group 70"/>
          <p:cNvGrpSpPr/>
          <p:nvPr/>
        </p:nvGrpSpPr>
        <p:grpSpPr>
          <a:xfrm>
            <a:off x="2153160" y="5543640"/>
            <a:ext cx="5010480" cy="477720"/>
            <a:chOff x="2153160" y="5543640"/>
            <a:chExt cx="5010480" cy="477720"/>
          </a:xfrm>
        </p:grpSpPr>
        <p:sp>
          <p:nvSpPr>
            <p:cNvPr id="357" name="AutoShape 71"/>
            <p:cNvSpPr/>
            <p:nvPr/>
          </p:nvSpPr>
          <p:spPr>
            <a:xfrm>
              <a:off x="2382120" y="5564160"/>
              <a:ext cx="47815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39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3"/>
            <p:cNvSpPr/>
            <p:nvPr/>
          </p:nvSpPr>
          <p:spPr>
            <a:xfrm>
              <a:off x="2634120" y="5619600"/>
              <a:ext cx="377496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3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153160" y="55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6"/>
          <p:cNvGrpSpPr/>
          <p:nvPr/>
        </p:nvGrpSpPr>
        <p:grpSpPr>
          <a:xfrm>
            <a:off x="2124000" y="1916280"/>
            <a:ext cx="4939920" cy="685800"/>
            <a:chOff x="2124000" y="1916280"/>
            <a:chExt cx="4939920" cy="685800"/>
          </a:xfrm>
        </p:grpSpPr>
        <p:sp>
          <p:nvSpPr>
            <p:cNvPr id="362" name="AutoShape 47"/>
            <p:cNvSpPr/>
            <p:nvPr/>
          </p:nvSpPr>
          <p:spPr>
            <a:xfrm>
              <a:off x="2522160" y="2035440"/>
              <a:ext cx="45417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2e9f7"/>
                </a:gs>
                <a:gs pos="100000">
                  <a:srgbClr val="7598d9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8"/>
            <p:cNvSpPr/>
            <p:nvPr/>
          </p:nvSpPr>
          <p:spPr>
            <a:xfrm>
              <a:off x="2124000" y="1916280"/>
              <a:ext cx="717120" cy="685800"/>
            </a:xfrm>
            <a:prstGeom prst="diamond">
              <a:avLst/>
            </a:prstGeom>
            <a:solidFill>
              <a:srgbClr val="7598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9"/>
            <p:cNvSpPr/>
            <p:nvPr/>
          </p:nvSpPr>
          <p:spPr>
            <a:xfrm>
              <a:off x="2761200" y="2090880"/>
              <a:ext cx="357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0"/>
            <p:cNvSpPr/>
            <p:nvPr/>
          </p:nvSpPr>
          <p:spPr>
            <a:xfrm>
              <a:off x="2293920" y="201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1"/>
          <p:cNvGrpSpPr/>
          <p:nvPr/>
        </p:nvGrpSpPr>
        <p:grpSpPr>
          <a:xfrm>
            <a:off x="2124000" y="2708280"/>
            <a:ext cx="4959000" cy="685800"/>
            <a:chOff x="2124000" y="2708280"/>
            <a:chExt cx="4959000" cy="685800"/>
          </a:xfrm>
        </p:grpSpPr>
        <p:sp>
          <p:nvSpPr>
            <p:cNvPr id="367" name="AutoShape 52"/>
            <p:cNvSpPr/>
            <p:nvPr/>
          </p:nvSpPr>
          <p:spPr>
            <a:xfrm>
              <a:off x="2523600" y="2827440"/>
              <a:ext cx="4559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5d5"/>
                </a:gs>
                <a:gs pos="100000">
                  <a:srgbClr val="fe8637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3"/>
            <p:cNvSpPr/>
            <p:nvPr/>
          </p:nvSpPr>
          <p:spPr>
            <a:xfrm>
              <a:off x="2124000" y="2708280"/>
              <a:ext cx="719640" cy="685800"/>
            </a:xfrm>
            <a:prstGeom prst="diamond">
              <a:avLst/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54"/>
            <p:cNvSpPr/>
            <p:nvPr/>
          </p:nvSpPr>
          <p:spPr>
            <a:xfrm>
              <a:off x="2763720" y="2882880"/>
              <a:ext cx="3599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55"/>
            <p:cNvSpPr/>
            <p:nvPr/>
          </p:nvSpPr>
          <p:spPr>
            <a:xfrm>
              <a:off x="2295360" y="280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2133720" y="3581280"/>
            <a:ext cx="5030280" cy="685800"/>
            <a:chOff x="2133720" y="3581280"/>
            <a:chExt cx="5030280" cy="685800"/>
          </a:xfrm>
        </p:grpSpPr>
        <p:sp>
          <p:nvSpPr>
            <p:cNvPr id="372" name="AutoShape 57"/>
            <p:cNvSpPr/>
            <p:nvPr/>
          </p:nvSpPr>
          <p:spPr>
            <a:xfrm>
              <a:off x="2539080" y="3700440"/>
              <a:ext cx="4624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dde0"/>
                </a:gs>
                <a:gs pos="100000">
                  <a:srgbClr val="575f6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58"/>
            <p:cNvSpPr/>
            <p:nvPr/>
          </p:nvSpPr>
          <p:spPr>
            <a:xfrm>
              <a:off x="2133720" y="3581280"/>
              <a:ext cx="730080" cy="685800"/>
            </a:xfrm>
            <a:prstGeom prst="diamond">
              <a:avLst/>
            </a:prstGeom>
            <a:solidFill>
              <a:srgbClr val="d2611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9"/>
            <p:cNvSpPr/>
            <p:nvPr/>
          </p:nvSpPr>
          <p:spPr>
            <a:xfrm>
              <a:off x="2782440" y="3755880"/>
              <a:ext cx="365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0"/>
            <p:cNvSpPr/>
            <p:nvPr/>
          </p:nvSpPr>
          <p:spPr>
            <a:xfrm>
              <a:off x="231012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1"/>
          <p:cNvGrpSpPr/>
          <p:nvPr/>
        </p:nvGrpSpPr>
        <p:grpSpPr>
          <a:xfrm>
            <a:off x="2124000" y="4508640"/>
            <a:ext cx="5040000" cy="685800"/>
            <a:chOff x="2124000" y="4508640"/>
            <a:chExt cx="5040000" cy="685800"/>
          </a:xfrm>
        </p:grpSpPr>
        <p:sp>
          <p:nvSpPr>
            <p:cNvPr id="377" name="AutoShape 62"/>
            <p:cNvSpPr/>
            <p:nvPr/>
          </p:nvSpPr>
          <p:spPr>
            <a:xfrm>
              <a:off x="2530080" y="4627800"/>
              <a:ext cx="4633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5d7dc"/>
                </a:gs>
                <a:gs pos="100000">
                  <a:srgbClr val="3b435b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3"/>
            <p:cNvSpPr/>
            <p:nvPr/>
          </p:nvSpPr>
          <p:spPr>
            <a:xfrm>
              <a:off x="2124000" y="4508640"/>
              <a:ext cx="731520" cy="685800"/>
            </a:xfrm>
            <a:prstGeom prst="diamond">
              <a:avLst/>
            </a:prstGeom>
            <a:solidFill>
              <a:srgbClr val="3b435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4"/>
            <p:cNvSpPr/>
            <p:nvPr/>
          </p:nvSpPr>
          <p:spPr>
            <a:xfrm>
              <a:off x="2774160" y="4683240"/>
              <a:ext cx="365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5"/>
            <p:cNvSpPr/>
            <p:nvPr/>
          </p:nvSpPr>
          <p:spPr>
            <a:xfrm>
              <a:off x="2301840" y="460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6"/>
          <p:cNvSpPr/>
          <p:nvPr/>
        </p:nvSpPr>
        <p:spPr>
          <a:xfrm>
            <a:off x="3276720" y="206064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7"/>
          <p:cNvSpPr/>
          <p:nvPr/>
        </p:nvSpPr>
        <p:spPr>
          <a:xfrm>
            <a:off x="3203640" y="206064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Эмбриогенез голов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8"/>
          <p:cNvSpPr/>
          <p:nvPr/>
        </p:nvSpPr>
        <p:spPr>
          <a:xfrm>
            <a:off x="3203640" y="2852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задне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9"/>
          <p:cNvSpPr/>
          <p:nvPr/>
        </p:nvSpPr>
        <p:spPr>
          <a:xfrm>
            <a:off x="3203640" y="3716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средне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5"/>
          <p:cNvSpPr/>
          <p:nvPr/>
        </p:nvSpPr>
        <p:spPr>
          <a:xfrm>
            <a:off x="3203640" y="465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промежуточ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6"/>
          <p:cNvSpPr/>
          <p:nvPr/>
        </p:nvSpPr>
        <p:spPr>
          <a:xfrm>
            <a:off x="3276720" y="5661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3203640" y="566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Формирование конеч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2"/>
          <p:cNvSpPr/>
          <p:nvPr/>
        </p:nvSpPr>
        <p:spPr>
          <a:xfrm>
            <a:off x="2071800" y="5445000"/>
            <a:ext cx="714240" cy="685800"/>
          </a:xfrm>
          <a:prstGeom prst="diamond">
            <a:avLst/>
          </a:prstGeom>
          <a:solidFill>
            <a:srgbClr val="fff39d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461"/>
          <p:cNvPicPr/>
          <p:nvPr/>
        </p:nvPicPr>
        <p:blipFill>
          <a:blip r:embed="rId1"/>
          <a:stretch/>
        </p:blipFill>
        <p:spPr>
          <a:xfrm>
            <a:off x="0" y="1052640"/>
            <a:ext cx="6156360" cy="4421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1187280" y="4653000"/>
            <a:ext cx="331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763640" y="1197000"/>
            <a:ext cx="3095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643280" y="2133720"/>
            <a:ext cx="136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0" y="1076400"/>
            <a:ext cx="4572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Третий мозговой пузырь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средний мозг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который развивается наиболее просто и отстает в росте. Стенки его утолщаются равномерно, а полость превращаетс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узкий кана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ильвиев водопрово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соединяющий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III и IV желудочк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орсальной стенк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развивае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четверохолми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а из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вентральной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ножки среднего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4653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461"/>
          <p:cNvPicPr/>
          <p:nvPr/>
        </p:nvPicPr>
        <p:blipFill>
          <a:blip r:embed="rId1"/>
          <a:stretch/>
        </p:blipFill>
        <p:spPr>
          <a:xfrm>
            <a:off x="0" y="1268280"/>
            <a:ext cx="5581800" cy="4386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900000" y="4724280"/>
            <a:ext cx="338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332000" y="119700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7"/>
          <p:cNvSpPr/>
          <p:nvPr/>
        </p:nvSpPr>
        <p:spPr>
          <a:xfrm>
            <a:off x="3786120" y="2357280"/>
            <a:ext cx="15778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43280" y="928800"/>
            <a:ext cx="4143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задний и добавоч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заднего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формиру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зжечо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— сначал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червь мозжеч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а затем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лушар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а такж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с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обав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долговат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Стенк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толщаются — как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бо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так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а дн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только крыша остается в вид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тончайшей пластинки. Полость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IV желудоче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оторый сообщается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ильвиевым водопроводом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центральным каналом спин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1640" y="1076400"/>
            <a:ext cx="4321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неравномерног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вити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озговых пузыре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мозговая трубка начинает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изгибатьс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на уровн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реднего мозга — теменной прогиб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в област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заднего мозга — мостово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и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есте перехода добавочного мозга в спинной — затылочный прогиб)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Теменной и затылочный прогибы обращены наружу, а мостовой — внутр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4" descr="Трехмерная модель мозга эмбриона человека | вид сверху"/>
          <p:cNvPicPr/>
          <p:nvPr/>
        </p:nvPicPr>
        <p:blipFill>
          <a:blip r:embed="rId1"/>
          <a:stretch/>
        </p:blipFill>
        <p:spPr>
          <a:xfrm>
            <a:off x="357120" y="135720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458" name="Line 5"/>
          <p:cNvSpPr/>
          <p:nvPr/>
        </p:nvSpPr>
        <p:spPr>
          <a:xfrm flipH="1">
            <a:off x="1835280" y="1268280"/>
            <a:ext cx="79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2484360" y="10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357120" y="1928880"/>
            <a:ext cx="503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0" y="15001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ыл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 flipV="1">
            <a:off x="2357280" y="42148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2214720" y="5084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3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07172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356000" y="1076400"/>
            <a:ext cx="4788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головного мозга, формирующиеся из первичного мозгового пузыря-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редний, задний и добавочный мозг — составляют ствол головного мозга (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trùncus cer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Century Schoolbook"/>
              </a:rPr>
              <a:t>e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bri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Он является ростральным продолжением спинного мозга и имеет с ним общие черты стро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2700360" y="126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2124000" y="9079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411280" y="9079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611280" y="2276640"/>
            <a:ext cx="57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0" y="198900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 flipV="1">
            <a:off x="1835280" y="5373360"/>
            <a:ext cx="72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97164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385776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ходящая по латеральным стенкам спинного мозга и стволового отдела головного мозга парна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граничная борозда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s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Century Schoolbook"/>
              </a:rPr>
              <a:t>u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lcus limitons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 мозговую трубку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сновную (вентральную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овидную (дорзальную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ластинки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снов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ластинки формиру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торные структуры (передние рога спинного мозга, двигательные ядра черепно-мозговых нервов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д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граничной борозд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овид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енсорные структуры (задние рога спинного мозга, сенсорные ядра ствола мозга)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пределах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амой пограничной борозды — центры вегетативной нервной системы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4" descr="image026"/>
          <p:cNvPicPr/>
          <p:nvPr/>
        </p:nvPicPr>
        <p:blipFill>
          <a:blip r:embed="rId1"/>
          <a:stretch/>
        </p:blipFill>
        <p:spPr>
          <a:xfrm>
            <a:off x="108000" y="0"/>
            <a:ext cx="8785080" cy="3286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image081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3835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ЗАДНЕГО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57840" y="785880"/>
            <a:ext cx="392904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развити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е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ослеживаются те же изменения в расположении пластинок нервной трубки, что и в продолговатом мозге. Вследствие расхождения крыльных пластинок в стороны здесь также происходит истончение крыши нервной трубк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играция клеток крыльной пластинки в область крыши заднего мозга приводит к формированию на 12—16-й неделях червя и полушарий мозжечка. Под мозжечком просматривается полость будущего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желудочка, дно которой образует ромбовидная ямк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image081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3835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857840" y="571680"/>
            <a:ext cx="39290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оматомоторные (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V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пары) черепные нерв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а такж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игательные волок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в состав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ранхиогенных черепных нервов (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пары),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иннервирующих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мышцы жаберного происхожд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формируются аксонам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ейронов, развивающихся из клеток базальной пластинки среднего и заднего мозговых пузырей. Парасимпатические преганглионарные нейроны вегетативных ядер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и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ар черепных нервов развиваются из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межуточной зон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расположенной между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рыльной и базальной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частями стенок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реднего и заднег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мозговых пузыр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РАЗВИТИЕ СРЕДНЕ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27280" y="1076400"/>
            <a:ext cx="47163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и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особляется относительно рано, на 4-й неделе развития. Клетк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ь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област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е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мигриру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 дорсальном и- вентральном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правлениях. На дорсальной поверхности они дают начал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ядрам верхних и нижних холмиков пластинки будущего четверохолм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Клетки, смещающие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ентрально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формиру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асные ядра и ретикулярные ядр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реднего мозга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базаль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разуется также ядр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лазодвигательного нерва (</a:t>
            </a: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 пара)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хорошо выраженное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12-й недел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нутриутробного развит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4" descr="38685649_cns2_7"/>
          <p:cNvPicPr/>
          <p:nvPr/>
        </p:nvPicPr>
        <p:blipFill>
          <a:blip r:embed="rId1"/>
          <a:stretch/>
        </p:blipFill>
        <p:spPr>
          <a:xfrm>
            <a:off x="0" y="1700280"/>
            <a:ext cx="4762440" cy="325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429080" y="714240"/>
            <a:ext cx="428616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изводны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архэнцефалона (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telenc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Century Schoolbook"/>
              </a:rPr>
              <a:t>e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phalon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и 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diencéphalon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) создают подкорковые структуры и ко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Здесь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т основной пластинк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она заканчивается в среднем мозге), следовательно, и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т двигательных и вегетативных яде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Весь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дний мозг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вивается из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ыловидной пластинки (95%)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этому в нем имеются лишь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енсорные структур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Line 5"/>
          <p:cNvSpPr/>
          <p:nvPr/>
        </p:nvSpPr>
        <p:spPr>
          <a:xfrm flipV="1">
            <a:off x="3635280" y="465264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492360" y="11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68360" y="57340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elenc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2411280" y="98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iencé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174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ФОРМИРОВАНИЕ ПРОМЕЖУТОЧ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4714920"/>
            <a:ext cx="8858160" cy="19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межут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особляется о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его мозгового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5-й недел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В ростральной (передней) части нервной трубки, дающей начало конечному и промежуточному мозгу, идет интенсивное увеличение числа нервных клеток. Здесь отсутствует деление на крыльную и базальную пластинки, не происходит формирования черепных нервов, а вся масс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рвных клеток идет на развитие многочисленных ядер и коры голов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Picture 5" descr="1"/>
          <p:cNvPicPr/>
          <p:nvPr/>
        </p:nvPicPr>
        <p:blipFill>
          <a:blip r:embed="rId1"/>
          <a:stretch/>
        </p:blipFill>
        <p:spPr>
          <a:xfrm>
            <a:off x="642960" y="428760"/>
            <a:ext cx="775656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7924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ГОЛОВНОЙ МОЗГ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00720" y="428400"/>
            <a:ext cx="4643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сполагается в полости черепа. Объем человеческого мозга составляет 91-95% емкости черепа, он состоит из трех отделов: мозгового ствола, подкоркового отдела и коры большого мозга. Средняя масса мозга у мужчин - 1375 г, у женщин - 1275 г. У мужчин он составляет 2% от общей массы тела, у женщин - 2,5%. Долгое время господствовало мнение, что от массы мозга зависят умственные способности человека: чем больше масса мозга, тем одаренных челове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0" y="857160"/>
            <a:ext cx="4740120" cy="500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Plate 17.345 Diencephalon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2887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786200" y="571680"/>
            <a:ext cx="39290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омежуточном мозге на 5-й недел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наблюдается начало интенсивного роста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антийного (пролиферативного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слоя, что приводит к значительному утолщению его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латеральных стенок;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здесь образуются заклад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авого и левого таламусов</a:t>
            </a:r>
            <a:r>
              <a:rPr b="0" lang="ru-RU" sz="24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HypothalamusStage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9760"/>
            <a:ext cx="5364000" cy="33782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5072040" y="285840"/>
            <a:ext cx="385776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Еще до обособления промежуточного мозга в задней части переднего мозгового пузыря на его вентролатеральной поверхности появляются парные глазные пузыри, которые растут в сторону эктодермы в форме бокалов. Из стенки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глазного бокал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сформируются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светочувствительные и нервные элементы сетчатки глаз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, а из эктодермы в области глазных плакод и окружающей мезенхимы — все остальные структуры глаза. В силу этого зрительный нерв (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пара) не является типичным черепным нервом, а представляет собой специальное образование, связывающее сетчатку с головным мозгом, а сама сетчатка фактически является частью стенки нервной трубки, отделившейся от нее в процессе развития и выселившейся на перифер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3"/>
          <a:stretch/>
        </p:blipFill>
        <p:spPr>
          <a:xfrm>
            <a:off x="214200" y="0"/>
            <a:ext cx="4786560" cy="3338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250px-Brain_human_normal_inferior_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8120" y="1341360"/>
            <a:ext cx="3008520" cy="3587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"/>
          <p:cNvPicPr/>
          <p:nvPr/>
        </p:nvPicPr>
        <p:blipFill>
          <a:blip r:embed="rId3"/>
          <a:stretch/>
        </p:blipFill>
        <p:spPr>
          <a:xfrm>
            <a:off x="214200" y="1143000"/>
            <a:ext cx="4498920" cy="4572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01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ФОРМИРОВАНИЕ КОНЕЧ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0" y="1076400"/>
            <a:ext cx="42861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дновременно с развитием конечного мозга начинают формироваться их ростральные выросты, из которых впоследствии образую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обонятельные луковицы и обонятельные тракт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пара черепных нервов). Они также не являю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типичным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черепными нервами, а представляют собой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оводниковый отдел обонятельного анализато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250560" y="4797360"/>
            <a:ext cx="878508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Конечный мозг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с самого начала развития закладывается как парное образование в виде двух будущих полушарий. Внутри полушарий образуются парные полости 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боковые желудочки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clip_image012_0000"/>
          <p:cNvPicPr/>
          <p:nvPr/>
        </p:nvPicPr>
        <p:blipFill>
          <a:blip r:embed="rId1"/>
          <a:stretch/>
        </p:blipFill>
        <p:spPr>
          <a:xfrm>
            <a:off x="1619280" y="1052640"/>
            <a:ext cx="5905440" cy="3703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image084"/>
          <p:cNvPicPr/>
          <p:nvPr/>
        </p:nvPicPr>
        <p:blipFill>
          <a:blip r:embed="rId1"/>
          <a:stretch/>
        </p:blipFill>
        <p:spPr>
          <a:xfrm>
            <a:off x="0" y="1989000"/>
            <a:ext cx="4419720" cy="2619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214880" y="1076400"/>
            <a:ext cx="4572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период с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6-й до 12-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недели эмбриогенеза полушария головного мозга интенсивно растут, значительно опережая в росте все другие отделы головного мозга. В результате полушария, как плащ, покрывают эти другие отделы. Часть нейробластов мигрирует к поверхности стенки переднего мозгового пузыря, образу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альнейшем кору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427280" y="1076400"/>
            <a:ext cx="46083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лой, в котором происходит размножени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йробласт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располагается наиболее глубоко, поэтому в процессе развития вновь образованны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йробласты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мигрируют наружу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антийный сл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где они постепенно приобретают типичную для себя форму и занимают определенное положение в формирующейся коре мозга. Миграцию нейробластов направляют клетки радиальной глии, образующиеся из спонгиобластов эпендим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6" name="Picture 5" descr="tmp6E-73.jpg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24000" y="1076400"/>
            <a:ext cx="52196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йроны в процессе миграции как бы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«скользят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доль отростков этих глиальных клеток из глубины мантийного слоя по направлению к поверхности мозгового пузыря. Нейробласты, мигрировавшие первыми, заполняют сначала глубинные слои будущей коры, а клетки, образовавшиеся позднее, располагаются в более верхних слоях. Таким образом, кора головного мозга формируется как бы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«изнутри кнаружи»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этом время образования нейрона определяет его принадлежность к определенным слоям коры, а значит и его функ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8" name="Picture 4" descr="tmp6E-73.jpg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0" y="4869000"/>
            <a:ext cx="878688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десь показано постепенное утолщение стенки развивающегося мозга. На самой ранней стадии (1) стенка содержит тольк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«псевдомногослойный»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эпителий,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икулярной зоне (ВЗ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которого находятся тела клеток, а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раевой зоне (КЗ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только вытянутые наружу отростки. Когда некоторые из клеток теряют способность синтезировать ДНК и выходят из митотического цикла (2), они образу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торой слой - промежуточную зону (ПЗ).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5" descr="tmp6E-72.jpg"/>
          <p:cNvPicPr/>
          <p:nvPr/>
        </p:nvPicPr>
        <p:blipFill>
          <a:blip r:embed="rId1"/>
          <a:stretch/>
        </p:blipFill>
        <p:spPr>
          <a:xfrm>
            <a:off x="108000" y="0"/>
            <a:ext cx="8351640" cy="4809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0" y="4500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переднем мозгу клетки, проходящие через эту зону, агрегируют с образованием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орковой пластинки (КП) - обла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в которой развиваются различные слои коры головного мозга (3). На самой поздней стадии (4) исходна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икулярная зо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стается в вид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эпендимы - выстилки желудочков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а относительно свободная от клеток область между этой выстилкой и корой становится подкорковым белым веществом, сквозь которое нервные волокна входят в кору и выходят из нее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убвентрикулярная зона (СЗ) является вторичной зоной размнож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где образуются многие глиальные клетки и некоторые нейроны переднего мозг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2" name="Picture 4" descr="tmp6E-72.jpg"/>
          <p:cNvPicPr/>
          <p:nvPr/>
        </p:nvPicPr>
        <p:blipFill>
          <a:blip r:embed="rId1"/>
          <a:stretch/>
        </p:blipFill>
        <p:spPr>
          <a:xfrm>
            <a:off x="285840" y="0"/>
            <a:ext cx="7599240" cy="436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72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 КОНЦУ 2-ГО МЕСЯЦА НЕЙРОБЛАСТЫ В СТЕНКЕ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ЛУШАРИЙ НАЧИНАЮТ МИГРИРОВАТЬ ИЗ ПЛАЩЕВОГО СЛОЯ В ЛЕЖАЩИЙ ВЫШЕ КРАЕВОЙ СЛОЙ И ОБРАЗУЮТ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ЗДЕСЬ КОРКОВУЮ ПЛАСТИНКУ, ПРЕДСТАВЛЯЮЩУЮ СОБОЙ ЗАКЛАДКУ СЕРОГО ВЕЩЕСТВА. ВЫДЕЛЯ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ТРИ ВОЛНЫ МИГРАЦИИ (СПУРТА):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AutoShape 3"/>
          <p:cNvSpPr/>
          <p:nvPr/>
        </p:nvSpPr>
        <p:spPr>
          <a:xfrm>
            <a:off x="826920" y="3657600"/>
            <a:ext cx="230508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этом формируютс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I 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5724360" y="3657600"/>
            <a:ext cx="237672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этом формируютс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Y; III;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26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2611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2611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2340f"/>
              </a:gs>
              <a:gs pos="50000">
                <a:srgbClr val="d2611c"/>
              </a:gs>
              <a:gs pos="100000">
                <a:srgbClr val="72340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53e12"/>
              </a:gs>
              <a:gs pos="100000">
                <a:srgbClr val="d2611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43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43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02431"/>
              </a:gs>
              <a:gs pos="50000">
                <a:srgbClr val="3b435b"/>
              </a:gs>
              <a:gs pos="100000">
                <a:srgbClr val="2024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52b3a"/>
              </a:gs>
              <a:gs pos="100000">
                <a:srgbClr val="3b43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529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e863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8637">
                  <a:alpha val="32156"/>
                </a:srgbClr>
              </a:gs>
              <a:gs pos="100000">
                <a:srgbClr val="763e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9491e"/>
              </a:gs>
              <a:gs pos="50000">
                <a:srgbClr val="fe8637"/>
              </a:gs>
              <a:gs pos="100000">
                <a:srgbClr val="89491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a15523"/>
              </a:gs>
              <a:gs pos="100000">
                <a:srgbClr val="fe863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539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544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38"/>
          <p:cNvSpPr/>
          <p:nvPr/>
        </p:nvSpPr>
        <p:spPr>
          <a:xfrm>
            <a:off x="1403280" y="2276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9"/>
          <p:cNvSpPr/>
          <p:nvPr/>
        </p:nvSpPr>
        <p:spPr>
          <a:xfrm>
            <a:off x="3913200" y="2205000"/>
            <a:ext cx="11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-10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0"/>
          <p:cNvSpPr/>
          <p:nvPr/>
        </p:nvSpPr>
        <p:spPr>
          <a:xfrm>
            <a:off x="6316560" y="220500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-14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41"/>
          <p:cNvSpPr/>
          <p:nvPr/>
        </p:nvSpPr>
        <p:spPr>
          <a:xfrm>
            <a:off x="4211640" y="443700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26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7924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ГОЛОВНОЙ МОЗГ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00720" y="428400"/>
            <a:ext cx="4643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о, как выяснилось позже, это не так. Например, мозг И. С. Тургенева весил 2012 г, а мозг Анатоля Франса - 1017. Самый тяжелый мозг - 2900 г - был обнаружен у индивида, который прожил всего 3 года. Мозг его в функциональном отношении был неполноценным. Итак, пока что прямой зависимости между массой мозга и умственными способностями человека не выявлено. Но выяснена предельная масса мозга (900 г), за чертой которой он считается неполноцен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Всего степень развития мозга оценивают по соотношению массы спинного мозга к головному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ак, у </a:t>
            </a:r>
            <a:r>
              <a:rPr b="1" lang="ru-RU" sz="2000" spc="-1" strike="noStrike">
                <a:solidFill>
                  <a:srgbClr val="9900cc"/>
                </a:solidFill>
                <a:latin typeface="Century Schoolbook"/>
              </a:rPr>
              <a:t>коше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но - </a:t>
            </a:r>
            <a:r>
              <a:rPr b="1" lang="ru-RU" sz="2000" spc="-1" strike="noStrike">
                <a:solidFill>
                  <a:srgbClr val="9900cc"/>
                </a:solidFill>
                <a:latin typeface="Century Schoolbook"/>
              </a:rPr>
              <a:t>1: 1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соба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1: 3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ffc000"/>
                </a:solidFill>
                <a:latin typeface="Century Schoolbook"/>
              </a:rPr>
              <a:t>низших обезья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000" spc="-1" strike="noStrike">
                <a:solidFill>
                  <a:srgbClr val="ffc000"/>
                </a:solidFill>
                <a:latin typeface="Century Schoolbook"/>
              </a:rPr>
              <a:t>1: 16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b32c16"/>
                </a:solidFill>
                <a:latin typeface="Century Schoolbook"/>
              </a:rPr>
              <a:t>челове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1" lang="ru-RU" sz="2000" spc="-1" strike="noStrike">
                <a:solidFill>
                  <a:srgbClr val="b32c16"/>
                </a:solidFill>
                <a:latin typeface="Century Schoolbook"/>
              </a:rPr>
              <a:t>1: 50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0" y="857160"/>
            <a:ext cx="4740120" cy="500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3240" y="571680"/>
            <a:ext cx="450072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мимо структур коры, из субвентрикулярной зоны образуются  базальные ганглии. Ганглионарный бугорок или ганглиозный бугорок — временная структура, присутствующая в мозге на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эмбриональ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феталь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адиях развития. Ганглионарный бугорок находится в вентральной част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конеч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вдаваясь в полость желудочков, и является зачатком базальных ганглиев. У человека, он также служит источником нейронов дорсального таламуса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о второй половине беременности, ганглионарный бугорок производит олигодендроцит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3" name="Picture 4" descr="330px-Interneuron-radial_glial_interactions_in_the_developing_cerebral_cortex"/>
          <p:cNvPicPr/>
          <p:nvPr/>
        </p:nvPicPr>
        <p:blipFill>
          <a:blip r:embed="rId4"/>
          <a:stretch/>
        </p:blipFill>
        <p:spPr>
          <a:xfrm>
            <a:off x="0" y="928800"/>
            <a:ext cx="4059360" cy="5732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330px-Ganglionic_eminence_mice_E12"/>
          <p:cNvPicPr/>
          <p:nvPr/>
        </p:nvPicPr>
        <p:blipFill>
          <a:blip r:embed="rId1"/>
          <a:stretch/>
        </p:blipFill>
        <p:spPr>
          <a:xfrm>
            <a:off x="1785960" y="0"/>
            <a:ext cx="5616720" cy="41878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4142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Ганглионарный бугорок подразделяют на три части —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латер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ди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и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кауд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англионарные бугорки (англ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lateral (LGE), medial (MGE), caudal ganglionic eminence (CDE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). Отличие трёх ганглионарных бугорков в том, что они поставляют разные типы клеток в разные зоны головного мозга. Большинство нейронов вентрального стриатума возникают из прекурсоров, зародившихся в латеральном ганглиозном бугорке. Ганглионарный бугорок служит специфическим источником нейронов для больших ассоциативных ядер таламуса, таких как задний бугорок и медиодорсальное ядр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00360" y="1076400"/>
            <a:ext cx="442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 началу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 4-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месяца внутриутробной жизни (т. е. чуть более, чем через 100 дней с момента начала развития организма) интенсивное деление нейробластов внутреннего плаща приводит к тому, что у зародыша человека число нервных клеток уже приближается к их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числу в коре у новорожденно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7" name="Picture 3" descr="Этапы развития головного мозга плода.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5113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коры больших полуш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1" descr="image038"/>
          <p:cNvPicPr/>
          <p:nvPr/>
        </p:nvPicPr>
        <p:blipFill>
          <a:blip r:embed="rId1"/>
          <a:stretch/>
        </p:blipFill>
        <p:spPr>
          <a:xfrm>
            <a:off x="0" y="981000"/>
            <a:ext cx="4849920" cy="5877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642920" y="1076400"/>
            <a:ext cx="4286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озревание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нейробластов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оисходит гораздо медленнее, чем их пролиферация (накопление количества), и продолжается после рождения в течение первых лет жизни. В коре мозга раньше всего созревают крупные пирамидные клетки ее нижнего этажа (проекционные нейроны), связывающие кору с нижележащими отделами головного и спинного мозга. Их можно наблюдать уже на 8-й неделе эмбриогенез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905200" y="1881360"/>
            <a:ext cx="333360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2905200" y="1881360"/>
            <a:ext cx="333360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643280" y="0"/>
            <a:ext cx="4500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 25-й неделе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внутриутробно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развития в корковой пластинке плаща можно различить цитоархитектонические слои. Рост и развитие плаща приводит к образованию борозд и извилин (складок) на поверхности конечного мозга, которые формируются на 28—З0-й неделях. Окончательное завершение формирования рельефа полушарий наблюдается в постнатальном периоде примерно к 7-8 годам жизни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4" name="Picture 4" descr="Этапы развития головного мозга плода."/>
          <p:cNvPicPr/>
          <p:nvPr/>
        </p:nvPicPr>
        <p:blipFill>
          <a:blip r:embed="rId1"/>
          <a:stretch/>
        </p:blipFill>
        <p:spPr>
          <a:xfrm>
            <a:off x="0" y="981000"/>
            <a:ext cx="5021280" cy="561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71280" y="380880"/>
            <a:ext cx="8172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Century Schoolbook"/>
              </a:rPr>
              <a:t>ПРЕОБРАЗОВАНИЯ ПРОИСХОДЯЩИЕ В КОНЕЧНОМ МОЗГЕ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786200" y="999720"/>
            <a:ext cx="3929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 I стадии формируются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обонятельные структуры и лимбическая система (палеокортекс),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расположенная вокруг краев развивающегося конечного мозга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 II стадии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стенки переднего мозга утолщаютс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благодаря интенсивной пролиферации нейробластов,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возникают зачатки базальных ганглиев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конец, на III стадии формируется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кора полушарий большого мозга (неокортекс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В связи с активным митотическим делением нейробластов неокортекса, когда скорость образования клеток достигает 250 000 в 1 мин, начинается формирование мозговых борозд и извилин полушарий большого мозг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572000" cy="3003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813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НЕКОТОРЫЕ ПАРАМЕТРЫ СТРУКТУР ГОЛОВНОГО МОЗГА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999880" y="1600200"/>
            <a:ext cx="5572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Масса головного мозга новорожденного ребенка относительно велика, она составляет в среднем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390 г (340 - 430)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у мальчиков 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355 г (330 - 370)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у девочек (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2 - 13 %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массы тела, у взрослого человека - около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2,5%).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Отношение массы мозга новорожденного к массе его тела в пять раз больше, чем у взрослого, соответственно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: 8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:40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В течение первого года жизн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масса мозга удваивает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а к 3-4 годам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утраивает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затем она медленно увеличивается и к 20 - 29 годам достигает максимальных цифр (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355 г у мужчин и 1220 г у женщин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 20 - 25 годам и в последующем, вплоть до 60 лет у мужчин и 55 лет у женщин, масса мозга существенно не изменяется, после 55 - 60 лет она несколько уменьшается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До 4 лет жизни головной мозг ребенка растет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равномерно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в высоту, длину и ширину, в дальнейшем преобладает рост мозга в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высоту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Наиболее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быстро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растут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лобная и теменная доли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0" y="100008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3327480" cy="40719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286080" y="285480"/>
            <a:ext cx="521496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У новорожденного ребенка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лучше развиты филогенетически более старые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отделы мозга. Масса ствола мозга равна 10 - 10,5 г (около 2,7% массы тела, у взрослого человека - около 2%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К моменту рождения ребенка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продолговатый мозг, мост и их ядра развиты хорошо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масса первого составляет окол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4 - 5 г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второго -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3,5 - 4 г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Хуже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развит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мозжечок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особенно ег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полушария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лучше - червь, слабо выражены извилины и борозды полушарий мозжечка. Масса мозжечка новорожденного ребенка не превышает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20 г (5,4% массы тела, у взрослого - 10%).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В течение первых 5 месяцев жизни масса мозжечка увеличивается в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три раза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в 9 месяцев, когда ребенок умеет стоять и начинает ходить, 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в четыре раза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Наиболее интенсивно развиваются полушария мозжечка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285840" y="214200"/>
            <a:ext cx="850104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межут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 новорожденного развит также относительно хорош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Формирование борозд и извили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чинается у плода начиная с 5-го месяца развития. У 7- месячного плода уже заметны борозды и извилины, к моменту рождения они развиты полностью (Ф. И. Валькер, 1951), однако ветви основных борозд и мелкие извилины выражены слабо. Формирование рельефа полушарий продолжается в течение первых 6-7 лет жизни, борозды становятся глубже, извилины между ними -рельефнее (В. В. Бунак, 1936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 новорожденного ребенка наиболе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азвиты височные доли и обонятель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слабее - лобные. У новорожденного ребенка кора полушарий большого мозга не полностью дифференцирован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Желудочки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оворожденного ребенка относительно крупнее, чем у взрослого человек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Твердая оболоч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оловного мозга новорожденного ребенка тонкая, плотно сращена с костями черепа, ее отростки развиты слаб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инусы тонкостенны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относительно широкие. После 10 лет строение и топография синусов такие же, как у взрослого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аутинная и мягкая оболоч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оловного и спинного мозга у новорожденного тонкие, нежны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дпаутинное пространство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тносительно широко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048120" cy="300024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428760" y="3429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и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5"/>
          <p:cNvSpPr/>
          <p:nvPr/>
        </p:nvSpPr>
        <p:spPr>
          <a:xfrm>
            <a:off x="4214880" y="40006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сэнцефалия — одна из аномалий развития: сглаживание извилин в коре больших полушарий мозга, которое возникает в итоге недостаточной миграции из нервной первичной трубки нейробластов. Лиссенцефалия может сопровождаться агирией - отсутствием извилин в моз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3"/>
          <a:stretch/>
        </p:blipFill>
        <p:spPr>
          <a:xfrm>
            <a:off x="0" y="3952800"/>
            <a:ext cx="3867120" cy="2905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7"/>
          <p:cNvSpPr/>
          <p:nvPr/>
        </p:nvSpPr>
        <p:spPr>
          <a:xfrm>
            <a:off x="785880" y="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омалии развития 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65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ГОЛОВНОГО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84720" y="691920"/>
            <a:ext cx="450216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чаток нервной системы начинает развиваться еще в конце стади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струлы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Клеточный материал эктодермы, расположенный на дорсальной поверхности зародыша,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утолщается, образу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ую пластинку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Эта пластинка ограничивается с боко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ми валикам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Дроблени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леток медуллярной пластинки (медуллобластов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х вали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водит к изгибанию пластинки в желоб, а затем к смыканию краев желоба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разованию медуллярной труб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При соединени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х вали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разу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нглиозная пластин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оторая затем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нглиозные вали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6" descr="http://classconnection.s3.amazonaws.com/101077/flashcards/718838/jpg/nt.jpg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5031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4000680" y="0"/>
            <a:ext cx="4643280" cy="605160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214200" y="0"/>
            <a:ext cx="3357720" cy="35863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3"/>
          <p:cNvSpPr/>
          <p:nvPr/>
        </p:nvSpPr>
        <p:spPr>
          <a:xfrm>
            <a:off x="285840" y="357192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цефалия вро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3714840" cy="2644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22960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ANd9GcSFtsmcjR_FvHSd3L7k8fpjomHyguc6BLx3MDbguuMkXEJxMPc&amp;t=1&amp;usg=__KmkE7MaavPbJKbU3YKoX0OKqnBY=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787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0x01 graphic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4172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3" descr="0x01 graphic"/>
          <p:cNvPicPr/>
          <p:nvPr/>
        </p:nvPicPr>
        <p:blipFill>
          <a:blip r:embed="rId3"/>
          <a:stretch/>
        </p:blipFill>
        <p:spPr>
          <a:xfrm>
            <a:off x="0" y="3141720"/>
            <a:ext cx="4321080" cy="349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5060880" cy="33573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4"/>
          <p:cNvSpPr/>
          <p:nvPr/>
        </p:nvSpPr>
        <p:spPr>
          <a:xfrm>
            <a:off x="428760" y="450072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цефалоцеле - черепно-мозговая грыжа, содержащая оболочки и вещество головного мозга, но не включающая его жел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5429160" y="9288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594" name="TextBox 6"/>
          <p:cNvSpPr/>
          <p:nvPr/>
        </p:nvSpPr>
        <p:spPr>
          <a:xfrm>
            <a:off x="5857920" y="4572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3268800" cy="39387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2700360" y="486900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.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, in General, some people without a brain somehow quite well off ;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eca26c5e5777e1c19e64f18ccbc"/>
          <p:cNvPicPr/>
          <p:nvPr/>
        </p:nvPicPr>
        <p:blipFill>
          <a:blip r:embed="rId1"/>
          <a:stretch/>
        </p:blipFill>
        <p:spPr>
          <a:xfrm>
            <a:off x="971640" y="1764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3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2611c"/>
                    </a:gs>
                    <a:gs pos="100000">
                      <a:srgbClr val="fe863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2611c"/>
                  </a:gs>
                  <a:gs pos="100000">
                    <a:srgbClr val="fe863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igure 21-17. The main pathways of neural crest cell migration."/>
          <p:cNvPicPr/>
          <p:nvPr/>
        </p:nvPicPr>
        <p:blipFill>
          <a:blip r:embed="rId1"/>
          <a:stretch/>
        </p:blipFill>
        <p:spPr>
          <a:xfrm>
            <a:off x="0" y="1268280"/>
            <a:ext cx="5149800" cy="3889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788000" y="404640"/>
            <a:ext cx="43560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И так, та часть клеток нервной пластинки, которая не входит в состав ни нервной трубки, ни кожной эктодермы, а образует скопления по бокам от нервной трубки - рыхлый тяж, располагающийся между нервной трубкой и кожной эктодермой, — эт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ый гребень (или ганглиозная пластинка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ый гребень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дает начало </a:t>
            </a:r>
            <a:r>
              <a:rPr b="1" lang="ru-RU" sz="1900" spc="-1" strike="noStrike">
                <a:solidFill>
                  <a:srgbClr val="669900"/>
                </a:solidFill>
                <a:latin typeface="Century Schoolbook"/>
              </a:rPr>
              <a:t>нейронам чувствительных и автономных ганглиев, клеткам мягкой мозговой и паутинной оболочек мозга и некоторым видам глии: нейролеммоцитам (шванновским клеткам), клеткам-сателлитам ганглиев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ого гребня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развиваются также клетки </a:t>
            </a:r>
            <a:r>
              <a:rPr b="1" lang="ru-RU" sz="1900" spc="-1" strike="noStrike">
                <a:solidFill>
                  <a:srgbClr val="669900"/>
                </a:solidFill>
                <a:latin typeface="Century Schoolbook"/>
              </a:rPr>
              <a:t>мозгового вещества надпочечников, меланоциты кожи, часть клеток APUD-системы, сенсорные клетки каротидных телец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НЕРВНАЯ ТРУБ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932000" y="499680"/>
            <a:ext cx="421164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на ранних стадиях эмбриогенеза представляет собой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многорядный нейроэпителий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, состоящий из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ых, или нейроэпителиальных клеток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 В дальнейшем в нервной трубке дифференцируется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4 концентрических зоны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нутренняя - вентрикулярная (или эпендимная) зон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округ нее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субвентрикулярная зон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затем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промежуточная (или плащевая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, или же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мантийная, зона)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и, наконец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наружная - краевая (или маргинальная)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зона нервной трубки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ая (эпендимная), внутренняя, зона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состоит из делящихся клеток цилиндрической формы.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ые (или матричные) клетки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являются предшественниками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нейронов и клеток макроглии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Субвентрикулярная зона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состоит из клеток, сохраняющих высокую пролиферативную активность и являющихся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потомками матричных клеток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5" descr="tmp6E-71.jpg"/>
          <p:cNvPicPr/>
          <p:nvPr/>
        </p:nvPicPr>
        <p:blipFill>
          <a:blip r:embed="rId1"/>
          <a:stretch/>
        </p:blipFill>
        <p:spPr>
          <a:xfrm>
            <a:off x="324000" y="3316320"/>
            <a:ext cx="4017960" cy="3541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http://www.brainviews.com/abFiles/DrwNeurtube.jpg"/>
          <p:cNvPicPr/>
          <p:nvPr/>
        </p:nvPicPr>
        <p:blipFill>
          <a:blip r:embed="rId2"/>
          <a:stretch/>
        </p:blipFill>
        <p:spPr>
          <a:xfrm>
            <a:off x="250920" y="765000"/>
            <a:ext cx="466704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428720" y="499680"/>
            <a:ext cx="471492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ромежуточная (плащевая, или мантийная) зо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состоит из клеток, переместившихс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из вентрикулярной и субвентрикулярной зон — нейробластов и глиобластов. Нейроблас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утрачивают способность к делению и в дальнейшем дифференцируются в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нейрон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Глиоблас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одолжают делиться и дают начал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астроцитам и олигодендроцита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Способность к делению не утрачивают полностью 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релые глиоци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овообразование нейронов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екращается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раннем постнатальном периоде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скольку число нейронов в головном мозге составляет примерн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1 триллио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очевидно, в среднем в течение всего пренатального период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 1 мин формируется 2,5 миллиона нейронов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з клеток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лащевого сло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бразуютс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ерое вещество спинного и часть серого вещества головно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tmp6E-71.jpg"/>
          <p:cNvPicPr/>
          <p:nvPr/>
        </p:nvPicPr>
        <p:blipFill>
          <a:blip r:embed="rId1"/>
          <a:stretch/>
        </p:blipFill>
        <p:spPr>
          <a:xfrm>
            <a:off x="324000" y="3429000"/>
            <a:ext cx="3890880" cy="3429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nature.com/nrn/journal/v8/n5/images/nrn2124-f1.jpg"/>
          <p:cNvPicPr/>
          <p:nvPr/>
        </p:nvPicPr>
        <p:blipFill>
          <a:blip r:embed="rId2"/>
          <a:stretch/>
        </p:blipFill>
        <p:spPr>
          <a:xfrm>
            <a:off x="0" y="0"/>
            <a:ext cx="4770360" cy="376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3419640" y="260280"/>
            <a:ext cx="136836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3.bp.blogspot.com/-SwLTYi3uAiU/T9kNB6FWx3I/AAAAAAAAAIk/mnRBH2mIFBI/s400/Glia-mediated%2Btranslocation.jpg"/>
          <p:cNvPicPr/>
          <p:nvPr/>
        </p:nvPicPr>
        <p:blipFill>
          <a:blip r:embed="rId1"/>
          <a:stretch/>
        </p:blipFill>
        <p:spPr>
          <a:xfrm>
            <a:off x="0" y="1100160"/>
            <a:ext cx="5508720" cy="4849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788000" y="714240"/>
            <a:ext cx="43560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Маргинальная зона (или краевая вуаль)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формируется из врастающих в нее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аксонов нейробластов и макрогли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и дает начало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белому веществу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 В некоторых областях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головного мозг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клетки плащевого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слоя мигрируют дальш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, образуя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кортикальные пластинки — скопления клеток, из которых формируется кора большого мозга и мозжечк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(т.е. серое вещество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2:22:35Z</dcterms:created>
  <dc:creator>Admin</dc:creator>
  <dc:description/>
  <dc:language>en-US</dc:language>
  <cp:lastModifiedBy>Света</cp:lastModifiedBy>
  <dcterms:modified xsi:type="dcterms:W3CDTF">2017-09-12T16:58:36Z</dcterms:modified>
  <cp:revision>73</cp:revision>
  <dc:subject/>
  <dc:title>PowerPoint Template</dc:title>
</cp:coreProperties>
</file>