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3.jpeg" ContentType="image/jpe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42.png" ContentType="image/png"/>
  <Override PartName="/ppt/media/image41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43.png" ContentType="image/png"/>
  <Override PartName="/ppt/media/image47.jpeg" ContentType="image/jpeg"/>
  <Override PartName="/ppt/media/image31.png" ContentType="image/png"/>
  <Override PartName="/ppt/media/image30.jpeg" ContentType="image/jpeg"/>
  <Override PartName="/ppt/media/image49.png" ContentType="image/png"/>
  <Override PartName="/ppt/media/image12.png" ContentType="image/png"/>
  <Override PartName="/ppt/media/image2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8.jpeg" ContentType="image/jpeg"/>
  <Override PartName="/ppt/media/image51.jpeg" ContentType="image/jpeg"/>
  <Override PartName="/ppt/media/image13.png" ContentType="image/png"/>
  <Override PartName="/ppt/media/image5.jpeg" ContentType="image/jpe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C9A-0D7C-489E-B6EC-497B341A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DAC-AB84-43B8-B36F-64BF364C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4CB-D172-4D5F-96B6-B02C9443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3D3-395D-4ECC-BB3B-6C0AC8E8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1CB1-795B-40F4-8AA1-4F9EB461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F6F7-5E36-4DD3-9704-64204357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83D2-643E-4DB2-B287-B4C7BB06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6F72-CDBF-4AD4-B8E3-AB41EF75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C00F-E3EF-4EB1-8643-D222B449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1879-B2AC-47D6-8A14-253AD34C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48AC-2D5C-4F40-99C3-700FCCF5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713-1487-419B-8328-22F10207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8E313-4CFB-4146-A1AA-47808F6B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C332-62CF-4072-B8A1-1A2C4C67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2F0C1-050C-4E10-A3F3-34DF9A8A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6B03-0166-4910-AAE2-BBBC386F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4BD9-F4A4-4B29-BA42-61F1C404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060EC-F464-45F2-874F-7EA040E4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83C8F-62E6-4775-A79D-7F8BC36B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A57EBA-1D6F-4310-9D6D-5DF42F71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E1D1FD-67A8-49C0-A3F5-E6429F14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BF7A2-F11E-4037-B4A7-60B96D4D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076-F919-4EF5-B085-F543DF75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27999-B5AD-49D1-833F-A5871A7D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6B13F-39A9-48D0-87B0-BA60FA69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07F169-BF08-4A79-9E92-028AA3E0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E6F68-6514-461F-9733-DBCF412E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D474A-9484-4E6C-803E-81246ECB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8A850-677B-4F79-83CB-C2C842F8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FA5BD-EF01-4ADD-B21D-41A401470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804A2-D368-4A8D-A292-0280652C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43699-2C6B-4DC1-B6A4-0A5A6BB5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ADA5-999F-4B02-AF9C-BA72EF70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3E33-C1C1-421D-A271-17CFF467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AA262-0ED4-40D7-AF15-082EE360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41045-EEDA-4132-BA3D-95DA1581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D1E2-F128-4075-8614-87AE4C3F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86C3-6380-457C-AD7E-EAB15742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361F5-7DF9-4C27-9359-B4CC7A4A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22667-9BFD-48E8-9867-FB2242FA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50608-0813-4526-90D5-7BBFD47F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1A0EE-8835-4724-B509-FB358BC5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72FD9-ECEA-4791-8FCA-50640EA7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4560DF-1E06-4EDB-9F27-B5B35F33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939C-FBA0-497E-9423-C99A596D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18AD5-ADB3-4E0D-8033-A4526E22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4759E-8487-4A5E-807C-231989B5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C9BC68-41C4-4463-A2CC-E772BEC3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E15F4B-6A4B-49E9-9D21-45477B06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117C4-69AC-46C1-BF43-2C934A2C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0091F-439E-4D46-928B-8D2969FD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B4051F-5665-4445-9052-45EC55A8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72F71-5A25-4F72-BED9-1775C0C7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52DEBB-9C6A-431C-B86F-4B27FBB43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D0E3E-E7CB-4E87-8BFD-A5A86961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7E8-048E-44EE-BD2F-C8B7F48F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D114E-F22E-4C8D-9EC6-F87998FF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9CE6F-7238-4E2D-852F-AC233CED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B9B33-2321-41DB-BDC7-914F23D5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92332-F9D8-4229-A044-A18CC97F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A6B507-7551-43F2-B8A2-7822CF22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F0377-3BBA-4A1D-AB67-FFA45DCD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09B0C-7F57-41D1-9228-2F328C6E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7C2152-0594-4C5C-931D-A1579F9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69FA57-F83E-48F5-B863-5560DFF3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C58EA-6D0E-4EA8-A688-13DB72D0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FE1-35FF-4BE4-B0D2-9E602ECE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ACAEC0-1926-48D5-A76C-27139B87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908A37-A10E-4320-A833-BE743755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A18A6-7066-4A76-999F-C5F97B09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5FE1C-3E17-4D5C-94DC-2ECF5E37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D160A-0F41-4487-9437-D9AA3409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033C35-F3D7-4A0C-BC88-26BCEAA2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49B8A8-C6ED-4138-9348-69F3EB4C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6F9E61-0F77-4E80-B64E-90894C73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4D274-A7EE-4B25-BD6E-C0CDB1D0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819BE4-08CE-4DF8-9B6C-F691B6CA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DB1-8D4F-44C2-8E6A-3993F93F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57535-F1A9-4F44-B6A9-0FB83BB2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795C7-58EB-4F86-858D-65EA354A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6481D1-6D3D-421F-ACAC-9B7B4BC1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E8140E-4B17-4078-AEFA-6261DE65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E4CA8-D242-40FB-A18A-A3B944F4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20C-9BD0-44A9-BFAE-E400E73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C228-EA70-4913-A0FC-21F801F949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191E-9B64-448E-8A98-EFEE043A03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A36A-2F1B-4CA8-A103-16E7CE1744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79A3-D42F-4F3D-966B-C26929CD5B5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B784-C0D3-43BA-ACBD-FD9527DEC7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2507-20A6-4212-AA94-5F0EE78635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1B73-E555-4131-B3F9-86BADB93D38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rainmed.ru/news30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mbryology.med.unsw.edu.au/wwwhuman/lowpower/HumA/A6L.htm" TargetMode="Externa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Brain_human_normal_inferior_view.svg" TargetMode="External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9;&#1084;&#1073;&#1088;&#1080;&#1086;&#1085;" TargetMode="External"/><Relationship Id="rId2" Type="http://schemas.openxmlformats.org/officeDocument/2006/relationships/hyperlink" Target="http://ru.wikipedia.org/wiki/&#1055;&#1083;&#1086;&#1076;_(&#1072;&#1085;&#1072;&#1090;&#1086;&#1084;&#1080;&#1103;)" TargetMode="External"/><Relationship Id="rId3" Type="http://schemas.openxmlformats.org/officeDocument/2006/relationships/hyperlink" Target="http://ru.wikipedia.org/wiki/&#1050;&#1086;&#1085;&#1077;&#1095;&#1085;&#1099;&#1081;_&#1084;&#1086;&#1079;&#1075;" TargetMode="Externa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POWERPOINT TEMPLA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ww.themegallery.co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4" descr="Мозг не дремлет!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168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354" name="WordArt 5"/>
          <p:cNvSpPr txBox="1"/>
          <p:nvPr/>
        </p:nvSpPr>
        <p:spPr>
          <a:xfrm>
            <a:off x="755640" y="1197000"/>
            <a:ext cx="7416720" cy="229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азвит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головного мозг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цесс развития включает не только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увеличение числа клеток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как следствие нарастание массы тела и органов, но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ачественные их преобразовани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обусловливающие последующую функциональную специализацию клеток. Многие свойства нервных клеток определяются их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естоположением</a:t>
            </a:r>
            <a:r>
              <a:rPr b="1" lang="ru-RU" sz="20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(топографией) в нервной трубк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и эти свойства сохраняются при всех последующих преобразованиях нерв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4" descr="image026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3558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0" y="3933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к показано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в вентральной (или нижней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части нервной трубки, получившей название </a:t>
            </a:r>
            <a:r>
              <a:rPr b="1" i="1" lang="ru-RU" sz="1600" spc="-1" strike="noStrike">
                <a:solidFill>
                  <a:srgbClr val="0000cc"/>
                </a:solidFill>
                <a:latin typeface="Century Schoolbook"/>
              </a:rPr>
              <a:t>базальной пластинки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сположены нервные клетки, которые изначально устанавливают контакт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с развивающимися мышечными элементами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и в процессе дальнейшего развития дают начало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моторным (двигательным) нейронам, или мотонейронам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. В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дорсальной (спинной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части нервной трубки, которая получила название </a:t>
            </a:r>
            <a:r>
              <a:rPr b="1" i="1" lang="ru-RU" sz="1600" spc="-1" strike="noStrike">
                <a:solidFill>
                  <a:srgbClr val="0000cc"/>
                </a:solidFill>
                <a:latin typeface="Century Schoolbook"/>
              </a:rPr>
              <a:t>крыльной пластинки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сполагаются нервные клетки, которые выполняют роль </a:t>
            </a:r>
            <a:r>
              <a:rPr b="1" i="1" lang="ru-RU" sz="1600" spc="-1" strike="noStrike">
                <a:solidFill>
                  <a:srgbClr val="0000cc"/>
                </a:solidFill>
                <a:latin typeface="Century Schoolbook"/>
              </a:rPr>
              <a:t>вставочных нейронов,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или </a:t>
            </a:r>
            <a:r>
              <a:rPr b="1" i="1" lang="ru-RU" sz="1600" spc="-1" strike="noStrike">
                <a:solidFill>
                  <a:srgbClr val="0000cc"/>
                </a:solidFill>
                <a:latin typeface="Century Schoolbook"/>
              </a:rPr>
              <a:t>интернейронов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замыкающих связь между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чувствительными и двигательными нейронами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. Эта часть нервной трубки наиболее подвержена изменениям в процессе развития нервной системы. На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границе между базальной и крыльной пластинками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расположена </a:t>
            </a:r>
            <a:r>
              <a:rPr b="1" i="1" lang="ru-RU" sz="1600" spc="-1" strike="noStrike">
                <a:solidFill>
                  <a:srgbClr val="0000cc"/>
                </a:solidFill>
                <a:latin typeface="Century Schoolbook"/>
              </a:rPr>
              <a:t>межуточная зона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 которой локализуются нейроны, связанные с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вегетативной нервной системой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иннервацией внутренних органов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3" name="Picture 4" descr="image026"/>
          <p:cNvPicPr/>
          <p:nvPr/>
        </p:nvPicPr>
        <p:blipFill>
          <a:blip r:embed="rId1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14200" y="0"/>
            <a:ext cx="7710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ЭМБРИОГЕНЕЗ ГОЛОВНОГО МОЗГ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788000" y="1071360"/>
            <a:ext cx="4356000" cy="41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начинается с развития в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передней (ростральной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части мозговой трубки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двух первичных мозговых пузыре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возникающих в результате неравномерного роста стенок нервной трубки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(архэнцефалон и дейтерэнцефалон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6" name="Picture 4" descr="91 Человек: фотографии, сделанные до рождения "/>
          <p:cNvPicPr/>
          <p:nvPr/>
        </p:nvPicPr>
        <p:blipFill>
          <a:blip r:embed="rId1"/>
          <a:stretch/>
        </p:blipFill>
        <p:spPr>
          <a:xfrm>
            <a:off x="0" y="1125360"/>
            <a:ext cx="4762440" cy="5496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2"/>
          <a:stretch/>
        </p:blipFill>
        <p:spPr>
          <a:xfrm>
            <a:off x="4929120" y="4782960"/>
            <a:ext cx="2629080" cy="2075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714240" y="3786120"/>
            <a:ext cx="7429680" cy="307188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ЭМБРИОГЕНЕЗ ГОЛОВНОГО МОЗГ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785520"/>
            <a:ext cx="878688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ейтерэнцефалон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как и задняя часть мозговой трубки (впоследствии спинной мозг), располагае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над хорд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Архэнцефалон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закладывае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впереди не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Затем в начал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четвертой недел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у зародыш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ейтерэнцефалон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делится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редний (</a:t>
            </a:r>
            <a:r>
              <a:rPr b="1" i="1" lang="ru-RU" sz="2000" spc="-1" strike="noStrike">
                <a:solidFill>
                  <a:srgbClr val="0000cc"/>
                </a:solidFill>
                <a:latin typeface="Century Schoolbook"/>
              </a:rPr>
              <a:t>mesencephalon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ромбовидный (</a:t>
            </a:r>
            <a:r>
              <a:rPr b="1" i="1" lang="ru-RU" sz="2000" spc="-1" strike="noStrike">
                <a:solidFill>
                  <a:srgbClr val="0000cc"/>
                </a:solidFill>
                <a:latin typeface="Century Schoolbook"/>
              </a:rPr>
              <a:t>rhombencephalon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) пузыр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архэнцефалон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евращается на этой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(трехпузырной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стадии в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ередний мозговой пузырь (</a:t>
            </a:r>
            <a:r>
              <a:rPr b="1" i="1" lang="ru-RU" sz="2000" spc="-1" strike="noStrike">
                <a:solidFill>
                  <a:srgbClr val="0000cc"/>
                </a:solidFill>
                <a:latin typeface="Century Schoolbook"/>
              </a:rPr>
              <a:t>prosencephalon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)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 нижней части переднего мозга выпячиваю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обонятельные лопаст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(из них развиваю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обонятельный эпителий носовой полости, обонятельные луковицы и тракты). Из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орсолатеральных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стенок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ереднего мозгового пузыр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ыступают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ва глазных пузыр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В дальнейшем из них развиваю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етчатка глаз, зрительные нервы и тракты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428760" y="214200"/>
            <a:ext cx="7858080" cy="64296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8"/>
          <p:cNvSpPr/>
          <p:nvPr/>
        </p:nvSpPr>
        <p:spPr>
          <a:xfrm>
            <a:off x="4214880" y="0"/>
            <a:ext cx="285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ITERENCEPHA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9"/>
          <p:cNvSpPr/>
          <p:nvPr/>
        </p:nvSpPr>
        <p:spPr>
          <a:xfrm>
            <a:off x="1643040" y="0"/>
            <a:ext cx="200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CHENCEPHA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28440" y="0"/>
            <a:ext cx="6995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СХЕМ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1125000"/>
            <a:ext cx="914400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hencephal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Deyterencephal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предхордовый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надхордовый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Начал</a:t>
            </a:r>
            <a:r>
              <a:rPr b="0" lang="en-US" sz="2000" spc="-1" strike="noStrike">
                <a:solidFill>
                  <a:srgbClr val="fe8637"/>
                </a:solidFill>
                <a:latin typeface="Century Schoolbook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P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rosencephalo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n                  M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esencephalon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     R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hombencephalon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4</a:t>
            </a: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    </a:t>
            </a:r>
            <a:r>
              <a:rPr b="0" lang="en-US" sz="2000" spc="-1" strike="noStrike">
                <a:solidFill>
                  <a:srgbClr val="fe8637"/>
                </a:solidFill>
                <a:latin typeface="Century Schoolbook"/>
              </a:rPr>
              <a:t>   </a:t>
            </a: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передний          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             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средний 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                 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ромбовидны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8637"/>
                </a:solidFill>
                <a:latin typeface="Century Schoolbook"/>
              </a:rPr>
              <a:t>недели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м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о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з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г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о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в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ы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е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 п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у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з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ы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р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cc"/>
                </a:solidFill>
                <a:latin typeface="Century Schoolbook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fe8637"/>
                </a:solidFill>
                <a:latin typeface="Century Schoolbook"/>
              </a:rPr>
              <a:t>5-6 </a:t>
            </a:r>
            <a:r>
              <a:rPr b="0" lang="en-US" sz="1800" spc="-1" strike="noStrike">
                <a:solidFill>
                  <a:srgbClr val="9900cc"/>
                </a:solidFill>
                <a:latin typeface="Century Schoolbook"/>
              </a:rPr>
              <a:t>Telencephalon  Diencephalon                                Metencephalon  Myelencephal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8637"/>
                </a:solidFill>
                <a:latin typeface="Century Schoolbook"/>
              </a:rPr>
              <a:t>неделя </a:t>
            </a:r>
            <a:r>
              <a:rPr b="0" lang="en-US" sz="18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fe8637"/>
                </a:solidFill>
                <a:latin typeface="Century Schoolbook"/>
              </a:rPr>
              <a:t>	</a:t>
            </a:r>
            <a:r>
              <a:rPr b="0" lang="en-US" sz="1800" spc="-1" strike="noStrike">
                <a:solidFill>
                  <a:srgbClr val="fe8637"/>
                </a:solidFill>
                <a:latin typeface="Century Schoolbook"/>
              </a:rPr>
              <a:t>            </a:t>
            </a:r>
            <a:r>
              <a:rPr b="0" lang="en-US" sz="1800" spc="-1" strike="noStrike">
                <a:solidFill>
                  <a:srgbClr val="9900cc"/>
                </a:solidFill>
                <a:latin typeface="Century Schoolbook"/>
              </a:rPr>
              <a:t>Mesencephal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Line 6"/>
          <p:cNvSpPr/>
          <p:nvPr/>
        </p:nvSpPr>
        <p:spPr>
          <a:xfrm flipH="1">
            <a:off x="5508360" y="1916280"/>
            <a:ext cx="431640" cy="57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"/>
          <p:cNvSpPr/>
          <p:nvPr/>
        </p:nvSpPr>
        <p:spPr>
          <a:xfrm>
            <a:off x="7164360" y="1989000"/>
            <a:ext cx="50472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1"/>
          <p:cNvSpPr/>
          <p:nvPr/>
        </p:nvSpPr>
        <p:spPr>
          <a:xfrm flipH="1">
            <a:off x="928800" y="3500280"/>
            <a:ext cx="792000" cy="86364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"/>
          <p:cNvSpPr/>
          <p:nvPr/>
        </p:nvSpPr>
        <p:spPr>
          <a:xfrm>
            <a:off x="2143080" y="3500280"/>
            <a:ext cx="934920" cy="86364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4"/>
          <p:cNvSpPr/>
          <p:nvPr/>
        </p:nvSpPr>
        <p:spPr>
          <a:xfrm>
            <a:off x="4500720" y="3500280"/>
            <a:ext cx="0" cy="136872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5"/>
          <p:cNvSpPr/>
          <p:nvPr/>
        </p:nvSpPr>
        <p:spPr>
          <a:xfrm flipH="1">
            <a:off x="6143760" y="3286080"/>
            <a:ext cx="1225440" cy="86364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6"/>
          <p:cNvSpPr/>
          <p:nvPr/>
        </p:nvSpPr>
        <p:spPr>
          <a:xfrm>
            <a:off x="7572240" y="3286080"/>
            <a:ext cx="1079640" cy="863640"/>
          </a:xfrm>
          <a:prstGeom prst="line">
            <a:avLst/>
          </a:prstGeom>
          <a:ln w="381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6"/>
          <p:cNvSpPr/>
          <p:nvPr/>
        </p:nvSpPr>
        <p:spPr>
          <a:xfrm>
            <a:off x="2484360" y="198900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Нижний колонтитул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"/>
          <p:cNvPicPr/>
          <p:nvPr/>
        </p:nvPicPr>
        <p:blipFill>
          <a:blip r:embed="rId1"/>
          <a:stretch/>
        </p:blipFill>
        <p:spPr>
          <a:xfrm>
            <a:off x="0" y="428760"/>
            <a:ext cx="8707320" cy="5214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8887774564"/>
          <p:cNvPicPr/>
          <p:nvPr/>
        </p:nvPicPr>
        <p:blipFill>
          <a:blip r:embed="rId1"/>
          <a:stretch/>
        </p:blipFill>
        <p:spPr>
          <a:xfrm>
            <a:off x="0" y="1378080"/>
            <a:ext cx="8891640" cy="4051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211280" y="213840"/>
            <a:ext cx="4932360" cy="60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На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шестой неделе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эмбрионального развития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передний и ромбовидный пузыр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делятся каждый на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два</a:t>
            </a:r>
            <a:r>
              <a:rPr b="1" lang="ru-RU" sz="1800" spc="-1" strike="noStrike">
                <a:solidFill>
                  <a:srgbClr val="fe8637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 наступает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пятипузырная стадия. Передний пузырь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1" i="1" lang="ru-RU" sz="1800" spc="-1" strike="noStrike">
                <a:solidFill>
                  <a:srgbClr val="0000cc"/>
                </a:solidFill>
                <a:latin typeface="Century Schoolbook"/>
              </a:rPr>
              <a:t>конечный мозг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— разделяется продольной щелью на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два полушари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Полость также делится, образуя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боковые желудочк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Мозговое вещество увеличивается неравномерно, и на поверхности полушарий образуются многочисленные складки — извилины, отделенные друг от друга более или менее глубокими бороздами и щелями. Каждое полушарие разделяется на четыре доли, в соответствие с этим полости боковых желудочков делятся также на 4 части: центральный отдел и три рога желудочка. Из мезенхимы, окружающей мозг зародыша, развиваются оболочки мозга. Серое вещество располагается и на периферии, образуя кору больших полушарий, и в основании полушарий, образуя подкорковые ядр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8" name="Picture 5" descr="Трехмерная модель мозга эмбриона человека | вид сбоку"/>
          <p:cNvPicPr/>
          <p:nvPr/>
        </p:nvPicPr>
        <p:blipFill>
          <a:blip r:embed="rId1"/>
          <a:stretch/>
        </p:blipFill>
        <p:spPr>
          <a:xfrm>
            <a:off x="0" y="14130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5" descr="461"/>
          <p:cNvPicPr/>
          <p:nvPr/>
        </p:nvPicPr>
        <p:blipFill>
          <a:blip r:embed="rId1"/>
          <a:stretch/>
        </p:blipFill>
        <p:spPr>
          <a:xfrm>
            <a:off x="0" y="1071720"/>
            <a:ext cx="6249960" cy="442116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6"/>
          <p:cNvSpPr/>
          <p:nvPr/>
        </p:nvSpPr>
        <p:spPr>
          <a:xfrm>
            <a:off x="684360" y="4581360"/>
            <a:ext cx="3816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4788000" y="1989000"/>
            <a:ext cx="1368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1835280" y="1197000"/>
            <a:ext cx="324144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067280" y="499680"/>
            <a:ext cx="5076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Задняя часть переднего пузыр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стается неразделенной и называется теперь </a:t>
            </a:r>
            <a:r>
              <a:rPr b="1" i="1" lang="ru-RU" sz="1800" spc="-1" strike="noStrike">
                <a:solidFill>
                  <a:srgbClr val="0000cc"/>
                </a:solidFill>
                <a:latin typeface="Century Schoolbook"/>
              </a:rPr>
              <a:t>промежуточным мозгом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Функционально и морфологически он связан с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органом зрени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На стадии, когда границы с конечным мозгом слабо выражены, из базальной части боковых стенок образуются парные выросты — глазные пузыри, которые соединяются с местом их происхождения при помощи глазных стебельков, впоследствии превращающихся в зрительные нервы. Наибольшей толщины достигают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боковые стенки промежуточного мозг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которые преобразуются в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зрительные бугры, или таламус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В соответствии с этим полость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III желудочк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превращается в узкую сагиттальную щель. В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ентральной области (гипоталамус)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бразуется непарное выпячивание —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оронк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из нижнего конца которой происходит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задняя мозговая доля гипофиз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нейрогипофиз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0" y="2276640"/>
            <a:ext cx="1258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ПЛАН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pSp>
        <p:nvGrpSpPr>
          <p:cNvPr id="356" name="Group 70"/>
          <p:cNvGrpSpPr/>
          <p:nvPr/>
        </p:nvGrpSpPr>
        <p:grpSpPr>
          <a:xfrm>
            <a:off x="2153160" y="5543640"/>
            <a:ext cx="5010480" cy="477720"/>
            <a:chOff x="2153160" y="5543640"/>
            <a:chExt cx="5010480" cy="477720"/>
          </a:xfrm>
        </p:grpSpPr>
        <p:sp>
          <p:nvSpPr>
            <p:cNvPr id="357" name="AutoShape 71"/>
            <p:cNvSpPr/>
            <p:nvPr/>
          </p:nvSpPr>
          <p:spPr>
            <a:xfrm>
              <a:off x="2382120" y="5564160"/>
              <a:ext cx="47815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39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73"/>
            <p:cNvSpPr/>
            <p:nvPr/>
          </p:nvSpPr>
          <p:spPr>
            <a:xfrm>
              <a:off x="2634120" y="5619600"/>
              <a:ext cx="3774960" cy="36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3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74"/>
            <p:cNvSpPr/>
            <p:nvPr/>
          </p:nvSpPr>
          <p:spPr>
            <a:xfrm>
              <a:off x="2153160" y="5543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46"/>
          <p:cNvGrpSpPr/>
          <p:nvPr/>
        </p:nvGrpSpPr>
        <p:grpSpPr>
          <a:xfrm>
            <a:off x="2124000" y="1916280"/>
            <a:ext cx="4939920" cy="685800"/>
            <a:chOff x="2124000" y="1916280"/>
            <a:chExt cx="4939920" cy="685800"/>
          </a:xfrm>
        </p:grpSpPr>
        <p:sp>
          <p:nvSpPr>
            <p:cNvPr id="362" name="AutoShape 47"/>
            <p:cNvSpPr/>
            <p:nvPr/>
          </p:nvSpPr>
          <p:spPr>
            <a:xfrm>
              <a:off x="2522160" y="2035440"/>
              <a:ext cx="454176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2e9f7"/>
                </a:gs>
                <a:gs pos="100000">
                  <a:srgbClr val="7598d9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48"/>
            <p:cNvSpPr/>
            <p:nvPr/>
          </p:nvSpPr>
          <p:spPr>
            <a:xfrm>
              <a:off x="2124000" y="1916280"/>
              <a:ext cx="717120" cy="685800"/>
            </a:xfrm>
            <a:prstGeom prst="diamond">
              <a:avLst/>
            </a:prstGeom>
            <a:solidFill>
              <a:srgbClr val="7598d9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 Box 49"/>
            <p:cNvSpPr/>
            <p:nvPr/>
          </p:nvSpPr>
          <p:spPr>
            <a:xfrm>
              <a:off x="2761200" y="2090880"/>
              <a:ext cx="3579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50"/>
            <p:cNvSpPr/>
            <p:nvPr/>
          </p:nvSpPr>
          <p:spPr>
            <a:xfrm>
              <a:off x="2293920" y="201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1"/>
          <p:cNvGrpSpPr/>
          <p:nvPr/>
        </p:nvGrpSpPr>
        <p:grpSpPr>
          <a:xfrm>
            <a:off x="2124000" y="2708280"/>
            <a:ext cx="4959000" cy="685800"/>
            <a:chOff x="2124000" y="2708280"/>
            <a:chExt cx="4959000" cy="685800"/>
          </a:xfrm>
        </p:grpSpPr>
        <p:sp>
          <p:nvSpPr>
            <p:cNvPr id="367" name="AutoShape 52"/>
            <p:cNvSpPr/>
            <p:nvPr/>
          </p:nvSpPr>
          <p:spPr>
            <a:xfrm>
              <a:off x="2523600" y="2827440"/>
              <a:ext cx="4559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5d5"/>
                </a:gs>
                <a:gs pos="100000">
                  <a:srgbClr val="fe8637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3"/>
            <p:cNvSpPr/>
            <p:nvPr/>
          </p:nvSpPr>
          <p:spPr>
            <a:xfrm>
              <a:off x="2124000" y="2708280"/>
              <a:ext cx="719640" cy="685800"/>
            </a:xfrm>
            <a:prstGeom prst="diamond">
              <a:avLst/>
            </a:prstGeom>
            <a:solidFill>
              <a:srgbClr val="fe8637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54"/>
            <p:cNvSpPr/>
            <p:nvPr/>
          </p:nvSpPr>
          <p:spPr>
            <a:xfrm>
              <a:off x="2763720" y="2882880"/>
              <a:ext cx="3599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 Box 55"/>
            <p:cNvSpPr/>
            <p:nvPr/>
          </p:nvSpPr>
          <p:spPr>
            <a:xfrm>
              <a:off x="2295360" y="280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56"/>
          <p:cNvGrpSpPr/>
          <p:nvPr/>
        </p:nvGrpSpPr>
        <p:grpSpPr>
          <a:xfrm>
            <a:off x="2133720" y="3581280"/>
            <a:ext cx="5030280" cy="685800"/>
            <a:chOff x="2133720" y="3581280"/>
            <a:chExt cx="5030280" cy="685800"/>
          </a:xfrm>
        </p:grpSpPr>
        <p:sp>
          <p:nvSpPr>
            <p:cNvPr id="372" name="AutoShape 57"/>
            <p:cNvSpPr/>
            <p:nvPr/>
          </p:nvSpPr>
          <p:spPr>
            <a:xfrm>
              <a:off x="2539080" y="3700440"/>
              <a:ext cx="46249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bdde0"/>
                </a:gs>
                <a:gs pos="100000">
                  <a:srgbClr val="575f6d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58"/>
            <p:cNvSpPr/>
            <p:nvPr/>
          </p:nvSpPr>
          <p:spPr>
            <a:xfrm>
              <a:off x="2133720" y="3581280"/>
              <a:ext cx="730080" cy="685800"/>
            </a:xfrm>
            <a:prstGeom prst="diamond">
              <a:avLst/>
            </a:prstGeom>
            <a:solidFill>
              <a:srgbClr val="d2611c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9"/>
            <p:cNvSpPr/>
            <p:nvPr/>
          </p:nvSpPr>
          <p:spPr>
            <a:xfrm>
              <a:off x="2782440" y="3755880"/>
              <a:ext cx="3651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60"/>
            <p:cNvSpPr/>
            <p:nvPr/>
          </p:nvSpPr>
          <p:spPr>
            <a:xfrm>
              <a:off x="2310120" y="3679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61"/>
          <p:cNvGrpSpPr/>
          <p:nvPr/>
        </p:nvGrpSpPr>
        <p:grpSpPr>
          <a:xfrm>
            <a:off x="2124000" y="4508640"/>
            <a:ext cx="5040000" cy="685800"/>
            <a:chOff x="2124000" y="4508640"/>
            <a:chExt cx="5040000" cy="685800"/>
          </a:xfrm>
        </p:grpSpPr>
        <p:sp>
          <p:nvSpPr>
            <p:cNvPr id="377" name="AutoShape 62"/>
            <p:cNvSpPr/>
            <p:nvPr/>
          </p:nvSpPr>
          <p:spPr>
            <a:xfrm>
              <a:off x="2530080" y="4627800"/>
              <a:ext cx="463392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5d7dc"/>
                </a:gs>
                <a:gs pos="100000">
                  <a:srgbClr val="3b435b"/>
                </a:gs>
              </a:gsLst>
              <a:lin ang="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63"/>
            <p:cNvSpPr/>
            <p:nvPr/>
          </p:nvSpPr>
          <p:spPr>
            <a:xfrm>
              <a:off x="2124000" y="4508640"/>
              <a:ext cx="731520" cy="685800"/>
            </a:xfrm>
            <a:prstGeom prst="diamond">
              <a:avLst/>
            </a:prstGeom>
            <a:solidFill>
              <a:srgbClr val="3b435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Text Box 64"/>
            <p:cNvSpPr/>
            <p:nvPr/>
          </p:nvSpPr>
          <p:spPr>
            <a:xfrm>
              <a:off x="2774160" y="4683240"/>
              <a:ext cx="3658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65"/>
            <p:cNvSpPr/>
            <p:nvPr/>
          </p:nvSpPr>
          <p:spPr>
            <a:xfrm>
              <a:off x="2301840" y="4607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6"/>
          <p:cNvSpPr/>
          <p:nvPr/>
        </p:nvSpPr>
        <p:spPr>
          <a:xfrm>
            <a:off x="3276720" y="2060640"/>
            <a:ext cx="36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7"/>
          <p:cNvSpPr/>
          <p:nvPr/>
        </p:nvSpPr>
        <p:spPr>
          <a:xfrm>
            <a:off x="3203640" y="2060640"/>
            <a:ext cx="36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c0c"/>
                </a:solidFill>
                <a:latin typeface="Arial"/>
              </a:rPr>
              <a:t>Эмбриогенез головно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8"/>
          <p:cNvSpPr/>
          <p:nvPr/>
        </p:nvSpPr>
        <p:spPr>
          <a:xfrm>
            <a:off x="3203640" y="2852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c0c"/>
                </a:solidFill>
                <a:latin typeface="Arial"/>
              </a:rPr>
              <a:t>Развитие задне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9"/>
          <p:cNvSpPr/>
          <p:nvPr/>
        </p:nvSpPr>
        <p:spPr>
          <a:xfrm>
            <a:off x="3203640" y="37162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c0c"/>
                </a:solidFill>
                <a:latin typeface="Arial"/>
              </a:rPr>
              <a:t>Развитие средне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5"/>
          <p:cNvSpPr/>
          <p:nvPr/>
        </p:nvSpPr>
        <p:spPr>
          <a:xfrm>
            <a:off x="3203640" y="4653000"/>
            <a:ext cx="48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c0c"/>
                </a:solidFill>
                <a:latin typeface="Arial"/>
              </a:rPr>
              <a:t>Развитие промежуточно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6"/>
          <p:cNvSpPr/>
          <p:nvPr/>
        </p:nvSpPr>
        <p:spPr>
          <a:xfrm>
            <a:off x="3276720" y="566100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7"/>
          <p:cNvSpPr/>
          <p:nvPr/>
        </p:nvSpPr>
        <p:spPr>
          <a:xfrm>
            <a:off x="3203640" y="566100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c0c0c"/>
                </a:solidFill>
                <a:latin typeface="Arial"/>
              </a:rPr>
              <a:t>Формирование конечного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72"/>
          <p:cNvSpPr/>
          <p:nvPr/>
        </p:nvSpPr>
        <p:spPr>
          <a:xfrm>
            <a:off x="2071800" y="5445000"/>
            <a:ext cx="714240" cy="685800"/>
          </a:xfrm>
          <a:prstGeom prst="diamond">
            <a:avLst/>
          </a:prstGeom>
          <a:solidFill>
            <a:srgbClr val="fff39d"/>
          </a:solidFill>
          <a:ln w="25560">
            <a:solidFill>
              <a:srgbClr val="ffffff"/>
            </a:solidFill>
            <a:miter/>
          </a:ln>
          <a:effectLst>
            <a:outerShdw dist="63504" dir="2216091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4" descr="461"/>
          <p:cNvPicPr/>
          <p:nvPr/>
        </p:nvPicPr>
        <p:blipFill>
          <a:blip r:embed="rId1"/>
          <a:stretch/>
        </p:blipFill>
        <p:spPr>
          <a:xfrm>
            <a:off x="0" y="1052640"/>
            <a:ext cx="6156360" cy="442116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7"/>
          <p:cNvSpPr/>
          <p:nvPr/>
        </p:nvSpPr>
        <p:spPr>
          <a:xfrm>
            <a:off x="1187280" y="4653000"/>
            <a:ext cx="33134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1763640" y="1197000"/>
            <a:ext cx="309564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4643280" y="2133720"/>
            <a:ext cx="136872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0" y="1076400"/>
            <a:ext cx="4572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Третий мозговой пузырь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превращается в 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средний мозг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который развивается наиболее просто и отстает в росте. Стенки его утолщаются равномерно, а полость превращается в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узкий канал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—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Сильвиев водопровод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соединяющий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III и IV желудочк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 Из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дорсальной стенк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развивается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четверохолмие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а из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вентральной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—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ножки среднего мозг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042920" y="4653000"/>
            <a:ext cx="403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5" descr="461"/>
          <p:cNvPicPr/>
          <p:nvPr/>
        </p:nvPicPr>
        <p:blipFill>
          <a:blip r:embed="rId1"/>
          <a:stretch/>
        </p:blipFill>
        <p:spPr>
          <a:xfrm>
            <a:off x="0" y="1268280"/>
            <a:ext cx="5581800" cy="43862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6"/>
          <p:cNvSpPr/>
          <p:nvPr/>
        </p:nvSpPr>
        <p:spPr>
          <a:xfrm>
            <a:off x="900000" y="4724280"/>
            <a:ext cx="338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1332000" y="1197000"/>
            <a:ext cx="31687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7"/>
          <p:cNvSpPr/>
          <p:nvPr/>
        </p:nvSpPr>
        <p:spPr>
          <a:xfrm>
            <a:off x="3786120" y="2357280"/>
            <a:ext cx="1577880" cy="9288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643280" y="928800"/>
            <a:ext cx="4143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Ромбовидн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делится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задний и добавочны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Из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заднего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формируе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озжечок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— сначал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червь мозжечк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а затем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олушари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а такж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ост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Добавочн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евращается в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родолговат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Стенк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ромбовидного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утолщаются — как с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боков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так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на дн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только крыша остается в вид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тончайшей пластинки. Полость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евращается в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IV желудочек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который сообщается с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ильвиевым водопроводом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с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центральным каналом спинного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4571640" y="1076400"/>
            <a:ext cx="4321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результате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неравномерног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звития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мозговых пузыре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мозговая трубка начинает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изгибаться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(на уровне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среднего мозга — теменной прогиб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, в области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заднего мозга — мостово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и в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месте перехода добавочного мозга в спинной — затылочный прогиб).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Теменной и затылочный прогибы обращены наружу, а мостовой — внутрь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7" name="Picture 4" descr="Трехмерная модель мозга эмбриона человека | вид сверху"/>
          <p:cNvPicPr/>
          <p:nvPr/>
        </p:nvPicPr>
        <p:blipFill>
          <a:blip r:embed="rId1"/>
          <a:stretch/>
        </p:blipFill>
        <p:spPr>
          <a:xfrm>
            <a:off x="357120" y="135720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458" name="Line 5"/>
          <p:cNvSpPr/>
          <p:nvPr/>
        </p:nvSpPr>
        <p:spPr>
          <a:xfrm flipH="1">
            <a:off x="1835280" y="1268280"/>
            <a:ext cx="792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2484360" y="1052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357120" y="1928880"/>
            <a:ext cx="5032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0" y="15001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тыл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H="1" flipV="1">
            <a:off x="2357280" y="4214880"/>
            <a:ext cx="2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0"/>
          <p:cNvSpPr/>
          <p:nvPr/>
        </p:nvSpPr>
        <p:spPr>
          <a:xfrm>
            <a:off x="2214720" y="508464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т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13" descr="Трехмерная модель мозга эмбриона человека | вид сбоку"/>
          <p:cNvPicPr/>
          <p:nvPr/>
        </p:nvPicPr>
        <p:blipFill>
          <a:blip r:embed="rId1"/>
          <a:stretch/>
        </p:blipFill>
        <p:spPr>
          <a:xfrm>
            <a:off x="0" y="1071720"/>
            <a:ext cx="4932360" cy="4932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4356000" y="1076400"/>
            <a:ext cx="4788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Структуры головного мозга, формирующиеся из первичного мозгового пузыря-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дейтерэнцефалон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средний, задний и добавочный мозг — составляют ствол головного мозга (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trùncus cer</a:t>
            </a: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Century Schoolbook"/>
              </a:rPr>
              <a:t>e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bri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 Он является ростральным продолжением спинного мозга и имеет с ним общие черты стро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Line 6"/>
          <p:cNvSpPr/>
          <p:nvPr/>
        </p:nvSpPr>
        <p:spPr>
          <a:xfrm>
            <a:off x="2700360" y="126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2124000" y="907920"/>
            <a:ext cx="21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2411280" y="9079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611280" y="2276640"/>
            <a:ext cx="57600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0" y="198900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11"/>
          <p:cNvSpPr/>
          <p:nvPr/>
        </p:nvSpPr>
        <p:spPr>
          <a:xfrm flipV="1">
            <a:off x="1835280" y="5373360"/>
            <a:ext cx="72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971640" y="61657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о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0" y="385776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роходящая по латеральным стенкам спинного мозга и стволового отдела головного мозга парна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ограничная борозда (</a:t>
            </a:r>
            <a:r>
              <a:rPr b="1" i="1" lang="ru-RU" sz="2000" spc="-1" strike="noStrike">
                <a:solidFill>
                  <a:srgbClr val="0000cc"/>
                </a:solidFill>
                <a:latin typeface="Century Schoolbook"/>
              </a:rPr>
              <a:t>s</a:t>
            </a: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Century Schoolbook"/>
              </a:rPr>
              <a:t>u</a:t>
            </a:r>
            <a:r>
              <a:rPr b="1" i="1" lang="ru-RU" sz="2000" spc="-1" strike="noStrike">
                <a:solidFill>
                  <a:srgbClr val="0000cc"/>
                </a:solidFill>
                <a:latin typeface="Century Schoolbook"/>
              </a:rPr>
              <a:t>lcus limitons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делит мозговую трубку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основную (вентральную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рыловидную (дорзальную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ластинки. Из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основн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ластинки формирую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оторные структуры (передние рога спинного мозга, двигательные ядра черепно-мозговых нервов)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Над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ограничной борозд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з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рыловидной пластин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развиваю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енсорные структуры (задние рога спинного мозга, сенсорные ядра ствола мозга),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 пределах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амой пограничной борозды — центры вегетативной нервной системы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4" name="Picture 4" descr="image026"/>
          <p:cNvPicPr/>
          <p:nvPr/>
        </p:nvPicPr>
        <p:blipFill>
          <a:blip r:embed="rId1"/>
          <a:stretch/>
        </p:blipFill>
        <p:spPr>
          <a:xfrm>
            <a:off x="108000" y="0"/>
            <a:ext cx="8785080" cy="32860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4" descr="image081"/>
          <p:cNvPicPr/>
          <p:nvPr/>
        </p:nvPicPr>
        <p:blipFill>
          <a:blip r:embed="rId1"/>
          <a:stretch/>
        </p:blipFill>
        <p:spPr>
          <a:xfrm>
            <a:off x="0" y="1557360"/>
            <a:ext cx="5148360" cy="38354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ЗВИТИЕ ЗАДНЕГО МОЗГ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857840" y="785880"/>
            <a:ext cx="392904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развитии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заднего мозг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прослеживаются те же изменения в расположении пластинок нервной трубки, что и в продолговатом мозге. Вследствие расхождения крыльных пластинок в стороны здесь также происходит истончение крыши нервной трубк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играция клеток крыльной пластинки в область крыши заднего мозга приводит к формированию на 12—16-й неделях червя и полушарий мозжечка. Под мозжечком просматривается полость будущего </a:t>
            </a: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V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желудочка, дно которой образует ромбовидная ямка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4" descr="image081"/>
          <p:cNvPicPr/>
          <p:nvPr/>
        </p:nvPicPr>
        <p:blipFill>
          <a:blip r:embed="rId1"/>
          <a:stretch/>
        </p:blipFill>
        <p:spPr>
          <a:xfrm>
            <a:off x="0" y="1557360"/>
            <a:ext cx="5148360" cy="38354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857840" y="571680"/>
            <a:ext cx="392904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Соматомоторные (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II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IV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V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XI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 пары) черепные нерв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а также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двигательные волокн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в составе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бранхиогенных черепных нервов (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V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VI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IX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X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X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 пары),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иннервирующих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мышцы жаберного происхождени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формируются аксонами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нейронов, развивающихся из клеток базальной пластинки среднего и заднего мозговых пузырей. Парасимпатические преганглионарные нейроны вегетативных ядер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II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VII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,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IX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 и </a:t>
            </a:r>
            <a:r>
              <a:rPr b="1" lang="en-US" sz="1800" spc="-1" strike="noStrike">
                <a:solidFill>
                  <a:srgbClr val="0000cc"/>
                </a:solidFill>
                <a:latin typeface="Century Schoolbook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пар черепных нервов развиваются из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межуточной зон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расположенной между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крыльной и базальной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частями стенок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среднего и заднего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мозговых пузырей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РАЗВИТИЕ СРЕДНЕГО МОЗГ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427280" y="1076400"/>
            <a:ext cx="471636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редни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бособляется относительно рано, на 4-й неделе развития. Клетк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рыльной пластин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 област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реднего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мигрируют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в дорсальном и- вентральном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направлениях. На дорсальной поверхности они дают начало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ядрам верхних и нижних холмиков пластинки будущего четверохолми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Клетки, смещающие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вентрально,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формируют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расные ядра и ретикулярные ядр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среднего мозга. Из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базальной пластин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бразуется также ядро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глазодвигательного нерва (</a:t>
            </a:r>
            <a:r>
              <a:rPr b="1" lang="en-US" sz="2000" spc="-1" strike="noStrike">
                <a:solidFill>
                  <a:srgbClr val="0000cc"/>
                </a:solidFill>
                <a:latin typeface="Century Schoolbook"/>
              </a:rPr>
              <a:t>III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 пара),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хорошо выраженное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12-й недел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нутриутробного развития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2" name="Picture 4" descr="38685649_cns2_7"/>
          <p:cNvPicPr/>
          <p:nvPr/>
        </p:nvPicPr>
        <p:blipFill>
          <a:blip r:embed="rId1"/>
          <a:stretch/>
        </p:blipFill>
        <p:spPr>
          <a:xfrm>
            <a:off x="0" y="1700280"/>
            <a:ext cx="4762440" cy="3257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4" descr="Трехмерная модель мозга эмбриона человека | вид сбоку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4429080" y="714240"/>
            <a:ext cx="428616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роизводные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архэнцефалона (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telenc</a:t>
            </a: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Century Schoolbook"/>
              </a:rPr>
              <a:t>e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phalon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и </a:t>
            </a:r>
            <a:r>
              <a:rPr b="1" i="1" lang="ru-RU" sz="2400" spc="-1" strike="noStrike">
                <a:solidFill>
                  <a:srgbClr val="0000cc"/>
                </a:solidFill>
                <a:latin typeface="Century Schoolbook"/>
              </a:rPr>
              <a:t>diencéphalon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) создают подкорковые структуры и кор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 Здесь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ет основной пластинки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(она заканчивается в среднем мозге), следовательно, и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нет двигательных и вегетативных ядер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 Весь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передний мозг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звивается из </a:t>
            </a: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крыловидной пластинки (95%),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оэтому в нем имеются лишь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сенсорные структуры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5" name="Line 5"/>
          <p:cNvSpPr/>
          <p:nvPr/>
        </p:nvSpPr>
        <p:spPr>
          <a:xfrm flipV="1">
            <a:off x="3635280" y="465264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6"/>
          <p:cNvSpPr/>
          <p:nvPr/>
        </p:nvSpPr>
        <p:spPr>
          <a:xfrm>
            <a:off x="3492360" y="119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268360" y="57340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telenc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pha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8"/>
          <p:cNvSpPr/>
          <p:nvPr/>
        </p:nvSpPr>
        <p:spPr>
          <a:xfrm>
            <a:off x="2411280" y="98100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iencépha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174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ФОРМИРОВАНИЕ ПРОМЕЖУТОЧНОГО МОЗГ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4714920"/>
            <a:ext cx="8858160" cy="19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ромежуточн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бособляется от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ереднего мозгового пузыр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5-й недел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В ростральной (передней) части нервной трубки, дающей начало конечному и промежуточному мозгу, идет интенсивное увеличение числа нервных клеток. Здесь отсутствует деление на крыльную и базальную пластинки, не происходит формирования черепных нервов, а вся масс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нервных клеток идет на развитие многочисленных ядер и коры головного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1" name="Picture 5" descr="1"/>
          <p:cNvPicPr/>
          <p:nvPr/>
        </p:nvPicPr>
        <p:blipFill>
          <a:blip r:embed="rId1"/>
          <a:stretch/>
        </p:blipFill>
        <p:spPr>
          <a:xfrm>
            <a:off x="642960" y="428760"/>
            <a:ext cx="7756560" cy="4190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7924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ГОЛОВНОЙ МОЗГ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00720" y="428400"/>
            <a:ext cx="4643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асполагается в полости черепа. Объем человеческого мозга составляет 91-95% емкости черепа, он состоит из трех отделов: мозгового ствола, подкоркового отдела и коры большого мозга. Средняя масса мозга у мужчин - 1375 г, у женщин - 1275 г. У мужчин он составляет 2% от общей массы тела, у женщин - 2,5%. Долгое время господствовало мнение, что от массы мозга зависят умственные способности человека: чем больше масса мозга, тем одаренных человек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1" name="Picture 6" descr=""/>
          <p:cNvPicPr/>
          <p:nvPr/>
        </p:nvPicPr>
        <p:blipFill>
          <a:blip r:embed="rId1"/>
          <a:stretch/>
        </p:blipFill>
        <p:spPr>
          <a:xfrm>
            <a:off x="0" y="857160"/>
            <a:ext cx="4740120" cy="5000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7" descr="Plate 17.345 Diencephalon"/>
          <p:cNvPicPr/>
          <p:nvPr/>
        </p:nvPicPr>
        <p:blipFill>
          <a:blip r:embed="rId1"/>
          <a:stretch/>
        </p:blipFill>
        <p:spPr>
          <a:xfrm>
            <a:off x="0" y="1989000"/>
            <a:ext cx="5219640" cy="288792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786200" y="571680"/>
            <a:ext cx="392904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промежуточном мозге на 5-й неделе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наблюдается начало интенсивного роста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мантийного (пролиферативного)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слоя, что приводит к значительному утолщению его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латеральных стенок;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здесь образуются закладки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правого и левого таламусов</a:t>
            </a:r>
            <a:r>
              <a:rPr b="0" lang="ru-RU" sz="2400" spc="-1" strike="noStrike">
                <a:solidFill>
                  <a:srgbClr val="0000cc"/>
                </a:solidFill>
                <a:latin typeface="Century Schoolbook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4" descr="HypothalamusStage 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79760"/>
            <a:ext cx="5364000" cy="33782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5072040" y="285840"/>
            <a:ext cx="385776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Еще до обособления промежуточного мозга в задней части переднего мозгового пузыря на его вентролатеральной поверхности появляются парные глазные пузыри, которые растут в сторону эктодермы в форме бокалов. Из стенки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глазного бокала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сформируются </a:t>
            </a:r>
            <a:r>
              <a:rPr b="1" lang="ru-RU" sz="1600" spc="-1" strike="noStrike">
                <a:solidFill>
                  <a:srgbClr val="0000cc"/>
                </a:solidFill>
                <a:latin typeface="Century Schoolbook"/>
              </a:rPr>
              <a:t>светочувствительные и нервные элементы сетчатки глаза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, а из эктодермы в области глазных плакод и окружающей мезенхимы — все остальные структуры глаза. В силу этого зрительный нерв (</a:t>
            </a:r>
            <a:r>
              <a:rPr b="1" lang="en-US" sz="1600" spc="-1" strike="noStrike">
                <a:solidFill>
                  <a:srgbClr val="000000"/>
                </a:solidFill>
                <a:latin typeface="Century Schoolbook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пара) не является типичным черепным нервом, а представляет собой специальное образование, связывающее сетчатку с головным мозгом, а сама сетчатка фактически является частью стенки нервной трубки, отделившейся от нее в процессе развития и выселившейся на периферию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6" name="Picture 5" descr=""/>
          <p:cNvPicPr/>
          <p:nvPr/>
        </p:nvPicPr>
        <p:blipFill>
          <a:blip r:embed="rId3"/>
          <a:stretch/>
        </p:blipFill>
        <p:spPr>
          <a:xfrm>
            <a:off x="214200" y="0"/>
            <a:ext cx="4786560" cy="3338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5" descr="250px-Brain_human_normal_inferior_vie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8120" y="1341360"/>
            <a:ext cx="3008520" cy="35877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6" descr=""/>
          <p:cNvPicPr/>
          <p:nvPr/>
        </p:nvPicPr>
        <p:blipFill>
          <a:blip r:embed="rId3"/>
          <a:stretch/>
        </p:blipFill>
        <p:spPr>
          <a:xfrm>
            <a:off x="214200" y="1143000"/>
            <a:ext cx="4498920" cy="4572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010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5f6d"/>
                </a:solidFill>
                <a:latin typeface="Century Schoolbook"/>
              </a:rPr>
              <a:t>ФОРМИРОВАНИЕ КОНЕЧНОГО МОЗГ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572000" y="1076400"/>
            <a:ext cx="428616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дновременно с развитием конечного мозга начинают формироваться их ростральные выросты, из которых впоследствии образуются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обонятельные луковицы и обонятельные тракты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пара черепных нервов). Они также не являются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типичными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черепными нервами, а представляют собой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проводниковый отдел обонятельного анализатор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250560" y="4797360"/>
            <a:ext cx="878508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Конечный мозг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с самого начала развития закладывается как парное образование в виде двух будущих полушарий. Внутри полушарий образуются парные полости —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боковые желудочки мозг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2" name="Picture 5" descr="clip_image012_0000"/>
          <p:cNvPicPr/>
          <p:nvPr/>
        </p:nvPicPr>
        <p:blipFill>
          <a:blip r:embed="rId1"/>
          <a:stretch/>
        </p:blipFill>
        <p:spPr>
          <a:xfrm>
            <a:off x="1619280" y="1052640"/>
            <a:ext cx="5905440" cy="37036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5" descr="image084"/>
          <p:cNvPicPr/>
          <p:nvPr/>
        </p:nvPicPr>
        <p:blipFill>
          <a:blip r:embed="rId1"/>
          <a:stretch/>
        </p:blipFill>
        <p:spPr>
          <a:xfrm>
            <a:off x="0" y="1989000"/>
            <a:ext cx="4419720" cy="26193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4214880" y="1076400"/>
            <a:ext cx="45720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В период с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6-й до 12-й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недели эмбриогенеза полушария головного мозга интенсивно растут, значительно опережая в росте все другие отделы головного мозга. В результате полушария, как плащ, покрывают эти другие отделы. Часть нейробластов мигрирует к поверхности стенки переднего мозгового пузыря, образуя в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дальнейшем кору мозга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4427280" y="1076400"/>
            <a:ext cx="460836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лой, в котором происходит размножени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нейробластов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располагается наиболее глубоко, поэтому в процессе развития вновь образованны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нейробласты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мигрируют наружу в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антийный сл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где они постепенно приобретают типичную для себя форму и занимают определенное положение в формирующейся коре мозга. Миграцию нейробластов направляют клетки радиальной глии, образующиеся из спонгиобластов эпендимы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6" name="Picture 5" descr="tmp6E-73.jpg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924000" y="1076400"/>
            <a:ext cx="521964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ейроны в процессе миграции как бы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«скользят»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доль отростков этих глиальных клеток из глубины мантийного слоя по направлению к поверхности мозгового пузыря. Нейробласты, мигрировавшие первыми, заполняют сначала глубинные слои будущей коры, а клетки, образовавшиеся позднее, располагаются в более верхних слоях. Таким образом, кора головного мозга формируется как бы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«изнутри кнаружи»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и этом время образования нейрона определяет его принадлежность к определенным слоям коры, а значит и его функц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8" name="Picture 4" descr="tmp6E-73.jpg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0" y="4869000"/>
            <a:ext cx="8786880" cy="17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Здесь показано постепенное утолщение стенки развивающегося мозга. На самой ранней стадии (1) стенка содержит только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«псевдомногослойный»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эпителий, в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ентрикулярной зоне (ВЗ)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которого находятся тела клеток, а в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краевой зоне (КЗ)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только вытянутые наружу отростки. Когда некоторые из клеток теряют способность синтезировать ДНК и выходят из митотического цикла (2), они образуют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торой слой - промежуточную зону (ПЗ).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0" name="Picture 5" descr="tmp6E-72.jpg"/>
          <p:cNvPicPr/>
          <p:nvPr/>
        </p:nvPicPr>
        <p:blipFill>
          <a:blip r:embed="rId1"/>
          <a:stretch/>
        </p:blipFill>
        <p:spPr>
          <a:xfrm>
            <a:off x="108000" y="0"/>
            <a:ext cx="8351640" cy="4809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0" y="450072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переднем мозгу клетки, проходящие через эту зону, агрегируют с образованием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корковой пластинки (КП) - области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в которой развиваются различные слои коры головного мозга (3). На самой поздней стадии (4) исходная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ентрикулярная зон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стается в виде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эпендимы - выстилки желудочков мозг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а относительно свободная от клеток область между этой выстилкой и корой становится подкорковым белым веществом, сквозь которое нервные волокна входят в кору и выходят из нее.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Субвентрикулярная зона (СЗ) является вторичной зоной размножени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где образуются многие глиальные клетки и некоторые нейроны переднего мозг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12" name="Picture 4" descr="tmp6E-72.jpg"/>
          <p:cNvPicPr/>
          <p:nvPr/>
        </p:nvPicPr>
        <p:blipFill>
          <a:blip r:embed="rId1"/>
          <a:stretch/>
        </p:blipFill>
        <p:spPr>
          <a:xfrm>
            <a:off x="285840" y="0"/>
            <a:ext cx="7599240" cy="43689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723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 КОНЦУ 2-ГО МЕСЯЦА НЕЙРОБЛАСТЫ В СТЕНКЕ 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ПОЛУШАРИЙ НАЧИНАЮТ МИГРИРОВАТЬ ИЗ ПЛАЩЕВОГО СЛОЯ В ЛЕЖАЩИЙ ВЫШЕ КРАЕВОЙ СЛОЙ И ОБРАЗУЮТ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ЗДЕСЬ КОРКОВУЮ ПЛАСТИНКУ, ПРЕДСТАВЛЯЮЩУЮ СОБОЙ ЗАКЛАДКУ СЕРОГО ВЕЩЕСТВА. ВЫДЕЛЯЮТ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ТРИ ВОЛНЫ МИГРАЦИИ (СПУРТА):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4" name="AutoShape 3"/>
          <p:cNvSpPr/>
          <p:nvPr/>
        </p:nvSpPr>
        <p:spPr>
          <a:xfrm>
            <a:off x="826920" y="3657600"/>
            <a:ext cx="2305080" cy="2286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 этом формируются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YI -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4"/>
          <p:cNvSpPr/>
          <p:nvPr/>
        </p:nvSpPr>
        <p:spPr>
          <a:xfrm>
            <a:off x="5724360" y="3657600"/>
            <a:ext cx="2376720" cy="2286000"/>
          </a:xfrm>
          <a:prstGeom prst="roundRect">
            <a:avLst>
              <a:gd name="adj" fmla="val 13745"/>
            </a:avLst>
          </a:prstGeom>
          <a:noFill/>
          <a:ln w="38160">
            <a:solidFill>
              <a:srgbClr val="fff3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 этом формируются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Y; III;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26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2611c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2611c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2340f"/>
              </a:gs>
              <a:gs pos="50000">
                <a:srgbClr val="d2611c"/>
              </a:gs>
              <a:gs pos="100000">
                <a:srgbClr val="72340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53e12"/>
              </a:gs>
              <a:gs pos="100000">
                <a:srgbClr val="d2611c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b435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3b435b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02431"/>
              </a:gs>
              <a:gs pos="50000">
                <a:srgbClr val="3b435b"/>
              </a:gs>
              <a:gs pos="100000">
                <a:srgbClr val="20243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252b3a"/>
              </a:gs>
              <a:gs pos="100000">
                <a:srgbClr val="3b435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529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e8637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8637">
                  <a:alpha val="32156"/>
                </a:srgbClr>
              </a:gs>
              <a:gs pos="100000">
                <a:srgbClr val="763e1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89491e"/>
              </a:gs>
              <a:gs pos="50000">
                <a:srgbClr val="fe8637"/>
              </a:gs>
              <a:gs pos="100000">
                <a:srgbClr val="89491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a15523"/>
              </a:gs>
              <a:gs pos="100000">
                <a:srgbClr val="fe8637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539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544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Text Box 38"/>
          <p:cNvSpPr/>
          <p:nvPr/>
        </p:nvSpPr>
        <p:spPr>
          <a:xfrm>
            <a:off x="1403280" y="227664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7 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9"/>
          <p:cNvSpPr/>
          <p:nvPr/>
        </p:nvSpPr>
        <p:spPr>
          <a:xfrm>
            <a:off x="3913200" y="2205000"/>
            <a:ext cx="11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-10 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0"/>
          <p:cNvSpPr/>
          <p:nvPr/>
        </p:nvSpPr>
        <p:spPr>
          <a:xfrm>
            <a:off x="6316560" y="2205000"/>
            <a:ext cx="124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ет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-14 н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41"/>
          <p:cNvSpPr/>
          <p:nvPr/>
        </p:nvSpPr>
        <p:spPr>
          <a:xfrm>
            <a:off x="4211640" y="443700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261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7924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ГОЛОВНОЙ МОЗГ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00720" y="428400"/>
            <a:ext cx="46432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Но, как выяснилось позже, это не так. Например, мозг И. С. Тургенева весил 2012 г, а мозг Анатоля Франса - 1017. Самый тяжелый мозг - 2900 г - был обнаружен у индивида, который прожил всего 3 года. Мозг его в функциональном отношении был неполноценным. Итак, пока что прямой зависимости между массой мозга и умственными способностями человека не выявлено. Но выяснена предельная масса мозга (900 г), за чертой которой он считается неполноценны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Всего степень развития мозга оценивают по соотношению массы спинного мозга к головному.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Так, у </a:t>
            </a:r>
            <a:r>
              <a:rPr b="1" lang="ru-RU" sz="2000" spc="-1" strike="noStrike">
                <a:solidFill>
                  <a:srgbClr val="9900cc"/>
                </a:solidFill>
                <a:latin typeface="Century Schoolbook"/>
              </a:rPr>
              <a:t>кошек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но - </a:t>
            </a:r>
            <a:r>
              <a:rPr b="1" lang="ru-RU" sz="2000" spc="-1" strike="noStrike">
                <a:solidFill>
                  <a:srgbClr val="9900cc"/>
                </a:solidFill>
                <a:latin typeface="Century Schoolbook"/>
              </a:rPr>
              <a:t>1: 1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у </a:t>
            </a:r>
            <a:r>
              <a:rPr b="1" lang="ru-RU" sz="2000" spc="-1" strike="noStrike">
                <a:solidFill>
                  <a:srgbClr val="244583"/>
                </a:solidFill>
                <a:latin typeface="Century Schoolbook"/>
              </a:rPr>
              <a:t>собак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- </a:t>
            </a:r>
            <a:r>
              <a:rPr b="1" lang="ru-RU" sz="2000" spc="-1" strike="noStrike">
                <a:solidFill>
                  <a:srgbClr val="244583"/>
                </a:solidFill>
                <a:latin typeface="Century Schoolbook"/>
              </a:rPr>
              <a:t>1: 3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у </a:t>
            </a:r>
            <a:r>
              <a:rPr b="1" lang="ru-RU" sz="2000" spc="-1" strike="noStrike">
                <a:solidFill>
                  <a:srgbClr val="ffc000"/>
                </a:solidFill>
                <a:latin typeface="Century Schoolbook"/>
              </a:rPr>
              <a:t>низших обезьян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1" lang="ru-RU" sz="2000" spc="-1" strike="noStrike">
                <a:solidFill>
                  <a:srgbClr val="ffc000"/>
                </a:solidFill>
                <a:latin typeface="Century Schoolbook"/>
              </a:rPr>
              <a:t>1: 16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у </a:t>
            </a:r>
            <a:r>
              <a:rPr b="1" lang="ru-RU" sz="2000" spc="-1" strike="noStrike">
                <a:solidFill>
                  <a:srgbClr val="b32c16"/>
                </a:solidFill>
                <a:latin typeface="Century Schoolbook"/>
              </a:rPr>
              <a:t>человек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- </a:t>
            </a:r>
            <a:r>
              <a:rPr b="1" lang="ru-RU" sz="2000" spc="-1" strike="noStrike">
                <a:solidFill>
                  <a:srgbClr val="b32c16"/>
                </a:solidFill>
                <a:latin typeface="Century Schoolbook"/>
              </a:rPr>
              <a:t>1: 50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6" descr=""/>
          <p:cNvPicPr/>
          <p:nvPr/>
        </p:nvPicPr>
        <p:blipFill>
          <a:blip r:embed="rId1"/>
          <a:stretch/>
        </p:blipFill>
        <p:spPr>
          <a:xfrm>
            <a:off x="0" y="857160"/>
            <a:ext cx="4740120" cy="50007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143240" y="571680"/>
            <a:ext cx="4500720" cy="57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Помимо структур коры, из субвентрикулярной зоны образуются  базальные ганглии. Ганглионарный бугорок или ганглиозный бугорок — временная структура, присутствующая в мозге на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эмбриональн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фетально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стадиях развития. Ганглионарный бугорок находится в вентральной части </a:t>
            </a:r>
            <a:r>
              <a:rPr b="0" lang="ru-RU" sz="20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конечного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вдаваясь в полость желудочков, и является зачатком базальных ганглиев. У человека, он также служит источником нейронов дорсального таламуса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Во второй половине беременности, ганглионарный бугорок производит олигодендроциты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3" name="Picture 4" descr="330px-Interneuron-radial_glial_interactions_in_the_developing_cerebral_cortex"/>
          <p:cNvPicPr/>
          <p:nvPr/>
        </p:nvPicPr>
        <p:blipFill>
          <a:blip r:embed="rId4"/>
          <a:stretch/>
        </p:blipFill>
        <p:spPr>
          <a:xfrm>
            <a:off x="0" y="928800"/>
            <a:ext cx="4059360" cy="57322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330px-Ganglionic_eminence_mice_E12"/>
          <p:cNvPicPr/>
          <p:nvPr/>
        </p:nvPicPr>
        <p:blipFill>
          <a:blip r:embed="rId1"/>
          <a:stretch/>
        </p:blipFill>
        <p:spPr>
          <a:xfrm>
            <a:off x="1785960" y="0"/>
            <a:ext cx="5616720" cy="41878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0" y="4142880"/>
            <a:ext cx="91440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Ганглионарный бугорок подразделяют на три части —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латеральны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медиальны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и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каудальный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ганглионарные бугорки (англ.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lateral (LGE), medial (MGE), caudal ganglionic eminence (CDE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). Отличие трёх ганглионарных бугорков в том, что они поставляют разные типы клеток в разные зоны головного мозга. Большинство нейронов вентрального стриатума возникают из прекурсоров, зародившихся в латеральном ганглиозном бугорке. Ганглионарный бугорок служит специфическим источником нейронов для больших ассоциативных ядер таламуса, таких как задний бугорок и медиодорсальное ядро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00360" y="1076400"/>
            <a:ext cx="442908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 началу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 4-г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месяца внутриутробной жизни (т. е. чуть более, чем через 100 дней с момента начала развития организма) интенсивное деление нейробластов внутреннего плаща приводит к тому, что у зародыша человека число нервных клеток уже приближается к их </a:t>
            </a:r>
            <a:r>
              <a:rPr b="1" lang="ru-RU" sz="2400" spc="-1" strike="noStrike">
                <a:solidFill>
                  <a:srgbClr val="0000cc"/>
                </a:solidFill>
                <a:latin typeface="Century Schoolbook"/>
              </a:rPr>
              <a:t>числу в коре у новорожденног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57" name="Picture 3" descr="Этапы развития головного мозга плода."/>
          <p:cNvPicPr/>
          <p:nvPr/>
        </p:nvPicPr>
        <p:blipFill>
          <a:blip r:embed="rId1"/>
          <a:stretch/>
        </p:blipFill>
        <p:spPr>
          <a:xfrm>
            <a:off x="0" y="981000"/>
            <a:ext cx="4572000" cy="51134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4"/>
          <p:cNvSpPr/>
          <p:nvPr/>
        </p:nvSpPr>
        <p:spPr>
          <a:xfrm>
            <a:off x="108000" y="333360"/>
            <a:ext cx="90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ирование коры больших полуш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1" descr="image038"/>
          <p:cNvPicPr/>
          <p:nvPr/>
        </p:nvPicPr>
        <p:blipFill>
          <a:blip r:embed="rId1"/>
          <a:stretch/>
        </p:blipFill>
        <p:spPr>
          <a:xfrm>
            <a:off x="0" y="981000"/>
            <a:ext cx="4849920" cy="58770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 txBox="1"/>
          <p:nvPr/>
        </p:nvSpPr>
        <p:spPr>
          <a:xfrm>
            <a:off x="4642920" y="1076400"/>
            <a:ext cx="428652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озревание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нейробластов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происходит гораздо медленнее, чем их пролиферация (накопление количества), и продолжается после рождения в течение первых лет жизни. В коре мозга раньше всего созревают крупные пирамидные клетки ее нижнего этажа (проекционные нейроны), связывающие кору с нижележащими отделами головного и спинного мозга. Их можно наблюдать уже на 8-й неделе эмбриогенез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2905200" y="1881360"/>
            <a:ext cx="3333600" cy="30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7"/>
          <p:cNvSpPr/>
          <p:nvPr/>
        </p:nvSpPr>
        <p:spPr>
          <a:xfrm>
            <a:off x="2905200" y="1881360"/>
            <a:ext cx="3333600" cy="30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4643280" y="0"/>
            <a:ext cx="45007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К 25-й неделе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внутриутробног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развития в корковой пластинке плаща можно различить цитоархитектонические слои. Рост и развитие плаща приводит к образованию борозд и извилин (складок) на поверхности конечного мозга, которые формируются на 28—З0-й неделях. Окончательное завершение формирования рельефа полушарий наблюдается в постнатальном периоде примерно к 7-8 годам жизни ребен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4" name="Picture 4" descr="Этапы развития головного мозга плода."/>
          <p:cNvPicPr/>
          <p:nvPr/>
        </p:nvPicPr>
        <p:blipFill>
          <a:blip r:embed="rId1"/>
          <a:stretch/>
        </p:blipFill>
        <p:spPr>
          <a:xfrm>
            <a:off x="0" y="981000"/>
            <a:ext cx="5021280" cy="561672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971280" y="380880"/>
            <a:ext cx="81723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5f6d"/>
                </a:solidFill>
                <a:latin typeface="Century Schoolbook"/>
              </a:rPr>
              <a:t>ПРЕОБРАЗОВАНИЯ ПРОИСХОДЯЩИЕ В КОНЕЧНОМ МОЗГЕ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786200" y="999720"/>
            <a:ext cx="3929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На I стадии формируются </a:t>
            </a:r>
            <a:r>
              <a:rPr b="0" lang="ru-RU" sz="1900" spc="-1" strike="noStrike">
                <a:solidFill>
                  <a:srgbClr val="0000cc"/>
                </a:solidFill>
                <a:latin typeface="Verdana"/>
                <a:ea typeface="Verdana"/>
              </a:rPr>
              <a:t>обонятельные структуры и лимбическая система (палеокортекс),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 расположенная вокруг краев развивающегося конечного мозга;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на II стадии </a:t>
            </a:r>
            <a:r>
              <a:rPr b="0" lang="ru-RU" sz="1900" spc="-1" strike="noStrike">
                <a:solidFill>
                  <a:srgbClr val="0000cc"/>
                </a:solidFill>
                <a:latin typeface="Verdana"/>
                <a:ea typeface="Verdana"/>
              </a:rPr>
              <a:t>стенки переднего мозга утолщаются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 благодаря интенсивной пролиферации нейробластов, </a:t>
            </a:r>
            <a:r>
              <a:rPr b="0" lang="ru-RU" sz="1900" spc="-1" strike="noStrike">
                <a:solidFill>
                  <a:srgbClr val="0000cc"/>
                </a:solidFill>
                <a:latin typeface="Verdana"/>
                <a:ea typeface="Verdana"/>
              </a:rPr>
              <a:t>возникают зачатки базальных ганглиев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;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наконец, на III стадии формируется </a:t>
            </a:r>
            <a:r>
              <a:rPr b="0" lang="ru-RU" sz="1900" spc="-1" strike="noStrike">
                <a:solidFill>
                  <a:srgbClr val="0000cc"/>
                </a:solidFill>
                <a:latin typeface="Verdana"/>
                <a:ea typeface="Verdana"/>
              </a:rPr>
              <a:t>кора полушарий большого мозга (неокортекс)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6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  <a:ea typeface="Verdana"/>
              </a:rPr>
              <a:t>В связи с активным митотическим делением нейробластов неокортекса, когда скорость образования клеток достигает 250 000 в 1 мин, начинается формирование мозговых борозд и извилин полушарий большого мозга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572000" cy="300348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68137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НЕКОТОРЫЕ ПАРАМЕТРЫ СТРУКТУР ГОЛОВНОГО МОЗГА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999880" y="1600200"/>
            <a:ext cx="55724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Масса головного мозга новорожденного ребенка относительно велика, она составляет в среднем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390 г (340 - 430)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у мальчиков и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355 г (330 - 370)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у девочек (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12 - 13 %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массы тела, у взрослого человека - около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2,5%).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Отношение массы мозга новорожденного к массе его тела в пять раз больше, чем у взрослого, соответственно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1: 8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1:40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. В течение первого года жизни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масса мозга удваивается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, а к 3-4 годам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утраивается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, затем она медленно увеличивается и к 20 - 29 годам достигает максимальных цифр (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1355 г у мужчин и 1220 г у женщин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К 20 - 25 годам и в последующем, вплоть до 60 лет у мужчин и 55 лет у женщин, масса мозга существенно не изменяется, после 55 - 60 лет она несколько уменьшается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До 4 лет жизни головной мозг ребенка растет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равномерно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в высоту, длину и ширину, в дальнейшем преобладает рост мозга в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высоту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. Наиболее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быстро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 растут </a:t>
            </a:r>
            <a:r>
              <a:rPr b="1" lang="ru-RU" sz="1700" spc="-1" strike="noStrike">
                <a:solidFill>
                  <a:srgbClr val="0000cc"/>
                </a:solidFill>
                <a:latin typeface="Century Schoolbook"/>
              </a:rPr>
              <a:t>лобная и теменная доли</a:t>
            </a:r>
            <a:r>
              <a:rPr b="1" lang="ru-RU" sz="1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70" name="Picture 5" descr=""/>
          <p:cNvPicPr/>
          <p:nvPr/>
        </p:nvPicPr>
        <p:blipFill>
          <a:blip r:embed="rId1"/>
          <a:stretch/>
        </p:blipFill>
        <p:spPr>
          <a:xfrm>
            <a:off x="0" y="1000080"/>
            <a:ext cx="3143160" cy="23576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4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3327480" cy="407196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3286080" y="285480"/>
            <a:ext cx="521496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У новорожденного ребенка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лучше развиты филогенетически более старые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отделы мозга. Масса ствола мозга равна 10 - 10,5 г (около 2,7% массы тела, у взрослого человека - около 2%)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К моменту рождения ребенка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продолговатый мозг, мост и их ядра развиты хорошо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, масса первого составляет около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4 - 5 г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, второго -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3,5 - 4 г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Хуже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развит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мозжечок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, особенно его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полушария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, лучше - червь, слабо выражены извилины и борозды полушарий мозжечка. Масса мозжечка новорожденного ребенка не превышает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20 г (5,4% массы тела, у взрослого - 10%).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В течение первых 5 месяцев жизни масса мозжечка увеличивается в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три раза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, в 9 месяцев, когда ребенок умеет стоять и начинает ходить, 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в четыре раза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. Наиболее интенсивно развиваются полушария мозжечка</a:t>
            </a: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285840" y="214200"/>
            <a:ext cx="850104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ромежуточн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у новорожденного развит также относительно хорошо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Формирование борозд и извилин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начинается у плода начиная с 5-го месяца развития. У 7- месячного плода уже заметны борозды и извилины, к моменту рождения они развиты полностью (Ф. И. Валькер, 1951), однако ветви основных борозд и мелкие извилины выражены слабо. Формирование рельефа полушарий продолжается в течение первых 6-7 лет жизни, борозды становятся глубже, извилины между ними -рельефнее (В. В. Бунак, 1936)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 новорожденного ребенка наиболе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развиты височные доли и обонятельный мозг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слабее - лобные. У новорожденного ребенка кора полушарий большого мозга не полностью дифференцирован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Желудочки мозг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новорожденного ребенка относительно крупнее, чем у взрослого человека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Твердая оболочк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головного мозга новорожденного ребенка тонкая, плотно сращена с костями черепа, ее отростки развиты слабо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Синусы тонкостенные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относительно широкие. После 10 лет строение и топография синусов такие же, как у взрослого.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аутинная и мягкая оболоч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головного и спинного мозга у новорожденного тонкие, нежны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Подпаутинное пространство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тносительно широкое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Нижний колонтитул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3048120" cy="3000240"/>
          </a:xfrm>
          <a:prstGeom prst="rect">
            <a:avLst/>
          </a:prstGeom>
          <a:ln w="0">
            <a:noFill/>
          </a:ln>
        </p:spPr>
      </p:pic>
      <p:sp>
        <p:nvSpPr>
          <p:cNvPr id="576" name="TextBox 3"/>
          <p:cNvSpPr/>
          <p:nvPr/>
        </p:nvSpPr>
        <p:spPr>
          <a:xfrm>
            <a:off x="428760" y="34290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ги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2"/>
          <a:stretch/>
        </p:blipFill>
        <p:spPr>
          <a:xfrm>
            <a:off x="3643200" y="642960"/>
            <a:ext cx="4762440" cy="3171960"/>
          </a:xfrm>
          <a:prstGeom prst="rect">
            <a:avLst/>
          </a:prstGeom>
          <a:ln w="0">
            <a:noFill/>
          </a:ln>
        </p:spPr>
      </p:pic>
      <p:sp>
        <p:nvSpPr>
          <p:cNvPr id="578" name="TextBox 5"/>
          <p:cNvSpPr/>
          <p:nvPr/>
        </p:nvSpPr>
        <p:spPr>
          <a:xfrm>
            <a:off x="4214880" y="4000680"/>
            <a:ext cx="43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сэнцефалия — одна из аномалий развития: сглаживание извилин в коре больших полушарий мозга, которое возникает в итоге недостаточной миграции из нервной первичной трубки нейробластов. Лиссенцефалия может сопровождаться агирией - отсутствием извилин в моз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"/>
          <p:cNvPicPr/>
          <p:nvPr/>
        </p:nvPicPr>
        <p:blipFill>
          <a:blip r:embed="rId3"/>
          <a:stretch/>
        </p:blipFill>
        <p:spPr>
          <a:xfrm>
            <a:off x="0" y="3952800"/>
            <a:ext cx="3867120" cy="2905200"/>
          </a:xfrm>
          <a:prstGeom prst="rect">
            <a:avLst/>
          </a:prstGeom>
          <a:ln w="0">
            <a:noFill/>
          </a:ln>
        </p:spPr>
      </p:pic>
      <p:sp>
        <p:nvSpPr>
          <p:cNvPr id="580" name="TextBox 7"/>
          <p:cNvSpPr/>
          <p:nvPr/>
        </p:nvSpPr>
        <p:spPr>
          <a:xfrm>
            <a:off x="785880" y="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омалии развития головного моз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356840" y="0"/>
            <a:ext cx="65674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РАЗВИТИЕ ГОЛОВНОГО МОЗГ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284720" y="691920"/>
            <a:ext cx="450216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Зачаток нервной системы начинает развиваться еще в конце стади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гаструлы.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Клеточный материал эктодермы, расположенный на дорсальной поверхности зародыша,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утолщается, образу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едуллярную пластинку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Эта пластинка ограничивается с боков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едуллярными валикам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Дробление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клеток медуллярной пластинки (медуллобластов)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едуллярных валиков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приводит к изгибанию пластинки в желоб, а затем к смыканию краев желоба 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образованию медуллярной труб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 При соединении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медуллярных валиков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 образуется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ганглиозная пластина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, которая затем делится на </a:t>
            </a:r>
            <a:r>
              <a:rPr b="1" lang="ru-RU" sz="2000" spc="-1" strike="noStrike">
                <a:solidFill>
                  <a:srgbClr val="0000cc"/>
                </a:solidFill>
                <a:latin typeface="Century Schoolbook"/>
              </a:rPr>
              <a:t>ганглиозные валики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6" descr="http://classconnection.s3.amazonaws.com/101077/flashcards/718838/jpg/nt.jpg"/>
          <p:cNvPicPr/>
          <p:nvPr/>
        </p:nvPicPr>
        <p:blipFill>
          <a:blip r:embed="rId1"/>
          <a:stretch/>
        </p:blipFill>
        <p:spPr>
          <a:xfrm>
            <a:off x="0" y="1125360"/>
            <a:ext cx="4572000" cy="50310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4000680" y="0"/>
            <a:ext cx="4643280" cy="6051600"/>
          </a:xfrm>
          <a:prstGeom prst="rect">
            <a:avLst/>
          </a:prstGeom>
          <a:ln w="0">
            <a:noFill/>
          </a:ln>
        </p:spPr>
      </p:pic>
      <p:sp>
        <p:nvSpPr>
          <p:cNvPr id="582" name="Нижний колонтитул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214200" y="0"/>
            <a:ext cx="3357720" cy="3586320"/>
          </a:xfrm>
          <a:prstGeom prst="rect">
            <a:avLst/>
          </a:prstGeom>
          <a:ln w="0">
            <a:noFill/>
          </a:ln>
        </p:spPr>
      </p:pic>
      <p:sp>
        <p:nvSpPr>
          <p:cNvPr id="584" name="TextBox 3"/>
          <p:cNvSpPr/>
          <p:nvPr/>
        </p:nvSpPr>
        <p:spPr>
          <a:xfrm>
            <a:off x="285840" y="357192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дроцефалия вро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3"/>
          <a:stretch/>
        </p:blipFill>
        <p:spPr>
          <a:xfrm>
            <a:off x="214200" y="4000680"/>
            <a:ext cx="3714840" cy="26445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229600" cy="494820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5" descr="ANd9GcSFtsmcjR_FvHSd3L7k8fpjomHyguc6BLx3MDbguuMkXEJxMPc&amp;t=1&amp;usg=__KmkE7MaavPbJKbU3YKoX0OKqnBY="/>
          <p:cNvPicPr/>
          <p:nvPr/>
        </p:nvPicPr>
        <p:blipFill>
          <a:blip r:embed="rId1"/>
          <a:stretch/>
        </p:blipFill>
        <p:spPr>
          <a:xfrm>
            <a:off x="179280" y="189000"/>
            <a:ext cx="3888000" cy="27874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1" descr="0x01 graphic"/>
          <p:cNvPicPr/>
          <p:nvPr/>
        </p:nvPicPr>
        <p:blipFill>
          <a:blip r:embed="rId2"/>
          <a:stretch/>
        </p:blipFill>
        <p:spPr>
          <a:xfrm>
            <a:off x="4500720" y="333360"/>
            <a:ext cx="4103640" cy="41720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3" descr="0x01 graphic"/>
          <p:cNvPicPr/>
          <p:nvPr/>
        </p:nvPicPr>
        <p:blipFill>
          <a:blip r:embed="rId3"/>
          <a:stretch/>
        </p:blipFill>
        <p:spPr>
          <a:xfrm>
            <a:off x="0" y="3141720"/>
            <a:ext cx="4321080" cy="34970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ижний колонтитул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5060880" cy="3357360"/>
          </a:xfrm>
          <a:prstGeom prst="rect">
            <a:avLst/>
          </a:prstGeom>
          <a:ln w="0">
            <a:noFill/>
          </a:ln>
        </p:spPr>
      </p:pic>
      <p:sp>
        <p:nvSpPr>
          <p:cNvPr id="592" name="TextBox 4"/>
          <p:cNvSpPr/>
          <p:nvPr/>
        </p:nvSpPr>
        <p:spPr>
          <a:xfrm>
            <a:off x="428760" y="4500720"/>
            <a:ext cx="4143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нцефалоцеле - черепно-мозговая грыжа, содержащая оболочки и вещество головного мозга, но не включающая его желуд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"/>
          <p:cNvPicPr/>
          <p:nvPr/>
        </p:nvPicPr>
        <p:blipFill>
          <a:blip r:embed="rId2"/>
          <a:stretch/>
        </p:blipFill>
        <p:spPr>
          <a:xfrm>
            <a:off x="5429160" y="92880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594" name="TextBox 6"/>
          <p:cNvSpPr/>
          <p:nvPr/>
        </p:nvSpPr>
        <p:spPr>
          <a:xfrm>
            <a:off x="5857920" y="4572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р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2411280" y="907920"/>
            <a:ext cx="3268800" cy="393876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2700360" y="4869000"/>
            <a:ext cx="2663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.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, in General, some people without a brain somehow quite well off ;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eca26c5e5777e1c19e64f18ccbc"/>
          <p:cNvPicPr/>
          <p:nvPr/>
        </p:nvPicPr>
        <p:blipFill>
          <a:blip r:embed="rId1"/>
          <a:stretch/>
        </p:blipFill>
        <p:spPr>
          <a:xfrm>
            <a:off x="971640" y="17640"/>
            <a:ext cx="6840360" cy="6840360"/>
          </a:xfrm>
          <a:prstGeom prst="rect">
            <a:avLst/>
          </a:prstGeom>
          <a:ln w="0">
            <a:noFill/>
          </a:ln>
        </p:spPr>
      </p:pic>
      <p:sp>
        <p:nvSpPr>
          <p:cNvPr id="598" name="WordArt 3"/>
          <p:cNvSpPr txBox="1"/>
          <p:nvPr/>
        </p:nvSpPr>
        <p:spPr>
          <a:xfrm>
            <a:off x="1143000" y="27432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2611c"/>
                    </a:gs>
                    <a:gs pos="100000">
                      <a:srgbClr val="fe8637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2611c"/>
                  </a:gs>
                  <a:gs pos="100000">
                    <a:srgbClr val="fe8637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7812000" y="0"/>
            <a:ext cx="1332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0" y="0"/>
            <a:ext cx="97164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Figure 21-17. The main pathways of neural crest cell migration."/>
          <p:cNvPicPr/>
          <p:nvPr/>
        </p:nvPicPr>
        <p:blipFill>
          <a:blip r:embed="rId1"/>
          <a:stretch/>
        </p:blipFill>
        <p:spPr>
          <a:xfrm>
            <a:off x="0" y="1268280"/>
            <a:ext cx="5149800" cy="38894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788000" y="404640"/>
            <a:ext cx="4356000" cy="59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И так, та часть клеток нервной пластинки, которая не входит в состав ни нервной трубки, ни кожной эктодермы, а образует скопления по бокам от нервной трубки - рыхлый тяж, располагающийся между нервной трубкой и кожной эктодермой, — это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нервный гребень (или ганглиозная пластинка)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Нервный гребень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дает начало </a:t>
            </a:r>
            <a:r>
              <a:rPr b="1" lang="ru-RU" sz="1900" spc="-1" strike="noStrike">
                <a:solidFill>
                  <a:srgbClr val="669900"/>
                </a:solidFill>
                <a:latin typeface="Century Schoolbook"/>
              </a:rPr>
              <a:t>нейронам чувствительных и автономных ганглиев, клеткам мягкой мозговой и паутинной оболочек мозга и некоторым видам глии: нейролеммоцитам (шванновским клеткам), клеткам-сателлитам ганглиев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. Из </a:t>
            </a:r>
            <a:r>
              <a:rPr b="1" lang="ru-RU" sz="1900" spc="-1" strike="noStrike">
                <a:solidFill>
                  <a:srgbClr val="0000cc"/>
                </a:solidFill>
                <a:latin typeface="Century Schoolbook"/>
              </a:rPr>
              <a:t>нервного гребня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 развиваются также клетки </a:t>
            </a:r>
            <a:r>
              <a:rPr b="1" lang="ru-RU" sz="1900" spc="-1" strike="noStrike">
                <a:solidFill>
                  <a:srgbClr val="669900"/>
                </a:solidFill>
                <a:latin typeface="Century Schoolbook"/>
              </a:rPr>
              <a:t>мозгового вещества надпочечников, меланоциты кожи, часть клеток APUD-системы, сенсорные клетки каротидных телец</a:t>
            </a:r>
            <a:r>
              <a:rPr b="1" lang="ru-RU" sz="19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НЕРВНАЯ ТРУБ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932000" y="499680"/>
            <a:ext cx="421164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на ранних стадиях эмбриогенеза представляет собой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многорядный нейроэпителий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, состоящий из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вентрикулярных, или нейроэпителиальных клеток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. В дальнейшем в нервной трубке дифференцируется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4 концентрических зоны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внутренняя - вентрикулярная (или эпендимная) зон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вокруг нее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–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субвентрикулярная зона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затем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промежуточная (или плащевая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, или же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мантийная, зона)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и, наконец,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наружная - краевая (или маргинальная)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зона нервной трубки.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Вентрикулярная (эпендимная), внутренняя, зона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состоит из делящихся клеток цилиндрической формы.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Вентрикулярные (или матричные) клетки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являются предшественниками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нейронов и клеток макроглии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Субвентрикулярная зона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 состоит из клеток, сохраняющих высокую пролиферативную активность и являющихся </a:t>
            </a:r>
            <a:r>
              <a:rPr b="1" lang="ru-RU" sz="1500" spc="-1" strike="noStrike">
                <a:solidFill>
                  <a:srgbClr val="0000cc"/>
                </a:solidFill>
                <a:latin typeface="Century Schoolbook"/>
              </a:rPr>
              <a:t>потомками матричных клеток</a:t>
            </a: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5" descr="tmp6E-71.jpg"/>
          <p:cNvPicPr/>
          <p:nvPr/>
        </p:nvPicPr>
        <p:blipFill>
          <a:blip r:embed="rId1"/>
          <a:stretch/>
        </p:blipFill>
        <p:spPr>
          <a:xfrm>
            <a:off x="324000" y="3316320"/>
            <a:ext cx="4017960" cy="3541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http://www.brainviews.com/abFiles/DrwNeurtube.jpg"/>
          <p:cNvPicPr/>
          <p:nvPr/>
        </p:nvPicPr>
        <p:blipFill>
          <a:blip r:embed="rId2"/>
          <a:stretch/>
        </p:blipFill>
        <p:spPr>
          <a:xfrm>
            <a:off x="250920" y="765000"/>
            <a:ext cx="4667040" cy="2571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428720" y="499680"/>
            <a:ext cx="471492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Промежуточная (плащевая, или мантийная) зон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состоит из клеток, переместившихся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из вентрикулярной и субвентрикулярной зон — нейробластов и глиобластов. Нейробласт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утрачивают способность к делению и в дальнейшем дифференцируются в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 нейрон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Глиобласт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продолжают делиться и дают начало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астроцитам и олигодендроцитам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Способность к делению не утрачивают полностью и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зрелые глиоциты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Новообразование нейронов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прекращается в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раннем постнатальном периоде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скольку число нейронов в головном мозге составляет примерно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1 триллион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, очевидно, в среднем в течение всего пренатального периода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в 1 мин формируется 2,5 миллиона нейронов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з клеток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плащевого слоя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образуются </a:t>
            </a:r>
            <a:r>
              <a:rPr b="1" lang="ru-RU" sz="1800" spc="-1" strike="noStrike">
                <a:solidFill>
                  <a:srgbClr val="0000cc"/>
                </a:solidFill>
                <a:latin typeface="Century Schoolbook"/>
              </a:rPr>
              <a:t>серое вещество спинного и часть серого вещества головного мозга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5" descr="tmp6E-71.jpg"/>
          <p:cNvPicPr/>
          <p:nvPr/>
        </p:nvPicPr>
        <p:blipFill>
          <a:blip r:embed="rId1"/>
          <a:stretch/>
        </p:blipFill>
        <p:spPr>
          <a:xfrm>
            <a:off x="324000" y="3429000"/>
            <a:ext cx="3890880" cy="34290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nature.com/nrn/journal/v8/n5/images/nrn2124-f1.jpg"/>
          <p:cNvPicPr/>
          <p:nvPr/>
        </p:nvPicPr>
        <p:blipFill>
          <a:blip r:embed="rId2"/>
          <a:stretch/>
        </p:blipFill>
        <p:spPr>
          <a:xfrm>
            <a:off x="0" y="0"/>
            <a:ext cx="4770360" cy="376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5"/>
          <p:cNvSpPr/>
          <p:nvPr/>
        </p:nvSpPr>
        <p:spPr>
          <a:xfrm>
            <a:off x="3419640" y="260280"/>
            <a:ext cx="1368360" cy="33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http://3.bp.blogspot.com/-SwLTYi3uAiU/T9kNB6FWx3I/AAAAAAAAAIk/mnRBH2mIFBI/s400/Glia-mediated%2Btranslocation.jpg"/>
          <p:cNvPicPr/>
          <p:nvPr/>
        </p:nvPicPr>
        <p:blipFill>
          <a:blip r:embed="rId1"/>
          <a:stretch/>
        </p:blipFill>
        <p:spPr>
          <a:xfrm>
            <a:off x="0" y="1100160"/>
            <a:ext cx="5508720" cy="48499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788000" y="714240"/>
            <a:ext cx="43560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Маргинальная зона (или краевая вуаль)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формируется из врастающих в нее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аксонов нейробластов и макроглии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и дает начало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белому веществу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. В некоторых областях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головного мозга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клетки плащевого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слоя мигрируют дальше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, образуя </a:t>
            </a:r>
            <a:r>
              <a:rPr b="1" lang="ru-RU" sz="2200" spc="-1" strike="noStrike">
                <a:solidFill>
                  <a:srgbClr val="0000cc"/>
                </a:solidFill>
                <a:latin typeface="Century Schoolbook"/>
              </a:rPr>
              <a:t>кортикальные пластинки — скопления клеток, из которых формируется кора большого мозга и мозжечка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 (т.е. серое вещество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2:22:35Z</dcterms:created>
  <dc:creator>Admin</dc:creator>
  <dc:description/>
  <dc:language>en-US</dc:language>
  <cp:lastModifiedBy>Света</cp:lastModifiedBy>
  <dcterms:modified xsi:type="dcterms:W3CDTF">2017-09-12T16:58:36Z</dcterms:modified>
  <cp:revision>73</cp:revision>
  <dc:subject/>
  <dc:title>PowerPoint Template</dc:title>
</cp:coreProperties>
</file>