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351-2AF5-4A43-9D77-4986F4D0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483-3B23-4251-A6A1-41A3A52B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DD8-FE34-4E92-99D4-D709F5BE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A47-9AAF-4E40-9CC4-2559358D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94D5-03BA-4B05-81E0-F7B7A638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219B-1BE4-483D-B88A-1EAEAB95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1ADF-AA7D-4477-BEDD-E1E9E5D3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2645-664C-4163-9C39-C94D25E8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8BC6-0AD6-440B-96DB-C270B9FB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2BDE-0B45-44D0-A53A-E52816FD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BB0B-CF5B-4ECC-8DC4-054E3E37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704-5D15-446F-B50A-5920FF37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9938-2DFE-42A3-ACFA-F4ACAEA8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3ED0-CE49-4073-89BB-86966EC7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9E88-BE7C-46D5-B2FA-ACD01CCF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0962-768C-4A67-A340-1C14957D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E8D5-933D-4E88-AD4C-8CA83F49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FDE-668E-49E4-872A-928FC769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D4C-8385-4384-BDAF-20094C2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720-0D8A-4328-AE86-33D3A33B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A0F-E38F-4A8D-B813-292410A4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342-4293-40B7-BAA3-D68D6C84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676-7A21-4230-825B-9F845D63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5D8-C287-442C-A0A0-04DE3E18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5344-7F5B-4C67-B78D-095FEC5072C8}" type="datetime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Lingva-Valjev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0C5C-32E8-4368-98BA-5781E5463C55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90FE-FC1A-46BA-8DBD-DB992B28FDEC}" type="datetime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Lingva-Valjev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EB67-5CBD-4458-8BE2-7CC25E4E760A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Brush Script Std"/>
              </a:rPr>
              <a:t>20</a:t>
            </a:r>
            <a:r>
              <a:rPr b="0" lang="en-US" sz="1400" spc="-1" strike="noStrike">
                <a:solidFill>
                  <a:srgbClr val="ffffff"/>
                </a:solidFill>
                <a:latin typeface="Brush Script Std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C178-CA20-4D42-B97B-F38B989F3807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oject</a:t>
            </a:r>
            <a:br>
              <a:rPr sz="5400"/>
            </a:br>
            <a:br>
              <a:rPr sz="8800"/>
            </a:b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My friend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erformed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Mokshaeva 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Form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acher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S.G.Soloviyov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etition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year he took part in competition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D487-A8F5-4D9B-84D8-2A66B5BA4661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ÐÐ°ÑÑÐ¸Ð½ÐºÐ¸ Ð¿Ð¾ Ð·Ð°Ð¿ÑÐ¾ÑÑ ÑÐ¾ÑÐ¾ ÑÐ¾ÑÐµÐ²Ð½Ð¾Ð²Ð°Ð½Ð¸Ð¹ Ð¿Ð¾ ÑÑÑÐ±Ð¾Ð»Ñ"/>
          <p:cNvPicPr/>
          <p:nvPr/>
        </p:nvPicPr>
        <p:blipFill>
          <a:blip r:embed="rId1"/>
          <a:stretch/>
        </p:blipFill>
        <p:spPr>
          <a:xfrm>
            <a:off x="468360" y="2349360"/>
            <a:ext cx="82278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*****************************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9E03-AC3E-4FD0-8C91-730BC79BC7DA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0" descr="ÐÐ°ÑÑÐ¸Ð½ÐºÐ¸ Ð¿Ð¾ Ð·Ð°Ð¿ÑÐ¾ÑÑ ÑÐ¾ÑÐµÐ²Ð½Ð¾Ð²Ð°Ð½Ð¸Ñ Ð¿Ð¾ ÑÐµÐ½Ð½Ð¸ÑÑ"/>
          <p:cNvPicPr/>
          <p:nvPr/>
        </p:nvPicPr>
        <p:blipFill>
          <a:blip r:embed="rId1"/>
          <a:stretch/>
        </p:blipFill>
        <p:spPr>
          <a:xfrm>
            <a:off x="468360" y="126828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0CEC-C623-45B9-898C-948440422AF5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ÐÐ°ÑÑÐ¸Ð½ÐºÐ¸ Ð¿Ð¾ Ð·Ð°Ð¿ÑÐ¾ÑÑ ÑÐ¾ÑÐµÐ²Ð½Ð¾Ð²Ð°Ð½Ð¸Ñ Ð¿Ð¾ Ð²Ð¾Ð»ÐµÐ¹Ð±Ð¾Ð»Ñ"/>
          <p:cNvPicPr/>
          <p:nvPr/>
        </p:nvPicPr>
        <p:blipFill>
          <a:blip r:embed="rId1"/>
          <a:stretch/>
        </p:blipFill>
        <p:spPr>
          <a:xfrm>
            <a:off x="468360" y="620640"/>
            <a:ext cx="79596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w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many a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4403-2C4E-456B-B8FA-5DB0BEE45ADE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39640" y="2421000"/>
            <a:ext cx="78487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B1F3-2157-4BAC-ADD2-4EAB89F77C9A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ÐÐ°ÑÑÐ¸Ð½ÐºÐ¸ Ð¿Ð¾ Ð·Ð°Ð¿ÑÐ¾ÑÑ ÐºÑÐ±ÐºÐ¸"/>
          <p:cNvPicPr/>
          <p:nvPr/>
        </p:nvPicPr>
        <p:blipFill>
          <a:blip r:embed="rId1"/>
          <a:stretch/>
        </p:blipFill>
        <p:spPr>
          <a:xfrm>
            <a:off x="611280" y="260280"/>
            <a:ext cx="81374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ex has a very good famil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7E8F-9FB4-4D22-B089-7198F4173842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ÐÐ°ÑÑÐ¸Ð½ÐºÐ¸ Ð¿Ð¾ Ð·Ð°Ð¿ÑÐ¾ÑÑ ÑÐµÐ¼ÑÑ ÑÐ¾ Ð²Ð·ÑÐ¾ÑÐ»ÑÐ¼Ð¸ Ð´ÐµÑÑÐ¼Ð¸"/>
          <p:cNvPicPr/>
          <p:nvPr/>
        </p:nvPicPr>
        <p:blipFill>
          <a:blip r:embed="rId1"/>
          <a:stretch/>
        </p:blipFill>
        <p:spPr>
          <a:xfrm>
            <a:off x="539640" y="1484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ear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`s  he`s a handsome , tall ,          blue-eyed guy with dark hair and a beautiful smi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2101-8ABB-48C6-B733-E3408B84D983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ÐÐ°ÑÑÐ¸Ð½ÐºÐ¸ Ð¿Ð¾ Ð·Ð°Ð¿ÑÐ¾ÑÑ ÑÐ¼Ð°Ð¹Ð»Ð¸Ðº"/>
          <p:cNvPicPr/>
          <p:nvPr/>
        </p:nvPicPr>
        <p:blipFill>
          <a:blip r:embed="rId1"/>
          <a:stretch/>
        </p:blipFill>
        <p:spPr>
          <a:xfrm>
            <a:off x="3780000" y="2924280"/>
            <a:ext cx="450036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***********************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lso has a very nice voice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el easy and comfortable to communicat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585F-CEFC-4FF7-A3B3-FE7881997577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2" descr="ÐÐ°ÑÑÐ¸Ð½ÐºÐ¸ Ð¿Ð¾ Ð·Ð°Ð¿ÑÐ¾ÑÑ Ð¾Ð±ÑÐµÐ½Ð¸Ðµ"/>
          <p:cNvPicPr/>
          <p:nvPr/>
        </p:nvPicPr>
        <p:blipFill>
          <a:blip r:embed="rId1"/>
          <a:stretch/>
        </p:blipFill>
        <p:spPr>
          <a:xfrm>
            <a:off x="1908000" y="3213000"/>
            <a:ext cx="67154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 am grateful to fate for such a good friend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0829-4C01-419B-A03B-A028F4308118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ÐÐ°ÑÑÐ¸Ð½ÐºÐ¸ Ð¿Ð¾ Ð·Ð°Ð¿ÑÐ¾ÑÑ ÑÑÐ´ÑÐ±Ð°"/>
          <p:cNvPicPr/>
          <p:nvPr/>
        </p:nvPicPr>
        <p:blipFill>
          <a:blip r:embed="rId1"/>
          <a:stretch/>
        </p:blipFill>
        <p:spPr>
          <a:xfrm>
            <a:off x="755640" y="177336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D89B-C78E-457F-AE87-64367F6E8226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2" descr="ÐÐ°ÑÑÐ¸Ð½ÐºÐ¸ Ð¿Ð¾ Ð·Ð°Ð¿ÑÐ¾ÑÑ Ð¿Ð°ÑÐµÐ½Ñ Ñ Ð´ÐµÐ²ÑÑÐºÐ¾Ð¹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 have friend Alexe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A431-C0F7-441C-8D71-9572810FF06D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https://sun9-1.userapi.com/c830508/v830508939/1e5393/S_BpvivQCDs.jpg"/>
          <p:cNvPicPr/>
          <p:nvPr/>
        </p:nvPicPr>
        <p:blipFill>
          <a:blip r:embed="rId1"/>
          <a:stretch/>
        </p:blipFill>
        <p:spPr>
          <a:xfrm>
            <a:off x="468360" y="1197000"/>
            <a:ext cx="8424720" cy="54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anks for your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9E38-5835-4DD1-BBF1-CE47A755CCBA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2" descr="ÐÐ°ÑÑÐ¸Ð½ÐºÐ¸ Ð¿Ð¾ Ð·Ð°Ð¿ÑÐ¾ÑÑ Ð¿Ð°ÑÐµÐ½Ñ Ñ Ð´ÐµÐ²ÑÑÐºÐ¾Ð¹"/>
          <p:cNvPicPr/>
          <p:nvPr/>
        </p:nvPicPr>
        <p:blipFill>
          <a:blip r:embed="rId1"/>
          <a:stretch/>
        </p:blipFill>
        <p:spPr>
          <a:xfrm>
            <a:off x="468360" y="1557360"/>
            <a:ext cx="806436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very kind, sympathetic, peaceful, atten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5CF0-4296-446C-A06A-59875ABB1A45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ÐÐ°ÑÑÐ¸Ð½ÐºÐ¸ Ð¿Ð¾ Ð·Ð°Ð¿ÑÐ¾ÑÑ ÑÐ¼Ð°Ð¹Ð»Ð¸Ðº ÑÐ¾ÑÐ¾"/>
          <p:cNvPicPr/>
          <p:nvPr/>
        </p:nvPicPr>
        <p:blipFill>
          <a:blip r:embed="rId1"/>
          <a:stretch/>
        </p:blipFill>
        <p:spPr>
          <a:xfrm>
            <a:off x="2987640" y="2565360"/>
            <a:ext cx="428616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characters are very similar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`m very interested in him 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ha knows many interesting stories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meet him , he tells them to m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71D2-4959-456F-BE73-315F75873AB8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ÐÐ°ÑÑÐ¸Ð½ÐºÐ¸ Ð¿Ð¾ Ð·Ð°Ð¿ÑÐ¾ÑÑ ÑÐ¼Ð°Ð¹Ð»Ð¸Ðº ÑÐ¾ÑÐ¾"/>
          <p:cNvPicPr/>
          <p:nvPr/>
        </p:nvPicPr>
        <p:blipFill>
          <a:blip r:embed="rId1"/>
          <a:stretch/>
        </p:blipFill>
        <p:spPr>
          <a:xfrm>
            <a:off x="1187280" y="2852640"/>
            <a:ext cx="582012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friend's intere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very little free time . My friend study at the Institute &lt;World&g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FB37-EED5-488C-950B-8D04DD78E426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ÐÐ°ÑÑÐ¸Ð½ÐºÐ¸ Ð¿Ð¾ Ð·Ð°Ð¿ÑÐ¾ÑÑ Ð¸Ð½ÑÑÐ¸ÑÑÑ Ð¼Ð¸Ñ"/>
          <p:cNvPicPr/>
          <p:nvPr/>
        </p:nvPicPr>
        <p:blipFill>
          <a:blip r:embed="rId1"/>
          <a:stretch/>
        </p:blipFill>
        <p:spPr>
          <a:xfrm>
            <a:off x="1116000" y="2852640"/>
            <a:ext cx="6912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E52D-7F31-4D6D-860B-3EA0C8437FEB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ÐÐ°ÑÑÐ¸Ð½ÐºÐ¸ Ð¿Ð¾ Ð·Ð°Ð¿ÑÐ¾ÑÑ ÑÐ¿Ð¾ÑÑ ÐºÐ°ÑÑÐ¸Ð½ÐºÐ¸"/>
          <p:cNvPicPr/>
          <p:nvPr/>
        </p:nvPicPr>
        <p:blipFill>
          <a:blip r:embed="rId1"/>
          <a:stretch/>
        </p:blipFill>
        <p:spPr>
          <a:xfrm>
            <a:off x="1403280" y="1989000"/>
            <a:ext cx="6337440" cy="40323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0"/>
          <p:cNvSpPr/>
          <p:nvPr/>
        </p:nvSpPr>
        <p:spPr>
          <a:xfrm>
            <a:off x="2124000" y="404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obbi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otb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B26C-C848-48A8-98FB-630012A5304A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ÐÐ°ÑÑÐ¸Ð½ÐºÐ¸ Ð¿Ð¾ Ð·Ð°Ð¿ÑÐ¾ÑÑ ÑÑÑÐ±Ð¾Ð»"/>
          <p:cNvPicPr/>
          <p:nvPr/>
        </p:nvPicPr>
        <p:blipFill>
          <a:blip r:embed="rId1"/>
          <a:stretch/>
        </p:blipFill>
        <p:spPr>
          <a:xfrm>
            <a:off x="250920" y="1484280"/>
            <a:ext cx="852480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nni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671A-92C2-4023-9DEC-0A36BED17C52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ÐÐ°ÑÑÐ¸Ð½ÐºÐ¸ Ð¿Ð¾ Ð·Ð°Ð¿ÑÐ¾ÑÑ ÑÐµÐ½Ð½Ð¸Ñ"/>
          <p:cNvPicPr/>
          <p:nvPr/>
        </p:nvPicPr>
        <p:blipFill>
          <a:blip r:embed="rId1"/>
          <a:stretch/>
        </p:blipFill>
        <p:spPr>
          <a:xfrm>
            <a:off x="468360" y="1413000"/>
            <a:ext cx="8388360" cy="52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lleyb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AC22-6FB4-488B-8713-7057CB054F30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ÐÐ°ÑÑÐ¸Ð½ÐºÐ¸ Ð¿Ð¾ Ð·Ð°Ð¿ÑÐ¾ÑÑ Ð²Ð¾Ð»ÐµÐ¹Ð±Ð¾Ð»"/>
          <p:cNvPicPr/>
          <p:nvPr/>
        </p:nvPicPr>
        <p:blipFill>
          <a:blip r:embed="rId1"/>
          <a:stretch/>
        </p:blipFill>
        <p:spPr>
          <a:xfrm>
            <a:off x="468360" y="1557360"/>
            <a:ext cx="8351640" cy="511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08:10:57Z</dcterms:created>
  <dc:creator>Mirjana Ljiljak-Vukajlovic</dc:creator>
  <dc:description/>
  <dc:language>en-US</dc:language>
  <cp:lastModifiedBy>user</cp:lastModifiedBy>
  <dcterms:modified xsi:type="dcterms:W3CDTF">2019-09-19T11:33:35Z</dcterms:modified>
  <cp:revision>32</cp:revision>
  <dc:subject/>
  <dc:title>My friend Monika Radosavljevic</dc:title>
</cp:coreProperties>
</file>