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FCD-7F40-4AB1-8AF1-E559B1B3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8C7-84C9-486B-B9EB-42042D52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ADE-089C-486A-B04D-FCAE34C4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1FE-AEE3-47FA-8685-9B6B1248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7DED-E9BE-4768-BC93-418C0815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3C4C-E931-4AAE-8483-94B82A55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5F88-BD24-4E44-B52E-285FE5B1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87B3-C0B3-47E9-A86E-BFDDFFB8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EDBD-AB55-48ED-A08E-9EA67324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23AF-05BD-4352-9E1E-2D7034E3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45A7-D651-4B5F-AA60-DFBD4028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3C1-C58E-4AC3-8CFB-2A75D470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61DA-BB1B-440F-9EEB-BA6AFF19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DA0B-5838-466D-BEF0-D85E4C3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AC67-13AB-4699-AB41-B4FCC133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FD13-F6A3-4A9F-90F7-F73CE7B0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4281-16A9-49DD-A3C2-A55723C5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894-BD09-4666-A56C-ACBAAF9A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1E4-59E1-4CB5-8CF6-4993B5F5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F63-C391-48BB-B504-99AF521A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079-2FAB-4C8D-84DB-B0CFAE51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601-A6C6-4C3E-BD7C-4AE59CAA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A62-395B-4645-AC34-E45A1915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B9F-8863-419C-9150-3A8F2EF0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1CFF-73CF-45DA-9C3E-20C619A41EE2}" type="datetime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Lingva-Valjev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987B-AD03-43EE-AF3E-32010CEBE509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608C-40D5-4E9E-87CF-22C5CD37A4D5}" type="datetime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Lingva-Valjev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2573-06FC-4426-B5AB-36904DD2D61D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Brush Script Std"/>
              </a:rPr>
              <a:t>20</a:t>
            </a:r>
            <a:r>
              <a:rPr b="0" lang="en-US" sz="1400" spc="-1" strike="noStrike">
                <a:solidFill>
                  <a:srgbClr val="ffffff"/>
                </a:solidFill>
                <a:latin typeface="Brush Script Std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8581-33E9-4989-83C5-C5543AD00327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oject</a:t>
            </a:r>
            <a:br>
              <a:rPr sz="5400"/>
            </a:br>
            <a:br>
              <a:rPr sz="8800"/>
            </a:b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My friend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erformed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Mokshaeva 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Form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acher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S.G.Soloviyov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etition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year he took part in competition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D13A-AB1E-4C7A-9A9F-DA878FBBDE6F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ÐÐ°ÑÑÐ¸Ð½ÐºÐ¸ Ð¿Ð¾ Ð·Ð°Ð¿ÑÐ¾ÑÑ ÑÐ¾ÑÐ¾ ÑÐ¾ÑÐµÐ²Ð½Ð¾Ð²Ð°Ð½Ð¸Ð¹ Ð¿Ð¾ ÑÑÑÐ±Ð¾Ð»Ñ"/>
          <p:cNvPicPr/>
          <p:nvPr/>
        </p:nvPicPr>
        <p:blipFill>
          <a:blip r:embed="rId1"/>
          <a:stretch/>
        </p:blipFill>
        <p:spPr>
          <a:xfrm>
            <a:off x="468360" y="2349360"/>
            <a:ext cx="82278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*****************************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F80F-2038-4C3A-9CF4-041F2329345C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0" descr="ÐÐ°ÑÑÐ¸Ð½ÐºÐ¸ Ð¿Ð¾ Ð·Ð°Ð¿ÑÐ¾ÑÑ ÑÐ¾ÑÐµÐ²Ð½Ð¾Ð²Ð°Ð½Ð¸Ñ Ð¿Ð¾ ÑÐµÐ½Ð½Ð¸ÑÑ"/>
          <p:cNvPicPr/>
          <p:nvPr/>
        </p:nvPicPr>
        <p:blipFill>
          <a:blip r:embed="rId1"/>
          <a:stretch/>
        </p:blipFill>
        <p:spPr>
          <a:xfrm>
            <a:off x="468360" y="126828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A76D-BCE5-486C-8ED3-2900F1C43D04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ÐÐ°ÑÑÐ¸Ð½ÐºÐ¸ Ð¿Ð¾ Ð·Ð°Ð¿ÑÐ¾ÑÑ ÑÐ¾ÑÐµÐ²Ð½Ð¾Ð²Ð°Ð½Ð¸Ñ Ð¿Ð¾ Ð²Ð¾Ð»ÐµÐ¹Ð±Ð¾Ð»Ñ"/>
          <p:cNvPicPr/>
          <p:nvPr/>
        </p:nvPicPr>
        <p:blipFill>
          <a:blip r:embed="rId1"/>
          <a:stretch/>
        </p:blipFill>
        <p:spPr>
          <a:xfrm>
            <a:off x="468360" y="620640"/>
            <a:ext cx="79596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w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many a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1B18-F811-4CE6-9683-EE6A916F0EDD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39640" y="2421000"/>
            <a:ext cx="78487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6FC0-183B-460E-9B0F-AC4B372BB20B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ÐÐ°ÑÑÐ¸Ð½ÐºÐ¸ Ð¿Ð¾ Ð·Ð°Ð¿ÑÐ¾ÑÑ ÐºÑÐ±ÐºÐ¸"/>
          <p:cNvPicPr/>
          <p:nvPr/>
        </p:nvPicPr>
        <p:blipFill>
          <a:blip r:embed="rId1"/>
          <a:stretch/>
        </p:blipFill>
        <p:spPr>
          <a:xfrm>
            <a:off x="611280" y="260280"/>
            <a:ext cx="81374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ex has a very good famil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2B8B-96CF-46AE-A80C-B3A3BBE3A0B0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ÐÐ°ÑÑÐ¸Ð½ÐºÐ¸ Ð¿Ð¾ Ð·Ð°Ð¿ÑÐ¾ÑÑ ÑÐµÐ¼ÑÑ ÑÐ¾ Ð²Ð·ÑÐ¾ÑÐ»ÑÐ¼Ð¸ Ð´ÐµÑÑÐ¼Ð¸"/>
          <p:cNvPicPr/>
          <p:nvPr/>
        </p:nvPicPr>
        <p:blipFill>
          <a:blip r:embed="rId1"/>
          <a:stretch/>
        </p:blipFill>
        <p:spPr>
          <a:xfrm>
            <a:off x="539640" y="1484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ear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`s  he`s a handsome , tall ,          blue-eyed guy with dark hair and a beautiful smi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37C1-A84B-41F0-9C91-52005CAB60F7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ÐÐ°ÑÑÐ¸Ð½ÐºÐ¸ Ð¿Ð¾ Ð·Ð°Ð¿ÑÐ¾ÑÑ ÑÐ¼Ð°Ð¹Ð»Ð¸Ðº"/>
          <p:cNvPicPr/>
          <p:nvPr/>
        </p:nvPicPr>
        <p:blipFill>
          <a:blip r:embed="rId1"/>
          <a:stretch/>
        </p:blipFill>
        <p:spPr>
          <a:xfrm>
            <a:off x="3780000" y="2924280"/>
            <a:ext cx="450036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***********************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lso has a very nice voice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el easy and comfortable to communicat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C45D-3AA5-4B49-9E26-DA926FD9F556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2" descr="ÐÐ°ÑÑÐ¸Ð½ÐºÐ¸ Ð¿Ð¾ Ð·Ð°Ð¿ÑÐ¾ÑÑ Ð¾Ð±ÑÐµÐ½Ð¸Ðµ"/>
          <p:cNvPicPr/>
          <p:nvPr/>
        </p:nvPicPr>
        <p:blipFill>
          <a:blip r:embed="rId1"/>
          <a:stretch/>
        </p:blipFill>
        <p:spPr>
          <a:xfrm>
            <a:off x="1908000" y="3213000"/>
            <a:ext cx="67154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 am grateful to fate for such a good friend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2D91-9130-49E3-8133-FFEA6AA1D249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ÐÐ°ÑÑÐ¸Ð½ÐºÐ¸ Ð¿Ð¾ Ð·Ð°Ð¿ÑÐ¾ÑÑ ÑÑÐ´ÑÐ±Ð°"/>
          <p:cNvPicPr/>
          <p:nvPr/>
        </p:nvPicPr>
        <p:blipFill>
          <a:blip r:embed="rId1"/>
          <a:stretch/>
        </p:blipFill>
        <p:spPr>
          <a:xfrm>
            <a:off x="755640" y="177336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04F7-AD01-40B5-84F3-B11948630DA3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2" descr="ÐÐ°ÑÑÐ¸Ð½ÐºÐ¸ Ð¿Ð¾ Ð·Ð°Ð¿ÑÐ¾ÑÑ Ð¿Ð°ÑÐµÐ½Ñ Ñ Ð´ÐµÐ²ÑÑÐºÐ¾Ð¹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 have friend Alexe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0A24-D9E7-44E8-9765-FBE41F189DFE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https://sun9-1.userapi.com/c830508/v830508939/1e5393/S_BpvivQCDs.jpg"/>
          <p:cNvPicPr/>
          <p:nvPr/>
        </p:nvPicPr>
        <p:blipFill>
          <a:blip r:embed="rId1"/>
          <a:stretch/>
        </p:blipFill>
        <p:spPr>
          <a:xfrm>
            <a:off x="468360" y="1197000"/>
            <a:ext cx="8424720" cy="54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anks for your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8414-2520-487A-84F9-B1FE50027456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2" descr="ÐÐ°ÑÑÐ¸Ð½ÐºÐ¸ Ð¿Ð¾ Ð·Ð°Ð¿ÑÐ¾ÑÑ Ð¿Ð°ÑÐµÐ½Ñ Ñ Ð´ÐµÐ²ÑÑÐºÐ¾Ð¹"/>
          <p:cNvPicPr/>
          <p:nvPr/>
        </p:nvPicPr>
        <p:blipFill>
          <a:blip r:embed="rId1"/>
          <a:stretch/>
        </p:blipFill>
        <p:spPr>
          <a:xfrm>
            <a:off x="468360" y="1557360"/>
            <a:ext cx="806436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very kind, sympathetic, peaceful, atten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3077-2271-4FC6-BE24-5EDA4155BE20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ÐÐ°ÑÑÐ¸Ð½ÐºÐ¸ Ð¿Ð¾ Ð·Ð°Ð¿ÑÐ¾ÑÑ ÑÐ¼Ð°Ð¹Ð»Ð¸Ðº ÑÐ¾ÑÐ¾"/>
          <p:cNvPicPr/>
          <p:nvPr/>
        </p:nvPicPr>
        <p:blipFill>
          <a:blip r:embed="rId1"/>
          <a:stretch/>
        </p:blipFill>
        <p:spPr>
          <a:xfrm>
            <a:off x="2987640" y="2565360"/>
            <a:ext cx="428616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characters are very similar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`m very interested in him 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ha knows many interesting stories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meet him , he tells them to m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6C9E-BA2E-457B-8FCE-07DA1B75E55C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ÐÐ°ÑÑÐ¸Ð½ÐºÐ¸ Ð¿Ð¾ Ð·Ð°Ð¿ÑÐ¾ÑÑ ÑÐ¼Ð°Ð¹Ð»Ð¸Ðº ÑÐ¾ÑÐ¾"/>
          <p:cNvPicPr/>
          <p:nvPr/>
        </p:nvPicPr>
        <p:blipFill>
          <a:blip r:embed="rId1"/>
          <a:stretch/>
        </p:blipFill>
        <p:spPr>
          <a:xfrm>
            <a:off x="1187280" y="2852640"/>
            <a:ext cx="582012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friend's intere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very little free time . My friend study at the Institute &lt;World&g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162A-7087-431E-9216-9EFD03D3BE41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ÐÐ°ÑÑÐ¸Ð½ÐºÐ¸ Ð¿Ð¾ Ð·Ð°Ð¿ÑÐ¾ÑÑ Ð¸Ð½ÑÑÐ¸ÑÑÑ Ð¼Ð¸Ñ"/>
          <p:cNvPicPr/>
          <p:nvPr/>
        </p:nvPicPr>
        <p:blipFill>
          <a:blip r:embed="rId1"/>
          <a:stretch/>
        </p:blipFill>
        <p:spPr>
          <a:xfrm>
            <a:off x="1116000" y="2852640"/>
            <a:ext cx="6912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78FB-A0CA-4A94-987A-42F4D5B19974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ÐÐ°ÑÑÐ¸Ð½ÐºÐ¸ Ð¿Ð¾ Ð·Ð°Ð¿ÑÐ¾ÑÑ ÑÐ¿Ð¾ÑÑ ÐºÐ°ÑÑÐ¸Ð½ÐºÐ¸"/>
          <p:cNvPicPr/>
          <p:nvPr/>
        </p:nvPicPr>
        <p:blipFill>
          <a:blip r:embed="rId1"/>
          <a:stretch/>
        </p:blipFill>
        <p:spPr>
          <a:xfrm>
            <a:off x="1403280" y="1989000"/>
            <a:ext cx="6337440" cy="40323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0"/>
          <p:cNvSpPr/>
          <p:nvPr/>
        </p:nvSpPr>
        <p:spPr>
          <a:xfrm>
            <a:off x="2124000" y="404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obbi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otb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BFDC-725E-4993-B344-493BA20CE380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ÐÐ°ÑÑÐ¸Ð½ÐºÐ¸ Ð¿Ð¾ Ð·Ð°Ð¿ÑÐ¾ÑÑ ÑÑÑÐ±Ð¾Ð»"/>
          <p:cNvPicPr/>
          <p:nvPr/>
        </p:nvPicPr>
        <p:blipFill>
          <a:blip r:embed="rId1"/>
          <a:stretch/>
        </p:blipFill>
        <p:spPr>
          <a:xfrm>
            <a:off x="250920" y="1484280"/>
            <a:ext cx="852480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nni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2409-B30F-455A-B8E3-6E1E144D7051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ÐÐ°ÑÑÐ¸Ð½ÐºÐ¸ Ð¿Ð¾ Ð·Ð°Ð¿ÑÐ¾ÑÑ ÑÐµÐ½Ð½Ð¸Ñ"/>
          <p:cNvPicPr/>
          <p:nvPr/>
        </p:nvPicPr>
        <p:blipFill>
          <a:blip r:embed="rId1"/>
          <a:stretch/>
        </p:blipFill>
        <p:spPr>
          <a:xfrm>
            <a:off x="468360" y="1413000"/>
            <a:ext cx="8388360" cy="52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lleyb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1144-0532-42E8-B600-1E31FD32CB29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ÐÐ°ÑÑÐ¸Ð½ÐºÐ¸ Ð¿Ð¾ Ð·Ð°Ð¿ÑÐ¾ÑÑ Ð²Ð¾Ð»ÐµÐ¹Ð±Ð¾Ð»"/>
          <p:cNvPicPr/>
          <p:nvPr/>
        </p:nvPicPr>
        <p:blipFill>
          <a:blip r:embed="rId1"/>
          <a:stretch/>
        </p:blipFill>
        <p:spPr>
          <a:xfrm>
            <a:off x="468360" y="1557360"/>
            <a:ext cx="8351640" cy="511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08:10:57Z</dcterms:created>
  <dc:creator>Mirjana Ljiljak-Vukajlovic</dc:creator>
  <dc:description/>
  <dc:language>en-US</dc:language>
  <cp:lastModifiedBy>user</cp:lastModifiedBy>
  <dcterms:modified xsi:type="dcterms:W3CDTF">2019-09-19T11:33:35Z</dcterms:modified>
  <cp:revision>32</cp:revision>
  <dc:subject/>
  <dc:title>My friend Monika Radosavljevic</dc:title>
</cp:coreProperties>
</file>