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ABB-45DC-46F4-B37B-86ADDA85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382-C99A-41F0-BE89-40C3531C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814-B769-476D-8879-C2AE1307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04B-EA3C-4453-9533-D6353078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690D-4E7C-4E0D-AD4B-00829810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4B6E-D962-4381-BD33-9805895C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08CA-D63C-455B-9278-960DCD04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D907-2214-401C-B85C-A07AD7D8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8C3E-9ABF-47E3-A34D-AA43BB6D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7BC9-7283-4445-AE99-90766D6D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101A-BE81-4155-A452-8F2DCAD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7BE-9EC5-497B-9602-5D0EC84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1DC9-8FF2-4161-A3F4-734AD0C8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2CED-5ACD-4B90-B1FA-C6F2FFB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991-D481-4058-81C5-F22698EF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0384-93BE-4BE7-A582-3D22EE02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7716-D29D-4C33-AC1C-4C5F4D43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2EC-7B6A-4BF7-BFED-0549B11D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CF5-B199-49B3-8C38-D698D827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4ED-7D34-4073-835E-46E41EF2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5E9-F2F5-4F27-BA08-58586C87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388-D19E-4A82-A520-DFA04BB6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F7F-2CC4-4B6D-89AF-2DDBB57B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249-3A25-4CA5-A291-784AD19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327-2EFF-42BE-8D9C-CA7DB7D240E4}" type="datetime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EF5-024E-4B6E-91D8-1B125B6C5CBC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B011-DD4B-4E48-8813-C458AA42FCEA}" type="datetime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Lingva-Valjevo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8DCF-F435-4C7A-868C-4053732E70DF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Brush Script Std"/>
              </a:rPr>
              <a:t>20</a:t>
            </a:r>
            <a:r>
              <a:rPr b="0" lang="en-US" sz="1400" spc="-1" strike="noStrike">
                <a:solidFill>
                  <a:srgbClr val="ffffff"/>
                </a:solidFill>
                <a:latin typeface="Brush Script Std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03E2-C304-441E-9E90-0D37CAE13F94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oject</a:t>
            </a:r>
            <a:br>
              <a:rPr sz="5400"/>
            </a:br>
            <a:br>
              <a:rPr sz="8800"/>
            </a:b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My friend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erformed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Mokshaeva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orm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eacher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S.G.Soloviyov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etition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year he took part in competition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0DF9-E4DC-43C2-9989-B98E33DAC91B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ÐÐ°ÑÑÐ¸Ð½ÐºÐ¸ Ð¿Ð¾ Ð·Ð°Ð¿ÑÐ¾ÑÑ ÑÐ¾ÑÐ¾ ÑÐ¾ÑÐµÐ²Ð½Ð¾Ð²Ð°Ð½Ð¸Ð¹ Ð¿Ð¾ ÑÑÑÐ±Ð¾Ð»Ñ"/>
          <p:cNvPicPr/>
          <p:nvPr/>
        </p:nvPicPr>
        <p:blipFill>
          <a:blip r:embed="rId1"/>
          <a:stretch/>
        </p:blipFill>
        <p:spPr>
          <a:xfrm>
            <a:off x="468360" y="2349360"/>
            <a:ext cx="82278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*****************************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7321-EBD6-4F48-AC1E-55832826F5CD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0" descr="ÐÐ°ÑÑÐ¸Ð½ÐºÐ¸ Ð¿Ð¾ Ð·Ð°Ð¿ÑÐ¾ÑÑ ÑÐ¾ÑÐµÐ²Ð½Ð¾Ð²Ð°Ð½Ð¸Ñ Ð¿Ð¾ ÑÐµÐ½Ð½Ð¸ÑÑ"/>
          <p:cNvPicPr/>
          <p:nvPr/>
        </p:nvPicPr>
        <p:blipFill>
          <a:blip r:embed="rId1"/>
          <a:stretch/>
        </p:blipFill>
        <p:spPr>
          <a:xfrm>
            <a:off x="468360" y="126828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B5A8-2D2A-4D23-82E4-1C81D04D2E99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ÐÐ°ÑÑÐ¸Ð½ÐºÐ¸ Ð¿Ð¾ Ð·Ð°Ð¿ÑÐ¾ÑÑ ÑÐ¾ÑÐµÐ²Ð½Ð¾Ð²Ð°Ð½Ð¸Ñ Ð¿Ð¾ Ð²Ð¾Ð»ÐµÐ¹Ð±Ð¾Ð»Ñ"/>
          <p:cNvPicPr/>
          <p:nvPr/>
        </p:nvPicPr>
        <p:blipFill>
          <a:blip r:embed="rId1"/>
          <a:stretch/>
        </p:blipFill>
        <p:spPr>
          <a:xfrm>
            <a:off x="468360" y="620640"/>
            <a:ext cx="79596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w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many a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80D6-3268-4942-AA96-F8CE0025C7CF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39640" y="2421000"/>
            <a:ext cx="7848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E979-C218-438B-A9FF-035C3A0FA39D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ÐÐ°ÑÑÐ¸Ð½ÐºÐ¸ Ð¿Ð¾ Ð·Ð°Ð¿ÑÐ¾ÑÑ ÐºÑÐ±ÐºÐ¸"/>
          <p:cNvPicPr/>
          <p:nvPr/>
        </p:nvPicPr>
        <p:blipFill>
          <a:blip r:embed="rId1"/>
          <a:stretch/>
        </p:blipFill>
        <p:spPr>
          <a:xfrm>
            <a:off x="611280" y="260280"/>
            <a:ext cx="8137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lex has a very good famil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8DE-2E07-4168-85F7-42527A4026F9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ÐÐ°ÑÑÐ¸Ð½ÐºÐ¸ Ð¿Ð¾ Ð·Ð°Ð¿ÑÐ¾ÑÑ ÑÐµÐ¼ÑÑ ÑÐ¾ Ð²Ð·ÑÐ¾ÑÐ»ÑÐ¼Ð¸ Ð´ÐµÑÑÐ¼Ð¸"/>
          <p:cNvPicPr/>
          <p:nvPr/>
        </p:nvPicPr>
        <p:blipFill>
          <a:blip r:embed="rId1"/>
          <a:stretch/>
        </p:blipFill>
        <p:spPr>
          <a:xfrm>
            <a:off x="539640" y="1484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ea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`s  he`s a handsome , tall ,          blue-eyed guy with dark hair and a beautiful smi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FA07-5A83-4609-A5E8-688105A5CC10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ÐÐ°ÑÑÐ¸Ð½ÐºÐ¸ Ð¿Ð¾ Ð·Ð°Ð¿ÑÐ¾ÑÑ ÑÐ¼Ð°Ð¹Ð»Ð¸Ðº"/>
          <p:cNvPicPr/>
          <p:nvPr/>
        </p:nvPicPr>
        <p:blipFill>
          <a:blip r:embed="rId1"/>
          <a:stretch/>
        </p:blipFill>
        <p:spPr>
          <a:xfrm>
            <a:off x="3780000" y="2924280"/>
            <a:ext cx="450036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***********************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lso has a very nice voice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el easy and comfortable to communicat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A75-F5EA-4370-9F41-C3DEAD6D35B6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2" descr="ÐÐ°ÑÑÐ¸Ð½ÐºÐ¸ Ð¿Ð¾ Ð·Ð°Ð¿ÑÐ¾ÑÑ Ð¾Ð±ÑÐµÐ½Ð¸Ðµ"/>
          <p:cNvPicPr/>
          <p:nvPr/>
        </p:nvPicPr>
        <p:blipFill>
          <a:blip r:embed="rId1"/>
          <a:stretch/>
        </p:blipFill>
        <p:spPr>
          <a:xfrm>
            <a:off x="1908000" y="3213000"/>
            <a:ext cx="67154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 am grateful to fate for such a good friend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EF5-3CFE-4D69-84F2-4BF0B8E7F96C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ÐÐ°ÑÑÐ¸Ð½ÐºÐ¸ Ð¿Ð¾ Ð·Ð°Ð¿ÑÐ¾ÑÑ ÑÑÐ´ÑÐ±Ð°"/>
          <p:cNvPicPr/>
          <p:nvPr/>
        </p:nvPicPr>
        <p:blipFill>
          <a:blip r:embed="rId1"/>
          <a:stretch/>
        </p:blipFill>
        <p:spPr>
          <a:xfrm>
            <a:off x="755640" y="177336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5C34-9686-4836-B74A-3043678C37B7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2" descr="ÐÐ°ÑÑÐ¸Ð½ÐºÐ¸ Ð¿Ð¾ Ð·Ð°Ð¿ÑÐ¾ÑÑ Ð¿Ð°ÑÐµÐ½Ñ Ñ Ð´ÐµÐ²ÑÑÐºÐ¾Ð¹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 have friend Alex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04F1-C725-45F3-AEA8-0D74F4035F01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https://sun9-1.userapi.com/c830508/v830508939/1e5393/S_BpvivQCDs.jpg"/>
          <p:cNvPicPr/>
          <p:nvPr/>
        </p:nvPicPr>
        <p:blipFill>
          <a:blip r:embed="rId1"/>
          <a:stretch/>
        </p:blipFill>
        <p:spPr>
          <a:xfrm>
            <a:off x="468360" y="1197000"/>
            <a:ext cx="8424720" cy="54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anks for your att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61EB-D342-489D-8AD9-59EF14CE55D5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" descr="ÐÐ°ÑÑÐ¸Ð½ÐºÐ¸ Ð¿Ð¾ Ð·Ð°Ð¿ÑÐ¾ÑÑ Ð¿Ð°ÑÐµÐ½Ñ Ñ Ð´ÐµÐ²ÑÑÐºÐ¾Ð¹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very kind, sympathetic, peaceful, atten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EE83-66B0-4747-8EA0-C2D4F320BBBF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ÐÐ°ÑÑÐ¸Ð½ÐºÐ¸ Ð¿Ð¾ Ð·Ð°Ð¿ÑÐ¾ÑÑ ÑÐ¼Ð°Ð¹Ð»Ð¸Ðº ÑÐ¾ÑÐ¾"/>
          <p:cNvPicPr/>
          <p:nvPr/>
        </p:nvPicPr>
        <p:blipFill>
          <a:blip r:embed="rId1"/>
          <a:stretch/>
        </p:blipFill>
        <p:spPr>
          <a:xfrm>
            <a:off x="2987640" y="2565360"/>
            <a:ext cx="428616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characters are very similar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`m very interested in him 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ha knows many interesting stories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meet him , he tells them to m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DD3D-9438-4B0E-B909-12AD57DFAEEC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ÐÐ°ÑÑÐ¸Ð½ÐºÐ¸ Ð¿Ð¾ Ð·Ð°Ð¿ÑÐ¾ÑÑ ÑÐ¼Ð°Ð¹Ð»Ð¸Ðº ÑÐ¾ÑÐ¾"/>
          <p:cNvPicPr/>
          <p:nvPr/>
        </p:nvPicPr>
        <p:blipFill>
          <a:blip r:embed="rId1"/>
          <a:stretch/>
        </p:blipFill>
        <p:spPr>
          <a:xfrm>
            <a:off x="1187280" y="2852640"/>
            <a:ext cx="582012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friend's intere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very little free time . My friend study at the Institute &lt;World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A47E-BC95-49D9-ADAF-3F009E21DE16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ÐÐ°ÑÑÐ¸Ð½ÐºÐ¸ Ð¿Ð¾ Ð·Ð°Ð¿ÑÐ¾ÑÑ Ð¸Ð½ÑÑÐ¸ÑÑÑ Ð¼Ð¸Ñ"/>
          <p:cNvPicPr/>
          <p:nvPr/>
        </p:nvPicPr>
        <p:blipFill>
          <a:blip r:embed="rId1"/>
          <a:stretch/>
        </p:blipFill>
        <p:spPr>
          <a:xfrm>
            <a:off x="1116000" y="2852640"/>
            <a:ext cx="6912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9891-9E0F-4934-8B23-AA49D4A8782B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ÐÐ°ÑÑÐ¸Ð½ÐºÐ¸ Ð¿Ð¾ Ð·Ð°Ð¿ÑÐ¾ÑÑ ÑÐ¿Ð¾ÑÑ ÐºÐ°ÑÑÐ¸Ð½ÐºÐ¸"/>
          <p:cNvPicPr/>
          <p:nvPr/>
        </p:nvPicPr>
        <p:blipFill>
          <a:blip r:embed="rId1"/>
          <a:stretch/>
        </p:blipFill>
        <p:spPr>
          <a:xfrm>
            <a:off x="1403280" y="1989000"/>
            <a:ext cx="6337440" cy="40323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0"/>
          <p:cNvSpPr/>
          <p:nvPr/>
        </p:nvSpPr>
        <p:spPr>
          <a:xfrm>
            <a:off x="2124000" y="404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ot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6EE-A6D1-4EFF-B89A-8337C3E234C7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ÐÐ°ÑÑÐ¸Ð½ÐºÐ¸ Ð¿Ð¾ Ð·Ð°Ð¿ÑÐ¾ÑÑ ÑÑÑÐ±Ð¾Ð»"/>
          <p:cNvPicPr/>
          <p:nvPr/>
        </p:nvPicPr>
        <p:blipFill>
          <a:blip r:embed="rId1"/>
          <a:stretch/>
        </p:blipFill>
        <p:spPr>
          <a:xfrm>
            <a:off x="250920" y="1484280"/>
            <a:ext cx="85248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nni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03E-6C50-4E44-942F-F7EC97674D2A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ÐÐ°ÑÑÐ¸Ð½ÐºÐ¸ Ð¿Ð¾ Ð·Ð°Ð¿ÑÐ¾ÑÑ ÑÐµÐ½Ð½Ð¸Ñ"/>
          <p:cNvPicPr/>
          <p:nvPr/>
        </p:nvPicPr>
        <p:blipFill>
          <a:blip r:embed="rId1"/>
          <a:stretch/>
        </p:blipFill>
        <p:spPr>
          <a:xfrm>
            <a:off x="468360" y="1413000"/>
            <a:ext cx="8388360" cy="52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lley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ngva-Valjevo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CCC7-ACEE-49D0-B46C-E9A2B6FDBB7C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ÐÐ°ÑÑÐ¸Ð½ÐºÐ¸ Ð¿Ð¾ Ð·Ð°Ð¿ÑÐ¾ÑÑ Ð²Ð¾Ð»ÐµÐ¹Ð±Ð¾Ð»"/>
          <p:cNvPicPr/>
          <p:nvPr/>
        </p:nvPicPr>
        <p:blipFill>
          <a:blip r:embed="rId1"/>
          <a:stretch/>
        </p:blipFill>
        <p:spPr>
          <a:xfrm>
            <a:off x="468360" y="1557360"/>
            <a:ext cx="8351640" cy="511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08:10:57Z</dcterms:created>
  <dc:creator>Mirjana Ljiljak-Vukajlovic</dc:creator>
  <dc:description/>
  <dc:language>en-US</dc:language>
  <cp:lastModifiedBy>user</cp:lastModifiedBy>
  <dcterms:modified xsi:type="dcterms:W3CDTF">2019-09-19T11:33:35Z</dcterms:modified>
  <cp:revision>32</cp:revision>
  <dc:subject/>
  <dc:title>My friend Monika Radosavljevic</dc:title>
</cp:coreProperties>
</file>