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83FC-E0DE-4C46-839C-82813C47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92BC-1D56-485A-B1CA-A043331C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B25-EA29-4BC1-BF8D-7C61751F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AF64-3D57-4D60-BBA8-FB5B4B02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7AA-1352-4CBF-ABD4-4A5B6D47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EC54-8C90-45A6-B9AD-D0543F7E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E91E-249E-47B8-BC4C-F9CB4A90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9380-7AD9-4224-B8ED-6968DD54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7E4-FA7E-413E-B0B4-11A1F868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37A-EFD1-4320-883F-899680DC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C78-6241-4F01-A76D-27BA8526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220-E8CB-4C6C-9DE5-E7EE8F42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B61B-43CE-456E-AE94-6C8AFE6E734A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143000" y="1643040"/>
            <a:ext cx="72388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0033cc"/>
                </a:solidFill>
                <a:latin typeface="Arial"/>
              </a:rPr>
              <a:t>Сетевой кабель</a:t>
            </a:r>
            <a:endParaRPr b="0" lang="en-US" sz="10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748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Коаксиальный кабель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050920" y="1052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римпер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741672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8920" y="188640"/>
            <a:ext cx="38890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twisted pair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042920" y="2997360"/>
            <a:ext cx="56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неэкранированная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 (unshielded)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 -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UTP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экранированная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(shielded)  -  ST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407280" y="371628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8440" y="189000"/>
            <a:ext cx="735804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итая пара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twisted pair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7632720" cy="2952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285840" y="3929040"/>
            <a:ext cx="8642160" cy="19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a —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UTP категории 3-5, б — DTP категори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6, в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— ScTP, FTP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г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— SFTP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— STP Туре 1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е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— PiMF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 — провод в изоляции, 2 — внешняя оболочк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 — сепаратор, 4 — экран из фольги, 5 — дренажный провод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6 — экранирующая оплет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57268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Неэкранированная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витая пара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85920" y="8571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Категории 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EIA/TIA 568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85880" y="1500120"/>
          <a:ext cx="7786800" cy="5072040"/>
        </p:xfrm>
        <a:graphic>
          <a:graphicData uri="http://schemas.openxmlformats.org/drawingml/2006/table">
            <a:tbl>
              <a:tblPr/>
              <a:tblGrid>
                <a:gridCol w="1657440"/>
                <a:gridCol w="3533760"/>
                <a:gridCol w="2595600"/>
              </a:tblGrid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тег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лоса частот, МГ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поль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налогов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леф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ифровая телефони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4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бит/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бит/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бит/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бит/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T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бит/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T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бит/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BaseT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бит/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971640" y="26028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абельная система 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IB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55640" y="981000"/>
          <a:ext cx="8209080" cy="5749920"/>
        </p:xfrm>
        <a:graphic>
          <a:graphicData uri="http://schemas.openxmlformats.org/drawingml/2006/table">
            <a:tbl>
              <a:tblPr/>
              <a:tblGrid>
                <a:gridCol w="1079640"/>
                <a:gridCol w="3286080"/>
                <a:gridCol w="384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кци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W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дножильный. 2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0 Ом в индивидуальном фольговом и общем плетеном экране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тационарная проводка. Очень жесткий и громоздкий, но име­ет лучшие характеристики передач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W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дножильный. 2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0 Ом в индивидуальном фольговом и общем плетеном экране + 2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ия +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тационарная проводка. Очень толстый, тяжелый и жестк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или 2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W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, 3 или 4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ия, с фильтрами может использоваться и дл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6 Мбит/с (не рекомендуется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5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оптоволокна 100/140 мк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6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W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ногожильный. 2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0 О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нуры и перемычки дл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6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W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ногожильный. 2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0 Ом без индивидуальных экран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уры и перемычки дл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8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W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многожильный плоский. 2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0 О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ковёрный для шнуров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9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W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ногожильный или одножильный. 2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0 О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егченная проводка дл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enum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перемычки и коммутационные шнур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684072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928880" y="85716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оннекторы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1571760" y="1643040"/>
            <a:ext cx="5761080" cy="38368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285840" y="5500800"/>
            <a:ext cx="8643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еометрия модульных розеток: а — 6-позиционные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— 8-позиционные, в — модифицированные (MMJ),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г — с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люч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619280" y="378936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643040" y="3571920"/>
            <a:ext cx="554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дульная вилка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J-4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1258920" y="227664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357200" y="100008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Раскладка проводов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928800" y="2357280"/>
            <a:ext cx="7632720" cy="2590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785880" y="52858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складка проводов для модульных соединителей: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IA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A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568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IA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A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568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7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050920" y="1052640"/>
            <a:ext cx="56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Модульные розетк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403280" y="2781360"/>
            <a:ext cx="7056000" cy="3168720"/>
            <a:chOff x="1403280" y="2781360"/>
            <a:chExt cx="7056000" cy="3168720"/>
          </a:xfrm>
        </p:grpSpPr>
        <p:pic>
          <p:nvPicPr>
            <p:cNvPr id="92" name="Picture 5" descr=""/>
            <p:cNvPicPr/>
            <p:nvPr/>
          </p:nvPicPr>
          <p:blipFill>
            <a:blip r:embed="rId1"/>
            <a:stretch/>
          </p:blipFill>
          <p:spPr>
            <a:xfrm>
              <a:off x="5766480" y="2857320"/>
              <a:ext cx="2692800" cy="302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6" descr=""/>
            <p:cNvPicPr/>
            <p:nvPr/>
          </p:nvPicPr>
          <p:blipFill>
            <a:blip r:embed="rId2"/>
            <a:stretch/>
          </p:blipFill>
          <p:spPr>
            <a:xfrm>
              <a:off x="1403280" y="2781360"/>
              <a:ext cx="2520720" cy="3168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6840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689440" cy="46926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1692360" y="5949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арианты исполнения модульных розеток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 — гнездо, 2 — шторка, 3 — колпачо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451640" y="2205000"/>
            <a:ext cx="144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332000" y="2349360"/>
            <a:ext cx="64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7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755640" y="10526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Ударный инструмент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7488360" cy="42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042920" y="314100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cc0000"/>
              </a:buClr>
              <a:buFont typeface="Verdana"/>
              <a:buChar char="•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оаксиальный кабель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c0000"/>
              </a:buClr>
              <a:buFont typeface="Verdana"/>
              <a:buChar char="•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витая пара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c0000"/>
              </a:buClr>
              <a:buFont typeface="Verdana"/>
              <a:buChar char="•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оптоволоконный кабел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353440" cy="20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большинстве сетей применяются три основные группы кабеле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7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050920" y="1052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римпе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7885080" cy="29289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2340000" y="470664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импер для модульных вилок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 — сменные губки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 — отрезной нож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 — нож для снятия чулк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7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050920" y="1052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Укладка провод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7885080" cy="22114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1116000" y="429264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авильный монтаж и ошибки для модульных соединителей витой пары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— правильно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 — переворот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— пересечение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г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— расщепление пар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5480" y="189000"/>
            <a:ext cx="871524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fiber optic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357200" y="1928880"/>
            <a:ext cx="6624720" cy="34513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>
            <a:off x="285840" y="55004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товолокно в буфере: а — одномодовое, б — многомодовое. 1 — сердцевина, 2 — оптическая оболочка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 — защитное покрытие, 4 — буфер (необязательный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864396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fiber optic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8100720" cy="39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5480" y="333360"/>
            <a:ext cx="86058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14240" y="107172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для наружной проклад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7272360" cy="2979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7"/>
          <p:cNvSpPr/>
          <p:nvPr/>
        </p:nvSpPr>
        <p:spPr>
          <a:xfrm>
            <a:off x="179280" y="4788000"/>
            <a:ext cx="896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 — в грунте и под водой, б — в кабельной канализации. 1 — модуль оптических волокон в 250-мкм покрытии, 2 — центральный силовой элемент, 3 — кордель (стеклонити), 4 — гидрофобный заполнитель (гель), 5 — промежуточная оболочка, 6 — броня из стальной проволоки, 7 — наружная оболочка (полиэтилен), 8 — упрочняющие элементы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714240" y="107172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распределительны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642960" y="2000160"/>
            <a:ext cx="8028000" cy="22305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250920" y="442908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— трубчатый обычный, б — с защитой от грызунов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— профильный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 — оптические волокна в 900-мкм буфере, 2 — центральный силовой элемент, 3 —упрочняющие элементы (кевлар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 — наружная оболочка, 5 — полимерная трубка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6 —стекловолоконные нити, 7 — профильный модул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85840" y="333360"/>
            <a:ext cx="86058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714240" y="107172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для изготовления шнур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857160" y="1928880"/>
            <a:ext cx="7488360" cy="2903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250920" y="485784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— симплексный, б — дуплексный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hot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u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 —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уплексный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eakout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 — оптические волокна в 900-мкм буфере, 2,— упрочняющие элементы (кевлар), 3 — наружная оболочк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85840" y="333360"/>
            <a:ext cx="86058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642960" y="100008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оннекторы 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S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357200" y="2000160"/>
            <a:ext cx="7417080" cy="17542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285840" y="333360"/>
            <a:ext cx="86058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85880" y="371484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оннекторы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 S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1187280" y="4643280"/>
            <a:ext cx="795672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714240" y="100008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оннекторы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 F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214280" y="1643040"/>
            <a:ext cx="7740720" cy="17272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285840" y="333360"/>
            <a:ext cx="86058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714240" y="328608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оннекторы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 FDD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000160" y="4214880"/>
            <a:ext cx="500076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785880" y="107172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Вид поверхности торц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071720" y="2000160"/>
            <a:ext cx="7488000" cy="30495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571680" y="50007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а —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деально, б — требуется дополнительная полировка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— бра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85840" y="333360"/>
            <a:ext cx="86058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488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оаксиальный кабель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coaxial cable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116000" y="2852640"/>
            <a:ext cx="7848720" cy="36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488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оаксиальный кабель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coaxial cable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79280" y="4797360"/>
            <a:ext cx="8964720" cy="1827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403280" y="263700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Существует два тип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c0000"/>
              </a:buClr>
              <a:buFont typeface="Verdana"/>
              <a:buChar char="•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тонкий коаксиальный кабель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c0000"/>
              </a:buClr>
              <a:buFont typeface="Verdana"/>
              <a:buChar char="•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толстый коаксиальный кабел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9720" y="214200"/>
            <a:ext cx="748836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оаксиальный кабель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thin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axial cable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00080" y="2620800"/>
          <a:ext cx="7416720" cy="4023000"/>
        </p:xfrm>
        <a:graphic>
          <a:graphicData uri="http://schemas.openxmlformats.org/drawingml/2006/table">
            <a:tbl>
              <a:tblPr/>
              <a:tblGrid>
                <a:gridCol w="1405080"/>
                <a:gridCol w="4840200"/>
                <a:gridCol w="11714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 каб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ис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58 /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58 A/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58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5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К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К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лошная медная жил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плетенные прово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енный стандарт для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8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ьзуется для широкополосной передачи (кабельное телевидение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еет больший диаметр по сравнению с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9, предназначен для более высоких частот, но может применяться и для широкополосной передач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ьзуется в сетях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бельное телеви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бельное телеви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748836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оаксиальный кабель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thick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axial cable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28800" y="2716200"/>
          <a:ext cx="7416720" cy="1569960"/>
        </p:xfrm>
        <a:graphic>
          <a:graphicData uri="http://schemas.openxmlformats.org/drawingml/2006/table">
            <a:tbl>
              <a:tblPr/>
              <a:tblGrid>
                <a:gridCol w="1224000"/>
                <a:gridCol w="5111640"/>
                <a:gridCol w="10810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 каб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ис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ист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истраль, кабельное телеви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285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Аксессуары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N-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типа для толстого коаксиального кабел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7885080" cy="43210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142920" y="60001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— вилка; б 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коннектор;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, г —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ерминаторы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 —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еходник к 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0" y="142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Аксессуары В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N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С для тонкого коаксиального кабел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7885080" cy="3814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357120" y="54288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— обжимной, б 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коннектор, в — навинчивающийся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г, д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— Т-коннекторы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е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— гнездо, ж, з — терминато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748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Коаксиальный кабель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050920" y="1052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В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N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С-коннектор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7416720" cy="135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1403280" y="4048200"/>
            <a:ext cx="7056360" cy="2809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2124000" y="342900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Стрипер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9:23:47Z</dcterms:created>
  <dc:creator>mws</dc:creator>
  <dc:description/>
  <dc:language>en-US</dc:language>
  <cp:lastModifiedBy>admin</cp:lastModifiedBy>
  <dcterms:modified xsi:type="dcterms:W3CDTF">2011-12-05T15:08:45Z</dcterms:modified>
  <cp:revision>35</cp:revision>
  <dc:subject/>
  <dc:title>Слайд 1</dc:title>
</cp:coreProperties>
</file>