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A2C-81EC-4BB2-A49E-0B4022C2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6F1-87AE-4BED-B1F2-B4EAE8D3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682-7666-4C9E-8A01-93AB95EB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FA7-D0B7-4CDC-85B0-C12D8ADD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C9C-EA42-4B5C-B273-7325254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39F-29EE-4921-9E01-4831F70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9E6-8F1F-4D8C-97A1-A3D0E6B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3E3-8F69-4CEA-97FB-59CE676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463-6292-4CBE-A125-BF56C80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F98-CAF5-4325-B7DD-C62337A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D86-8A74-4C33-9CEC-9EDF68D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497-52BB-4148-A839-53017B0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ED2-6BD7-4BF8-8749-0FD7AF3C1A6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143000" y="1643040"/>
            <a:ext cx="7238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33cc"/>
                </a:solidFill>
                <a:latin typeface="Arial"/>
              </a:rPr>
              <a:t>Сетевой кабель</a:t>
            </a:r>
            <a:endParaRPr b="0" lang="en-US" sz="10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римпе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4167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889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wisted pair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042920" y="2997360"/>
            <a:ext cx="56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неэкранированная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(unshielded)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-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UTP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экранированная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(shielded)  -  ST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407280" y="3716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440" y="189000"/>
            <a:ext cx="735804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итая пара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wisted pair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63272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5840" y="3929040"/>
            <a:ext cx="864216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a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UTP категории 3-5, б — DTP категори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6, 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ScTP, FTP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SFTP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STP Туре 1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PiMF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провод в изоляции, 2 — внешняя оболо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сепаратор, 4 — экран из фольги, 5 — дренажный пров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— экранирующая опле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5726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Неэкранированная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витая пар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85920" y="8571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Категории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IA/TIA 568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85880" y="1500120"/>
          <a:ext cx="7786800" cy="5072040"/>
        </p:xfrm>
        <a:graphic>
          <a:graphicData uri="http://schemas.openxmlformats.org/drawingml/2006/table">
            <a:tbl>
              <a:tblPr/>
              <a:tblGrid>
                <a:gridCol w="1657440"/>
                <a:gridCol w="3533760"/>
                <a:gridCol w="259560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лоса частот, М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огов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леф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ифровая телефо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aseT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бит/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971640" y="26028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абельная система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IB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55640" y="981000"/>
          <a:ext cx="8209080" cy="5749920"/>
        </p:xfrm>
        <a:graphic>
          <a:graphicData uri="http://schemas.openxmlformats.org/drawingml/2006/table">
            <a:tbl>
              <a:tblPr/>
              <a:tblGrid>
                <a:gridCol w="1079640"/>
                <a:gridCol w="3286080"/>
                <a:gridCol w="384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в индивидуальном фольговом и общем плетеном экран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тационарная проводка. Очень жесткий и громоздкий, но име­ет лучшие характеристики передач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в индивидуальном фольговом и общем плетеном экране +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ия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тационарная проводка. Очень толстый, тяжелый и жестк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или 2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, 3 или 4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ия, с фильтрами может использоваться 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6 Мбит/с (не рекомендуется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птоволокна 100/140 мк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нуры и перемычк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6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 без индивидуальных экран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уры и перемычки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8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ногожильный плоски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овёрный для шнуров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е 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W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ногожильный или одножильный. 2 пар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P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0 О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егченная проводка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ken Rin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en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перемычки и коммутационные шн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84072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28880" y="8571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5761080" cy="3836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285840" y="5500800"/>
            <a:ext cx="8643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еометрия модульных розеток: а — 6-позиционны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8-позиционные, в — модифицированные (MMJ)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—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люч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619280" y="3789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643040" y="3571920"/>
            <a:ext cx="554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дульная вилк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J-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258920" y="227664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357200" y="100008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аскладка проводов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28800" y="2357280"/>
            <a:ext cx="763272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785880" y="52858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кладка проводов для модульных соединителей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568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A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568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050920" y="105264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Модульные розет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2781360"/>
            <a:ext cx="7056000" cy="3168720"/>
            <a:chOff x="1403280" y="2781360"/>
            <a:chExt cx="7056000" cy="3168720"/>
          </a:xfrm>
        </p:grpSpPr>
        <p:pic>
          <p:nvPicPr>
            <p:cNvPr id="92" name="Picture 5" descr=""/>
            <p:cNvPicPr/>
            <p:nvPr/>
          </p:nvPicPr>
          <p:blipFill>
            <a:blip r:embed="rId1"/>
            <a:stretch/>
          </p:blipFill>
          <p:spPr>
            <a:xfrm>
              <a:off x="5766480" y="2857320"/>
              <a:ext cx="2692800" cy="30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1403280" y="2781360"/>
              <a:ext cx="2520720" cy="316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84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4692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692360" y="5949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арианты исполнения модульных розето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гнездо, 2 — шторка, 3 — колпач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451640" y="220500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332000" y="234936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55640" y="1052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Ударный инструмен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48836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042920" y="3141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аксиальный кабель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итая пара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оптоволоконный кабел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35344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большинстве сетей применяются три основные группы кабеле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римпе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885080" cy="2928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2340000" y="4706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импер для модульных вилок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сменные губк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 — отрезной нож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нож для снятия чул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Витая пар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Укладка провод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885080" cy="2211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116000" y="4292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авильный монтаж и ошибки для модульных соединителей витой пары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правильно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— переворо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пересечени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расщепление пар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189000"/>
            <a:ext cx="871524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fiber opti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62472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285840" y="5500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товолокно в буфере: а — одномодовое, б — многомодовое. 1 — сердцевина, 2 — оптическая оболочк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— защитное покрытие, 4 — буфер (необязательный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fiber optic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0072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48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для наружной проклад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272360" cy="2979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179280" y="4788000"/>
            <a:ext cx="89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— в грунте и под водой, б — в кабельной канализации. 1 — модуль оптических волокон в 250-мкм покрытии, 2 — центральный силовой элемент, 3 — кордель (стеклонити), 4 — гидрофобный заполнитель (гель), 5 — промежуточная оболочка, 6 — броня из стальной проволоки, 7 — наружная оболочка (полиэтилен), 8 — упрочняющие элемент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аспределитель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028000" cy="2230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250920" y="44290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трубчатый обычный, б — с защитой от грызун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профильный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оптические волокна в 900-мкм буфере, 2 — центральный силовой элемент, 3 —упрочняющие элементы (кевлар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 — наружная оболочка, 5 — полимерная труб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 —стекловолоконные нити, 7 — профильный модул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71424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для изготовления шнур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488360" cy="2903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250920" y="485784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симплексный, б — дуплекс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o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u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уплексный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eakout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 — оптические волокна в 900-мкм буфере, 2,— упрочняющие элементы (кевлар), 3 — наружная оболоч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2960" y="1000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 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7417080" cy="1754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85880" y="37148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S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1187280" y="4643280"/>
            <a:ext cx="795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714240" y="1000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F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7740720" cy="1727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14240" y="328608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Коннекторы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FDD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0160" y="4214880"/>
            <a:ext cx="50007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785880" y="107172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ид поверхности торц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488000" cy="3049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571680" y="5000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деально, б — требуется дополнительная полиров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— бр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85840" y="333360"/>
            <a:ext cx="8605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товолоконный кабе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784872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8964720" cy="182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403280" y="263700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Существует два ти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тонкий коаксиальный кабел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c0000"/>
              </a:buClr>
              <a:buFont typeface="Verdana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толстый коаксиальный кабел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9720" y="214200"/>
            <a:ext cx="7488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hi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00080" y="2620800"/>
          <a:ext cx="7416720" cy="4023000"/>
        </p:xfrm>
        <a:graphic>
          <a:graphicData uri="http://schemas.openxmlformats.org/drawingml/2006/table">
            <a:tbl>
              <a:tblPr/>
              <a:tblGrid>
                <a:gridCol w="1405080"/>
                <a:gridCol w="4840200"/>
                <a:gridCol w="1171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 каб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A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5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лошная медная ж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плетенные пров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енный стандарт дл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ся для широкополосной передачи (кабельное телевидени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ет больший диаметр по сравнению с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9, предназначен для более высоких частот, но может применяться и для широкополосной пере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ся в сетя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7488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thick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axial cable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28800" y="2716200"/>
          <a:ext cx="7416720" cy="1569960"/>
        </p:xfrm>
        <a:graphic>
          <a:graphicData uri="http://schemas.openxmlformats.org/drawingml/2006/table">
            <a:tbl>
              <a:tblPr/>
              <a:tblGrid>
                <a:gridCol w="1224000"/>
                <a:gridCol w="5111640"/>
                <a:gridCol w="1081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 каб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G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ист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истраль, кабельное телеви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Аксессуары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N-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типа для толстого коаксиального кабе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885080" cy="4321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42920" y="60001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вилка; б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коннектор;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, г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рминаторы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ник к 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Аксессуары В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 для тонкого коаксиального кабел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885080" cy="3814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57120" y="54288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— обжимной, б 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коннектор, в — навинчивающий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, д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Т-коннекторы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— гнездо, ж, з — термина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Коаксиальный кабель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0920" y="1052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В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N</a:t>
            </a: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-коннекто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7416720" cy="135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1403280" y="4048200"/>
            <a:ext cx="7056360" cy="28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124000" y="3429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Стрипер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9:23:47Z</dcterms:created>
  <dc:creator>mws</dc:creator>
  <dc:description/>
  <dc:language>en-US</dc:language>
  <cp:lastModifiedBy>admin</cp:lastModifiedBy>
  <dcterms:modified xsi:type="dcterms:W3CDTF">2011-12-05T15:08:45Z</dcterms:modified>
  <cp:revision>35</cp:revision>
  <dc:subject/>
  <dc:title>Слайд 1</dc:title>
</cp:coreProperties>
</file>