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762F-4F26-420E-8716-76A2ADA5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3136-D2DB-4C88-B6A0-0FCCF054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2C65-BA78-4B86-BD04-847C3BFB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4290-758A-4442-838C-76495C4B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5B55-CE44-43E5-A7F8-E63D660A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9E6D-500A-4581-A9B4-7D03E9A5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7D4C-59CD-443E-A23F-A921BDB3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3082-3860-49AD-B0FB-5246F156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53C7-7076-4E1B-9092-8225362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13A-491F-4934-938E-B8BE7B47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2123-B1C7-4601-BC24-09A2390F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6F62-E576-4300-9C8E-C471F067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255E-18B6-41A4-BC05-D726E38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70CE-CD32-4B98-9439-AB07E5E1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03F3-8C58-45EA-AECB-39C9D680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E4B6-D0ED-4DBE-A596-0768D9A8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DBC-9B8A-4879-8137-25A9917A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6C6A-6CFA-4D43-867E-BBC4255C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C61F-EDEB-43E0-8072-B4456F33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EC3A-A9DA-4BF1-843F-E114A4F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AC8B-AA0E-41AC-BB03-CC650C53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AE5D-E46D-4A1D-9161-5ECC8E9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DB24-F836-4CC8-83B4-E518B54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2793-F197-49A4-B544-189BE64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5F4C-A4DE-4B61-8537-312F67864B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6C6E-CEA7-4ED0-96ED-33201E8199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20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ДИАГНОСТИКА СИСТЕМЫ ГЕМОСТАЗ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Количество тромбоцит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ое содержание – 150.000-350.000/м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количестве менее 150.000/мкл говорят о тромбоцитопении, при количестве более 350.000/мкл – о тромбоцито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севдотромбоцитопения: встречается в 0.1% случаев исследования ОАК аппаратным методом. Она обусловлена наличием EDTA-зависимого агглютинина тромбоцитов. Для ее исключения необходимо повторное исследование мазка периферической кров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Исследование агрегации тромбоцит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грегатометрия тромбоцитов – исследование, выполняемое только в специализированных лаборатория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обходимо для контроля эффективности терапии антиагрегант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пользуется цельная кровь и богатая тромбоцитами плазма (количество тромбоцитов должно составлять 200 клеток/нл, что невозможно при тяжелой тромбоцитопени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ычно используются активаторы агрегации двух различных концентраций, форма кривых реакции зависит от концентрации агонис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Основные параметры агрегатограмм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1280" y="1608120"/>
            <a:ext cx="131760" cy="3989520"/>
            <a:chOff x="611280" y="1608120"/>
            <a:chExt cx="131760" cy="3989520"/>
          </a:xfrm>
        </p:grpSpPr>
        <p:sp>
          <p:nvSpPr>
            <p:cNvPr id="122" name=""/>
            <p:cNvSpPr/>
            <p:nvPr/>
          </p:nvSpPr>
          <p:spPr>
            <a:xfrm>
              <a:off x="611280" y="1608120"/>
              <a:ext cx="0" cy="3989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1280" y="1608120"/>
              <a:ext cx="13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280" y="3634920"/>
              <a:ext cx="13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597640"/>
              <a:ext cx="13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43040" y="540072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3040" y="344016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040" y="141300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2219400"/>
            <a:ext cx="3565440" cy="3246480"/>
          </a:xfrm>
          <a:custGeom>
            <a:avLst/>
            <a:gdLst/>
            <a:ahLst/>
            <a:rect l="l" t="t" r="r" b="b"/>
            <a:pathLst>
              <a:path w="2450" h="2252">
                <a:moveTo>
                  <a:pt x="0" y="2252"/>
                </a:moveTo>
                <a:cubicBezTo>
                  <a:pt x="113" y="2037"/>
                  <a:pt x="227" y="1822"/>
                  <a:pt x="318" y="1663"/>
                </a:cubicBezTo>
                <a:cubicBezTo>
                  <a:pt x="409" y="1504"/>
                  <a:pt x="462" y="1323"/>
                  <a:pt x="545" y="1300"/>
                </a:cubicBezTo>
                <a:cubicBezTo>
                  <a:pt x="628" y="1277"/>
                  <a:pt x="726" y="1579"/>
                  <a:pt x="817" y="1526"/>
                </a:cubicBezTo>
                <a:cubicBezTo>
                  <a:pt x="908" y="1473"/>
                  <a:pt x="953" y="1201"/>
                  <a:pt x="1089" y="982"/>
                </a:cubicBezTo>
                <a:cubicBezTo>
                  <a:pt x="1225" y="763"/>
                  <a:pt x="1474" y="370"/>
                  <a:pt x="1633" y="211"/>
                </a:cubicBezTo>
                <a:cubicBezTo>
                  <a:pt x="1792" y="52"/>
                  <a:pt x="1905" y="60"/>
                  <a:pt x="2041" y="30"/>
                </a:cubicBezTo>
                <a:cubicBezTo>
                  <a:pt x="2177" y="0"/>
                  <a:pt x="2382" y="30"/>
                  <a:pt x="2450" y="3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2349360"/>
            <a:ext cx="0" cy="3095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5445000"/>
            <a:ext cx="28083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49878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1700280"/>
            <a:ext cx="2232000" cy="49780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СА – степень агрегации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   (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=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 25-45%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ВА – время агрегации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   (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= 2,5-3,0 мин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* - нормы при использовании АДФ до 5 мкм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Типы агрегатограм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11280" y="1413000"/>
            <a:ext cx="5545080" cy="4356000"/>
            <a:chOff x="611280" y="1413000"/>
            <a:chExt cx="5545080" cy="4356000"/>
          </a:xfrm>
        </p:grpSpPr>
        <p:grpSp>
          <p:nvGrpSpPr>
            <p:cNvPr id="137" name=""/>
            <p:cNvGrpSpPr/>
            <p:nvPr/>
          </p:nvGrpSpPr>
          <p:grpSpPr>
            <a:xfrm>
              <a:off x="611280" y="1608120"/>
              <a:ext cx="131760" cy="3989520"/>
              <a:chOff x="611280" y="1608120"/>
              <a:chExt cx="131760" cy="3989520"/>
            </a:xfrm>
          </p:grpSpPr>
          <p:sp>
            <p:nvSpPr>
              <p:cNvPr id="138" name=""/>
              <p:cNvSpPr/>
              <p:nvPr/>
            </p:nvSpPr>
            <p:spPr>
              <a:xfrm>
                <a:off x="611280" y="1608120"/>
                <a:ext cx="0" cy="3989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1280" y="1608120"/>
                <a:ext cx="131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1280" y="3634920"/>
                <a:ext cx="131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1280" y="5597640"/>
                <a:ext cx="131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43040" y="5400720"/>
              <a:ext cx="26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3040" y="3440160"/>
              <a:ext cx="4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3040" y="1413000"/>
              <a:ext cx="5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9760" y="1924200"/>
              <a:ext cx="3894120" cy="3541680"/>
            </a:xfrm>
            <a:custGeom>
              <a:avLst/>
              <a:gdLst/>
              <a:ahLst/>
              <a:rect l="l" t="t" r="r" b="b"/>
              <a:pathLst>
                <a:path w="2676" h="2457">
                  <a:moveTo>
                    <a:pt x="0" y="2457"/>
                  </a:moveTo>
                  <a:cubicBezTo>
                    <a:pt x="72" y="2234"/>
                    <a:pt x="144" y="2011"/>
                    <a:pt x="272" y="1731"/>
                  </a:cubicBezTo>
                  <a:cubicBezTo>
                    <a:pt x="400" y="1451"/>
                    <a:pt x="574" y="1013"/>
                    <a:pt x="771" y="779"/>
                  </a:cubicBezTo>
                  <a:cubicBezTo>
                    <a:pt x="968" y="545"/>
                    <a:pt x="1233" y="446"/>
                    <a:pt x="1452" y="325"/>
                  </a:cubicBezTo>
                  <a:cubicBezTo>
                    <a:pt x="1671" y="204"/>
                    <a:pt x="1883" y="106"/>
                    <a:pt x="2087" y="53"/>
                  </a:cubicBezTo>
                  <a:cubicBezTo>
                    <a:pt x="2291" y="0"/>
                    <a:pt x="2578" y="15"/>
                    <a:pt x="2676" y="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9160" y="2219400"/>
              <a:ext cx="3565440" cy="3246480"/>
            </a:xfrm>
            <a:custGeom>
              <a:avLst/>
              <a:gdLst/>
              <a:ahLst/>
              <a:rect l="l" t="t" r="r" b="b"/>
              <a:pathLst>
                <a:path w="2450" h="2252">
                  <a:moveTo>
                    <a:pt x="0" y="2252"/>
                  </a:moveTo>
                  <a:cubicBezTo>
                    <a:pt x="113" y="2037"/>
                    <a:pt x="227" y="1822"/>
                    <a:pt x="318" y="1663"/>
                  </a:cubicBezTo>
                  <a:cubicBezTo>
                    <a:pt x="409" y="1504"/>
                    <a:pt x="462" y="1323"/>
                    <a:pt x="545" y="1300"/>
                  </a:cubicBezTo>
                  <a:cubicBezTo>
                    <a:pt x="628" y="1277"/>
                    <a:pt x="726" y="1579"/>
                    <a:pt x="817" y="1526"/>
                  </a:cubicBezTo>
                  <a:cubicBezTo>
                    <a:pt x="908" y="1473"/>
                    <a:pt x="953" y="1201"/>
                    <a:pt x="1089" y="982"/>
                  </a:cubicBezTo>
                  <a:cubicBezTo>
                    <a:pt x="1225" y="763"/>
                    <a:pt x="1474" y="370"/>
                    <a:pt x="1633" y="211"/>
                  </a:cubicBezTo>
                  <a:cubicBezTo>
                    <a:pt x="1792" y="52"/>
                    <a:pt x="1905" y="60"/>
                    <a:pt x="2041" y="30"/>
                  </a:cubicBezTo>
                  <a:cubicBezTo>
                    <a:pt x="2177" y="0"/>
                    <a:pt x="2382" y="30"/>
                    <a:pt x="2450" y="3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08480" y="4344840"/>
              <a:ext cx="1847880" cy="1121040"/>
            </a:xfrm>
            <a:custGeom>
              <a:avLst/>
              <a:gdLst/>
              <a:ahLst/>
              <a:rect l="l" t="t" r="r" b="b"/>
              <a:pathLst>
                <a:path w="1270" h="778">
                  <a:moveTo>
                    <a:pt x="0" y="778"/>
                  </a:moveTo>
                  <a:cubicBezTo>
                    <a:pt x="61" y="642"/>
                    <a:pt x="122" y="506"/>
                    <a:pt x="182" y="415"/>
                  </a:cubicBezTo>
                  <a:cubicBezTo>
                    <a:pt x="242" y="324"/>
                    <a:pt x="303" y="302"/>
                    <a:pt x="363" y="234"/>
                  </a:cubicBezTo>
                  <a:cubicBezTo>
                    <a:pt x="423" y="166"/>
                    <a:pt x="500" y="14"/>
                    <a:pt x="545" y="7"/>
                  </a:cubicBezTo>
                  <a:cubicBezTo>
                    <a:pt x="590" y="0"/>
                    <a:pt x="597" y="98"/>
                    <a:pt x="635" y="189"/>
                  </a:cubicBezTo>
                  <a:cubicBezTo>
                    <a:pt x="673" y="280"/>
                    <a:pt x="718" y="460"/>
                    <a:pt x="771" y="551"/>
                  </a:cubicBezTo>
                  <a:cubicBezTo>
                    <a:pt x="824" y="642"/>
                    <a:pt x="870" y="703"/>
                    <a:pt x="953" y="733"/>
                  </a:cubicBezTo>
                  <a:cubicBezTo>
                    <a:pt x="1036" y="763"/>
                    <a:pt x="1217" y="733"/>
                    <a:pt x="1270" y="7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26920" y="573408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580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805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              2                    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2060640"/>
            <a:ext cx="2087640" cy="40690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1 – необратимая (монофазная) кри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2 – двухфазная кри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3 – обратимая (дезагрегация) кр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зависимости от используемых активаторов (адреналин, коллаген, АДФ, ристоцетин, арахидоновая кислота, тромбин) могут быть обнаружены дефекты функции тромбоцитов или дефицит ф. Виллебран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иболее распространенные индукторы агрегации – АДФ и адренал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арактер агрегации при индукции АДФ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0,5 мкмоль – обратимая агрег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 5 мкмоль – двухфазная агрег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 10 мкмоль – необратимая однофазная агрегац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68360" y="331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Исследование агрегации тромбоцит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349200"/>
            <a:ext cx="8642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грегационный ответ при наиболее частых аномалиях тромбоцитов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8000" y="1324080"/>
          <a:ext cx="8929800" cy="5108400"/>
        </p:xfrm>
        <a:graphic>
          <a:graphicData uri="http://schemas.openxmlformats.org/drawingml/2006/table">
            <a:tbl>
              <a:tblPr/>
              <a:tblGrid>
                <a:gridCol w="2232000"/>
                <a:gridCol w="865080"/>
                <a:gridCol w="1295640"/>
                <a:gridCol w="1295280"/>
                <a:gridCol w="1152360"/>
                <a:gridCol w="1152720"/>
                <a:gridCol w="936720"/>
              </a:tblGrid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боле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дренал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рахидо-новая к-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оллаг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исто-цет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индром Виллебра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↑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b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ипе)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индром Бернара_Суль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ромбастения Гланцм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спирин-подобные нару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болевания пула хра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Тромбоэластография и тромбоэластометр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0840" indent="-3308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aramond"/>
              </a:rPr>
              <a:t>Тромбоэластограф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редставлена в 1948 Н.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Harter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спользуется цельная кровь, цельная кровь с антикоагулянтом, богатая или бедная тромбоцитами плаз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характеризует систему гемостаза в целом (а не ее изолированные части), дает представление о процессе образования сгустка, его механических характеристиках, плотности, стабильности и процессе фибринолиз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aramond"/>
              </a:rPr>
              <a:t>Новая модификация классической тромбоэластографии - тромбоэластометрия (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Garamond"/>
              </a:rPr>
              <a:t>ROTEM</a:t>
            </a:r>
            <a:r>
              <a:rPr b="1" lang="ru-RU" sz="2400" spc="-1" strike="noStrike" u="sng" baseline="30000">
                <a:solidFill>
                  <a:srgbClr val="ff3300"/>
                </a:solidFill>
                <a:uFillTx/>
                <a:latin typeface="Garamond"/>
              </a:rPr>
              <a:t>®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Garamond"/>
              </a:rPr>
              <a:t>)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Garamond"/>
              </a:rPr>
              <a:t>(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Garamond"/>
              </a:rPr>
              <a:t>Calatzis et al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Garamond"/>
              </a:rPr>
              <a:t>., 1994)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збегает методологических проблем традиционного метода (чувствительность к колебаниям или механическим ударам)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спользуется компьютерный анализ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араметры тромбоэластограм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214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4327560"/>
            <a:ext cx="83534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емя до начала образования фибрина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врем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емя формирования сгустка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врем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аксимальная амплитуда (зависит от концентрации фибриногена, количества и качества тромбоцитов, взаимодействия фибрина и тромбоцитов в сгустк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емя лизиса тромб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Последовательные этапы формирования сгустка крови и соответствующие изменения на тромбоэластограмм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7056720" cy="280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7299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0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Последовательные этапы формирования сгустка крови и соответствующие изменения на тромбоэластограмм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3520" y="1125360"/>
            <a:ext cx="7116840" cy="2808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835280" y="3933720"/>
            <a:ext cx="7132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Диагностика нарушений гемостаза: общие принципы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80" y="347760"/>
            <a:ext cx="8507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Последовательные этапы формирования сгустка крови и соответствующие изменения на тромбоэластограмм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684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ипичные примеры измененных тромбоэластограм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Электрокоагулограф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алог тромбоэластограф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арактеризует систему гемостаза в целом, дает представление о процессе образования сгустка, его механических характеристиках, плотности, стабильности и процессе фибриноли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бор “Коагулограф Н-333” создан в Ленинградском филиале ВНИИМП, впервые апробирован коллективом авторов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У. В. Ватмахер, Е. К. Жаворонкова, М. А. Котовщикова, И. А. Толстопятова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1967 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нцип работы коагулографа основан на регистрации изменений электропроводности и вязкости крови в процессе ее свертыван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араметры электрокоагулограм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119844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Расчетные показатели электрокоагулограммы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9920" y="1197000"/>
          <a:ext cx="8794800" cy="5450040"/>
        </p:xfrm>
        <a:graphic>
          <a:graphicData uri="http://schemas.openxmlformats.org/drawingml/2006/table">
            <a:tbl>
              <a:tblPr/>
              <a:tblGrid>
                <a:gridCol w="2170080"/>
                <a:gridCol w="1511280"/>
                <a:gridCol w="2016000"/>
                <a:gridCol w="30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Формула расч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Интерпретация показа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тепень коагуляци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77,2-91,6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(Ам-Ао)/Ам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Характеризует все факторы, влияющие на образование сгус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коагуляционная активнос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2,0-16,2 у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СК/ (Т</a:t>
                      </a:r>
                      <a:r>
                        <a:rPr b="1" lang="en-US" sz="1800" spc="-1" strike="noStrike" baseline="-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Т</a:t>
                      </a:r>
                      <a:r>
                        <a:rPr b="1" lang="en-US" sz="1800" spc="-1" strike="noStrike" baseline="-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тепень фибринолиз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9,8-18,8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(Аф-Ао)/(Ам-Ао)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Характеризуют процессы ретракции и фибриноли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фибринолитич. потенциа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0,7-1,1 у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СФ / (Тпс+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гемостатический потенциа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2,3-3,3 у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КА /ФП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0,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Интегральный показатель, взаимодействие коагуляци-онного и фибринолитического звеньев системы гемост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ипичные примеры измененных электрокоагулограм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197240" cy="2184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8000" y="4108320"/>
            <a:ext cx="5112000" cy="2200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9280" y="3435480"/>
            <a:ext cx="42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еркоагуляция с угнетением фибриноли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429000"/>
            <a:ext cx="442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тивация фибринолиза, рыхлый сгу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6308640"/>
            <a:ext cx="44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агулопатия потреб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788000" y="1268280"/>
            <a:ext cx="409896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Скрининговые методы исследования свертывания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82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ценка внутреннего пути свертывания (высокомолекулярный кининоген, прекалликреин, ф.XII, ф.XI, ф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X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ф.VIII, ф.X, ф.V, ф.II, фибриног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ниторинг терапии гепарином (гирудин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наружение волчаночных антикогулян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ротромбиновое время (ПТ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ценка внешнего пути свертывания (ф.VII, ф.X, ф.V, ф.II, фибриног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троль терапии оральными антикоагулянт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наружение волчаночных антикоагулянтов (менее чувствительный тест, чем АЧТВ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2602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крининговые методы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Факторы, влияющие на результаты скрининговых тестов АЧТВ и П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лияние дефицита факторов на ПТВ и АЧТВ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4000" y="1122480"/>
          <a:ext cx="8569080" cy="5043240"/>
        </p:xfrm>
        <a:graphic>
          <a:graphicData uri="http://schemas.openxmlformats.org/drawingml/2006/table">
            <a:tbl>
              <a:tblPr/>
              <a:tblGrid>
                <a:gridCol w="3541680"/>
                <a:gridCol w="2452680"/>
                <a:gridCol w="2574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Ч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МК, П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K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или ф.X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XI, ф.IX, 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I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X, 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 ф.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ибрин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XI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оставляющие гемостазиологической диагностик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738440"/>
          <a:ext cx="8569080" cy="430056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1283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АМНЕ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ДИАГНОСТИ-ЧЕСКИЕ МЕТОДЫ В ГЕМОСТАЗ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СТЫ, ИССЛЕДУЮЩИЕ СВЕРТЫВА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/>
                    </a:solidFill>
                  </a:tcPr>
                </a:tc>
              </a:tr>
              <a:tr h="131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СТЫ, ИССЛЕДУЮЩИЕ ФИБРИНО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6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ЗИКАЛЬНОЕ ОБСЛЕД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СТЫ, ИССЛЕДУЮ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УНКЦИЮ ТРОМБОЦИ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лияние некоторых препаратов на ПТВ и АЧТ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981000"/>
          <a:ext cx="8569080" cy="5470560"/>
        </p:xfrm>
        <a:graphic>
          <a:graphicData uri="http://schemas.openxmlformats.org/drawingml/2006/table">
            <a:tbl>
              <a:tblPr/>
              <a:tblGrid>
                <a:gridCol w="3655800"/>
                <a:gridCol w="2536920"/>
                <a:gridCol w="2376360"/>
              </a:tblGrid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епар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Ч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М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гранич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проти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Оральные антикоагуля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/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е определ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епарин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в терапевтическом диапазон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/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е определ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рудин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в терапевтическом диапазон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лчаночные антикоагуля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/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r>
                        <a:rPr b="1" lang="ru-RU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Чувствительность ПТВ и АЧТВ к дефициту факторов свертыва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268280"/>
          <a:ext cx="8640720" cy="541332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2320"/>
                <a:gridCol w="2363760"/>
              </a:tblGrid>
              <a:tr h="49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коагуля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ин. уровень для гемост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Уровень изменения тест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ЧТ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брино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-1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 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/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 г/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6 г/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тром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V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V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6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6360" y="333000"/>
            <a:ext cx="84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граничение клинического применения ПТВ и АЧТ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136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Геморрагический диатез при нормальном ПВ и/или АЧТ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меренная болезнь Виллебранда или гемофил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исфункция тромбоци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а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нтиплазм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исфибриногена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фактор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омалии сосудов или соединительной тка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ноклональная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гаммопа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граничение клинического применения ПВ и АЧТ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326960"/>
            <a:ext cx="849600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Состояния с аномальными скрининговыми тестами, но отсутствием геморрагического диатез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фактор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прекалликре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высокомолекулярного кининог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меренный или средний дефицит фактор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олчаночны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нтикоагулян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збыток цитратного антиокогулян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иапазон нормы ПТВ зависит от используемого метода исследования и реактива: протромбиновое отношение в норме &gt; 1,2; величина ПТИ &gt; 70 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длинение ПТВ обнаружив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ожденном или приобретенном дефиците ф.VII, ф.X, ф.V, ф.II и фибриног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рапии оральными антикоагулянт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е витамина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болеваниях печ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утоантителах против факторов свертывания, волчаночных антикоагулянта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ротромбиновое время (ПТВ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Различные способы выражения П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280" y="907920"/>
          <a:ext cx="8785440" cy="5472360"/>
        </p:xfrm>
        <a:graphic>
          <a:graphicData uri="http://schemas.openxmlformats.org/drawingml/2006/table">
            <a:tbl>
              <a:tblPr/>
              <a:tblGrid>
                <a:gridCol w="5977080"/>
                <a:gridCol w="280836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оммента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тромбиновое время (сек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висит от реактива и метода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82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тромбиновое отношение (ПТО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514"/>
                          </a:solidFill>
                          <a:uFillTx/>
                          <a:latin typeface="Garamond"/>
                        </a:rPr>
                        <a:t>ПТВ плазмы пацие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В норм. плаз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тромбиновый индекс (ПТИ) (%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О * 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еждународное нормализованное отношение (МНО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О в степени величины международного индекса чувствительности (МИЧ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екомендован для контроля терапии ОАК, наиболее стандартизированный спосо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Международное нормализованное отношение (МНО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становлены стандарты ВОЗ для тромбопластина, учитывающие калибровку коммерческих тромбопластино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Международный индекс чувствительности (МИЧ) – специфичный для партии реактивов коррекционный фактор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спользование МИЧ разработано для стандартизации контроля терапии оральными антиокоагулятами (общая единица для определения терапевтического диапазон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ерапевтический диапазон МНО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– 2-3 (профилактика тромбоза без увеличения риска кровотечения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ри приеме ОАК принципиально важно поддержание МНО в терапевтическом диапазон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ермин «частичный тромбопластин» означает, что реактив содержит только фосфолипиды, в нем нет тканевого фактора (в отличие от тромбопластина при исследовании ПТВ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ест чувствителен при дефиците факторов внутреннего пути, при терапии прямыми антикоагулянтами (гепарин, гирудин) и антифибринолитиками (апротинин, который ингибирует калликреин - фермент, вовлеченный в контактную стадию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Широко используется при дооперационном скрининге и для мониторинга терапии гепарино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Более значимый скрининговый дооперационный тест, чем ПТВ, т.к. способен выявлять гемофилию А и 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ый диапазон АЧТВ сильно зависит от метода исследования и реакти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ущественную роль играет преаналитическая стадия: холодовая активация может привести к активации контактной стади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 vitro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 сокращению АЧ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ждая лаборатория должна определять собственный нормальный диапазон для каждой новой партии реакти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корочение АЧТВ обнаруживается у пациентов с тромбофилией (резистентность 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повышение уровня ф.VIII или присутствие активированных факторов свертывания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длинение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ЧТВ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блюд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ожденном или приобретенном дефиците ф.VIII (или дефиците ф. Вилленбранд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е ф.IX, ф.XI или других факторов, кроме ф.VII и ф.XI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рапии гепарином (в какой-то степени НМГ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гепарин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дами), гирудином, апротинин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яжелой дис-  или афибриногене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642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намнез: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опрос пациентов с подозрением на наличие гемостазиологических нарушений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Home D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2004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Первый шаг в исследовании нарушений свертывания и в оценке потенциального риска кровотечения или тромбо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блюдалось ли у вас когда-либо кровотечение в течение или после хирургической манипуляции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блюдалось ли у вас чрезмерное или длительное кровотечение после незначительных порезов или чрезмерные синяки после незначительной травмы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Экстракция зубов - «небрежное», но достаточно точное исследование гемостаза: кровотечение немедленно после экстракции зуба характерно для аномалии сосудов или тромбоцитов, отсроченное кровотечение более совместимо с дефицитом факторов свертывания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Клиническая интерпретация АЧТВ и П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142640"/>
            <a:ext cx="84960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изолированном удлинении ПТВ и АЧТВ в 1,5 раза от середины диапазона нормы риск чрезмерного кровотечения минимален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ustad H, Myhre E.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63;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ahl MJ.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98);</a:t>
            </a:r>
            <a:r>
              <a:rPr b="1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иск кровотечения увеличивают сопутствующие факторы (дисфункции тромбоцитов; активация фибринолиз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сутствуют свидетельства, доказывающие рациональность назначения антикоагулянтной терапии при изолированном снижении АЧТВ: причиной этого может быть повышение реагентов острой фазы (например, ф.VIII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da-DK" sz="2000" spc="-1" strike="noStrike">
                <a:solidFill>
                  <a:srgbClr val="ffffff"/>
                </a:solidFill>
                <a:latin typeface="Garamond"/>
              </a:rPr>
              <a:t>Porcelijn L et al., 1998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Тромбиновое  время (ТВ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крининговый тест на полимеризацию фибриногена/фибрина и качественное исследование гепарина в плазм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полняется добавлением низкой или средней концентрации тромбина (бычьего или человеческого) в плазму, что ведет к формированию фибр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емя свертывания определяется концентрацией и качеством фибриногена и присутствием антитромб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следование не стандартизировано, различные лаборатории используют различные концентрации тромби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ый диапазон зависит от используемого метода и должен быть определен каждой лаборатори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Тромбиновое  время (ТВ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длинение теста наблюдается п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наличии свободного гепари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ысокой концентрации ПДФ (тромболитическая терапия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ВС-синдром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заболеваниях печен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исфибриногенем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аутоантителах против тромбина (применение тромбина или изолятов фибрин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прямые антикоагулянты не влияют на результаты 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зможна модификация исследования (исследование после нейтрализации гепарина протамин-сульфат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Рептилазное время (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Reptilase</a:t>
            </a:r>
            <a:r>
              <a:rPr b="1" lang="ru-RU" sz="4000" spc="-1" strike="noStrike" baseline="30000">
                <a:solidFill>
                  <a:srgbClr val="ffcc00"/>
                </a:solidFill>
                <a:latin typeface="Garamond"/>
              </a:rPr>
              <a:t>®</a:t>
            </a: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tilase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- тромбиноподобная протеаза яда змей, которая способна переводить фибриноген в фибр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tilase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не ингибируется АТ III, гепарином или НМГ – возможность исследовать полимеризацию фибрина в присутствии гепар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следование выполняется совместно с определением тромбинового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птилазное время удлиняется п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афибриногенем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яжелом дефиците фибриноге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ри некоторых формах дисфибриногенем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Garamond"/>
              </a:rPr>
              <a:t>Факторы, влияющие на результаты тестов тромбинового и рептилазного времени 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ромбиновое и рептилазное время при различных состояниях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557360"/>
          <a:ext cx="8229600" cy="4799160"/>
        </p:xfrm>
        <a:graphic>
          <a:graphicData uri="http://schemas.openxmlformats.org/drawingml/2006/table">
            <a:tbl>
              <a:tblPr/>
              <a:tblGrid>
                <a:gridCol w="3322800"/>
                <a:gridCol w="2447640"/>
                <a:gridCol w="245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стоя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иново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ептилазно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паринотерап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личие имунных антитромби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пофибриногенемия (меньше 0,3 г/л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исфибриногенем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личие ПД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Определение фибриногена и факторов свертывания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Нормальный диапазон фибриногена - 1,5 - 4 г/л (150 - 400 мг/дл)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Количество фибриногена зависит от возраст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Фибриноген – острофазный белок; концентрация &gt; 10 г/л наблюдается у пациентов с тяжелым воспалением или тромбозо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ровень фибриногена увеличивается при беременности, после острого инфаркта миокар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Гиперфибриногенемия приводит к повышению вязкости кров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Концентрации фибриногена &lt; 0,5 г/л связана с геморрагическими осложнениям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отребление фибриногена - один из типичных признаков ДВС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исфибриногенемия - относительно часто наблюдаемое нарушени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пределение уровня фибриноге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Исследование факторов свертывания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 случае удлинения ПТВ и АЧТВ при дооперационном скрининговом исследовании необходимо выполнение  дополнительных исследований: уровень фибриногена, тесты на волчаночные антикоагулянты и исследование факторов свертывания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ля исследования факторов свертывания разработаны хромогенные тесты, однако чаще используются коагуляционные исследования: модифицированные тесты ПВ или АЧТВ в комбинации с реактивом плазмы, имеющим дефицит исследуемого фактор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Нормальный диапазон для большинства факторов составляет 70-130 % (для ф.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en-GB" sz="2200" spc="-1" strike="noStrike">
                <a:solidFill>
                  <a:srgbClr val="ffffff"/>
                </a:solidFill>
                <a:latin typeface="Garamond"/>
              </a:rPr>
              <a:t>III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более широкий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меренное сокращение активности не связано с кровотечением, за исключением проведения крупных операций или присутствия других факторов риска (например, нарушение функции тромбоцитов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836640"/>
          <a:ext cx="8785440" cy="51004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53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2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ифосфолипидный 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слеоперационный пери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утация ф.</a:t>
                      </a:r>
                      <a:r>
                        <a:rPr b="1" lang="en-GB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20210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ведение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65-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локачественные опух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след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иместр бе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олест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слеоперационный перио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642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намнез: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опрос пациентов с подозрением на наличие гемостазиологических нарушений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Home D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2004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блюдалось ли у вас когда-либо спонтанное кровотечени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11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понтанное кровотечение из слизистых связано с тяжелой тромбоцитопенией, качественной дисфункцией тромбоцитов или болезнью Виллебранда; спонтанный гемартроз и интрамышечные кровотечения более характерны для тяжелого дефицита факторов свертывания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меете ли вы какие - либо заболевания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11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ремия, обусловленная почечной недостаточностью, связана с качественными дефектами тромбоцитов. Печеночная недостаточность приводит к дефектам первичного и вторичного звеньев гемостаза: тромбоцитопении, дефициту витамин K-зависимых факторов, гиперфибринолизу. Системный амилоидоз связан с дефицитом фактора X в результате его специфической адсорбци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493704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53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6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II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фи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Инфаркт миокар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триглицеридем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ведение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олодовая актив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9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X</a:t>
                      </a:r>
                      <a:r>
                        <a:rPr b="1" lang="en-GB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ефротический 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б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Берем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9280" y="836640"/>
          <a:ext cx="8785440" cy="53290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49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5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</a:t>
                      </a:r>
                      <a:r>
                        <a:rPr b="1" lang="en-GB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-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фактора Виллебран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фи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еккурентный тромб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локачественные опух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Берем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оч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Острофазная реак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7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GB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милоид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б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рапия кортикостероид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9280" y="836640"/>
          <a:ext cx="8785440" cy="42670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60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1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4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милоид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ведение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X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тенз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ст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Тесты при мониторинге антикоагулянтов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Широкое применение антикоагулянтнов с профилактической и лечебной цель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ниторинг и коррекция антикоагулянтной терапии с целью предотвращения развития осложнений (кровотечений или тромбозов) необходимы: при использовании антикоагулянтов в высоких дозах (например, при диализе или в условиях АИК); у пациентов с сопутствующими заболеваниями, влияющими на катаболизм; при развитии дисбаланса в системе гемос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применении протамин сульфата необходимы дополнительные исследования системы гемостаза для избежания его передозировки и развития синдрома «рикошета»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Необходимость мониторинга антикоагулян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Мониторинг антикоагулян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ониторинг может быть выполнен в лаборатории или около пациента при использовании специальных устройс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Лабораторное исследование выполняется на плазме, тест «около пациента»  - на цельной кров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аиболее часто применяемый тест «около пациента» - активизированное время свертывания (АВС) или АЧТВ цельной кров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стройства для исследования «около пациента» имеют преимущества во времени, но более трудны в управлении и калибровке, это более дорогое исследование по сравнению с лаборатор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, влияющие на активность антикоагулян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лазменные белки, которые связывают гепарин (белки острой фазы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центрация АТ и кофактора гепарина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пус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FPI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суд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чество и количество фибриноге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сутствие ПД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ровень факторов свертыва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личество и качество тромбоцитов, выпуск ими 4 факто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Циркадный рит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ушение функции почек и печ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учность, низкий вес те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ормирование антите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время с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вертывания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адиционный метод исследования цельной крови (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ttersley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1966), схожий с АЧ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акция активируется контактным активатором без дополнения фосфолипидов и каль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висит от концентрации гепарина, но также влияют другие факторы (баланс факторов свертывания и ингибиторов, повышенная гемодиллюция, гипотермия пациента и др.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троль низких концентраций гепарина, не применимо при его высоких концентрациях (открытые операции на сердце, диализ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зможен контроль гирудина, но со значительными ограничениями (эффект плато): при некоторой дозировке гирудина АЧТВ не увеличивается далее, несмотря на увеличение концентрации гируд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показано для контроля применения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М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 АЧТВ, как скрининговое исследование, помимо концентрации антикоагулянта, влияет разнообразие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Лабораторная диагностика тромбофилии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642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намнез: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опрос пациентов с подозрением на наличие гемостазиологических нарушений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Home D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2004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нимаете ли вы какие-либо лекарственные препараты?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параты, влияющие на систему гемостаза: варфарин, гепарин, антитромбоцитарные агенты (аспирин, клопидогрель, дипиридамол, тиклопидин, НСПВС). Варфарин и антитромбоцитарные препараты должны быть отменены за несколько дней до предполагаемого оперативного вмешатель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Специфичность и чувствительность анамнеза ограничена и сильно зависят от навыков и опыта собирающего анамнез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Определение уровня протеина C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мозигтный дефицит ведет к массивному тромбозу (фульминантная пурпура) у новорожденны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терозигтный дефицит предрасполагает к тромбозу, особенно при наличие других факторов риска (ф.V Лейд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определения протеина С применяют исследован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ункциональные (коагуляционное или метод с хромогенными субстратам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ммунохимиче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функциональных методов исследования применяют активатор протеина С из яда змеи щитомордника - протак (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tac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Уровень протеина C составляет 70-140 %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Приобретенное снижение активности наблюдается при приеме оральных антикоагулянтов, ДВС, заболеваниях печени, дефиците витамина K, сепсисе и тромбоз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Типы дефицита протеина С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ип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: пониженный антиген и функция (количественный дефици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ип II: нормальный антиген и пониженная активность (качественный дефици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I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(аномальная хромогенная или свертывающая активность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b (нормальная хромогенная и аномальная свертывающая активность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Определение уровня протеина C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Концентрация протеина S - 20 - 25 нг/мл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Различают три вида дефицита протеина 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тип: частичный дефицит общего и свободного антигена протеина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I тип: нормальный общий и свободный антиген, снижение активности (редкий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II тип: нормальный общий антиген, снижение активности и свободного антиг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Описаны аутоантитела против протеина S (отличные от антифосфолипидных антител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Снижение протеина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 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наблюдается при заболеваниях печени (т.к. он синтезируется в печени), при приеме непрямых антикоагулянтов (т.к. является витамин-K-зависимым протеином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50920" y="272880"/>
            <a:ext cx="8642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пределение протеина 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Определение антитромбина (АТ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Определение АТ - наиболее часто заказываемое исследование при тромбофилии и во время терапии гепарином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 клинической практике используется, прежде всего, исследование с хромогенными субстратам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Т определяется через фактор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л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I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присутствии высокой концентрации гепар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Иммунохимические и коагуляционные методы не имеют существенного значения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ый диапазон АТ - 75-125 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АТ связан со значительным повышением риска венозной тромбоэмболии, особенно при наличии других факторов риска (например, фактор V Лейд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АТ может быть наследственным или приобрете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терозиготный дефицит АТ составляет 0,05 - 1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личают два типа дефицита А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ип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 количественный, концентрация и активность снижен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ип II: снижение активности при нормальная концентр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обретенный дефицит АТ наблюдается при заболеваниях печени, нефропaтиях, синдроме ДВС, сепсисе, преэкламспии, терапи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спарагиназой, политравме, тяжелых ожогах и интоксикациях, приеме оральных контрацептив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Определение антитромбина (АТ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Определение тромбомодулина (ТМ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Повышенная концентрация циркулирующего тромбомодулина указывает на повреждение сосудистой стенки (например, вызванной воспалением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ТМ определяется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ELIS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Повышение уровня ТМ может ожидаться при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ВС-синдром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РДС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легочной эмбол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иабетическом микроангиопати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осле тромболитической терапии инфаркта миокар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Исследование фибринолитической системы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есты для исследования фибринолитической системы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онтанный эуглобулиновый лизи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плазминоге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-антиплазми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ингибитора активатора плазминогена 1 типа (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I-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тканевого активатора плазминогена (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-PA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понтанный эуглобулиновый лизи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од основан на осаждении эуглобулиновой фракции белков плазмы, содержащей фибриноген, факторы свертывания, плазминоген и его активаторы. После растворения этой фракции и образования фибринового сгустка определяют время его лизиса, что отражает фибринолитическую активность плаз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ст может применяться при фибринолитической терапии для контроля эффективности леч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од требует учета исходного содержания в плазме фибриногена, так как при его снижении время лизиса укорачивается, при гиперфибриногенемии время лизиса удлиняетс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понтанный эуглобулиновый лизи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aramond"/>
              </a:rPr>
              <a:t>Укорочение времени лизиса эуглобулинов (активация фибринолиза) отмеч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меньшении концентрации фибриногена – гипо- и дисфибриногене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величении содержания плазминогена и его активаторов – ДВС-синдром; цирроз, рак или метастатическое поражение печени; рак предстательной железы, легкого, яичников, метастазы меланомы; операции на легких, предстательной, поджелудочной железе и т.д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Физикальный осмот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 тяжелых гемостазиологических нарушениях наблюдаются типичные признаки (петехии, синяки и т.п.), которые можно идентифицировать при физикальном осмотр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понтанный эуглобулиновый лизи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aramond"/>
              </a:rPr>
              <a:t>Удлинение времени лизиса эуглобулинов (угнетение фибринолиза) отмеч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иперфибриногене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ожденной а-, гипо- или дисплазминогене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е плазминогена и его активаторов – ДВС-синдром, цирроз печени, рецидивирующие венозные тромбозы, сепсис и т.д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связи с ориентировочным характером и недостаточной специфичностью вместо теста спонтанного лизиса эуглобулинового сгустка используется определение отдельных факторов фибринолиза, в первую очередь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плазминогена.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пределение </a:t>
            </a: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-антиплазм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нтиплазмина встречается относительно редко, но если возникает, то это сопровождается тяжелым геморрагическим синдромом, проявляющимся диапедезными кровотечениями (причина – присутствие в кровотоке свободного плазмин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пределение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нтиплазмина вместе с определением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I-1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II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можно рассматривать как тесты 2-го уровня, которые необходимо выполнять, если скрининговые тесты (ПТВ, АЧТВ, ТВ и количество тромбоцитов) нормальны, а больной страдает кровотечения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Тесты активации гемостаза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линическое применение маркеров активации - быстрая диагностика или исключение тромбоэмболических заболеваний и оценка эффективности терап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Часто результат скрининговых исследований (количество тромбоцитов, ПТВ, АЧТВ, фибриноген) находятся в пределах нормального диапазона, несмотря на продолжающуюся активацию системы гемостаза (например, при 1 стадии синдрома ДВС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33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Тесты активации гемоста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9280" y="932040"/>
          <a:ext cx="8785440" cy="5721120"/>
        </p:xfrm>
        <a:graphic>
          <a:graphicData uri="http://schemas.openxmlformats.org/drawingml/2006/table">
            <a:tbl>
              <a:tblPr/>
              <a:tblGrid>
                <a:gridCol w="1008000"/>
                <a:gridCol w="4032360"/>
                <a:gridCol w="3745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27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-д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 расщепления фибрина, указывает на присутствие фибрина и его лизис плазмином, т.е. на активацию свертывания и фибринолиз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утствие увеличения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димера у пациентов с активированной коагуляцией может быть вызвано дефицитом F XI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лазменный период полужизни &gt; 24 часов, повышени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димера может сохраняться в течение недели после острого случа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тверждение или исключение ДВС-синдрома, тромбоза глубоких вен, легочной эмбо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тверждение эффективной тромболи-тической терап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увствительность теста высока, однако, специфичность низ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5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рицательный результат исключает тромбоз, но положительный результат не обязательно подтверждает диагноз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eyburger G et al, 19</a:t>
                      </a:r>
                      <a:r>
                        <a:rPr b="1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8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79280" y="836640"/>
          <a:ext cx="8785440" cy="5549760"/>
        </p:xfrm>
        <a:graphic>
          <a:graphicData uri="http://schemas.openxmlformats.org/drawingml/2006/table">
            <a:tbl>
              <a:tblPr/>
              <a:tblGrid>
                <a:gridCol w="1368360"/>
                <a:gridCol w="4104000"/>
                <a:gridCol w="3313080"/>
              </a:tblGrid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5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</a:rPr>
                        <a:t>F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</a:rPr>
                        <a:t>1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птид активации протромбина (отделяется от него при активации), указывает на активность ф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a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формирование тромбина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viv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ражает количество образуемого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vivo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тромбина за длительный период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наружение или исключение ДВС, тромбоза глубоких вен, легочной эмбо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роль терапии гепарином, оральными антикоагулян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1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</a:rPr>
                        <a:t>Т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 взаимодействия тромбина с антитромбином (АТ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монстрирует (краткосрочную) активность тромбина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v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наружение или исключение ДВС, тромбоза глубоких вен, легочной эмбо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ниторинг антикоагулянтной терап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79280" y="836640"/>
          <a:ext cx="8785440" cy="5572080"/>
        </p:xfrm>
        <a:graphic>
          <a:graphicData uri="http://schemas.openxmlformats.org/drawingml/2006/table">
            <a:tbl>
              <a:tblPr/>
              <a:tblGrid>
                <a:gridCol w="1513080"/>
                <a:gridCol w="3743280"/>
                <a:gridCol w="3529080"/>
              </a:tblGrid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2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Фибрин-мономер (раство-римый фибрин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родукт распада фибриногена, демонстрирует активность тромбина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in v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сутствует в плазме в течение нескольких час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бнаружение или исключение ДВС, тромбоза глубоких вен, легочной эмболии, мониторинг антикоагулянтной терап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4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ФПА </a:t>
                      </a:r>
                      <a:r>
                        <a:rPr b="1" lang="it-IT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фибрино-пептид</a:t>
                      </a:r>
                      <a:r>
                        <a:rPr b="1" lang="it-IT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 A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родукт деградации фибриногена, индуцированного плазми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бнаружение гиперфибринолитического состояния, повышен  у пациентов с тромбозом (реактивный фибринолиз), ДВ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79280" y="907920"/>
          <a:ext cx="8785440" cy="5164200"/>
        </p:xfrm>
        <a:graphic>
          <a:graphicData uri="http://schemas.openxmlformats.org/drawingml/2006/table">
            <a:tbl>
              <a:tblPr/>
              <a:tblGrid>
                <a:gridCol w="2232000"/>
                <a:gridCol w="3168720"/>
                <a:gridCol w="338472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ПД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 деградации фибрина/фибриногена под влиянием плазм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ределяют состояние гиперфибринолиза, повышаются у больных с тромбозами (реактивный фибринолиз) и ДВС, при лечении фибринолити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ПАП (плазмин-α</a:t>
                      </a:r>
                      <a:r>
                        <a:rPr b="1" lang="ru-RU" sz="2200" spc="-1" strike="noStrike" baseline="-30000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-антиплаз-миновый комплекс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тражает образование плазмина </a:t>
                      </a:r>
                      <a:r>
                        <a:rPr b="1" i="1" lang="it-IT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 vivo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Выявление гиперфибринолиза или реактивного фибринолиза, ДВС, инфаркта миокарда, нестабильной стенокар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08000" y="907920"/>
          <a:ext cx="8856720" cy="4799160"/>
        </p:xfrm>
        <a:graphic>
          <a:graphicData uri="http://schemas.openxmlformats.org/drawingml/2006/table">
            <a:tbl>
              <a:tblPr/>
              <a:tblGrid>
                <a:gridCol w="2160360"/>
                <a:gridCol w="3311640"/>
                <a:gridCol w="338472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F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4 (фактор 4 тромбоцитов)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β-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тромбо-глобулин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болиты, освобождаемые из тромбоцитов в плазму. Отражают активацию тромбоцитов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 v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 гиперактивного состояния тромбоцитов, артериального тромбоза, повреждения сосудов, инсуль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Фактор Виллебра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вобождается из эндотелиоцитов, маркер эндотелиального пов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 поражения сосудистой стенки, фактор риска  инфаркта миокарда и инсуль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79280" y="907920"/>
          <a:ext cx="8785440" cy="4395960"/>
        </p:xfrm>
        <a:graphic>
          <a:graphicData uri="http://schemas.openxmlformats.org/drawingml/2006/table">
            <a:tbl>
              <a:tblPr/>
              <a:tblGrid>
                <a:gridCol w="2089080"/>
                <a:gridCol w="3311640"/>
                <a:gridCol w="3384720"/>
              </a:tblGrid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ромбо-модули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мбранный протеин эндотелиоцитов, в плазме маркер эндотелиального пов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 повреждения сосудистой стенки, ДВС-синдр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ф.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XI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ированный продукт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XI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указывает на активацию контактной ф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катор кардиологического рис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Преданалитические аспекты исследований гемост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оцедура забора крови для исследования гемостаза - краеугольная пробле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лительное сдавливание манжетой при заборе крови может привести к выходу в русло активаторов тромбоци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обу крови нельзя встряхивать (предотвращение возможной денатурации плазменных белков и активации тромбоцитов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ровь до исследования не должна долго хранить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зменения маркеров активации гемостаза при различных нарушениях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модифицировано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Fareed et al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1995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8000" y="1535040"/>
          <a:ext cx="9001080" cy="4884840"/>
        </p:xfrm>
        <a:graphic>
          <a:graphicData uri="http://schemas.openxmlformats.org/drawingml/2006/table">
            <a:tbl>
              <a:tblPr/>
              <a:tblGrid>
                <a:gridCol w="3168720"/>
                <a:gridCol w="863640"/>
                <a:gridCol w="936360"/>
                <a:gridCol w="863640"/>
                <a:gridCol w="1008000"/>
                <a:gridCol w="648000"/>
                <a:gridCol w="649080"/>
                <a:gridCol w="86364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стоя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 1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-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F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ктивация фибриноли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коагуляционн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едтромботическ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Инфаркт миокар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зменения маркеров активации гемостаза при различных нарушениях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модифицировано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Fareed et al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1995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8000" y="1557360"/>
          <a:ext cx="9001080" cy="4790880"/>
        </p:xfrm>
        <a:graphic>
          <a:graphicData uri="http://schemas.openxmlformats.org/drawingml/2006/table">
            <a:tbl>
              <a:tblPr/>
              <a:tblGrid>
                <a:gridCol w="3168720"/>
                <a:gridCol w="863640"/>
                <a:gridCol w="936360"/>
                <a:gridCol w="863640"/>
                <a:gridCol w="1008000"/>
                <a:gridCol w="648000"/>
                <a:gridCol w="649080"/>
                <a:gridCol w="863640"/>
              </a:tblGrid>
              <a:tr h="145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стоя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 1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-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F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алиг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ифосфолипидный 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Иммунная тромбоцитопе-ническая пурп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0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тическая тромбо-цитопеническая пурп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Время кровотеч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емя от момента нанесения стандартной раны кожи до момента прекращения кровотечения (в норме 3-10 мин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крининговый тест для выявления тромбоцитопении различного генеза, болезни Виллебранда и нарушения проагрегантных свойств сосудистой стенки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ieuwenhuis H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 et al.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87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од плохо стандартизуется, имеет низкую чувствительность и специфич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должен использоваться для планового дооперационного скрининг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ogers 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, Levin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J., 1990; </a:t>
            </a:r>
            <a:r>
              <a:rPr b="1" lang="da-DK" sz="2000" spc="-1" strike="noStrike">
                <a:solidFill>
                  <a:srgbClr val="ffffff"/>
                </a:solidFill>
                <a:latin typeface="Garamond"/>
              </a:rPr>
              <a:t>Peterson P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da-DK" sz="2000" spc="-1" strike="noStrike">
                <a:solidFill>
                  <a:srgbClr val="ffffff"/>
                </a:solidFill>
                <a:latin typeface="Garamond"/>
              </a:rPr>
              <a:t> et al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98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10:34Z</dcterms:created>
  <dc:creator>ДАРО</dc:creator>
  <dc:description/>
  <dc:language>en-US</dc:language>
  <cp:lastModifiedBy>Доцент</cp:lastModifiedBy>
  <dcterms:modified xsi:type="dcterms:W3CDTF">2008-02-07T09:20:14Z</dcterms:modified>
  <cp:revision>49</cp:revision>
  <dc:subject/>
  <dc:title>Диагностика нарушений гемостаза: глобальное исследование, первичный гемостаз и отбор образцов крови</dc:title>
</cp:coreProperties>
</file>