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447-F855-4649-B9CE-F0F19783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8E4-41F6-46BE-AC82-B0754B67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B03-3074-4CF9-BC89-3E9E887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02C-953E-4A8D-BF58-14F03337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8685-1C40-431A-A877-93FEEDC2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8B7A-F13C-4C82-A2F9-4C93EC7A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18D8-A9D6-4E0C-A94A-D32ED4B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528-8B1E-48EB-8B05-27E69C1B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159F-B26F-4A1E-AEBF-90490EE8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D62-E09F-4217-9872-3D9B661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C75-3AA3-4F18-AA47-F6324A2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06E-AF0C-4F6A-82A2-6DFF2A4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1CA-F7AC-4245-8E1B-B752109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A363-FB04-4006-938C-B37BC44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8627-475C-44BB-8AE1-B34B2244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E60-5285-4C18-8598-29C00A94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2B39-69E1-4065-9630-BB0FC7CB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45B-8C0F-4C57-ABA1-6CB2E69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1D0-324D-4B68-8F1E-E7A15F38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97A-36F2-4C1A-A120-CBEC6619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FC8-47BB-44BC-B8BE-D75B65CF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31E-7139-4BC8-BDB9-6D58576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676-9E69-423C-82BB-6323478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F3B-1BB6-435D-A941-A7E7D18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8D1D58-C8A6-4E1D-AA15-C89EF24BF7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2D6E50-45AD-412B-80E3-B216F249EFF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marL="488880" indent="-48888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ast Perfect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(прошедшее совершенное время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2061000"/>
            <a:ext cx="92307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ng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ha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680000" cy="1151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articip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3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>
            <a:off x="1043280" y="2420640"/>
            <a:ext cx="1152720" cy="9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8" name="Прямая со стрелкой 7"/>
          <p:cNvCxnSpPr/>
          <p:nvPr/>
        </p:nvCxnSpPr>
        <p:spPr>
          <a:xfrm>
            <a:off x="1147320" y="2898720"/>
            <a:ext cx="864720" cy="64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9" name="Прямая со стрелкой 8"/>
          <p:cNvCxnSpPr/>
          <p:nvPr/>
        </p:nvCxnSpPr>
        <p:spPr>
          <a:xfrm>
            <a:off x="1043280" y="3429000"/>
            <a:ext cx="968760" cy="360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>
            <a:off x="1191960" y="4005000"/>
            <a:ext cx="82008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1129680" y="4221000"/>
            <a:ext cx="88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V="1">
            <a:off x="1138680" y="4365000"/>
            <a:ext cx="105732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 flipV="1">
            <a:off x="1331640" y="4689000"/>
            <a:ext cx="1008360" cy="82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form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‘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wait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y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Прямая со стрелкой 33"/>
          <p:cNvCxnSpPr/>
          <p:nvPr/>
        </p:nvCxnSpPr>
        <p:spPr>
          <a:xfrm>
            <a:off x="5148000" y="2420640"/>
            <a:ext cx="1512360" cy="1188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6" name="Прямая со стрелкой 34"/>
          <p:cNvCxnSpPr/>
          <p:nvPr/>
        </p:nvCxnSpPr>
        <p:spPr>
          <a:xfrm>
            <a:off x="5300280" y="2888640"/>
            <a:ext cx="1199160" cy="9007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7" name="Прямая со стрелкой 35"/>
          <p:cNvCxnSpPr/>
          <p:nvPr/>
        </p:nvCxnSpPr>
        <p:spPr>
          <a:xfrm>
            <a:off x="5393520" y="4005000"/>
            <a:ext cx="1059120" cy="36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8" name="Прямая со стрелкой 37"/>
          <p:cNvCxnSpPr/>
          <p:nvPr/>
        </p:nvCxnSpPr>
        <p:spPr>
          <a:xfrm flipV="1">
            <a:off x="5347080" y="4221000"/>
            <a:ext cx="1152360" cy="28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99" name="Прямая со стрелкой 39"/>
          <p:cNvCxnSpPr/>
          <p:nvPr/>
        </p:nvCxnSpPr>
        <p:spPr>
          <a:xfrm flipV="1">
            <a:off x="5409000" y="4365000"/>
            <a:ext cx="1251360" cy="64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00" name="Прямая со стрелкой 41"/>
          <p:cNvCxnSpPr/>
          <p:nvPr/>
        </p:nvCxnSpPr>
        <p:spPr>
          <a:xfrm flipV="1">
            <a:off x="5508000" y="4509000"/>
            <a:ext cx="1296360" cy="10083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gative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рицани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"/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estions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прос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55640" y="269676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had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’t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 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860000" y="2706120"/>
            <a:ext cx="3546000" cy="194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 u="sng">
                <a:solidFill>
                  <a:schemeClr val="dk1"/>
                </a:solidFill>
                <a:uFillTx/>
                <a:latin typeface="Calibri"/>
              </a:rPr>
              <a:t>Had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chemeClr val="dk1"/>
                </a:solidFill>
                <a:latin typeface="Calibri"/>
              </a:rPr>
              <a:t>smb  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wait</a:t>
            </a:r>
            <a:r>
              <a:rPr b="1" i="1" lang="en-US" sz="3200" spc="-1" strike="noStrike">
                <a:solidFill>
                  <a:schemeClr val="dk1"/>
                </a:solidFill>
                <a:latin typeface="Calibri"/>
              </a:rPr>
              <a:t>ed</a:t>
            </a:r>
            <a:r>
              <a:rPr b="0" i="1" lang="en-US" sz="3200" spc="-1" strike="noStrike">
                <a:solidFill>
                  <a:schemeClr val="dk1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564840" indent="-564840" algn="ctr">
              <a:lnSpc>
                <a:spcPct val="100000"/>
              </a:lnSpc>
              <a:buClr>
                <a:srgbClr val="c00000"/>
              </a:buClr>
              <a:buSzPct val="150000"/>
              <a:buFont typeface="Wingdings" charset="2"/>
              <a:buChar char=""/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тс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364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у нас есть два действия в прошлом и нам важно показать, чт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 из них произошло раньше друг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, которое произошл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н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исываем с помощь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Past Perfec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торое действие — с помощью Past Simple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1969200" y="2637000"/>
            <a:ext cx="5544360" cy="7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8064a2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She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had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already </a:t>
            </a:r>
            <a:r>
              <a:rPr b="1" i="1" lang="en-US" sz="2000" spc="-1" strike="noStrike" u="sng">
                <a:solidFill>
                  <a:schemeClr val="dk1"/>
                </a:solidFill>
                <a:uFillTx/>
                <a:latin typeface="Arial"/>
              </a:rPr>
              <a:t>lef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when I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ot</a:t>
            </a:r>
            <a:r>
              <a:rPr b="0" i="1" lang="en-US" sz="2000" spc="-1" strike="noStrike">
                <a:solidFill>
                  <a:schemeClr val="dk1"/>
                </a:solidFill>
                <a:latin typeface="Arial"/>
              </a:rPr>
              <a:t> home</a:t>
            </a:r>
            <a:r>
              <a:rPr b="0" i="1" lang="ru-RU" sz="2000" spc="-1" strike="noStrike">
                <a:solidFill>
                  <a:schemeClr val="dk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Words>94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5T17:54:47Z</dcterms:created>
  <dc:creator>ACER</dc:creator>
  <dc:description/>
  <dc:language>en-US</dc:language>
  <cp:lastModifiedBy>ACER</cp:lastModifiedBy>
  <dcterms:modified xsi:type="dcterms:W3CDTF">2019-09-25T19:05:12Z</dcterms:modified>
  <cp:revision>9</cp:revision>
  <dc:subject/>
  <dc:title>Past Perfect (прошедшее совершенное врем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