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A1E-EA72-4008-8674-181F3865C6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0702-55E6-4FBF-BF4E-7742308E4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E809-AC36-4C99-8559-42F6247F9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612-E776-4E2F-816D-ACD9CA0B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C69-3AFE-4F7C-A890-D320A82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5C0-10F0-4EEC-A8C6-B00E7D53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8AE-FDA0-4C15-87AF-B3D1A059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782A-80C1-4B4D-B5ED-D029A2A3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4213-7FEC-473E-8417-2C3D7082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A53-5A0E-468C-9440-9715DBAE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8426-5F96-4A12-82E5-245D5C8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B0B9-826A-4E4F-9673-7C9406A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91C3-83A2-4A01-A262-1E8EDF68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89F7-AADF-4BA4-9B9A-9A8EA96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401-415C-4A4F-8EEE-206B140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10A-E006-46DD-B99E-446DD31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8A7-D191-4DBA-867B-E13AD381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359D-8841-4E54-857E-6C228200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71B4-FA79-461F-AE86-0C6CEFD8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C54E-CEEF-47BE-8222-FFB2955A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48C8-94B3-470A-928B-D2862DE6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4215-37A0-41AA-B7FC-403375D3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2B4A-C233-42EB-B721-F9BC5A7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639C-6CE3-4C4C-A372-E8CEAFF5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C33C-33AB-4772-88B8-A2A199B7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AB2-85D6-471F-BE55-6586956E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22B0-02B9-4FA4-8D1A-37E5225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7FB7-CC8F-4B7E-8D8A-E0E6A21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E4A6-4971-452A-AF6B-C4B268C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8AF8-34EA-4CBB-8B88-DDB92AD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6B86-336B-4EB5-AF19-08C9894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FCF25-F420-42E5-8C55-966A4B68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2471-EB6F-47E0-B4EB-7FCC0720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AEA4-6852-4A87-BFE1-DB61DDB0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DA96-9E16-4129-847B-73DE635E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83C4-8786-40A4-93AB-F7DC2A0D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D99-F38A-4690-9EE6-C057D337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1DE7-E12E-4F14-9335-E49CE1CE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19ED-E87B-4080-9FC6-31453D05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C77A-5711-4B26-8608-D7B63D1F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544D-B4C5-4529-BD98-7CC3DA5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1048-7FBE-4978-A463-794C2CD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0194-6A13-4456-9001-AC9E1FD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F38EE-EB93-4D07-B53E-0295DE6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5C1A-EE48-41A7-9D9D-C0D6C54A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5DE4-42AC-4958-BFA9-02761C2C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5A4-D1B5-45DE-9E67-24A0D42D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D1A-55F2-41D7-AC4D-B46B013D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307-9EB7-49B5-A7AB-4DFD616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C87-5B40-447E-8486-98C4576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F96-CEE1-47E2-9D5C-4A01F8C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664-2E6C-4E3F-A82B-A8001AE1FFE8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75F9-B1E5-444F-9919-0F2B5B4AE343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C59-3026-4A7C-A5BD-59F093F97C0B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3D58-F0A0-4153-9F03-71FF9043823E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Системний блок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171360" y="1042920"/>
            <a:ext cx="912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номера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5DB-0C6A-4D4C-B5EB-91AD08E31DB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6680" y="4092480"/>
            <a:ext cx="397836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0" y="2319480"/>
            <a:ext cx="2971800" cy="195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381720" y="1434960"/>
            <a:ext cx="2451240" cy="1148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4"/>
          <a:stretch/>
        </p:blipFill>
        <p:spPr>
          <a:xfrm>
            <a:off x="2825640" y="905040"/>
            <a:ext cx="3461040" cy="2993760"/>
          </a:xfrm>
          <a:prstGeom prst="rect">
            <a:avLst/>
          </a:prstGeom>
          <a:ln w="0">
            <a:noFill/>
          </a:ln>
        </p:spPr>
      </p:pic>
      <p:sp>
        <p:nvSpPr>
          <p:cNvPr id="228" name="Line 6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ий бло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5"/>
          <a:stretch/>
        </p:blipFill>
        <p:spPr>
          <a:xfrm>
            <a:off x="522360" y="1200240"/>
            <a:ext cx="1579320" cy="1401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6"/>
          <a:stretch/>
        </p:blipFill>
        <p:spPr>
          <a:xfrm>
            <a:off x="4049640" y="5019840"/>
            <a:ext cx="1998720" cy="149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7"/>
          <a:stretch/>
        </p:blipFill>
        <p:spPr>
          <a:xfrm rot="346200">
            <a:off x="6803640" y="4789440"/>
            <a:ext cx="2340000" cy="2068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"/>
          <p:cNvPicPr/>
          <p:nvPr/>
        </p:nvPicPr>
        <p:blipFill>
          <a:blip r:embed="rId8"/>
          <a:stretch/>
        </p:blipFill>
        <p:spPr>
          <a:xfrm>
            <a:off x="6580080" y="3011400"/>
            <a:ext cx="1805040" cy="101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9"/>
          <a:stretch/>
        </p:blipFill>
        <p:spPr>
          <a:xfrm>
            <a:off x="3875040" y="4159080"/>
            <a:ext cx="1540080" cy="1428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10"/>
          <a:stretch/>
        </p:blipFill>
        <p:spPr>
          <a:xfrm>
            <a:off x="5754600" y="4073400"/>
            <a:ext cx="2259000" cy="1766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99880" y="835200"/>
            <a:ext cx="1924200" cy="626760"/>
          </a:xfrm>
          <a:prstGeom prst="wedgeRoundRectCallout">
            <a:avLst>
              <a:gd name="adj1" fmla="val 29620"/>
              <a:gd name="adj2" fmla="val 7000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живлен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174600" y="2597040"/>
            <a:ext cx="1644840" cy="376200"/>
          </a:xfrm>
          <a:prstGeom prst="wedgeRoundRectCallout">
            <a:avLst>
              <a:gd name="adj1" fmla="val 43148"/>
              <a:gd name="adj2" fmla="val 15000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окар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1982880" y="3606840"/>
            <a:ext cx="1057320" cy="376200"/>
          </a:xfrm>
          <a:prstGeom prst="wedgeRoundRectCallout">
            <a:avLst>
              <a:gd name="adj1" fmla="val 24023"/>
              <a:gd name="adj2" fmla="val 14493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154080" y="4262400"/>
            <a:ext cx="1741320" cy="703440"/>
          </a:xfrm>
          <a:prstGeom prst="wedgeRoundRectCallout">
            <a:avLst>
              <a:gd name="adj1" fmla="val 3236"/>
              <a:gd name="adj2" fmla="val 88601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ти розширен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387360" y="6327720"/>
            <a:ext cx="2635200" cy="376200"/>
          </a:xfrm>
          <a:prstGeom prst="wedgeRoundRectCallout">
            <a:avLst>
              <a:gd name="adj1" fmla="val -12652"/>
              <a:gd name="adj2" fmla="val -17405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нська пла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4273560" y="3817800"/>
            <a:ext cx="1557360" cy="376200"/>
          </a:xfrm>
          <a:prstGeom prst="wedgeRoundRectCallout">
            <a:avLst>
              <a:gd name="adj1" fmla="val -2907"/>
              <a:gd name="adj2" fmla="val 104009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о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4684680" y="6040440"/>
            <a:ext cx="1806480" cy="674640"/>
          </a:xfrm>
          <a:prstGeom prst="wedgeRoundRectCallout">
            <a:avLst>
              <a:gd name="adj1" fmla="val -19949"/>
              <a:gd name="adj2" fmla="val -11211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а п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7170840" y="4211640"/>
            <a:ext cx="1557360" cy="376200"/>
          </a:xfrm>
          <a:prstGeom prst="wedgeRoundRectCallout">
            <a:avLst>
              <a:gd name="adj1" fmla="val -37564"/>
              <a:gd name="adj2" fmla="val 112023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інчест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6680160" y="2460600"/>
            <a:ext cx="1655640" cy="693720"/>
          </a:xfrm>
          <a:prstGeom prst="wedgeRoundRectCallout">
            <a:avLst>
              <a:gd name="adj1" fmla="val 46"/>
              <a:gd name="adj2" fmla="val 83638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ід для диск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6759720" y="642960"/>
            <a:ext cx="1585800" cy="687240"/>
          </a:xfrm>
          <a:prstGeom prst="wedgeRoundRectCallout">
            <a:avLst>
              <a:gd name="adj1" fmla="val -21569"/>
              <a:gd name="adj2" fmla="val 11974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ід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(DV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4"/>
          <p:cNvSpPr/>
          <p:nvPr/>
        </p:nvSpPr>
        <p:spPr>
          <a:xfrm rot="20386200">
            <a:off x="2298240" y="134748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5"/>
          <p:cNvSpPr/>
          <p:nvPr/>
        </p:nvSpPr>
        <p:spPr>
          <a:xfrm rot="17403000">
            <a:off x="3183480" y="3582000"/>
            <a:ext cx="1131840" cy="384120"/>
          </a:xfrm>
          <a:custGeom>
            <a:avLst/>
            <a:gdLst>
              <a:gd name="textAreaLeft" fmla="*/ 176760 w 1131840"/>
              <a:gd name="textAreaRight" fmla="*/ 990360 w 113184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 rot="9786600">
            <a:off x="3511080" y="492732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7"/>
          <p:cNvSpPr/>
          <p:nvPr/>
        </p:nvSpPr>
        <p:spPr>
          <a:xfrm rot="10800000">
            <a:off x="3541680" y="600516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8"/>
          <p:cNvSpPr/>
          <p:nvPr/>
        </p:nvSpPr>
        <p:spPr>
          <a:xfrm rot="5400000">
            <a:off x="1603080" y="4248000"/>
            <a:ext cx="685800" cy="384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9"/>
          <p:cNvSpPr/>
          <p:nvPr/>
        </p:nvSpPr>
        <p:spPr>
          <a:xfrm rot="11635200">
            <a:off x="5614560" y="1334520"/>
            <a:ext cx="744480" cy="384120"/>
          </a:xfrm>
          <a:custGeom>
            <a:avLst/>
            <a:gdLst>
              <a:gd name="textAreaLeft" fmla="*/ 116280 w 744480"/>
              <a:gd name="textAreaRight" fmla="*/ 651600 w 7444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0"/>
          <p:cNvSpPr/>
          <p:nvPr/>
        </p:nvSpPr>
        <p:spPr>
          <a:xfrm rot="13750800">
            <a:off x="5516280" y="2074320"/>
            <a:ext cx="1270080" cy="384120"/>
          </a:xfrm>
          <a:custGeom>
            <a:avLst/>
            <a:gdLst>
              <a:gd name="textAreaLeft" fmla="*/ 198360 w 1270080"/>
              <a:gd name="textAreaRight" fmla="*/ 1111320 w 12700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1"/>
          <p:cNvSpPr/>
          <p:nvPr/>
        </p:nvSpPr>
        <p:spPr>
          <a:xfrm rot="14937600">
            <a:off x="4856760" y="3245040"/>
            <a:ext cx="2151000" cy="384120"/>
          </a:xfrm>
          <a:custGeom>
            <a:avLst/>
            <a:gdLst>
              <a:gd name="textAreaLeft" fmla="*/ 335880 w 2151000"/>
              <a:gd name="textAreaRight" fmla="*/ 1882440 w 21510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9C3-E7CC-439F-8698-80A4BA56027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635120" y="692280"/>
            <a:ext cx="61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машнє завдання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35120" y="2117880"/>
            <a:ext cx="749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Корпуси, їх типи і характеристик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Блоки живлення, їх типи і характеристик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Ро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єми блоків живлення стандартів АТ та АТХ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омера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B8C-E8EA-467A-8ABF-8DA14CAE310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mg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user13</dc:creator>
  <dc:description/>
  <dc:language>en-US</dc:language>
  <cp:lastModifiedBy>NATA</cp:lastModifiedBy>
  <dcterms:modified xsi:type="dcterms:W3CDTF">2018-09-03T12:11:13Z</dcterms:modified>
  <cp:revision>1037</cp:revision>
  <dc:subject/>
  <dc:title>Программное обеспечение (ПО)</dc:title>
</cp:coreProperties>
</file>