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038B-22EB-4E2F-8B21-203B75755D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0750-9E57-458C-81F5-AB26572BB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E837-9C27-4DD2-96AB-64FC05C53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E45-6631-4D40-83F7-DA1082C0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80C-9E6D-4821-9AF2-8CE993B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BFD-3189-410A-B72C-3DFFADF7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E3F-0D21-461E-A15C-005470C4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A77-5731-470F-8F06-E8747716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C48-CDAA-4B9C-80D3-EC76E7B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A9E-1B26-405B-8FD5-D1DC3566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EF4C-2FE8-453C-88AD-0BFC5C1A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BCE9-5A57-4E60-83E7-2D56507A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5532-8E23-46ED-AFA2-10F23FFD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4366-D70E-4A24-94A1-15158C8A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D7F-A9D2-4C23-A972-AC87C055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3B59-A328-4A45-A816-B6B4EF7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9346-40FF-447D-9252-5BEF592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6D6D-0F7C-4DF8-80FD-BA705E78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8394-90A8-4F97-B0FD-874ECE6E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7C01-09AA-4AAA-9B0D-C7AF10AA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365A-580B-4A33-85BB-4CF9E276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D7EB-15F3-4BEE-BAA3-28A16DB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C258-4BE6-41C6-B438-1B9094F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EC55-48B8-4148-B068-9B7FFA32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FB31-0617-4587-B4BC-5D2A5C4A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43B-A8FE-4A26-B642-85E91011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9653-D3BA-4364-B48E-A8914AA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A461-034A-4095-A663-7691B8C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BF66-7990-4525-8BF7-22B46AC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B3FD1-C119-4E9B-88BA-2757C53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B988-655C-4953-B156-55C0F31A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E15B-99DD-46DF-B18F-5A6C6BAD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0165-8C63-44F2-B72A-CFE50E82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73ACA-1CC5-4FCA-9FCB-3EFD568A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34AE-7EFF-4A64-9157-4D8A9E9C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6C7B-81C9-4D14-9197-9B283F74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6B5-9934-4F94-9A5F-DA98554B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33521-42DD-4A80-B573-6BE990C3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2AF8-7A37-4562-8496-C516AE1B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9EFF-0317-48FC-AAF1-6AE95504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DA8C-9FEA-4718-B838-62DEE4B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8BA9-42FF-4E0F-9B53-C8F160B5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3D8C-7F12-46BC-B2B0-F22A541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F9BF-5CFD-4616-8849-BDE60E50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0560-FACA-4FD1-BACB-92336E1F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1901-7261-4333-A9D1-076FF5BC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CFB-CDBB-47B3-991F-09D421C2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5BD-BCF3-444E-BFC5-D7963F2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CAD-F0F1-4023-BF69-83B6EDF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053-B0CD-4481-B83F-F5F7CD1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75D-5875-425B-933A-D0F0258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AD60-B723-4DD8-B858-4CAC5D2C3D47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D28-BA24-4865-B28A-605AC7D4B514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E7E-54CF-46F1-91C6-3514CDF09434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94A5-FDEE-45F8-A4AB-01E11682234E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Системний блок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171360" y="1042920"/>
            <a:ext cx="912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номера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FC3D-11D3-4C51-BD68-E525BA7D3F9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6680" y="4092480"/>
            <a:ext cx="3978360" cy="276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0" y="2319480"/>
            <a:ext cx="2971800" cy="195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381720" y="1434960"/>
            <a:ext cx="2451240" cy="1148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4"/>
          <a:stretch/>
        </p:blipFill>
        <p:spPr>
          <a:xfrm>
            <a:off x="2825640" y="905040"/>
            <a:ext cx="3461040" cy="2993760"/>
          </a:xfrm>
          <a:prstGeom prst="rect">
            <a:avLst/>
          </a:prstGeom>
          <a:ln w="0">
            <a:noFill/>
          </a:ln>
        </p:spPr>
      </p:pic>
      <p:sp>
        <p:nvSpPr>
          <p:cNvPr id="228" name="Line 6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ий бло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5"/>
          <a:stretch/>
        </p:blipFill>
        <p:spPr>
          <a:xfrm>
            <a:off x="522360" y="1200240"/>
            <a:ext cx="1579320" cy="1401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6"/>
          <a:stretch/>
        </p:blipFill>
        <p:spPr>
          <a:xfrm>
            <a:off x="4049640" y="5019840"/>
            <a:ext cx="1998720" cy="149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7"/>
          <a:stretch/>
        </p:blipFill>
        <p:spPr>
          <a:xfrm rot="346200">
            <a:off x="6803640" y="4789440"/>
            <a:ext cx="2340000" cy="2068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"/>
          <p:cNvPicPr/>
          <p:nvPr/>
        </p:nvPicPr>
        <p:blipFill>
          <a:blip r:embed="rId8"/>
          <a:stretch/>
        </p:blipFill>
        <p:spPr>
          <a:xfrm>
            <a:off x="6580080" y="3011400"/>
            <a:ext cx="1805040" cy="101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9"/>
          <a:stretch/>
        </p:blipFill>
        <p:spPr>
          <a:xfrm>
            <a:off x="3875040" y="4159080"/>
            <a:ext cx="1540080" cy="1428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10"/>
          <a:stretch/>
        </p:blipFill>
        <p:spPr>
          <a:xfrm>
            <a:off x="5754600" y="4073400"/>
            <a:ext cx="2259000" cy="17668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99880" y="835200"/>
            <a:ext cx="1924200" cy="626760"/>
          </a:xfrm>
          <a:prstGeom prst="wedgeRoundRectCallout">
            <a:avLst>
              <a:gd name="adj1" fmla="val 29620"/>
              <a:gd name="adj2" fmla="val 7000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живлен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174600" y="2597040"/>
            <a:ext cx="1644840" cy="376200"/>
          </a:xfrm>
          <a:prstGeom prst="wedgeRoundRectCallout">
            <a:avLst>
              <a:gd name="adj1" fmla="val 43148"/>
              <a:gd name="adj2" fmla="val 15000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окар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1982880" y="3606840"/>
            <a:ext cx="1057320" cy="376200"/>
          </a:xfrm>
          <a:prstGeom prst="wedgeRoundRectCallout">
            <a:avLst>
              <a:gd name="adj1" fmla="val 24023"/>
              <a:gd name="adj2" fmla="val 14493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154080" y="4262400"/>
            <a:ext cx="1741320" cy="703440"/>
          </a:xfrm>
          <a:prstGeom prst="wedgeRoundRectCallout">
            <a:avLst>
              <a:gd name="adj1" fmla="val 3236"/>
              <a:gd name="adj2" fmla="val 88601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ти розширен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387360" y="6327720"/>
            <a:ext cx="2635200" cy="376200"/>
          </a:xfrm>
          <a:prstGeom prst="wedgeRoundRectCallout">
            <a:avLst>
              <a:gd name="adj1" fmla="val -12652"/>
              <a:gd name="adj2" fmla="val -17405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нська пла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4273560" y="3817800"/>
            <a:ext cx="1557360" cy="376200"/>
          </a:xfrm>
          <a:prstGeom prst="wedgeRoundRectCallout">
            <a:avLst>
              <a:gd name="adj1" fmla="val -2907"/>
              <a:gd name="adj2" fmla="val 104009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о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4684680" y="6040440"/>
            <a:ext cx="1806480" cy="674640"/>
          </a:xfrm>
          <a:prstGeom prst="wedgeRoundRectCallout">
            <a:avLst>
              <a:gd name="adj1" fmla="val -19949"/>
              <a:gd name="adj2" fmla="val -11211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а п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7170840" y="4211640"/>
            <a:ext cx="1557360" cy="376200"/>
          </a:xfrm>
          <a:prstGeom prst="wedgeRoundRectCallout">
            <a:avLst>
              <a:gd name="adj1" fmla="val -37564"/>
              <a:gd name="adj2" fmla="val 112023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інчест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6680160" y="2460600"/>
            <a:ext cx="1655640" cy="693720"/>
          </a:xfrm>
          <a:prstGeom prst="wedgeRoundRectCallout">
            <a:avLst>
              <a:gd name="adj1" fmla="val 46"/>
              <a:gd name="adj2" fmla="val 83638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ід для диск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6759720" y="642960"/>
            <a:ext cx="1585800" cy="687240"/>
          </a:xfrm>
          <a:prstGeom prst="wedgeRoundRectCallout">
            <a:avLst>
              <a:gd name="adj1" fmla="val -21569"/>
              <a:gd name="adj2" fmla="val 11974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ід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(DV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4"/>
          <p:cNvSpPr/>
          <p:nvPr/>
        </p:nvSpPr>
        <p:spPr>
          <a:xfrm rot="20386200">
            <a:off x="2298240" y="134748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5"/>
          <p:cNvSpPr/>
          <p:nvPr/>
        </p:nvSpPr>
        <p:spPr>
          <a:xfrm rot="17403000">
            <a:off x="3183480" y="3582000"/>
            <a:ext cx="1131840" cy="384120"/>
          </a:xfrm>
          <a:custGeom>
            <a:avLst/>
            <a:gdLst>
              <a:gd name="textAreaLeft" fmla="*/ 176760 w 1131840"/>
              <a:gd name="textAreaRight" fmla="*/ 990360 w 113184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 rot="9786600">
            <a:off x="3511080" y="492732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7"/>
          <p:cNvSpPr/>
          <p:nvPr/>
        </p:nvSpPr>
        <p:spPr>
          <a:xfrm rot="10800000">
            <a:off x="3541680" y="600516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8"/>
          <p:cNvSpPr/>
          <p:nvPr/>
        </p:nvSpPr>
        <p:spPr>
          <a:xfrm rot="5400000">
            <a:off x="1603080" y="4248000"/>
            <a:ext cx="685800" cy="384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9"/>
          <p:cNvSpPr/>
          <p:nvPr/>
        </p:nvSpPr>
        <p:spPr>
          <a:xfrm rot="11635200">
            <a:off x="5614560" y="1334520"/>
            <a:ext cx="744480" cy="384120"/>
          </a:xfrm>
          <a:custGeom>
            <a:avLst/>
            <a:gdLst>
              <a:gd name="textAreaLeft" fmla="*/ 116280 w 744480"/>
              <a:gd name="textAreaRight" fmla="*/ 651600 w 7444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0"/>
          <p:cNvSpPr/>
          <p:nvPr/>
        </p:nvSpPr>
        <p:spPr>
          <a:xfrm rot="13750800">
            <a:off x="5516280" y="2074320"/>
            <a:ext cx="1270080" cy="384120"/>
          </a:xfrm>
          <a:custGeom>
            <a:avLst/>
            <a:gdLst>
              <a:gd name="textAreaLeft" fmla="*/ 198360 w 1270080"/>
              <a:gd name="textAreaRight" fmla="*/ 1111320 w 12700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1"/>
          <p:cNvSpPr/>
          <p:nvPr/>
        </p:nvSpPr>
        <p:spPr>
          <a:xfrm rot="14937600">
            <a:off x="4856760" y="3245040"/>
            <a:ext cx="2151000" cy="384120"/>
          </a:xfrm>
          <a:custGeom>
            <a:avLst/>
            <a:gdLst>
              <a:gd name="textAreaLeft" fmla="*/ 335880 w 2151000"/>
              <a:gd name="textAreaRight" fmla="*/ 1882440 w 21510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98E0-B745-472D-9222-D58B3187940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635120" y="692280"/>
            <a:ext cx="61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машнє завдання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35120" y="2117880"/>
            <a:ext cx="749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Корпуси, їх типи і характеристик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Блоки живлення, їх типи і характеристик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Ро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єми блоків живлення стандартів АТ та АТХ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омера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6CE2-AF9E-4530-9EBE-87E3F80277E3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mg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user13</dc:creator>
  <dc:description/>
  <dc:language>en-US</dc:language>
  <cp:lastModifiedBy>NATA</cp:lastModifiedBy>
  <dcterms:modified xsi:type="dcterms:W3CDTF">2018-09-03T12:11:13Z</dcterms:modified>
  <cp:revision>1037</cp:revision>
  <dc:subject/>
  <dc:title>Программное обеспечение (ПО)</dc:title>
</cp:coreProperties>
</file>