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295-D841-4822-9806-2ADC0F0CAD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3086-8194-4D27-AB05-4F23D196A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788B-D68E-4647-B121-C340E1DAD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859-460A-418E-8BEB-8F55754E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50F-B596-4A5A-AC3C-8CE2919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E9A-86FB-4A0F-8CD8-32094E37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5BD-5D6D-43E0-BB58-C1BEC3E4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DF36-7D0A-4282-AC8C-1DCBA145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0529-10B5-4D9C-8188-F2A12B5B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A851-3BEE-459D-BB8D-5BC25363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5075-2DF9-49B0-A434-5DB3CE2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FC1B-F9DF-4F7E-8A5B-9CD2A447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EF3F-A13D-4545-88CE-6808AE2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3C18-796F-4073-A05D-F2783C81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353-D12B-4BC0-938B-3B9ECD9B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8DFA-B44A-4AD1-B7B5-BCEE493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73E6-E8E2-43F0-AB90-2C26819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22AA-83D2-4924-A7FF-F3085C4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1002-8037-4483-A126-8C83650D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AD0-1AF2-4344-9176-281F01DC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756C-1BEC-4F6B-A0DF-2E99D2B5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3443-2DAD-4A62-9754-E7287AB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FB8FD-6D09-4FFF-BEF4-FDADB6FC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E023-10BB-47E7-8CF4-B449EA3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5199-82E4-493B-959D-4494ADCE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2F9-DCF6-4939-8422-E4428778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7A31-9868-434F-BB1A-92A8C8B7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A1F4-1D1E-4CC7-BDA2-D12B0BC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BE13-CCC6-4BD1-8AFA-B6FCE174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9464-6D37-43F4-BC82-8CADC80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E389-FF83-4063-9312-8003ED56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63DE-3C71-480F-ACB6-A7C22AF3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1427-53B4-4D7E-9333-3FD19AEC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F89B2-D5A0-4634-B21D-D7952F2C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2FE8-8990-4023-8A50-304834D2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66D1-BE7E-4993-9A90-88603625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927-9801-498F-90FC-2E069ABD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2F8F-6741-428D-AC28-8E24DE64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64561-4BEA-424D-8F99-74E2A03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BAC7-6B39-4F1B-845D-C420CF64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5D42-FD7E-4772-BE94-C61E666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987C-BE6B-4BA9-9314-0F979AE6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7499-E979-4F88-9135-15F0A34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E49C-8EF8-4F9A-A043-97C6B489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FEE7-C9BD-4476-811D-7E923846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AFE1-0000-4832-9223-2FA3DE33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626-8DA3-46D4-8F93-AAAA9126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5EC-E797-4DA2-B425-C82C1A5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48B-804B-4A71-B18C-9898D02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BD7-8355-4DEA-A726-813D495F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FFC-E31F-4338-A388-09D3750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ED59-F96E-48C8-BD62-B4C6DF53E85F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78B0-A813-489C-B20B-3F9FBEDC40FB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AC5-67F8-492B-87AF-C5189BF7EE0B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5E3-7BB7-4F32-9F62-DC2675576E8B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212745"/>
                </a:solidFill>
                <a:latin typeface="Trebuchet MS"/>
              </a:rPr>
              <a:t>Системний блок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171360" y="1042920"/>
            <a:ext cx="912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номера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C31-5089-4B1B-A8F5-4D1DD06A69A7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6680" y="4092480"/>
            <a:ext cx="3978360" cy="276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0" y="2319480"/>
            <a:ext cx="2971800" cy="1955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381720" y="1434960"/>
            <a:ext cx="2451240" cy="1148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4"/>
          <a:stretch/>
        </p:blipFill>
        <p:spPr>
          <a:xfrm>
            <a:off x="2825640" y="905040"/>
            <a:ext cx="3461040" cy="2993760"/>
          </a:xfrm>
          <a:prstGeom prst="rect">
            <a:avLst/>
          </a:prstGeom>
          <a:ln w="0">
            <a:noFill/>
          </a:ln>
        </p:spPr>
      </p:pic>
      <p:sp>
        <p:nvSpPr>
          <p:cNvPr id="228" name="Line 6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ий бло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5"/>
          <a:stretch/>
        </p:blipFill>
        <p:spPr>
          <a:xfrm>
            <a:off x="522360" y="1200240"/>
            <a:ext cx="1579320" cy="1401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"/>
          <p:cNvPicPr/>
          <p:nvPr/>
        </p:nvPicPr>
        <p:blipFill>
          <a:blip r:embed="rId6"/>
          <a:stretch/>
        </p:blipFill>
        <p:spPr>
          <a:xfrm>
            <a:off x="4049640" y="5019840"/>
            <a:ext cx="1998720" cy="149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7"/>
          <a:stretch/>
        </p:blipFill>
        <p:spPr>
          <a:xfrm rot="346200">
            <a:off x="6803640" y="4789440"/>
            <a:ext cx="2340000" cy="2068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"/>
          <p:cNvPicPr/>
          <p:nvPr/>
        </p:nvPicPr>
        <p:blipFill>
          <a:blip r:embed="rId8"/>
          <a:stretch/>
        </p:blipFill>
        <p:spPr>
          <a:xfrm>
            <a:off x="6580080" y="3011400"/>
            <a:ext cx="1805040" cy="101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9"/>
          <a:stretch/>
        </p:blipFill>
        <p:spPr>
          <a:xfrm>
            <a:off x="3875040" y="4159080"/>
            <a:ext cx="1540080" cy="1428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10"/>
          <a:stretch/>
        </p:blipFill>
        <p:spPr>
          <a:xfrm>
            <a:off x="5754600" y="4073400"/>
            <a:ext cx="2259000" cy="17668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99880" y="835200"/>
            <a:ext cx="1924200" cy="626760"/>
          </a:xfrm>
          <a:prstGeom prst="wedgeRoundRectCallout">
            <a:avLst>
              <a:gd name="adj1" fmla="val 29620"/>
              <a:gd name="adj2" fmla="val 7000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живлен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174600" y="2597040"/>
            <a:ext cx="1644840" cy="376200"/>
          </a:xfrm>
          <a:prstGeom prst="wedgeRoundRectCallout">
            <a:avLst>
              <a:gd name="adj1" fmla="val 43148"/>
              <a:gd name="adj2" fmla="val 15000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окар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1982880" y="3606840"/>
            <a:ext cx="1057320" cy="376200"/>
          </a:xfrm>
          <a:prstGeom prst="wedgeRoundRectCallout">
            <a:avLst>
              <a:gd name="adj1" fmla="val 24023"/>
              <a:gd name="adj2" fmla="val 14493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154080" y="4262400"/>
            <a:ext cx="1741320" cy="703440"/>
          </a:xfrm>
          <a:prstGeom prst="wedgeRoundRectCallout">
            <a:avLst>
              <a:gd name="adj1" fmla="val 3236"/>
              <a:gd name="adj2" fmla="val 88601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ти розширен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387360" y="6327720"/>
            <a:ext cx="2635200" cy="376200"/>
          </a:xfrm>
          <a:prstGeom prst="wedgeRoundRectCallout">
            <a:avLst>
              <a:gd name="adj1" fmla="val -12652"/>
              <a:gd name="adj2" fmla="val -174050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нська пла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4273560" y="3817800"/>
            <a:ext cx="1557360" cy="376200"/>
          </a:xfrm>
          <a:prstGeom prst="wedgeRoundRectCallout">
            <a:avLst>
              <a:gd name="adj1" fmla="val -2907"/>
              <a:gd name="adj2" fmla="val 104009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о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4684680" y="6040440"/>
            <a:ext cx="1806480" cy="674640"/>
          </a:xfrm>
          <a:prstGeom prst="wedgeRoundRectCallout">
            <a:avLst>
              <a:gd name="adj1" fmla="val -19949"/>
              <a:gd name="adj2" fmla="val -11211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а п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7170840" y="4211640"/>
            <a:ext cx="1557360" cy="376200"/>
          </a:xfrm>
          <a:prstGeom prst="wedgeRoundRectCallout">
            <a:avLst>
              <a:gd name="adj1" fmla="val -37564"/>
              <a:gd name="adj2" fmla="val 112023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інчест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6680160" y="2460600"/>
            <a:ext cx="1655640" cy="693720"/>
          </a:xfrm>
          <a:prstGeom prst="wedgeRoundRectCallout">
            <a:avLst>
              <a:gd name="adj1" fmla="val 46"/>
              <a:gd name="adj2" fmla="val 83638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ід для диск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6759720" y="642960"/>
            <a:ext cx="1585800" cy="687240"/>
          </a:xfrm>
          <a:prstGeom prst="wedgeRoundRectCallout">
            <a:avLst>
              <a:gd name="adj1" fmla="val -21569"/>
              <a:gd name="adj2" fmla="val 11974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ід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(DV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4"/>
          <p:cNvSpPr/>
          <p:nvPr/>
        </p:nvSpPr>
        <p:spPr>
          <a:xfrm rot="20386200">
            <a:off x="2298240" y="134748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5"/>
          <p:cNvSpPr/>
          <p:nvPr/>
        </p:nvSpPr>
        <p:spPr>
          <a:xfrm rot="17403000">
            <a:off x="3183480" y="3582000"/>
            <a:ext cx="1131840" cy="384120"/>
          </a:xfrm>
          <a:custGeom>
            <a:avLst/>
            <a:gdLst>
              <a:gd name="textAreaLeft" fmla="*/ 176760 w 1131840"/>
              <a:gd name="textAreaRight" fmla="*/ 990360 w 113184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 rot="9786600">
            <a:off x="3511080" y="492732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7"/>
          <p:cNvSpPr/>
          <p:nvPr/>
        </p:nvSpPr>
        <p:spPr>
          <a:xfrm rot="10800000">
            <a:off x="3541680" y="6005160"/>
            <a:ext cx="511200" cy="384120"/>
          </a:xfrm>
          <a:custGeom>
            <a:avLst/>
            <a:gdLst>
              <a:gd name="textAreaLeft" fmla="*/ 79920 w 511200"/>
              <a:gd name="textAreaRight" fmla="*/ 447480 w 5112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8"/>
          <p:cNvSpPr/>
          <p:nvPr/>
        </p:nvSpPr>
        <p:spPr>
          <a:xfrm rot="5400000">
            <a:off x="1603080" y="4248000"/>
            <a:ext cx="685800" cy="384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9"/>
          <p:cNvSpPr/>
          <p:nvPr/>
        </p:nvSpPr>
        <p:spPr>
          <a:xfrm rot="11635200">
            <a:off x="5614560" y="1334520"/>
            <a:ext cx="744480" cy="384120"/>
          </a:xfrm>
          <a:custGeom>
            <a:avLst/>
            <a:gdLst>
              <a:gd name="textAreaLeft" fmla="*/ 116280 w 744480"/>
              <a:gd name="textAreaRight" fmla="*/ 651600 w 7444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0"/>
          <p:cNvSpPr/>
          <p:nvPr/>
        </p:nvSpPr>
        <p:spPr>
          <a:xfrm rot="13750800">
            <a:off x="5516280" y="2074320"/>
            <a:ext cx="1270080" cy="384120"/>
          </a:xfrm>
          <a:custGeom>
            <a:avLst/>
            <a:gdLst>
              <a:gd name="textAreaLeft" fmla="*/ 198360 w 1270080"/>
              <a:gd name="textAreaRight" fmla="*/ 1111320 w 127008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1"/>
          <p:cNvSpPr/>
          <p:nvPr/>
        </p:nvSpPr>
        <p:spPr>
          <a:xfrm rot="14937600">
            <a:off x="4856760" y="3245040"/>
            <a:ext cx="2151000" cy="384120"/>
          </a:xfrm>
          <a:custGeom>
            <a:avLst/>
            <a:gdLst>
              <a:gd name="textAreaLeft" fmla="*/ 335880 w 2151000"/>
              <a:gd name="textAreaRight" fmla="*/ 1882440 w 215100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5eccf3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A96E-DB5C-4A20-A69A-6A8836156DB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635120" y="692280"/>
            <a:ext cx="61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машнє завдання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735120" y="2117880"/>
            <a:ext cx="749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Корпуси, їх типи і характеристик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Блоки живлення, їх типи і характеристики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Ро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єми блоків живлення стандартів АТ та АТХ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омера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9AC-B92C-421A-B30C-5D216276346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mg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user13</dc:creator>
  <dc:description/>
  <dc:language>en-US</dc:language>
  <cp:lastModifiedBy>NATA</cp:lastModifiedBy>
  <dcterms:modified xsi:type="dcterms:W3CDTF">2018-09-03T12:11:13Z</dcterms:modified>
  <cp:revision>1037</cp:revision>
  <dc:subject/>
  <dc:title>Программное обеспечение (ПО)</dc:title>
</cp:coreProperties>
</file>