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hdphoto1.wdp" ContentType="image/vnd.ms-photo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563-E862-4F6A-BCA8-D80CAE5E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CB2-4076-4FF3-9CBF-13C65BC6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391-684A-43D5-8E14-3210BAD9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D0D-49CE-46D0-9B06-4C9BBF46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24773-6D61-4124-A61A-AF10885002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647DF-2106-4091-A0D0-B49A17EC39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F2DCC-619A-4AD4-8FE4-3F1D5B2406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29B3C-A6AC-49BC-A43D-26AC6D0C6B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51084-D00E-436F-A431-930877EF95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9EF17-6788-47CF-851D-5041D49DAF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52CF2-F423-4AAC-9458-4431EA03F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DDC-C6AC-4987-A991-8D296AB6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25DB8-B95E-4979-A68B-AB02F47486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9D76F-FE0A-4FF7-8AEF-E27DA5B3DD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F369E-DB54-44EC-9B83-1046D90819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19223-BDFD-4397-B7D7-2F51C96ED6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519B7-E99D-4078-9A0B-59BB0A07E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8B7-D17A-4C96-A95C-B4663909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017-D7BB-42D6-9B6B-A7988346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8C9-59C9-4D4C-B020-712E4CAD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0EE-E605-4AE9-B1A5-50703508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832-56E8-43D8-B014-525E01C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577-4B8C-42C8-A72E-D58696B5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DDD-2D7F-47B3-B028-F83F7B13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2041F5-138A-4D1B-87B0-1D883A5B0D7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089301-B9FD-4AEF-9093-5FB1C224FC2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microsoft.com/office/2007/relationships/hdphoto" Target="../media/hdphoto1.wdp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8" descr=""/>
          <p:cNvPicPr/>
          <p:nvPr/>
        </p:nvPicPr>
        <p:blipFill>
          <a:blip r:embed="rId1"/>
          <a:stretch/>
        </p:blipFill>
        <p:spPr>
          <a:xfrm>
            <a:off x="-1424160" y="216360"/>
            <a:ext cx="11422800" cy="6425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bg2">
              <a:lumMod val="25000"/>
              <a:alpha val="8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" name="Coat_of_arms_of_Chelyabinsk_Oblast.svg.png" descr=""/>
          <p:cNvPicPr/>
          <p:nvPr/>
        </p:nvPicPr>
        <p:blipFill>
          <a:blip r:embed="rId2"/>
          <a:stretch/>
        </p:blipFill>
        <p:spPr>
          <a:xfrm>
            <a:off x="2288880" y="444960"/>
            <a:ext cx="781560" cy="1005840"/>
          </a:xfrm>
          <a:prstGeom prst="rect">
            <a:avLst/>
          </a:prstGeom>
          <a:ln w="12700">
            <a:noFill/>
          </a:ln>
        </p:spPr>
      </p:pic>
      <p:cxnSp>
        <p:nvCxnSpPr>
          <p:cNvPr id="83" name="Прямая соединительная линия 2"/>
          <p:cNvCxnSpPr/>
          <p:nvPr/>
        </p:nvCxnSpPr>
        <p:spPr>
          <a:xfrm>
            <a:off x="1255320" y="0"/>
            <a:ext cx="360" cy="3084480"/>
          </a:xfrm>
          <a:prstGeom prst="straightConnector1">
            <a:avLst/>
          </a:prstGeom>
          <a:ln w="73025">
            <a:solidFill>
              <a:srgbClr val="e7e6e6">
                <a:lumMod val="20000"/>
                <a:lumOff val="80000"/>
              </a:srgbClr>
            </a:solidFill>
            <a:miter/>
          </a:ln>
        </p:spPr>
      </p:cxnSp>
      <p:cxnSp>
        <p:nvCxnSpPr>
          <p:cNvPr id="84" name="Прямая соединительная линия 7"/>
          <p:cNvCxnSpPr/>
          <p:nvPr/>
        </p:nvCxnSpPr>
        <p:spPr>
          <a:xfrm>
            <a:off x="7478280" y="5199480"/>
            <a:ext cx="360" cy="1658880"/>
          </a:xfrm>
          <a:prstGeom prst="straightConnector1">
            <a:avLst/>
          </a:prstGeom>
          <a:ln w="73025">
            <a:solidFill>
              <a:srgbClr val="e7e6e6">
                <a:lumMod val="20000"/>
                <a:lumOff val="80000"/>
              </a:srgbClr>
            </a:solidFill>
            <a:miter/>
          </a:ln>
        </p:spPr>
      </p:cxnSp>
      <p:sp>
        <p:nvSpPr>
          <p:cNvPr id="85" name="TextBox 5"/>
          <p:cNvSpPr/>
          <p:nvPr/>
        </p:nvSpPr>
        <p:spPr>
          <a:xfrm>
            <a:off x="1392120" y="1693080"/>
            <a:ext cx="2538000" cy="405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38160" horzOverflow="overflow" vertOverflow="overflow" lIns="50760" rIns="50760" tIns="50760" bIns="5076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afafa"/>
                </a:solidFill>
                <a:latin typeface="Arial"/>
                <a:ea typeface="Arial"/>
              </a:rPr>
              <a:t>МАО РЦС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641520" y="3925080"/>
            <a:ext cx="6591600" cy="1198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38160" horzOverflow="overflow" vertOverflow="overflow" lIns="50760" rIns="50760" tIns="50760" bIns="5076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АНАЛИЗ И ПЛАНИРОВАНИЕ СПОРТИВНОЙ ПОДГОТОВКИ В ЦИКЛИЧЕСКИХ ВИДАХ 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4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44" name="Прямоугольник 2"/>
          <p:cNvSpPr/>
          <p:nvPr/>
        </p:nvSpPr>
        <p:spPr>
          <a:xfrm>
            <a:off x="969120" y="2782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МОДЕЛЬНЫЕ ХАРАКТЕРИСТИКИ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618120" y="1162440"/>
            <a:ext cx="827028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характеризующие структуру соревновательной деятельности, необходимой для достижения задан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характеризующие основные стороны подготовленности спортсмена и обеспечивающие эффективную соревно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рфофункциональные мод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ражающие морфологические особенности организма и возможности отдельных функциональных систем и их частей, обеспечивающие соответствующий уровень подготовленности к соревн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упных структурных образований тренировочного процесса – этапов многолетней подгот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нировочных этапов мезо- и микро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дельных тренировочных занятий и их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4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48" name="TextBox 4"/>
          <p:cNvSpPr/>
          <p:nvPr/>
        </p:nvSpPr>
        <p:spPr>
          <a:xfrm>
            <a:off x="969120" y="3124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52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53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55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56" name="Прямоугольник 2"/>
          <p:cNvSpPr/>
          <p:nvPr/>
        </p:nvSpPr>
        <p:spPr>
          <a:xfrm>
            <a:off x="969120" y="265680"/>
            <a:ext cx="7932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ВЫЯВЛЕНИЕ ЛИМИТИРУЮЩИХ ФАК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419040" y="2413080"/>
            <a:ext cx="8482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митирующ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несоответствие определенных модельных характеристик подготовленности спортсмена с модельными характеристиками соревн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5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60" name="TextBox 4"/>
          <p:cNvSpPr/>
          <p:nvPr/>
        </p:nvSpPr>
        <p:spPr>
          <a:xfrm>
            <a:off x="969120" y="3016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64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65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6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68" name="Прямоугольник 2"/>
          <p:cNvSpPr/>
          <p:nvPr/>
        </p:nvSpPr>
        <p:spPr>
          <a:xfrm>
            <a:off x="993600" y="226800"/>
            <a:ext cx="518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12600" algn="just">
              <a:lnSpc>
                <a:spcPct val="150000"/>
              </a:lnSpc>
              <a:tabLst>
                <a:tab algn="l" pos="30636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МЕТОДЫ И СРЕДСТВА РЕШЕНИЙ ВЫЯВЛ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7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71" name="TextBox 4"/>
          <p:cNvSpPr/>
          <p:nvPr/>
        </p:nvSpPr>
        <p:spPr>
          <a:xfrm>
            <a:off x="969120" y="28332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75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76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79" name="Прямоугольник 2"/>
          <p:cNvSpPr/>
          <p:nvPr/>
        </p:nvSpPr>
        <p:spPr>
          <a:xfrm>
            <a:off x="969120" y="298440"/>
            <a:ext cx="801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ФОРМУЛИРОВКА ЗАДАЧИ ПОДГОТОВКИ НА СЛЕДУЮЩИ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577800" y="1307520"/>
            <a:ext cx="827028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сновная задача подготовки (стратегия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уется как достижение определенного результата или места в соревн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577800" y="3211200"/>
            <a:ext cx="82702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ставленная задача на предстоящий год не должна противоречить основной направленности тренировочного процесса на данном этапе многолетней подготовки спортс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8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84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88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89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9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92" name="Прямоугольник 2"/>
          <p:cNvSpPr/>
          <p:nvPr/>
        </p:nvSpPr>
        <p:spPr>
          <a:xfrm>
            <a:off x="969120" y="226080"/>
            <a:ext cx="80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СОСТАВЛЕНИЕ ИНДИВИДУАЛЬНОГО КАЛЕНДАРЯ СОРЕВН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9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95" name="TextBox 4"/>
          <p:cNvSpPr/>
          <p:nvPr/>
        </p:nvSpPr>
        <p:spPr>
          <a:xfrm>
            <a:off x="969120" y="30384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99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200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8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89" name="TextBox 4"/>
          <p:cNvSpPr/>
          <p:nvPr/>
        </p:nvSpPr>
        <p:spPr>
          <a:xfrm>
            <a:off x="969120" y="3250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3360" y="1173960"/>
            <a:ext cx="8394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ланирование спортивной тренировки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- это система предварительно разработанных (или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смысленных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) на основе цели организационных, содержательных и методических сторон, связанных с проведением предстоящего тренировоч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603360" y="2499840"/>
            <a:ext cx="8394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ы определяющие периодические изменения в характере и содержании тренировочного процес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03360" y="324432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Циклическая сущность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603360" y="365652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даптация как всеобщ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603360" y="412416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зделение основ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603360" y="464616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афик сорев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603360" y="5168160"/>
            <a:ext cx="839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ланирование реализуется в индивидуальном плане подготовки спортсмена и позволяет оценить риски выбранной стратегии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0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03" name="Прямоугольник 2"/>
          <p:cNvSpPr/>
          <p:nvPr/>
        </p:nvSpPr>
        <p:spPr>
          <a:xfrm>
            <a:off x="939240" y="235440"/>
            <a:ext cx="80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ПЕРИОДИЗАЦИЯ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3035160" y="100872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ЦИК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Группа 62"/>
          <p:cNvGrpSpPr/>
          <p:nvPr/>
        </p:nvGrpSpPr>
        <p:grpSpPr>
          <a:xfrm>
            <a:off x="226440" y="1494000"/>
            <a:ext cx="8615520" cy="431640"/>
            <a:chOff x="226440" y="1494000"/>
            <a:chExt cx="8615520" cy="431640"/>
          </a:xfrm>
        </p:grpSpPr>
        <p:sp>
          <p:nvSpPr>
            <p:cNvPr id="206" name="Прямоугольник 6"/>
            <p:cNvSpPr/>
            <p:nvPr/>
          </p:nvSpPr>
          <p:spPr>
            <a:xfrm>
              <a:off x="226440" y="1494000"/>
              <a:ext cx="4319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Прямоугольник 7"/>
            <p:cNvSpPr/>
            <p:nvPr/>
          </p:nvSpPr>
          <p:spPr>
            <a:xfrm>
              <a:off x="4563000" y="1494000"/>
              <a:ext cx="222156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Прямоугольник 8"/>
            <p:cNvSpPr/>
            <p:nvPr/>
          </p:nvSpPr>
          <p:spPr>
            <a:xfrm>
              <a:off x="6784920" y="1494000"/>
              <a:ext cx="20570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1817640" y="153720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1"/>
            <p:cNvSpPr/>
            <p:nvPr/>
          </p:nvSpPr>
          <p:spPr>
            <a:xfrm>
              <a:off x="5376600" y="152532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2"/>
            <p:cNvSpPr/>
            <p:nvPr/>
          </p:nvSpPr>
          <p:spPr>
            <a:xfrm>
              <a:off x="7391880" y="15357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86"/>
          <p:cNvGrpSpPr/>
          <p:nvPr/>
        </p:nvGrpSpPr>
        <p:grpSpPr>
          <a:xfrm>
            <a:off x="226440" y="2499480"/>
            <a:ext cx="8623080" cy="432000"/>
            <a:chOff x="226440" y="2499480"/>
            <a:chExt cx="8623080" cy="432000"/>
          </a:xfrm>
        </p:grpSpPr>
        <p:sp>
          <p:nvSpPr>
            <p:cNvPr id="213" name="Прямоугольник 44"/>
            <p:cNvSpPr/>
            <p:nvPr/>
          </p:nvSpPr>
          <p:spPr>
            <a:xfrm>
              <a:off x="7968240" y="2499480"/>
              <a:ext cx="863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14" name="Группа 64"/>
            <p:cNvGrpSpPr/>
            <p:nvPr/>
          </p:nvGrpSpPr>
          <p:grpSpPr>
            <a:xfrm>
              <a:off x="226440" y="2499480"/>
              <a:ext cx="8623080" cy="432000"/>
              <a:chOff x="226440" y="2499480"/>
              <a:chExt cx="8623080" cy="432000"/>
            </a:xfrm>
          </p:grpSpPr>
          <p:sp>
            <p:nvSpPr>
              <p:cNvPr id="215" name="Прямоугольник 17"/>
              <p:cNvSpPr/>
              <p:nvPr/>
            </p:nvSpPr>
            <p:spPr>
              <a:xfrm>
                <a:off x="3756240" y="2499480"/>
                <a:ext cx="863640" cy="431640"/>
              </a:xfrm>
              <a:prstGeom prst="rect">
                <a:avLst/>
              </a:prstGeom>
              <a:solidFill>
                <a:srgbClr val="ffc000"/>
              </a:solidFill>
              <a:ln>
                <a:solidFill>
                  <a:srgbClr val="32549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16" name="Группа 63"/>
              <p:cNvGrpSpPr/>
              <p:nvPr/>
            </p:nvGrpSpPr>
            <p:grpSpPr>
              <a:xfrm>
                <a:off x="226440" y="2499480"/>
                <a:ext cx="8623080" cy="432000"/>
                <a:chOff x="226440" y="2499480"/>
                <a:chExt cx="8623080" cy="432000"/>
              </a:xfrm>
            </p:grpSpPr>
            <p:sp>
              <p:nvSpPr>
                <p:cNvPr id="217" name="Прямоугольник 15"/>
                <p:cNvSpPr/>
                <p:nvPr/>
              </p:nvSpPr>
              <p:spPr>
                <a:xfrm>
                  <a:off x="226440" y="2499840"/>
                  <a:ext cx="2519640" cy="431640"/>
                </a:xfrm>
                <a:prstGeom prst="rect">
                  <a:avLst/>
                </a:prstGeom>
                <a:solidFill>
                  <a:schemeClr val="accent1">
                    <a:lumMod val="60000"/>
                    <a:lumOff val="40000"/>
                  </a:schemeClr>
                </a:solidFill>
                <a:ln>
                  <a:solidFill>
                    <a:srgbClr val="4472c4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8" name="Прямоугольник 16"/>
                <p:cNvSpPr/>
                <p:nvPr/>
              </p:nvSpPr>
              <p:spPr>
                <a:xfrm>
                  <a:off x="2741760" y="2499480"/>
                  <a:ext cx="1007640" cy="431640"/>
                </a:xfrm>
                <a:prstGeom prst="rect">
                  <a:avLst/>
                </a:prstGeom>
                <a:solidFill>
                  <a:schemeClr val="accent6">
                    <a:lumMod val="75000"/>
                  </a:schemeClr>
                </a:solidFill>
                <a:ln>
                  <a:solidFill>
                    <a:srgbClr val="32549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9" name="TextBox 18"/>
                <p:cNvSpPr/>
                <p:nvPr/>
              </p:nvSpPr>
              <p:spPr>
                <a:xfrm>
                  <a:off x="1186200" y="252504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П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19"/>
                <p:cNvSpPr/>
                <p:nvPr/>
              </p:nvSpPr>
              <p:spPr>
                <a:xfrm>
                  <a:off x="2962800" y="252504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СП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20"/>
                <p:cNvSpPr/>
                <p:nvPr/>
              </p:nvSpPr>
              <p:spPr>
                <a:xfrm>
                  <a:off x="3803400" y="2527920"/>
                  <a:ext cx="8784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ерП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Прямоугольник 42"/>
                <p:cNvSpPr/>
                <p:nvPr/>
              </p:nvSpPr>
              <p:spPr>
                <a:xfrm>
                  <a:off x="4641480" y="2499480"/>
                  <a:ext cx="2051640" cy="431640"/>
                </a:xfrm>
                <a:prstGeom prst="rect">
                  <a:avLst/>
                </a:prstGeom>
                <a:solidFill>
                  <a:schemeClr val="accent1">
                    <a:lumMod val="60000"/>
                    <a:lumOff val="40000"/>
                  </a:schemeClr>
                </a:solidFill>
                <a:ln>
                  <a:solidFill>
                    <a:srgbClr val="4472c4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3" name="Прямоугольник 43"/>
                <p:cNvSpPr/>
                <p:nvPr/>
              </p:nvSpPr>
              <p:spPr>
                <a:xfrm>
                  <a:off x="6693480" y="2499840"/>
                  <a:ext cx="1274400" cy="431640"/>
                </a:xfrm>
                <a:prstGeom prst="rect">
                  <a:avLst/>
                </a:prstGeom>
                <a:solidFill>
                  <a:schemeClr val="accent6">
                    <a:lumMod val="75000"/>
                  </a:schemeClr>
                </a:solidFill>
                <a:ln>
                  <a:solidFill>
                    <a:srgbClr val="32549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4" name="TextBox 45"/>
                <p:cNvSpPr/>
                <p:nvPr/>
              </p:nvSpPr>
              <p:spPr>
                <a:xfrm>
                  <a:off x="7089840" y="252576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СП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Box 46"/>
                <p:cNvSpPr/>
                <p:nvPr/>
              </p:nvSpPr>
              <p:spPr>
                <a:xfrm>
                  <a:off x="7971120" y="2527920"/>
                  <a:ext cx="8784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ерП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Box 51"/>
                <p:cNvSpPr/>
                <p:nvPr/>
              </p:nvSpPr>
              <p:spPr>
                <a:xfrm>
                  <a:off x="5392440" y="251172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П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7" name="TextBox 52"/>
          <p:cNvSpPr/>
          <p:nvPr/>
        </p:nvSpPr>
        <p:spPr>
          <a:xfrm>
            <a:off x="2972520" y="203508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ЦИК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87"/>
          <p:cNvGrpSpPr/>
          <p:nvPr/>
        </p:nvGrpSpPr>
        <p:grpSpPr>
          <a:xfrm>
            <a:off x="226440" y="3486240"/>
            <a:ext cx="8684280" cy="441720"/>
            <a:chOff x="226440" y="3486240"/>
            <a:chExt cx="8684280" cy="441720"/>
          </a:xfrm>
        </p:grpSpPr>
        <p:sp>
          <p:nvSpPr>
            <p:cNvPr id="229" name="Прямоугольник 22"/>
            <p:cNvSpPr/>
            <p:nvPr/>
          </p:nvSpPr>
          <p:spPr>
            <a:xfrm>
              <a:off x="226440" y="3494160"/>
              <a:ext cx="1043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Прямоугольник 23"/>
            <p:cNvSpPr/>
            <p:nvPr/>
          </p:nvSpPr>
          <p:spPr>
            <a:xfrm>
              <a:off x="1281960" y="3494160"/>
              <a:ext cx="827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Прямоугольник 24"/>
            <p:cNvSpPr/>
            <p:nvPr/>
          </p:nvSpPr>
          <p:spPr>
            <a:xfrm>
              <a:off x="2106000" y="3494160"/>
              <a:ext cx="899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TextBox 25"/>
            <p:cNvSpPr/>
            <p:nvPr/>
          </p:nvSpPr>
          <p:spPr>
            <a:xfrm>
              <a:off x="44676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6"/>
            <p:cNvSpPr/>
            <p:nvPr/>
          </p:nvSpPr>
          <p:spPr>
            <a:xfrm>
              <a:off x="1416960" y="351000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7"/>
            <p:cNvSpPr/>
            <p:nvPr/>
          </p:nvSpPr>
          <p:spPr>
            <a:xfrm>
              <a:off x="2162520" y="35247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оугольник 53"/>
            <p:cNvSpPr/>
            <p:nvPr/>
          </p:nvSpPr>
          <p:spPr>
            <a:xfrm>
              <a:off x="3006000" y="3490200"/>
              <a:ext cx="1223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TextBox 54"/>
            <p:cNvSpPr/>
            <p:nvPr/>
          </p:nvSpPr>
          <p:spPr>
            <a:xfrm>
              <a:off x="333612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оугольник 55"/>
            <p:cNvSpPr/>
            <p:nvPr/>
          </p:nvSpPr>
          <p:spPr>
            <a:xfrm>
              <a:off x="4237560" y="3486240"/>
              <a:ext cx="827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TextBox 56"/>
            <p:cNvSpPr/>
            <p:nvPr/>
          </p:nvSpPr>
          <p:spPr>
            <a:xfrm>
              <a:off x="4444560" y="35265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оугольник 57"/>
            <p:cNvSpPr/>
            <p:nvPr/>
          </p:nvSpPr>
          <p:spPr>
            <a:xfrm>
              <a:off x="5080680" y="3490920"/>
              <a:ext cx="899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Прямоугольник 58"/>
            <p:cNvSpPr/>
            <p:nvPr/>
          </p:nvSpPr>
          <p:spPr>
            <a:xfrm>
              <a:off x="5980680" y="3496320"/>
              <a:ext cx="118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Прямоугольник 59"/>
            <p:cNvSpPr/>
            <p:nvPr/>
          </p:nvSpPr>
          <p:spPr>
            <a:xfrm>
              <a:off x="7950240" y="3487680"/>
              <a:ext cx="899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Прямоугольник 61"/>
            <p:cNvSpPr/>
            <p:nvPr/>
          </p:nvSpPr>
          <p:spPr>
            <a:xfrm>
              <a:off x="7140240" y="3487680"/>
              <a:ext cx="827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TextBox 66"/>
            <p:cNvSpPr/>
            <p:nvPr/>
          </p:nvSpPr>
          <p:spPr>
            <a:xfrm>
              <a:off x="5133600" y="34995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67"/>
            <p:cNvSpPr/>
            <p:nvPr/>
          </p:nvSpPr>
          <p:spPr>
            <a:xfrm>
              <a:off x="8032320" y="34995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60"/>
            <p:cNvSpPr/>
            <p:nvPr/>
          </p:nvSpPr>
          <p:spPr>
            <a:xfrm>
              <a:off x="731196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68"/>
            <p:cNvSpPr/>
            <p:nvPr/>
          </p:nvSpPr>
          <p:spPr>
            <a:xfrm>
              <a:off x="628092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69"/>
          <p:cNvSpPr/>
          <p:nvPr/>
        </p:nvSpPr>
        <p:spPr>
          <a:xfrm>
            <a:off x="2990880" y="300132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ХЦИК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Группа 85"/>
          <p:cNvGrpSpPr/>
          <p:nvPr/>
        </p:nvGrpSpPr>
        <p:grpSpPr>
          <a:xfrm>
            <a:off x="237600" y="4528440"/>
            <a:ext cx="8668440" cy="437760"/>
            <a:chOff x="237600" y="4528440"/>
            <a:chExt cx="8668440" cy="437760"/>
          </a:xfrm>
        </p:grpSpPr>
        <p:sp>
          <p:nvSpPr>
            <p:cNvPr id="249" name="Прямоугольник 73"/>
            <p:cNvSpPr/>
            <p:nvPr/>
          </p:nvSpPr>
          <p:spPr>
            <a:xfrm>
              <a:off x="237600" y="4528800"/>
              <a:ext cx="298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Прямоугольник 74"/>
            <p:cNvSpPr/>
            <p:nvPr/>
          </p:nvSpPr>
          <p:spPr>
            <a:xfrm>
              <a:off x="3205440" y="4528440"/>
              <a:ext cx="1043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TextBox 75"/>
            <p:cNvSpPr/>
            <p:nvPr/>
          </p:nvSpPr>
          <p:spPr>
            <a:xfrm>
              <a:off x="1463760" y="45694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76"/>
            <p:cNvSpPr/>
            <p:nvPr/>
          </p:nvSpPr>
          <p:spPr>
            <a:xfrm>
              <a:off x="3480480" y="45658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оугольник 78"/>
            <p:cNvSpPr/>
            <p:nvPr/>
          </p:nvSpPr>
          <p:spPr>
            <a:xfrm>
              <a:off x="4260600" y="4528440"/>
              <a:ext cx="244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Прямоугольник 79"/>
            <p:cNvSpPr/>
            <p:nvPr/>
          </p:nvSpPr>
          <p:spPr>
            <a:xfrm>
              <a:off x="6704640" y="4528800"/>
              <a:ext cx="127440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TextBox 80"/>
            <p:cNvSpPr/>
            <p:nvPr/>
          </p:nvSpPr>
          <p:spPr>
            <a:xfrm>
              <a:off x="7101000" y="455472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81"/>
            <p:cNvSpPr/>
            <p:nvPr/>
          </p:nvSpPr>
          <p:spPr>
            <a:xfrm>
              <a:off x="7982280" y="455724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82"/>
            <p:cNvSpPr/>
            <p:nvPr/>
          </p:nvSpPr>
          <p:spPr>
            <a:xfrm>
              <a:off x="5172120" y="45802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Прямоугольник 83"/>
            <p:cNvSpPr/>
            <p:nvPr/>
          </p:nvSpPr>
          <p:spPr>
            <a:xfrm>
              <a:off x="7979400" y="4534560"/>
              <a:ext cx="863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TextBox 84"/>
            <p:cNvSpPr/>
            <p:nvPr/>
          </p:nvSpPr>
          <p:spPr>
            <a:xfrm>
              <a:off x="8027640" y="455472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Группа 107"/>
          <p:cNvGrpSpPr/>
          <p:nvPr/>
        </p:nvGrpSpPr>
        <p:grpSpPr>
          <a:xfrm>
            <a:off x="237600" y="5508000"/>
            <a:ext cx="8613000" cy="439920"/>
            <a:chOff x="237600" y="5508000"/>
            <a:chExt cx="8613000" cy="439920"/>
          </a:xfrm>
        </p:grpSpPr>
        <p:sp>
          <p:nvSpPr>
            <p:cNvPr id="261" name="Прямоугольник 89"/>
            <p:cNvSpPr/>
            <p:nvPr/>
          </p:nvSpPr>
          <p:spPr>
            <a:xfrm>
              <a:off x="237600" y="5516280"/>
              <a:ext cx="140292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Прямоугольник 90"/>
            <p:cNvSpPr/>
            <p:nvPr/>
          </p:nvSpPr>
          <p:spPr>
            <a:xfrm>
              <a:off x="1617480" y="5516280"/>
              <a:ext cx="1043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TextBox 92"/>
            <p:cNvSpPr/>
            <p:nvPr/>
          </p:nvSpPr>
          <p:spPr>
            <a:xfrm>
              <a:off x="629640" y="55450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93"/>
            <p:cNvSpPr/>
            <p:nvPr/>
          </p:nvSpPr>
          <p:spPr>
            <a:xfrm>
              <a:off x="1839960" y="55234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оугольник 95"/>
            <p:cNvSpPr/>
            <p:nvPr/>
          </p:nvSpPr>
          <p:spPr>
            <a:xfrm>
              <a:off x="2648880" y="5508000"/>
              <a:ext cx="1439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TextBox 96"/>
            <p:cNvSpPr/>
            <p:nvPr/>
          </p:nvSpPr>
          <p:spPr>
            <a:xfrm>
              <a:off x="3077280" y="55396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рямоугольник 97"/>
            <p:cNvSpPr/>
            <p:nvPr/>
          </p:nvSpPr>
          <p:spPr>
            <a:xfrm>
              <a:off x="4089960" y="5508000"/>
              <a:ext cx="1079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TextBox 98"/>
            <p:cNvSpPr/>
            <p:nvPr/>
          </p:nvSpPr>
          <p:spPr>
            <a:xfrm>
              <a:off x="4353840" y="554760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оугольник 100"/>
            <p:cNvSpPr/>
            <p:nvPr/>
          </p:nvSpPr>
          <p:spPr>
            <a:xfrm>
              <a:off x="5157000" y="5516280"/>
              <a:ext cx="136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Прямоугольник 101"/>
            <p:cNvSpPr/>
            <p:nvPr/>
          </p:nvSpPr>
          <p:spPr>
            <a:xfrm>
              <a:off x="7482960" y="5508000"/>
              <a:ext cx="1367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Прямоугольник 102"/>
            <p:cNvSpPr/>
            <p:nvPr/>
          </p:nvSpPr>
          <p:spPr>
            <a:xfrm>
              <a:off x="6509880" y="5508000"/>
              <a:ext cx="971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TextBox 104"/>
            <p:cNvSpPr/>
            <p:nvPr/>
          </p:nvSpPr>
          <p:spPr>
            <a:xfrm>
              <a:off x="7804440" y="554760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05"/>
            <p:cNvSpPr/>
            <p:nvPr/>
          </p:nvSpPr>
          <p:spPr>
            <a:xfrm>
              <a:off x="6746400" y="55324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06"/>
            <p:cNvSpPr/>
            <p:nvPr/>
          </p:nvSpPr>
          <p:spPr>
            <a:xfrm>
              <a:off x="5572800" y="557892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08"/>
          <p:cNvSpPr/>
          <p:nvPr/>
        </p:nvSpPr>
        <p:spPr>
          <a:xfrm>
            <a:off x="3074400" y="400500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ДВОЕННЫ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9"/>
          <p:cNvSpPr/>
          <p:nvPr/>
        </p:nvSpPr>
        <p:spPr>
          <a:xfrm>
            <a:off x="3074400" y="511056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ЕННЫ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79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283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284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8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87" name="Прямоугольник 2"/>
          <p:cNvSpPr/>
          <p:nvPr/>
        </p:nvSpPr>
        <p:spPr>
          <a:xfrm>
            <a:off x="969120" y="19980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2818440" y="7342920"/>
            <a:ext cx="4571640" cy="11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мощности лактатного ан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60-120 сек, основной источник энергии: глюкоза, гликоген) – скорость накопление лактата в крови (биохимический показатель – ЛДГ, функциональный тест – тест Вашляева (угол наклона тренда удДО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емкости лактатного ан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до 4 мин, основной источник энергии: глюкоза, гликоген) – максимальное накопление лактата при выполнении нагрузки (биохимический показатель – лактат, функциональный тест – тест Вашляева (длительность работы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мощн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большой мощности, продолжительность: 2-3 мин неинтенсивной работе до 30 мин, основной источник энергии: гликоген, жирные кислоты) – зависит от скорости поступления и скорости утилиз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ценивается по величине МПК (функциональный тест – определение МПК или время наступления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емк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умеренной мощности, продолжительность: более 40 мин, основной источник энергии: гликоген, жирные кислоты) – зависит от источника энергии (функциональный тест – время работы на уровне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"/>
          <p:cNvSpPr/>
          <p:nvPr/>
        </p:nvSpPr>
        <p:spPr>
          <a:xfrm>
            <a:off x="254160" y="1725840"/>
            <a:ext cx="40914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мощности а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максимальной мощности, продолжительность: до 6 сек, основной источник энергии: креатинфосфат) – скорость расщепления КрФ зависит от интенсивности нагрузки и активности фермента КФК (биохимический показатель – КФК (мышечная изоформа), функциональный тест – максимальная анаэробная мощность (МАМ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6"/>
          <p:cNvSpPr/>
          <p:nvPr/>
        </p:nvSpPr>
        <p:spPr>
          <a:xfrm>
            <a:off x="4780440" y="1751040"/>
            <a:ext cx="41094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емкости а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максимальной мощности, продолжительность: до 20-25 сек, основной источник энергии: креатинфосфат) – зависит от запасов КрФ, которые зависят от содержания креатина (биохимический показатель – креатинин, функциональный тест – Вингейт-те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единительная линия 7"/>
          <p:cNvCxnSpPr/>
          <p:nvPr/>
        </p:nvCxnSpPr>
        <p:spPr>
          <a:xfrm>
            <a:off x="4563000" y="121392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292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293" name="Овал 9"/>
          <p:cNvSpPr/>
          <p:nvPr/>
        </p:nvSpPr>
        <p:spPr>
          <a:xfrm>
            <a:off x="4482360" y="372852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95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96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4"/>
          <p:cNvSpPr/>
          <p:nvPr/>
        </p:nvSpPr>
        <p:spPr>
          <a:xfrm>
            <a:off x="3351600" y="6449400"/>
            <a:ext cx="4571640" cy="58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мощн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большой мощности, продолжительность: 2-3 мин неинтенсивной работе до 30 мин, основной источник энергии: гликоген, жирные кислоты) – зависит от скорости поступления и скорости утилиз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ценивается по величине МПК (функциональный тест – определение МПК или время наступления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емк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умеренной мощности, продолжительность: более 40 мин, основной источник энергии: гликоген, жирные кислоты) – зависит от источника энергии (функциональный тест – время работы на уровне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единительная линия 7"/>
          <p:cNvCxnSpPr/>
          <p:nvPr/>
        </p:nvCxnSpPr>
        <p:spPr>
          <a:xfrm>
            <a:off x="4563000" y="121392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299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00" name="Овал 9"/>
          <p:cNvSpPr/>
          <p:nvPr/>
        </p:nvSpPr>
        <p:spPr>
          <a:xfrm>
            <a:off x="4482360" y="372852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267480" y="1859400"/>
            <a:ext cx="39337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мощности 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60-120 сек, основной источник энергии: глюкоза, гликоген) – скорость накопление лактата в крови (биохимический показатель – ЛДГ, функциональный тест – тест Вашляева (угол наклона тренда удДО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4842360" y="1895760"/>
            <a:ext cx="40338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емкости 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до 4 мин, основной источник энергии: глюкоза, гликоген) – максимальное накопление лактата при выполнении нагрузки (биохимический показатель – лактат, функциональный тест – тест Вашляева (длительность работы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0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05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4797000" y="1884600"/>
            <a:ext cx="4202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емкости 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умеренной мощности, продолжительность: более 40 мин, основной источник энергии: гликоген, жирные кислоты) – зависит от источника энергии (функциональный тест – время работы на уровне П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Прямая соединительная линия 7"/>
          <p:cNvCxnSpPr/>
          <p:nvPr/>
        </p:nvCxnSpPr>
        <p:spPr>
          <a:xfrm>
            <a:off x="4563000" y="121392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08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09" name="Овал 9"/>
          <p:cNvSpPr/>
          <p:nvPr/>
        </p:nvSpPr>
        <p:spPr>
          <a:xfrm>
            <a:off x="4482360" y="372852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342360" y="1884600"/>
            <a:ext cx="4022640" cy="39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мощности 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большой мощности, продолжительность: 2-3 мин неинтенсивной работе до 30 мин, основной источник энергии: гликоген, жирные кислоты) – зависит от скорости поступления и скорости утилиз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ценивается по величине МПК (функциональный тест – определение МПК или время наступления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1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13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Прямая соединительная линия 7"/>
          <p:cNvCxnSpPr/>
          <p:nvPr/>
        </p:nvCxnSpPr>
        <p:spPr>
          <a:xfrm>
            <a:off x="4570920" y="169632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15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16" name="Овал 9"/>
          <p:cNvSpPr/>
          <p:nvPr/>
        </p:nvSpPr>
        <p:spPr>
          <a:xfrm>
            <a:off x="4477680" y="39668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Прямоугольник 10"/>
          <p:cNvSpPr/>
          <p:nvPr/>
        </p:nvSpPr>
        <p:spPr>
          <a:xfrm>
            <a:off x="736920" y="883440"/>
            <a:ext cx="758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иловы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особности в основе которых лежит качество сил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326160" y="1922040"/>
            <a:ext cx="415116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Максимальная сила без увеличения мышечной м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160"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максимальных усилий</a:t>
            </a: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до 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и более от ПМ, 1-3 повторений, 2-5 подхода, отдых 2-5 мин, скорость преодолевающих движений – медленная, темп выполнения упражнения – произво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2"/>
          <p:cNvSpPr/>
          <p:nvPr/>
        </p:nvSpPr>
        <p:spPr>
          <a:xfrm>
            <a:off x="267840" y="4280760"/>
            <a:ext cx="415116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Максимальная сила с незначительным приростом мышечной м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максимальных усилий</a:t>
            </a: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90-9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-6 повторений, 2-5 подхода, отдых 2-5 мин, скорость преодолевающих движений – медленная, темп выполнения упражнения – произво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4762440" y="1972800"/>
            <a:ext cx="42865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Максимальная сила с приростом мышечной мас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максимальных усилий</a:t>
            </a: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85-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-6 повторений, 3-6 подхода, отдых 2-3 мин, скорость преодолевающих движений – средняя, темп выполнения упражнения – сред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4813200" y="4228560"/>
            <a:ext cx="418500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Увеличение мышечной массы с одновременным приростом максимально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нормированным количеством повторе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80-8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8-10 повторений, 3-6 подхода, отдых 2-3 мин, скорость преодолевающих движений – средняя, темп выполнения упражнения – сред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2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24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Прямая соединительная линия 7"/>
          <p:cNvCxnSpPr/>
          <p:nvPr/>
        </p:nvCxnSpPr>
        <p:spPr>
          <a:xfrm>
            <a:off x="4570920" y="169632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26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27" name="Овал 9"/>
          <p:cNvSpPr/>
          <p:nvPr/>
        </p:nvSpPr>
        <p:spPr>
          <a:xfrm>
            <a:off x="4477680" y="39668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Прямоугольник 10"/>
          <p:cNvSpPr/>
          <p:nvPr/>
        </p:nvSpPr>
        <p:spPr>
          <a:xfrm>
            <a:off x="736920" y="883440"/>
            <a:ext cx="758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иловы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особности в основе которых лежит качество сил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4"/>
          <p:cNvSpPr/>
          <p:nvPr/>
        </p:nvSpPr>
        <p:spPr>
          <a:xfrm>
            <a:off x="326160" y="1974960"/>
            <a:ext cx="4149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8160"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Уменьшение жирового компонента массы тела и силовая выносл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160"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нормированным количеством повторе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50-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15-30 повторений, 3-6 подхода, отдых 3-6 мин, скорость преодолевающих движений – средняя, темп выполнения упражнения – высокий до максимальног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415080" y="4292640"/>
            <a:ext cx="4149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иловая выносливость и рельеф мыш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нормированным количеством повторе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30-6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0-100 повторений, 2-6 подхода, отдых 5-6 мин, скорость преодолевающих движений – высокая, темп выполнения упражнения – высо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5"/>
          <p:cNvSpPr/>
          <p:nvPr/>
        </p:nvSpPr>
        <p:spPr>
          <a:xfrm>
            <a:off x="4749840" y="1955880"/>
            <a:ext cx="418212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иловая выносливость (анаэробная производительность - мощн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максимальным количеством повторений до отка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30-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повторений до отказа, 2-4 подхода, отдых 5-10 мин, скорость преодолевающих движений – высокая, темп выполнения упражнения – субмаксима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6"/>
          <p:cNvSpPr/>
          <p:nvPr/>
        </p:nvSpPr>
        <p:spPr>
          <a:xfrm>
            <a:off x="4795200" y="4258440"/>
            <a:ext cx="4149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иловая выносливость (гликолитическая емк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максимальным количеством повторений до отка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20-6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повторений до отказа, 2-4 подхода, отдых 1-3 мин, скорость преодолевающих движений – высокая, темп выполнения упражнения – субмаксима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3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35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единительная линия 7"/>
          <p:cNvCxnSpPr/>
          <p:nvPr/>
        </p:nvCxnSpPr>
        <p:spPr>
          <a:xfrm>
            <a:off x="4570920" y="169632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37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38" name="Овал 9"/>
          <p:cNvSpPr/>
          <p:nvPr/>
        </p:nvSpPr>
        <p:spPr>
          <a:xfrm>
            <a:off x="4477680" y="39668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4657680" y="2368440"/>
            <a:ext cx="426384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just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коростно-силовые способности (взрывная сила и реактивная способность двигательного аппара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Ударный метод (плеометрический метод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15-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-8 повторений, кол-во подходов до падения мощности, отдых до восстановления , скорость преодолевающих движений – максимальная, темп выполнения упражнения – произво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79320"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0"/>
          <p:cNvSpPr/>
          <p:nvPr/>
        </p:nvSpPr>
        <p:spPr>
          <a:xfrm>
            <a:off x="736920" y="883440"/>
            <a:ext cx="758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иловы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особности в основе которых лежит качество сил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1"/>
          <p:cNvSpPr/>
          <p:nvPr/>
        </p:nvSpPr>
        <p:spPr>
          <a:xfrm>
            <a:off x="222120" y="2615400"/>
            <a:ext cx="406188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коростно-силовые способности (скорость отягощенных движе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динамических усилий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15-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1-3 повторений, кол-во подходов до падения скорости, отдых до восстановления , скорость преодолевающих движений – максимальная, темп выполнения упражнения –высо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4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44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48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49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5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52" name="Прямоугольник 2"/>
          <p:cNvSpPr/>
          <p:nvPr/>
        </p:nvSpPr>
        <p:spPr>
          <a:xfrm>
            <a:off x="978120" y="205920"/>
            <a:ext cx="718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СРЕДСТВ И МЕТ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9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99" name="TextBox 4"/>
          <p:cNvSpPr/>
          <p:nvPr/>
        </p:nvSpPr>
        <p:spPr>
          <a:xfrm>
            <a:off x="969120" y="31464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510080" y="1191240"/>
            <a:ext cx="448776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92320" y="133488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03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04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5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55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59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60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6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63" name="Прямоугольник 2"/>
          <p:cNvSpPr/>
          <p:nvPr/>
        </p:nvSpPr>
        <p:spPr>
          <a:xfrm>
            <a:off x="969120" y="226080"/>
            <a:ext cx="78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ПЛАНИРОВАНИЕ МЕРОПРИЯТИЙ КОМПЛЕКСНОГО КОНТР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736920" y="1365840"/>
            <a:ext cx="8025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перативны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ценки срочного эффекта одного тренировочного занятия или его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6"/>
          <p:cNvSpPr/>
          <p:nvPr/>
        </p:nvSpPr>
        <p:spPr>
          <a:xfrm>
            <a:off x="736920" y="2966040"/>
            <a:ext cx="8025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кущ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ценки тренировочного эффекта нескольких тренировочных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7"/>
          <p:cNvSpPr/>
          <p:nvPr/>
        </p:nvSpPr>
        <p:spPr>
          <a:xfrm>
            <a:off x="736920" y="4750200"/>
            <a:ext cx="8025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тапны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ценки кумулятивного тренировочного эффекта в мезо-  и макроцикле подгото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6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69" name="Прямоугольник 4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ИСАНИЕ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Таблица 2"/>
          <p:cNvGraphicFramePr/>
          <p:nvPr/>
        </p:nvGraphicFramePr>
        <p:xfrm>
          <a:off x="330120" y="1162440"/>
          <a:ext cx="8557920" cy="5354640"/>
        </p:xfrm>
        <a:graphic>
          <a:graphicData uri="http://schemas.openxmlformats.org/drawingml/2006/table">
            <a:tbl>
              <a:tblPr/>
              <a:tblGrid>
                <a:gridCol w="583920"/>
                <a:gridCol w="2616120"/>
                <a:gridCol w="2755800"/>
                <a:gridCol w="260172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МПОНЕНТЫ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БОР ВАРИА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ель состязания в конкретном виде спор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 каким критериям определяется победитель, способ определения преимуще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трический результат (</a:t>
                      </a: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г, сек, метры…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чки/бал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гламент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алендарь соревнов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-во ста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спределение 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межут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ерманентный, локальный, смеш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-во макро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хнико-тактический компонен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став действ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механические параметры ДД влияющие на результа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арактеристика дви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техни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снова техники вид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странственные, временные, динамические, энергетические параметры 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иклические, ациклическ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дежность (стабильность и вариативность) объем и разнообраз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соковариативные 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ординационная сложность 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7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73" name="Прямоугольник 4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ИСАНИЕ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Таблица 2"/>
          <p:cNvGraphicFramePr/>
          <p:nvPr/>
        </p:nvGraphicFramePr>
        <p:xfrm>
          <a:off x="330120" y="1162440"/>
          <a:ext cx="8557920" cy="5086440"/>
        </p:xfrm>
        <a:graphic>
          <a:graphicData uri="http://schemas.openxmlformats.org/drawingml/2006/table">
            <a:tbl>
              <a:tblPr/>
              <a:tblGrid>
                <a:gridCol w="583920"/>
                <a:gridCol w="2616120"/>
                <a:gridCol w="2463480"/>
                <a:gridCol w="289404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МПОНЕНТЫ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БОР ВАРИА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хнико-тактический компонен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пособ ведения борьбы и реализации технической и физической готовности, (тактика)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складка по дистан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ктивная, защитная тактика,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итуационная неопределенность и предугадывание, степень коррекции тактических заготовок в ходе СД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сихологический компонент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сточник психического напряжения в С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едущие когнитивные процессы (восприятие, мышление, памят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стойчивость к монототонии, риск травм, деятельность в условиях неопределенности и постоянной смены обстановки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араметры: </a:t>
                      </a: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нсорных функций</a:t>
                      </a: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внимание: концентрация, переключение, распределение…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амяти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(скорость запоминания, точность воспроизведения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слительных операций</a:t>
                      </a: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продуктивность, скорость, конкретность, вероятностное прогнозирование…).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7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77" name="Прямоугольник 4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ИСАНИЕ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Таблица 2"/>
          <p:cNvGraphicFramePr/>
          <p:nvPr/>
        </p:nvGraphicFramePr>
        <p:xfrm>
          <a:off x="330120" y="1162440"/>
          <a:ext cx="8557920" cy="5481000"/>
        </p:xfrm>
        <a:graphic>
          <a:graphicData uri="http://schemas.openxmlformats.org/drawingml/2006/table">
            <a:tbl>
              <a:tblPr/>
              <a:tblGrid>
                <a:gridCol w="583920"/>
                <a:gridCol w="2616120"/>
                <a:gridCol w="2463480"/>
                <a:gridCol w="289404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МПОНЕНТЫ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БОР ВАРИА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изический компонент (двигательные качества)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Ведущие двигательные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ила</a:t>
                      </a:r>
                      <a:r>
                        <a:rPr b="1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максимальная, скоростно-силовые (взрывная и быстрая динамическая), силовая вынослив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ыстрота</a:t>
                      </a:r>
                      <a:r>
                        <a:rPr b="1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движений (одиночного и темп), реагирования (простые и сложные реакции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ыносливость</a:t>
                      </a:r>
                      <a:r>
                        <a:rPr b="1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аэробная липидная и углеводная, анаэробная лактатная и алактатная, координацион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ибкость</a:t>
                      </a:r>
                      <a:r>
                        <a:rPr b="0" lang="ru-RU" sz="105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ункциональный компонент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истемы организма обеспечивающие СД (физиология и психофизиологи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ислородтранспортная (ССС, ДС), мышечно-сязочный аппарат, НС (вегетативная, ЦНС и переферическая</a:t>
                      </a:r>
                      <a:r>
                        <a:rPr b="0" i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8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еобладающий механизм энергообеспечения СД (биохимия и физиология мышечного сокращения)</a:t>
                      </a: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соответствии с продолжительностью и мощностью работы выделить ведущ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эробный липидный или углеводный, анаэробный лактатный и алактатный </a:t>
                      </a: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мощность или емкость</a:t>
                      </a:r>
                      <a:r>
                        <a:rPr b="1" i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8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81" name="Прямоугольник 5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КЛАССИФИКАЦИЯ ДВИГАТЕЛЬНЫХ КАЧ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2"/>
          <p:cNvSpPr/>
          <p:nvPr/>
        </p:nvSpPr>
        <p:spPr>
          <a:xfrm>
            <a:off x="330120" y="1162440"/>
            <a:ext cx="1547640" cy="57708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Скругленный прямоугольник 6"/>
          <p:cNvSpPr/>
          <p:nvPr/>
        </p:nvSpPr>
        <p:spPr>
          <a:xfrm>
            <a:off x="2082960" y="1162440"/>
            <a:ext cx="1547640" cy="577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Скругленный прямоугольник 7"/>
          <p:cNvSpPr/>
          <p:nvPr/>
        </p:nvSpPr>
        <p:spPr>
          <a:xfrm>
            <a:off x="3772440" y="1162440"/>
            <a:ext cx="1619640" cy="577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Скругленный прямоугольник 8"/>
          <p:cNvSpPr/>
          <p:nvPr/>
        </p:nvSpPr>
        <p:spPr>
          <a:xfrm>
            <a:off x="5513040" y="1144080"/>
            <a:ext cx="1547640" cy="577080"/>
          </a:xfrm>
          <a:prstGeom prst="roundRect">
            <a:avLst>
              <a:gd name="adj" fmla="val 16667"/>
            </a:avLst>
          </a:prstGeom>
          <a:solidFill>
            <a:schemeClr val="accent6">
              <a:lumMod val="5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Скругленный прямоугольник 10"/>
          <p:cNvSpPr/>
          <p:nvPr/>
        </p:nvSpPr>
        <p:spPr>
          <a:xfrm>
            <a:off x="7265880" y="1144080"/>
            <a:ext cx="1547640" cy="5770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TextBox 11"/>
          <p:cNvSpPr/>
          <p:nvPr/>
        </p:nvSpPr>
        <p:spPr>
          <a:xfrm>
            <a:off x="473400" y="1230840"/>
            <a:ext cx="1335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2156400" y="1251000"/>
            <a:ext cx="140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СТР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3539520" y="1292400"/>
            <a:ext cx="2064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4"/>
          <p:cNvSpPr/>
          <p:nvPr/>
        </p:nvSpPr>
        <p:spPr>
          <a:xfrm>
            <a:off x="6996960" y="1220400"/>
            <a:ext cx="208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5"/>
          <p:cNvSpPr/>
          <p:nvPr/>
        </p:nvSpPr>
        <p:spPr>
          <a:xfrm>
            <a:off x="5574240" y="1217880"/>
            <a:ext cx="140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6"/>
          <p:cNvSpPr/>
          <p:nvPr/>
        </p:nvSpPr>
        <p:spPr>
          <a:xfrm>
            <a:off x="261720" y="2373840"/>
            <a:ext cx="1547640" cy="116028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3" name="Прямоугольник 17"/>
          <p:cNvSpPr/>
          <p:nvPr/>
        </p:nvSpPr>
        <p:spPr>
          <a:xfrm>
            <a:off x="2078280" y="2387160"/>
            <a:ext cx="1547640" cy="11473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4" name="Прямоугольник 18"/>
          <p:cNvSpPr/>
          <p:nvPr/>
        </p:nvSpPr>
        <p:spPr>
          <a:xfrm>
            <a:off x="2099160" y="3775320"/>
            <a:ext cx="2038320" cy="11473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Прямоугольник 19"/>
          <p:cNvSpPr/>
          <p:nvPr/>
        </p:nvSpPr>
        <p:spPr>
          <a:xfrm>
            <a:off x="2099160" y="5116680"/>
            <a:ext cx="2038320" cy="11419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Прямоугольник 20"/>
          <p:cNvSpPr/>
          <p:nvPr/>
        </p:nvSpPr>
        <p:spPr>
          <a:xfrm>
            <a:off x="3808440" y="2373840"/>
            <a:ext cx="1547640" cy="116028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Прямоугольник 21"/>
          <p:cNvSpPr/>
          <p:nvPr/>
        </p:nvSpPr>
        <p:spPr>
          <a:xfrm>
            <a:off x="5574240" y="2363040"/>
            <a:ext cx="1547640" cy="11714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Прямоугольник 22"/>
          <p:cNvSpPr/>
          <p:nvPr/>
        </p:nvSpPr>
        <p:spPr>
          <a:xfrm>
            <a:off x="5579640" y="3721320"/>
            <a:ext cx="1547640" cy="11419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Прямоугольник 23"/>
          <p:cNvSpPr/>
          <p:nvPr/>
        </p:nvSpPr>
        <p:spPr>
          <a:xfrm>
            <a:off x="4572000" y="5628960"/>
            <a:ext cx="2095200" cy="11419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0" name="Прямоугольник 24"/>
          <p:cNvSpPr/>
          <p:nvPr/>
        </p:nvSpPr>
        <p:spPr>
          <a:xfrm>
            <a:off x="7390800" y="290952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Прямоугольник 25"/>
          <p:cNvSpPr/>
          <p:nvPr/>
        </p:nvSpPr>
        <p:spPr>
          <a:xfrm>
            <a:off x="7390800" y="344628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2" name="Прямоугольник 26"/>
          <p:cNvSpPr/>
          <p:nvPr/>
        </p:nvSpPr>
        <p:spPr>
          <a:xfrm>
            <a:off x="7390800" y="399168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3" name="Прямоугольник 27"/>
          <p:cNvSpPr/>
          <p:nvPr/>
        </p:nvSpPr>
        <p:spPr>
          <a:xfrm>
            <a:off x="7390800" y="453312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Прямоугольник 28"/>
          <p:cNvSpPr/>
          <p:nvPr/>
        </p:nvSpPr>
        <p:spPr>
          <a:xfrm>
            <a:off x="7390800" y="508860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Прямоугольник 29"/>
          <p:cNvSpPr/>
          <p:nvPr/>
        </p:nvSpPr>
        <p:spPr>
          <a:xfrm>
            <a:off x="6850080" y="5688000"/>
            <a:ext cx="2085840" cy="79020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Прямоугольник 30"/>
          <p:cNvSpPr/>
          <p:nvPr/>
        </p:nvSpPr>
        <p:spPr>
          <a:xfrm>
            <a:off x="7390800" y="236304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TextBox 31"/>
          <p:cNvSpPr/>
          <p:nvPr/>
        </p:nvSpPr>
        <p:spPr>
          <a:xfrm>
            <a:off x="290520" y="2468160"/>
            <a:ext cx="1483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аксимальная си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статическая и динам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2"/>
          <p:cNvSpPr/>
          <p:nvPr/>
        </p:nvSpPr>
        <p:spPr>
          <a:xfrm>
            <a:off x="2107080" y="2498040"/>
            <a:ext cx="1483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коростно-силовые ка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3"/>
          <p:cNvSpPr/>
          <p:nvPr/>
        </p:nvSpPr>
        <p:spPr>
          <a:xfrm>
            <a:off x="2156400" y="3750840"/>
            <a:ext cx="200304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ыстрота реаг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ростая и сложная двигательная реакция: РДО, Р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5"/>
          <p:cNvSpPr/>
          <p:nvPr/>
        </p:nvSpPr>
        <p:spPr>
          <a:xfrm>
            <a:off x="2099160" y="5218560"/>
            <a:ext cx="2003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ыстрота 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скорость одиночного движения и темп движе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6"/>
          <p:cNvSpPr/>
          <p:nvPr/>
        </p:nvSpPr>
        <p:spPr>
          <a:xfrm>
            <a:off x="3830040" y="2538720"/>
            <a:ext cx="1483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щая вынос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аэроб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7"/>
          <p:cNvSpPr/>
          <p:nvPr/>
        </p:nvSpPr>
        <p:spPr>
          <a:xfrm>
            <a:off x="4604400" y="5640120"/>
            <a:ext cx="20628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ециальная вынослив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эробная, анаэробная, скоростная, силовая, координационная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38"/>
          <p:cNvSpPr/>
          <p:nvPr/>
        </p:nvSpPr>
        <p:spPr>
          <a:xfrm>
            <a:off x="5606640" y="2556360"/>
            <a:ext cx="1483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сивная и активная гибк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9"/>
          <p:cNvSpPr/>
          <p:nvPr/>
        </p:nvSpPr>
        <p:spPr>
          <a:xfrm>
            <a:off x="5625000" y="3890880"/>
            <a:ext cx="14835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инамическая и статическая гиб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0"/>
          <p:cNvSpPr/>
          <p:nvPr/>
        </p:nvSpPr>
        <p:spPr>
          <a:xfrm>
            <a:off x="7456320" y="2402640"/>
            <a:ext cx="14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Координированность движен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1"/>
          <p:cNvSpPr/>
          <p:nvPr/>
        </p:nvSpPr>
        <p:spPr>
          <a:xfrm>
            <a:off x="7380000" y="2922480"/>
            <a:ext cx="1620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Равновесие (статическое и динамическое)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2"/>
          <p:cNvSpPr/>
          <p:nvPr/>
        </p:nvSpPr>
        <p:spPr>
          <a:xfrm>
            <a:off x="7419240" y="3521520"/>
            <a:ext cx="1441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3"/>
          <p:cNvSpPr/>
          <p:nvPr/>
        </p:nvSpPr>
        <p:spPr>
          <a:xfrm>
            <a:off x="7318440" y="3998520"/>
            <a:ext cx="1620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Способность к произ-му расслаблению мышц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4"/>
          <p:cNvSpPr/>
          <p:nvPr/>
        </p:nvSpPr>
        <p:spPr>
          <a:xfrm>
            <a:off x="7496280" y="4546440"/>
            <a:ext cx="14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Ориентировка в пространстве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5"/>
          <p:cNvSpPr/>
          <p:nvPr/>
        </p:nvSpPr>
        <p:spPr>
          <a:xfrm>
            <a:off x="7443720" y="5133600"/>
            <a:ext cx="14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Перестроение движен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46"/>
          <p:cNvSpPr/>
          <p:nvPr/>
        </p:nvSpPr>
        <p:spPr>
          <a:xfrm>
            <a:off x="6633360" y="5786280"/>
            <a:ext cx="2506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Точность дифференц. пространственных, силовых и временных параметров движен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единительная линия 48"/>
          <p:cNvCxnSpPr>
            <a:stCxn id="382" idx="2"/>
          </p:cNvCxnSpPr>
          <p:nvPr/>
        </p:nvCxnSpPr>
        <p:spPr>
          <a:xfrm>
            <a:off x="1104120" y="1739880"/>
            <a:ext cx="360" cy="62352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3" name="Прямая соединительная линия 50"/>
          <p:cNvCxnSpPr/>
          <p:nvPr/>
        </p:nvCxnSpPr>
        <p:spPr>
          <a:xfrm>
            <a:off x="1928880" y="2051280"/>
            <a:ext cx="360" cy="4428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4" name="Прямая соединительная линия 53"/>
          <p:cNvCxnSpPr/>
          <p:nvPr/>
        </p:nvCxnSpPr>
        <p:spPr>
          <a:xfrm flipH="1">
            <a:off x="1928880" y="6479280"/>
            <a:ext cx="2653920" cy="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5" name="Прямая соединительная линия 57"/>
          <p:cNvCxnSpPr/>
          <p:nvPr/>
        </p:nvCxnSpPr>
        <p:spPr>
          <a:xfrm flipH="1">
            <a:off x="1104120" y="2051280"/>
            <a:ext cx="1752840" cy="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6" name="Прямая соединительная линия 59"/>
          <p:cNvCxnSpPr/>
          <p:nvPr/>
        </p:nvCxnSpPr>
        <p:spPr>
          <a:xfrm>
            <a:off x="2836080" y="2051280"/>
            <a:ext cx="360" cy="324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7" name="Прямая соединительная линия 60"/>
          <p:cNvCxnSpPr/>
          <p:nvPr/>
        </p:nvCxnSpPr>
        <p:spPr>
          <a:xfrm>
            <a:off x="3100680" y="1754640"/>
            <a:ext cx="360" cy="62352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28" name="Прямая соединительная линия 61"/>
          <p:cNvCxnSpPr/>
          <p:nvPr/>
        </p:nvCxnSpPr>
        <p:spPr>
          <a:xfrm>
            <a:off x="4362840" y="3639240"/>
            <a:ext cx="360" cy="253332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29" name="Прямая соединительная линия 64"/>
          <p:cNvCxnSpPr/>
          <p:nvPr/>
        </p:nvCxnSpPr>
        <p:spPr>
          <a:xfrm flipH="1">
            <a:off x="4149360" y="4292280"/>
            <a:ext cx="21384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0" name="Прямая соединительная линия 67"/>
          <p:cNvCxnSpPr/>
          <p:nvPr/>
        </p:nvCxnSpPr>
        <p:spPr>
          <a:xfrm flipH="1">
            <a:off x="4149360" y="5745960"/>
            <a:ext cx="21384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1" name="Прямая соединительная линия 68"/>
          <p:cNvCxnSpPr/>
          <p:nvPr/>
        </p:nvCxnSpPr>
        <p:spPr>
          <a:xfrm flipH="1">
            <a:off x="3703320" y="3648240"/>
            <a:ext cx="68040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2" name="Прямая соединительная линия 71"/>
          <p:cNvCxnSpPr/>
          <p:nvPr/>
        </p:nvCxnSpPr>
        <p:spPr>
          <a:xfrm>
            <a:off x="3703320" y="2034720"/>
            <a:ext cx="360" cy="1620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3" name="Прямая соединительная линия 73"/>
          <p:cNvCxnSpPr/>
          <p:nvPr/>
        </p:nvCxnSpPr>
        <p:spPr>
          <a:xfrm flipH="1">
            <a:off x="3118320" y="2051280"/>
            <a:ext cx="58536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4" name="Прямая соединительная линия 76"/>
          <p:cNvCxnSpPr/>
          <p:nvPr/>
        </p:nvCxnSpPr>
        <p:spPr>
          <a:xfrm flipH="1">
            <a:off x="4367160" y="6154200"/>
            <a:ext cx="21384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5" name="Прямая соединительная линия 77"/>
          <p:cNvCxnSpPr/>
          <p:nvPr/>
        </p:nvCxnSpPr>
        <p:spPr>
          <a:xfrm>
            <a:off x="4604040" y="1739880"/>
            <a:ext cx="360" cy="623520"/>
          </a:xfrm>
          <a:prstGeom prst="straightConnector1">
            <a:avLst/>
          </a:prstGeom>
          <a:ln w="38100">
            <a:solidFill>
              <a:srgbClr val="92d050"/>
            </a:solidFill>
          </a:ln>
        </p:spPr>
      </p:cxnSp>
      <p:cxnSp>
        <p:nvCxnSpPr>
          <p:cNvPr id="436" name="Прямая соединительная линия 78"/>
          <p:cNvCxnSpPr/>
          <p:nvPr/>
        </p:nvCxnSpPr>
        <p:spPr>
          <a:xfrm>
            <a:off x="5448960" y="2001600"/>
            <a:ext cx="360" cy="3638880"/>
          </a:xfrm>
          <a:prstGeom prst="straightConnector1">
            <a:avLst/>
          </a:prstGeom>
          <a:ln w="38100">
            <a:solidFill>
              <a:srgbClr val="92d050"/>
            </a:solidFill>
          </a:ln>
        </p:spPr>
      </p:cxnSp>
      <p:cxnSp>
        <p:nvCxnSpPr>
          <p:cNvPr id="437" name="Прямая соединительная линия 80"/>
          <p:cNvCxnSpPr/>
          <p:nvPr/>
        </p:nvCxnSpPr>
        <p:spPr>
          <a:xfrm flipH="1">
            <a:off x="4604040" y="2017440"/>
            <a:ext cx="855720" cy="360"/>
          </a:xfrm>
          <a:prstGeom prst="straightConnector1">
            <a:avLst/>
          </a:prstGeom>
          <a:ln w="38100">
            <a:solidFill>
              <a:srgbClr val="92d050"/>
            </a:solidFill>
          </a:ln>
        </p:spPr>
      </p:cxnSp>
      <p:cxnSp>
        <p:nvCxnSpPr>
          <p:cNvPr id="438" name="Прямая соединительная линия 83"/>
          <p:cNvCxnSpPr/>
          <p:nvPr/>
        </p:nvCxnSpPr>
        <p:spPr>
          <a:xfrm>
            <a:off x="6164640" y="1723320"/>
            <a:ext cx="360" cy="62352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39" name="Прямая соединительная линия 84"/>
          <p:cNvCxnSpPr/>
          <p:nvPr/>
        </p:nvCxnSpPr>
        <p:spPr>
          <a:xfrm flipH="1">
            <a:off x="7260480" y="1983600"/>
            <a:ext cx="9000" cy="223200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40" name="Прямая соединительная линия 85"/>
          <p:cNvCxnSpPr/>
          <p:nvPr/>
        </p:nvCxnSpPr>
        <p:spPr>
          <a:xfrm flipH="1">
            <a:off x="6166440" y="2005920"/>
            <a:ext cx="1101240" cy="36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41" name="Прямая соединительная линия 89"/>
          <p:cNvCxnSpPr>
            <a:stCxn id="418" idx="1"/>
          </p:cNvCxnSpPr>
          <p:nvPr/>
        </p:nvCxnSpPr>
        <p:spPr>
          <a:xfrm flipH="1">
            <a:off x="7116480" y="4205880"/>
            <a:ext cx="144360" cy="36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42" name="Прямая соединительная линия 93"/>
          <p:cNvCxnSpPr/>
          <p:nvPr/>
        </p:nvCxnSpPr>
        <p:spPr>
          <a:xfrm>
            <a:off x="9048600" y="1983600"/>
            <a:ext cx="360" cy="468252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3" name="Прямая соединительная линия 98"/>
          <p:cNvCxnSpPr/>
          <p:nvPr/>
        </p:nvCxnSpPr>
        <p:spPr>
          <a:xfrm flipH="1">
            <a:off x="8128080" y="2001960"/>
            <a:ext cx="92592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4" name="Прямая соединительная линия 99"/>
          <p:cNvCxnSpPr/>
          <p:nvPr/>
        </p:nvCxnSpPr>
        <p:spPr>
          <a:xfrm>
            <a:off x="8128080" y="1737720"/>
            <a:ext cx="360" cy="62352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5" name="Прямая соединительная линия 104"/>
          <p:cNvCxnSpPr/>
          <p:nvPr/>
        </p:nvCxnSpPr>
        <p:spPr>
          <a:xfrm flipH="1">
            <a:off x="8935920" y="255060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6" name="Прямая соединительная линия 105"/>
          <p:cNvCxnSpPr/>
          <p:nvPr/>
        </p:nvCxnSpPr>
        <p:spPr>
          <a:xfrm flipH="1">
            <a:off x="8944920" y="309924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7" name="Прямая соединительная линия 106"/>
          <p:cNvCxnSpPr/>
          <p:nvPr/>
        </p:nvCxnSpPr>
        <p:spPr>
          <a:xfrm flipH="1">
            <a:off x="8943840" y="420588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8" name="Прямая соединительная линия 107"/>
          <p:cNvCxnSpPr/>
          <p:nvPr/>
        </p:nvCxnSpPr>
        <p:spPr>
          <a:xfrm flipH="1">
            <a:off x="8944920" y="362340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9" name="Прямая соединительная линия 108"/>
          <p:cNvCxnSpPr/>
          <p:nvPr/>
        </p:nvCxnSpPr>
        <p:spPr>
          <a:xfrm flipH="1">
            <a:off x="8943840" y="474876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50" name="Прямая соединительная линия 109"/>
          <p:cNvCxnSpPr/>
          <p:nvPr/>
        </p:nvCxnSpPr>
        <p:spPr>
          <a:xfrm flipH="1">
            <a:off x="8943840" y="529164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51" name="Прямая соединительная линия 110"/>
          <p:cNvCxnSpPr/>
          <p:nvPr/>
        </p:nvCxnSpPr>
        <p:spPr>
          <a:xfrm flipH="1">
            <a:off x="8943840" y="606816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52" name="Прямая соединительная линия 111"/>
          <p:cNvCxnSpPr/>
          <p:nvPr/>
        </p:nvCxnSpPr>
        <p:spPr>
          <a:xfrm flipH="1">
            <a:off x="6667200" y="6665760"/>
            <a:ext cx="240624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5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55" name="Овал 2"/>
          <p:cNvSpPr/>
          <p:nvPr/>
        </p:nvSpPr>
        <p:spPr>
          <a:xfrm>
            <a:off x="2214000" y="1318320"/>
            <a:ext cx="4715640" cy="471564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56" name="Овал 13"/>
          <p:cNvSpPr/>
          <p:nvPr/>
        </p:nvSpPr>
        <p:spPr>
          <a:xfrm>
            <a:off x="1864800" y="1061280"/>
            <a:ext cx="1799640" cy="179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7" name="Овал 14"/>
          <p:cNvSpPr/>
          <p:nvPr/>
        </p:nvSpPr>
        <p:spPr>
          <a:xfrm>
            <a:off x="1389240" y="3362400"/>
            <a:ext cx="1799640" cy="1799640"/>
          </a:xfrm>
          <a:prstGeom prst="ellipse">
            <a:avLst/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Овал 15"/>
          <p:cNvSpPr/>
          <p:nvPr/>
        </p:nvSpPr>
        <p:spPr>
          <a:xfrm>
            <a:off x="5382000" y="1049760"/>
            <a:ext cx="1799640" cy="1799640"/>
          </a:xfrm>
          <a:prstGeom prst="ellipse">
            <a:avLst/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Овал 16"/>
          <p:cNvSpPr/>
          <p:nvPr/>
        </p:nvSpPr>
        <p:spPr>
          <a:xfrm>
            <a:off x="3762000" y="4762440"/>
            <a:ext cx="1799640" cy="179964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Овал 17"/>
          <p:cNvSpPr/>
          <p:nvPr/>
        </p:nvSpPr>
        <p:spPr>
          <a:xfrm>
            <a:off x="5715720" y="3326400"/>
            <a:ext cx="1871640" cy="1871640"/>
          </a:xfrm>
          <a:prstGeom prst="ellipse">
            <a:avLst/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TextBox 18"/>
          <p:cNvSpPr/>
          <p:nvPr/>
        </p:nvSpPr>
        <p:spPr>
          <a:xfrm>
            <a:off x="3070080" y="2838240"/>
            <a:ext cx="2906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ЕНТРАЛЬНАЯ НЕРВНАЯ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(ЦН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9"/>
          <p:cNvSpPr/>
          <p:nvPr/>
        </p:nvSpPr>
        <p:spPr>
          <a:xfrm>
            <a:off x="2096640" y="1761480"/>
            <a:ext cx="1335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0"/>
          <p:cNvSpPr/>
          <p:nvPr/>
        </p:nvSpPr>
        <p:spPr>
          <a:xfrm>
            <a:off x="1542240" y="4062600"/>
            <a:ext cx="140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1"/>
          <p:cNvSpPr/>
          <p:nvPr/>
        </p:nvSpPr>
        <p:spPr>
          <a:xfrm>
            <a:off x="3797640" y="5349960"/>
            <a:ext cx="1728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КОРОСТНО-СИЛОВЫЕ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2"/>
          <p:cNvSpPr/>
          <p:nvPr/>
        </p:nvSpPr>
        <p:spPr>
          <a:xfrm>
            <a:off x="5599080" y="4009680"/>
            <a:ext cx="208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5249520" y="1714320"/>
            <a:ext cx="206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5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ЦЕНТРАЛЬНАЯ НЕРВ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6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70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736920" y="214632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4991040" y="214632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3477600" y="122976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БЫСТ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8"/>
          <p:cNvSpPr/>
          <p:nvPr/>
        </p:nvSpPr>
        <p:spPr>
          <a:xfrm>
            <a:off x="997920" y="23554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9"/>
          <p:cNvSpPr/>
          <p:nvPr/>
        </p:nvSpPr>
        <p:spPr>
          <a:xfrm>
            <a:off x="4667400" y="20782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Рисунок 10" descr=""/>
          <p:cNvPicPr/>
          <p:nvPr/>
        </p:nvPicPr>
        <p:blipFill>
          <a:blip r:embed="rId2"/>
          <a:stretch/>
        </p:blipFill>
        <p:spPr>
          <a:xfrm>
            <a:off x="146160" y="3429000"/>
            <a:ext cx="4048560" cy="303228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1" descr=""/>
          <p:cNvPicPr/>
          <p:nvPr/>
        </p:nvPicPr>
        <p:blipFill>
          <a:blip r:embed="rId3"/>
          <a:stretch/>
        </p:blipFill>
        <p:spPr>
          <a:xfrm>
            <a:off x="4068360" y="4137120"/>
            <a:ext cx="5170680" cy="20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7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80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736920" y="214632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991040" y="214632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477600" y="122976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БЫСТ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8"/>
          <p:cNvSpPr/>
          <p:nvPr/>
        </p:nvSpPr>
        <p:spPr>
          <a:xfrm>
            <a:off x="896040" y="2355480"/>
            <a:ext cx="2829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будимость ней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10" descr=""/>
          <p:cNvPicPr/>
          <p:nvPr/>
        </p:nvPicPr>
        <p:blipFill>
          <a:blip r:embed="rId2"/>
          <a:stretch/>
        </p:blipFill>
        <p:spPr>
          <a:xfrm>
            <a:off x="287280" y="2905920"/>
            <a:ext cx="4048560" cy="303228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7"/>
          <p:cNvSpPr/>
          <p:nvPr/>
        </p:nvSpPr>
        <p:spPr>
          <a:xfrm>
            <a:off x="5069160" y="2325600"/>
            <a:ext cx="3450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ижность нерв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Рисунок 12" descr=""/>
          <p:cNvPicPr/>
          <p:nvPr/>
        </p:nvPicPr>
        <p:blipFill>
          <a:blip r:embed="rId3"/>
          <a:stretch/>
        </p:blipFill>
        <p:spPr>
          <a:xfrm>
            <a:off x="5003640" y="3112920"/>
            <a:ext cx="3681360" cy="276084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3"/>
          <p:cNvSpPr/>
          <p:nvPr/>
        </p:nvSpPr>
        <p:spPr>
          <a:xfrm>
            <a:off x="2730600" y="59752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9" name="Прямоугольник 14"/>
          <p:cNvSpPr/>
          <p:nvPr/>
        </p:nvSpPr>
        <p:spPr>
          <a:xfrm>
            <a:off x="3238200" y="6184440"/>
            <a:ext cx="243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бильность нейр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9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92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3" name="Прямоугольник 4"/>
          <p:cNvSpPr/>
          <p:nvPr/>
        </p:nvSpPr>
        <p:spPr>
          <a:xfrm>
            <a:off x="2730600" y="201024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3591720" y="121248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5"/>
          <p:cNvSpPr/>
          <p:nvPr/>
        </p:nvSpPr>
        <p:spPr>
          <a:xfrm>
            <a:off x="3380400" y="2169360"/>
            <a:ext cx="238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Рисунок 16" descr=""/>
          <p:cNvPicPr/>
          <p:nvPr/>
        </p:nvPicPr>
        <p:blipFill>
          <a:blip r:embed="rId2"/>
          <a:stretch/>
        </p:blipFill>
        <p:spPr>
          <a:xfrm>
            <a:off x="-115560" y="2851920"/>
            <a:ext cx="5691960" cy="2280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3000" contrast="-39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373720" y="2973240"/>
            <a:ext cx="3453840" cy="1874160"/>
          </a:xfrm>
          <a:prstGeom prst="rect">
            <a:avLst/>
          </a:prstGeom>
          <a:ln w="0">
            <a:noFill/>
          </a:ln>
        </p:spPr>
      </p:pic>
      <p:sp>
        <p:nvSpPr>
          <p:cNvPr id="498" name="Прямоугольник 20"/>
          <p:cNvSpPr/>
          <p:nvPr/>
        </p:nvSpPr>
        <p:spPr>
          <a:xfrm>
            <a:off x="635040" y="5127480"/>
            <a:ext cx="3504600" cy="15811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Прямоугольник 21"/>
          <p:cNvSpPr/>
          <p:nvPr/>
        </p:nvSpPr>
        <p:spPr>
          <a:xfrm>
            <a:off x="5244120" y="5127480"/>
            <a:ext cx="3504600" cy="15811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Прямоугольник 22"/>
          <p:cNvSpPr/>
          <p:nvPr/>
        </p:nvSpPr>
        <p:spPr>
          <a:xfrm>
            <a:off x="871200" y="5198040"/>
            <a:ext cx="303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нутри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23"/>
          <p:cNvSpPr/>
          <p:nvPr/>
        </p:nvSpPr>
        <p:spPr>
          <a:xfrm>
            <a:off x="5693400" y="5198040"/>
            <a:ext cx="281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еж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4"/>
          <p:cNvSpPr/>
          <p:nvPr/>
        </p:nvSpPr>
        <p:spPr>
          <a:xfrm>
            <a:off x="635040" y="5631840"/>
            <a:ext cx="34030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одновременно возбужденных мотонейронов мышцы; синхронизация мотонейронов во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25"/>
          <p:cNvSpPr/>
          <p:nvPr/>
        </p:nvSpPr>
        <p:spPr>
          <a:xfrm>
            <a:off x="5373720" y="5687640"/>
            <a:ext cx="3375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збуждение необходимых мышц-синергистов; сопряженное торможение мышц-антагонис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0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07" name="TextBox 4"/>
          <p:cNvSpPr/>
          <p:nvPr/>
        </p:nvSpPr>
        <p:spPr>
          <a:xfrm>
            <a:off x="969120" y="26892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4510080" y="119124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292320" y="133488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11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12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05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06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2730600" y="201024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8" name="TextBox 6"/>
          <p:cNvSpPr/>
          <p:nvPr/>
        </p:nvSpPr>
        <p:spPr>
          <a:xfrm>
            <a:off x="3591720" y="121248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5"/>
          <p:cNvSpPr/>
          <p:nvPr/>
        </p:nvSpPr>
        <p:spPr>
          <a:xfrm>
            <a:off x="3380400" y="2169360"/>
            <a:ext cx="238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0"/>
          <p:cNvSpPr/>
          <p:nvPr/>
        </p:nvSpPr>
        <p:spPr>
          <a:xfrm>
            <a:off x="874440" y="4676760"/>
            <a:ext cx="7843320" cy="15811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1" name="Прямоугольник 18"/>
          <p:cNvSpPr/>
          <p:nvPr/>
        </p:nvSpPr>
        <p:spPr>
          <a:xfrm>
            <a:off x="854280" y="30214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2" name="Прямоугольник 19"/>
          <p:cNvSpPr/>
          <p:nvPr/>
        </p:nvSpPr>
        <p:spPr>
          <a:xfrm>
            <a:off x="5244120" y="303516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1090440" y="3230280"/>
            <a:ext cx="303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и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7"/>
          <p:cNvSpPr/>
          <p:nvPr/>
        </p:nvSpPr>
        <p:spPr>
          <a:xfrm>
            <a:off x="5589360" y="3222360"/>
            <a:ext cx="281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ж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8"/>
          <p:cNvSpPr/>
          <p:nvPr/>
        </p:nvSpPr>
        <p:spPr>
          <a:xfrm>
            <a:off x="1219320" y="5242320"/>
            <a:ext cx="7198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Прямая соединительная линия 10"/>
          <p:cNvCxnSpPr>
            <a:stCxn id="511" idx="2"/>
          </p:cNvCxnSpPr>
          <p:nvPr/>
        </p:nvCxnSpPr>
        <p:spPr>
          <a:xfrm>
            <a:off x="2581200" y="3808440"/>
            <a:ext cx="720" cy="4276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17" name="Прямая соединительная линия 16"/>
          <p:cNvCxnSpPr/>
          <p:nvPr/>
        </p:nvCxnSpPr>
        <p:spPr>
          <a:xfrm>
            <a:off x="7011000" y="3808440"/>
            <a:ext cx="720" cy="4276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18" name="Прямая соединительная линия 17"/>
          <p:cNvCxnSpPr/>
          <p:nvPr/>
        </p:nvCxnSpPr>
        <p:spPr>
          <a:xfrm flipH="1">
            <a:off x="2581200" y="4235760"/>
            <a:ext cx="44301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19" name="Прямая соединительная линия 21"/>
          <p:cNvCxnSpPr/>
          <p:nvPr/>
        </p:nvCxnSpPr>
        <p:spPr>
          <a:xfrm>
            <a:off x="4683240" y="4235760"/>
            <a:ext cx="1080" cy="4273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2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22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chemeClr val="accent6">
              <a:lumMod val="7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3" name="Прямоугольник 4"/>
          <p:cNvSpPr/>
          <p:nvPr/>
        </p:nvSpPr>
        <p:spPr>
          <a:xfrm>
            <a:off x="736920" y="19432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4" name="Прямоугольник 5"/>
          <p:cNvSpPr/>
          <p:nvPr/>
        </p:nvSpPr>
        <p:spPr>
          <a:xfrm>
            <a:off x="4991040" y="194328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КОРОСТНО-СИЛОВ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8"/>
          <p:cNvSpPr/>
          <p:nvPr/>
        </p:nvSpPr>
        <p:spPr>
          <a:xfrm>
            <a:off x="997920" y="21520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9"/>
          <p:cNvSpPr/>
          <p:nvPr/>
        </p:nvSpPr>
        <p:spPr>
          <a:xfrm>
            <a:off x="4667400" y="187524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Рисунок 12" descr=""/>
          <p:cNvPicPr/>
          <p:nvPr/>
        </p:nvPicPr>
        <p:blipFill>
          <a:blip r:embed="rId2"/>
          <a:stretch/>
        </p:blipFill>
        <p:spPr>
          <a:xfrm>
            <a:off x="53640" y="3530520"/>
            <a:ext cx="3428640" cy="314136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8"/>
          <p:cNvSpPr/>
          <p:nvPr/>
        </p:nvSpPr>
        <p:spPr>
          <a:xfrm>
            <a:off x="7279560" y="3225960"/>
            <a:ext cx="1724400" cy="344628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30" name="Группа 10"/>
          <p:cNvGrpSpPr/>
          <p:nvPr/>
        </p:nvGrpSpPr>
        <p:grpSpPr>
          <a:xfrm>
            <a:off x="3461760" y="3205440"/>
            <a:ext cx="3316680" cy="3466800"/>
            <a:chOff x="3461760" y="3205440"/>
            <a:chExt cx="3316680" cy="3466800"/>
          </a:xfrm>
        </p:grpSpPr>
        <p:sp>
          <p:nvSpPr>
            <p:cNvPr id="531" name="Прямоугольник 13"/>
            <p:cNvSpPr/>
            <p:nvPr/>
          </p:nvSpPr>
          <p:spPr>
            <a:xfrm>
              <a:off x="3477600" y="320544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Прямоугольник 14"/>
            <p:cNvSpPr/>
            <p:nvPr/>
          </p:nvSpPr>
          <p:spPr>
            <a:xfrm>
              <a:off x="3477600" y="398412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Прямоугольник 15"/>
            <p:cNvSpPr/>
            <p:nvPr/>
          </p:nvSpPr>
          <p:spPr>
            <a:xfrm>
              <a:off x="3477600" y="466308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Прямоугольник 16"/>
            <p:cNvSpPr/>
            <p:nvPr/>
          </p:nvSpPr>
          <p:spPr>
            <a:xfrm>
              <a:off x="3477600" y="539352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Прямоугольник 17"/>
            <p:cNvSpPr/>
            <p:nvPr/>
          </p:nvSpPr>
          <p:spPr>
            <a:xfrm>
              <a:off x="3477600" y="609660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6" name="Прямоугольник 7"/>
            <p:cNvSpPr/>
            <p:nvPr/>
          </p:nvSpPr>
          <p:spPr>
            <a:xfrm>
              <a:off x="3461760" y="3302280"/>
              <a:ext cx="3294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озбудимость нервных цент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Прямоугольник 19"/>
            <p:cNvSpPr/>
            <p:nvPr/>
          </p:nvSpPr>
          <p:spPr>
            <a:xfrm>
              <a:off x="4051080" y="4019040"/>
              <a:ext cx="243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Лабильность нейро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оугольник 20"/>
            <p:cNvSpPr/>
            <p:nvPr/>
          </p:nvSpPr>
          <p:spPr>
            <a:xfrm>
              <a:off x="3497400" y="4748400"/>
              <a:ext cx="32810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700" spc="-1" strike="noStrike">
                  <a:solidFill>
                    <a:srgbClr val="000000"/>
                  </a:solidFill>
                  <a:latin typeface="Calibri"/>
                </a:rPr>
                <a:t>Подвижность нервных процессо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Прямоугольник 21"/>
            <p:cNvSpPr/>
            <p:nvPr/>
          </p:nvSpPr>
          <p:spPr>
            <a:xfrm>
              <a:off x="3710880" y="5465160"/>
              <a:ext cx="2939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нутримышечная регу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Прямоугольник 22"/>
            <p:cNvSpPr/>
            <p:nvPr/>
          </p:nvSpPr>
          <p:spPr>
            <a:xfrm>
              <a:off x="3855600" y="6181560"/>
              <a:ext cx="2718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Межмышечная регу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Прямоугольник 23"/>
          <p:cNvSpPr/>
          <p:nvPr/>
        </p:nvSpPr>
        <p:spPr>
          <a:xfrm rot="16200000">
            <a:off x="6510960" y="4356000"/>
            <a:ext cx="3248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Прямая соединительная линия 24"/>
          <p:cNvCxnSpPr/>
          <p:nvPr/>
        </p:nvCxnSpPr>
        <p:spPr>
          <a:xfrm>
            <a:off x="6953400" y="3500280"/>
            <a:ext cx="360" cy="289800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3" name="Прямая соединительная линия 25"/>
          <p:cNvCxnSpPr/>
          <p:nvPr/>
        </p:nvCxnSpPr>
        <p:spPr>
          <a:xfrm flipH="1">
            <a:off x="6741000" y="4954320"/>
            <a:ext cx="572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4" name="Прямая соединительная линия 28"/>
          <p:cNvCxnSpPr>
            <a:endCxn id="532" idx="3"/>
          </p:cNvCxnSpPr>
          <p:nvPr/>
        </p:nvCxnSpPr>
        <p:spPr>
          <a:xfrm flipH="1">
            <a:off x="6741000" y="427212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5" name="Прямая соединительная линия 31"/>
          <p:cNvCxnSpPr/>
          <p:nvPr/>
        </p:nvCxnSpPr>
        <p:spPr>
          <a:xfrm flipH="1">
            <a:off x="6741000" y="349308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6" name="Прямая соединительная линия 32"/>
          <p:cNvCxnSpPr/>
          <p:nvPr/>
        </p:nvCxnSpPr>
        <p:spPr>
          <a:xfrm flipH="1">
            <a:off x="6732000" y="571320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7" name="Прямая соединительная линия 33"/>
          <p:cNvCxnSpPr/>
          <p:nvPr/>
        </p:nvCxnSpPr>
        <p:spPr>
          <a:xfrm flipH="1">
            <a:off x="6741000" y="639828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4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50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1" name="Прямоугольник 4"/>
          <p:cNvSpPr/>
          <p:nvPr/>
        </p:nvSpPr>
        <p:spPr>
          <a:xfrm>
            <a:off x="736920" y="19432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2" name="Прямоугольник 5"/>
          <p:cNvSpPr/>
          <p:nvPr/>
        </p:nvSpPr>
        <p:spPr>
          <a:xfrm>
            <a:off x="4991040" y="194328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8"/>
          <p:cNvSpPr/>
          <p:nvPr/>
        </p:nvSpPr>
        <p:spPr>
          <a:xfrm>
            <a:off x="997920" y="21520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9"/>
          <p:cNvSpPr/>
          <p:nvPr/>
        </p:nvSpPr>
        <p:spPr>
          <a:xfrm>
            <a:off x="4667400" y="187524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3"/>
          <p:cNvSpPr/>
          <p:nvPr/>
        </p:nvSpPr>
        <p:spPr>
          <a:xfrm>
            <a:off x="4116600" y="314100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7" name="Прямоугольник 14"/>
          <p:cNvSpPr/>
          <p:nvPr/>
        </p:nvSpPr>
        <p:spPr>
          <a:xfrm>
            <a:off x="4116600" y="393300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8" name="Прямоугольник 16"/>
          <p:cNvSpPr/>
          <p:nvPr/>
        </p:nvSpPr>
        <p:spPr>
          <a:xfrm>
            <a:off x="4132800" y="509364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9" name="Прямоугольник 17"/>
          <p:cNvSpPr/>
          <p:nvPr/>
        </p:nvSpPr>
        <p:spPr>
          <a:xfrm>
            <a:off x="4132800" y="579672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4646880" y="3277440"/>
            <a:ext cx="329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будимость нервны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9"/>
          <p:cNvSpPr/>
          <p:nvPr/>
        </p:nvSpPr>
        <p:spPr>
          <a:xfrm>
            <a:off x="4312080" y="4020840"/>
            <a:ext cx="399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авновешенность нерв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21"/>
          <p:cNvSpPr/>
          <p:nvPr/>
        </p:nvSpPr>
        <p:spPr>
          <a:xfrm>
            <a:off x="4857480" y="5196960"/>
            <a:ext cx="293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и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2"/>
          <p:cNvSpPr/>
          <p:nvPr/>
        </p:nvSpPr>
        <p:spPr>
          <a:xfrm>
            <a:off x="4967640" y="5892480"/>
            <a:ext cx="271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Рисунок 24" descr=""/>
          <p:cNvPicPr/>
          <p:nvPr/>
        </p:nvPicPr>
        <p:blipFill>
          <a:blip r:embed="rId2"/>
          <a:stretch/>
        </p:blipFill>
        <p:spPr>
          <a:xfrm>
            <a:off x="146160" y="3253320"/>
            <a:ext cx="3256560" cy="32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23"/>
          <p:cNvSpPr/>
          <p:nvPr/>
        </p:nvSpPr>
        <p:spPr>
          <a:xfrm>
            <a:off x="736920" y="5698080"/>
            <a:ext cx="7909560" cy="9788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6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68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Прямоугольник 5"/>
          <p:cNvSpPr/>
          <p:nvPr/>
        </p:nvSpPr>
        <p:spPr>
          <a:xfrm>
            <a:off x="736920" y="1943280"/>
            <a:ext cx="791136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13"/>
          <p:cNvSpPr/>
          <p:nvPr/>
        </p:nvSpPr>
        <p:spPr>
          <a:xfrm>
            <a:off x="738720" y="291888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2" name="Прямоугольник 10"/>
          <p:cNvSpPr/>
          <p:nvPr/>
        </p:nvSpPr>
        <p:spPr>
          <a:xfrm>
            <a:off x="851040" y="2053440"/>
            <a:ext cx="763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20"/>
          <p:cNvSpPr/>
          <p:nvPr/>
        </p:nvSpPr>
        <p:spPr>
          <a:xfrm>
            <a:off x="738720" y="435384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4" name="Прямоугольник 11"/>
          <p:cNvSpPr/>
          <p:nvPr/>
        </p:nvSpPr>
        <p:spPr>
          <a:xfrm>
            <a:off x="851040" y="3093840"/>
            <a:ext cx="7637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 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ровень «палеокинетических регуляций», или руброспиналь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ержание п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12"/>
          <p:cNvSpPr/>
          <p:nvPr/>
        </p:nvSpPr>
        <p:spPr>
          <a:xfrm>
            <a:off x="1119240" y="4353840"/>
            <a:ext cx="728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  </a:t>
            </a:r>
            <a:r>
              <a:rPr b="1" i="1" lang="en-US" sz="1800" spc="-1" strike="noStrike">
                <a:solidFill>
                  <a:srgbClr val="c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таламо-паллидарный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чает за синергии движений всего тела, за ритмические и циклические движения (саму цикличность в структуре движения), «стереотипные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5"/>
          <p:cNvSpPr/>
          <p:nvPr/>
        </p:nvSpPr>
        <p:spPr>
          <a:xfrm>
            <a:off x="532440" y="5684040"/>
            <a:ext cx="8116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 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ирамидно-стриальны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ет ориентацию тела в пространст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79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0" name="Прямоугольник 5"/>
          <p:cNvSpPr/>
          <p:nvPr/>
        </p:nvSpPr>
        <p:spPr>
          <a:xfrm>
            <a:off x="736920" y="1943280"/>
            <a:ext cx="791136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13"/>
          <p:cNvSpPr/>
          <p:nvPr/>
        </p:nvSpPr>
        <p:spPr>
          <a:xfrm>
            <a:off x="738720" y="291888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3" name="Прямоугольник 10"/>
          <p:cNvSpPr/>
          <p:nvPr/>
        </p:nvSpPr>
        <p:spPr>
          <a:xfrm>
            <a:off x="851040" y="2053440"/>
            <a:ext cx="763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20"/>
          <p:cNvSpPr/>
          <p:nvPr/>
        </p:nvSpPr>
        <p:spPr>
          <a:xfrm>
            <a:off x="738720" y="435384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5" name="Прямоугольник 11"/>
          <p:cNvSpPr/>
          <p:nvPr/>
        </p:nvSpPr>
        <p:spPr>
          <a:xfrm>
            <a:off x="851040" y="3093840"/>
            <a:ext cx="7637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 D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енно-премотор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ровень предметных действий (взаимодействие со снаряд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2"/>
          <p:cNvSpPr/>
          <p:nvPr/>
        </p:nvSpPr>
        <p:spPr>
          <a:xfrm>
            <a:off x="1119240" y="4353840"/>
            <a:ext cx="728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ровень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бные доли коры больших полуш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твечает за «ведущие в смысловом отношении координации», которые объединены уже отвлеченным заданием или замыс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8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89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Прямоугольник 4"/>
          <p:cNvSpPr/>
          <p:nvPr/>
        </p:nvSpPr>
        <p:spPr>
          <a:xfrm>
            <a:off x="736920" y="214632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1" name="Прямоугольник 5"/>
          <p:cNvSpPr/>
          <p:nvPr/>
        </p:nvSpPr>
        <p:spPr>
          <a:xfrm>
            <a:off x="4991040" y="214632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2" name="TextBox 6"/>
          <p:cNvSpPr/>
          <p:nvPr/>
        </p:nvSpPr>
        <p:spPr>
          <a:xfrm>
            <a:off x="3237480" y="1229760"/>
            <a:ext cx="2669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ВЫНОС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8"/>
          <p:cNvSpPr/>
          <p:nvPr/>
        </p:nvSpPr>
        <p:spPr>
          <a:xfrm>
            <a:off x="997920" y="23554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9"/>
          <p:cNvSpPr/>
          <p:nvPr/>
        </p:nvSpPr>
        <p:spPr>
          <a:xfrm>
            <a:off x="4667400" y="20782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2"/>
          <p:cNvSpPr/>
          <p:nvPr/>
        </p:nvSpPr>
        <p:spPr>
          <a:xfrm>
            <a:off x="2286000" y="3293640"/>
            <a:ext cx="45716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6" name="Прямоугольник 13"/>
          <p:cNvSpPr/>
          <p:nvPr/>
        </p:nvSpPr>
        <p:spPr>
          <a:xfrm>
            <a:off x="2286000" y="4264560"/>
            <a:ext cx="45716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7" name="Прямоугольник 7"/>
          <p:cNvSpPr/>
          <p:nvPr/>
        </p:nvSpPr>
        <p:spPr>
          <a:xfrm>
            <a:off x="3366360" y="3429000"/>
            <a:ext cx="241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ла нер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4"/>
          <p:cNvSpPr/>
          <p:nvPr/>
        </p:nvSpPr>
        <p:spPr>
          <a:xfrm>
            <a:off x="3280680" y="4473720"/>
            <a:ext cx="250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гетатив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15"/>
          <p:cNvSpPr/>
          <p:nvPr/>
        </p:nvSpPr>
        <p:spPr>
          <a:xfrm>
            <a:off x="736920" y="55810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0" name="Прямоугольник 16"/>
          <p:cNvSpPr/>
          <p:nvPr/>
        </p:nvSpPr>
        <p:spPr>
          <a:xfrm>
            <a:off x="4991040" y="558108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1" name="Прямоугольник 17"/>
          <p:cNvSpPr/>
          <p:nvPr/>
        </p:nvSpPr>
        <p:spPr>
          <a:xfrm>
            <a:off x="1290240" y="5791320"/>
            <a:ext cx="234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мпат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8"/>
          <p:cNvSpPr/>
          <p:nvPr/>
        </p:nvSpPr>
        <p:spPr>
          <a:xfrm>
            <a:off x="5413320" y="5785200"/>
            <a:ext cx="281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симпат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0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pic>
        <p:nvPicPr>
          <p:cNvPr id="605" name="Рисунок 4" descr=""/>
          <p:cNvPicPr/>
          <p:nvPr/>
        </p:nvPicPr>
        <p:blipFill>
          <a:blip r:embed="rId2"/>
          <a:stretch/>
        </p:blipFill>
        <p:spPr>
          <a:xfrm>
            <a:off x="1602720" y="1040040"/>
            <a:ext cx="5938200" cy="58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0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608" name="Прямоугольник с двумя скругленными противолежащими углами 4"/>
          <p:cNvSpPr/>
          <p:nvPr/>
        </p:nvSpPr>
        <p:spPr>
          <a:xfrm>
            <a:off x="411480" y="1128240"/>
            <a:ext cx="3740760" cy="6768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1">
              <a:lumMod val="5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9" name="TextBox 6"/>
          <p:cNvSpPr/>
          <p:nvPr/>
        </p:nvSpPr>
        <p:spPr>
          <a:xfrm>
            <a:off x="1248480" y="1291320"/>
            <a:ext cx="2067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БСОЛЮТНАЯ С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с двумя скругленными противолежащими углами 7"/>
          <p:cNvSpPr/>
          <p:nvPr/>
        </p:nvSpPr>
        <p:spPr>
          <a:xfrm>
            <a:off x="4881240" y="1127520"/>
            <a:ext cx="4033800" cy="67752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1">
              <a:lumMod val="5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5104440" y="1234800"/>
            <a:ext cx="3303360" cy="515880"/>
          </a:xfrm>
          <a:prstGeom prst="rect">
            <a:avLst/>
          </a:prstGeom>
          <a:solidFill>
            <a:schemeClr val="accent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ЧАЯ ГИПЕРТРОФ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ЫШ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Группа 12"/>
          <p:cNvGrpSpPr/>
          <p:nvPr/>
        </p:nvGrpSpPr>
        <p:grpSpPr>
          <a:xfrm>
            <a:off x="266760" y="2361960"/>
            <a:ext cx="4304880" cy="1714320"/>
            <a:chOff x="266760" y="2361960"/>
            <a:chExt cx="4304880" cy="1714320"/>
          </a:xfrm>
        </p:grpSpPr>
        <p:sp>
          <p:nvSpPr>
            <p:cNvPr id="613" name="Прямоугольник 16"/>
            <p:cNvSpPr/>
            <p:nvPr/>
          </p:nvSpPr>
          <p:spPr>
            <a:xfrm>
              <a:off x="411480" y="2361960"/>
              <a:ext cx="4020120" cy="171432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17"/>
            <p:cNvSpPr/>
            <p:nvPr/>
          </p:nvSpPr>
          <p:spPr>
            <a:xfrm>
              <a:off x="266760" y="2361960"/>
              <a:ext cx="43048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3600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Механические условия действия мышечной тяги - плечо рычага действия мышечной силы и угол приложения этой силы к костным рычагам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Длина мышц, так как напряжение мышцы зависит от ее длины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Поперечник (толщина) активируемых мышц, так как при прочих равных условиях проявляемая мышечная сила тем больше, чем больше суммарный поперечник  произвольных сокращающихся мышц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Композиция мышц, т.е. соотношение быстрых и медленных мышечных волокон в сокращающихся мышцах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13"/>
          <p:cNvGrpSpPr/>
          <p:nvPr/>
        </p:nvGrpSpPr>
        <p:grpSpPr>
          <a:xfrm>
            <a:off x="673920" y="2111040"/>
            <a:ext cx="3047760" cy="452520"/>
            <a:chOff x="673920" y="2111040"/>
            <a:chExt cx="3047760" cy="452520"/>
          </a:xfrm>
        </p:grpSpPr>
        <p:sp>
          <p:nvSpPr>
            <p:cNvPr id="616" name="Скругленный прямоугольник 14"/>
            <p:cNvSpPr/>
            <p:nvPr/>
          </p:nvSpPr>
          <p:spPr>
            <a:xfrm>
              <a:off x="673920" y="2111040"/>
              <a:ext cx="3047760" cy="4525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Скругленный прямоугольник 6"/>
            <p:cNvSpPr/>
            <p:nvPr/>
          </p:nvSpPr>
          <p:spPr>
            <a:xfrm>
              <a:off x="695160" y="2133360"/>
              <a:ext cx="30049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20"/>
                </a:spcAft>
                <a:tabLst>
                  <a:tab algn="l" pos="0"/>
                </a:tabLst>
              </a:pPr>
              <a:r>
                <a:rPr b="1" lang="ru-RU" sz="12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МЫШЕЧНЫЕ ФАКТОРЫ (ПЕРЕФЕРИЧЕСКИ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Группа 18"/>
          <p:cNvGrpSpPr/>
          <p:nvPr/>
        </p:nvGrpSpPr>
        <p:grpSpPr>
          <a:xfrm>
            <a:off x="411480" y="4714920"/>
            <a:ext cx="4020120" cy="1482480"/>
            <a:chOff x="411480" y="4714920"/>
            <a:chExt cx="4020120" cy="1482480"/>
          </a:xfrm>
        </p:grpSpPr>
        <p:sp>
          <p:nvSpPr>
            <p:cNvPr id="619" name="Прямоугольник 22"/>
            <p:cNvSpPr/>
            <p:nvPr/>
          </p:nvSpPr>
          <p:spPr>
            <a:xfrm>
              <a:off x="411480" y="4714920"/>
              <a:ext cx="4020120" cy="14824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23"/>
            <p:cNvSpPr/>
            <p:nvPr/>
          </p:nvSpPr>
          <p:spPr>
            <a:xfrm>
              <a:off x="411480" y="4714920"/>
              <a:ext cx="402012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4320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64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1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Совокупность центрально-нервных координационных механизмов  управления мышечным аппаратом - механизмы внутримышечной координации (определяют число и частоту импульсации мотонейронов данной мышцы и связь их импульсации во времени) и механизмы  межмышечной координации (согласованность мышц-антагонистов и синергис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Группа 19"/>
          <p:cNvGrpSpPr/>
          <p:nvPr/>
        </p:nvGrpSpPr>
        <p:grpSpPr>
          <a:xfrm>
            <a:off x="694080" y="4358160"/>
            <a:ext cx="3068640" cy="654120"/>
            <a:chOff x="694080" y="4358160"/>
            <a:chExt cx="3068640" cy="654120"/>
          </a:xfrm>
        </p:grpSpPr>
        <p:sp>
          <p:nvSpPr>
            <p:cNvPr id="622" name="Скругленный прямоугольник 20"/>
            <p:cNvSpPr/>
            <p:nvPr/>
          </p:nvSpPr>
          <p:spPr>
            <a:xfrm>
              <a:off x="694080" y="4358160"/>
              <a:ext cx="3068640" cy="6541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solidFill>
                <a:srgbClr val="4472c4">
                  <a:shade val="50000"/>
                </a:srgbClr>
              </a:solidFill>
            </a:ln>
          </p:spPr>
          <p:style>
            <a:lnRef idx="0"/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Скругленный прямоугольник 6"/>
            <p:cNvSpPr/>
            <p:nvPr/>
          </p:nvSpPr>
          <p:spPr>
            <a:xfrm>
              <a:off x="722160" y="4390200"/>
              <a:ext cx="301248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20"/>
                </a:spcAft>
                <a:tabLst>
                  <a:tab algn="l" pos="0"/>
                </a:tabLst>
              </a:pPr>
              <a:r>
                <a:rPr b="1" lang="ru-RU" sz="12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КООРДИНАЦИОННЫЕ ФАКТОРЫ (ЦЕНТРАЛЬНО-НЕРВНЫ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Группа 24"/>
          <p:cNvGrpSpPr/>
          <p:nvPr/>
        </p:nvGrpSpPr>
        <p:grpSpPr>
          <a:xfrm>
            <a:off x="4881240" y="2328120"/>
            <a:ext cx="4033800" cy="1748520"/>
            <a:chOff x="4881240" y="2328120"/>
            <a:chExt cx="4033800" cy="1748520"/>
          </a:xfrm>
        </p:grpSpPr>
        <p:sp>
          <p:nvSpPr>
            <p:cNvPr id="625" name="Прямоугольник 28"/>
            <p:cNvSpPr/>
            <p:nvPr/>
          </p:nvSpPr>
          <p:spPr>
            <a:xfrm>
              <a:off x="4881240" y="2328120"/>
              <a:ext cx="4033800" cy="174852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29"/>
            <p:cNvSpPr/>
            <p:nvPr/>
          </p:nvSpPr>
          <p:spPr>
            <a:xfrm>
              <a:off x="4881240" y="2328120"/>
              <a:ext cx="403380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4374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Утолщение мышечных волокон за счет преимущественного увеличения объема саркоплазмы, т.е. несократительной их части - (митохондриальных) белков и метаболических резервов мышечных волокон: гликогена, креатинфосфата, миоглобина и д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Предрасположены медленные (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I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и быстрые окислительные (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II-A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волокн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Группа 25"/>
          <p:cNvGrpSpPr/>
          <p:nvPr/>
        </p:nvGrpSpPr>
        <p:grpSpPr>
          <a:xfrm>
            <a:off x="5113080" y="2149200"/>
            <a:ext cx="3071160" cy="378720"/>
            <a:chOff x="5113080" y="2149200"/>
            <a:chExt cx="3071160" cy="378720"/>
          </a:xfrm>
        </p:grpSpPr>
        <p:sp>
          <p:nvSpPr>
            <p:cNvPr id="628" name="Скругленный прямоугольник 26"/>
            <p:cNvSpPr/>
            <p:nvPr/>
          </p:nvSpPr>
          <p:spPr>
            <a:xfrm>
              <a:off x="5113080" y="2149200"/>
              <a:ext cx="3071160" cy="3787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Скругленный прямоугольник 6"/>
            <p:cNvSpPr/>
            <p:nvPr/>
          </p:nvSpPr>
          <p:spPr>
            <a:xfrm>
              <a:off x="5133240" y="2167560"/>
              <a:ext cx="3030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90"/>
                </a:spcAft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САРКОПЛАЗМАТИЧЕСКИЙ ТИ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Группа 30"/>
          <p:cNvGrpSpPr/>
          <p:nvPr/>
        </p:nvGrpSpPr>
        <p:grpSpPr>
          <a:xfrm>
            <a:off x="4881240" y="4694040"/>
            <a:ext cx="4020120" cy="1503000"/>
            <a:chOff x="4881240" y="4694040"/>
            <a:chExt cx="4020120" cy="1503000"/>
          </a:xfrm>
        </p:grpSpPr>
        <p:sp>
          <p:nvSpPr>
            <p:cNvPr id="631" name="Прямоугольник 34"/>
            <p:cNvSpPr/>
            <p:nvPr/>
          </p:nvSpPr>
          <p:spPr>
            <a:xfrm>
              <a:off x="4881240" y="4694040"/>
              <a:ext cx="4020120" cy="15030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5"/>
            <p:cNvSpPr/>
            <p:nvPr/>
          </p:nvSpPr>
          <p:spPr>
            <a:xfrm>
              <a:off x="4881240" y="4694040"/>
              <a:ext cx="402012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4374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Увеличение числа и объема миофибрилл, т.е. собственно-сократительного аппарата мышечных волокон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Предрасположены быстрые (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II-B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мышечные волокн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31"/>
          <p:cNvGrpSpPr/>
          <p:nvPr/>
        </p:nvGrpSpPr>
        <p:grpSpPr>
          <a:xfrm>
            <a:off x="5113080" y="4385880"/>
            <a:ext cx="3618720" cy="654120"/>
            <a:chOff x="5113080" y="4385880"/>
            <a:chExt cx="3618720" cy="654120"/>
          </a:xfrm>
        </p:grpSpPr>
        <p:sp>
          <p:nvSpPr>
            <p:cNvPr id="634" name="Скругленный прямоугольник 32"/>
            <p:cNvSpPr/>
            <p:nvPr/>
          </p:nvSpPr>
          <p:spPr>
            <a:xfrm>
              <a:off x="5113080" y="4385880"/>
              <a:ext cx="3618720" cy="6541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Скругленный прямоугольник 6"/>
            <p:cNvSpPr/>
            <p:nvPr/>
          </p:nvSpPr>
          <p:spPr>
            <a:xfrm>
              <a:off x="5138280" y="4417920"/>
              <a:ext cx="356832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90"/>
                </a:spcAft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МИОФИБРИЛЛЯРНЫЙ ТИ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3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638" name="Прямоугольник с двумя скругленными противолежащими углами 4"/>
          <p:cNvSpPr/>
          <p:nvPr/>
        </p:nvSpPr>
        <p:spPr>
          <a:xfrm>
            <a:off x="447840" y="1126800"/>
            <a:ext cx="2557440" cy="61992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9" name="Прямоугольник с двумя скругленными противолежащими углами 5"/>
          <p:cNvSpPr/>
          <p:nvPr/>
        </p:nvSpPr>
        <p:spPr>
          <a:xfrm>
            <a:off x="3511080" y="1123200"/>
            <a:ext cx="2467080" cy="6066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0" name="Прямоугольник с двумя скругленными противолежащими углами 6"/>
          <p:cNvSpPr/>
          <p:nvPr/>
        </p:nvSpPr>
        <p:spPr>
          <a:xfrm>
            <a:off x="6348960" y="1086840"/>
            <a:ext cx="2517840" cy="642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1" name="TextBox 7"/>
          <p:cNvSpPr/>
          <p:nvPr/>
        </p:nvSpPr>
        <p:spPr>
          <a:xfrm>
            <a:off x="685080" y="1186560"/>
            <a:ext cx="2082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АЯ СИЛА (ДИНАМИЧЕСКАЯ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3654720" y="1251720"/>
            <a:ext cx="20826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РЫВНАЯ СИЛ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1"/>
          <p:cNvSpPr/>
          <p:nvPr/>
        </p:nvSpPr>
        <p:spPr>
          <a:xfrm>
            <a:off x="6396120" y="1180440"/>
            <a:ext cx="2517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НОЙ КОМПОНЕНТ МОЩ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Группа 13"/>
          <p:cNvGrpSpPr/>
          <p:nvPr/>
        </p:nvGrpSpPr>
        <p:grpSpPr>
          <a:xfrm>
            <a:off x="321120" y="2931120"/>
            <a:ext cx="2710800" cy="995400"/>
            <a:chOff x="321120" y="2931120"/>
            <a:chExt cx="2710800" cy="995400"/>
          </a:xfrm>
        </p:grpSpPr>
        <p:sp>
          <p:nvSpPr>
            <p:cNvPr id="645" name="Прямоугольник 23"/>
            <p:cNvSpPr/>
            <p:nvPr/>
          </p:nvSpPr>
          <p:spPr>
            <a:xfrm>
              <a:off x="321120" y="2931120"/>
              <a:ext cx="2710800" cy="9954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24"/>
            <p:cNvSpPr/>
            <p:nvPr/>
          </p:nvSpPr>
          <p:spPr>
            <a:xfrm>
              <a:off x="321120" y="2931120"/>
              <a:ext cx="2710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180000" bIns="997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Определяется по ускорению сообщаемому масс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Группа 14"/>
          <p:cNvGrpSpPr/>
          <p:nvPr/>
        </p:nvGrpSpPr>
        <p:grpSpPr>
          <a:xfrm>
            <a:off x="523080" y="2585880"/>
            <a:ext cx="2375640" cy="553680"/>
            <a:chOff x="523080" y="2585880"/>
            <a:chExt cx="2375640" cy="553680"/>
          </a:xfrm>
        </p:grpSpPr>
        <p:sp>
          <p:nvSpPr>
            <p:cNvPr id="648" name="Скругленный прямоугольник 21"/>
            <p:cNvSpPr/>
            <p:nvPr/>
          </p:nvSpPr>
          <p:spPr>
            <a:xfrm>
              <a:off x="523080" y="2585880"/>
              <a:ext cx="2375640" cy="55368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Скругленный прямоугольник 6"/>
            <p:cNvSpPr/>
            <p:nvPr/>
          </p:nvSpPr>
          <p:spPr>
            <a:xfrm>
              <a:off x="543240" y="2612880"/>
              <a:ext cx="23353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1880" rIns="1018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КОНЦЕТРИЧЕСКОЕ СОКРАЩ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Группа 15"/>
          <p:cNvGrpSpPr/>
          <p:nvPr/>
        </p:nvGrpSpPr>
        <p:grpSpPr>
          <a:xfrm>
            <a:off x="321120" y="4736160"/>
            <a:ext cx="2710800" cy="1157760"/>
            <a:chOff x="321120" y="4736160"/>
            <a:chExt cx="2710800" cy="1157760"/>
          </a:xfrm>
        </p:grpSpPr>
        <p:sp>
          <p:nvSpPr>
            <p:cNvPr id="651" name="Прямоугольник 19"/>
            <p:cNvSpPr/>
            <p:nvPr/>
          </p:nvSpPr>
          <p:spPr>
            <a:xfrm>
              <a:off x="321120" y="4736160"/>
              <a:ext cx="2710800" cy="11577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20"/>
            <p:cNvSpPr/>
            <p:nvPr/>
          </p:nvSpPr>
          <p:spPr>
            <a:xfrm>
              <a:off x="321120" y="4736160"/>
              <a:ext cx="2710800" cy="11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180000" bIns="997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Определяется по замедлению (ускорению с обратным знаком) движения масс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Группа 16"/>
          <p:cNvGrpSpPr/>
          <p:nvPr/>
        </p:nvGrpSpPr>
        <p:grpSpPr>
          <a:xfrm>
            <a:off x="564120" y="4295880"/>
            <a:ext cx="2355840" cy="574200"/>
            <a:chOff x="564120" y="4295880"/>
            <a:chExt cx="2355840" cy="574200"/>
          </a:xfrm>
        </p:grpSpPr>
        <p:sp>
          <p:nvSpPr>
            <p:cNvPr id="654" name="Скругленный прямоугольник 17"/>
            <p:cNvSpPr/>
            <p:nvPr/>
          </p:nvSpPr>
          <p:spPr>
            <a:xfrm>
              <a:off x="564120" y="4295880"/>
              <a:ext cx="2355840" cy="57420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Скругленный прямоугольник 10"/>
            <p:cNvSpPr/>
            <p:nvPr/>
          </p:nvSpPr>
          <p:spPr>
            <a:xfrm>
              <a:off x="585000" y="4323960"/>
              <a:ext cx="23140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1880" rIns="1018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ЭКСЦЕНТРИЧЕСКОЕ СОКРАЩ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Группа 25"/>
          <p:cNvGrpSpPr/>
          <p:nvPr/>
        </p:nvGrpSpPr>
        <p:grpSpPr>
          <a:xfrm>
            <a:off x="3234240" y="2931120"/>
            <a:ext cx="2861280" cy="3043080"/>
            <a:chOff x="3234240" y="2931120"/>
            <a:chExt cx="2861280" cy="3043080"/>
          </a:xfrm>
        </p:grpSpPr>
        <p:sp>
          <p:nvSpPr>
            <p:cNvPr id="657" name="Прямоугольник 29"/>
            <p:cNvSpPr/>
            <p:nvPr/>
          </p:nvSpPr>
          <p:spPr>
            <a:xfrm>
              <a:off x="3234240" y="2931120"/>
              <a:ext cx="2861280" cy="29782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234240" y="2931120"/>
              <a:ext cx="286128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180000" bIns="99720" anchor="ctr">
              <a:noAutofit/>
            </a:bodyPr>
            <a:p>
              <a:pPr lvl="1" indent="-21600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Определяется градиентом силы, т.е. скоростью ее нарастания, которая определяется как отношение максимальной проявляемой силы к времени ее достижения или как время достижения какого-нибудь выбранного уровня мышечной сил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-21600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Характер импульсации мотонейронов активных мышц - частота их импульсаци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-21600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Сократительные свойства мышц (композиция - соотношение быстрых и медленных волокон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Группа 26"/>
          <p:cNvGrpSpPr/>
          <p:nvPr/>
        </p:nvGrpSpPr>
        <p:grpSpPr>
          <a:xfrm>
            <a:off x="3568320" y="2607120"/>
            <a:ext cx="2375640" cy="510840"/>
            <a:chOff x="3568320" y="2607120"/>
            <a:chExt cx="2375640" cy="510840"/>
          </a:xfrm>
        </p:grpSpPr>
        <p:sp>
          <p:nvSpPr>
            <p:cNvPr id="660" name="Скругленный прямоугольник 27"/>
            <p:cNvSpPr/>
            <p:nvPr/>
          </p:nvSpPr>
          <p:spPr>
            <a:xfrm>
              <a:off x="3568320" y="2607120"/>
              <a:ext cx="2375640" cy="51084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Скругленный прямоугольник 6"/>
            <p:cNvSpPr/>
            <p:nvPr/>
          </p:nvSpPr>
          <p:spPr>
            <a:xfrm>
              <a:off x="3589560" y="2632320"/>
              <a:ext cx="2332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93960" rIns="939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ВЗРЫВНАЯ СИЛ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Группа 31"/>
          <p:cNvGrpSpPr/>
          <p:nvPr/>
        </p:nvGrpSpPr>
        <p:grpSpPr>
          <a:xfrm>
            <a:off x="6244560" y="2931120"/>
            <a:ext cx="2669400" cy="2962440"/>
            <a:chOff x="6244560" y="2931120"/>
            <a:chExt cx="2669400" cy="2962440"/>
          </a:xfrm>
        </p:grpSpPr>
        <p:sp>
          <p:nvSpPr>
            <p:cNvPr id="663" name="Прямоугольник 35"/>
            <p:cNvSpPr/>
            <p:nvPr/>
          </p:nvSpPr>
          <p:spPr>
            <a:xfrm>
              <a:off x="6244560" y="2931120"/>
              <a:ext cx="2669400" cy="296244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6"/>
            <p:cNvSpPr/>
            <p:nvPr/>
          </p:nvSpPr>
          <p:spPr>
            <a:xfrm>
              <a:off x="6244560" y="2931120"/>
              <a:ext cx="2669400" cy="29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216000" bIns="997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Сократительные свойства мышц (композиция - соотношение быстрых и медленных волокон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Внутримышечная и межмышечная координац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32"/>
          <p:cNvGrpSpPr/>
          <p:nvPr/>
        </p:nvGrpSpPr>
        <p:grpSpPr>
          <a:xfrm>
            <a:off x="6417360" y="2631960"/>
            <a:ext cx="2012760" cy="507600"/>
            <a:chOff x="6417360" y="2631960"/>
            <a:chExt cx="2012760" cy="507600"/>
          </a:xfrm>
        </p:grpSpPr>
        <p:sp>
          <p:nvSpPr>
            <p:cNvPr id="666" name="Скругленный прямоугольник 33"/>
            <p:cNvSpPr/>
            <p:nvPr/>
          </p:nvSpPr>
          <p:spPr>
            <a:xfrm>
              <a:off x="6417360" y="2631960"/>
              <a:ext cx="2012760" cy="50760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Скругленный прямоугольник 6"/>
            <p:cNvSpPr/>
            <p:nvPr/>
          </p:nvSpPr>
          <p:spPr>
            <a:xfrm>
              <a:off x="6438600" y="2656800"/>
              <a:ext cx="197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КОМПОНЕНТЫ МОЩ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6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670" name="Прямоугольник 4"/>
          <p:cNvSpPr/>
          <p:nvPr/>
        </p:nvSpPr>
        <p:spPr>
          <a:xfrm>
            <a:off x="146160" y="2431440"/>
            <a:ext cx="8605080" cy="391824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Прямоугольник с двумя скругленными противолежащими углами 5"/>
          <p:cNvSpPr/>
          <p:nvPr/>
        </p:nvSpPr>
        <p:spPr>
          <a:xfrm>
            <a:off x="1307160" y="981720"/>
            <a:ext cx="6638040" cy="5331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2" name="Прямоугольник с двумя скругленными противолежащими углами 6"/>
          <p:cNvSpPr/>
          <p:nvPr/>
        </p:nvSpPr>
        <p:spPr>
          <a:xfrm>
            <a:off x="392400" y="1765440"/>
            <a:ext cx="356652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3" name="Прямоугольник с двумя скругленными противолежащими углами 7"/>
          <p:cNvSpPr/>
          <p:nvPr/>
        </p:nvSpPr>
        <p:spPr>
          <a:xfrm>
            <a:off x="4853520" y="1752120"/>
            <a:ext cx="356652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TextBox 8"/>
          <p:cNvSpPr/>
          <p:nvPr/>
        </p:nvSpPr>
        <p:spPr>
          <a:xfrm>
            <a:off x="1962000" y="1027080"/>
            <a:ext cx="52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РОБНЫЕ ВОЗМОЖ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9"/>
          <p:cNvSpPr/>
          <p:nvPr/>
        </p:nvSpPr>
        <p:spPr>
          <a:xfrm>
            <a:off x="441360" y="1811520"/>
            <a:ext cx="351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СИМАЛЬНОЕ ПОТРЕБЛЕНИЕ КИСЛ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1"/>
          <p:cNvSpPr/>
          <p:nvPr/>
        </p:nvSpPr>
        <p:spPr>
          <a:xfrm>
            <a:off x="4853520" y="1888200"/>
            <a:ext cx="3468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Ь ПОТРЕБЛЕНИЕ КИСЛ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3"/>
          <p:cNvSpPr/>
          <p:nvPr/>
        </p:nvSpPr>
        <p:spPr>
          <a:xfrm>
            <a:off x="392400" y="2575440"/>
            <a:ext cx="372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бная «мощ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4"/>
          <p:cNvSpPr/>
          <p:nvPr/>
        </p:nvSpPr>
        <p:spPr>
          <a:xfrm>
            <a:off x="5104440" y="2566080"/>
            <a:ext cx="372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бная «емк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с двумя скругленными противолежащими углами 15"/>
          <p:cNvSpPr/>
          <p:nvPr/>
        </p:nvSpPr>
        <p:spPr>
          <a:xfrm>
            <a:off x="897120" y="3145680"/>
            <a:ext cx="734904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0" name="TextBox 16"/>
          <p:cNvSpPr/>
          <p:nvPr/>
        </p:nvSpPr>
        <p:spPr>
          <a:xfrm>
            <a:off x="2499480" y="3205800"/>
            <a:ext cx="408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лородтранспорт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с двумя скругленными противолежащими углами 17"/>
          <p:cNvSpPr/>
          <p:nvPr/>
        </p:nvSpPr>
        <p:spPr>
          <a:xfrm>
            <a:off x="951480" y="4669920"/>
            <a:ext cx="734904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2" name="TextBox 18"/>
          <p:cNvSpPr/>
          <p:nvPr/>
        </p:nvSpPr>
        <p:spPr>
          <a:xfrm>
            <a:off x="2696400" y="4664160"/>
            <a:ext cx="385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ая система (утилиз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9"/>
          <p:cNvSpPr/>
          <p:nvPr/>
        </p:nvSpPr>
        <p:spPr>
          <a:xfrm>
            <a:off x="869040" y="3785040"/>
            <a:ext cx="7349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рбция кислорода из окружающего воздуха и транспортировка его к работающим мышцам и орга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20"/>
          <p:cNvSpPr/>
          <p:nvPr/>
        </p:nvSpPr>
        <p:spPr>
          <a:xfrm>
            <a:off x="869040" y="5482440"/>
            <a:ext cx="734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акция и утилизация доставляемого кровью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1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15" name="Прямоугольник 2"/>
          <p:cNvSpPr/>
          <p:nvPr/>
        </p:nvSpPr>
        <p:spPr>
          <a:xfrm>
            <a:off x="969120" y="265680"/>
            <a:ext cx="7854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АНАЛИЗ СОРЕВНОВАТЕЛЬНОЙ ДЕЯТЕЛЬНОСТИ ПРОШЛОГО СЕ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457200" y="2278080"/>
            <a:ext cx="8366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ревновательной деятельности (СД) заключен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нформ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, необходима дл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гнозирования и управления тренировочным процесс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проводится по динамике результатов (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сто или вре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вы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выполнен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хнических элемент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ыполнении двигательного действия в рамках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8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grpSp>
        <p:nvGrpSpPr>
          <p:cNvPr id="687" name="Группа 4"/>
          <p:cNvGrpSpPr/>
          <p:nvPr/>
        </p:nvGrpSpPr>
        <p:grpSpPr>
          <a:xfrm>
            <a:off x="969120" y="1040760"/>
            <a:ext cx="7749000" cy="567720"/>
            <a:chOff x="969120" y="1040760"/>
            <a:chExt cx="7749000" cy="567720"/>
          </a:xfrm>
        </p:grpSpPr>
        <p:sp>
          <p:nvSpPr>
            <p:cNvPr id="688" name="Прямоугольник с двумя скругленными противолежащими углами 5"/>
            <p:cNvSpPr/>
            <p:nvPr/>
          </p:nvSpPr>
          <p:spPr>
            <a:xfrm>
              <a:off x="969120" y="1040760"/>
              <a:ext cx="7749000" cy="567720"/>
            </a:xfrm>
            <a:prstGeom prst="round2DiagRect">
              <a:avLst>
                <a:gd name="adj1" fmla="val 16667"/>
                <a:gd name="adj2" fmla="val 0"/>
              </a:avLst>
            </a:prstGeom>
            <a:solidFill>
              <a:schemeClr val="accent2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9" name="TextBox 6"/>
            <p:cNvSpPr/>
            <p:nvPr/>
          </p:nvSpPr>
          <p:spPr>
            <a:xfrm>
              <a:off x="2108880" y="1134000"/>
              <a:ext cx="5469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ислородтранспортная 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Прямоугольник с двумя скругленными противолежащими углами 7"/>
          <p:cNvSpPr/>
          <p:nvPr/>
        </p:nvSpPr>
        <p:spPr>
          <a:xfrm>
            <a:off x="447840" y="2031840"/>
            <a:ext cx="2358720" cy="759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1" name="Прямоугольник с двумя скругленными противолежащими углами 8"/>
          <p:cNvSpPr/>
          <p:nvPr/>
        </p:nvSpPr>
        <p:spPr>
          <a:xfrm>
            <a:off x="447840" y="4002120"/>
            <a:ext cx="2358720" cy="759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2" name="Прямоугольник с двумя скругленными противолежащими углами 9"/>
          <p:cNvSpPr/>
          <p:nvPr/>
        </p:nvSpPr>
        <p:spPr>
          <a:xfrm>
            <a:off x="447840" y="5621400"/>
            <a:ext cx="2358720" cy="759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3" name="Прямоугольник 10"/>
          <p:cNvSpPr/>
          <p:nvPr/>
        </p:nvSpPr>
        <p:spPr>
          <a:xfrm>
            <a:off x="684720" y="1859040"/>
            <a:ext cx="8201160" cy="148032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4" name="Прямоугольник 11"/>
          <p:cNvSpPr/>
          <p:nvPr/>
        </p:nvSpPr>
        <p:spPr>
          <a:xfrm>
            <a:off x="684720" y="3543120"/>
            <a:ext cx="8201160" cy="169236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5" name="Прямоугольник 12"/>
          <p:cNvSpPr/>
          <p:nvPr/>
        </p:nvSpPr>
        <p:spPr>
          <a:xfrm>
            <a:off x="684720" y="5412600"/>
            <a:ext cx="8201160" cy="125460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257760" y="2144520"/>
            <a:ext cx="27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внешнего дых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4"/>
          <p:cNvSpPr/>
          <p:nvPr/>
        </p:nvSpPr>
        <p:spPr>
          <a:xfrm>
            <a:off x="315720" y="4227840"/>
            <a:ext cx="2709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кро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5"/>
          <p:cNvSpPr/>
          <p:nvPr/>
        </p:nvSpPr>
        <p:spPr>
          <a:xfrm>
            <a:off x="257760" y="5709240"/>
            <a:ext cx="27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ечно-сосудист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6"/>
          <p:cNvSpPr/>
          <p:nvPr/>
        </p:nvSpPr>
        <p:spPr>
          <a:xfrm>
            <a:off x="2806560" y="1854000"/>
            <a:ext cx="5911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е дыхание обеспечивает организм кислородом из окружающего воздуха за счет: легочной вентиляции и диффуз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легочную (альвеолярно-капиллярн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мбрану в кр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ы тренировки: - увеличение легочного объема и емкости; - повышение мощности и эффективности (экономичности) внешнего дыхания; - повышение диффузионной способности лег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7"/>
          <p:cNvSpPr/>
          <p:nvPr/>
        </p:nvSpPr>
        <p:spPr>
          <a:xfrm>
            <a:off x="2806560" y="3561840"/>
            <a:ext cx="59115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объема циркулирующей крови (как правило за счет плазмы) при этом гематокрит (вязкость крови) ниже чем у не спортсме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гемоглобина определяет кислородную емкость, но при этом концентрация эритроцитов и гемоглобина не отличается от не спортсмена (за счет увеличения объема циркулирующей крови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олочной кислоты в крови: способность кислородтранспортной системы удовлетворять потребности работающих мышц в кислороде; возможности работающих мышц для аэробной и анаэробной энергопродукции; способности организма утилизировать молочную кислот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8"/>
          <p:cNvSpPr/>
          <p:nvPr/>
        </p:nvSpPr>
        <p:spPr>
          <a:xfrm>
            <a:off x="2806560" y="5613120"/>
            <a:ext cx="59115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×АВР-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=СО×Ч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0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04" name="TextBox 2"/>
          <p:cNvSpPr/>
          <p:nvPr/>
        </p:nvSpPr>
        <p:spPr>
          <a:xfrm>
            <a:off x="1195920" y="250200"/>
            <a:ext cx="780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ХАРАКТЕРИСТИКА ЭНЕРГЕТИЧЕСК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Таблица 4"/>
          <p:cNvGraphicFramePr/>
          <p:nvPr/>
        </p:nvGraphicFramePr>
        <p:xfrm>
          <a:off x="255600" y="1146960"/>
          <a:ext cx="8741880" cy="5453640"/>
        </p:xfrm>
        <a:graphic>
          <a:graphicData uri="http://schemas.openxmlformats.org/drawingml/2006/table">
            <a:tbl>
              <a:tblPr/>
              <a:tblGrid>
                <a:gridCol w="1412280"/>
                <a:gridCol w="1951200"/>
                <a:gridCol w="1993320"/>
                <a:gridCol w="1689120"/>
                <a:gridCol w="1695240"/>
              </a:tblGrid>
              <a:tr h="109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ЩНОСТЬ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ЕМКОСТЬ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БСТ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СНОВНЫЕ ОГРАНИ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9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НАЭРОБНЫЙ АЛАКТА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-15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разв-ия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5-0,7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КФ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ве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 5-й сек. – 1/3 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 15 сек. – 1/2 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Креат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ТФ, К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держание К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09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НАЭРОБНЫЙ ЛАКТА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0-180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разв-ния: через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-30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Лак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 до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-6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уферные системы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ЛД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люкоза, глико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двиг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H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рови, накопление молоч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6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ЭРОБ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-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разв-ния: через 2-3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лико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ичество гликогена, скорость доставки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09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ЭРОБ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ее 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ирные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корость доставки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0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08" name="TextBox 2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НАЭРОБНЫЙ АЛАКТАТ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TextBox 21"/>
              <p:cNvSpPr txBox="1"/>
              <p:nvPr/>
            </p:nvSpPr>
            <p:spPr>
              <a:xfrm>
                <a:off x="2712240" y="1103040"/>
                <a:ext cx="407016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ДФ</m:t>
                    </m:r>
                    <m:r>
                      <m:t xml:space="preserve">+</m:t>
                    </m:r>
                    <m:r>
                      <m:t xml:space="preserve">КФ</m:t>
                    </m:r>
                    <m:r>
                      <m:t xml:space="preserve">→</m:t>
                    </m:r>
                    <m:r>
                      <m:t xml:space="preserve">АТФ</m:t>
                    </m:r>
                    <m:r>
                      <m:t xml:space="preserve">+</m:t>
                    </m:r>
                    <m:r>
                      <m:t xml:space="preserve">креати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0" name="TextBox 23"/>
          <p:cNvSpPr/>
          <p:nvPr/>
        </p:nvSpPr>
        <p:spPr>
          <a:xfrm>
            <a:off x="441360" y="1769760"/>
            <a:ext cx="8510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щность анаэробного а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и и активности фермента КФК (переносящего фосфатную группу с КФ на АД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и К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К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5"/>
          <p:cNvSpPr/>
          <p:nvPr/>
        </p:nvSpPr>
        <p:spPr>
          <a:xfrm>
            <a:off x="441360" y="3706920"/>
            <a:ext cx="85104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мкость анаэробного а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асов КФ в мыш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кре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1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14" name="TextBox 4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НАЭРОБНЫЙ ЛАКТАТ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TextBox 2"/>
              <p:cNvSpPr txBox="1"/>
              <p:nvPr/>
            </p:nvSpPr>
            <p:spPr>
              <a:xfrm>
                <a:off x="1727280" y="1193760"/>
                <a:ext cx="591300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𝟏𝟐</m:t>
                    </m:r>
                    <m:r>
                      <m:t xml:space="preserve">𝐎</m:t>
                    </m:r>
                    <m:r>
                      <m:t xml:space="preserve">𝟔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𝐇</m:t>
                    </m:r>
                    <m:r>
                      <m:t xml:space="preserve">𝟑</m:t>
                    </m:r>
                    <m:r>
                      <m:t xml:space="preserve">𝐏𝐎</m:t>
                    </m:r>
                    <m:r>
                      <m:t xml:space="preserve">𝟒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АДФ</m:t>
                    </m:r>
                    <m:r>
                      <m:t xml:space="preserve">→</m:t>
                    </m:r>
                    <m:r>
                      <m:t xml:space="preserve">𝟐</m:t>
                    </m:r>
                    <m:r>
                      <m:t xml:space="preserve">𝐂</m:t>
                    </m:r>
                    <m:r>
                      <m:t xml:space="preserve">𝟑</m:t>
                    </m:r>
                    <m:r>
                      <m:t xml:space="preserve">𝐇</m:t>
                    </m:r>
                    <m:r>
                      <m:t xml:space="preserve">𝟔</m:t>
                    </m:r>
                    <m:r>
                      <m:t xml:space="preserve">𝐎</m:t>
                    </m:r>
                    <m:r>
                      <m:t xml:space="preserve">𝟑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АТФ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TextBox 5"/>
              <p:cNvSpPr txBox="1"/>
              <p:nvPr/>
            </p:nvSpPr>
            <p:spPr>
              <a:xfrm>
                <a:off x="736920" y="1892160"/>
                <a:ext cx="80924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𝐂</m:t>
                        </m:r>
                        <m:r>
                          <m:t xml:space="preserve">𝟔</m:t>
                        </m:r>
                        <m:r>
                          <m:t xml:space="preserve">𝐇</m:t>
                        </m:r>
                        <m:r>
                          <m:t xml:space="preserve">𝟏𝟎</m:t>
                        </m:r>
                        <m:r>
                          <m:t xml:space="preserve">𝐎</m:t>
                        </m:r>
                        <m:r>
                          <m:t xml:space="preserve">𝟓</m:t>
                        </m:r>
                      </m:e>
                    </m:d>
                    <m:r>
                      <m:t xml:space="preserve">𝐧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𝐇</m:t>
                    </m:r>
                    <m:r>
                      <m:t xml:space="preserve">𝟑</m:t>
                    </m:r>
                    <m:r>
                      <m:t xml:space="preserve">𝐏𝐎</m:t>
                    </m:r>
                    <m:r>
                      <m:t xml:space="preserve">𝟒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АДФ</m:t>
                    </m:r>
                    <m:r>
                      <m:t xml:space="preserve">→</m:t>
                    </m:r>
                    <m:r>
                      <m:t xml:space="preserve">𝟐</m:t>
                    </m:r>
                    <m:r>
                      <m:t xml:space="preserve">𝐂</m:t>
                    </m:r>
                    <m:r>
                      <m:t xml:space="preserve">𝟑</m:t>
                    </m:r>
                    <m:r>
                      <m:t xml:space="preserve">𝐇</m:t>
                    </m:r>
                    <m:r>
                      <m:t xml:space="preserve">𝟔</m:t>
                    </m:r>
                    <m:r>
                      <m:t xml:space="preserve">𝐎</m:t>
                    </m:r>
                    <m:r>
                      <m:t xml:space="preserve">𝟑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𝐂</m:t>
                        </m:r>
                        <m:r>
                          <m:t xml:space="preserve">𝟔</m:t>
                        </m:r>
                        <m:r>
                          <m:t xml:space="preserve">𝐇</m:t>
                        </m:r>
                        <m:r>
                          <m:t xml:space="preserve">𝟏𝟎</m:t>
                        </m:r>
                        <m:r>
                          <m:t xml:space="preserve">𝐎</m:t>
                        </m:r>
                        <m:r>
                          <m:t xml:space="preserve">𝟓</m:t>
                        </m:r>
                      </m:e>
                    </m:d>
                    <m:r>
                      <m:t xml:space="preserve">𝐧</m:t>
                    </m:r>
                    <m:r>
                      <m:t xml:space="preserve">−</m:t>
                    </m:r>
                    <m:r>
                      <m:t xml:space="preserve">𝟏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АТФ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TextBox 6"/>
          <p:cNvSpPr/>
          <p:nvPr/>
        </p:nvSpPr>
        <p:spPr>
          <a:xfrm>
            <a:off x="441360" y="2476440"/>
            <a:ext cx="83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изация гликолиза начинается при повышении концентрации АДФ  и неорганического фосфата в саркоплаз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441360" y="3178440"/>
            <a:ext cx="838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щность анаэробного 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Концентрацией и активностью ключевых ферментов гликолиза (устойчивости к повышению кислотности среды, которая ингибирует их активность; устойчивости кислотно-щелочного равновесия внутренней среды мышц, в условиях усиленной выработки молочной кисл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ЛД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0"/>
          <p:cNvSpPr/>
          <p:nvPr/>
        </p:nvSpPr>
        <p:spPr>
          <a:xfrm>
            <a:off x="441360" y="5064120"/>
            <a:ext cx="8388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мкость анаэробного 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ся внутримышечными запасами угле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резервов буферных систем (стабилизирующих величину внутриклеточног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Лак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2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22" name="TextBox 4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НАЭРОБНЫЙ ЛАКТАТ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7"/>
          <p:cNvSpPr/>
          <p:nvPr/>
        </p:nvSpPr>
        <p:spPr>
          <a:xfrm>
            <a:off x="441360" y="3981240"/>
            <a:ext cx="83880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ие концентрации водородных ион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вышение напряжен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ови способствуют активации дыхательного центра, поэтому при выходе молочной кислоты в кровь резко усиливается легочная вентиляция  и поставка кислорода к работающим мышца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8"/>
          <p:cNvSpPr/>
          <p:nvPr/>
        </p:nvSpPr>
        <p:spPr>
          <a:xfrm>
            <a:off x="253080" y="3429000"/>
            <a:ext cx="8764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TextBox 9"/>
              <p:cNvSpPr txBox="1"/>
              <p:nvPr/>
            </p:nvSpPr>
            <p:spPr>
              <a:xfrm>
                <a:off x="1764360" y="1077480"/>
                <a:ext cx="5522040" cy="37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𝐇</m:t>
                    </m:r>
                    <m:r>
                      <m:t xml:space="preserve">𝟑</m:t>
                    </m:r>
                    <m:r>
                      <m:t xml:space="preserve">−</m:t>
                    </m:r>
                    <m:r>
                      <m:t xml:space="preserve">𝐂𝐇𝐎𝐇</m:t>
                    </m:r>
                    <m:r>
                      <m:t xml:space="preserve">−</m:t>
                    </m:r>
                    <m:r>
                      <m:t xml:space="preserve">𝐂𝐎𝐎𝐇</m:t>
                    </m:r>
                    <m:limLow>
                      <m:e>
                        <m:r>
                          <m:t xml:space="preserve">𝐇</m:t>
                        </m:r>
                        <m:r>
                          <m:t xml:space="preserve">𝟐</m:t>
                        </m:r>
                        <m:r>
                          <m:t xml:space="preserve">𝐎</m:t>
                        </m:r>
                      </m:e>
                      <m:lim>
                        <m:r>
                          <m:t xml:space="preserve">↔</m:t>
                        </m:r>
                      </m:lim>
                    </m:limLow>
                    <m:r>
                      <m:t xml:space="preserve">𝐂𝐇</m:t>
                    </m:r>
                    <m:r>
                      <m:t xml:space="preserve">𝟑</m:t>
                    </m:r>
                    <m:r>
                      <m:t xml:space="preserve">−</m:t>
                    </m:r>
                    <m:r>
                      <m:t xml:space="preserve">𝐂𝐇𝐎𝐇</m:t>
                    </m:r>
                    <m:r>
                      <m:t xml:space="preserve">−</m:t>
                    </m:r>
                    <m:r>
                      <m:t xml:space="preserve">𝐂𝐎𝐎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𝐇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TextBox 10"/>
          <p:cNvSpPr/>
          <p:nvPr/>
        </p:nvSpPr>
        <p:spPr>
          <a:xfrm>
            <a:off x="441360" y="1676520"/>
            <a:ext cx="83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очная кислота в водной среде подвергается диссоциации на ион молочной кислоты  (лактат) и  ион водорода, что приводит к изменению величин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1"/>
          <p:cNvSpPr/>
          <p:nvPr/>
        </p:nvSpPr>
        <p:spPr>
          <a:xfrm>
            <a:off x="441360" y="2440800"/>
            <a:ext cx="838800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очная кислота взаимодействует с бикарбонатной буферной системой крови, что приводит к образованию «неметаболического» избыт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2"/>
          <p:cNvSpPr/>
          <p:nvPr/>
        </p:nvSpPr>
        <p:spPr>
          <a:xfrm>
            <a:off x="377640" y="5377680"/>
            <a:ext cx="83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анаэробной тренировке происходит повышение буферной емкости крови на 20-50%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3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731" name="TextBox 4"/>
              <p:cNvSpPr txBox="1"/>
              <p:nvPr/>
            </p:nvSpPr>
            <p:spPr>
              <a:xfrm>
                <a:off x="2384640" y="1103040"/>
                <a:ext cx="43743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𝟏𝟐</m:t>
                    </m:r>
                    <m:r>
                      <m:t xml:space="preserve">𝐎</m:t>
                    </m:r>
                    <m:r>
                      <m:t xml:space="preserve">𝟔</m:t>
                    </m:r>
                    <m:r>
                      <m:t xml:space="preserve">+</m:t>
                    </m:r>
                    <m:r>
                      <m:t xml:space="preserve">𝟔</m:t>
                    </m:r>
                    <m:r>
                      <m:t xml:space="preserve">𝐎</m:t>
                    </m:r>
                    <m:r>
                      <m:t xml:space="preserve">𝟐</m:t>
                    </m:r>
                    <m:r>
                      <m:t xml:space="preserve">→</m:t>
                    </m:r>
                    <m:r>
                      <m:t xml:space="preserve">𝟔</m:t>
                    </m:r>
                    <m:r>
                      <m:t xml:space="preserve">𝐂𝐎</m:t>
                    </m:r>
                    <m:r>
                      <m:t xml:space="preserve">𝟐</m:t>
                    </m:r>
                    <m:r>
                      <m:t xml:space="preserve">+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  <m:r>
                      <m:t xml:space="preserve">+</m:t>
                    </m:r>
                    <m:r>
                      <m:t xml:space="preserve">𝟑𝟖</m:t>
                    </m:r>
                    <m:r>
                      <m:t xml:space="preserve">АТ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TextBox 5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ЭРОБ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TextBox 6"/>
              <p:cNvSpPr txBox="1"/>
              <p:nvPr/>
            </p:nvSpPr>
            <p:spPr>
              <a:xfrm>
                <a:off x="2074680" y="1712880"/>
                <a:ext cx="49946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</m:t>
                    </m:r>
                    <m:r>
                      <m:t xml:space="preserve">𝟏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𝟑</m:t>
                    </m:r>
                    <m:r>
                      <m:t xml:space="preserve">𝟐</m:t>
                    </m:r>
                    <m:r>
                      <m:t xml:space="preserve">𝐎</m:t>
                    </m:r>
                    <m:r>
                      <m:t xml:space="preserve">𝟐</m:t>
                    </m:r>
                    <m:r>
                      <m:t xml:space="preserve">+</m:t>
                    </m:r>
                    <m:r>
                      <m:t xml:space="preserve">𝟐𝟑</m:t>
                    </m:r>
                    <m:r>
                      <m:t xml:space="preserve">𝐎</m:t>
                    </m:r>
                    <m:r>
                      <m:t xml:space="preserve">𝟐</m:t>
                    </m:r>
                    <m:r>
                      <m:t xml:space="preserve">→</m:t>
                    </m:r>
                    <m:r>
                      <m:t xml:space="preserve">𝟏𝟔</m:t>
                    </m:r>
                    <m:r>
                      <m:t xml:space="preserve">𝐂𝐎</m:t>
                    </m:r>
                    <m:r>
                      <m:t xml:space="preserve">𝟐</m:t>
                    </m:r>
                    <m:r>
                      <m:t xml:space="preserve">+</m:t>
                    </m:r>
                    <m:r>
                      <m:t xml:space="preserve">𝟏𝟒𝟔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  <m:r>
                      <m:t xml:space="preserve">+</m:t>
                    </m:r>
                    <m:r>
                      <m:t xml:space="preserve">𝟏𝟑𝟎</m:t>
                    </m:r>
                    <m:r>
                      <m:t xml:space="preserve">АТ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Прямоугольник 2"/>
          <p:cNvSpPr/>
          <p:nvPr/>
        </p:nvSpPr>
        <p:spPr>
          <a:xfrm>
            <a:off x="441360" y="2323080"/>
            <a:ext cx="845244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рость образовани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Т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процессе окислительного фосфорилирования зависит от следующих фактор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ношения АТФ/АДФ (при отсутствии в клетке АДФ синтез АТФ не происходит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а О2 в клетке и эффективности его использо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ивности многочисленных окислительных фермен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а систем дыхательных ферментов в митохондр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остности мембран митохондрий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а митохондрий в клетк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и гормонов, ионов С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ругих регуляторов процессов аэробного окисления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3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37" name="Прямоугольник 4"/>
          <p:cNvSpPr/>
          <p:nvPr/>
        </p:nvSpPr>
        <p:spPr>
          <a:xfrm>
            <a:off x="563400" y="1859400"/>
            <a:ext cx="8330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треблении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динакового количества кислород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выполненной работы буде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ольш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том случае, если энергетическим субстратом будут углеводы, а не жи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 являются более эффективным «топливом» по сравнению с жирами, так как на их окисление требуется на 12 % меньше кислорода в расчете на молекулу синтезированной АТ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5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ЭРОБ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4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41" name="Прямоугольник 2"/>
          <p:cNvSpPr/>
          <p:nvPr/>
        </p:nvSpPr>
        <p:spPr>
          <a:xfrm>
            <a:off x="1001880" y="265680"/>
            <a:ext cx="5515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ЭТАПЫ МНОГОЛЕТНЕЙ ПОДГОТОВКИ СПОРТС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бъект 2"/>
          <p:cNvSpPr/>
          <p:nvPr/>
        </p:nvSpPr>
        <p:spPr>
          <a:xfrm>
            <a:off x="736920" y="2415960"/>
            <a:ext cx="838152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ая подго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ая базовая подго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пециализированная базовая подго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готовка к высшим достиже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аксимальная реализация индивидуальны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охранение дост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4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45" name="Прямоугольник 2"/>
          <p:cNvSpPr/>
          <p:nvPr/>
        </p:nvSpPr>
        <p:spPr>
          <a:xfrm>
            <a:off x="969120" y="265680"/>
            <a:ext cx="7831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НАПРАВЛЕННОСТЬ СОРЕВНОВАНИЙ И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Таблица 4"/>
          <p:cNvGraphicFramePr/>
          <p:nvPr/>
        </p:nvGraphicFramePr>
        <p:xfrm>
          <a:off x="242280" y="1641960"/>
          <a:ext cx="8659080" cy="4331520"/>
        </p:xfrm>
        <a:graphic>
          <a:graphicData uri="http://schemas.openxmlformats.org/drawingml/2006/table">
            <a:tbl>
              <a:tblPr/>
              <a:tblGrid>
                <a:gridCol w="2146320"/>
                <a:gridCol w="2886480"/>
                <a:gridCol w="3626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ЛЬ СОРЕВНОА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ЗУЛЬТАТ СОРЕВ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ПРАВЛЕННОСТЬ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ЧАЛЬНАЯ ПОДГОТ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явление исходного уровня спортивны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полнение заданных нормативов, приобретение начального опыта участия в соревнова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крепление здоровья, обучение основам техники вида спорта, устранение недостатков в уровне физического развития и подготов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78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ВАРИТЕЛЬНАЯ БАЗ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ланомерное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повышение спортивного результ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полнение заданных норма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зностороннее развитие физических качеств, освоение разнообразных двигательных действий, формирование моти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4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49" name="Прямоугольник 2"/>
          <p:cNvSpPr/>
          <p:nvPr/>
        </p:nvSpPr>
        <p:spPr>
          <a:xfrm>
            <a:off x="969120" y="265680"/>
            <a:ext cx="7831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НАПРАВЛЕННОСТЬ СОРЕВНОВАНИЙ И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Таблица 4"/>
          <p:cNvGraphicFramePr/>
          <p:nvPr/>
        </p:nvGraphicFramePr>
        <p:xfrm>
          <a:off x="242280" y="1641960"/>
          <a:ext cx="8659080" cy="4331520"/>
        </p:xfrm>
        <a:graphic>
          <a:graphicData uri="http://schemas.openxmlformats.org/drawingml/2006/table">
            <a:tbl>
              <a:tblPr/>
              <a:tblGrid>
                <a:gridCol w="2146320"/>
                <a:gridCol w="2886480"/>
                <a:gridCol w="3626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ЛЬ СОРЕВНОА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ЗУЛЬТАТ СОРЕВ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ПРАВЛЕННОСТЬ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ПЕЦИАЛИЗИРОВАННАЯ БАЗ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заданного уровня спортивны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и результат в главных соревнованиях, выполнение заданных норматив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глублённое развитие физических качеств, разностороннее техническое совершенствование, тактическая и психологическая подгот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78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ВЫСШИМ ДОСТИЖ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высоки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в отборочных и главных соревнованиях сезона, место в мировом рей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высокого уровня специфической адаптации и готовности к соревнов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1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19" name="TextBox 4"/>
          <p:cNvSpPr/>
          <p:nvPr/>
        </p:nvSpPr>
        <p:spPr>
          <a:xfrm>
            <a:off x="969120" y="2610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4510080" y="119124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92320" y="133488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23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24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5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53" name="Прямоугольник 2"/>
          <p:cNvSpPr/>
          <p:nvPr/>
        </p:nvSpPr>
        <p:spPr>
          <a:xfrm>
            <a:off x="969120" y="265680"/>
            <a:ext cx="7831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НАПРАВЛЕННОСТЬ СОРЕВНОВАНИЙ И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4" name="Таблица 4"/>
          <p:cNvGraphicFramePr/>
          <p:nvPr/>
        </p:nvGraphicFramePr>
        <p:xfrm>
          <a:off x="242280" y="1641960"/>
          <a:ext cx="8659080" cy="4331520"/>
        </p:xfrm>
        <a:graphic>
          <a:graphicData uri="http://schemas.openxmlformats.org/drawingml/2006/table">
            <a:tbl>
              <a:tblPr/>
              <a:tblGrid>
                <a:gridCol w="2146320"/>
                <a:gridCol w="2886480"/>
                <a:gridCol w="3626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ЛЬ СОРЕВНОА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ЗУЛЬТАТ СОРЕВ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ПРАВЛЕННОСТЬ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АЯ РЕАЛИЗАЦИЯ ИНДИВИДУАЛЬНЫХ ВОЗМО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наивысши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в отборочных и главных соревнованиях сезона, место в мировом рей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максимального уровня специфической адаптации и готовности к соревнов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78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ХРАНЕНИЕ ВЫСШЕГО СПОРТИВНОГО МАСТЕ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хранение наивысши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в отборочных и главных соревнованиях сезона, место в мировом рей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хранение максимального уровня специфической адаптации и готовности к соревнов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5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57" name="Прямоугольник 2"/>
          <p:cNvSpPr/>
          <p:nvPr/>
        </p:nvSpPr>
        <p:spPr>
          <a:xfrm>
            <a:off x="969120" y="236880"/>
            <a:ext cx="793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ОТБОР И ОРИЕНТАЦИЯ СПОРТСМЕНОВ В СИСТЕМЕ МНОГОЛЕТНЕ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бъект 2"/>
          <p:cNvSpPr/>
          <p:nvPr/>
        </p:nvSpPr>
        <p:spPr>
          <a:xfrm>
            <a:off x="532440" y="3857040"/>
            <a:ext cx="822924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портивный результат не может быть критерием перспективности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5"/>
          <p:cNvSpPr/>
          <p:nvPr/>
        </p:nvSpPr>
        <p:spPr>
          <a:xfrm>
            <a:off x="532440" y="1442160"/>
            <a:ext cx="8138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едварительный от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предварительной базовой подгот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6"/>
          <p:cNvSpPr/>
          <p:nvPr/>
        </p:nvSpPr>
        <p:spPr>
          <a:xfrm>
            <a:off x="532440" y="2442960"/>
            <a:ext cx="8229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критерий перспективности –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личие способности к эффективному спортивному совершенствованию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6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63" name="Прямоугольник 2"/>
          <p:cNvSpPr/>
          <p:nvPr/>
        </p:nvSpPr>
        <p:spPr>
          <a:xfrm>
            <a:off x="969120" y="236880"/>
            <a:ext cx="793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ОТБОР И ОРИЕНТАЦИЯ СПОРТСМЕНОВ В СИСТЕМЕ МНОГОЛЕТНЕ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бъект 2"/>
          <p:cNvSpPr/>
          <p:nvPr/>
        </p:nvSpPr>
        <p:spPr>
          <a:xfrm>
            <a:off x="457200" y="3776040"/>
            <a:ext cx="82292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каза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техники выполнения специальных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уровня специальной подготовл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психофизических и личностно-психических характерист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восприятию и переработк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6"/>
          <p:cNvSpPr/>
          <p:nvPr/>
        </p:nvSpPr>
        <p:spPr>
          <a:xfrm>
            <a:off x="457200" y="1196280"/>
            <a:ext cx="8270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межуточный от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специализированной базовой подгот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7"/>
          <p:cNvSpPr/>
          <p:nvPr/>
        </p:nvSpPr>
        <p:spPr>
          <a:xfrm>
            <a:off x="457200" y="2363040"/>
            <a:ext cx="84452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критерий перспективности –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личие способности к достижению высших спортивных результатов и перенесению высоких тренировочных и соревновательных нагруз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6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69" name="Прямоугольник 2"/>
          <p:cNvSpPr/>
          <p:nvPr/>
        </p:nvSpPr>
        <p:spPr>
          <a:xfrm>
            <a:off x="969120" y="236880"/>
            <a:ext cx="793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ОТБОР И ОРИЕНТАЦИЯ СПОРТСМЕНОВ В СИСТЕМЕ МНОГОЛЕТНЕ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Объект 2"/>
          <p:cNvSpPr/>
          <p:nvPr/>
        </p:nvSpPr>
        <p:spPr>
          <a:xfrm>
            <a:off x="482400" y="4831920"/>
            <a:ext cx="822924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меньшим напряжением функциональных систем были достигнуты результаты на предыдущем этапе, тем большие резервы остались в дальнейшем для совершен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оугольник 4"/>
          <p:cNvSpPr/>
          <p:nvPr/>
        </p:nvSpPr>
        <p:spPr>
          <a:xfrm>
            <a:off x="441360" y="1366920"/>
            <a:ext cx="8270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новной от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этапам подготовки к высшим достижениям и максимальной реализации максимальных возм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оугольник 7"/>
          <p:cNvSpPr/>
          <p:nvPr/>
        </p:nvSpPr>
        <p:spPr>
          <a:xfrm>
            <a:off x="441360" y="2928240"/>
            <a:ext cx="83592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критерий перспективности –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личие способности к перенесению исключительно напряжённых тренировочных программ и эффективной адаптации к применяемым нагрузкам, наличие способности к достижению результатов международного кла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7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7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8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2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27" name="Прямоугольник 2"/>
          <p:cNvSpPr/>
          <p:nvPr/>
        </p:nvSpPr>
        <p:spPr>
          <a:xfrm>
            <a:off x="969120" y="265680"/>
            <a:ext cx="7881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АНАЛИЗ РЕАЛИЗАЦИИ ПЛАНА ПОДГОТОВКИ ПРОШЛОГО СЕ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736920" y="1187640"/>
            <a:ext cx="8097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Roboto"/>
              </a:rPr>
              <a:t>Ответить на вопрос: </a:t>
            </a: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достигнута ли основная цель подготовки спортсмена (</a:t>
            </a:r>
            <a:r>
              <a:rPr b="1" lang="ru-RU" sz="1800" spc="-1" strike="noStrike">
                <a:solidFill>
                  <a:srgbClr val="c00000"/>
                </a:solidFill>
                <a:latin typeface="Roboto"/>
              </a:rPr>
              <a:t>достижение</a:t>
            </a: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 максимально возможного для данного индивидуума уровня технико-тактической, физической и психической подготовленности), обусловленного спецификой вида спорта и требованиями достижения максимально высоких результатов в соревновательной деятель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736920" y="2941920"/>
            <a:ext cx="8097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Roboto"/>
              </a:rPr>
              <a:t>Решены ли основные задачи спортивной подгото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Обеспечение необходимого уровня развития двигательных качеств, возможностей функциональных систем организма, несущих основную нагрузку в данном виде спо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Освоение техники и тактики избранного вида спо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Воспитание должных моральных и волевых кач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Обеспечение необходимого уровня специальной психической подгото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Комплексное совершенствование и проявление в соревновательной деятельности различных сторон подготовленности спортс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3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32" name="TextBox 4"/>
          <p:cNvSpPr/>
          <p:nvPr/>
        </p:nvSpPr>
        <p:spPr>
          <a:xfrm>
            <a:off x="969120" y="3106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292320" y="1146600"/>
            <a:ext cx="39837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36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37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3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40" name="Прямоугольник 2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МОДЕЛЬНЫЕ ХАРАКТЕРИСТИКИ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618120" y="2255400"/>
            <a:ext cx="827028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 построения, изучения и использования моделей для определения и уточнения характеристики и оптимизации процесса спортивной подготовки и участия в соревно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актуется как «совокупность различных параметров, обусловливающих достижение определенного уровня спортивного мастерства и прогнозируемых результат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21444</TotalTime>
  <Application>LibreOffice/7.4.7.2$Linux_X86_64 LibreOffice_project/40$Build-2</Application>
  <AppVersion>15.0000</AppVersion>
  <Words>4634</Words>
  <Paragraphs>7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4T05:15:33Z</dcterms:created>
  <dc:creator>Microsoft Office User</dc:creator>
  <dc:description/>
  <dc:language>en-US</dc:language>
  <cp:lastModifiedBy>рцсп</cp:lastModifiedBy>
  <dcterms:modified xsi:type="dcterms:W3CDTF">2019-10-06T17:25:57Z</dcterms:modified>
  <cp:revision>7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7</vt:r8>
  </property>
</Properties>
</file>