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518-8DC0-4FD8-8201-41A53733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F9E-D74D-4AB3-9E99-98DF2819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D9ED-9A5E-4D97-861D-9AA2D67C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DED5-AA2F-43CA-9965-83894F31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F8B-0B1C-42DF-9462-67EE4CE9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C22E-9E01-436C-9CD6-926D9400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DA6-E9E3-4E20-AB7F-8470ACBF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E749-1E79-4736-9B71-D1370A8E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AB55-5EB4-4187-9B69-22077A2C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F1F1-6AAB-4CCD-B867-D9FB26C4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71A9-77F4-41DD-B615-9C6516F0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069-4075-4C94-BB7F-063EB286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BFD1-D532-4881-81C4-859D47819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2879640" y="5256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Тема № 6 Радіонавігаційні систе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900000" y="103680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кція № 11.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Допплерівський вимірювач швидкості та кута знос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6"/>
          <p:cNvSpPr/>
          <p:nvPr/>
        </p:nvSpPr>
        <p:spPr>
          <a:xfrm>
            <a:off x="826920" y="1790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вчальна та виховна мета: Розглянути призначення, завдання і принцип дії однопроменевого та багатопроменевих допплерівських вимірювач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919800" y="27082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вчальні питання і розподіл час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00000" y="3284640"/>
          <a:ext cx="6002280" cy="2743200"/>
        </p:xfrm>
        <a:graphic>
          <a:graphicData uri="http://schemas.openxmlformats.org/drawingml/2006/table">
            <a:tbl>
              <a:tblPr/>
              <a:tblGrid>
                <a:gridCol w="93600"/>
                <a:gridCol w="330480"/>
                <a:gridCol w="4613040"/>
                <a:gridCol w="965160"/>
              </a:tblGrid>
              <a:tr h="274680"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Всту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  10 х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изначення та області застосування допплерівських вимірювачів швидкості та кута зносу (ДВШЗ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  10 х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Структурна схема ДВШЗ. Принцип побудови багатопроменевих  ДВШЗ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  30 х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ДВШЗ з неперервним випроміненнюванням частотно-модульованих коливан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  30 х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Висновки та відповіді на 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  10 х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7454880" y="-158760"/>
            <a:ext cx="20494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 Unicode MS"/>
              </a:rPr>
              <a:t>3. </a:t>
            </a:r>
            <a:r>
              <a:rPr b="1" lang="uk-UA" sz="2200" spc="-1" strike="noStrike">
                <a:solidFill>
                  <a:srgbClr val="000000"/>
                </a:solidFill>
                <a:latin typeface="Arial Unicode MS"/>
              </a:rPr>
              <a:t> Допплерівські вимірювачі з неперервним випромінюванням частотно-модульованих коливан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 Unicode MS"/>
              </a:rPr>
              <a:t>3.1.Допплерівські вимірювачі з неперервним випроміненням не- модульованих  коливань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Допплерівські вимірювачі за характером випромінювання діляться на ДВШЗ з неперервним випроміненням і з імпульсним випроміненням. У свою чергу, допплерівські вимірювачі з неперервним випроміненням діляться на ДВШЗ, що використовують неперервні немодульовані коливання і ДВШЗ, в яких застосовуються неперервні частотно-модульовані колива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В допплерівських вимірювачах з неперервним випроміненням немодульованих коливань використовуються для випромінювання та прийому сигналів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окремі, нерухомі відносно корпусу літака, антени. Наявність окремих антен необхідне для того, щоб на роботу приймача не впливав сигнал передавача, оскільки випромінювання та прийом здійснюються одночас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5"/>
          <p:cNvSpPr/>
          <p:nvPr/>
        </p:nvSpPr>
        <p:spPr>
          <a:xfrm>
            <a:off x="368280" y="189000"/>
            <a:ext cx="8712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libri"/>
              </a:rPr>
              <a:t>Достоїнств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исока чутливість. Коефіцієнт використання енергії відбиття сигналу дорівнює 100</a:t>
            </a:r>
            <a:r>
              <a:rPr b="0" lang="uk-UA" sz="2200" spc="-1" strike="noStrike">
                <a:solidFill>
                  <a:srgbClr val="000000"/>
                </a:solidFill>
                <a:latin typeface="Symbol"/>
                <a:ea typeface="Symbol"/>
              </a:rPr>
              <a:t>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ідсутні “сліпі” частоти. Спрощується передавач, оскільки не вимагається модулято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едолік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аявність двох анте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Складність ізоляції приймача від сигналу передавача модульованого НЧ шуму, що обмежує висотність ДВШЗ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исокі вимоги до стабільності частоти передавач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5"/>
          <p:cNvSpPr/>
          <p:nvPr/>
        </p:nvSpPr>
        <p:spPr>
          <a:xfrm>
            <a:off x="250920" y="260280"/>
            <a:ext cx="8713800" cy="71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 u="sng">
                <a:solidFill>
                  <a:srgbClr val="000000"/>
                </a:solidFill>
                <a:uFillTx/>
                <a:latin typeface="Calibri"/>
              </a:rPr>
              <a:t>3.2. ДВШЗ з неперервним випромінюванням частотно-модульованих сигналі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Застосування ДВШЗ з частотною модуляцією неперервно випромінюваних коливань дозволяє зменшити вплив сигналу передавача на чутливість приймача і знизити вимоги до величини розв’язки між передавачем та приймач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Достоїнств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1.</a:t>
            </a: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Зменшення впливу прямого сигналу передавача на приймач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2.</a:t>
            </a: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Висока точність вимірюва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Недолік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1.</a:t>
            </a: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З точки зору енергетики дані ДВШЗ поступаються ДВШЗ з неперервним випромінюванням немодульованих коливань, оскільки в них використовуються не всі складові спектру відбитого сигналу, а тільки ті, що попадають у смуговий ППЧ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538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Unicode MS"/>
              </a:rPr>
              <a:t>Застосування періодичного закону зміни частоти викликає появу “сліпих” висо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538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изначення та області застосування допплерівських вимірювачів швидкості та кута зносу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324000" y="907920"/>
            <a:ext cx="8640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Робота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допплерівських вимірювачів швидкості та кута зносу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(ДВШЗ) базується на вимірюванні допплерівських частот сигналів, відбитих від земної поверхні і прийнятих по декількох променях антен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 теперішній час допплерівські вимірювачі грають дуже важливу роль при визначенні місцеположення літака методом обчислення шляху, тобто розрахунку пройденого шляху по виміряній швидкості і часу. При цьому ДВШЗ використовується разом із курсовою системою, що вимірює курс ЛА </a:t>
            </a:r>
            <a:r>
              <a:rPr b="0" lang="uk-UA" sz="2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датчиком вертикалі, що формує сигнали крену </a:t>
            </a:r>
            <a:r>
              <a:rPr b="0" lang="uk-UA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і тангажу </a:t>
            </a:r>
            <a:r>
              <a:rPr b="0" lang="uk-UA" sz="2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та бортовою ЕОМ, що реалізує алгоритм обчислення шлях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У сукупності вказані пристрої утворюють </a:t>
            </a: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допплерівську навігаційну систему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, в якій ДВШЗ виробляє сигнали, що містять інформацію про шляхову швидкість  та кут зносу </a:t>
            </a:r>
            <a:r>
              <a:rPr b="0" lang="uk-UA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Л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0" y="260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Структурна схема ДВШЗ. Принцип побудови багатопроменевих ДВШ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2.1.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Calibri"/>
              </a:rPr>
              <a:t>Основні кількісні співвідношення та узагальнена структурна схема ДВШ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88920" y="1832040"/>
            <a:ext cx="914400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-250920" y="3898800"/>
            <a:ext cx="9217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3838320" cy="63928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>
            <a:off x="4572000" y="187200"/>
            <a:ext cx="4572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Розглянемо принцип дії однопроменевого ДВШЗ. Нехай голчатий промінь антени ДВШЗ шириною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обернений в горизонтальній площині на кут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і утворює з нею кут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а поздовжня вісь ЛА збігається з віссю Х. В цьому випадку буде опромінюватись ділянка земної поверхні, заштрихована на малюнк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ектр допплерівських частот на вході ДВШЗ є неперервним і відповідає допплерівському зміщенню частоти сигналу, відбитого від і-тої точки, тоб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Із даного виразу видно, що для вимірювання всіх складових вектора повної швидкості необхідно мати три незалежних рівняння аналогічного тип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 досягається за рахунок застосування в ДВШЗ антенної системи, що має три і більше променів ДН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4880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376200" y="725400"/>
            <a:ext cx="85885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До складу ДВШЗ входять: антенна система (А), передавач (ПРД) та приймач (ПРМ), вимірювач частоти (В) і обчислювач (О) шляхової швидкості та кута зносу (конструктивно О може входити до складу БЦОМ). Передавач формує неперервні високочастотні коливання, які однопроменева антенна система випромінює у напрямку землі. Відбитий від ділянки земної поверхні сигнал приймається антеною ДВШЗ і надходить до приймача, де в результаті порівняння з опорним сигналом ПРД виділяється сигнал доплерівської частоти. Доплерівська частота даного сигналу вимірюється у вимірювачі частоти, і напруга, пропорційна доплерівській частоті, надходить до обчислювача, який розраховує шляхову швидкість  та кут зносу </a:t>
            </a:r>
            <a:r>
              <a:rPr b="0" lang="uk-UA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1123560" y="309600"/>
            <a:ext cx="39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ипова структурна схема такого ДВШЗ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854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376200" y="725400"/>
            <a:ext cx="8588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Однопроменевий ДВШЗ має великі похибки за рахунок коливань літака по крену і тангажу. Підвищити точність вимірювання, знизити вплив кутів крену і тангажу ЛА можна, застосовуючи багатопроменевий ДВШЗ. Доплерівські зміщення частот сигналів, прийнятих по 1, 2 і 3 променях, відповідно дорівнюють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1334160" y="309600"/>
            <a:ext cx="616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2.2. Принципи побудови багатопроменевих ДВШ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258920" y="4702320"/>
            <a:ext cx="6192720" cy="71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1258920" y="2973240"/>
            <a:ext cx="5905440" cy="717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1258920" y="3849840"/>
            <a:ext cx="6121440" cy="706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4"/>
          <a:stretch/>
        </p:blipFill>
        <p:spPr>
          <a:xfrm>
            <a:off x="395280" y="5516640"/>
            <a:ext cx="82533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12640" y="98280"/>
            <a:ext cx="5048280" cy="425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6084720" y="830160"/>
            <a:ext cx="2735280" cy="1059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4284720" y="301680"/>
            <a:ext cx="4678200" cy="679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4"/>
          <a:stretch/>
        </p:blipFill>
        <p:spPr>
          <a:xfrm>
            <a:off x="6122880" y="2101680"/>
            <a:ext cx="2697120" cy="1040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5"/>
          <a:stretch/>
        </p:blipFill>
        <p:spPr>
          <a:xfrm>
            <a:off x="6084720" y="3378240"/>
            <a:ext cx="2735280" cy="10587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468360" y="483552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Таким чином, у трипроменевому ДВШЗ забезпечується роздільна оцінка складових вектора повної швидкості шляхом порівняння допплерівських зміщень частоти сигналів, прийнятих по цих променя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06:12:14Z</dcterms:created>
  <dc:creator>Толя</dc:creator>
  <dc:description/>
  <dc:language>en-US</dc:language>
  <cp:lastModifiedBy>1</cp:lastModifiedBy>
  <dcterms:modified xsi:type="dcterms:W3CDTF">2017-11-13T07:31:28Z</dcterms:modified>
  <cp:revision>46</cp:revision>
  <dc:subject/>
  <dc:title>Презентация PowerPoint</dc:title>
</cp:coreProperties>
</file>