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FBB-8669-40EF-9D59-524FEAD2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A5A-82DE-4A98-8C5B-55A8432F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83B-6055-4106-8F06-BE0B8106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DF1-B6D6-4149-9CA6-D3E6CD4A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DDF-D1C5-4424-9DA2-10AF8688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FDF-7976-44A7-B7B0-282B2E33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FB6-F1F3-4962-929F-575FC305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BF6-516E-4239-85C8-D64959B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55C-894F-440F-B077-5D8FD682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128-1F65-4FDC-938E-839E6D07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B91-05C0-415F-A3CE-1A10A216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392-BF22-4F40-8959-6A116EB0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741C-AEFF-44C2-B02A-6841D1EFD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879640" y="5256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ема № 6 Радіонавігаційні систе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900000" y="10368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кція № 11.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опплерівський вимірювач швидкості та кута знос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826920" y="1790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вчальна та виховна мета: Розглянути призначення, завдання і принцип дії однопроменевого та багатопроменевих допплерівських вимірювач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919800" y="27082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вчальні питання і розподіл час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00000" y="3284640"/>
          <a:ext cx="6002280" cy="2743200"/>
        </p:xfrm>
        <a:graphic>
          <a:graphicData uri="http://schemas.openxmlformats.org/drawingml/2006/table">
            <a:tbl>
              <a:tblPr/>
              <a:tblGrid>
                <a:gridCol w="93600"/>
                <a:gridCol w="330480"/>
                <a:gridCol w="4613040"/>
                <a:gridCol w="965160"/>
              </a:tblGrid>
              <a:tr h="27468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сту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1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изначення та області застосування допплерівських вимірювачів швидкості та кута зносу (ДВШЗ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1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труктурна схема ДВШЗ. Принцип побудови багатопроменевих  ДВШ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3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ВШЗ з неперервним випроміненнюванням частотно-модульованих коливан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3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исновки та відповіді на 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1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7454880" y="-158760"/>
            <a:ext cx="2049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Unicode MS"/>
              </a:rPr>
              <a:t>3. </a:t>
            </a:r>
            <a:r>
              <a:rPr b="1" lang="uk-UA" sz="2200" spc="-1" strike="noStrike">
                <a:solidFill>
                  <a:srgbClr val="000000"/>
                </a:solidFill>
                <a:latin typeface="Arial Unicode MS"/>
              </a:rPr>
              <a:t> Допплерівські вимірювачі з неперервним випромінюванням частотно-модульованих колива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 Unicode MS"/>
              </a:rPr>
              <a:t>3.1.Допплерівські вимірювачі з неперервним випроміненням не- модульованих  коливан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Допплерівські вимірювачі за характером випромінювання діляться на ДВШЗ з неперервним випроміненням і з імпульсним випроміненням. У свою чергу, допплерівські вимірювачі з неперервним випроміненням діляться на ДВШЗ, що використовують неперервні немодульовані коливання і ДВШЗ, в яких застосовуються неперервні частотно-модульовані коли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В допплерівських вимірювачах з неперервним випроміненням немодульованих коливань використовуються для випромінювання та прийому сигналів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окремі, нерухомі відносно корпусу літака, антени. Наявність окремих антен необхідне для того, щоб на роботу приймача не впливав сигнал передавача, оскільки випромінювання та прийом здійснюються одночас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5"/>
          <p:cNvSpPr/>
          <p:nvPr/>
        </p:nvSpPr>
        <p:spPr>
          <a:xfrm>
            <a:off x="368280" y="189000"/>
            <a:ext cx="871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Достоїнств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сока чутливість. Коефіцієнт використання енергії відбиття сигналу дорівнює 100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сутні “сліпі” частоти. Спрощується передавач, оскільки не вимагається модулято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долі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явність двох анте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кладність ізоляції приймача від сигналу передавача модульованого НЧ шуму, що обмежує висотність ДВШ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сокі вимоги до стабільності частоти передавач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5"/>
          <p:cNvSpPr/>
          <p:nvPr/>
        </p:nvSpPr>
        <p:spPr>
          <a:xfrm>
            <a:off x="250920" y="260280"/>
            <a:ext cx="8713800" cy="71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3.2. ДВШЗ з неперервним випромінюванням частотно-модульованих сигнал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астосування ДВШЗ з частотною модуляцією неперервно випромінюваних коливань дозволяє зменшити вплив сигналу передавача на чутливість приймача і знизити вимоги до величини розв’язки між передавачем та приймач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Достоїнств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1.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меншення впливу прямого сигналу передавача на прийма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2.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Висока точність вимірю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Недолі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1.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 точки зору енергетики дані ДВШЗ поступаються ДВШЗ з неперервним випромінюванням немодульованих коливань, оскільки в них використовуються не всі складові спектру відбитого сигналу, а тільки ті, що попадають у смуговий ПП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8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астосування періодичного закону зміни частоти викликає появу “сліпих” висо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8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значення та області застосування допплерівських вимірювачів швидкості та кута зносу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24000" y="907920"/>
            <a:ext cx="864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обота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допплерівських вимірювачів швидкості та кута знос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ДВШЗ) базується на вимірюванні допплерівських частот сигналів, відбитих від земної поверхні і прийнятих по декількох променях анте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теперішній час допплерівські вимірювачі грають дуже важливу роль при визначенні місцеположення літака методом обчислення шляху, тобто розрахунку пройденого шляху по виміряній швидкості і часу. При цьому ДВШЗ використовується разом із курсовою системою, що вимірює курс ЛА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датчиком вертикалі, що формує сигнали крен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і тангаж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та бортовою ЕОМ, що реалізує алгоритм обчислення шлях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сукупності вказані пристрої утворюють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допплерівську навігаційну систем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в якій ДВШЗ виробляє сигнали, що містять інформацію про шляхову швидкість  та кут знос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260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труктурна схема ДВШЗ. Принцип побудови багатопроменевих ДВШ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2.1.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і кількісні співвідношення та узагальнена структурна схема ДВШ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8920" y="1832040"/>
            <a:ext cx="914400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250920" y="3898800"/>
            <a:ext cx="9217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3838320" cy="6392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4572000" y="1872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озглянемо принцип дії однопроменевого ДВШЗ. Нехай голчатий промінь антени ДВШЗ шириною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обернений в горизонтальній площині на кут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і утворює з нею кут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а поздовжня вісь ЛА збігається з віссю Х. В цьому випадку буде опромінюватись ділянка земної поверхні, заштрихована на малюн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ектр допплерівських частот на вході ДВШЗ є неперервним і відповідає допплерівському зміщенню частоти сигналу, відбитого від і-тої точки, тоб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Із даного виразу видно, що для вимірювання всіх складових вектора повної швидкості необхідно мати три незалежних рівняння аналогічного ти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 досягається за рахунок застосування в ДВШЗ антенної системи, що має три і більше променів ДН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4880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376200" y="725400"/>
            <a:ext cx="85885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о складу ДВШЗ входять: антенна система (А), передавач (ПРД) та приймач (ПРМ), вимірювач частоти (В) і обчислювач (О) шляхової швидкості та кута зносу (конструктивно О може входити до складу БЦОМ). Передавач формує неперервні високочастотні коливання, які однопроменева антенна система випромінює у напрямку землі. Відбитий від ділянки земної поверхні сигнал приймається антеною ДВШЗ і надходить до приймача, де в результаті порівняння з опорним сигналом ПРД виділяється сигнал доплерівської частоти. Доплерівська частота даного сигналу вимірюється у вимірювачі частоти, і напруга, пропорційна доплерівській частоті, надходить до обчислювача, який розраховує шляхову швидкість  та кут знос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1123560" y="30960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пова структурна схема такого ДВШ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376200" y="725400"/>
            <a:ext cx="8588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днопроменевий ДВШЗ має великі похибки за рахунок коливань літака по крену і тангажу. Підвищити точність вимірювання, знизити вплив кутів крену і тангажу ЛА можна, застосовуючи багатопроменевий ДВШЗ. Доплерівські зміщення частот сигналів, прийнятих по 1, 2 і 3 променях, відповідно дорівнюють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1334160" y="309600"/>
            <a:ext cx="616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.2. Принципи побудови багатопроменевих ДВШ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58920" y="4702320"/>
            <a:ext cx="6192720" cy="71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258920" y="2973240"/>
            <a:ext cx="5905440" cy="717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1258920" y="3849840"/>
            <a:ext cx="6121440" cy="70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95280" y="5516640"/>
            <a:ext cx="82533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12640" y="98280"/>
            <a:ext cx="5048280" cy="425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084720" y="830160"/>
            <a:ext cx="2735280" cy="105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4284720" y="301680"/>
            <a:ext cx="4678200" cy="67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6122880" y="2101680"/>
            <a:ext cx="2697120" cy="104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6084720" y="3378240"/>
            <a:ext cx="2735280" cy="1058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468360" y="483552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аким чином, у трипроменевому ДВШЗ забезпечується роздільна оцінка складових вектора повної швидкості шляхом порівняння допплерівських зміщень частоти сигналів, прийнятих по цих промен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6:12:14Z</dcterms:created>
  <dc:creator>Толя</dc:creator>
  <dc:description/>
  <dc:language>en-US</dc:language>
  <cp:lastModifiedBy>1</cp:lastModifiedBy>
  <dcterms:modified xsi:type="dcterms:W3CDTF">2017-11-13T07:31:28Z</dcterms:modified>
  <cp:revision>46</cp:revision>
  <dc:subject/>
  <dc:title>Презентация PowerPoint</dc:title>
</cp:coreProperties>
</file>