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6A1-BE8B-4102-A96B-D511DF93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82C-844E-496F-A1AA-13889898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364-6EF2-4734-9F24-1F18AB7E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AC5-1CD2-439C-82A0-E57AACAF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07EE-F40D-4B60-8302-407AB6A9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20E5-15E5-4B1C-9B9D-2BA59CB2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5733-D447-45D6-BE54-BE030C11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BD6F-1650-4EC5-8E99-1D96132A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6552-6BCD-4A4A-B198-403AE2D2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0167-F56A-426C-AAE5-CBB0647C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AEAE-081F-4AE7-BCD3-1C327B55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ACF-B161-4CA2-B006-57A864A6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2840-9620-4578-AE9B-BD33A351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6012-B82D-4839-A381-F8696363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BB55-F86C-422D-87E4-E98AC741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3DB9-BEC1-44F2-BEBE-075B5B59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5985-4C91-48B7-B979-8AE9F88A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128-EE1A-4B03-8640-B7BA940B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33C-3319-400C-8696-30E41078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F44-B46D-4BD7-92B3-927579C8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56E-0C2A-4586-883D-7441748B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18F-488E-47FE-89BA-9804749E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A1A-521F-444D-B3D2-96312ADB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620-AD76-4CE2-B68D-A1198413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407D-5FE1-490A-B56F-EC48A74937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86D5-F783-42D9-BC38-7D1DE87E92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ff"/>
                </a:solidFill>
                <a:latin typeface="Arial"/>
              </a:rPr>
              <a:t>РАВНОВЕСИЕ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200" spc="-1" strike="noStrike">
                <a:solidFill>
                  <a:srgbClr val="ffffff"/>
                </a:solidFill>
                <a:latin typeface="Arial"/>
              </a:rPr>
              <a:t>РЫЧАГА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Рисунок 3" descr=""/>
          <p:cNvPicPr/>
          <p:nvPr/>
        </p:nvPicPr>
        <p:blipFill>
          <a:blip r:embed="rId1"/>
          <a:srcRect l="0" t="8209" r="0" b="9951"/>
          <a:stretch/>
        </p:blipFill>
        <p:spPr>
          <a:xfrm>
            <a:off x="395280" y="206280"/>
            <a:ext cx="842472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Рисунок 1" descr=""/>
          <p:cNvPicPr/>
          <p:nvPr/>
        </p:nvPicPr>
        <p:blipFill>
          <a:blip r:embed="rId1"/>
          <a:srcRect l="11029" t="19360" r="11324" b="22697"/>
          <a:stretch/>
        </p:blipFill>
        <p:spPr>
          <a:xfrm>
            <a:off x="216000" y="181080"/>
            <a:ext cx="874872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80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68ae"/>
                </a:solidFill>
                <a:latin typeface="Arial"/>
              </a:rPr>
              <a:t>Рычаг находится в равновесии, если плечи сил обратно пропорциональны значениям сил, действующих на него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51280" y="4508640"/>
                <a:ext cx="172872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Из этого Архимед сделал выводы: грузы пребывают в равновесии, когда плечи рычага обратно пропорциональны грузам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771640" y="4005360"/>
                <a:ext cx="345600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Условия равновесия тел. Устойчивое и неустойчивое равновеси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вновесие - состояние тела, при котором в рассматриваемой системе отсчета отсутствуют перемещения каких-либо его точек под действием приложенных к нему си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мент силы относительно какой-либо оси равен произведению модуля силы на ее плечо: М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ловия равновесия т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6126120"/>
            <a:ext cx="91440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вновесие тела может быть устойчивым, неустойчивым и безразличны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вновесие устойчивое, если при незначительном смещении тело вновь возвращается в положение равновес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неустойчивом равновесии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значительное смещение тела вызывает в дальнейшем значительное удаление его от исходного поло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любые смещения тела не нарушают его состояния равновесия, то можно говорить о безразличном равновесии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нтр тяжести (центр масс)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Центр тяжести - геометрическая точка абсолютно твердого тела, через которую проходит равнодействующая всех сил тя­жести, действующих на данное тело при любом его положении в пространств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 каждую точку тела в поле сил тяжести действует сила, а на все тело - равнодействующая этих сил. Точка приложения равнодействующей называется центром тяжести тел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Центр масс (центр инерции) - точка, характеризующая рас­пределение масс в теле или системе тел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оложение центра масс тела в однородном поле тяжести совпадает с положением его центра тяже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Если тело закреплено в одной точке, например подвешено или лежит на опоре и пребывает в покое, то центр тяжести и точка опоры лежат на одной вертикал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коны сохранения в механике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мкнут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уппа объединенных по общим признакам тел, на которые не действуют другие тела или их действие несущественно в данных условиях, называется замкнутой (изолированной) систем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мпульс тела.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акон сохранения импульс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пульсом тела (количеством движения) называется физическая величина, равная произведению массы тела на его скор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пульс тела величина векторн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два тела взаимодействуют только друг с другом, то сумма их импульсов до и после взаимодействия не изменяе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замкнутой (изолированной) системе сумма импульсов тел после любого взаимодействия между ними остается постоянной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Рисунок 2" descr=""/>
          <p:cNvPicPr/>
          <p:nvPr/>
        </p:nvPicPr>
        <p:blipFill>
          <a:blip r:embed="rId1"/>
          <a:srcRect l="0" t="7037" r="0" b="9774"/>
          <a:stretch/>
        </p:blipFill>
        <p:spPr>
          <a:xfrm>
            <a:off x="324000" y="223920"/>
            <a:ext cx="849600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05:50:21Z</dcterms:created>
  <dc:creator>Алина</dc:creator>
  <dc:description/>
  <dc:language>en-US</dc:language>
  <cp:lastModifiedBy>Алина</cp:lastModifiedBy>
  <dcterms:modified xsi:type="dcterms:W3CDTF">2011-10-31T06:54:57Z</dcterms:modified>
  <cp:revision>3</cp:revision>
  <dc:subject/>
  <dc:title>Рычаг находится в равновесии, если плечи сил обратно пропорциональны значениям сил, действующих на него.</dc:title>
</cp:coreProperties>
</file>