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D2D-77D1-4C8F-9C35-6C0975B2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BA9-C3B2-44E9-B8F8-F6C55D0E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BC1-B254-4550-99EC-563686B9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476-D479-4FB0-8555-208B3FEB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E40A-6005-42E9-88FA-76EC207A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F9A8-5EE9-4402-AC42-EDF58620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EF5A-7600-404B-A7D3-945D1F14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71BD-DACA-4B42-B44A-9EBE6919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A8C4-9E83-42E5-8567-765882FB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5DED-2BE1-4AC4-B6B8-FB260FF1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9027-E7F8-4D49-B6AF-A199CA9A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721-B0F4-46A8-A9B3-2E5C6D8E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A88F-968D-42F7-A4E0-9A0A03EF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8060-3FCD-4B4D-82E6-82C444BD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85A9-BC1D-4632-85E6-5668E4A0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5BDD-6F9E-49F6-87B5-24C5ECF7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3087-C956-4AD8-9F4C-A3E83D60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6AD7-CE2B-491C-B90E-351AE2D2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705-3769-4B1D-8116-1EA69176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A42-F8A2-443E-8D44-F5A200B4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AF9-13CB-4112-B6A8-3916A30B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3F0-30BA-4234-A9AA-EFBAD132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9F5-642B-48CF-B261-3CDDFDEC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B1A-8CAA-45B0-A315-E2A96437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5675-7306-45B4-93CC-456D3F99B7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DCC4-1994-4B3B-A329-94B638C359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ff"/>
                </a:solidFill>
                <a:latin typeface="Arial"/>
              </a:rPr>
              <a:t>РАВНОВЕСИЕ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200" spc="-1" strike="noStrike">
                <a:solidFill>
                  <a:srgbClr val="ffffff"/>
                </a:solidFill>
                <a:latin typeface="Arial"/>
              </a:rPr>
              <a:t>РЫЧАГА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Рисунок 3" descr=""/>
          <p:cNvPicPr/>
          <p:nvPr/>
        </p:nvPicPr>
        <p:blipFill>
          <a:blip r:embed="rId1"/>
          <a:srcRect l="0" t="8209" r="0" b="9951"/>
          <a:stretch/>
        </p:blipFill>
        <p:spPr>
          <a:xfrm>
            <a:off x="395280" y="206280"/>
            <a:ext cx="842472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Рисунок 1" descr=""/>
          <p:cNvPicPr/>
          <p:nvPr/>
        </p:nvPicPr>
        <p:blipFill>
          <a:blip r:embed="rId1"/>
          <a:srcRect l="11029" t="19360" r="11324" b="22697"/>
          <a:stretch/>
        </p:blipFill>
        <p:spPr>
          <a:xfrm>
            <a:off x="216000" y="181080"/>
            <a:ext cx="874872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80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68ae"/>
                </a:solidFill>
                <a:latin typeface="Arial"/>
              </a:rPr>
              <a:t>Рычаг находится в равновесии, если плечи сил обратно пропорциональны значениям сил, действующих на него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51280" y="4508640"/>
                <a:ext cx="172872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Из этого Архимед сделал выводы: грузы пребывают в равновесии, когда плечи рычага обратно пропорциональны грузам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771640" y="4005360"/>
                <a:ext cx="345600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Условия равновесия тел. Устойчивое и неустойчивое равновеси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вновесие - состояние тела, при котором в рассматриваемой системе отсчета отсутствуют перемещения каких-либо его точек под действием приложенных к нему си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мент силы относительно какой-либо оси равен произведению модуля силы на ее плечо: М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ловия равновесия т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6126120"/>
            <a:ext cx="91440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вновесие тела может быть устойчивым, неустойчивым и безразличны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вновесие устойчивое, если при незначительном смещении тело вновь возвращается в положение равновес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неустойчивом равновесии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значительное смещение тела вызывает в дальнейшем значительное удаление его от исходного поло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любые смещения тела не нарушают его состояния равновесия, то можно говорить о безразличном равновесии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нтр тяжести (центр масс)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Центр тяжести - геометрическая точка абсолютно твердого тела, через которую проходит равнодействующая всех сил тя­жести, действующих на данное тело при любом его положении в пространств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 каждую точку тела в поле сил тяжести действует сила, а на все тело - равнодействующая этих сил. Точка приложения равнодействующей называется центром тяжести тел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Центр масс (центр инерции) - точка, характеризующая рас­пределение масс в теле или системе тел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оложение центра масс тела в однородном поле тяжести совпадает с положением его центра тяже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Если тело закреплено в одной точке, например подвешено или лежит на опоре и пребывает в покое, то центр тяжести и точка опоры лежат на одной вертикал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коны сохранения в механике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мкнут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уппа объединенных по общим признакам тел, на которые не действуют другие тела или их действие несущественно в данных условиях, называется замкнутой (изолированной) систем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мпульс тела.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акон сохранения импульс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пульсом тела (количеством движения) называется физическая величина, равная произведению массы тела на его скор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пульс тела величина векторн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два тела взаимодействуют только друг с другом, то сумма их импульсов до и после взаимодействия не изменяе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замкнутой (изолированной) системе сумма импульсов тел после любого взаимодействия между ними остается постоянной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Рисунок 2" descr=""/>
          <p:cNvPicPr/>
          <p:nvPr/>
        </p:nvPicPr>
        <p:blipFill>
          <a:blip r:embed="rId1"/>
          <a:srcRect l="0" t="7037" r="0" b="9774"/>
          <a:stretch/>
        </p:blipFill>
        <p:spPr>
          <a:xfrm>
            <a:off x="324000" y="223920"/>
            <a:ext cx="849600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05:50:21Z</dcterms:created>
  <dc:creator>Алина</dc:creator>
  <dc:description/>
  <dc:language>en-US</dc:language>
  <cp:lastModifiedBy>Алина</cp:lastModifiedBy>
  <dcterms:modified xsi:type="dcterms:W3CDTF">2011-10-31T06:54:57Z</dcterms:modified>
  <cp:revision>3</cp:revision>
  <dc:subject/>
  <dc:title>Рычаг находится в равновесии, если плечи сил обратно пропорциональны значениям сил, действующих на него.</dc:title>
</cp:coreProperties>
</file>