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063-F1B4-40CA-BC41-3D7D800C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778-AAE1-40FE-8D3F-02E2E49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560-8401-4278-BDD9-E7740A2E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613-FD23-4E4A-ADD4-AA7D0442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205-85E4-46F5-8CA4-6A8E1580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A1A-0D97-4909-8EEC-5E5F006D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1E0-A96B-444C-A942-277768F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DAC7-3689-41B1-998A-D1537ECB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B11F-9CE8-46BA-82C8-82199106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4085-36D4-41E5-99FA-B48B5F99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57D1-7CA6-4CFB-8BB0-793D6CAD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C89-7468-4C01-BE5E-C33B010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3247-8715-49AC-8453-8B921D9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0857-4C33-4801-AB2E-1E4C5C2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88AB-A358-4FCC-A989-7DA01C28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25D2-1F42-4948-9948-BA33DDC0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389F-DD8D-442F-9BF3-F82EB000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3E4-EF54-4186-89F0-AB3708D0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4D6-BABF-42BB-BBB3-78E849C1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266-C4B4-498C-8B5B-9AB9A5D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427-FBE7-4772-9C2B-6FDCA22F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1B7-FC15-434B-93C9-03028AA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767-5474-43BB-B187-8DA21DB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EAA-2B95-464C-9989-E96862C3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8AE6B2-0E95-452A-9D10-772D05CD921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0A412-233E-4370-BFAD-45F82FA13D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rgbClr val="000000"/>
                </a:solidFill>
                <a:latin typeface="Bookman Old Style"/>
              </a:rPr>
              <a:t>Where is the …?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 flipH="1">
            <a:off x="2112480" y="540000"/>
            <a:ext cx="11977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"/>
          <p:cNvPicPr/>
          <p:nvPr/>
        </p:nvPicPr>
        <p:blipFill>
          <a:blip r:embed="rId2"/>
          <a:stretch/>
        </p:blipFill>
        <p:spPr>
          <a:xfrm>
            <a:off x="7302960" y="3933000"/>
            <a:ext cx="1043280" cy="836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"/>
          <p:cNvPicPr/>
          <p:nvPr/>
        </p:nvPicPr>
        <p:blipFill>
          <a:blip r:embed="rId3"/>
          <a:stretch/>
        </p:blipFill>
        <p:spPr>
          <a:xfrm>
            <a:off x="1187640" y="4077000"/>
            <a:ext cx="1818360" cy="17722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"/>
          <p:cNvPicPr/>
          <p:nvPr/>
        </p:nvPicPr>
        <p:blipFill>
          <a:blip r:embed="rId4"/>
          <a:stretch/>
        </p:blipFill>
        <p:spPr>
          <a:xfrm>
            <a:off x="5801760" y="24876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5"/>
          <a:stretch/>
        </p:blipFill>
        <p:spPr>
          <a:xfrm>
            <a:off x="4356000" y="3861000"/>
            <a:ext cx="2348640" cy="23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611640" y="548640"/>
            <a:ext cx="802800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227960" y="885960"/>
            <a:ext cx="715392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rcRect l="0" t="0" r="0" b="6931"/>
          <a:stretch/>
        </p:blipFill>
        <p:spPr>
          <a:xfrm>
            <a:off x="1547640" y="404640"/>
            <a:ext cx="59763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259640" y="908640"/>
            <a:ext cx="7020000" cy="43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1094760" y="980640"/>
            <a:ext cx="74296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rcRect l="8806" t="24198" r="5475" b="16787"/>
          <a:stretch/>
        </p:blipFill>
        <p:spPr>
          <a:xfrm>
            <a:off x="2153520" y="692640"/>
            <a:ext cx="508248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rcRect l="31" t="11222" r="49962" b="-11222"/>
          <a:stretch/>
        </p:blipFill>
        <p:spPr>
          <a:xfrm>
            <a:off x="2288880" y="444960"/>
            <a:ext cx="4571640" cy="64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2197080" y="469800"/>
            <a:ext cx="4749480" cy="59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907640" y="587520"/>
            <a:ext cx="5301000" cy="53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rcRect l="0" t="0" r="0" b="7862"/>
          <a:stretch/>
        </p:blipFill>
        <p:spPr>
          <a:xfrm>
            <a:off x="1403640" y="404640"/>
            <a:ext cx="59385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619640" y="836640"/>
            <a:ext cx="6040440" cy="49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1727280" y="1052640"/>
            <a:ext cx="5724720" cy="429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1043640" y="1129680"/>
            <a:ext cx="703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827640" y="657360"/>
            <a:ext cx="7749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513360"/>
            <a:ext cx="9143640" cy="58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4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9-03-17T16:44:10Z</dcterms:modified>
  <cp:revision>2</cp:revision>
  <dc:subject/>
  <dc:title>Where is the 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