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F20-3277-44F6-8F31-B74753D5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776-300F-421A-966C-8C380CCD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071-1EE9-4176-AE94-6D229767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79F-9729-4F6E-842E-68003199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72B0-5691-457F-82BF-3E4DE015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C663-37CF-4DD7-A09E-E2D51BAD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1093-2520-4D9F-937C-56B0DA38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48ED-9CD2-4E8C-8E04-76C47D35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F9E4-60A4-43B9-928C-FEE45281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918E-F01D-4092-8114-919DDE3F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2705-2ABF-40F4-8187-E7D1755C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101-5891-4831-87E2-44CACDBC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E6D7-EA35-4DD9-A8DB-3C25283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4F5D-D8BC-44B4-9C8A-D92D9383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A3F9-C036-4BC4-ADDC-532CF47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F7CC-2185-4D42-8064-27558EF6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4E2E-8EDD-45A2-B74F-6EB771B9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98E-BFF0-4516-8ADC-B42D5843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11B-59FE-4D14-9C17-AB937FB6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7CD-EF50-4A68-B4B6-6DF50D5A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014-1E8A-48D9-BC1E-C200CC52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D4D-8D97-49BB-BBA5-9ED3FEE6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86A-4477-458C-9C1C-515708BB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28E-BFDC-47AC-B2FE-375E3598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74CB87-3A88-4AE6-BCE0-7EE70C4DAF0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7A78D4-2DE0-4F6A-91CA-A8C77F6E08E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rgbClr val="000000"/>
                </a:solidFill>
                <a:latin typeface="Bookman Old Style"/>
              </a:rPr>
              <a:t>Where is the …?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 flipH="1">
            <a:off x="2112480" y="540000"/>
            <a:ext cx="11977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2"/>
          <a:stretch/>
        </p:blipFill>
        <p:spPr>
          <a:xfrm>
            <a:off x="7302960" y="3933000"/>
            <a:ext cx="1043280" cy="836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3"/>
          <a:stretch/>
        </p:blipFill>
        <p:spPr>
          <a:xfrm>
            <a:off x="1187640" y="4077000"/>
            <a:ext cx="1818360" cy="17722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"/>
          <p:cNvPicPr/>
          <p:nvPr/>
        </p:nvPicPr>
        <p:blipFill>
          <a:blip r:embed="rId4"/>
          <a:stretch/>
        </p:blipFill>
        <p:spPr>
          <a:xfrm>
            <a:off x="5801760" y="24876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5"/>
          <a:stretch/>
        </p:blipFill>
        <p:spPr>
          <a:xfrm>
            <a:off x="4356000" y="3861000"/>
            <a:ext cx="2348640" cy="23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611640" y="548640"/>
            <a:ext cx="802800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227960" y="885960"/>
            <a:ext cx="715392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rcRect l="0" t="0" r="0" b="6931"/>
          <a:stretch/>
        </p:blipFill>
        <p:spPr>
          <a:xfrm>
            <a:off x="1547640" y="404640"/>
            <a:ext cx="597636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259640" y="908640"/>
            <a:ext cx="7020000" cy="43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1094760" y="980640"/>
            <a:ext cx="74296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rcRect l="8806" t="24198" r="5475" b="16787"/>
          <a:stretch/>
        </p:blipFill>
        <p:spPr>
          <a:xfrm>
            <a:off x="2153520" y="692640"/>
            <a:ext cx="508248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rcRect l="31" t="11222" r="49962" b="-11222"/>
          <a:stretch/>
        </p:blipFill>
        <p:spPr>
          <a:xfrm>
            <a:off x="2288880" y="444960"/>
            <a:ext cx="4571640" cy="64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2197080" y="469800"/>
            <a:ext cx="4749480" cy="59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907640" y="587520"/>
            <a:ext cx="5301000" cy="53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rcRect l="0" t="0" r="0" b="7862"/>
          <a:stretch/>
        </p:blipFill>
        <p:spPr>
          <a:xfrm>
            <a:off x="1403640" y="404640"/>
            <a:ext cx="59385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619640" y="836640"/>
            <a:ext cx="604044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1727280" y="1052640"/>
            <a:ext cx="5724720" cy="429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1043640" y="1129680"/>
            <a:ext cx="703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827640" y="657360"/>
            <a:ext cx="7749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513360"/>
            <a:ext cx="9143640" cy="58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4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9-03-17T16:44:10Z</dcterms:modified>
  <cp:revision>2</cp:revision>
  <dc:subject/>
  <dc:title>Where is the …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