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60C-1327-4B0C-8E2F-583EA414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1EE-A1D9-4AFC-85A9-286FAB33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30D-7160-48C0-978F-70483327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287-0833-465D-9B68-203A410B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76EA-F113-4167-A574-86A76B4F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BB1A-F66D-49AC-8870-ACBAED2E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7F78-C7E2-460A-82F7-C8237FC7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E1C0-92D1-4C8B-9DA3-6F1D274C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0958-D2EC-4761-90F7-962A370C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8896-1667-4EE8-818C-10B60CFF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A309-FF5B-4545-9FED-659016BD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6EB-02BA-4F64-8A71-52EA1693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96CB-B945-43B5-AA6F-1A778E57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80A1-3D31-4400-B12F-B8EA8FCB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F58E-D429-4FA9-8E90-5950BCE8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3C93-80C0-41AC-9771-635B24B6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10D3-6579-446B-AB94-2323070F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271-5BEB-4752-957E-05242355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317-9A49-48B9-BCDB-8E6E91D4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AF0-9D9E-42D7-9DF7-AA70B660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1FC-618F-4D18-8F31-934D6A8E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C90-1F25-4793-A009-1C98E7E9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38F-3C47-4A3F-8E11-A1335C2D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A08-B17E-408C-A188-82B1DBF4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84119D-774B-4C65-B318-EAC332DFB81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16A2FE-9CC1-4461-849C-D815F487B2B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600" spc="-1" strike="noStrike">
                <a:solidFill>
                  <a:srgbClr val="000000"/>
                </a:solidFill>
                <a:latin typeface="Bookman Old Style"/>
              </a:rPr>
              <a:t>Where is the …?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 flipH="1">
            <a:off x="2112480" y="540000"/>
            <a:ext cx="11977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"/>
          <p:cNvPicPr/>
          <p:nvPr/>
        </p:nvPicPr>
        <p:blipFill>
          <a:blip r:embed="rId2"/>
          <a:stretch/>
        </p:blipFill>
        <p:spPr>
          <a:xfrm>
            <a:off x="7302960" y="3933000"/>
            <a:ext cx="1043280" cy="8362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"/>
          <p:cNvPicPr/>
          <p:nvPr/>
        </p:nvPicPr>
        <p:blipFill>
          <a:blip r:embed="rId3"/>
          <a:stretch/>
        </p:blipFill>
        <p:spPr>
          <a:xfrm>
            <a:off x="1187640" y="4077000"/>
            <a:ext cx="1818360" cy="17722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"/>
          <p:cNvPicPr/>
          <p:nvPr/>
        </p:nvPicPr>
        <p:blipFill>
          <a:blip r:embed="rId4"/>
          <a:stretch/>
        </p:blipFill>
        <p:spPr>
          <a:xfrm>
            <a:off x="5801760" y="248760"/>
            <a:ext cx="2022480" cy="20224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5"/>
          <a:stretch/>
        </p:blipFill>
        <p:spPr>
          <a:xfrm>
            <a:off x="4356000" y="3861000"/>
            <a:ext cx="2348640" cy="23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611640" y="548640"/>
            <a:ext cx="802800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1227960" y="885960"/>
            <a:ext cx="715392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rcRect l="0" t="0" r="0" b="6931"/>
          <a:stretch/>
        </p:blipFill>
        <p:spPr>
          <a:xfrm>
            <a:off x="1547640" y="404640"/>
            <a:ext cx="597636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1259640" y="908640"/>
            <a:ext cx="7020000" cy="43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1094760" y="980640"/>
            <a:ext cx="74296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rcRect l="8806" t="24198" r="5475" b="16787"/>
          <a:stretch/>
        </p:blipFill>
        <p:spPr>
          <a:xfrm>
            <a:off x="2153520" y="692640"/>
            <a:ext cx="5082480" cy="49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rcRect l="31" t="11222" r="49962" b="-11222"/>
          <a:stretch/>
        </p:blipFill>
        <p:spPr>
          <a:xfrm>
            <a:off x="2288880" y="444960"/>
            <a:ext cx="4571640" cy="64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2197080" y="469800"/>
            <a:ext cx="4749480" cy="59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1907640" y="587520"/>
            <a:ext cx="5301000" cy="53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rcRect l="0" t="0" r="0" b="7862"/>
          <a:stretch/>
        </p:blipFill>
        <p:spPr>
          <a:xfrm>
            <a:off x="1403640" y="404640"/>
            <a:ext cx="593856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1619640" y="836640"/>
            <a:ext cx="6040440" cy="49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1727280" y="1052640"/>
            <a:ext cx="5724720" cy="429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" descr=""/>
          <p:cNvPicPr/>
          <p:nvPr/>
        </p:nvPicPr>
        <p:blipFill>
          <a:blip r:embed="rId1"/>
          <a:stretch/>
        </p:blipFill>
        <p:spPr>
          <a:xfrm>
            <a:off x="1043640" y="1129680"/>
            <a:ext cx="7038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827640" y="657360"/>
            <a:ext cx="7749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0" y="513360"/>
            <a:ext cx="9143640" cy="58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4</Words>
  <Paragraphs>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9-03-17T16:44:10Z</dcterms:modified>
  <cp:revision>2</cp:revision>
  <dc:subject/>
  <dc:title>Where is the …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