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E40-BFB9-41A1-8F66-03299D73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2FA-85D0-4746-956D-5E3EB25F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C85-E382-4DF3-A355-BAB2EDF4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4D4-941E-43FB-B9D7-A9CD27C7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E749-F6AE-45DF-8FF5-205975D3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AB66-482C-41F1-AD9F-52659AA4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2E34-8013-4566-856C-2B2F7A51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9F0D-57DB-4056-9135-FD666485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69D9-BC6B-436D-9EEE-264014B6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748B-6D86-42F2-A868-B01B335C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275B-15E0-44E3-AFE4-FB4F361D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85F-9E34-4897-A342-3DB543FB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DB06-2088-4BDE-AFD6-397CBF84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227B-CF2D-485A-AA0E-A29F1262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715F-1DA1-48FD-8D96-16C07E3C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5E69-13D8-42B8-A905-750D440A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0F8C-DEFF-4E00-8FA6-BFD6AD4D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0BDFD-A2B6-4919-8382-091848DF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75257-FFD0-4F72-B2E5-AC108B32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6B514-3175-424D-A628-14668414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77532-11FE-4571-BD1C-0377EB06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DECFD-D1C9-4218-8215-93A47EC7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08B3-FA5A-4C2E-B503-5AB7DB35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0BD29-C5E9-4626-BEEA-9E339693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8FE63-BE35-4513-901B-1F849EB1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55150-3574-4692-B58E-B8A7FD70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D918A-5984-420B-9D34-5BDBD6D7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945E2-67DF-47F5-B39F-C1B20E48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8F948-0342-49B9-BE3F-864758D2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94243-17DD-4ED8-ADA7-2CF9B7E6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4F50A9-D7D7-4594-B129-802E9379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3FF2C3-AEA1-4F74-AF32-1EBC42A5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D4E8D6-E2CD-4CE5-AE2A-4732B9DD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550-CC4B-46FC-8CF3-AD4E7C12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901466-4C28-40BD-BAFB-1A8546B0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D8C672-8C0C-4109-A2B0-5D06C5DF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BFAB72-C577-4590-B100-D63CE096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EFE5B7-C30E-4646-9D17-80E5CC8A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D7F2D1-1954-4C9D-BB57-F9AFE42F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41923-0F27-47CA-BC68-1EB86578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84858B-7084-430D-AD3B-924B1AA2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30C7C6-0A8E-4FDB-9BA9-ED645CC0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69617C-F481-46F7-9E1A-3D09D561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6F7-E063-4C2A-93A5-2E95C7CE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C5C-165F-450F-8364-D54B358B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C03D-AB80-4544-9887-01AA4743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9188-7302-4AF1-BA50-ACACBBC4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808-E138-4A08-8B47-58E106D0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C05B-7A5C-4DF3-A739-4BCBFC9585FE}" type="slidenum"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264C-8B88-4B34-B4F6-5439956F33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E46C-619E-4D16-BC75-4165BDDEB1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511A-59C4-4BE5-A794-C84E413BEE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143000"/>
            <a:ext cx="86868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Путешествие в страну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форматика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ЕТСТ , ОЛИСЧ , ФРГИАК, МАБАГУ.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екст, число, график, бумага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ИКЛУРАТА, СТКИДОЖЙ, НЕРСКА, ТЕРПНИ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Клавиатура, джойстик, сканер, принте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ОРНИМО, ТЕРТПЛО, ТЕРИНПР, ЬШЫМ.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Монитор, плоттер, принтер, мыш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РЧЕСВИН, ТАКЕДИС, АКТПКОМ КСДИ, СОРЦЕСПРО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инчестер, дискета, компакт диск, процессо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ОФЕЛТЕ, ММЕДО, ТФЕЕЛКСА, ТЬАЯП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елефон, модем,  телефакс, памя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ХЛС, УСКВ, ИЕНЯНООБ, ГОМ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лух,  вкус, обоняние,  мозг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БОТРАОБ, ИЕНЕХРНА, ТОРЛЯКУКАЛЬ, ЕЕААПРДЧ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бработка,  хранение,  калькулятор, передач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ЧТО, АОНТ, КВАУБ, РАЦФ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очка, нота , буква, циф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Станция № 4- станция Алгоритмика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305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Станция №5- Станция редакторов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245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Станция № 6 – город художников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рибытие – подведение итогов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31593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cc"/>
                </a:solidFill>
                <a:latin typeface="Arial"/>
              </a:rPr>
              <a:t>Отправление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Станция № 1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«Клавиатура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2286000"/>
          <a:ext cx="541008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86000"/>
                    <a:ext cx="541008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клавиши для удаления симво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lete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ck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ая клавиша помогает вставить пропущенный симво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s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клавишу выхода из текущего реж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ая клавиша позволяет «прыгнуть» в конец стро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помощью какой клавиши можно увидеть предыдущую страницу текста на   экра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ge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ая клавиша существует для ввода информац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бы перейти в начало строки, надо нажать клавишу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Станция № 2- станция эрудитов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83416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69310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324120" y="228600"/>
            <a:ext cx="2590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-55440"/>
            <a:ext cx="6781680" cy="6913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553080" y="228600"/>
            <a:ext cx="2590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нчест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ско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g-1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ско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617220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лгорит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30492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о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617220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кс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Станция №3 - станция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кодирования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4198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ронин</cp:lastModifiedBy>
  <dcterms:modified xsi:type="dcterms:W3CDTF">2009-12-31T20:15:3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