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1D75-A0C2-4AFE-B7D3-AF41E21D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AFCE-CB9C-4D5F-AF41-B32D8944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FD72-45D2-4F70-901B-F43AFFAC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DF8-FC45-471E-A333-9C920D3F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43EB-4F8E-4BF4-B3F9-A5CC7D93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6138-D1D5-43F2-9AC2-7F4B6711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15AE-6FB9-44AC-8D2C-0FD7FD9B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7598-2FED-4F8C-B124-7508FBF6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60CA-AA45-4B4E-A451-D79DB225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6317-F77F-418D-8B23-DBC7038D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089C-3555-4B14-8D99-FBB60F83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4B13-2055-4F40-B7B5-B8A88F59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3478-8218-44A0-A441-95272A65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B9A3-65FD-499F-9871-0321688B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18DD-93DA-4B90-AB63-99603B76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7852-FCB6-4C3C-A07D-FA72C0B6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B7DF-D088-4DF9-A39A-7AD76F7A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CD65C-92AE-445C-9772-00620CF5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E292A-0E32-4E32-B888-268BD1E5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A64AF-3EFE-4E88-B4C2-14A12B9D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42A65-8A3A-4920-AFAE-418CC766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53A26-E839-4D45-8884-2C860009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597C-9B85-4E2F-8676-F864E738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6BF2A-8CC7-4366-AD5F-B0DBCAAB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12770-1A29-4F06-92A1-CE5BE643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0185E-DA62-4AE1-B29B-631E3E74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E7C54-E032-4015-8037-D0BA96C1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3336B-EC4B-451A-A0B0-846D3A14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48327-CDF9-4A76-A1FE-C715BE95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D915F-3A3E-4E4B-BA7F-FE86AE47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0FA7C4-B643-4C2F-9FAB-0C84A684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53CF2B-2EDD-49CE-AD57-15F44CA9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0D9926-7469-424A-9954-19917F1E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9F7F-374D-47CB-A6EB-B893F5DE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42E1A6-47B2-407A-AB16-C3C00329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D283E9-BB51-4767-ABC1-94DFCC87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7DC242-BAA3-463D-AA7C-1A0DCE1F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807240-9A92-407E-AE86-398963B8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3912D6-AD5A-4D2D-B7BD-0997AA17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E6D694-F0CF-452C-8883-BDA6D4E3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E7A626-A3C6-4EE4-8BE9-E8F6B57C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A76200-E346-4CC6-80DC-1FA6F8EF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3BB18E-9879-4465-9800-D40BABD3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A3A6-DAF3-46A7-A2DA-F8D93A76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7AB4-8DD6-4A8F-953A-03A6607D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8408-41EE-4C16-A11F-7F4E1F59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9AF9-AE2E-4950-9729-93CD194E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9D5-F9F1-4875-938A-531D75A8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8EEB-A02C-46B3-B735-C9E9DB3344B5}" type="slidenum"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572C-73B9-4B79-91B2-7917D8B35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B525-B09B-4812-AE7D-5F50956F67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7D75-3708-4F41-8B5E-5B77D001D1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143000"/>
            <a:ext cx="86868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Путешествие в страну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форматика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ЕТСТ , ОЛИСЧ , ФРГИАК, МАБАГУ.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-50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Текст, число, график, бумага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-50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ИКЛУРАТА, СТКИДОЖЙ, НЕРСКА, ТЕРПНИ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-50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Клавиатура, джойстик, сканер, принте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-50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ОРНИМО, ТЕРТПЛО, ТЕРИНПР, ЬШЫМ.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-50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Монитор, плоттер, принтер, мыш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-50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РЧЕСВИН, ТАКЕДИС, АКТПКОМ КСДИ, СОРЦЕСПРО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-50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инчестер, дискета, компакт диск, процессо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ОФЕЛТЕ, ММЕДО, ТФЕЕЛКСА, ТЬАЯП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Телефон, модем,  телефакс, памя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ХЛС, УСКВ, ИЕНЯНООБ, ГОМ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лух,  вкус, обоняние,  мозг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БОТРАОБ, ИЕНЕХРНА, ТОРЛЯКУКАЛЬ, ЕЕААПРДЧ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бработка,  хранение,  калькулятор, передач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ЧТО, АОНТ, КВАУБ, РАЦФ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Точка, нота , буква, циф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Станция № 4- станция Алгоритмика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305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Станция №5- Станция редакторов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245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Станция № 6 – город художников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рибытие – подведение итогов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31593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cc"/>
                </a:solidFill>
                <a:latin typeface="Arial"/>
              </a:rPr>
              <a:t>Отправление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Станция № 1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«Клавиатура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2286000"/>
          <a:ext cx="541008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286000"/>
                    <a:ext cx="541008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клавиши для удаления симво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lete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ck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ая клавиша помогает вставить пропущенный симво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s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клавишу выхода из текущего реж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ая клавиша позволяет «прыгнуть» в конец стро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помощью какой клавиши можно увидеть предыдущую страницу текста на   экран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ge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ая клавиша существует для ввода информац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бы перейти в начало строки, надо нажать клавишу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Станция № 2- станция эрудитов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83416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69310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324120" y="228600"/>
            <a:ext cx="2590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-55440"/>
            <a:ext cx="6781680" cy="69134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553080" y="228600"/>
            <a:ext cx="2590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нчест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ско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g-1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ско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617220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лгорит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30492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ло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617220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кс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Станция №3 - станция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кодирования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4198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ронин</cp:lastModifiedBy>
  <dcterms:modified xsi:type="dcterms:W3CDTF">2009-12-31T20:15:3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