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667-E1AE-4155-A4FF-8F3B0843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50E-1485-4652-8559-FC8A054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48E-BF18-461F-9532-765E0030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6EF-730D-4767-83F7-57507740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C66-39CC-4127-A425-A848CD1B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81C-E823-49DF-A243-484BF87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1D69-520D-4720-9C2D-3174BD74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957-C094-4318-A3EC-152A482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6510-9000-4D4C-9FBC-8764F87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27E-FC03-4B69-920A-569AE216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ACEA-E85B-4DC8-AA1C-C6C2A22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63E-79B4-4B2A-B9E5-E374A389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21D8-FD51-419B-AAD6-03C280A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D40-AE53-4AE9-BE91-174967A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0BF0-2724-4C76-8040-AB61C94C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714-BF54-4F23-978D-F0D73E26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C8A2-CCEB-41DD-831E-1B58D2E5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CA8-0E72-4A13-B403-4FBB4802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6F8-6AFC-4DB6-8EE4-73A0BB39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63A-3A17-4075-96A2-C6441594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0D1-A8BF-4815-9BE0-D7FB372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3B9-6A00-4A2E-BC4C-98B6940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E87-8894-46C1-8BD4-9933AA7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54F-A1FB-44C9-A8E9-A0259E8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DBA04D-848E-4EAD-AB48-B03A848E69C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1F3203-02BA-4D47-8B81-B8D2F458298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9" name="Picture 4" descr="C:\Documents and Settings\Елена\Local Settings\Temporary Internet Files\Content.IE5\YZJRQ1S4\MC900312710[1].wmf"/>
          <p:cNvPicPr/>
          <p:nvPr/>
        </p:nvPicPr>
        <p:blipFill>
          <a:blip r:embed="rId1"/>
          <a:stretch/>
        </p:blipFill>
        <p:spPr>
          <a:xfrm>
            <a:off x="785880" y="2000160"/>
            <a:ext cx="1825200" cy="164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Елена\Local Settings\Temporary Internet Files\Content.IE5\1S3LS67O\MC900215814[1].wmf"/>
          <p:cNvPicPr/>
          <p:nvPr/>
        </p:nvPicPr>
        <p:blipFill>
          <a:blip r:embed="rId2"/>
          <a:stretch/>
        </p:blipFill>
        <p:spPr>
          <a:xfrm>
            <a:off x="6572160" y="4857840"/>
            <a:ext cx="2075040" cy="128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Documents and Settings\Елена\Local Settings\Temporary Internet Files\Content.IE5\1S3LS67O\MC900250363[1].wmf"/>
          <p:cNvPicPr/>
          <p:nvPr/>
        </p:nvPicPr>
        <p:blipFill>
          <a:blip r:embed="rId3"/>
          <a:stretch/>
        </p:blipFill>
        <p:spPr>
          <a:xfrm>
            <a:off x="1143000" y="4786200"/>
            <a:ext cx="1776600" cy="140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Елена\Local Settings\Temporary Internet Files\Content.IE5\YZJRQ1S4\MC900198907[1].wmf"/>
          <p:cNvPicPr/>
          <p:nvPr/>
        </p:nvPicPr>
        <p:blipFill>
          <a:blip r:embed="rId4"/>
          <a:stretch/>
        </p:blipFill>
        <p:spPr>
          <a:xfrm>
            <a:off x="7345440" y="1643040"/>
            <a:ext cx="1798200" cy="160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Елена\Local Settings\Temporary Internet Files\Content.IE5\1S3LS67O\MC900326502[1].wmf"/>
          <p:cNvPicPr/>
          <p:nvPr/>
        </p:nvPicPr>
        <p:blipFill>
          <a:blip r:embed="rId5"/>
          <a:stretch/>
        </p:blipFill>
        <p:spPr>
          <a:xfrm>
            <a:off x="3786120" y="2286000"/>
            <a:ext cx="185688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000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2" descr="C:\Documents and Settings\Елена\Local Settings\Temporary Internet Files\Content.IE5\CAG3VHW2\MC900250876[1].wmf"/>
          <p:cNvPicPr/>
          <p:nvPr/>
        </p:nvPicPr>
        <p:blipFill>
          <a:blip r:embed="rId1"/>
          <a:stretch/>
        </p:blipFill>
        <p:spPr>
          <a:xfrm>
            <a:off x="2428920" y="2428920"/>
            <a:ext cx="4428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T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Picture 2" descr="C:\Documents and Settings\Елена\Local Settings\Temporary Internet Files\Content.IE5\BF9DC5ZP\MP900423676[1].jpg"/>
          <p:cNvPicPr/>
          <p:nvPr/>
        </p:nvPicPr>
        <p:blipFill>
          <a:blip r:embed="rId1"/>
          <a:stretch/>
        </p:blipFill>
        <p:spPr>
          <a:xfrm>
            <a:off x="2385360" y="1554120"/>
            <a:ext cx="45255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1" name="Picture 2" descr="C:\Documents and Settings\Елена\Local Settings\Temporary Internet Files\Content.IE5\BF9DC5ZP\MC900436347[1].png"/>
          <p:cNvPicPr/>
          <p:nvPr/>
        </p:nvPicPr>
        <p:blipFill>
          <a:blip r:embed="rId1"/>
          <a:stretch/>
        </p:blipFill>
        <p:spPr>
          <a:xfrm>
            <a:off x="1428840" y="1714320"/>
            <a:ext cx="6214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ffc000"/>
                </a:solidFill>
                <a:latin typeface="Franklin Gothic Medium"/>
              </a:rPr>
              <a:t>А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3" name="Picture 2" descr="C:\Documents and Settings\Елена\Local Settings\Temporary Internet Files\Content.IE5\CJC4ZTF8\MC900200413[1].wmf"/>
          <p:cNvPicPr/>
          <p:nvPr/>
        </p:nvPicPr>
        <p:blipFill>
          <a:blip r:embed="rId1"/>
          <a:stretch/>
        </p:blipFill>
        <p:spPr>
          <a:xfrm>
            <a:off x="2214720" y="2071800"/>
            <a:ext cx="5000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b05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5" name="Picture 2" descr="C:\Documents and Settings\Елена\Local Settings\Temporary Internet Files\Content.IE5\0CQGF9D3\MC900198604[1].wmf"/>
          <p:cNvPicPr/>
          <p:nvPr/>
        </p:nvPicPr>
        <p:blipFill>
          <a:blip r:embed="rId1"/>
          <a:stretch/>
        </p:blipFill>
        <p:spPr>
          <a:xfrm>
            <a:off x="3000240" y="2000160"/>
            <a:ext cx="40716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24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MERRY </a:t>
            </a:r>
            <a:br>
              <a:rPr sz="9600"/>
            </a:b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CHRISTMAS!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7" name="Picture 2" descr="C:\Documents and Settings\Елена\Local Settings\Temporary Internet Files\Content.IE5\0CQGF9D3\MC900346461[1].wmf"/>
          <p:cNvPicPr/>
          <p:nvPr/>
        </p:nvPicPr>
        <p:blipFill>
          <a:blip r:embed="rId1"/>
          <a:stretch/>
        </p:blipFill>
        <p:spPr>
          <a:xfrm>
            <a:off x="785880" y="285840"/>
            <a:ext cx="1922040" cy="177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Елена\Local Settings\Temporary Internet Files\Content.IE5\BF9DC5ZP\MC900098113[1].wmf"/>
          <p:cNvPicPr/>
          <p:nvPr/>
        </p:nvPicPr>
        <p:blipFill>
          <a:blip r:embed="rId2"/>
          <a:stretch/>
        </p:blipFill>
        <p:spPr>
          <a:xfrm>
            <a:off x="6429240" y="4357800"/>
            <a:ext cx="1793520" cy="185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Елена\Local Settings\Temporary Internet Files\Content.IE5\BF9DC5ZP\MC900304869[1].wmf"/>
          <p:cNvPicPr/>
          <p:nvPr/>
        </p:nvPicPr>
        <p:blipFill>
          <a:blip r:embed="rId3"/>
          <a:stretch/>
        </p:blipFill>
        <p:spPr>
          <a:xfrm>
            <a:off x="7061040" y="281160"/>
            <a:ext cx="1674360" cy="180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Елена\Local Settings\Temporary Internet Files\Content.IE5\AV0L3N2G\MC900290551[1].wmf"/>
          <p:cNvPicPr/>
          <p:nvPr/>
        </p:nvPicPr>
        <p:blipFill>
          <a:blip r:embed="rId4"/>
          <a:stretch/>
        </p:blipFill>
        <p:spPr>
          <a:xfrm>
            <a:off x="928800" y="4572000"/>
            <a:ext cx="1765080" cy="17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E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5" name="Picture 3" descr="C:\Documents and Settings\Елена\Local Settings\Temporary Internet Files\Content.IE5\1S3LS67O\MP900401775[1].jpg"/>
          <p:cNvPicPr/>
          <p:nvPr/>
        </p:nvPicPr>
        <p:blipFill>
          <a:blip r:embed="rId1"/>
          <a:stretch/>
        </p:blipFill>
        <p:spPr>
          <a:xfrm>
            <a:off x="5500800" y="2714760"/>
            <a:ext cx="2495880" cy="312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Елена\Local Settings\Temporary Internet Files\Content.IE5\KBLDSTT8\MP900399625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3128400" cy="25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chemeClr val="accent3">
                    <a:lumMod val="50000"/>
                  </a:schemeClr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8" name="Picture 2" descr="C:\Documents and Settings\Елена\Local Settings\Temporary Internet Files\Content.IE5\YZJRQ1S4\MC900233047[1].wmf"/>
          <p:cNvPicPr/>
          <p:nvPr/>
        </p:nvPicPr>
        <p:blipFill>
          <a:blip r:embed="rId1"/>
          <a:stretch/>
        </p:blipFill>
        <p:spPr>
          <a:xfrm>
            <a:off x="571320" y="1357200"/>
            <a:ext cx="2340000" cy="202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лена\Local Settings\Temporary Internet Files\Content.IE5\YZJRQ1S4\MC900232439[1].wmf"/>
          <p:cNvPicPr/>
          <p:nvPr/>
        </p:nvPicPr>
        <p:blipFill>
          <a:blip r:embed="rId2"/>
          <a:stretch/>
        </p:blipFill>
        <p:spPr>
          <a:xfrm>
            <a:off x="6072120" y="4500720"/>
            <a:ext cx="1885680" cy="172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лена\Local Settings\Temporary Internet Files\Content.IE5\VYG9DCX3\MC900232127[1].wmf"/>
          <p:cNvPicPr/>
          <p:nvPr/>
        </p:nvPicPr>
        <p:blipFill>
          <a:blip r:embed="rId3"/>
          <a:stretch/>
        </p:blipFill>
        <p:spPr>
          <a:xfrm>
            <a:off x="5786280" y="2000160"/>
            <a:ext cx="2014200" cy="137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Елена\Local Settings\Temporary Internet Files\Content.IE5\CAG3VHW2\MC900232105[1].wmf"/>
          <p:cNvPicPr/>
          <p:nvPr/>
        </p:nvPicPr>
        <p:blipFill>
          <a:blip r:embed="rId4"/>
          <a:stretch/>
        </p:blipFill>
        <p:spPr>
          <a:xfrm>
            <a:off x="2428920" y="3071880"/>
            <a:ext cx="1928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3" name="Picture 2" descr="C:\Documents and Settings\Елена\Local Settings\Temporary Internet Files\Content.IE5\PJPTJS9I\MM900041109[1].gif"/>
          <p:cNvPicPr/>
          <p:nvPr/>
        </p:nvPicPr>
        <p:blipFill>
          <a:blip r:embed="rId1"/>
          <a:stretch/>
        </p:blipFill>
        <p:spPr>
          <a:xfrm>
            <a:off x="1889280" y="2000160"/>
            <a:ext cx="5754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7030a0"/>
                </a:solidFill>
                <a:latin typeface="Franklin Gothic Medium"/>
              </a:rPr>
              <a:t>Y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6" name="Picture 4" descr="C:\Documents and Settings\Елена\Local Settings\Temporary Internet Files\Content.IE5\5JAGV8BV\MC900215905[1].wmf"/>
          <p:cNvPicPr/>
          <p:nvPr/>
        </p:nvPicPr>
        <p:blipFill>
          <a:blip r:embed="rId1"/>
          <a:stretch/>
        </p:blipFill>
        <p:spPr>
          <a:xfrm>
            <a:off x="2500200" y="1571760"/>
            <a:ext cx="41428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c00000"/>
                </a:solidFill>
                <a:latin typeface="Franklin Gothic Medium"/>
              </a:rPr>
              <a:t>С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8" name="Picture 6" descr="C:\Documents and Settings\Елена\Local Settings\Temporary Internet Files\Content.IE5\YZJRQ1S4\MC900295671[1].wmf"/>
          <p:cNvPicPr/>
          <p:nvPr/>
        </p:nvPicPr>
        <p:blipFill>
          <a:blip r:embed="rId1"/>
          <a:stretch/>
        </p:blipFill>
        <p:spPr>
          <a:xfrm>
            <a:off x="2071800" y="1857240"/>
            <a:ext cx="5500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d2a010"/>
                </a:solidFill>
                <a:latin typeface="Franklin Gothic Medium"/>
              </a:rPr>
              <a:t>H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0" name="Picture 2" descr="C:\Documents and Settings\Елена\Local Settings\Temporary Internet Files\Content.IE5\0CQGF9D3\MP900400009[1].jpg"/>
          <p:cNvPicPr/>
          <p:nvPr/>
        </p:nvPicPr>
        <p:blipFill>
          <a:blip r:embed="rId1"/>
          <a:stretch/>
        </p:blipFill>
        <p:spPr>
          <a:xfrm>
            <a:off x="2697480" y="2256480"/>
            <a:ext cx="390096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70c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2" name="Picture 2" descr="C:\Documents and Settings\Елена\Local Settings\Temporary Internet Files\Content.IE5\CAG3VHW2\MC900410815[1].wmf"/>
          <p:cNvPicPr/>
          <p:nvPr/>
        </p:nvPicPr>
        <p:blipFill>
          <a:blip r:embed="rId1"/>
          <a:stretch/>
        </p:blipFill>
        <p:spPr>
          <a:xfrm>
            <a:off x="2504880" y="2096280"/>
            <a:ext cx="4286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I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5" name="Picture 2" descr="C:\Documents and Settings\Елена\Local Settings\Temporary Internet Files\Content.IE5\KBLDSTT8\MP900406905[1].jpg"/>
          <p:cNvPicPr/>
          <p:nvPr/>
        </p:nvPicPr>
        <p:blipFill>
          <a:blip r:embed="rId1"/>
          <a:stretch/>
        </p:blipFill>
        <p:spPr>
          <a:xfrm>
            <a:off x="1500120" y="1785960"/>
            <a:ext cx="6071760" cy="40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81</TotalTime>
  <Application>LibreOffice/7.4.7.2$Linux_X86_64 LibreOffice_project/40$Build-2</Application>
  <AppVersion>15.0000</AppVersion>
  <Words>15</Words>
  <Paragraphs>15</Paragraphs>
  <Company>Милый 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59:39Z</dcterms:created>
  <dc:creator>Елена</dc:creator>
  <dc:description/>
  <dc:language>en-US</dc:language>
  <cp:lastModifiedBy>Елена</cp:lastModifiedBy>
  <dcterms:modified xsi:type="dcterms:W3CDTF">2010-12-15T17:20:41Z</dcterms:modified>
  <cp:revision>9</cp:revision>
  <dc:subject/>
  <dc:title>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