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8F4-2383-4447-91ED-4764E2A0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600-4A64-49E3-BAF5-02E579B7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9D6-9A28-4490-8C21-87BC270C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143-4A4B-4657-86EE-2514A896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F150-A566-4953-9CFD-74055644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A26-099E-4DA7-BDF8-94317D5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B45-74BA-4994-B72E-ADCFF85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9DE-0FFB-48AE-9C0E-6CE6B48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B79D-DAF0-4F1F-9261-DC8CB9D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765D-D286-494B-A0D7-D759F2FD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006-75BE-40BB-81B8-CE4A0F3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4C8-E1AF-4190-B8C8-F5D21A2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4876-C3C2-4B78-8A2E-3C64684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1166-AE51-46A6-A7DB-0BDE7CE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6E7-249E-47E5-874C-074C7260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0A7-63F3-47DD-ACBF-1C7DDE0E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1F1E-7B58-4EA5-988E-8CA09CE8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D92-BF03-41D0-9B66-BD41BB9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03B-371F-4F82-B9B5-E6FBC37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E9D-C6BD-42C6-B28C-21327F5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6C0-CC77-4704-9BD0-BA456F6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A40-0CC1-48EF-A8F4-C01FB27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1AF-DA43-4F60-A8F7-74BC2AEA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674-555B-46B9-88EF-249A414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7A1D7-2F59-44F4-9D15-A0C172F102B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51595-5BD3-4B80-B72A-560C639F551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9" name="Picture 4" descr="C:\Documents and Settings\Елена\Local Settings\Temporary Internet Files\Content.IE5\YZJRQ1S4\MC900312710[1].wmf"/>
          <p:cNvPicPr/>
          <p:nvPr/>
        </p:nvPicPr>
        <p:blipFill>
          <a:blip r:embed="rId1"/>
          <a:stretch/>
        </p:blipFill>
        <p:spPr>
          <a:xfrm>
            <a:off x="785880" y="2000160"/>
            <a:ext cx="1825200" cy="164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Елена\Local Settings\Temporary Internet Files\Content.IE5\1S3LS67O\MC900215814[1].wmf"/>
          <p:cNvPicPr/>
          <p:nvPr/>
        </p:nvPicPr>
        <p:blipFill>
          <a:blip r:embed="rId2"/>
          <a:stretch/>
        </p:blipFill>
        <p:spPr>
          <a:xfrm>
            <a:off x="6572160" y="4857840"/>
            <a:ext cx="2075040" cy="128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Documents and Settings\Елена\Local Settings\Temporary Internet Files\Content.IE5\1S3LS67O\MC900250363[1].wmf"/>
          <p:cNvPicPr/>
          <p:nvPr/>
        </p:nvPicPr>
        <p:blipFill>
          <a:blip r:embed="rId3"/>
          <a:stretch/>
        </p:blipFill>
        <p:spPr>
          <a:xfrm>
            <a:off x="1143000" y="4786200"/>
            <a:ext cx="1776600" cy="140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Елена\Local Settings\Temporary Internet Files\Content.IE5\YZJRQ1S4\MC900198907[1].wmf"/>
          <p:cNvPicPr/>
          <p:nvPr/>
        </p:nvPicPr>
        <p:blipFill>
          <a:blip r:embed="rId4"/>
          <a:stretch/>
        </p:blipFill>
        <p:spPr>
          <a:xfrm>
            <a:off x="7345440" y="1643040"/>
            <a:ext cx="1798200" cy="160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Елена\Local Settings\Temporary Internet Files\Content.IE5\1S3LS67O\MC900326502[1].wmf"/>
          <p:cNvPicPr/>
          <p:nvPr/>
        </p:nvPicPr>
        <p:blipFill>
          <a:blip r:embed="rId5"/>
          <a:stretch/>
        </p:blipFill>
        <p:spPr>
          <a:xfrm>
            <a:off x="3786120" y="2286000"/>
            <a:ext cx="185688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000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2" descr="C:\Documents and Settings\Елена\Local Settings\Temporary Internet Files\Content.IE5\CAG3VHW2\MC900250876[1].wmf"/>
          <p:cNvPicPr/>
          <p:nvPr/>
        </p:nvPicPr>
        <p:blipFill>
          <a:blip r:embed="rId1"/>
          <a:stretch/>
        </p:blipFill>
        <p:spPr>
          <a:xfrm>
            <a:off x="2428920" y="2428920"/>
            <a:ext cx="4428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T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Picture 2" descr="C:\Documents and Settings\Елена\Local Settings\Temporary Internet Files\Content.IE5\BF9DC5ZP\MP900423676[1].jpg"/>
          <p:cNvPicPr/>
          <p:nvPr/>
        </p:nvPicPr>
        <p:blipFill>
          <a:blip r:embed="rId1"/>
          <a:stretch/>
        </p:blipFill>
        <p:spPr>
          <a:xfrm>
            <a:off x="2385360" y="1554120"/>
            <a:ext cx="45255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1" name="Picture 2" descr="C:\Documents and Settings\Елена\Local Settings\Temporary Internet Files\Content.IE5\BF9DC5ZP\MC900436347[1].png"/>
          <p:cNvPicPr/>
          <p:nvPr/>
        </p:nvPicPr>
        <p:blipFill>
          <a:blip r:embed="rId1"/>
          <a:stretch/>
        </p:blipFill>
        <p:spPr>
          <a:xfrm>
            <a:off x="1428840" y="1714320"/>
            <a:ext cx="6214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ffc000"/>
                </a:solidFill>
                <a:latin typeface="Franklin Gothic Medium"/>
              </a:rPr>
              <a:t>А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3" name="Picture 2" descr="C:\Documents and Settings\Елена\Local Settings\Temporary Internet Files\Content.IE5\CJC4ZTF8\MC900200413[1].wmf"/>
          <p:cNvPicPr/>
          <p:nvPr/>
        </p:nvPicPr>
        <p:blipFill>
          <a:blip r:embed="rId1"/>
          <a:stretch/>
        </p:blipFill>
        <p:spPr>
          <a:xfrm>
            <a:off x="2214720" y="2071800"/>
            <a:ext cx="5000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b05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5" name="Picture 2" descr="C:\Documents and Settings\Елена\Local Settings\Temporary Internet Files\Content.IE5\0CQGF9D3\MC900198604[1].wmf"/>
          <p:cNvPicPr/>
          <p:nvPr/>
        </p:nvPicPr>
        <p:blipFill>
          <a:blip r:embed="rId1"/>
          <a:stretch/>
        </p:blipFill>
        <p:spPr>
          <a:xfrm>
            <a:off x="3000240" y="2000160"/>
            <a:ext cx="40716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24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MERRY </a:t>
            </a:r>
            <a:br>
              <a:rPr sz="9600"/>
            </a:b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CHRISTMAS!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7" name="Picture 2" descr="C:\Documents and Settings\Елена\Local Settings\Temporary Internet Files\Content.IE5\0CQGF9D3\MC900346461[1].wmf"/>
          <p:cNvPicPr/>
          <p:nvPr/>
        </p:nvPicPr>
        <p:blipFill>
          <a:blip r:embed="rId1"/>
          <a:stretch/>
        </p:blipFill>
        <p:spPr>
          <a:xfrm>
            <a:off x="785880" y="285840"/>
            <a:ext cx="1922040" cy="177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Елена\Local Settings\Temporary Internet Files\Content.IE5\BF9DC5ZP\MC900098113[1].wmf"/>
          <p:cNvPicPr/>
          <p:nvPr/>
        </p:nvPicPr>
        <p:blipFill>
          <a:blip r:embed="rId2"/>
          <a:stretch/>
        </p:blipFill>
        <p:spPr>
          <a:xfrm>
            <a:off x="6429240" y="4357800"/>
            <a:ext cx="1793520" cy="185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Елена\Local Settings\Temporary Internet Files\Content.IE5\BF9DC5ZP\MC900304869[1].wmf"/>
          <p:cNvPicPr/>
          <p:nvPr/>
        </p:nvPicPr>
        <p:blipFill>
          <a:blip r:embed="rId3"/>
          <a:stretch/>
        </p:blipFill>
        <p:spPr>
          <a:xfrm>
            <a:off x="7061040" y="281160"/>
            <a:ext cx="1674360" cy="180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Елена\Local Settings\Temporary Internet Files\Content.IE5\AV0L3N2G\MC900290551[1].wmf"/>
          <p:cNvPicPr/>
          <p:nvPr/>
        </p:nvPicPr>
        <p:blipFill>
          <a:blip r:embed="rId4"/>
          <a:stretch/>
        </p:blipFill>
        <p:spPr>
          <a:xfrm>
            <a:off x="928800" y="4572000"/>
            <a:ext cx="1765080" cy="17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E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5" name="Picture 3" descr="C:\Documents and Settings\Елена\Local Settings\Temporary Internet Files\Content.IE5\1S3LS67O\MP900401775[1].jpg"/>
          <p:cNvPicPr/>
          <p:nvPr/>
        </p:nvPicPr>
        <p:blipFill>
          <a:blip r:embed="rId1"/>
          <a:stretch/>
        </p:blipFill>
        <p:spPr>
          <a:xfrm>
            <a:off x="5500800" y="2714760"/>
            <a:ext cx="2495880" cy="312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Елена\Local Settings\Temporary Internet Files\Content.IE5\KBLDSTT8\MP900399625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3128400" cy="25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chemeClr val="accent3">
                    <a:lumMod val="50000"/>
                  </a:schemeClr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8" name="Picture 2" descr="C:\Documents and Settings\Елена\Local Settings\Temporary Internet Files\Content.IE5\YZJRQ1S4\MC900233047[1].wmf"/>
          <p:cNvPicPr/>
          <p:nvPr/>
        </p:nvPicPr>
        <p:blipFill>
          <a:blip r:embed="rId1"/>
          <a:stretch/>
        </p:blipFill>
        <p:spPr>
          <a:xfrm>
            <a:off x="571320" y="1357200"/>
            <a:ext cx="2340000" cy="202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лена\Local Settings\Temporary Internet Files\Content.IE5\YZJRQ1S4\MC900232439[1].wmf"/>
          <p:cNvPicPr/>
          <p:nvPr/>
        </p:nvPicPr>
        <p:blipFill>
          <a:blip r:embed="rId2"/>
          <a:stretch/>
        </p:blipFill>
        <p:spPr>
          <a:xfrm>
            <a:off x="6072120" y="4500720"/>
            <a:ext cx="1885680" cy="172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лена\Local Settings\Temporary Internet Files\Content.IE5\VYG9DCX3\MC900232127[1].wmf"/>
          <p:cNvPicPr/>
          <p:nvPr/>
        </p:nvPicPr>
        <p:blipFill>
          <a:blip r:embed="rId3"/>
          <a:stretch/>
        </p:blipFill>
        <p:spPr>
          <a:xfrm>
            <a:off x="5786280" y="2000160"/>
            <a:ext cx="2014200" cy="137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Елена\Local Settings\Temporary Internet Files\Content.IE5\CAG3VHW2\MC900232105[1].wmf"/>
          <p:cNvPicPr/>
          <p:nvPr/>
        </p:nvPicPr>
        <p:blipFill>
          <a:blip r:embed="rId4"/>
          <a:stretch/>
        </p:blipFill>
        <p:spPr>
          <a:xfrm>
            <a:off x="2428920" y="3071880"/>
            <a:ext cx="1928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3" name="Picture 2" descr="C:\Documents and Settings\Елена\Local Settings\Temporary Internet Files\Content.IE5\PJPTJS9I\MM900041109[1].gif"/>
          <p:cNvPicPr/>
          <p:nvPr/>
        </p:nvPicPr>
        <p:blipFill>
          <a:blip r:embed="rId1"/>
          <a:stretch/>
        </p:blipFill>
        <p:spPr>
          <a:xfrm>
            <a:off x="1889280" y="2000160"/>
            <a:ext cx="5754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7030a0"/>
                </a:solidFill>
                <a:latin typeface="Franklin Gothic Medium"/>
              </a:rPr>
              <a:t>Y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6" name="Picture 4" descr="C:\Documents and Settings\Елена\Local Settings\Temporary Internet Files\Content.IE5\5JAGV8BV\MC900215905[1].wmf"/>
          <p:cNvPicPr/>
          <p:nvPr/>
        </p:nvPicPr>
        <p:blipFill>
          <a:blip r:embed="rId1"/>
          <a:stretch/>
        </p:blipFill>
        <p:spPr>
          <a:xfrm>
            <a:off x="2500200" y="1571760"/>
            <a:ext cx="41428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c00000"/>
                </a:solidFill>
                <a:latin typeface="Franklin Gothic Medium"/>
              </a:rPr>
              <a:t>С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8" name="Picture 6" descr="C:\Documents and Settings\Елена\Local Settings\Temporary Internet Files\Content.IE5\YZJRQ1S4\MC900295671[1].wmf"/>
          <p:cNvPicPr/>
          <p:nvPr/>
        </p:nvPicPr>
        <p:blipFill>
          <a:blip r:embed="rId1"/>
          <a:stretch/>
        </p:blipFill>
        <p:spPr>
          <a:xfrm>
            <a:off x="2071800" y="1857240"/>
            <a:ext cx="5500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d2a010"/>
                </a:solidFill>
                <a:latin typeface="Franklin Gothic Medium"/>
              </a:rPr>
              <a:t>H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0" name="Picture 2" descr="C:\Documents and Settings\Елена\Local Settings\Temporary Internet Files\Content.IE5\0CQGF9D3\MP900400009[1].jpg"/>
          <p:cNvPicPr/>
          <p:nvPr/>
        </p:nvPicPr>
        <p:blipFill>
          <a:blip r:embed="rId1"/>
          <a:stretch/>
        </p:blipFill>
        <p:spPr>
          <a:xfrm>
            <a:off x="2697480" y="2256480"/>
            <a:ext cx="390096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70c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2" name="Picture 2" descr="C:\Documents and Settings\Елена\Local Settings\Temporary Internet Files\Content.IE5\CAG3VHW2\MC900410815[1].wmf"/>
          <p:cNvPicPr/>
          <p:nvPr/>
        </p:nvPicPr>
        <p:blipFill>
          <a:blip r:embed="rId1"/>
          <a:stretch/>
        </p:blipFill>
        <p:spPr>
          <a:xfrm>
            <a:off x="2504880" y="2096280"/>
            <a:ext cx="4286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I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5" name="Picture 2" descr="C:\Documents and Settings\Елена\Local Settings\Temporary Internet Files\Content.IE5\KBLDSTT8\MP900406905[1].jpg"/>
          <p:cNvPicPr/>
          <p:nvPr/>
        </p:nvPicPr>
        <p:blipFill>
          <a:blip r:embed="rId1"/>
          <a:stretch/>
        </p:blipFill>
        <p:spPr>
          <a:xfrm>
            <a:off x="1500120" y="1785960"/>
            <a:ext cx="6071760" cy="40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81</TotalTime>
  <Application>LibreOffice/7.4.7.2$Linux_X86_64 LibreOffice_project/40$Build-2</Application>
  <AppVersion>15.0000</AppVersion>
  <Words>15</Words>
  <Paragraphs>15</Paragraphs>
  <Company>Милый 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59:39Z</dcterms:created>
  <dc:creator>Елена</dc:creator>
  <dc:description/>
  <dc:language>en-US</dc:language>
  <cp:lastModifiedBy>Елена</cp:lastModifiedBy>
  <dcterms:modified xsi:type="dcterms:W3CDTF">2010-12-15T17:20:41Z</dcterms:modified>
  <cp:revision>9</cp:revision>
  <dc:subject/>
  <dc:title>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