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8.jpeg" ContentType="image/jpeg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C8E-1786-45EC-8136-4476170E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D7C-5108-40D1-BB99-8A99F20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AB4-0D22-4A39-819E-118A6691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E64-776B-450C-B5F5-154BEFC9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2402-C5FC-4B86-B928-BF694E69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547-2011-4924-968F-73618F24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6E57-702C-4380-B5C6-A42C57C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D502-BEE6-481B-B048-78727968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FF2-7076-487D-926F-7B3DF0E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C3B-1D72-4071-A0DC-86900C6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D0C-F1EB-4796-BC8B-F547477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D1A-EAE5-47DF-A14D-10A7617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215A-E09D-4B68-8951-3982E60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164-927A-46C6-9082-A706752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EDD-5988-4886-9B7C-49185D54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135-3D83-4931-95E0-CE81B2A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68B-0B3B-4832-A156-7630FB8E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C8A-E252-4A53-98B4-EB53D9D9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B87-9286-40D9-BF99-AE02D01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571-8CC4-4522-857E-08BE4C1C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291-2F39-417F-A197-DAD3D93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14B-5A52-485A-9D8C-B9FBEBC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644-238F-4634-A728-B349BDB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066-8A14-44F1-B341-88B03F6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9EE4C3-082A-4CF8-A13D-D8EBA7620C3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276DD4-A9E4-412E-AF98-1EC091CD08B6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9" name="Picture 4" descr="C:\Documents and Settings\Елена\Local Settings\Temporary Internet Files\Content.IE5\YZJRQ1S4\MC900312710[1].wmf"/>
          <p:cNvPicPr/>
          <p:nvPr/>
        </p:nvPicPr>
        <p:blipFill>
          <a:blip r:embed="rId1"/>
          <a:stretch/>
        </p:blipFill>
        <p:spPr>
          <a:xfrm>
            <a:off x="785880" y="2000160"/>
            <a:ext cx="1825200" cy="164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Елена\Local Settings\Temporary Internet Files\Content.IE5\1S3LS67O\MC900215814[1].wmf"/>
          <p:cNvPicPr/>
          <p:nvPr/>
        </p:nvPicPr>
        <p:blipFill>
          <a:blip r:embed="rId2"/>
          <a:stretch/>
        </p:blipFill>
        <p:spPr>
          <a:xfrm>
            <a:off x="6572160" y="4857840"/>
            <a:ext cx="2075040" cy="128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Documents and Settings\Елена\Local Settings\Temporary Internet Files\Content.IE5\1S3LS67O\MC900250363[1].wmf"/>
          <p:cNvPicPr/>
          <p:nvPr/>
        </p:nvPicPr>
        <p:blipFill>
          <a:blip r:embed="rId3"/>
          <a:stretch/>
        </p:blipFill>
        <p:spPr>
          <a:xfrm>
            <a:off x="1143000" y="4786200"/>
            <a:ext cx="1776600" cy="140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Documents and Settings\Елена\Local Settings\Temporary Internet Files\Content.IE5\YZJRQ1S4\MC900198907[1].wmf"/>
          <p:cNvPicPr/>
          <p:nvPr/>
        </p:nvPicPr>
        <p:blipFill>
          <a:blip r:embed="rId4"/>
          <a:stretch/>
        </p:blipFill>
        <p:spPr>
          <a:xfrm>
            <a:off x="7345440" y="1643040"/>
            <a:ext cx="1798200" cy="1609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Елена\Local Settings\Temporary Internet Files\Content.IE5\1S3LS67O\MC900326502[1].wmf"/>
          <p:cNvPicPr/>
          <p:nvPr/>
        </p:nvPicPr>
        <p:blipFill>
          <a:blip r:embed="rId5"/>
          <a:stretch/>
        </p:blipFill>
        <p:spPr>
          <a:xfrm>
            <a:off x="3786120" y="2286000"/>
            <a:ext cx="185688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000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Picture 2" descr="C:\Documents and Settings\Елена\Local Settings\Temporary Internet Files\Content.IE5\CAG3VHW2\MC900250876[1].wmf"/>
          <p:cNvPicPr/>
          <p:nvPr/>
        </p:nvPicPr>
        <p:blipFill>
          <a:blip r:embed="rId1"/>
          <a:stretch/>
        </p:blipFill>
        <p:spPr>
          <a:xfrm>
            <a:off x="2428920" y="2428920"/>
            <a:ext cx="4428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T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Picture 2" descr="C:\Documents and Settings\Елена\Local Settings\Temporary Internet Files\Content.IE5\BF9DC5ZP\MP900423676[1].jpg"/>
          <p:cNvPicPr/>
          <p:nvPr/>
        </p:nvPicPr>
        <p:blipFill>
          <a:blip r:embed="rId1"/>
          <a:stretch/>
        </p:blipFill>
        <p:spPr>
          <a:xfrm>
            <a:off x="2385360" y="1554120"/>
            <a:ext cx="452556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c00000"/>
                </a:solidFill>
                <a:latin typeface="Franklin Gothic Medium"/>
              </a:rPr>
              <a:t>M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1" name="Picture 2" descr="C:\Documents and Settings\Елена\Local Settings\Temporary Internet Files\Content.IE5\BF9DC5ZP\MC900436347[1].png"/>
          <p:cNvPicPr/>
          <p:nvPr/>
        </p:nvPicPr>
        <p:blipFill>
          <a:blip r:embed="rId1"/>
          <a:stretch/>
        </p:blipFill>
        <p:spPr>
          <a:xfrm>
            <a:off x="1428840" y="1714320"/>
            <a:ext cx="621468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ffc000"/>
                </a:solidFill>
                <a:latin typeface="Franklin Gothic Medium"/>
              </a:rPr>
              <a:t>А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3" name="Picture 2" descr="C:\Documents and Settings\Елена\Local Settings\Temporary Internet Files\Content.IE5\CJC4ZTF8\MC900200413[1].wmf"/>
          <p:cNvPicPr/>
          <p:nvPr/>
        </p:nvPicPr>
        <p:blipFill>
          <a:blip r:embed="rId1"/>
          <a:stretch/>
        </p:blipFill>
        <p:spPr>
          <a:xfrm>
            <a:off x="2214720" y="2071800"/>
            <a:ext cx="5000400" cy="39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b050"/>
                </a:solidFill>
                <a:latin typeface="Franklin Gothic Medium"/>
              </a:rPr>
              <a:t>S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5" name="Picture 2" descr="C:\Documents and Settings\Елена\Local Settings\Temporary Internet Files\Content.IE5\0CQGF9D3\MC900198604[1].wmf"/>
          <p:cNvPicPr/>
          <p:nvPr/>
        </p:nvPicPr>
        <p:blipFill>
          <a:blip r:embed="rId1"/>
          <a:stretch/>
        </p:blipFill>
        <p:spPr>
          <a:xfrm>
            <a:off x="3000240" y="2000160"/>
            <a:ext cx="407160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85960"/>
            <a:ext cx="822924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MERRY </a:t>
            </a:r>
            <a:br>
              <a:rPr sz="9600"/>
            </a:br>
            <a:r>
              <a:rPr b="0" lang="en-US" sz="9600" spc="-1" strike="noStrike" cap="all">
                <a:solidFill>
                  <a:srgbClr val="c00000"/>
                </a:solidFill>
                <a:latin typeface="Franklin Gothic Medium"/>
              </a:rPr>
              <a:t>CHRISTMAS!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7" name="Picture 2" descr="C:\Documents and Settings\Елена\Local Settings\Temporary Internet Files\Content.IE5\0CQGF9D3\MC900346461[1].wmf"/>
          <p:cNvPicPr/>
          <p:nvPr/>
        </p:nvPicPr>
        <p:blipFill>
          <a:blip r:embed="rId1"/>
          <a:stretch/>
        </p:blipFill>
        <p:spPr>
          <a:xfrm>
            <a:off x="785880" y="285840"/>
            <a:ext cx="1922040" cy="177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Елена\Local Settings\Temporary Internet Files\Content.IE5\BF9DC5ZP\MC900098113[1].wmf"/>
          <p:cNvPicPr/>
          <p:nvPr/>
        </p:nvPicPr>
        <p:blipFill>
          <a:blip r:embed="rId2"/>
          <a:stretch/>
        </p:blipFill>
        <p:spPr>
          <a:xfrm>
            <a:off x="6429240" y="4357800"/>
            <a:ext cx="1793520" cy="1852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Елена\Local Settings\Temporary Internet Files\Content.IE5\BF9DC5ZP\MC900304869[1].wmf"/>
          <p:cNvPicPr/>
          <p:nvPr/>
        </p:nvPicPr>
        <p:blipFill>
          <a:blip r:embed="rId3"/>
          <a:stretch/>
        </p:blipFill>
        <p:spPr>
          <a:xfrm>
            <a:off x="7061040" y="281160"/>
            <a:ext cx="1674360" cy="180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Елена\Local Settings\Temporary Internet Files\Content.IE5\AV0L3N2G\MC900290551[1].wmf"/>
          <p:cNvPicPr/>
          <p:nvPr/>
        </p:nvPicPr>
        <p:blipFill>
          <a:blip r:embed="rId4"/>
          <a:stretch/>
        </p:blipFill>
        <p:spPr>
          <a:xfrm>
            <a:off x="928800" y="4572000"/>
            <a:ext cx="1765080" cy="17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92d050"/>
                </a:solidFill>
                <a:latin typeface="Franklin Gothic Medium"/>
              </a:rPr>
              <a:t>E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5" name="Picture 3" descr="C:\Documents and Settings\Елена\Local Settings\Temporary Internet Files\Content.IE5\1S3LS67O\MP900401775[1].jpg"/>
          <p:cNvPicPr/>
          <p:nvPr/>
        </p:nvPicPr>
        <p:blipFill>
          <a:blip r:embed="rId1"/>
          <a:stretch/>
        </p:blipFill>
        <p:spPr>
          <a:xfrm>
            <a:off x="5500800" y="2714760"/>
            <a:ext cx="2495880" cy="312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Елена\Local Settings\Temporary Internet Files\Content.IE5\KBLDSTT8\MP900399625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3128400" cy="25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chemeClr val="accent3">
                    <a:lumMod val="50000"/>
                  </a:schemeClr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8" name="Picture 2" descr="C:\Documents and Settings\Елена\Local Settings\Temporary Internet Files\Content.IE5\YZJRQ1S4\MC900233047[1].wmf"/>
          <p:cNvPicPr/>
          <p:nvPr/>
        </p:nvPicPr>
        <p:blipFill>
          <a:blip r:embed="rId1"/>
          <a:stretch/>
        </p:blipFill>
        <p:spPr>
          <a:xfrm>
            <a:off x="571320" y="1357200"/>
            <a:ext cx="2340000" cy="202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лена\Local Settings\Temporary Internet Files\Content.IE5\YZJRQ1S4\MC900232439[1].wmf"/>
          <p:cNvPicPr/>
          <p:nvPr/>
        </p:nvPicPr>
        <p:blipFill>
          <a:blip r:embed="rId2"/>
          <a:stretch/>
        </p:blipFill>
        <p:spPr>
          <a:xfrm>
            <a:off x="6072120" y="4500720"/>
            <a:ext cx="1885680" cy="172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лена\Local Settings\Temporary Internet Files\Content.IE5\VYG9DCX3\MC900232127[1].wmf"/>
          <p:cNvPicPr/>
          <p:nvPr/>
        </p:nvPicPr>
        <p:blipFill>
          <a:blip r:embed="rId3"/>
          <a:stretch/>
        </p:blipFill>
        <p:spPr>
          <a:xfrm>
            <a:off x="5786280" y="2000160"/>
            <a:ext cx="2014200" cy="137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Елена\Local Settings\Temporary Internet Files\Content.IE5\CAG3VHW2\MC900232105[1].wmf"/>
          <p:cNvPicPr/>
          <p:nvPr/>
        </p:nvPicPr>
        <p:blipFill>
          <a:blip r:embed="rId4"/>
          <a:stretch/>
        </p:blipFill>
        <p:spPr>
          <a:xfrm>
            <a:off x="2428920" y="3071880"/>
            <a:ext cx="1928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3" name="Picture 2" descr="C:\Documents and Settings\Елена\Local Settings\Temporary Internet Files\Content.IE5\PJPTJS9I\MM900041109[1].gif"/>
          <p:cNvPicPr/>
          <p:nvPr/>
        </p:nvPicPr>
        <p:blipFill>
          <a:blip r:embed="rId1"/>
          <a:stretch/>
        </p:blipFill>
        <p:spPr>
          <a:xfrm>
            <a:off x="1889280" y="2000160"/>
            <a:ext cx="5754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7030a0"/>
                </a:solidFill>
                <a:latin typeface="Franklin Gothic Medium"/>
              </a:rPr>
              <a:t>Y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6" name="Picture 4" descr="C:\Documents and Settings\Елена\Local Settings\Temporary Internet Files\Content.IE5\5JAGV8BV\MC900215905[1].wmf"/>
          <p:cNvPicPr/>
          <p:nvPr/>
        </p:nvPicPr>
        <p:blipFill>
          <a:blip r:embed="rId1"/>
          <a:stretch/>
        </p:blipFill>
        <p:spPr>
          <a:xfrm>
            <a:off x="2500200" y="1571760"/>
            <a:ext cx="41428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 cap="all">
                <a:solidFill>
                  <a:srgbClr val="c00000"/>
                </a:solidFill>
                <a:latin typeface="Franklin Gothic Medium"/>
              </a:rPr>
              <a:t>С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8" name="Picture 6" descr="C:\Documents and Settings\Елена\Local Settings\Temporary Internet Files\Content.IE5\YZJRQ1S4\MC900295671[1].wmf"/>
          <p:cNvPicPr/>
          <p:nvPr/>
        </p:nvPicPr>
        <p:blipFill>
          <a:blip r:embed="rId1"/>
          <a:stretch/>
        </p:blipFill>
        <p:spPr>
          <a:xfrm>
            <a:off x="2071800" y="1857240"/>
            <a:ext cx="5500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d2a010"/>
                </a:solidFill>
                <a:latin typeface="Franklin Gothic Medium"/>
              </a:rPr>
              <a:t>H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0" name="Picture 2" descr="C:\Documents and Settings\Елена\Local Settings\Temporary Internet Files\Content.IE5\0CQGF9D3\MP900400009[1].jpg"/>
          <p:cNvPicPr/>
          <p:nvPr/>
        </p:nvPicPr>
        <p:blipFill>
          <a:blip r:embed="rId1"/>
          <a:stretch/>
        </p:blipFill>
        <p:spPr>
          <a:xfrm>
            <a:off x="2697480" y="2256480"/>
            <a:ext cx="390096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0070c0"/>
                </a:solidFill>
                <a:latin typeface="Franklin Gothic Medium"/>
              </a:rPr>
              <a:t>R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2" name="Picture 2" descr="C:\Documents and Settings\Елена\Local Settings\Temporary Internet Files\Content.IE5\CAG3VHW2\MC900410815[1].wmf"/>
          <p:cNvPicPr/>
          <p:nvPr/>
        </p:nvPicPr>
        <p:blipFill>
          <a:blip r:embed="rId1"/>
          <a:stretch/>
        </p:blipFill>
        <p:spPr>
          <a:xfrm>
            <a:off x="2504880" y="2096280"/>
            <a:ext cx="4286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c000"/>
                </a:solidFill>
                <a:latin typeface="Franklin Gothic Medium"/>
              </a:rPr>
              <a:t>I</a:t>
            </a:r>
            <a:endParaRPr b="0" lang="ru-RU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15" name="Picture 2" descr="C:\Documents and Settings\Елена\Local Settings\Temporary Internet Files\Content.IE5\KBLDSTT8\MP900406905[1].jpg"/>
          <p:cNvPicPr/>
          <p:nvPr/>
        </p:nvPicPr>
        <p:blipFill>
          <a:blip r:embed="rId1"/>
          <a:stretch/>
        </p:blipFill>
        <p:spPr>
          <a:xfrm>
            <a:off x="1500120" y="1785960"/>
            <a:ext cx="6071760" cy="40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81</TotalTime>
  <Application>LibreOffice/7.4.7.2$Linux_X86_64 LibreOffice_project/40$Build-2</Application>
  <AppVersion>15.0000</AppVersion>
  <Words>15</Words>
  <Paragraphs>15</Paragraphs>
  <Company>Милый 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59:39Z</dcterms:created>
  <dc:creator>Елена</dc:creator>
  <dc:description/>
  <dc:language>en-US</dc:language>
  <cp:lastModifiedBy>Елена</cp:lastModifiedBy>
  <dcterms:modified xsi:type="dcterms:W3CDTF">2010-12-15T17:20:41Z</dcterms:modified>
  <cp:revision>9</cp:revision>
  <dc:subject/>
  <dc:title>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